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C92-11B7-4057-9C0B-BD07B81D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87D-6FA9-44B1-BD99-4A2B8712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407-55FD-4E27-B281-61A375D7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8BF-0410-4CD8-B7E2-80F07616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87DF-68A9-4FED-B75B-1186819A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1919-8D72-46FC-843D-D981EF93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8B62-161C-4F93-8242-A795FEC2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02EC-2423-41E8-99FC-4E044678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7FD2-9EFE-4F04-9988-60DFA916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1664-4A0C-4BD6-83FB-D95516B7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862D-A8B4-4870-A356-68F15948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2D9-4D36-4E9D-9902-0D6B023A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4E8C-1D15-44ED-B7E5-02FDC477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ABA4-B40F-4824-AFC5-8D9A6FFB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0FE8-316E-4D52-A3E5-0DA4CF84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66C7-8CB9-4839-A05A-814E8F28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D2EE-C576-4CB0-AAFB-00BF32D3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944-FA4B-426F-AC9E-8F2F24AC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30F4-A4A2-468E-BF76-C2A8B58E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608-D7C6-45F6-BC84-B65B8C3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A3E-6D1B-4F61-9D62-026E95ED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A33-CF36-44D7-95F6-9FF42BBC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0C2-EEE4-4AB2-9B17-5095456B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182-4851-4AC0-B4D2-27BFFAD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25E6-CC39-4A02-B02E-031BBCBEEE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C825-5AFC-4F57-8A30-49CF8BEBA7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2411280" y="907920"/>
            <a:ext cx="51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нови фаху педагог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8" descr="http://forpost.tv/img/lenta/5251_1291037665.png"/>
          <p:cNvPicPr/>
          <p:nvPr/>
        </p:nvPicPr>
        <p:blipFill>
          <a:blip r:embed="rId2"/>
          <a:stretch/>
        </p:blipFill>
        <p:spPr>
          <a:xfrm>
            <a:off x="826920" y="1989000"/>
            <a:ext cx="4681800" cy="44341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дагогічні погляди В.А. Сухомлинськог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6" descr="&amp;Scy;&amp;ucy;&amp;khcy;&amp;ocy;&amp;mcy;&amp;lcy;&amp;icy;&amp;ncy;&amp;scy;&amp;softcy;&amp;kcy;&amp;icy;&amp;jcy; &amp;Vcy;.jpg"/>
          <p:cNvPicPr/>
          <p:nvPr/>
        </p:nvPicPr>
        <p:blipFill>
          <a:blip r:embed="rId2"/>
          <a:stretch/>
        </p:blipFill>
        <p:spPr>
          <a:xfrm>
            <a:off x="3132000" y="1844640"/>
            <a:ext cx="2952720" cy="3240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3132000" y="5157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В.А. Сухомлинський 1918-197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809640" y="800280"/>
            <a:ext cx="75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7704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18728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дагогічна система Дж. Дью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6" descr="dewey"/>
          <p:cNvPicPr/>
          <p:nvPr/>
        </p:nvPicPr>
        <p:blipFill>
          <a:blip r:embed="rId2"/>
          <a:stretch/>
        </p:blipFill>
        <p:spPr>
          <a:xfrm>
            <a:off x="2987640" y="1700280"/>
            <a:ext cx="2808360" cy="3168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05928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Джон Дьюї 1859 -195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68000" y="1052640"/>
            <a:ext cx="554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новні ідеї Дьюї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обистий досвід краще засвоюється, аніж наукові знан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ктичні знання для дітей потрібніше теоретични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нова навчання- інтереси дитин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рієнтація навчання на майбутню діяльні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икористання учнівських навчальних проекті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448000" cy="1152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244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58920" y="475920"/>
            <a:ext cx="6400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. Навчання протягом всього житт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. Гра як основа навчання – чудово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"Обов'язок вчителя - не прогаяти випадок"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. Використання проблемних ситуаці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0. “Школа це майстерня, а не лекційна зала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5" descr="172_370x246_008"/>
          <p:cNvPicPr/>
          <p:nvPr/>
        </p:nvPicPr>
        <p:blipFill>
          <a:blip r:embed="rId2"/>
          <a:stretch/>
        </p:blipFill>
        <p:spPr>
          <a:xfrm>
            <a:off x="4427640" y="4365720"/>
            <a:ext cx="3514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гальні виснов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7417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овиховання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управління суб'єктом своєю діяльністю. Для нормального самовиховання варто  перш за все пізнати самого себе</a:t>
            </a:r>
            <a:r>
              <a:rPr b="0" lang="ru-RU" sz="3600" spc="-1" strike="noStrike">
                <a:solidFill>
                  <a:srgbClr val="003b76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64087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25892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Прийоми самопізнання: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6" descr="&amp;Pcy;&amp;scy;&amp;icy;&amp;khcy;&amp;ocy;&amp;lcy;&amp;ocy;&amp;gcy;&amp;iukcy;&amp;chcy;&amp;ncy;&amp;iukcy; &amp;ocy;&amp;scy;&amp;ncy;&amp;ocy;&amp;vcy;&amp;icy; &amp;fcy;&amp;ocy;&amp;rcy;&amp;mcy;&amp;ucy;&amp;vcy;&amp;acy;&amp;ncy;&amp;ncy;&amp;yacy; &amp;ocy;&amp;scy;&amp;ocy;&amp;bcy;&amp;icy;&amp;scy;&amp;tcy;&amp;ocy;&amp;scy;&amp;tcy;&amp;iukcy; &amp;ucy; &amp;fcy;&amp;iukcy;&amp;zcy;&amp;icy;&amp;chcy;&amp;ncy;&amp;ocy;&amp;mcy;&amp;ucy; &amp;vcy;&amp;icy;&amp;khcy;&amp;ocy;&amp;vcy;&amp;acy;&amp;ncy;&amp;ncy;&amp;iukcy; "/>
          <p:cNvPicPr/>
          <p:nvPr/>
        </p:nvPicPr>
        <p:blipFill>
          <a:blip r:embed="rId2"/>
          <a:stretch/>
        </p:blipFill>
        <p:spPr>
          <a:xfrm>
            <a:off x="1908000" y="1413000"/>
            <a:ext cx="5112000" cy="1800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1835280" y="3429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тоди самовиховання: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9" descr="&amp;Pcy;&amp;scy;&amp;icy;&amp;khcy;&amp;ocy;&amp;lcy;&amp;ocy;&amp;gcy;&amp;iukcy;&amp;chcy;&amp;ncy;&amp;iukcy; &amp;ocy;&amp;scy;&amp;ncy;&amp;ocy;&amp;vcy;&amp;icy; &amp;fcy;&amp;ocy;&amp;rcy;&amp;mcy;&amp;ucy;&amp;vcy;&amp;acy;&amp;ncy;&amp;ncy;&amp;yacy; &amp;ocy;&amp;scy;&amp;ocy;&amp;bcy;&amp;icy;&amp;scy;&amp;tcy;&amp;ocy;&amp;scy;&amp;tcy;&amp;iukcy; &amp;ucy; &amp;fcy;&amp;iukcy;&amp;zcy;&amp;icy;&amp;chcy;&amp;ncy;&amp;ocy;&amp;mcy;&amp;ucy; &amp;vcy;&amp;icy;&amp;khcy;&amp;ocy;&amp;vcy;&amp;acy;&amp;ncy;&amp;ncy;&amp;iukcy; "/>
          <p:cNvPicPr/>
          <p:nvPr/>
        </p:nvPicPr>
        <p:blipFill>
          <a:blip r:embed="rId3"/>
          <a:stretch/>
        </p:blipFill>
        <p:spPr>
          <a:xfrm>
            <a:off x="1908000" y="4149720"/>
            <a:ext cx="51120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332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ови успішного самовиховання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48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25892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новні напрямки самовдосконалення вчите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1835280" y="1809720"/>
            <a:ext cx="52578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58920" y="764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дагогічна система А.С. Макаренка в сучасних умовах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_"/>
          <p:cNvPicPr/>
          <p:nvPr/>
        </p:nvPicPr>
        <p:blipFill>
          <a:blip r:embed="rId2"/>
          <a:stretch/>
        </p:blipFill>
        <p:spPr>
          <a:xfrm>
            <a:off x="2700360" y="184464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2627280" y="5229360"/>
            <a:ext cx="41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Антон Семенович Макаренко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1888-193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32000" y="907560"/>
            <a:ext cx="64008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Умови формування системи Макарен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талітарний режи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озруха після громадянської війн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елика кількість безпритульних на вулиця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обхідність виховання в дусі колективної відповідальност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7" descr="ANd9GcQN3A35twPK-bt6r9O_XNRdkKZ3CPCryPaiBHEVsxfdZAecStKlRo9rTcf8"/>
          <p:cNvPicPr/>
          <p:nvPr/>
        </p:nvPicPr>
        <p:blipFill>
          <a:blip r:embed="rId2"/>
          <a:stretch/>
        </p:blipFill>
        <p:spPr>
          <a:xfrm>
            <a:off x="4140360" y="5084640"/>
            <a:ext cx="9046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403280" y="404640"/>
            <a:ext cx="640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Verdana"/>
              </a:rPr>
              <a:t>Основні ідеї системи Макаренка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Єдність виховання і житт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лектив як метод вихованн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заємовідносини колективу і особистості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оуправління у колективі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ховання свідомої дисциплін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в'язок навчання із продуктивною працею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ця як постійний компонент системи вихованн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лучення вихованців у різноманітні життєві сфери, виховання господаря житт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себічний розвиток особистості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оль сім'ї у вихованні дітей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http://www.allforchildren.ru/pictures/school/school11-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552600" y="743040"/>
            <a:ext cx="80388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29:03Z</dcterms:created>
  <dc:creator>scout</dc:creator>
  <dc:description/>
  <dc:language>en-US</dc:language>
  <cp:lastModifiedBy>Сергій Терно</cp:lastModifiedBy>
  <dcterms:modified xsi:type="dcterms:W3CDTF">2014-09-21T19:56:08Z</dcterms:modified>
  <cp:revision>6</cp:revision>
  <dc:subject/>
  <dc:title>Слайд 1</dc:title>
</cp:coreProperties>
</file>