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A40-C04E-47C2-8D5E-31C970D1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635-D539-4533-B997-CBEA7EFC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7B3-D290-4968-9B58-A863B822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6919-8D25-40FC-AAD4-36683CBC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9CE0-F9A3-4975-9E41-EA37BF2A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3C68-5B95-4C53-B3DC-C95FA586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1A04-760D-4459-8C9C-FE0CF05B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7E23-BDB4-435A-A908-D6CE8B7E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930C-C901-4232-9665-6ECCCB89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B4FB-B33E-4270-BA60-8DF46091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8877-0436-4CD8-A8B0-75277B11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54C-5146-4076-A011-F252E44B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6DD9-57CA-4D12-8B1C-B0C3A096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EAB0-4608-4B90-8D4A-14E7674E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1E8F-2E3C-43C0-8C62-C982E9CC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FAEE-5631-41B9-A414-8FE4A338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19DB-F792-47C5-8031-15E3583A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C69-E1CE-4565-968F-CAE573CA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FAE-5C50-4E09-A1B1-CED5FC67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FD97-AB29-42FF-B961-753457B4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DCD-D1B0-446F-9FCA-E40E97B6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AB7-A321-4656-B2C2-1B55A9F3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4C6-B466-4227-85FE-BC3D3EA3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ECD-94F4-4D01-939D-5173B4D4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2C08-5D4F-4A34-AFF8-978C6A3E28A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0CE6-6824-4863-B2E3-F0A9BA1171C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411280" y="907920"/>
            <a:ext cx="511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снови фаху педагог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8" descr="http://forpost.tv/img/lenta/5251_1291037665.png"/>
          <p:cNvPicPr/>
          <p:nvPr/>
        </p:nvPicPr>
        <p:blipFill>
          <a:blip r:embed="rId2"/>
          <a:stretch/>
        </p:blipFill>
        <p:spPr>
          <a:xfrm>
            <a:off x="826920" y="1989000"/>
            <a:ext cx="4681800" cy="44341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320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дагогічні погляди В.А. Сухомлинського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6" descr="&amp;Scy;&amp;ucy;&amp;khcy;&amp;ocy;&amp;mcy;&amp;lcy;&amp;icy;&amp;ncy;&amp;scy;&amp;softcy;&amp;kcy;&amp;icy;&amp;jcy; &amp;Vcy;.jpg"/>
          <p:cNvPicPr/>
          <p:nvPr/>
        </p:nvPicPr>
        <p:blipFill>
          <a:blip r:embed="rId2"/>
          <a:stretch/>
        </p:blipFill>
        <p:spPr>
          <a:xfrm>
            <a:off x="3132000" y="1844640"/>
            <a:ext cx="2952720" cy="3240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3132000" y="51577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В.А. Сухомлинський 1918-197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809640" y="800280"/>
            <a:ext cx="75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7704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187280" y="98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дагогічна система Дж. Дью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6" descr="dewey"/>
          <p:cNvPicPr/>
          <p:nvPr/>
        </p:nvPicPr>
        <p:blipFill>
          <a:blip r:embed="rId2"/>
          <a:stretch/>
        </p:blipFill>
        <p:spPr>
          <a:xfrm>
            <a:off x="2987640" y="1700280"/>
            <a:ext cx="2808360" cy="31687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059280" y="501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Джон Дьюї 1859 -195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68000" y="1052640"/>
            <a:ext cx="554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сновні ідеї Дьюї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собистий досвід краще засвоюється, аніж наукові знанн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актичні знання для дітей потрібніше теоретични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снова навчання- інтереси дитин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рієнтація навчання на майбутню діяльні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икористання учнівських навчальних проекті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448000" cy="1152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3"/>
          <a:stretch/>
        </p:blipFill>
        <p:spPr>
          <a:xfrm>
            <a:off x="6156360" y="2708280"/>
            <a:ext cx="2448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58920" y="475920"/>
            <a:ext cx="6400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. Навчання протягом всього житт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. Гра як основа навчання – чудово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"Обов'язок вчителя - не прогаяти випадок"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. Використання проблемних ситуаці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0. “Школа це майстерня, а не лекційна зала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5" descr="172_370x246_008"/>
          <p:cNvPicPr/>
          <p:nvPr/>
        </p:nvPicPr>
        <p:blipFill>
          <a:blip r:embed="rId2"/>
          <a:stretch/>
        </p:blipFill>
        <p:spPr>
          <a:xfrm>
            <a:off x="4427640" y="4365720"/>
            <a:ext cx="3514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33200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гальні виснов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7417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мовиховання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управління суб'єктом своєю діяльністю. Для нормального самовиховання варто  перш за все пізнати самого себе</a:t>
            </a:r>
            <a:r>
              <a:rPr b="0" lang="ru-RU" sz="3600" spc="-1" strike="noStrike">
                <a:solidFill>
                  <a:srgbClr val="003b76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1403280" y="2781360"/>
            <a:ext cx="64087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258920" y="62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Прийоми самопізнання: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6" descr="&amp;Pcy;&amp;scy;&amp;icy;&amp;khcy;&amp;ocy;&amp;lcy;&amp;ocy;&amp;gcy;&amp;iukcy;&amp;chcy;&amp;ncy;&amp;iukcy; &amp;ocy;&amp;scy;&amp;ncy;&amp;ocy;&amp;vcy;&amp;icy; &amp;fcy;&amp;ocy;&amp;rcy;&amp;mcy;&amp;ucy;&amp;vcy;&amp;acy;&amp;ncy;&amp;ncy;&amp;yacy; &amp;ocy;&amp;scy;&amp;ocy;&amp;bcy;&amp;icy;&amp;scy;&amp;tcy;&amp;ocy;&amp;scy;&amp;tcy;&amp;iukcy; &amp;ucy; &amp;fcy;&amp;iukcy;&amp;zcy;&amp;icy;&amp;chcy;&amp;ncy;&amp;ocy;&amp;mcy;&amp;ucy; &amp;vcy;&amp;icy;&amp;khcy;&amp;ocy;&amp;vcy;&amp;acy;&amp;ncy;&amp;ncy;&amp;iukcy; "/>
          <p:cNvPicPr/>
          <p:nvPr/>
        </p:nvPicPr>
        <p:blipFill>
          <a:blip r:embed="rId2"/>
          <a:stretch/>
        </p:blipFill>
        <p:spPr>
          <a:xfrm>
            <a:off x="1908000" y="1413000"/>
            <a:ext cx="5112000" cy="1800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1835280" y="3429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тоди самовиховання:</a:t>
            </a: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9" descr="&amp;Pcy;&amp;scy;&amp;icy;&amp;khcy;&amp;ocy;&amp;lcy;&amp;ocy;&amp;gcy;&amp;iukcy;&amp;chcy;&amp;ncy;&amp;iukcy; &amp;ocy;&amp;scy;&amp;ncy;&amp;ocy;&amp;vcy;&amp;icy; &amp;fcy;&amp;ocy;&amp;rcy;&amp;mcy;&amp;ucy;&amp;vcy;&amp;acy;&amp;ncy;&amp;ncy;&amp;yacy; &amp;ocy;&amp;scy;&amp;ocy;&amp;bcy;&amp;icy;&amp;scy;&amp;tcy;&amp;ocy;&amp;scy;&amp;tcy;&amp;iukcy; &amp;ucy; &amp;fcy;&amp;iukcy;&amp;zcy;&amp;icy;&amp;chcy;&amp;ncy;&amp;ocy;&amp;mcy;&amp;ucy; &amp;vcy;&amp;icy;&amp;khcy;&amp;ocy;&amp;vcy;&amp;acy;&amp;ncy;&amp;ncy;&amp;iukcy; "/>
          <p:cNvPicPr/>
          <p:nvPr/>
        </p:nvPicPr>
        <p:blipFill>
          <a:blip r:embed="rId3"/>
          <a:stretch/>
        </p:blipFill>
        <p:spPr>
          <a:xfrm>
            <a:off x="1908000" y="4149720"/>
            <a:ext cx="51120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33200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ови успішного самовиховання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1476360" y="1557360"/>
            <a:ext cx="648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25892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новні напрямки самовдосконалення вчите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1835280" y="1809720"/>
            <a:ext cx="52578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58920" y="76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дагогічна система А.С. Макаренка в сучасних умовах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6" descr="_"/>
          <p:cNvPicPr/>
          <p:nvPr/>
        </p:nvPicPr>
        <p:blipFill>
          <a:blip r:embed="rId2"/>
          <a:stretch/>
        </p:blipFill>
        <p:spPr>
          <a:xfrm>
            <a:off x="2700360" y="1844640"/>
            <a:ext cx="3456000" cy="3240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2627280" y="5229360"/>
            <a:ext cx="410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Антон Семенович Макаренк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1888-193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332000" y="907560"/>
            <a:ext cx="64008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Умови формування системи Макаренк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оталітарний режи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Розруха після громадянської війн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елика кількість безпритульних на вулиця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обхідність виховання в дусі колективної відповідальност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7" descr="ANd9GcQN3A35twPK-bt6r9O_XNRdkKZ3CPCryPaiBHEVsxfdZAecStKlRo9rTcf8"/>
          <p:cNvPicPr/>
          <p:nvPr/>
        </p:nvPicPr>
        <p:blipFill>
          <a:blip r:embed="rId2"/>
          <a:stretch/>
        </p:blipFill>
        <p:spPr>
          <a:xfrm>
            <a:off x="4140360" y="5084640"/>
            <a:ext cx="9046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403280" y="404640"/>
            <a:ext cx="6400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Verdana"/>
              </a:rPr>
              <a:t>Основні ідеї системи Макаренка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Єдність виховання і житт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лектив як метод вихованн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заємовідносини колективу і особистості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амоуправління у колективі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иховання свідомої дисципліни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в'язок навчання із продуктивною працею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ця як постійний компонент системи вихованн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лучення вихованців у різноманітні життєві сфери, виховання господаря житт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себічний розвиток особистості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оль сім'ї у вихованні діте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552600" y="743040"/>
            <a:ext cx="80388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29:03Z</dcterms:created>
  <dc:creator>scout</dc:creator>
  <dc:description/>
  <dc:language>en-US</dc:language>
  <cp:lastModifiedBy>Сергій Терно</cp:lastModifiedBy>
  <dcterms:modified xsi:type="dcterms:W3CDTF">2014-09-21T19:56:08Z</dcterms:modified>
  <cp:revision>6</cp:revision>
  <dc:subject/>
  <dc:title>Слайд 1</dc:title>
</cp:coreProperties>
</file>