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1C5-B94E-42DD-BDA0-CB94CAA8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A95-BFEF-48FB-8984-9801717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0D8-95FC-4162-AC59-3C58B057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1B1-D4CC-4966-8516-89AE1D69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73C9-7016-4CC3-B6B7-D4BC0933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48F6-B722-49AE-AF03-E86EC8C1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4A9-EB82-4E1A-AB45-334FBF99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6CF3-6497-43E5-8A3C-183E0F4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68C-CA28-4D1C-84E2-7723AAB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019-012D-4780-BE25-DADCC4B3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23F7-F77F-467F-9041-4181528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5C5-1D9E-4176-BA60-B4879EE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226D-74F0-4BF2-9EFC-AC1D2DA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146B-385C-480C-AAAF-ECE1B61D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6918-93E5-4FDD-8F5E-8E10188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A69-2C4D-4790-A90C-1A0C8B7D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43C0-1553-421C-9C3D-EAB78E80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E44-3FCA-4465-9B80-9E6EB7B1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A16-89D0-4A79-8F0B-3548D7A1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077-B9C6-4CFE-8C15-22DD690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427-457F-437A-BC2D-464AB743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170-F913-458E-8DB4-A1C98A5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D0C-F4EC-4642-8C8C-4F21CEB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269-C550-4BBE-85DA-EBFF898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1A1-DB5F-4193-BCE3-3C44A9710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E9E-1F35-4FE7-A18B-1430BDF000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Гра в педагогічному процес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image0031"/>
          <p:cNvPicPr/>
          <p:nvPr/>
        </p:nvPicPr>
        <p:blipFill>
          <a:blip r:embed="rId1"/>
          <a:stretch/>
        </p:blipFill>
        <p:spPr>
          <a:xfrm>
            <a:off x="0" y="2133720"/>
            <a:ext cx="3676680" cy="472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7478_big"/>
          <p:cNvPicPr/>
          <p:nvPr/>
        </p:nvPicPr>
        <p:blipFill>
          <a:blip r:embed="rId2"/>
          <a:stretch/>
        </p:blipFill>
        <p:spPr>
          <a:xfrm>
            <a:off x="6400800" y="1447920"/>
            <a:ext cx="2590920" cy="25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ANd9GcSfJg0CivkbLxva52ITEI0zLTAlSivd1l8d7trWeFZxRfbjPRwY"/>
          <p:cNvPicPr/>
          <p:nvPr/>
        </p:nvPicPr>
        <p:blipFill>
          <a:blip r:embed="rId3"/>
          <a:stretch/>
        </p:blipFill>
        <p:spPr>
          <a:xfrm>
            <a:off x="3886200" y="205740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уроках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історії використовують такі види іго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9240" y="16758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-впра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203640" y="396180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ікторин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973960" y="335196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агадк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3040" y="563796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адачі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46120" y="563796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маган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6100560" y="3656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-подорож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6023880" y="12186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льова гр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2" descr="101_2882"/>
          <p:cNvPicPr/>
          <p:nvPr/>
        </p:nvPicPr>
        <p:blipFill>
          <a:blip r:embed="rId1"/>
          <a:stretch/>
        </p:blipFill>
        <p:spPr>
          <a:xfrm>
            <a:off x="2971800" y="4572000"/>
            <a:ext cx="2724120" cy="20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image__33887"/>
          <p:cNvPicPr/>
          <p:nvPr/>
        </p:nvPicPr>
        <p:blipFill>
          <a:blip r:embed="rId2"/>
          <a:stretch/>
        </p:blipFill>
        <p:spPr>
          <a:xfrm>
            <a:off x="228600" y="2590920"/>
            <a:ext cx="2284560" cy="2557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_1799"/>
          <p:cNvPicPr/>
          <p:nvPr/>
        </p:nvPicPr>
        <p:blipFill>
          <a:blip r:embed="rId3"/>
          <a:stretch/>
        </p:blipFill>
        <p:spPr>
          <a:xfrm>
            <a:off x="2819520" y="1219320"/>
            <a:ext cx="2800080" cy="2100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skifi"/>
          <p:cNvPicPr/>
          <p:nvPr/>
        </p:nvPicPr>
        <p:blipFill>
          <a:blip r:embed="rId4"/>
          <a:stretch/>
        </p:blipFill>
        <p:spPr>
          <a:xfrm>
            <a:off x="6248520" y="4191120"/>
            <a:ext cx="2200320" cy="154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nauchnaja_metodika_53"/>
          <p:cNvPicPr/>
          <p:nvPr/>
        </p:nvPicPr>
        <p:blipFill>
          <a:blip r:embed="rId5"/>
          <a:stretch/>
        </p:blipFill>
        <p:spPr>
          <a:xfrm>
            <a:off x="6172200" y="1752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едагог виконує роль ведучог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3f2f07b1cad3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Виховна і освітня цінність гри залежить від участі в них педагогі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5" descr="9119_html_6d450e36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34872_html_45167fed"/>
          <p:cNvPicPr/>
          <p:nvPr/>
        </p:nvPicPr>
        <p:blipFill>
          <a:blip r:embed="rId1"/>
          <a:stretch/>
        </p:blipFill>
        <p:spPr>
          <a:xfrm>
            <a:off x="0" y="1905120"/>
            <a:ext cx="7020000" cy="30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protruskavets.org.ua/protrusk/wp-content/uploads/2010/06/eca26c5e5777e1c19e64f18ccbc.jpg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thumbnail-20120406183512n"/>
          <p:cNvPicPr/>
          <p:nvPr/>
        </p:nvPicPr>
        <p:blipFill>
          <a:blip r:embed="rId3"/>
          <a:stretch/>
        </p:blipFill>
        <p:spPr>
          <a:xfrm>
            <a:off x="6095880" y="4419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3" descr="1344522979"/>
          <p:cNvPicPr/>
          <p:nvPr/>
        </p:nvPicPr>
        <p:blipFill>
          <a:blip r:embed="rId4"/>
          <a:stretch/>
        </p:blipFill>
        <p:spPr>
          <a:xfrm>
            <a:off x="7053120" y="2209680"/>
            <a:ext cx="2090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а втягу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є в активну пізнавальну діяльність кожного учня окремо і всіх разом і, тим самим є ефективним засобом управління навчальним проце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DSC02497"/>
          <p:cNvPicPr/>
          <p:nvPr/>
        </p:nvPicPr>
        <p:blipFill>
          <a:blip r:embed="rId1"/>
          <a:stretch/>
        </p:blipFill>
        <p:spPr>
          <a:xfrm>
            <a:off x="533520" y="205740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Навчання в грі здійснюється за допомогою власної діяльності учня, у процесі якої засвоюється до 90% інформа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ANd9GcTyf7AmkwvM_NRLw1wVnPzdhZVBbt5Un1u5BhDk8OcwQspz5QM2gg"/>
          <p:cNvPicPr/>
          <p:nvPr/>
        </p:nvPicPr>
        <p:blipFill>
          <a:blip r:embed="rId1"/>
          <a:stretch/>
        </p:blipFill>
        <p:spPr>
          <a:xfrm>
            <a:off x="3200400" y="2514600"/>
            <a:ext cx="3225960" cy="3362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prozentzeichen-300x300"/>
          <p:cNvPicPr/>
          <p:nvPr/>
        </p:nvPicPr>
        <p:blipFill>
          <a:blip r:embed="rId2"/>
          <a:stretch/>
        </p:blipFill>
        <p:spPr>
          <a:xfrm>
            <a:off x="6286680" y="19810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92905856"/>
          <p:cNvPicPr/>
          <p:nvPr/>
        </p:nvPicPr>
        <p:blipFill>
          <a:blip r:embed="rId3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ANd9GcQz-p-SYnb8ULnsyA_Qto45bzH34wlB3_QZeinUY5OOnfhRdDhkWQ"/>
          <p:cNvPicPr/>
          <p:nvPr/>
        </p:nvPicPr>
        <p:blipFill>
          <a:blip r:embed="rId2"/>
          <a:stretch/>
        </p:blipFill>
        <p:spPr>
          <a:xfrm>
            <a:off x="1447920" y="1219320"/>
            <a:ext cx="1057320" cy="98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10200912221918"/>
          <p:cNvPicPr/>
          <p:nvPr/>
        </p:nvPicPr>
        <p:blipFill>
          <a:blip r:embed="rId3"/>
          <a:stretch/>
        </p:blipFill>
        <p:spPr>
          <a:xfrm>
            <a:off x="2438280" y="1295280"/>
            <a:ext cx="657360" cy="876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%D0%B1%D1%83%D0%BA%D0%B2%D0%B0-%D0%96"/>
          <p:cNvPicPr/>
          <p:nvPr/>
        </p:nvPicPr>
        <p:blipFill>
          <a:blip r:embed="rId4"/>
          <a:stretch/>
        </p:blipFill>
        <p:spPr>
          <a:xfrm>
            <a:off x="3124080" y="1295280"/>
            <a:ext cx="6224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41cacb74f15e28b659b815cde2ea266f"/>
          <p:cNvPicPr/>
          <p:nvPr/>
        </p:nvPicPr>
        <p:blipFill>
          <a:blip r:embed="rId5"/>
          <a:stretch/>
        </p:blipFill>
        <p:spPr>
          <a:xfrm>
            <a:off x="3733920" y="1219320"/>
            <a:ext cx="823680" cy="957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5"/>
          <p:cNvSpPr/>
          <p:nvPr/>
        </p:nvSpPr>
        <p:spPr>
          <a:xfrm>
            <a:off x="3405240" y="2610000"/>
            <a:ext cx="23335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3405240" y="2610000"/>
            <a:ext cx="23335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19" descr="%D1%81%D1%82%D1%80%D1%96%D0%BB%D0%BA%D0%B0-2"/>
          <p:cNvPicPr/>
          <p:nvPr/>
        </p:nvPicPr>
        <p:blipFill>
          <a:blip r:embed="rId6"/>
          <a:stretch/>
        </p:blipFill>
        <p:spPr>
          <a:xfrm>
            <a:off x="4800600" y="1219320"/>
            <a:ext cx="33526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Гра посідає особливе місце в дитинстві людини і виступає як замінник праці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5" descr="91149967"/>
          <p:cNvPicPr/>
          <p:nvPr/>
        </p:nvPicPr>
        <p:blipFill>
          <a:blip r:embed="rId1"/>
          <a:stretch/>
        </p:blipFill>
        <p:spPr>
          <a:xfrm>
            <a:off x="0" y="1981080"/>
            <a:ext cx="6400800" cy="48484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3" descr="100px-Equals_sign_in_mathematics"/>
          <p:cNvPicPr/>
          <p:nvPr/>
        </p:nvPicPr>
        <p:blipFill>
          <a:blip r:embed="rId2"/>
          <a:stretch/>
        </p:blipFill>
        <p:spPr>
          <a:xfrm>
            <a:off x="5943600" y="4038480"/>
            <a:ext cx="1409760" cy="973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perm-logo"/>
          <p:cNvPicPr/>
          <p:nvPr/>
        </p:nvPicPr>
        <p:blipFill>
          <a:blip r:embed="rId3"/>
          <a:stretch/>
        </p:blipFill>
        <p:spPr>
          <a:xfrm rot="5050800">
            <a:off x="7105680" y="134892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10200911214644"/>
          <p:cNvPicPr/>
          <p:nvPr/>
        </p:nvPicPr>
        <p:blipFill>
          <a:blip r:embed="rId4"/>
          <a:stretch/>
        </p:blipFill>
        <p:spPr>
          <a:xfrm>
            <a:off x="7620120" y="2666880"/>
            <a:ext cx="1224000" cy="1016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ru"/>
          <p:cNvPicPr/>
          <p:nvPr/>
        </p:nvPicPr>
        <p:blipFill>
          <a:blip r:embed="rId5"/>
          <a:stretch/>
        </p:blipFill>
        <p:spPr>
          <a:xfrm>
            <a:off x="7391520" y="3657600"/>
            <a:ext cx="141444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ANd9GcR7l_zpECHLpONxFoXan0BcafrKe3iEfCVPeIlX9PgwsJBprzajjA"/>
          <p:cNvPicPr/>
          <p:nvPr/>
        </p:nvPicPr>
        <p:blipFill>
          <a:blip r:embed="rId6"/>
          <a:stretch/>
        </p:blipFill>
        <p:spPr>
          <a:xfrm>
            <a:off x="762012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ya-s-bolshoi-bukvy"/>
          <p:cNvPicPr/>
          <p:nvPr/>
        </p:nvPicPr>
        <p:blipFill>
          <a:blip r:embed="rId7"/>
          <a:stretch/>
        </p:blipFill>
        <p:spPr>
          <a:xfrm rot="5183400">
            <a:off x="7149240" y="5513760"/>
            <a:ext cx="120672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700" spc="-1" strike="noStrike">
                <a:solidFill>
                  <a:srgbClr val="ffff00"/>
                </a:solidFill>
                <a:latin typeface="Arial"/>
              </a:rPr>
              <a:t>В. Сухомлинський писав: “В грі розкривається перед дітьми світ, розкриваються творчі можливості особистості. Без гри немає і  не може бути повноцінного розумового розвитку. Гра – величезне світле вікно, через яке в духовний світ дитини вливається життєдайний потік уявлень, понять про навколишній світ. Гра – це іскра, що запалює вогник допитливості і любові до знань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book_493327007"/>
          <p:cNvPicPr/>
          <p:nvPr/>
        </p:nvPicPr>
        <p:blipFill>
          <a:blip r:embed="rId1"/>
          <a:stretch/>
        </p:blipFill>
        <p:spPr>
          <a:xfrm>
            <a:off x="0" y="0"/>
            <a:ext cx="261612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9" descr="gra7kl"/>
          <p:cNvPicPr/>
          <p:nvPr/>
        </p:nvPicPr>
        <p:blipFill>
          <a:blip r:embed="rId2"/>
          <a:stretch/>
        </p:blipFill>
        <p:spPr>
          <a:xfrm>
            <a:off x="2590920" y="0"/>
            <a:ext cx="3886200" cy="2927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%D0%BB%D0%B0%D1%80%D0%B8%D1%81%D0%B0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246868_html_m6a81c8fc"/>
          <p:cNvPicPr/>
          <p:nvPr/>
        </p:nvPicPr>
        <p:blipFill>
          <a:blip r:embed="rId4"/>
          <a:stretch/>
        </p:blipFill>
        <p:spPr>
          <a:xfrm>
            <a:off x="6019920" y="1981080"/>
            <a:ext cx="3124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Гра по своїй суті багатофункціональ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оціокультурне призначенн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Функція самореалізації людини у г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омунікатив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Діагностич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гротерапевтич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Функція корекції у г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Розважаль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pi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Гра застосовуєтьс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126955_html_m402f9df5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img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дактична гра — це гра, яка допомагає вчителю не тільки урізноманітнити навчання, але й організувати процес розумового розвитку дитин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ANd9GcSmUbYo0Bi1OiD0veNgDf_hRHHInGWEZUPjlEqzAGn3AdknNF623w"/>
          <p:cNvPicPr/>
          <p:nvPr/>
        </p:nvPicPr>
        <p:blipFill>
          <a:blip r:embed="rId1"/>
          <a:stretch/>
        </p:blipFill>
        <p:spPr>
          <a:xfrm>
            <a:off x="0" y="234324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75072_original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%D0%BF%D0%B5%D0%B4"/>
          <p:cNvPicPr/>
          <p:nvPr/>
        </p:nvPicPr>
        <p:blipFill>
          <a:blip r:embed="rId1"/>
          <a:stretch/>
        </p:blipFill>
        <p:spPr>
          <a:xfrm>
            <a:off x="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photo2"/>
          <p:cNvPicPr/>
          <p:nvPr/>
        </p:nvPicPr>
        <p:blipFill>
          <a:blip r:embed="rId2"/>
          <a:stretch/>
        </p:blipFill>
        <p:spPr>
          <a:xfrm>
            <a:off x="3429000" y="600120"/>
            <a:ext cx="5715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ій Терно</cp:lastModifiedBy>
  <dcterms:modified xsi:type="dcterms:W3CDTF">2014-09-21T19:50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