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4.png" ContentType="image/png"/>
  <Override PartName="/ppt/media/image40.jpeg" ContentType="image/jpeg"/>
  <Override PartName="/ppt/media/image38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22D-7BF3-4AD5-BB79-3B037A02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ABF-FE4C-4AD5-9826-42237AF6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499-D2F5-44AC-ACE2-B65ED648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0DD-0530-4A40-BAAC-40E539DE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147-8B5B-494B-8CED-646963F7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C148-6D6B-4E74-A91F-B20F4A14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E13E-813C-4A28-8F6D-9581285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4BD5-E389-4F92-A0AC-4A6FE35C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F49-A248-44DF-9D94-44838EAF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D238-AABB-4CD6-8031-A5A77DE8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71BB-B262-4EAC-8F78-AD96F00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B13-E7C4-4D57-9FD7-3348D5D7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EE80-D562-4225-8DD3-A58284A9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D87B-44BA-456C-9B6B-C193F91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D812-8D8C-4C26-B6D8-669E3F24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07F-5D18-45F3-ADFD-A4C9374F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40A9-3AB4-4506-A332-8E51F0C6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EEF-08AB-4A20-86CB-82DE5A8E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472-5934-4246-9581-6AEE1A61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39B-7CE4-447A-AB6D-6C7DA86C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49C-19A3-4128-A5E6-9717D69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35D-18CB-4720-8265-33C245A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922-C080-41DC-BF1D-196AB343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D60-17D8-4B9F-A31C-C0319250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CB88-E120-46AF-8059-6FA08A3BD2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5B86-F884-4D74-9BD9-4DDBF9BCF2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ecff"/>
                </a:solidFill>
                <a:latin typeface="Arial"/>
              </a:rPr>
              <a:t>Гра в педагогічному процесі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5" descr="image0031"/>
          <p:cNvPicPr/>
          <p:nvPr/>
        </p:nvPicPr>
        <p:blipFill>
          <a:blip r:embed="rId1"/>
          <a:stretch/>
        </p:blipFill>
        <p:spPr>
          <a:xfrm>
            <a:off x="0" y="2133720"/>
            <a:ext cx="3676680" cy="472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7478_big"/>
          <p:cNvPicPr/>
          <p:nvPr/>
        </p:nvPicPr>
        <p:blipFill>
          <a:blip r:embed="rId2"/>
          <a:stretch/>
        </p:blipFill>
        <p:spPr>
          <a:xfrm>
            <a:off x="6400800" y="1447920"/>
            <a:ext cx="2590920" cy="2519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ANd9GcSfJg0CivkbLxva52ITEI0zLTAlSivd1l8d7trWeFZxRfbjPRwY"/>
          <p:cNvPicPr/>
          <p:nvPr/>
        </p:nvPicPr>
        <p:blipFill>
          <a:blip r:embed="rId3"/>
          <a:stretch/>
        </p:blipFill>
        <p:spPr>
          <a:xfrm>
            <a:off x="3886200" y="205740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а уроках 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історії використовують такі види ігор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9240" y="167580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а-впра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203640" y="396180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ікторина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973960" y="3351960"/>
            <a:ext cx="24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Ігри-загадк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3040" y="563796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Ігри-задачі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946120" y="563796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Ігри-змаган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6100560" y="3656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ра-подорож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6023880" y="12186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льова гра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2" descr="101_2882"/>
          <p:cNvPicPr/>
          <p:nvPr/>
        </p:nvPicPr>
        <p:blipFill>
          <a:blip r:embed="rId1"/>
          <a:stretch/>
        </p:blipFill>
        <p:spPr>
          <a:xfrm>
            <a:off x="2971800" y="4572000"/>
            <a:ext cx="2724120" cy="2043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image__33887"/>
          <p:cNvPicPr/>
          <p:nvPr/>
        </p:nvPicPr>
        <p:blipFill>
          <a:blip r:embed="rId2"/>
          <a:stretch/>
        </p:blipFill>
        <p:spPr>
          <a:xfrm>
            <a:off x="228600" y="2590920"/>
            <a:ext cx="2284560" cy="2557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IMG_1799"/>
          <p:cNvPicPr/>
          <p:nvPr/>
        </p:nvPicPr>
        <p:blipFill>
          <a:blip r:embed="rId3"/>
          <a:stretch/>
        </p:blipFill>
        <p:spPr>
          <a:xfrm>
            <a:off x="2819520" y="1219320"/>
            <a:ext cx="2800080" cy="2100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skifi"/>
          <p:cNvPicPr/>
          <p:nvPr/>
        </p:nvPicPr>
        <p:blipFill>
          <a:blip r:embed="rId4"/>
          <a:stretch/>
        </p:blipFill>
        <p:spPr>
          <a:xfrm>
            <a:off x="6248520" y="4191120"/>
            <a:ext cx="2200320" cy="1549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nauchnaja_metodika_53"/>
          <p:cNvPicPr/>
          <p:nvPr/>
        </p:nvPicPr>
        <p:blipFill>
          <a:blip r:embed="rId5"/>
          <a:stretch/>
        </p:blipFill>
        <p:spPr>
          <a:xfrm>
            <a:off x="6172200" y="1752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едагог виконує роль ведучог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5" descr="3f2f07b1cad3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53341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Виховна і освітня цінність гри залежить від участі в них педагогі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5" descr="9119_html_6d450e36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34872_html_45167fed"/>
          <p:cNvPicPr/>
          <p:nvPr/>
        </p:nvPicPr>
        <p:blipFill>
          <a:blip r:embed="rId1"/>
          <a:stretch/>
        </p:blipFill>
        <p:spPr>
          <a:xfrm>
            <a:off x="0" y="1905120"/>
            <a:ext cx="7020000" cy="30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http://protruskavets.org.ua/protrusk/wp-content/uploads/2010/06/eca26c5e5777e1c19e64f18ccbc.jpg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thumbnail-20120406183512n"/>
          <p:cNvPicPr/>
          <p:nvPr/>
        </p:nvPicPr>
        <p:blipFill>
          <a:blip r:embed="rId3"/>
          <a:stretch/>
        </p:blipFill>
        <p:spPr>
          <a:xfrm>
            <a:off x="6095880" y="441972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3" descr="1344522979"/>
          <p:cNvPicPr/>
          <p:nvPr/>
        </p:nvPicPr>
        <p:blipFill>
          <a:blip r:embed="rId4"/>
          <a:stretch/>
        </p:blipFill>
        <p:spPr>
          <a:xfrm>
            <a:off x="7053120" y="2209680"/>
            <a:ext cx="2090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ра втягу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є в активну пізнавальну діяльність кожного учня окремо і всіх разом і, тим самим є ефективним засобом управління навчальним проце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DSC02497"/>
          <p:cNvPicPr/>
          <p:nvPr/>
        </p:nvPicPr>
        <p:blipFill>
          <a:blip r:embed="rId1"/>
          <a:stretch/>
        </p:blipFill>
        <p:spPr>
          <a:xfrm>
            <a:off x="533520" y="2057400"/>
            <a:ext cx="807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Навчання в грі здійснюється за допомогою власної діяльності учня, у процесі якої засвоюється до 90% інформац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5" descr="ANd9GcTyf7AmkwvM_NRLw1wVnPzdhZVBbt5Un1u5BhDk8OcwQspz5QM2gg"/>
          <p:cNvPicPr/>
          <p:nvPr/>
        </p:nvPicPr>
        <p:blipFill>
          <a:blip r:embed="rId1"/>
          <a:stretch/>
        </p:blipFill>
        <p:spPr>
          <a:xfrm>
            <a:off x="3200400" y="2514600"/>
            <a:ext cx="3225960" cy="3362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prozentzeichen-300x300"/>
          <p:cNvPicPr/>
          <p:nvPr/>
        </p:nvPicPr>
        <p:blipFill>
          <a:blip r:embed="rId2"/>
          <a:stretch/>
        </p:blipFill>
        <p:spPr>
          <a:xfrm>
            <a:off x="6286680" y="19810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92905856"/>
          <p:cNvPicPr/>
          <p:nvPr/>
        </p:nvPicPr>
        <p:blipFill>
          <a:blip r:embed="rId3"/>
          <a:stretch/>
        </p:blipFill>
        <p:spPr>
          <a:xfrm>
            <a:off x="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5" descr="im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ANd9GcQz-p-SYnb8ULnsyA_Qto45bzH34wlB3_QZeinUY5OOnfhRdDhkWQ"/>
          <p:cNvPicPr/>
          <p:nvPr/>
        </p:nvPicPr>
        <p:blipFill>
          <a:blip r:embed="rId2"/>
          <a:stretch/>
        </p:blipFill>
        <p:spPr>
          <a:xfrm>
            <a:off x="1447920" y="1219320"/>
            <a:ext cx="1057320" cy="982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10200912221918"/>
          <p:cNvPicPr/>
          <p:nvPr/>
        </p:nvPicPr>
        <p:blipFill>
          <a:blip r:embed="rId3"/>
          <a:stretch/>
        </p:blipFill>
        <p:spPr>
          <a:xfrm>
            <a:off x="2438280" y="1295280"/>
            <a:ext cx="657360" cy="876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%D0%B1%D1%83%D0%BA%D0%B2%D0%B0-%D0%96"/>
          <p:cNvPicPr/>
          <p:nvPr/>
        </p:nvPicPr>
        <p:blipFill>
          <a:blip r:embed="rId4"/>
          <a:stretch/>
        </p:blipFill>
        <p:spPr>
          <a:xfrm>
            <a:off x="3124080" y="1295280"/>
            <a:ext cx="622440" cy="881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41cacb74f15e28b659b815cde2ea266f"/>
          <p:cNvPicPr/>
          <p:nvPr/>
        </p:nvPicPr>
        <p:blipFill>
          <a:blip r:embed="rId5"/>
          <a:stretch/>
        </p:blipFill>
        <p:spPr>
          <a:xfrm>
            <a:off x="3733920" y="1219320"/>
            <a:ext cx="823680" cy="957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5"/>
          <p:cNvSpPr/>
          <p:nvPr/>
        </p:nvSpPr>
        <p:spPr>
          <a:xfrm>
            <a:off x="3405240" y="2610000"/>
            <a:ext cx="23335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3405240" y="2610000"/>
            <a:ext cx="23335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19" descr="%D1%81%D1%82%D1%80%D1%96%D0%BB%D0%BA%D0%B0-2"/>
          <p:cNvPicPr/>
          <p:nvPr/>
        </p:nvPicPr>
        <p:blipFill>
          <a:blip r:embed="rId6"/>
          <a:stretch/>
        </p:blipFill>
        <p:spPr>
          <a:xfrm>
            <a:off x="4800600" y="1219320"/>
            <a:ext cx="33526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img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Гра посідає особливе місце в дитинстві людини і виступає як замінник праці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5" descr="91149967"/>
          <p:cNvPicPr/>
          <p:nvPr/>
        </p:nvPicPr>
        <p:blipFill>
          <a:blip r:embed="rId1"/>
          <a:stretch/>
        </p:blipFill>
        <p:spPr>
          <a:xfrm>
            <a:off x="0" y="1981080"/>
            <a:ext cx="6400800" cy="484848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3" descr="100px-Equals_sign_in_mathematics"/>
          <p:cNvPicPr/>
          <p:nvPr/>
        </p:nvPicPr>
        <p:blipFill>
          <a:blip r:embed="rId2"/>
          <a:stretch/>
        </p:blipFill>
        <p:spPr>
          <a:xfrm>
            <a:off x="5943600" y="4038480"/>
            <a:ext cx="1409760" cy="973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perm-logo"/>
          <p:cNvPicPr/>
          <p:nvPr/>
        </p:nvPicPr>
        <p:blipFill>
          <a:blip r:embed="rId3"/>
          <a:stretch/>
        </p:blipFill>
        <p:spPr>
          <a:xfrm rot="5050800">
            <a:off x="7105680" y="134892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10200911214644"/>
          <p:cNvPicPr/>
          <p:nvPr/>
        </p:nvPicPr>
        <p:blipFill>
          <a:blip r:embed="rId4"/>
          <a:stretch/>
        </p:blipFill>
        <p:spPr>
          <a:xfrm>
            <a:off x="7620120" y="2666880"/>
            <a:ext cx="1224000" cy="1016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ru"/>
          <p:cNvPicPr/>
          <p:nvPr/>
        </p:nvPicPr>
        <p:blipFill>
          <a:blip r:embed="rId5"/>
          <a:stretch/>
        </p:blipFill>
        <p:spPr>
          <a:xfrm>
            <a:off x="7391520" y="3657600"/>
            <a:ext cx="141444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1" descr="ANd9GcR7l_zpECHLpONxFoXan0BcafrKe3iEfCVPeIlX9PgwsJBprzajjA"/>
          <p:cNvPicPr/>
          <p:nvPr/>
        </p:nvPicPr>
        <p:blipFill>
          <a:blip r:embed="rId6"/>
          <a:stretch/>
        </p:blipFill>
        <p:spPr>
          <a:xfrm>
            <a:off x="7620120" y="4495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3" descr="ya-s-bolshoi-bukvy"/>
          <p:cNvPicPr/>
          <p:nvPr/>
        </p:nvPicPr>
        <p:blipFill>
          <a:blip r:embed="rId7"/>
          <a:stretch/>
        </p:blipFill>
        <p:spPr>
          <a:xfrm rot="5183400">
            <a:off x="7149240" y="5513760"/>
            <a:ext cx="120672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38095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700" spc="-1" strike="noStrike">
                <a:solidFill>
                  <a:srgbClr val="ffff00"/>
                </a:solidFill>
                <a:latin typeface="Arial"/>
              </a:rPr>
              <a:t>В. Сухомлинський писав: “В грі розкривається перед дітьми світ, розкриваються творчі можливості особистості. Без гри немає і  не може бути повноцінного розумового розвитку. Гра – величезне світле вікно, через яке в духовний світ дитини вливається життєдайний потік уявлень, понять про навколишній світ. Гра – це іскра, що запалює вогник допитливості і любові до знань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book_493327007"/>
          <p:cNvPicPr/>
          <p:nvPr/>
        </p:nvPicPr>
        <p:blipFill>
          <a:blip r:embed="rId1"/>
          <a:stretch/>
        </p:blipFill>
        <p:spPr>
          <a:xfrm>
            <a:off x="0" y="0"/>
            <a:ext cx="2616120" cy="36576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9" descr="gra7kl"/>
          <p:cNvPicPr/>
          <p:nvPr/>
        </p:nvPicPr>
        <p:blipFill>
          <a:blip r:embed="rId2"/>
          <a:stretch/>
        </p:blipFill>
        <p:spPr>
          <a:xfrm>
            <a:off x="2590920" y="0"/>
            <a:ext cx="3886200" cy="2927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%D0%BB%D0%B0%D1%80%D0%B8%D1%81%D0%B0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246868_html_m6a81c8fc"/>
          <p:cNvPicPr/>
          <p:nvPr/>
        </p:nvPicPr>
        <p:blipFill>
          <a:blip r:embed="rId4"/>
          <a:stretch/>
        </p:blipFill>
        <p:spPr>
          <a:xfrm>
            <a:off x="6019920" y="1981080"/>
            <a:ext cx="3124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Гра по своїй суті багатофункціональ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оціокультурне призначенн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Функція самореалізації людини у г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Комунікатив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Діагностич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Ігротерапевтич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Функція корекції у г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Розважальна функція г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pi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Arial"/>
              </a:rPr>
              <a:t>Гра застосовуєтьс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126955_html_m402f9df5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img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Дидактична гра — це гра, яка допомагає вчителю не тільки урізноманітнити навчання, але й організувати процес розумового розвитку дитин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ANd9GcSmUbYo0Bi1OiD0veNgDf_hRHHInGWEZUPjlEqzAGn3AdknNF623w"/>
          <p:cNvPicPr/>
          <p:nvPr/>
        </p:nvPicPr>
        <p:blipFill>
          <a:blip r:embed="rId1"/>
          <a:stretch/>
        </p:blipFill>
        <p:spPr>
          <a:xfrm>
            <a:off x="0" y="2343240"/>
            <a:ext cx="6019920" cy="451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75072_original"/>
          <p:cNvPicPr/>
          <p:nvPr/>
        </p:nvPicPr>
        <p:blipFill>
          <a:blip r:embed="rId2"/>
          <a:stretch/>
        </p:blipFill>
        <p:spPr>
          <a:xfrm>
            <a:off x="4952880" y="2362320"/>
            <a:ext cx="4191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%D0%BF%D0%B5%D0%B4"/>
          <p:cNvPicPr/>
          <p:nvPr/>
        </p:nvPicPr>
        <p:blipFill>
          <a:blip r:embed="rId1"/>
          <a:stretch/>
        </p:blipFill>
        <p:spPr>
          <a:xfrm>
            <a:off x="0" y="0"/>
            <a:ext cx="51465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photo2"/>
          <p:cNvPicPr/>
          <p:nvPr/>
        </p:nvPicPr>
        <p:blipFill>
          <a:blip r:embed="rId2"/>
          <a:stretch/>
        </p:blipFill>
        <p:spPr>
          <a:xfrm>
            <a:off x="3429000" y="600120"/>
            <a:ext cx="57150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ій Терно</cp:lastModifiedBy>
  <dcterms:modified xsi:type="dcterms:W3CDTF">2014-09-21T19:50:2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