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989B2-A101-4EF6-B2DF-60076DE18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C000E-BCB2-4B90-8C79-C976E61AB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5B5F9-6697-4D96-B979-BC39446CF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763AE-596F-450C-8722-3F1C49562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992FB6-8AF0-4B36-95DD-E83E5B5436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95244-1426-42F8-AB2E-01AF3005C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6FEC7-4FE2-49C9-85D7-C83FA1A8C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81331-621E-47D9-A24C-0F532602B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4587F-5A6B-4554-B97E-EDB93BCD1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90B69-8B12-4FB2-A4A7-58689CD65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0D81E-C797-4DC2-ABCF-5D78156C6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033EA-D473-482B-908E-7D8E2C0D7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00134-6531-4A75-A666-F5A174F56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0D061-D713-48E2-8593-C552F2146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60E47-DF5D-479B-824C-CB0B76A71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DCA44-AD26-40B1-A1C3-9990E256C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31233D-8C3C-4C24-98F6-25F1409E5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8C6B89-B540-4F5E-9302-FDC803689A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6D78F9-E090-482B-9B85-ECDA8B0693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BC8AA3-8751-4FED-8160-243356A61F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4DCCCF-193D-450E-BEE8-257142E392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4ABF5E-5362-46C8-8C10-D2E5E55F9D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98A4C-BC31-46B0-8F75-F3E04A411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29D578-D144-4229-AD30-A8EF3624B4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8F4AD5-FC92-4F19-9C28-C4B608B649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CA970-2E3C-4AF5-9782-6310B8EC9C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7444C8-6322-4EFC-A17B-99E3170B8C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6F25DC-E21B-4941-94F5-084ACCBDDB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5E194B-DED2-4175-813E-9530221338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9052D4-CAED-49F9-8A7D-E64733AAAE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806811-8DB4-464F-A5A2-67D29933AC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AB396C-EAB9-4F80-8D92-85093AAC0A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9F0344-503D-4F74-8758-FA7DD64C4C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94108-0051-4E1E-96BE-4769BBB01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31F31C-CAFC-4DE6-9BEB-D951144994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26D2B7-9137-4928-99B9-E636CC23B9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522A80-E1AA-41DD-84E0-80F3B39605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729C40-B4C5-4B68-9D14-E9541877D8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DC0350-063E-46FA-8CB5-C725042975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CD4B0A-3D7A-4DAE-BF97-13B436CDB3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1A2A4C-3AF4-4763-A4CE-3C4FBAC29E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F84A39-3112-4564-8D11-6588D68529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ED6F86-61C7-49AE-8456-CB02F43E40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8CC51-4401-44D8-9D26-23D478155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7AAB1-C126-4642-A76C-E369CE76A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0AADE-1E1C-4830-BC2D-B5D5F7C59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F1E7A-D2BD-4574-B1B8-BF090DFB0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AF11F-0599-4944-9536-FB708533D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A21AEF-8860-4E0C-A0C3-AFD3D5548325}"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ED389F-07DD-4D97-9E8D-153EBE71AC2D}"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2"/>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3"/>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3068F-9261-45B9-98BD-830D4265FBEA}"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2"/>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3"/>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8FA07-7C2C-4FBE-906C-7B2DCDAC646A}"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0080" y="216000"/>
            <a:ext cx="8494920" cy="3365280"/>
          </a:xfrm>
          <a:prstGeom prst="rect">
            <a:avLst/>
          </a:prstGeom>
          <a:noFill/>
          <a:ln w="0">
            <a:noFill/>
          </a:ln>
        </p:spPr>
        <p:txBody>
          <a:bodyPr anchor="b">
            <a:noAutofit/>
          </a:bodyPr>
          <a:p>
            <a:pPr marL="685800" indent="0">
              <a:lnSpc>
                <a:spcPct val="107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br>
              <a:rPr sz="4300"/>
            </a:br>
            <a:br>
              <a:rPr sz="4300"/>
            </a:br>
            <a:br>
              <a:rPr sz="4300"/>
            </a:br>
            <a:br>
              <a:rPr sz="4300"/>
            </a:br>
            <a:br>
              <a:rPr sz="4300"/>
            </a:br>
            <a:br>
              <a:rPr sz="4300"/>
            </a:br>
            <a:br>
              <a:rPr sz="4300"/>
            </a:br>
            <a:br>
              <a:rPr sz="4300"/>
            </a:br>
            <a:br>
              <a:rPr sz="4300"/>
            </a:br>
            <a:r>
              <a:rPr b="1" lang="uk-UA" sz="4300" spc="-1" strike="noStrike">
                <a:solidFill>
                  <a:srgbClr val="ffffff"/>
                </a:solidFill>
                <a:latin typeface="Times New Roman"/>
                <a:ea typeface="Calibri"/>
              </a:rPr>
              <a:t>ПІЗНАВАЛЬНА ГРА ЯК ЗАСІБ РОЗВИТКУ РОЗУМОВИХ ЗДІБНОСТЕЙ.</a:t>
            </a:r>
            <a:br>
              <a:rPr sz="4300"/>
            </a:br>
            <a:endParaRPr b="0" lang="en-US" sz="4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Прямоугольник 1"/>
          <p:cNvSpPr/>
          <p:nvPr/>
        </p:nvSpPr>
        <p:spPr>
          <a:xfrm>
            <a:off x="0" y="4789440"/>
            <a:ext cx="12192120" cy="205056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000000"/>
                </a:solidFill>
                <a:latin typeface="Times New Roman"/>
                <a:ea typeface="Calibri"/>
              </a:rPr>
              <a:t>У сучасній педагогіці гра розглядається як вид діяльності дитини, в якій поєднуються риси, характерні для будь - якої соціальної діяльності (цілеспрямованість, усвідомленість, активна участь) та специфічні, притаманні лише грі (свобода і самостійність, самоорганізація дітей, наявність творчої основи, обов'язкове почуття радості й задоволення). </a:t>
            </a:r>
            <a:endParaRPr b="0" lang="en-US" sz="2400" spc="-1" strike="noStrike">
              <a:solidFill>
                <a:srgbClr val="ffffff"/>
              </a:solidFill>
              <a:latin typeface="Century Gothic"/>
            </a:endParaRPr>
          </a:p>
        </p:txBody>
      </p:sp>
      <p:pic>
        <p:nvPicPr>
          <p:cNvPr id="214" name="Picture 2" descr=""/>
          <p:cNvPicPr/>
          <p:nvPr/>
        </p:nvPicPr>
        <p:blipFill>
          <a:blip r:embed="rId1"/>
          <a:stretch/>
        </p:blipFill>
        <p:spPr>
          <a:xfrm>
            <a:off x="3741840" y="157320"/>
            <a:ext cx="3886200" cy="471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Прямоугольник 1"/>
          <p:cNvSpPr/>
          <p:nvPr/>
        </p:nvSpPr>
        <p:spPr>
          <a:xfrm>
            <a:off x="0" y="4805280"/>
            <a:ext cx="12065040" cy="205092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Times New Roman"/>
                <a:ea typeface="Calibri"/>
              </a:rPr>
              <a:t>Гра - це вільна, самостійна діяльність, що здійснюється за особливою ініціативою дитини, де значною мірою реалізується бажання виявити свій задум, по-своєму діяти, змінювати реальне життя. Гра вільна від обов'язків перед дорослими. Вона являє собою своєрідний прояв самодіяльності та самостійності. Граючи, дитина виходить із власних безпосередніх потреб та інтересів, на що вказував видатний психолог О.Запорожець. Воля і самостійність дитини виявляється у виборі гри чи її змісту; у добровільності об'єднання з кимось для гри; у вільному входженні в гру і виході з неї. </a:t>
            </a:r>
            <a:endParaRPr b="0" lang="en-US" sz="2000" spc="-1" strike="noStrike">
              <a:solidFill>
                <a:srgbClr val="ffffff"/>
              </a:solidFill>
              <a:latin typeface="Century Gothic"/>
            </a:endParaRPr>
          </a:p>
        </p:txBody>
      </p:sp>
      <p:pic>
        <p:nvPicPr>
          <p:cNvPr id="193" name="Picture 2" descr=""/>
          <p:cNvPicPr/>
          <p:nvPr/>
        </p:nvPicPr>
        <p:blipFill>
          <a:blip r:embed="rId1"/>
          <a:stretch/>
        </p:blipFill>
        <p:spPr>
          <a:xfrm>
            <a:off x="3657600" y="387360"/>
            <a:ext cx="5686560" cy="416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Прямоугольник 1"/>
          <p:cNvSpPr/>
          <p:nvPr/>
        </p:nvSpPr>
        <p:spPr>
          <a:xfrm>
            <a:off x="0" y="5415120"/>
            <a:ext cx="12192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Times New Roman"/>
                <a:ea typeface="Calibri"/>
              </a:rPr>
              <a:t>Одна з особливостей гри - наявність творчої основи. В одних іграх творчість пов'язана з побудовою сюжету і вибором змісту, ролі, в інших виявляється у виборі способів дії, в їх варіативності. Ігри вимагають уміння погоджувати дії партнерів, швидко змінювати тактику своєї поведінки чи способи дій. Творча гра - має на меті розвиток пізнавальної активності, допитливості, швидкості розумових дій, ініціативи у прийманні рішень. </a:t>
            </a:r>
            <a:endParaRPr b="0" lang="en-US" sz="2000" spc="-1" strike="noStrike">
              <a:solidFill>
                <a:srgbClr val="ffffff"/>
              </a:solidFill>
              <a:latin typeface="Century Gothic"/>
            </a:endParaRPr>
          </a:p>
        </p:txBody>
      </p:sp>
      <p:pic>
        <p:nvPicPr>
          <p:cNvPr id="195" name="Picture 2" descr=""/>
          <p:cNvPicPr/>
          <p:nvPr/>
        </p:nvPicPr>
        <p:blipFill>
          <a:blip r:embed="rId1"/>
          <a:stretch/>
        </p:blipFill>
        <p:spPr>
          <a:xfrm>
            <a:off x="8763120" y="0"/>
            <a:ext cx="3429000" cy="4572000"/>
          </a:xfrm>
          <a:prstGeom prst="rect">
            <a:avLst/>
          </a:prstGeom>
          <a:ln w="0">
            <a:noFill/>
          </a:ln>
        </p:spPr>
      </p:pic>
      <p:pic>
        <p:nvPicPr>
          <p:cNvPr id="196" name="Picture 2" descr=""/>
          <p:cNvPicPr/>
          <p:nvPr/>
        </p:nvPicPr>
        <p:blipFill>
          <a:blip r:embed="rId2"/>
          <a:stretch/>
        </p:blipFill>
        <p:spPr>
          <a:xfrm>
            <a:off x="0" y="385920"/>
            <a:ext cx="5715000" cy="380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Прямоугольник 1"/>
          <p:cNvSpPr/>
          <p:nvPr/>
        </p:nvSpPr>
        <p:spPr>
          <a:xfrm>
            <a:off x="2976480" y="254160"/>
            <a:ext cx="60962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000000"/>
                </a:solidFill>
                <a:latin typeface="Times New Roman"/>
                <a:ea typeface="Calibri"/>
              </a:rPr>
              <a:t>Творчий елемент завжди глибоко індивідуалізований, він є носієм індивідуальності кожного гравця, тому гра є засобом розвитку творчості, формування здібності дітей</a:t>
            </a:r>
            <a:endParaRPr b="0" lang="en-US" sz="2400" spc="-1" strike="noStrike">
              <a:solidFill>
                <a:srgbClr val="ffffff"/>
              </a:solidFill>
              <a:latin typeface="Century Gothic"/>
            </a:endParaRPr>
          </a:p>
        </p:txBody>
      </p:sp>
      <p:pic>
        <p:nvPicPr>
          <p:cNvPr id="198" name="Picture 2" descr=""/>
          <p:cNvPicPr/>
          <p:nvPr/>
        </p:nvPicPr>
        <p:blipFill>
          <a:blip r:embed="rId1"/>
          <a:stretch/>
        </p:blipFill>
        <p:spPr>
          <a:xfrm>
            <a:off x="3354480" y="2514600"/>
            <a:ext cx="5338800" cy="375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Прямоугольник 1"/>
          <p:cNvSpPr/>
          <p:nvPr/>
        </p:nvSpPr>
        <p:spPr>
          <a:xfrm>
            <a:off x="0" y="4549680"/>
            <a:ext cx="121921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000000"/>
                </a:solidFill>
                <a:latin typeface="Times New Roman"/>
                <a:ea typeface="Calibri"/>
              </a:rPr>
              <a:t>Емоційна насиченість – Важлива риса творчої гри. Більшість дослідників відзначають силу і природність почуттів, які переживає дитина і які пов'язані з виконуваними ролями: турбота, ніжність " матері", відповідальність "лікаря", справедливість "вихователя", тощо. У колективних іграх виявляються дружба, товариськість, взаємна відповідальність. Дитині приносить задоволення досягнення результату, подолання труднощів. У більшості ігор мають місце елементи емоції. </a:t>
            </a:r>
            <a:endParaRPr b="0" lang="en-US" sz="2400" spc="-1" strike="noStrike">
              <a:solidFill>
                <a:srgbClr val="ffffff"/>
              </a:solidFill>
              <a:latin typeface="Century Gothic"/>
            </a:endParaRPr>
          </a:p>
        </p:txBody>
      </p:sp>
      <p:pic>
        <p:nvPicPr>
          <p:cNvPr id="200" name="Picture 3" descr=""/>
          <p:cNvPicPr/>
          <p:nvPr/>
        </p:nvPicPr>
        <p:blipFill>
          <a:blip r:embed="rId1"/>
          <a:stretch/>
        </p:blipFill>
        <p:spPr>
          <a:xfrm>
            <a:off x="4968720" y="-31680"/>
            <a:ext cx="5354640" cy="458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Прямоугольник 1"/>
          <p:cNvSpPr/>
          <p:nvPr/>
        </p:nvSpPr>
        <p:spPr>
          <a:xfrm>
            <a:off x="289080" y="5651640"/>
            <a:ext cx="12191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Times New Roman"/>
                <a:ea typeface="Calibri"/>
              </a:rPr>
              <a:t>За допомогою гри нормалізуються стосунки дитини з навколишньою дійсністю. Гра знімає негативізм, ліквідує егоїзм, вередування, тощо. Гра "покращує природу дитини". Разом з тим, слід шукати значні можливості гри як засобу виховання, а не просто "втілення" небажаних проявів поведінки дитини. </a:t>
            </a:r>
            <a:endParaRPr b="0" lang="en-US" sz="2000" spc="-1" strike="noStrike">
              <a:solidFill>
                <a:srgbClr val="ffffff"/>
              </a:solidFill>
              <a:latin typeface="Century Gothic"/>
            </a:endParaRPr>
          </a:p>
        </p:txBody>
      </p:sp>
      <p:pic>
        <p:nvPicPr>
          <p:cNvPr id="202" name="Picture 3" descr=""/>
          <p:cNvPicPr/>
          <p:nvPr/>
        </p:nvPicPr>
        <p:blipFill>
          <a:blip r:embed="rId1"/>
          <a:stretch/>
        </p:blipFill>
        <p:spPr>
          <a:xfrm>
            <a:off x="6918480" y="372960"/>
            <a:ext cx="4643280" cy="3429000"/>
          </a:xfrm>
          <a:prstGeom prst="rect">
            <a:avLst/>
          </a:prstGeom>
          <a:ln w="0">
            <a:noFill/>
          </a:ln>
        </p:spPr>
      </p:pic>
      <p:pic>
        <p:nvPicPr>
          <p:cNvPr id="203" name="Picture 2" descr=""/>
          <p:cNvPicPr/>
          <p:nvPr/>
        </p:nvPicPr>
        <p:blipFill>
          <a:blip r:embed="rId2"/>
          <a:stretch/>
        </p:blipFill>
        <p:spPr>
          <a:xfrm>
            <a:off x="289080" y="2363760"/>
            <a:ext cx="4143240" cy="287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Прямоугольник 1"/>
          <p:cNvSpPr/>
          <p:nvPr/>
        </p:nvSpPr>
        <p:spPr>
          <a:xfrm>
            <a:off x="965160" y="5383080"/>
            <a:ext cx="10431360" cy="146232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800" spc="-1" strike="noStrike">
                <a:solidFill>
                  <a:srgbClr val="000000"/>
                </a:solidFill>
                <a:latin typeface="Times New Roman"/>
                <a:ea typeface="Calibri"/>
              </a:rPr>
              <a:t>Саме ці найважливіші проблеми дають можливість педагогам ефективно використовувати гру як засіб виховання, правильно здійснювати педагогічне керівництво. </a:t>
            </a:r>
            <a:endParaRPr b="0" lang="en-US" sz="2800" spc="-1" strike="noStrike">
              <a:solidFill>
                <a:srgbClr val="ffffff"/>
              </a:solidFill>
              <a:latin typeface="Century Gothic"/>
            </a:endParaRPr>
          </a:p>
        </p:txBody>
      </p:sp>
      <p:sp>
        <p:nvSpPr>
          <p:cNvPr id="205" name="Прямоугольник 2"/>
          <p:cNvSpPr/>
          <p:nvPr/>
        </p:nvSpPr>
        <p:spPr>
          <a:xfrm>
            <a:off x="3132000" y="398520"/>
            <a:ext cx="6096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800" spc="-1" strike="noStrike" u="sng">
                <a:solidFill>
                  <a:srgbClr val="000000"/>
                </a:solidFill>
                <a:uFillTx/>
                <a:latin typeface="Times New Roman"/>
                <a:ea typeface="Calibri"/>
              </a:rPr>
              <a:t>Дослідження виховних можливостей гри йде двома різними напрямками: </a:t>
            </a:r>
            <a:endParaRPr b="0" lang="en-US" sz="2800" spc="-1" strike="noStrike">
              <a:solidFill>
                <a:srgbClr val="ffffff"/>
              </a:solidFill>
              <a:latin typeface="Century Gothic"/>
            </a:endParaRPr>
          </a:p>
        </p:txBody>
      </p:sp>
      <p:sp>
        <p:nvSpPr>
          <p:cNvPr id="206" name="Прямоугольник 3"/>
          <p:cNvSpPr/>
          <p:nvPr/>
        </p:nvSpPr>
        <p:spPr>
          <a:xfrm>
            <a:off x="401760" y="1709640"/>
            <a:ext cx="117903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uk-UA" sz="2800" spc="-1" strike="noStrike">
                <a:solidFill>
                  <a:srgbClr val="000000"/>
                </a:solidFill>
                <a:latin typeface="Times New Roman"/>
                <a:ea typeface="Calibri"/>
              </a:rPr>
              <a:t>визначення можливостей гри як форми організації життя дітей</a:t>
            </a:r>
            <a:r>
              <a:rPr b="0" i="1" lang="en-US" sz="2800" spc="-1" strike="noStrike">
                <a:solidFill>
                  <a:srgbClr val="000000"/>
                </a:solidFill>
                <a:latin typeface="Times New Roman"/>
                <a:ea typeface="Calibri"/>
              </a:rPr>
              <a:t>;</a:t>
            </a:r>
            <a:endParaRPr b="0" lang="en-US" sz="2800" spc="-1" strike="noStrike">
              <a:solidFill>
                <a:srgbClr val="ffffff"/>
              </a:solidFill>
              <a:latin typeface="Century Gothic"/>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uk-UA" sz="2800" spc="-1" strike="noStrike">
                <a:solidFill>
                  <a:srgbClr val="000000"/>
                </a:solidFill>
                <a:latin typeface="Times New Roman"/>
                <a:ea typeface="Calibri"/>
              </a:rPr>
              <a:t>вивчення місця гри у педагогічному процесі</a:t>
            </a:r>
            <a:r>
              <a:rPr b="0" i="1" lang="en-US" sz="2800" spc="-1" strike="noStrike">
                <a:solidFill>
                  <a:srgbClr val="000000"/>
                </a:solidFill>
                <a:latin typeface="Times New Roman"/>
                <a:ea typeface="Calibri"/>
              </a:rPr>
              <a:t>.</a:t>
            </a:r>
            <a:endParaRPr b="0" lang="en-US" sz="2800" spc="-1" strike="noStrike">
              <a:solidFill>
                <a:srgbClr val="ffffff"/>
              </a:solidFill>
              <a:latin typeface="Century Gothic"/>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entury Gothic"/>
            </a:endParaRPr>
          </a:p>
        </p:txBody>
      </p:sp>
      <p:pic>
        <p:nvPicPr>
          <p:cNvPr id="207" name="Picture 2" descr=""/>
          <p:cNvPicPr/>
          <p:nvPr/>
        </p:nvPicPr>
        <p:blipFill>
          <a:blip r:embed="rId1"/>
          <a:stretch/>
        </p:blipFill>
        <p:spPr>
          <a:xfrm>
            <a:off x="7932600" y="2322360"/>
            <a:ext cx="2843280" cy="306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Прямоугольник 1"/>
          <p:cNvSpPr/>
          <p:nvPr/>
        </p:nvSpPr>
        <p:spPr>
          <a:xfrm>
            <a:off x="0" y="4919760"/>
            <a:ext cx="121921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000000"/>
                </a:solidFill>
                <a:latin typeface="Times New Roman"/>
                <a:ea typeface="Calibri"/>
              </a:rPr>
              <a:t>Розглядаючи етап розвитку ігрового колективу, було встановлено наявність реальних стосунків, що існують між людьми, які виховуються в одному колективі та ігрових, які регламентуються змістом гри. Була виявлена можливість виникнення якостей, необхідних дитині для входження до ігрового колективу: встановлення зв'язків з дітьми, що граються, підпорядкування своїх дій ролям, контроль і виконання правил гри, тощо. </a:t>
            </a:r>
            <a:endParaRPr b="0" lang="en-US" sz="2400" spc="-1" strike="noStrike">
              <a:solidFill>
                <a:srgbClr val="ffffff"/>
              </a:solidFill>
              <a:latin typeface="Century Gothic"/>
            </a:endParaRPr>
          </a:p>
        </p:txBody>
      </p:sp>
      <p:pic>
        <p:nvPicPr>
          <p:cNvPr id="209" name="Picture 2" descr="http://900igr.net/datai/pedagogika/Igry-intellektualnye/0014-005-Igry-intellektualnye.jpg"/>
          <p:cNvPicPr/>
          <p:nvPr/>
        </p:nvPicPr>
        <p:blipFill>
          <a:blip r:embed="rId1"/>
          <a:stretch/>
        </p:blipFill>
        <p:spPr>
          <a:xfrm>
            <a:off x="0" y="0"/>
            <a:ext cx="6176880" cy="4632480"/>
          </a:xfrm>
          <a:prstGeom prst="rect">
            <a:avLst/>
          </a:prstGeom>
          <a:ln w="0">
            <a:noFill/>
          </a:ln>
        </p:spPr>
      </p:pic>
      <p:pic>
        <p:nvPicPr>
          <p:cNvPr id="210" name="Picture 3" descr=""/>
          <p:cNvPicPr/>
          <p:nvPr/>
        </p:nvPicPr>
        <p:blipFill>
          <a:blip r:embed="rId2"/>
          <a:stretch/>
        </p:blipFill>
        <p:spPr>
          <a:xfrm>
            <a:off x="6491160" y="0"/>
            <a:ext cx="5564160" cy="370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Прямоугольник 1"/>
          <p:cNvSpPr/>
          <p:nvPr/>
        </p:nvSpPr>
        <p:spPr>
          <a:xfrm>
            <a:off x="0" y="5065560"/>
            <a:ext cx="12192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000000"/>
                </a:solidFill>
                <a:latin typeface="Times New Roman"/>
                <a:ea typeface="Calibri"/>
              </a:rPr>
              <a:t>В імперичній психології при дослідженні гри, господарював аналітичний підхід. При цьому гра досліджувалась як проявлення вже досить зрілої психічної діяльності. Одні досліджували гру (Ушинський К.Д., Дж. Селлі, Бюллер К.) як проявлення уяви або фантазії, другі (Сікорський А.І., Дж. Дюї) пов'язували гру із розвитком мислення. </a:t>
            </a:r>
            <a:endParaRPr b="0" lang="en-US" sz="2400" spc="-1" strike="noStrike">
              <a:solidFill>
                <a:srgbClr val="ffffff"/>
              </a:solidFill>
              <a:latin typeface="Century Gothic"/>
            </a:endParaRPr>
          </a:p>
        </p:txBody>
      </p:sp>
      <p:pic>
        <p:nvPicPr>
          <p:cNvPr id="212" name="Picture 2" descr="File:John Dewey in 1902.jpg"/>
          <p:cNvPicPr/>
          <p:nvPr/>
        </p:nvPicPr>
        <p:blipFill>
          <a:blip r:embed="rId1"/>
          <a:stretch/>
        </p:blipFill>
        <p:spPr>
          <a:xfrm>
            <a:off x="4438800" y="189000"/>
            <a:ext cx="3728880" cy="48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2T16:51:24Z</dcterms:created>
  <dc:creator>Heavy</dc:creator>
  <dc:description/>
  <dc:language>en-US</dc:language>
  <cp:lastModifiedBy>Сергій Терно</cp:lastModifiedBy>
  <dcterms:modified xsi:type="dcterms:W3CDTF">2014-09-21T19:50:59Z</dcterms:modified>
  <cp:revision>6</cp:revision>
  <dc:subject/>
  <dc:title>Пізнавальна гра як засіб розвитку розумових здібностей.</dc:title>
</cp:coreProperties>
</file>