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3.png" ContentType="image/png"/>
  <Override PartName="/ppt/media/image51.png" ContentType="image/png"/>
  <Override PartName="/ppt/media/image47.wmf" ContentType="image/x-wmf"/>
  <Override PartName="/ppt/media/image46.wmf" ContentType="image/x-wmf"/>
  <Override PartName="/ppt/media/image45.png" ContentType="image/png"/>
  <Override PartName="/ppt/media/image44.png" ContentType="image/png"/>
  <Override PartName="/ppt/media/image43.wmf" ContentType="image/x-wmf"/>
  <Override PartName="/ppt/media/image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2.wmf" ContentType="image/x-wmf"/>
  <Override PartName="/ppt/media/image8.png" ContentType="image/png"/>
  <Override PartName="/ppt/media/image3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52.wmf" ContentType="image/x-wmf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54.wmf" ContentType="image/x-wmf"/>
  <Override PartName="/ppt/media/image71.png" ContentType="image/png"/>
  <Override PartName="/ppt/media/image29.png" ContentType="image/png"/>
  <Override PartName="/ppt/media/image69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70.png" ContentType="image/png"/>
  <Override PartName="/ppt/media/image68.png" ContentType="image/png"/>
  <Override PartName="/ppt/media/image31.png" ContentType="image/png"/>
  <Override PartName="/ppt/media/image25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8.png" ContentType="image/png"/>
  <Override PartName="/ppt/media/image50.wmf" ContentType="image/x-wmf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82BB-E4A5-4160-97AD-0A6D67BCF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BAD7-E0E9-45AE-B0A1-6260C571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6FC5-2410-4997-A8E4-A503F082D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F4A9-2A86-42B9-AB9D-49C288D83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7F7D-6712-47ED-AE4B-B5BF4F39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E3A7-D4D8-43F5-B22F-4DA4B928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F7EF-AC8D-41CA-A78E-25FF4E87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CFF3-2DF7-403C-A086-6FE0558A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3726-4F38-40D8-8338-34CEAC2E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F8EF-44CC-41DA-925E-EA975E4F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C7E4-BB33-4EC9-9530-DEAC8C65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2203-69E7-445D-A041-C008111D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0469-0A19-4382-A1F1-49EED98C9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wmf"/><Relationship Id="rId3" Type="http://schemas.openxmlformats.org/officeDocument/2006/relationships/image" Target="../media/image53.png"/><Relationship Id="rId4" Type="http://schemas.openxmlformats.org/officeDocument/2006/relationships/image" Target="../media/image54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АНАЛОГОВА ОПТОСХЕМОТЕХНІ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ЛЕМЕНТНА БАЗА А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71640" y="119700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руктурна схема  джерел живле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5057640" cy="1542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79280" y="3357720"/>
            <a:ext cx="5113440" cy="21999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11280" y="5661000"/>
            <a:ext cx="792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Тр – трансформатор, В – випрямляч, Ф – фільтр, Ст – стабілізатор, І - інвер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3357720"/>
            <a:ext cx="374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хема із безтрансформаторним вход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916600" y="3573360"/>
            <a:ext cx="32274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1268280"/>
            <a:ext cx="30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жерела напруги та стру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624720" cy="27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08360" y="112536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ипрямляч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2016000" cy="1297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987640" y="162864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днонапівперіодні випрямляч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560600" cy="1152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2484360" y="2060640"/>
            <a:ext cx="2737080" cy="1944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2340000" y="4292640"/>
            <a:ext cx="2952720" cy="1008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6443640" y="1989000"/>
            <a:ext cx="1657440" cy="1008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6372360" y="3429000"/>
            <a:ext cx="2268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08360" y="112536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ипрямляч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87640" y="162864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вохнапівперіодні випрямляч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2195640" cy="1944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68360" y="4437000"/>
            <a:ext cx="1728720" cy="1511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627280" y="2060640"/>
            <a:ext cx="2305080" cy="1727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2556000" y="4221000"/>
            <a:ext cx="2160360" cy="1440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5724360" y="2133720"/>
            <a:ext cx="2592720" cy="1873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5543640" y="4076640"/>
            <a:ext cx="36003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3640" y="112536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гладжувальні фільт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619280" y="2708280"/>
            <a:ext cx="6048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03640" y="112536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гладжувальні фільт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1628640"/>
            <a:ext cx="4321080" cy="1656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3924000" cy="1123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2843280" y="3645000"/>
            <a:ext cx="331128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4535640" cy="41785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508720" y="1197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араметрич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1197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59280" y="1197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43280" y="162864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мпенсацій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476360" y="2492280"/>
            <a:ext cx="61214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92360" y="119700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32000" y="14842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мпульс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835280" y="2060640"/>
            <a:ext cx="5329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92360" y="119700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32000" y="14842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мпульс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6840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жерело електричної енерг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2647800" cy="1333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708360" y="1628640"/>
            <a:ext cx="1866960" cy="1581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43280" y="126828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Джерело постійної напру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2997360"/>
            <a:ext cx="3095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чка а – режим холостого х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26920" y="3284640"/>
            <a:ext cx="1190880" cy="276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0920" y="3716280"/>
            <a:ext cx="30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чка б – режим короткого замкнен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900000" y="4005360"/>
            <a:ext cx="1123920" cy="276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877080" y="2205000"/>
            <a:ext cx="1152360" cy="238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003640" y="16286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яма 1 – нелінійна В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76720" y="1989000"/>
            <a:ext cx="244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яма 2 – описується наступним рівняння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5796000" y="3141720"/>
            <a:ext cx="1076400" cy="237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724360" y="2565360"/>
            <a:ext cx="288144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x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пруга при розімкненому ключі 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77080" y="306864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нутрішній опір джер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611280" y="4508640"/>
            <a:ext cx="1800000" cy="1225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9280" y="5805360"/>
            <a:ext cx="35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квівалента схема - ідеальне джерело ЕР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2556000" y="4437000"/>
            <a:ext cx="1512720" cy="1224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395280" y="6308640"/>
            <a:ext cx="1190520" cy="238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0"/>
          <a:stretch/>
        </p:blipFill>
        <p:spPr>
          <a:xfrm>
            <a:off x="1835280" y="6308640"/>
            <a:ext cx="581040" cy="238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1"/>
          <a:stretch/>
        </p:blipFill>
        <p:spPr>
          <a:xfrm>
            <a:off x="5219640" y="3645000"/>
            <a:ext cx="1800360" cy="1368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859280" y="5084640"/>
            <a:ext cx="35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квівалента схема - ідеальне джерело струм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2"/>
          <a:stretch/>
        </p:blipFill>
        <p:spPr>
          <a:xfrm>
            <a:off x="7093080" y="3645000"/>
            <a:ext cx="1265040" cy="1127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3"/>
          <a:stretch/>
        </p:blipFill>
        <p:spPr>
          <a:xfrm>
            <a:off x="4427640" y="5516640"/>
            <a:ext cx="1942920" cy="504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4"/>
          <a:stretch/>
        </p:blipFill>
        <p:spPr>
          <a:xfrm>
            <a:off x="4427640" y="6093000"/>
            <a:ext cx="961920" cy="237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5"/>
          <a:stretch/>
        </p:blipFill>
        <p:spPr>
          <a:xfrm>
            <a:off x="5508720" y="6093000"/>
            <a:ext cx="542880" cy="237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6659640" y="5445000"/>
            <a:ext cx="743040" cy="276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524720" y="5445000"/>
            <a:ext cx="147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внутрішня провідність джере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7"/>
          <a:stretch/>
        </p:blipFill>
        <p:spPr>
          <a:xfrm>
            <a:off x="4427640" y="6453360"/>
            <a:ext cx="571320" cy="237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8"/>
          <a:stretch/>
        </p:blipFill>
        <p:spPr>
          <a:xfrm>
            <a:off x="5219640" y="6453360"/>
            <a:ext cx="619200" cy="237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9"/>
          <a:stretch/>
        </p:blipFill>
        <p:spPr>
          <a:xfrm>
            <a:off x="6588000" y="5877000"/>
            <a:ext cx="962280" cy="542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667640" y="5950080"/>
            <a:ext cx="129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Максимальна потуж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0"/>
          <a:stretch/>
        </p:blipFill>
        <p:spPr>
          <a:xfrm>
            <a:off x="6659640" y="6453360"/>
            <a:ext cx="7239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92360" y="119700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32000" y="14842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мпульс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3384360" cy="2376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003640" y="1989000"/>
            <a:ext cx="3673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3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СИВНІ ЕЛЕМЕНТИ ЕЛЕКТРИЧНИХ КІ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1638360" cy="936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1466640" cy="923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995640" y="1197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езис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2781360"/>
            <a:ext cx="158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нійний резис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32000" y="27082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лінійний резис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284720" y="3141720"/>
            <a:ext cx="2028600" cy="169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116000" y="3284640"/>
            <a:ext cx="68580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195640" y="335772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атичний опі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042920" y="4149720"/>
            <a:ext cx="743040" cy="504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268360" y="4221000"/>
            <a:ext cx="20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иференційний опі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3059280" y="4869000"/>
            <a:ext cx="863280" cy="647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72000" y="4869000"/>
            <a:ext cx="403236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томий опір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–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жина провідни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–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 поперечного перерізу провід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СИВНІ ЕЛЕМЕНТИ ЕЛЕКТРИЧНИХ КІ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64000" y="1628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ндуктив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1476360" cy="504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419640" y="2133720"/>
            <a:ext cx="1495440" cy="533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435640" y="2133720"/>
            <a:ext cx="2276280" cy="2047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00000" y="2924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нійна індуктивні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3640" y="2852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лінійна індуктивні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187280" y="3500280"/>
            <a:ext cx="843120" cy="463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187280" y="4221000"/>
            <a:ext cx="986040" cy="260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1187280" y="4724280"/>
            <a:ext cx="890640" cy="462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1258920" y="5445000"/>
            <a:ext cx="320760" cy="238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268360" y="3645000"/>
            <a:ext cx="13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індуктив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11280" y="422100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потокозчепленн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11280" y="4724280"/>
            <a:ext cx="18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Потік магнітного п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8000" y="5445000"/>
            <a:ext cx="1656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Вебер-амперна характерист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8"/>
          <a:stretch/>
        </p:blipFill>
        <p:spPr>
          <a:xfrm>
            <a:off x="5219640" y="4724280"/>
            <a:ext cx="689040" cy="439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227640" y="472428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Статична індуктив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72360" y="573408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Диференційна  індуктив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5148360" y="5661000"/>
            <a:ext cx="7952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СИВНІ ЕЛЕМЕНТИ ЕЛЕКТРИЧНИХ КІ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155736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Єм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1400040" cy="523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348000" y="2133720"/>
            <a:ext cx="1438200" cy="6094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00000" y="27813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нійний конденс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2852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лінійний конденс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796000" y="1916280"/>
            <a:ext cx="2467080" cy="2019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1187280" y="3789360"/>
            <a:ext cx="760680" cy="463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1258920" y="4508640"/>
            <a:ext cx="689040" cy="463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340000" y="458136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Статична єм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11280" y="508464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Диференційна  єм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258920" y="5013360"/>
            <a:ext cx="7952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апівпровідниковий ді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53840" cy="979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340000" y="1413000"/>
            <a:ext cx="1563840" cy="776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427640" y="1341360"/>
            <a:ext cx="2554200" cy="1360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87280" y="3284640"/>
            <a:ext cx="2598840" cy="1979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4716360" y="3500280"/>
            <a:ext cx="24638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апівпровідниковий ді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66978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Біполярний транзис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1860840" cy="1297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924360" y="1413000"/>
            <a:ext cx="5040360" cy="2879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84720" y="458136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Модель Еберса-Мо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24000" y="3141720"/>
            <a:ext cx="42480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ольовий транзис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724360" y="1484280"/>
            <a:ext cx="3138480" cy="1360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4443480" cy="1913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116000" y="3860640"/>
            <a:ext cx="2879640" cy="1081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4788000" y="3860640"/>
            <a:ext cx="374472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20:11:55Z</dcterms:created>
  <dc:creator>MX</dc:creator>
  <dc:description/>
  <dc:language>en-US</dc:language>
  <cp:lastModifiedBy>MX</cp:lastModifiedBy>
  <dcterms:modified xsi:type="dcterms:W3CDTF">2020-09-29T17:22:05Z</dcterms:modified>
  <cp:revision>30</cp:revision>
  <dc:subject/>
  <dc:title>ТЕОРІЯ ЕЛЕКТРИЧНИХ КІЛ</dc:title>
</cp:coreProperties>
</file>