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47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wmf" ContentType="image/x-wmf"/>
  <Override PartName="/ppt/media/image8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52.wmf" ContentType="image/x-wmf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4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25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8.png" ContentType="image/png"/>
  <Override PartName="/ppt/media/image50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E691-163F-4825-A032-E8DD30C4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E02A-3A3C-4C52-8F5D-3DD8027A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AA1-ED3F-4F1F-BE55-3097A1AA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B0A3-AA71-480B-9276-DF1AC2EE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2F1E-C452-4E29-AA41-6C533321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8D40-7FD5-4F69-A90F-EDBFC861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A584-21A8-403A-9880-956D8F20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4957-9B38-44CE-8EA0-32B992CA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FB9F-FA19-4254-BA56-C35B5B76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1301-80DE-47A0-BE52-4C30B8D3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0ECC-E570-46A3-9856-D484BCFF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A6EF-E82C-4069-A0ED-8A6A2CCC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AD47-62D2-45A6-8FEC-6A417237C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ОВА ОПТОСХЕМОТЕХНІ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МЕНТНА БАЗА А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1197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руктурна схема  джерел живл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057640" cy="154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5113440" cy="2199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5661000"/>
            <a:ext cx="79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р – трансформатор, В – випрямляч, Ф – фільтр, Ст – стабілізатор, І - інвер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3577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хема із безтрансформаторним вхо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916600" y="3573360"/>
            <a:ext cx="3227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126828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жерела напруги та стру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6247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016000" cy="129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дно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560600" cy="115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484360" y="2060640"/>
            <a:ext cx="2737080" cy="194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340000" y="4292640"/>
            <a:ext cx="29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43640" y="1989000"/>
            <a:ext cx="1657440" cy="100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372360" y="3429000"/>
            <a:ext cx="226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вох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195640" cy="194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627280" y="206064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724360" y="2133720"/>
            <a:ext cx="2592720" cy="187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543640" y="4076640"/>
            <a:ext cx="3600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04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21080" cy="165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924000" cy="1123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33112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535640" cy="4178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50872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раметрич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162864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енсацій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121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6840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ерело електричної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1866960" cy="158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43280" y="12682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Джерело постійної напр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997360"/>
            <a:ext cx="30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а – режим холостого х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1190880" cy="27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3716280"/>
            <a:ext cx="30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б – режим короткого замкн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1123920" cy="276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1152360" cy="238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03640" y="1628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1 – нелінійна 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19890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2 – описується наступним рівнянн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796000" y="3141720"/>
            <a:ext cx="1076400" cy="23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24360" y="2565360"/>
            <a:ext cx="28814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пруга при розімкненому ключі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3068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нутрішній опір джер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800000" cy="1225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580536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ЕР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556000" y="4437000"/>
            <a:ext cx="151272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95280" y="6308640"/>
            <a:ext cx="11905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1835280" y="6308640"/>
            <a:ext cx="581040" cy="238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5219640" y="3645000"/>
            <a:ext cx="1800360" cy="1368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59280" y="508464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стру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093080" y="3645000"/>
            <a:ext cx="1265040" cy="112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4427640" y="5516640"/>
            <a:ext cx="1942920" cy="50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4427640" y="6093000"/>
            <a:ext cx="961920" cy="237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5508720" y="6093000"/>
            <a:ext cx="542880" cy="237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6659640" y="5445000"/>
            <a:ext cx="743040" cy="27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24720" y="5445000"/>
            <a:ext cx="147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нутрішня провідність джере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4427640" y="6453360"/>
            <a:ext cx="571320" cy="23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8"/>
          <a:stretch/>
        </p:blipFill>
        <p:spPr>
          <a:xfrm>
            <a:off x="5219640" y="6453360"/>
            <a:ext cx="619200" cy="237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9"/>
          <a:stretch/>
        </p:blipFill>
        <p:spPr>
          <a:xfrm>
            <a:off x="6588000" y="5877000"/>
            <a:ext cx="962280" cy="54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67640" y="595008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аксимальна потуж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6659640" y="6453360"/>
            <a:ext cx="7239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384360" cy="23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673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1638360" cy="93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1466640" cy="923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95640" y="119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и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278136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2708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2028600" cy="169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16000" y="3284640"/>
            <a:ext cx="68580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3357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ич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042920" y="4149720"/>
            <a:ext cx="743040" cy="504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68360" y="422100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иференцій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059280" y="4869000"/>
            <a:ext cx="863280" cy="64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0" y="4869000"/>
            <a:ext cx="40323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омий опі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жина провідни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 поперечного перерізу провід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162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147636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149544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435640" y="2133720"/>
            <a:ext cx="2276280" cy="2047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2924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2852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7280" y="3500280"/>
            <a:ext cx="843120" cy="463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7280" y="4221000"/>
            <a:ext cx="986040" cy="26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187280" y="4724280"/>
            <a:ext cx="890640" cy="462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258920" y="5445000"/>
            <a:ext cx="320760" cy="23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68360" y="364500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422100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окозчеплен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472428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ік магнітного п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544500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ебер-амперна характери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219640" y="4724280"/>
            <a:ext cx="689040" cy="439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27640" y="47242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7340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148360" y="566100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557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м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1400040" cy="52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1438200" cy="609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2781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852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246708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87280" y="3789360"/>
            <a:ext cx="760680" cy="46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689040" cy="46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40000" y="4581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508464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258920" y="501336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53840" cy="979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1563840" cy="776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27640" y="1341360"/>
            <a:ext cx="2554200" cy="1360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7280" y="3284640"/>
            <a:ext cx="2598840" cy="197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716360" y="3500280"/>
            <a:ext cx="2463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697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іполярн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1860840" cy="12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5040360" cy="287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84720" y="45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одель Еберса-Мо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3141720"/>
            <a:ext cx="4248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льов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138480" cy="1360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443480" cy="1913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879640" cy="10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37447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20:11:55Z</dcterms:created>
  <dc:creator>MX</dc:creator>
  <dc:description/>
  <dc:language>en-US</dc:language>
  <cp:lastModifiedBy>MX</cp:lastModifiedBy>
  <dcterms:modified xsi:type="dcterms:W3CDTF">2020-09-29T17:22:05Z</dcterms:modified>
  <cp:revision>30</cp:revision>
  <dc:subject/>
  <dc:title>ТЕОРІЯ ЕЛЕКТРИЧНИХ КІЛ</dc:title>
</cp:coreProperties>
</file>