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3.png" ContentType="image/png"/>
  <Override PartName="/ppt/media/image51.png" ContentType="image/png"/>
  <Override PartName="/ppt/media/image47.wmf" ContentType="image/x-wmf"/>
  <Override PartName="/ppt/media/image46.wmf" ContentType="image/x-wmf"/>
  <Override PartName="/ppt/media/image45.png" ContentType="image/png"/>
  <Override PartName="/ppt/media/image44.png" ContentType="image/png"/>
  <Override PartName="/ppt/media/image43.wmf" ContentType="image/x-wmf"/>
  <Override PartName="/ppt/media/image9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42.wmf" ContentType="image/x-wmf"/>
  <Override PartName="/ppt/media/image8.png" ContentType="image/png"/>
  <Override PartName="/ppt/media/image39.png" ContentType="image/png"/>
  <Override PartName="/ppt/media/image13.png" ContentType="image/png"/>
  <Override PartName="/ppt/media/image1.png" ContentType="image/png"/>
  <Override PartName="/ppt/media/image38.png" ContentType="image/png"/>
  <Override PartName="/ppt/media/image52.wmf" ContentType="image/x-wmf"/>
  <Override PartName="/ppt/media/image49.png" ContentType="image/png"/>
  <Override PartName="/ppt/media/image20.png" ContentType="image/png"/>
  <Override PartName="/ppt/media/image57.png" ContentType="image/png"/>
  <Override PartName="/ppt/media/image21.png" ContentType="image/png"/>
  <Override PartName="/ppt/media/image58.png" ContentType="image/png"/>
  <Override PartName="/ppt/media/image22.png" ContentType="image/png"/>
  <Override PartName="/ppt/media/image59.png" ContentType="image/png"/>
  <Override PartName="/ppt/media/image23.png" ContentType="image/png"/>
  <Override PartName="/ppt/media/image60.png" ContentType="image/png"/>
  <Override PartName="/ppt/media/image24.png" ContentType="image/png"/>
  <Override PartName="/ppt/media/image61.png" ContentType="image/png"/>
  <Override PartName="/ppt/media/image62.png" ContentType="image/png"/>
  <Override PartName="/ppt/media/image63.png" ContentType="image/png"/>
  <Override PartName="/ppt/media/image64.png" ContentType="image/png"/>
  <Override PartName="/ppt/media/image65.png" ContentType="image/png"/>
  <Override PartName="/ppt/media/image66.png" ContentType="image/png"/>
  <Override PartName="/ppt/media/image79.png" ContentType="image/png"/>
  <Override PartName="/ppt/media/image67.png" ContentType="image/png"/>
  <Override PartName="/ppt/media/image78.png" ContentType="image/png"/>
  <Override PartName="/ppt/media/image77.png" ContentType="image/png"/>
  <Override PartName="/ppt/media/image76.png" ContentType="image/png"/>
  <Override PartName="/ppt/media/image75.png" ContentType="image/png"/>
  <Override PartName="/ppt/media/image74.png" ContentType="image/png"/>
  <Override PartName="/ppt/media/image73.png" ContentType="image/png"/>
  <Override PartName="/ppt/media/image72.png" ContentType="image/png"/>
  <Override PartName="/ppt/media/image54.wmf" ContentType="image/x-wmf"/>
  <Override PartName="/ppt/media/image71.png" ContentType="image/png"/>
  <Override PartName="/ppt/media/image29.png" ContentType="image/png"/>
  <Override PartName="/ppt/media/image69.png" ContentType="image/png"/>
  <Override PartName="/ppt/media/image14.png" ContentType="image/png"/>
  <Override PartName="/ppt/media/image2.png" ContentType="image/png"/>
  <Override PartName="/ppt/media/image32.png" ContentType="image/png"/>
  <Override PartName="/ppt/media/image70.png" ContentType="image/png"/>
  <Override PartName="/ppt/media/image68.png" ContentType="image/png"/>
  <Override PartName="/ppt/media/image31.png" ContentType="image/png"/>
  <Override PartName="/ppt/media/image25.png" ContentType="image/png"/>
  <Override PartName="/ppt/media/image26.png" ContentType="image/png"/>
  <Override PartName="/ppt/media/image80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28.png" ContentType="image/png"/>
  <Override PartName="/ppt/media/image50.wmf" ContentType="image/x-wmf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BA8F2-B14C-4DC5-B262-A444670FF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D48CF-191F-4FC9-89AB-70DCE74B2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CEA7F-8665-494E-8E76-64713D745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A6CEC-A851-42A1-B8DE-7A852705A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EE233-DB3C-4621-B7D9-FA1A4C609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9D517-0E45-4999-9DC9-3A769BB4A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CBC33-2188-4D62-8380-2F95BC7F6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C0EAF-AA50-44C2-A389-E987F54D9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DD774-0C04-4B7C-BA92-C8D0CC91B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0EBF5-30F1-47CD-97E1-116B71262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C031D-60BB-4847-82F3-C98CE4538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48987-5F8B-4998-BABC-1462F24B8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9DE71-8426-4DD4-AEC4-072C5D7FC2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56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image" Target="../media/image62.png"/><Relationship Id="rId5" Type="http://schemas.openxmlformats.org/officeDocument/2006/relationships/image" Target="../media/image63.png"/><Relationship Id="rId6" Type="http://schemas.openxmlformats.org/officeDocument/2006/relationships/image" Target="../media/image64.png"/><Relationship Id="rId7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image" Target="../media/image66.png"/><Relationship Id="rId3" Type="http://schemas.openxmlformats.org/officeDocument/2006/relationships/image" Target="../media/image67.png"/><Relationship Id="rId4" Type="http://schemas.openxmlformats.org/officeDocument/2006/relationships/image" Target="../media/image68.png"/><Relationship Id="rId5" Type="http://schemas.openxmlformats.org/officeDocument/2006/relationships/image" Target="../media/image69.png"/><Relationship Id="rId6" Type="http://schemas.openxmlformats.org/officeDocument/2006/relationships/image" Target="../media/image70.png"/><Relationship Id="rId7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2.png"/><Relationship Id="rId2" Type="http://schemas.openxmlformats.org/officeDocument/2006/relationships/image" Target="../media/image73.png"/><Relationship Id="rId3" Type="http://schemas.openxmlformats.org/officeDocument/2006/relationships/image" Target="../media/image74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6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8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80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3.png"/><Relationship Id="rId8" Type="http://schemas.openxmlformats.org/officeDocument/2006/relationships/image" Target="../media/image34.png"/><Relationship Id="rId9" Type="http://schemas.openxmlformats.org/officeDocument/2006/relationships/image" Target="../media/image35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39.png"/><Relationship Id="rId5" Type="http://schemas.openxmlformats.org/officeDocument/2006/relationships/image" Target="../media/image40.png"/><Relationship Id="rId6" Type="http://schemas.openxmlformats.org/officeDocument/2006/relationships/image" Target="../media/image41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image" Target="../media/image43.wmf"/><Relationship Id="rId3" Type="http://schemas.openxmlformats.org/officeDocument/2006/relationships/image" Target="../media/image44.png"/><Relationship Id="rId4" Type="http://schemas.openxmlformats.org/officeDocument/2006/relationships/image" Target="../media/image45.png"/><Relationship Id="rId5" Type="http://schemas.openxmlformats.org/officeDocument/2006/relationships/image" Target="../media/image46.wmf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png"/><Relationship Id="rId3" Type="http://schemas.openxmlformats.org/officeDocument/2006/relationships/image" Target="../media/image5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wmf"/><Relationship Id="rId3" Type="http://schemas.openxmlformats.org/officeDocument/2006/relationships/image" Target="../media/image53.png"/><Relationship Id="rId4" Type="http://schemas.openxmlformats.org/officeDocument/2006/relationships/image" Target="../media/image54.wmf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АНАЛОГОВА ОПТОСХЕМОТЕХНІ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ЕЛЕМЕНТНА БАЗА АОС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А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95280" y="836640"/>
            <a:ext cx="8229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Джерела живлення РЕ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771640" y="1197000"/>
            <a:ext cx="345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Структурна схема  джерел живленн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835280" y="1557360"/>
            <a:ext cx="5057640" cy="154296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179280" y="3357720"/>
            <a:ext cx="5113440" cy="21999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11280" y="5661000"/>
            <a:ext cx="792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Тр – трансформатор, В – випрямляч, Ф – фільтр, Ст – стабілізатор, І - інверто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95280" y="3357720"/>
            <a:ext cx="374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Схема із безтрансформаторним входо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5916600" y="3573360"/>
            <a:ext cx="3227400" cy="19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А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95280" y="836640"/>
            <a:ext cx="8229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Джерела живлення РЕ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1268280"/>
            <a:ext cx="309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Джерела напруги та струм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116000" y="1916280"/>
            <a:ext cx="6624720" cy="273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А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95280" y="836640"/>
            <a:ext cx="8229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Джерела живлення РЕ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708360" y="1125360"/>
            <a:ext cx="151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Випрямлячі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250920" y="1844640"/>
            <a:ext cx="2016000" cy="129708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2987640" y="1628640"/>
            <a:ext cx="316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Однонапівперіодні випрямляч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611280" y="3213000"/>
            <a:ext cx="1560600" cy="115272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3"/>
          <a:stretch/>
        </p:blipFill>
        <p:spPr>
          <a:xfrm>
            <a:off x="2484360" y="2060640"/>
            <a:ext cx="2737080" cy="194472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4"/>
          <a:stretch/>
        </p:blipFill>
        <p:spPr>
          <a:xfrm>
            <a:off x="2340000" y="4292640"/>
            <a:ext cx="2952720" cy="100800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5"/>
          <a:stretch/>
        </p:blipFill>
        <p:spPr>
          <a:xfrm>
            <a:off x="6443640" y="1989000"/>
            <a:ext cx="1657440" cy="100836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6"/>
          <a:stretch/>
        </p:blipFill>
        <p:spPr>
          <a:xfrm>
            <a:off x="6372360" y="3429000"/>
            <a:ext cx="226836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А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95280" y="836640"/>
            <a:ext cx="8229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Джерела живлення РЕ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708360" y="1125360"/>
            <a:ext cx="151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Випрямлячі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987640" y="1628640"/>
            <a:ext cx="316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Двохнапівперіодні випрямляч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468360" y="1916280"/>
            <a:ext cx="2195640" cy="194436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468360" y="4437000"/>
            <a:ext cx="1728720" cy="151128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3"/>
          <a:stretch/>
        </p:blipFill>
        <p:spPr>
          <a:xfrm>
            <a:off x="2627280" y="2060640"/>
            <a:ext cx="2305080" cy="172728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4"/>
          <a:stretch/>
        </p:blipFill>
        <p:spPr>
          <a:xfrm>
            <a:off x="2556000" y="4221000"/>
            <a:ext cx="2160360" cy="14400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5"/>
          <a:stretch/>
        </p:blipFill>
        <p:spPr>
          <a:xfrm>
            <a:off x="5724360" y="2133720"/>
            <a:ext cx="2592720" cy="187308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6"/>
          <a:stretch/>
        </p:blipFill>
        <p:spPr>
          <a:xfrm>
            <a:off x="5543640" y="4076640"/>
            <a:ext cx="3600360" cy="18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А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95280" y="836640"/>
            <a:ext cx="8229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Джерела живлення РЕ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3640" y="1125360"/>
            <a:ext cx="26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Згладжувальні фільтр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1619280" y="2708280"/>
            <a:ext cx="604836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А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95280" y="836640"/>
            <a:ext cx="8229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Джерела живлення РЕ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203640" y="1125360"/>
            <a:ext cx="26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Згладжувальні фільтр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4500720" y="1628640"/>
            <a:ext cx="4321080" cy="165600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324000" y="1700280"/>
            <a:ext cx="3924000" cy="112392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2843280" y="3645000"/>
            <a:ext cx="3311280" cy="177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А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95280" y="836640"/>
            <a:ext cx="8229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Джерела живлення РЕ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1979640" y="1628640"/>
            <a:ext cx="4535640" cy="417852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5508720" y="1197000"/>
            <a:ext cx="26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Параметричні стабілізатор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340000" y="1197000"/>
            <a:ext cx="26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Стабілізатор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А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95280" y="836640"/>
            <a:ext cx="8229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Джерела живлення РЕ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059280" y="1197000"/>
            <a:ext cx="26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Стабілізатор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843280" y="1628640"/>
            <a:ext cx="26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Компенсаційні стабілізатор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1476360" y="2492280"/>
            <a:ext cx="6121440" cy="20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А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95280" y="836640"/>
            <a:ext cx="8229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Джерела живлення РЕ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92360" y="1197000"/>
            <a:ext cx="266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Стабілізатор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132000" y="1484280"/>
            <a:ext cx="266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Імпульсні стабілізатор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1835280" y="2060640"/>
            <a:ext cx="532908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А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95280" y="836640"/>
            <a:ext cx="8229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Джерела живлення РЕ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92360" y="1197000"/>
            <a:ext cx="266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Стабілізатор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132000" y="1484280"/>
            <a:ext cx="266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Імпульсні стабілізатор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900000" y="2205000"/>
            <a:ext cx="6840720" cy="32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А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360" y="692280"/>
            <a:ext cx="8229600" cy="38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Джерело електричної енергі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611280" y="1557360"/>
            <a:ext cx="2647800" cy="13334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3708360" y="1628640"/>
            <a:ext cx="1866960" cy="15811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843280" y="126828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Arial"/>
              </a:rPr>
              <a:t>Джерело постійної напруг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2997360"/>
            <a:ext cx="309564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Точка а – режим холостого ход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826920" y="3284640"/>
            <a:ext cx="1190880" cy="2761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250920" y="3716280"/>
            <a:ext cx="309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Точка б – режим короткого замкненн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900000" y="4005360"/>
            <a:ext cx="1123920" cy="2761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5"/>
          <a:stretch/>
        </p:blipFill>
        <p:spPr>
          <a:xfrm>
            <a:off x="6877080" y="2205000"/>
            <a:ext cx="1152360" cy="2383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5003640" y="1628640"/>
            <a:ext cx="259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Пряма 1 – нелінійна ВА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076720" y="1989000"/>
            <a:ext cx="2448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Пряма 2 – описується наступним рівнянням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6"/>
          <a:stretch/>
        </p:blipFill>
        <p:spPr>
          <a:xfrm>
            <a:off x="5796000" y="3141720"/>
            <a:ext cx="1076400" cy="2379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5724360" y="2565360"/>
            <a:ext cx="2881440" cy="58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xx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напруга при розімкненому ключі 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877080" y="3068640"/>
            <a:ext cx="144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внутрішній опір джере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7"/>
          <a:stretch/>
        </p:blipFill>
        <p:spPr>
          <a:xfrm>
            <a:off x="611280" y="4508640"/>
            <a:ext cx="1800000" cy="12254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79280" y="5805360"/>
            <a:ext cx="352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Еквівалента схема - ідеальне джерело ЕРС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8"/>
          <a:stretch/>
        </p:blipFill>
        <p:spPr>
          <a:xfrm>
            <a:off x="2556000" y="4437000"/>
            <a:ext cx="1512720" cy="12240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9"/>
          <a:stretch/>
        </p:blipFill>
        <p:spPr>
          <a:xfrm>
            <a:off x="395280" y="6308640"/>
            <a:ext cx="1190520" cy="2383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10"/>
          <a:stretch/>
        </p:blipFill>
        <p:spPr>
          <a:xfrm>
            <a:off x="1835280" y="6308640"/>
            <a:ext cx="581040" cy="2383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11"/>
          <a:stretch/>
        </p:blipFill>
        <p:spPr>
          <a:xfrm>
            <a:off x="5219640" y="3645000"/>
            <a:ext cx="1800360" cy="13683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4859280" y="5084640"/>
            <a:ext cx="352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Еквівалента схема - ідеальне джерело струму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2"/>
          <a:stretch/>
        </p:blipFill>
        <p:spPr>
          <a:xfrm>
            <a:off x="7093080" y="3645000"/>
            <a:ext cx="1265040" cy="11271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13"/>
          <a:stretch/>
        </p:blipFill>
        <p:spPr>
          <a:xfrm>
            <a:off x="4427640" y="5516640"/>
            <a:ext cx="1942920" cy="5047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14"/>
          <a:stretch/>
        </p:blipFill>
        <p:spPr>
          <a:xfrm>
            <a:off x="4427640" y="6093000"/>
            <a:ext cx="961920" cy="2379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15"/>
          <a:stretch/>
        </p:blipFill>
        <p:spPr>
          <a:xfrm>
            <a:off x="5508720" y="6093000"/>
            <a:ext cx="542880" cy="2379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16"/>
          <a:stretch/>
        </p:blipFill>
        <p:spPr>
          <a:xfrm>
            <a:off x="6659640" y="5445000"/>
            <a:ext cx="743040" cy="2764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7524720" y="5445000"/>
            <a:ext cx="1478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внутрішня провідність джерел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7"/>
          <a:stretch/>
        </p:blipFill>
        <p:spPr>
          <a:xfrm>
            <a:off x="4427640" y="6453360"/>
            <a:ext cx="571320" cy="23796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18"/>
          <a:stretch/>
        </p:blipFill>
        <p:spPr>
          <a:xfrm>
            <a:off x="5219640" y="6453360"/>
            <a:ext cx="619200" cy="23796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19"/>
          <a:stretch/>
        </p:blipFill>
        <p:spPr>
          <a:xfrm>
            <a:off x="6588000" y="5877000"/>
            <a:ext cx="962280" cy="5428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7667640" y="5950080"/>
            <a:ext cx="1297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Максимальна потужніст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0"/>
          <a:stretch/>
        </p:blipFill>
        <p:spPr>
          <a:xfrm>
            <a:off x="6659640" y="6453360"/>
            <a:ext cx="723960" cy="23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А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95280" y="836640"/>
            <a:ext cx="8229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Джерела живлення РЕ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492360" y="1197000"/>
            <a:ext cx="266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Стабілізатор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132000" y="1484280"/>
            <a:ext cx="266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Імпульсні стабілізатор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611280" y="2205000"/>
            <a:ext cx="3384360" cy="237636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2"/>
          <a:stretch/>
        </p:blipFill>
        <p:spPr>
          <a:xfrm>
            <a:off x="5003640" y="1989000"/>
            <a:ext cx="367380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А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68360" y="764640"/>
            <a:ext cx="8229600" cy="3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ПАСИВНІ ЕЛЕМЕНТИ ЕЛЕКТРИЧНИХ КІ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611280" y="1700280"/>
            <a:ext cx="1638360" cy="9367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3276720" y="1700280"/>
            <a:ext cx="1466640" cy="92376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3995640" y="119700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Резист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84360" y="2781360"/>
            <a:ext cx="158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Лінійний резист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32000" y="2708280"/>
            <a:ext cx="194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Нелінійний резист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4284720" y="3141720"/>
            <a:ext cx="2028600" cy="169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4"/>
          <a:stretch/>
        </p:blipFill>
        <p:spPr>
          <a:xfrm>
            <a:off x="1116000" y="3284640"/>
            <a:ext cx="68580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195640" y="3357720"/>
            <a:ext cx="151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статичний опі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5"/>
          <a:stretch/>
        </p:blipFill>
        <p:spPr>
          <a:xfrm>
            <a:off x="1042920" y="4149720"/>
            <a:ext cx="743040" cy="50472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2268360" y="4221000"/>
            <a:ext cx="20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диференційний опі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6"/>
          <a:stretch/>
        </p:blipFill>
        <p:spPr>
          <a:xfrm>
            <a:off x="3059280" y="4869000"/>
            <a:ext cx="863280" cy="6476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4572000" y="4869000"/>
            <a:ext cx="4032360" cy="92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Symbol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итомий опір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 – </a:t>
            </a:r>
            <a:r>
              <a:rPr b="0" lang="uk-U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вжина провідника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 – </a:t>
            </a:r>
            <a:r>
              <a:rPr b="0" lang="uk-U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оща поперечного перерізу провідн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А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82296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ПАСИВНІ ЕЛЕМЕНТИ ЕЛЕКТРИЧНИХ КІ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564000" y="162864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Індуктивні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042920" y="2205000"/>
            <a:ext cx="1476360" cy="5047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3419640" y="2133720"/>
            <a:ext cx="1495440" cy="5331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5435640" y="2133720"/>
            <a:ext cx="2276280" cy="20476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900000" y="292428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Лінійна індуктивні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203640" y="2852640"/>
            <a:ext cx="20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Нелінійна індуктивні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>
            <a:off x="1187280" y="3500280"/>
            <a:ext cx="843120" cy="463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5"/>
          <a:stretch/>
        </p:blipFill>
        <p:spPr>
          <a:xfrm>
            <a:off x="1187280" y="4221000"/>
            <a:ext cx="986040" cy="26064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6"/>
          <a:stretch/>
        </p:blipFill>
        <p:spPr>
          <a:xfrm>
            <a:off x="1187280" y="4724280"/>
            <a:ext cx="890640" cy="46224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7"/>
          <a:stretch/>
        </p:blipFill>
        <p:spPr>
          <a:xfrm>
            <a:off x="1258920" y="5445000"/>
            <a:ext cx="320760" cy="23832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2268360" y="3645000"/>
            <a:ext cx="136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індуктивніст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411280" y="4221000"/>
            <a:ext cx="1440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потокозчепленн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411280" y="4724280"/>
            <a:ext cx="180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Потік магнітного пол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908000" y="5445000"/>
            <a:ext cx="1656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Вебер-амперна характеристик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8"/>
          <a:stretch/>
        </p:blipFill>
        <p:spPr>
          <a:xfrm>
            <a:off x="5219640" y="4724280"/>
            <a:ext cx="689040" cy="439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6227640" y="4724280"/>
            <a:ext cx="122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Статична індуктивніст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372360" y="5734080"/>
            <a:ext cx="122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Диференційна  індуктивніст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9"/>
          <a:stretch/>
        </p:blipFill>
        <p:spPr>
          <a:xfrm>
            <a:off x="5148360" y="5661000"/>
            <a:ext cx="795240" cy="51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А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ПАСИВНІ ЕЛЕМЕНТИ ЕЛЕКТРИЧНИХ КІ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76720" y="1557360"/>
            <a:ext cx="24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Ємні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971640" y="2060640"/>
            <a:ext cx="1400040" cy="5238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3348000" y="2133720"/>
            <a:ext cx="1438200" cy="60948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900000" y="278136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Лінійний конденсат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76720" y="2852640"/>
            <a:ext cx="21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Нелінійний конденсат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5796000" y="1916280"/>
            <a:ext cx="2467080" cy="20192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4"/>
          <a:stretch/>
        </p:blipFill>
        <p:spPr>
          <a:xfrm>
            <a:off x="1187280" y="3789360"/>
            <a:ext cx="760680" cy="4636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5"/>
          <a:stretch/>
        </p:blipFill>
        <p:spPr>
          <a:xfrm>
            <a:off x="1258920" y="4508640"/>
            <a:ext cx="689040" cy="46332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2340000" y="4581360"/>
            <a:ext cx="122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Статична ємніст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411280" y="5084640"/>
            <a:ext cx="122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Диференційна  ємніст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6"/>
          <a:stretch/>
        </p:blipFill>
        <p:spPr>
          <a:xfrm>
            <a:off x="1258920" y="5013360"/>
            <a:ext cx="795240" cy="51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АОСТ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800"/>
            </a:b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Активні елементи</a:t>
            </a:r>
            <a:br>
              <a:rPr sz="2400"/>
            </a:b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Напівпровідниковий ді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684360" y="1341360"/>
            <a:ext cx="753840" cy="97956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2340000" y="1413000"/>
            <a:ext cx="1563840" cy="7761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4427640" y="1341360"/>
            <a:ext cx="2554200" cy="136044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4"/>
          <a:stretch/>
        </p:blipFill>
        <p:spPr>
          <a:xfrm>
            <a:off x="1187280" y="3284640"/>
            <a:ext cx="2598840" cy="197964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5"/>
          <a:stretch/>
        </p:blipFill>
        <p:spPr>
          <a:xfrm>
            <a:off x="4716360" y="3500280"/>
            <a:ext cx="2463840" cy="19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АОСТ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800"/>
            </a:b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Активні елементи</a:t>
            </a:r>
            <a:br>
              <a:rPr sz="2400"/>
            </a:b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Напівпровідниковий ді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258920" y="1989000"/>
            <a:ext cx="669780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АОСТ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800"/>
            </a:b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Активні елементи</a:t>
            </a:r>
            <a:br>
              <a:rPr sz="2400"/>
            </a:b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Біполярний транзист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826920" y="1484280"/>
            <a:ext cx="1860840" cy="129708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3924360" y="1413000"/>
            <a:ext cx="5040360" cy="287964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84720" y="4581360"/>
            <a:ext cx="27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Модель Еберса-Мол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324000" y="3141720"/>
            <a:ext cx="424800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АОСТ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800"/>
            </a:b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Активні елементи</a:t>
            </a:r>
            <a:br>
              <a:rPr sz="2400"/>
            </a:b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Польовий транзист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5724360" y="1484280"/>
            <a:ext cx="3138480" cy="136044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468360" y="1557360"/>
            <a:ext cx="4443480" cy="191304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1116000" y="3860640"/>
            <a:ext cx="2879640" cy="108108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4"/>
          <a:stretch/>
        </p:blipFill>
        <p:spPr>
          <a:xfrm>
            <a:off x="4788000" y="3860640"/>
            <a:ext cx="3744720" cy="19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4T20:11:55Z</dcterms:created>
  <dc:creator>MX</dc:creator>
  <dc:description/>
  <dc:language>en-US</dc:language>
  <cp:lastModifiedBy>MX</cp:lastModifiedBy>
  <dcterms:modified xsi:type="dcterms:W3CDTF">2020-09-29T17:22:05Z</dcterms:modified>
  <cp:revision>30</cp:revision>
  <dc:subject/>
  <dc:title>ТЕОРІЯ ЕЛЕКТРИЧНИХ КІЛ</dc:title>
</cp:coreProperties>
</file>