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7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52.wmf" ContentType="image/x-wmf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25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F8B-D6D4-4F8A-837A-7F66B0EF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51B-57F9-46C8-B543-AA16DADD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8C2-9B14-48D2-97D9-3D5005B8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C16-6238-4F80-94AE-FECB2DB6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057-F90B-4698-BA4B-61B8C81A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F45-FC61-4A2D-B708-9BE8D91D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05E-EA42-4B63-99B3-5332D3EF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F5D-D367-4B92-A194-09DDADB5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5F6-B04C-4F13-AAE4-CD52007D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B01-49E2-469D-9444-D42665B2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D8C-D046-419C-B114-BAA26998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3F9-70BD-4BF4-9D10-2C16D32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47C-EA75-4288-A0BA-2BD6F0317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МЕНТНА БАЗА А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197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руктурна схема  джерел жив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057640" cy="15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5113440" cy="21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661000"/>
            <a:ext cx="79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Тр – трансформатор, В – випрямляч, Ф – фільтр, Ст – стабілізатор, І - інвер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хема із безтрансформаторним в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16600" y="3573360"/>
            <a:ext cx="3227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268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жерела напруги та стру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6247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016000" cy="129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дно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340000" y="429264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989000"/>
            <a:ext cx="1657440" cy="100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226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1125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прямляч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162864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вохнапівперіодні випрямляч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195640" cy="194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724360" y="2133720"/>
            <a:ext cx="259272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543640" y="4076640"/>
            <a:ext cx="360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11253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гладжувальні філь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92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11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аметрич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1197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162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енсацій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21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жерело електричної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6478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866960" cy="158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1268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жерело постійної напр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997360"/>
            <a:ext cx="30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а – режим холостого х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1190880" cy="27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ка б – режим короткого замкн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123920" cy="27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152360" cy="238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1628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1 – нелінійна В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1989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яма 2 – описується наступним рівнянн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796000" y="3141720"/>
            <a:ext cx="1076400" cy="237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24360" y="2565360"/>
            <a:ext cx="28814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пруга при розімкненому ключі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опір джер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800000" cy="122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8053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ЕР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56000" y="4437000"/>
            <a:ext cx="151272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6308640"/>
            <a:ext cx="1190520" cy="23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1835280" y="6308640"/>
            <a:ext cx="581040" cy="23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219640" y="3645000"/>
            <a:ext cx="180036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508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вівалента схема - ідеальне джерело стру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3080" y="3645000"/>
            <a:ext cx="126504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4427640" y="551664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4427640" y="6093000"/>
            <a:ext cx="9619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508720" y="6093000"/>
            <a:ext cx="54288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6659640" y="5445000"/>
            <a:ext cx="743040" cy="27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5445000"/>
            <a:ext cx="14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нутрішня провідність джере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4427640" y="64533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219640" y="6453360"/>
            <a:ext cx="619200" cy="23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6588000" y="5877000"/>
            <a:ext cx="9622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67640" y="595008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аксимальна потуж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6659640" y="6453360"/>
            <a:ext cx="7239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жерела живлення Р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119700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48428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ульсні стабілізат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673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3836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466640" cy="92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95640" y="119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78136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708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резис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202860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68580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3357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ч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743040" cy="50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68360" y="422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ференційний опі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86328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869000"/>
            <a:ext cx="403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омий опі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ровідни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оперечного перерізу прові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476360" cy="50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4954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276280" cy="2047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852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а індуктивн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843120" cy="46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7280" y="4221000"/>
            <a:ext cx="986040" cy="260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187280" y="4724280"/>
            <a:ext cx="890640" cy="46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258920" y="5445000"/>
            <a:ext cx="320760" cy="23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68360" y="3645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221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окозчепл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472428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тік магнітного 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445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ебер-амперна характерис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5219640" y="4724280"/>
            <a:ext cx="689040" cy="439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27640" y="47242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73408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індуктив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148360" y="566100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СИВНІ ЕЛЕМЕНТИ ЕЛЕКТРИЧНИХ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557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м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40004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143820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2781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52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лінійний конденс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6000" y="1916280"/>
            <a:ext cx="246708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87280" y="3789360"/>
            <a:ext cx="760680" cy="46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89040" cy="46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40000" y="4581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ична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08464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иференційна  ємн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58920" y="5013360"/>
            <a:ext cx="7952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5384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563840" cy="77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1341360"/>
            <a:ext cx="255420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2598840" cy="19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2463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півпровідниковий ді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7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полярн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860840" cy="129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504036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847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одель Еберса-Мо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4248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О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ктивні елементи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ьовий транзи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138480" cy="1360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8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37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20:11:55Z</dcterms:created>
  <dc:creator>MX</dc:creator>
  <dc:description/>
  <dc:language>en-US</dc:language>
  <cp:lastModifiedBy>MX</cp:lastModifiedBy>
  <dcterms:modified xsi:type="dcterms:W3CDTF">2020-09-29T17:22:05Z</dcterms:modified>
  <cp:revision>30</cp:revision>
  <dc:subject/>
  <dc:title>ТЕОРІЯ ЕЛЕКТРИЧНИХ КІЛ</dc:title>
</cp:coreProperties>
</file>