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7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52.wmf" ContentType="image/x-wmf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4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067-A31F-41BB-ADA1-215E86EF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8567-87E8-47A5-87F7-545791FA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CF45-DFC2-4D9E-9E48-BD809A00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DAA-67F2-491D-B9CC-B5279B04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16C-616B-4D27-8874-F26FB1A0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072-B7E2-4CBE-9F99-FF31663C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095-3A55-4AD2-9DB1-DA779E4C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2CDC-60CC-4C5E-9C1A-507D9376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48B8-3D8D-43DF-8EFD-412DCBEF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A97-0FA4-449B-93C1-48AE1FDD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8C61-AD1F-47A2-9BC3-7E9CCBE8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A8AE-7723-4BF5-B882-FC64B3F8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D650-A312-48DB-B6AD-1DE381952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ОВА ОПТОСХЕМОТЕХ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МЕНТНА БАЗА А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1197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руктурна схема  джерел жив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057640" cy="15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5113440" cy="21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661000"/>
            <a:ext cx="79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р – трансформатор, В – випрямляч, Ф – фільтр, Ст – стабілізатор, І - інвер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хема із безтрансформаторним в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916600" y="3573360"/>
            <a:ext cx="3227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12682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жерела напруги та стру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6247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016000" cy="129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дно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273708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340000" y="429264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989000"/>
            <a:ext cx="165744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226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вох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195640" cy="194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724360" y="2133720"/>
            <a:ext cx="2592720" cy="187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543640" y="4076640"/>
            <a:ext cx="360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0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21080" cy="165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92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311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535640" cy="4178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0872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аметрич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1628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енсацій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21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ерело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1866960" cy="158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1268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жерело постійної напр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30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а – режим холостого х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1190880" cy="27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71628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б – режим короткого замкн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123920" cy="27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1152360" cy="23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3640" y="1628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1 – нелінійна 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1989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2 – описується наступним рівнянн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796000" y="3141720"/>
            <a:ext cx="1076400" cy="23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24360" y="2565360"/>
            <a:ext cx="28814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пруга при розімкненому ключі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306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опір джер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800000" cy="122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80536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ЕР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56000" y="443700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95280" y="6308640"/>
            <a:ext cx="11905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1835280" y="6308640"/>
            <a:ext cx="581040" cy="23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219640" y="364500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508464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стру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3080" y="3645000"/>
            <a:ext cx="126504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4427640" y="551664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4427640" y="6093000"/>
            <a:ext cx="9619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5508720" y="6093000"/>
            <a:ext cx="542880" cy="23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659640" y="5445000"/>
            <a:ext cx="743040" cy="27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4720" y="5445000"/>
            <a:ext cx="14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нутрішня провідність джере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4427640" y="6453360"/>
            <a:ext cx="57132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5219640" y="6453360"/>
            <a:ext cx="619200" cy="23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6588000" y="5877000"/>
            <a:ext cx="962280" cy="54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67640" y="595008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аксимальна потуж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6659640" y="6453360"/>
            <a:ext cx="7239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673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63836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1466640" cy="923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95640" y="119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и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78136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708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2028600" cy="169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16000" y="3284640"/>
            <a:ext cx="68580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3357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ч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743040" cy="50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68360" y="42210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ференцій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86328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4869000"/>
            <a:ext cx="40323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омий опі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жина провідни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оперечного перерізу прові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147636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49544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2276280" cy="2047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85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843120" cy="463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7280" y="4221000"/>
            <a:ext cx="986040" cy="26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187280" y="4724280"/>
            <a:ext cx="890640" cy="46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258920" y="5445000"/>
            <a:ext cx="320760" cy="2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68360" y="364500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42210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окозчепл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47242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ік магнітного п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445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ебер-амперна характери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219640" y="4724280"/>
            <a:ext cx="689040" cy="439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27640" y="47242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7340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48360" y="566100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557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м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400040" cy="52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1438200" cy="609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2781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52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46708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87280" y="3789360"/>
            <a:ext cx="760680" cy="46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689040" cy="46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40000" y="4581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508464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258920" y="501336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5384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156384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1341360"/>
            <a:ext cx="255420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2598840" cy="19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716360" y="3500280"/>
            <a:ext cx="2463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697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іполярн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86084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504036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45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одель Еберса-Мо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42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льов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138480" cy="136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443480" cy="1913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8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37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20:11:55Z</dcterms:created>
  <dc:creator>MX</dc:creator>
  <dc:description/>
  <dc:language>en-US</dc:language>
  <cp:lastModifiedBy>MX</cp:lastModifiedBy>
  <dcterms:modified xsi:type="dcterms:W3CDTF">2020-09-29T17:22:05Z</dcterms:modified>
  <cp:revision>30</cp:revision>
  <dc:subject/>
  <dc:title>ТЕОРІЯ ЕЛЕКТРИЧНИХ КІЛ</dc:title>
</cp:coreProperties>
</file>