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7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wmf" ContentType="image/x-wmf"/>
  <Override PartName="/ppt/media/image8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52.wmf" ContentType="image/x-wmf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4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8.png" ContentType="image/png"/>
  <Override PartName="/ppt/media/image50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F56-BC65-431A-BB3C-F000C8E2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F12-F814-4719-ABDB-9477470C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ACE6-6900-49E7-BA70-0C321672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F09-9362-42BC-8125-770B0225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9002-09DC-4AA9-B870-36AF0276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E0C4-204F-48FC-90A1-3D49A4F8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68C2-3DDE-46DE-9CD1-B0D48539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94F-1B7C-40C7-BC0C-DB313FE7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F0BF-72A5-482A-91B0-09F29328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14F-3AB3-4963-A0F5-EEC8DA07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459F-C52C-447C-B934-C2294D61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2E01-8416-403A-B7B1-119FE482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1A83-CF2F-46DF-99BB-B5C411CC5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ОВА ОПТОСХЕМОТЕХНІ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МЕНТНА БАЗА А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1197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руктурна схема  джерел живл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057640" cy="15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5113440" cy="2199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661000"/>
            <a:ext cx="79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р – трансформатор, В – випрямляч, Ф – фільтр, Ст – стабілізатор, І - інвер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3577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хема із безтрансформаторним вх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916600" y="3573360"/>
            <a:ext cx="3227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12682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жерела напруги та стру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6247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016000" cy="129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дно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560600" cy="115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2737080" cy="194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340000" y="429264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989000"/>
            <a:ext cx="1657440" cy="100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372360" y="3429000"/>
            <a:ext cx="226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вох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195640" cy="194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627280" y="206064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724360" y="2133720"/>
            <a:ext cx="2592720" cy="187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543640" y="4076640"/>
            <a:ext cx="3600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04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21080" cy="165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924000" cy="1123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33112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535640" cy="4178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50872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раметрич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1628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енсацій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121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684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ерело електричної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1866960" cy="158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43280" y="12682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Джерело постійної напр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30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а – режим холостого х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1190880" cy="27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371628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б – режим короткого замкн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1123920" cy="27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1152360" cy="238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03640" y="1628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1 – нелінійна 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1989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2 – описується наступним рівнянн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796000" y="3141720"/>
            <a:ext cx="1076400" cy="23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24360" y="2565360"/>
            <a:ext cx="28814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пруга при розімкненому ключі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3068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нутрішній опір джер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800000" cy="122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580536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ЕР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556000" y="4437000"/>
            <a:ext cx="151272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95280" y="6308640"/>
            <a:ext cx="11905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1835280" y="6308640"/>
            <a:ext cx="581040" cy="238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219640" y="3645000"/>
            <a:ext cx="180036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508464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стру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3080" y="3645000"/>
            <a:ext cx="126504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4427640" y="5516640"/>
            <a:ext cx="194292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4427640" y="6093000"/>
            <a:ext cx="961920" cy="23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5508720" y="6093000"/>
            <a:ext cx="542880" cy="23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6659640" y="5445000"/>
            <a:ext cx="743040" cy="27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24720" y="5445000"/>
            <a:ext cx="14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нутрішня провідність джере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4427640" y="6453360"/>
            <a:ext cx="57132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5219640" y="6453360"/>
            <a:ext cx="619200" cy="237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6588000" y="5877000"/>
            <a:ext cx="962280" cy="54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67640" y="595008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аксимальна потуж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6659640" y="6453360"/>
            <a:ext cx="7239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673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1638360" cy="93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1466640" cy="923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95640" y="119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и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78136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2708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2028600" cy="169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16000" y="3284640"/>
            <a:ext cx="68580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3357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ч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743040" cy="504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68360" y="42210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иференцій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86328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4869000"/>
            <a:ext cx="40323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омий опі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жина провідни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 поперечного перерізу провід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147636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149544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2276280" cy="2047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2924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285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843120" cy="463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7280" y="4221000"/>
            <a:ext cx="986040" cy="26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187280" y="4724280"/>
            <a:ext cx="890640" cy="46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258920" y="5445000"/>
            <a:ext cx="320760" cy="23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68360" y="364500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422100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окозчеплен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47242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ік магнітного п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44500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ебер-амперна характери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219640" y="4724280"/>
            <a:ext cx="689040" cy="439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27640" y="47242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7340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148360" y="566100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557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м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1400040" cy="52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1438200" cy="609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2781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852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46708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87280" y="3789360"/>
            <a:ext cx="760680" cy="46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689040" cy="46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40000" y="4581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508464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258920" y="501336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5384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156384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27640" y="1341360"/>
            <a:ext cx="2554200" cy="1360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7280" y="3284640"/>
            <a:ext cx="2598840" cy="19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716360" y="3500280"/>
            <a:ext cx="2463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697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іполярн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860840" cy="12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5040360" cy="28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84720" y="45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одель Еберса-Мо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4248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льов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138480" cy="136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443480" cy="1913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879640" cy="10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37447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20:11:55Z</dcterms:created>
  <dc:creator>MX</dc:creator>
  <dc:description/>
  <dc:language>en-US</dc:language>
  <cp:lastModifiedBy>MX</cp:lastModifiedBy>
  <dcterms:modified xsi:type="dcterms:W3CDTF">2020-09-29T17:22:05Z</dcterms:modified>
  <cp:revision>30</cp:revision>
  <dc:subject/>
  <dc:title>ТЕОРІЯ ЕЛЕКТРИЧНИХ КІЛ</dc:title>
</cp:coreProperties>
</file>