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51.png" ContentType="image/png"/>
  <Override PartName="/ppt/media/image47.wmf" ContentType="image/x-wmf"/>
  <Override PartName="/ppt/media/image46.wmf" ContentType="image/x-wmf"/>
  <Override PartName="/ppt/media/image45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wmf" ContentType="image/x-wmf"/>
  <Override PartName="/ppt/media/image8.png" ContentType="image/png"/>
  <Override PartName="/ppt/media/image3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52.wmf" ContentType="image/x-wmf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54.wmf" ContentType="image/x-wmf"/>
  <Override PartName="/ppt/media/image71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25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8.png" ContentType="image/png"/>
  <Override PartName="/ppt/media/image50.wmf" ContentType="image/x-wmf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5259-BA0E-48EE-9C92-A76FEB6E4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A0E3-ABA8-40B9-916B-808018E6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3931-7AF4-4C7D-8753-1D88FA1E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0F61-88D7-4EF4-8AAD-72EB44B26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EE3A-88A9-428E-A2D0-0624FE0F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1FB4-2751-431D-9898-D6F33AF2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25AF-5740-49D3-9D62-7617F403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2774-0ACD-4350-B915-B28E59B9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D01C-3853-48AC-A767-B2FD14FC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3437-4F3A-4261-9898-28249BAC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0C97-B8A8-478A-BA29-AA1E2DCA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DA9C-20F9-4EDA-90D1-973CFC5B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ED68-D60D-45B7-AA46-6DC8AF128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wmf"/><Relationship Id="rId3" Type="http://schemas.openxmlformats.org/officeDocument/2006/relationships/image" Target="../media/image53.png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АНАЛОГОВА ОПТОСХЕМОТЕХНІ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ЛЕМЕНТНА БАЗА А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119700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руктурна схема  джерел живл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057640" cy="1542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5113440" cy="21999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11280" y="5661000"/>
            <a:ext cx="792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Тр – трансформатор, В – випрямляч, Ф – фільтр, Ст – стабілізатор, І - інвер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3357720"/>
            <a:ext cx="374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хема із безтрансформаторним вход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916600" y="3573360"/>
            <a:ext cx="3227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126828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жерела напруги та стру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624720" cy="27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08360" y="1125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прямляч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2016000" cy="1297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987640" y="162864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днонапівперіодні випрямляч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560600" cy="1152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484360" y="2060640"/>
            <a:ext cx="2737080" cy="1944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2340000" y="4292640"/>
            <a:ext cx="2952720" cy="100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6443640" y="1989000"/>
            <a:ext cx="1657440" cy="1008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6372360" y="3429000"/>
            <a:ext cx="2268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08360" y="1125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прямляч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87640" y="162864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вохнапівперіодні випрямляч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2195640" cy="1944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68360" y="4437000"/>
            <a:ext cx="1728720" cy="1511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627280" y="206064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2556000" y="4221000"/>
            <a:ext cx="2160360" cy="1440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5724360" y="2133720"/>
            <a:ext cx="2592720" cy="1873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5543640" y="4076640"/>
            <a:ext cx="36003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3640" y="1125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гладжувальні філь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6048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1125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гладжувальні філь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4321080" cy="1656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3924000" cy="1123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2843280" y="3645000"/>
            <a:ext cx="331128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4535640" cy="41785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50872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араметрич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5928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43280" y="162864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мпенсацій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61214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329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6840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жерело електричної енерг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2647800" cy="1333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708360" y="1628640"/>
            <a:ext cx="1866960" cy="1581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43280" y="126828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Джерело постійної напр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997360"/>
            <a:ext cx="3095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ка а – режим холостого х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26920" y="3284640"/>
            <a:ext cx="1190880" cy="276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3716280"/>
            <a:ext cx="30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ка б – режим короткого замкне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900000" y="4005360"/>
            <a:ext cx="1123920" cy="276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877080" y="2205000"/>
            <a:ext cx="1152360" cy="238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03640" y="16286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яма 1 – нелінійна В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1989000"/>
            <a:ext cx="24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яма 2 – описується наступним рівняння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5796000" y="3141720"/>
            <a:ext cx="1076400" cy="237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24360" y="2565360"/>
            <a:ext cx="288144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пруга при розімкненому ключі 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77080" y="306864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нутрішній опір джер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611280" y="4508640"/>
            <a:ext cx="1800000" cy="1225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5805360"/>
            <a:ext cx="35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квівалента схема - ідеальне джерело ЕР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2556000" y="4437000"/>
            <a:ext cx="1512720" cy="1224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395280" y="6308640"/>
            <a:ext cx="1190520" cy="238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1835280" y="6308640"/>
            <a:ext cx="581040" cy="238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5219640" y="3645000"/>
            <a:ext cx="1800360" cy="1368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859280" y="5084640"/>
            <a:ext cx="35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квівалента схема - ідеальне джерело стру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2"/>
          <a:stretch/>
        </p:blipFill>
        <p:spPr>
          <a:xfrm>
            <a:off x="7093080" y="3645000"/>
            <a:ext cx="1265040" cy="1127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3"/>
          <a:stretch/>
        </p:blipFill>
        <p:spPr>
          <a:xfrm>
            <a:off x="4427640" y="5516640"/>
            <a:ext cx="1942920" cy="504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4"/>
          <a:stretch/>
        </p:blipFill>
        <p:spPr>
          <a:xfrm>
            <a:off x="4427640" y="6093000"/>
            <a:ext cx="961920" cy="237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5"/>
          <a:stretch/>
        </p:blipFill>
        <p:spPr>
          <a:xfrm>
            <a:off x="5508720" y="6093000"/>
            <a:ext cx="542880" cy="237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6659640" y="5445000"/>
            <a:ext cx="743040" cy="276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24720" y="5445000"/>
            <a:ext cx="147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внутрішня провідність джере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7"/>
          <a:stretch/>
        </p:blipFill>
        <p:spPr>
          <a:xfrm>
            <a:off x="4427640" y="6453360"/>
            <a:ext cx="571320" cy="237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8"/>
          <a:stretch/>
        </p:blipFill>
        <p:spPr>
          <a:xfrm>
            <a:off x="5219640" y="6453360"/>
            <a:ext cx="619200" cy="237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9"/>
          <a:stretch/>
        </p:blipFill>
        <p:spPr>
          <a:xfrm>
            <a:off x="6588000" y="5877000"/>
            <a:ext cx="962280" cy="542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67640" y="5950080"/>
            <a:ext cx="12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Максимальна потуж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0"/>
          <a:stretch/>
        </p:blipFill>
        <p:spPr>
          <a:xfrm>
            <a:off x="6659640" y="6453360"/>
            <a:ext cx="7239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3384360" cy="2376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003640" y="1989000"/>
            <a:ext cx="3673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1638360" cy="936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1466640" cy="923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95640" y="1197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зис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2781360"/>
            <a:ext cx="15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ий резис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32000" y="27082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ий резис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284720" y="3141720"/>
            <a:ext cx="2028600" cy="169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16000" y="3284640"/>
            <a:ext cx="68580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95640" y="335772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атичний опі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042920" y="4149720"/>
            <a:ext cx="743040" cy="504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68360" y="422100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иференційний опі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3059280" y="4869000"/>
            <a:ext cx="863280" cy="647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0" y="4869000"/>
            <a:ext cx="40323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томий опір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–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жина провідни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–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 поперечного перерізу провід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162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ндуктив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1476360" cy="50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19640" y="2133720"/>
            <a:ext cx="1495440" cy="533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435640" y="2133720"/>
            <a:ext cx="2276280" cy="2047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00000" y="2924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а індуктивні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3640" y="2852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а індуктивні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87280" y="3500280"/>
            <a:ext cx="843120" cy="463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87280" y="4221000"/>
            <a:ext cx="986040" cy="260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1187280" y="4724280"/>
            <a:ext cx="890640" cy="462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258920" y="5445000"/>
            <a:ext cx="320760" cy="238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268360" y="3645000"/>
            <a:ext cx="13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422100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токозчепленн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11280" y="472428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тік магнітного п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5445000"/>
            <a:ext cx="165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Вебер-амперна характерис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5219640" y="4724280"/>
            <a:ext cx="689040" cy="439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227640" y="472428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татична 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573408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Диференційна  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5148360" y="5661000"/>
            <a:ext cx="795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1557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Єм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1400040" cy="52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348000" y="2133720"/>
            <a:ext cx="1438200" cy="609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00000" y="2781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ий конденс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2852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ий конденс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796000" y="1916280"/>
            <a:ext cx="2467080" cy="2019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187280" y="3789360"/>
            <a:ext cx="760680" cy="463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258920" y="4508640"/>
            <a:ext cx="689040" cy="463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340000" y="458136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татична єм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11280" y="508464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Диференційна  єм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258920" y="5013360"/>
            <a:ext cx="795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півпровідниковий ді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53840" cy="979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340000" y="1413000"/>
            <a:ext cx="1563840" cy="776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427640" y="1341360"/>
            <a:ext cx="2554200" cy="1360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87280" y="3284640"/>
            <a:ext cx="2598840" cy="1979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716360" y="3500280"/>
            <a:ext cx="24638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півпровідниковий ді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6978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Біполярний транзи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1860840" cy="1297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24360" y="1413000"/>
            <a:ext cx="5040360" cy="2879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84720" y="45813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одель Еберса-Мо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24000" y="3141720"/>
            <a:ext cx="4248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ольовий транзи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724360" y="1484280"/>
            <a:ext cx="3138480" cy="1360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4443480" cy="1913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116000" y="3860640"/>
            <a:ext cx="2879640" cy="1081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788000" y="3860640"/>
            <a:ext cx="374472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20:11:55Z</dcterms:created>
  <dc:creator>MX</dc:creator>
  <dc:description/>
  <dc:language>en-US</dc:language>
  <cp:lastModifiedBy>MX</cp:lastModifiedBy>
  <dcterms:modified xsi:type="dcterms:W3CDTF">2020-09-29T17:22:05Z</dcterms:modified>
  <cp:revision>30</cp:revision>
  <dc:subject/>
  <dc:title>ТЕОРІЯ ЕЛЕКТРИЧНИХ КІЛ</dc:title>
</cp:coreProperties>
</file>