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9.jpeg" ContentType="image/jpeg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B4E-302C-42A5-BF79-D00366D2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46A-FD06-49A5-8BB9-B8AD1E14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9C7-3644-4A9C-96C1-4807158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C01-A207-4DEC-B5B8-5CA5C0C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329E-DD5D-42D1-B40C-C5DD6185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4ED3-55A1-4C0A-B1A5-A3791C3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E12C-2C36-48D5-8595-238E4073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0BC-A221-452D-87EA-E155443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640E-B64E-46F1-B9C3-A014FB1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EB7-37BE-4DE9-8BC0-4F3BEE8E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53E2-42B3-4B53-AD7B-8FF30C03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224-9840-4939-96E9-9E840829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E3E-1EB9-41C8-9E1F-CFD5B53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DE4-B910-41BA-BB3F-C5AF552C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327A-DD93-4171-801D-2C3C98C7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D20C-4E77-470A-9A25-92FC1350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7B76-AAC2-4563-994C-6B81609C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A63-4F63-4231-86B8-B6AA831F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3D9-459C-4764-9649-B400DB7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B47-5424-4BDA-9467-9ADF59E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BCB-232B-4553-9E0B-B80974CD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86D-4E96-4758-9FBE-6A932393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E84-ADDD-4C34-BBC5-D1EB20A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EA6-4FAB-47B3-9D72-6B54FFA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A03D-A7BB-4DA9-943C-AE9D94EB5AFB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2D7-5358-4145-B272-78B4104E9021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13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языке UML взаимодействие элементов рассматривается в информационном аспекте их коммуникации, т. е. взаимодействующие объекты обмениваются между собой некоторой информацией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информация принимает форму законченных сообщений. Т.е. сообщение имеет не только информационное содержание, но и приобретает дополнительное свойство оказывать направленное влияние на своего получател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Это согласуется с принципами ООАП, когда любые виды информационного взаимодействия между элементами системы должны быть сведены к отправке и приему сообщений между ним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1. Для представления временных особенностей передачи и приема сообщений между объектами используется 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диаграмма последовательности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2. Для описания структурных особенностей взаимодействия объектов используется 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диаграмма кооперации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сновные полож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261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языке UML предусмотрены некоторые стандартные действия, выполняемые в ответ на получение соответствующего сообщения. Они могут быть явно указаны на диаграмме последовательности в форме стереотипа рядом с сообщением, к которому они относятс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all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вызвать) — сообщение, требующее вызова операции или процедуры принимающего объект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возвратить) — сообщение, возвращающее значение выполненной операции или процедуры вызвавшему ее объекту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reat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создать) — сообщение, требующее создания другого объекта для выполнения определенных действий. Созданный объект может получить фокус управления, а может и не получить его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destroy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уничтожить) — сообщение с явным требованием уничтожить соответствующий объект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1720" indent="-2617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end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" (послать) — обозначает посылку другому объекту некоторого сигнала, который асинхронно инициируется одним объектом и принимается (перехватывается) другим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тереотипы сообщений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136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347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качестве примера рассмотрим построение диаграммы последовательности для моделирования процесса телефонного разговора с использованием обычной телефонной сет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74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еобходимо расположить выбранные объекты. Абонентов следует рассматривать как актеров,— а — играет активную роль, а b — пассивную. Поэтому первый получает фокус управления сразу после своего появления в системе, а второй имеет только линию жизни. Коммутатор имеет постоянную активность. Разговор появляется только после установки соединения и уничтожается с его прекращением.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мер построения диаграмм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0" name="Object 10"/>
          <p:cNvGraphicFramePr/>
          <p:nvPr/>
        </p:nvGraphicFramePr>
        <p:xfrm>
          <a:off x="1763640" y="3789360"/>
          <a:ext cx="532764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789360"/>
                    <a:ext cx="532764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мер построения диаграмм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59" name="Object 10"/>
          <p:cNvGraphicFramePr/>
          <p:nvPr/>
        </p:nvGraphicFramePr>
        <p:xfrm>
          <a:off x="1042920" y="1368360"/>
          <a:ext cx="698508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68360"/>
                    <a:ext cx="698508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136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собенности взаимодействия элементов моделируемой системы могут быть представлены на диаграммах последовательности и кооперации. Если первая служит для визуализации временных аспектов взаимодействия, то диаграмма кооперации предназначена для спецификации структурных аспектов взаимодействия. Главная особенность диаграммы кооперации заключается в возможности графически представить не только последовательность взаимодействия, но и все структурные отношения между объектами, участвующими в этом взаимодейств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онятие кооперации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ollaboration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является одним из фундаментальных понятий в языке UML. Оно служит для обозначения множества взаимодействующих с определенной целью объектов в общем контексте моделируемой системы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Кооперация может быть представлена на двух уровнях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-3837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а уровне спецификации — показывает роли классификаторов и роли ассоциаций в рассматриваемом взаимодейств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-3837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а уровне примеров — указывает экземпляры и связи, образующие отдельные роли в кооперац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Назначени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менительно к объектам формат строки специфицирования  приобретает следующий вид: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&lt;Имя объекта&gt;' / ' &lt;Имя роли класса&gt; ':' &lt;Имя класса&gt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вся запись подчеркивается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кты. Мультиобъект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6" name="Object 9"/>
          <p:cNvGraphicFramePr/>
          <p:nvPr/>
        </p:nvGraphicFramePr>
        <p:xfrm>
          <a:off x="684360" y="3068640"/>
          <a:ext cx="7777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7777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1"/>
          <p:cNvSpPr/>
          <p:nvPr/>
        </p:nvSpPr>
        <p:spPr>
          <a:xfrm>
            <a:off x="395280" y="429264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Мультиобъект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multiobjec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представляет собой целое множество объектов на одном из концов ассоциации. На диаграмме кооперации Мультиобъект используется для того, чтобы показать операции и сигналы, которые адресованы множеству объектов, а не только одному их представителю.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0" name="Object 12"/>
          <p:cNvGraphicFramePr/>
          <p:nvPr/>
        </p:nvGraphicFramePr>
        <p:xfrm>
          <a:off x="6443640" y="4076640"/>
          <a:ext cx="2448000" cy="242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3640" y="4076640"/>
                    <a:ext cx="2448000" cy="24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Активный объект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active objec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имеет свою собственную нить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thread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управления и может инициировать деятельность по управлению другими объектам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Активные объекты. Мультиобъект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92" name="Object 14"/>
          <p:cNvGraphicFramePr/>
          <p:nvPr/>
        </p:nvGraphicFramePr>
        <p:xfrm>
          <a:off x="1908000" y="2492280"/>
          <a:ext cx="619308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61930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95" name="Object 16"/>
          <p:cNvGraphicFramePr/>
          <p:nvPr/>
        </p:nvGraphicFramePr>
        <p:xfrm>
          <a:off x="1116000" y="3751200"/>
          <a:ext cx="7201080" cy="265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751200"/>
                    <a:ext cx="720108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оставной объект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composite objec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или объект-контейнер предназначен для представления объекта, имеющего собственную структуру и внутренние потоки (нити) управления. Составной объект является экземпляром составного класса (класса-контейнера), который связан отношением агрегации или композиции со своими частями. Аналогичные отношения связывают между собой и соответствующие объекты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коопераци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ставной объект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09" name="Object 15"/>
          <p:cNvGraphicFramePr/>
          <p:nvPr/>
        </p:nvGraphicFramePr>
        <p:xfrm>
          <a:off x="2484360" y="3284640"/>
          <a:ext cx="4391280" cy="33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84640"/>
                    <a:ext cx="4391280" cy="33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Буч и Румбах определяют обязанность (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responsibility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) как "контракт или обязательство типа или класса"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-1400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Вопрос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Каков наиболее общий принцип распределения обязанностей между классами при объектно-ориентированном проектировании?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-1400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Решение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Назначить обязанность информационному эксперту — классу, у которого имеется информация, требуемая для выполнения обязанност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РИМЕР.</a:t>
            </a:r>
            <a:r>
              <a:rPr b="0" i="1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приложении системы розничной торговли некоторому классу необходимо знать общую сумму продаж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Вопрос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Какой класс должен отвечать за знание общей суммы продажи?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14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Решение.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огласно шаблону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нужно определить, объекты каких классов содержат информацию, необходимую для вычисления общей суммы продажи.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35" name="Object 14"/>
          <p:cNvGraphicFramePr/>
          <p:nvPr/>
        </p:nvGraphicFramePr>
        <p:xfrm>
          <a:off x="324000" y="1989000"/>
          <a:ext cx="792000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792000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837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еобходимо узнать стоимость всех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й продажи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sLineltem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и просуммировать эти промежуточ­ные суммы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Такой информацией обладает лишь экземпляр класса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(Продаж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837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Следовательно, с точки зрения шаблона 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объект класса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(Продаж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подходит для выполнения этой обязанности, т.е. является информационным экспертом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information 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50" name="Object 14"/>
          <p:cNvGraphicFramePr/>
          <p:nvPr/>
        </p:nvGraphicFramePr>
        <p:xfrm>
          <a:off x="684360" y="3933720"/>
          <a:ext cx="799128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33720"/>
                    <a:ext cx="79912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136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На диаграмме последовательности изображаются исключительно те объекты, которые непосредственно участвуют во взаимодействии и не показываются возможные статические ассоциации с другими объектам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ля диаграммы последовательности ключевым моментом является именно динамика взаимодействия объектов во времен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Диаграмма условно имеет два измер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ервое — слева направо в виде вертикальных линий, каждая из которых изображает линию жизни отдельного объекта, участвующего во взаимодействи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торое — вертикальная временная ось, направленная сверху вниз. Начальному моменту времени соответствует самая верхняя часть диаграммы. Сообщения изображаются в виде горизонтальных стрелок с именем сообщения и также образуют порядок по времени своего возникновения. Другими словами, сообщения, расположенные на диаграмме последовательности выше, инициируются раньше тех, которые расположены ниже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кт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267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днако на данном этапе выполнена не вся работа. Необходимы значения атрибутов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.quantity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.количество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и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SalesLineltem.price 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.цена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Объекту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известно количество товара и связанный с ним объект класса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ProductSpecification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 (ОписаниеТовар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Следовательно, в соответствии с шаблоном </a:t>
            </a:r>
            <a:r>
              <a:rPr b="1" lang="en-US" sz="1800" spc="-1" strike="noStrike">
                <a:solidFill>
                  <a:srgbClr val="00264c"/>
                </a:solidFill>
                <a:latin typeface="Times New Roman"/>
              </a:rPr>
              <a:t>Expert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промежуточную сумму должен вычислять объект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 </a:t>
            </a:r>
            <a:r>
              <a:rPr b="1" i="1" lang="en-US" sz="18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ПозицияПродажи).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Другими словами, на данном этапе рассмотрения объект этого класса является информационным экспертом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678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терминах диаграмм взаимодействий это означает, что объект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 (Продаж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должен передать сообщение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ubtotal (промежуточная сумм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каждому объекту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 (ПозицияПродажи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, а затем просуммировать по­лученные результаты. Этот процесс проиллюстрирован на следующем слайде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78" name="Object 17"/>
          <p:cNvGraphicFramePr/>
          <p:nvPr/>
        </p:nvGraphicFramePr>
        <p:xfrm>
          <a:off x="395280" y="2133720"/>
          <a:ext cx="828036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3720"/>
                    <a:ext cx="828036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95280" y="2566080"/>
            <a:ext cx="84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ля выполнения обязанности, связанной со знанием и предоставлением промежуточной суммы, объекту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SalesLineltem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должна быть известна стоимость товара. В данном случае в качестве </a:t>
            </a:r>
            <a:r>
              <a:rPr b="1" lang="ru-RU" sz="1800" spc="-1" strike="noStrike">
                <a:solidFill>
                  <a:srgbClr val="00264c"/>
                </a:solidFill>
                <a:latin typeface="Times New Roman"/>
              </a:rPr>
              <a:t>информационного эксперта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будет выступать объект класса </a:t>
            </a:r>
            <a:r>
              <a:rPr b="1" i="1" lang="ru-RU" sz="1800" spc="-1" strike="noStrike">
                <a:solidFill>
                  <a:srgbClr val="00264c"/>
                </a:solidFill>
                <a:latin typeface="Times New Roman"/>
              </a:rPr>
              <a:t>ProductSpecification (ОписаниеТовара)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завершение можно сказать следующее. Для выполнения обязанности знать и предоставлять общую сумму продажи трем классам были присвоены три обязанности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Sal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- Знание общей суммы продажи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SalesLineltem Знание промежуточной суммы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ProductSpecification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 - Знание стоимости товара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ы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Шаблон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“Expert”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308" name="Object 16"/>
          <p:cNvGraphicFramePr/>
          <p:nvPr/>
        </p:nvGraphicFramePr>
        <p:xfrm>
          <a:off x="324000" y="1695600"/>
          <a:ext cx="741672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95600"/>
                    <a:ext cx="741672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спользование шаблон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21" name="Picture 19" descr="Без-имени-1"/>
          <p:cNvPicPr/>
          <p:nvPr/>
        </p:nvPicPr>
        <p:blipFill>
          <a:blip r:embed="rId1"/>
          <a:stretch/>
        </p:blipFill>
        <p:spPr>
          <a:xfrm>
            <a:off x="826920" y="1989000"/>
            <a:ext cx="766764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Использование шаблон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33" name="Picture 15" descr="Без-имени-2"/>
          <p:cNvPicPr/>
          <p:nvPr/>
        </p:nvPicPr>
        <p:blipFill>
          <a:blip r:embed="rId1"/>
          <a:stretch/>
        </p:blipFill>
        <p:spPr>
          <a:xfrm>
            <a:off x="395280" y="2133720"/>
            <a:ext cx="81216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Графически каждый объект изображается прямоугольником и располагается в верхней части своей линии жизни. Внутри прямоугольника записываются имя объекта и имя класса, разделенные двоеточием. При этом вся запись подчеркивается, что является признаком объекта, который, как известно, представляет собой экземпляр класс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Крайним слева на диаграмме изображается объект, который является инициатором взаимодействия. Правее изображается объект, который непосредственно взаимодействует с первым. Все объекты на диаграмме последовательности образуют некоторый порядок, определяемый степенью активности этих объектов при взаимодействии друг с другом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кт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1258920" y="4027320"/>
          <a:ext cx="60483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027320"/>
                    <a:ext cx="6048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Линия жизни объекта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object lifelin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изображается пунктирной вертикальной линией, ассоциированной с единственным объектом на диаграмме последовательности. Линия жизни служит для обозначения периода времени, в течение которого объект существует в системе и, следовательно, может потенциально участвовать во всех ее взаимодействиях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тдельные объекты, выполнив свою роль в системе, могут быть уничтожены (разрушены), чтобы освободить занимаемые ими ресурсы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тдельные объекты в системе могут создаваться по мере необходимости, существенно экономя ресурсы системы и повышая ее производительность.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Линия жизни объекта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1619280" y="3997440"/>
          <a:ext cx="60483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997440"/>
                    <a:ext cx="6048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процессе функционирования объектно-ориентированных систем одни объекты могут находиться в активном состоянии, непосредственно выполняя определенные действия или в состоянии пассивного ожидания сообщений от других объектов. Чтобы явно выделить подобную активность объектов, применяется специальное понятие - фокус управления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focus of control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ериоды активности объекта могут чередоваться с периодами его пассивности или ожидания. В этом случае у такого объекта будет несколько фокусов управления. Получить фокус управления может только существующий объект. Если объект был уничтожен, то вновь возникнуть в системе он уже не может.    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Фокус управ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1619280" y="3997440"/>
          <a:ext cx="60483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997440"/>
                    <a:ext cx="6048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 отдельных случаях инициатором взаимодействия в системе может быть актер или внешний пользователь. В этом случае актер изображается на диаграмме последовательности самым первым объектом слева со своим фокусом управл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Иногда некоторый объект может инициировать рекурсивное взаимодействие с самим собой. Речь идет о том, что наличие во многих языках программирования специальных средств построения рекурсивных процедур требует визуализации соответствующих понятий в форме графических примитивов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Фокус управ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1619280" y="3867120"/>
          <a:ext cx="601344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867120"/>
                    <a:ext cx="60134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136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Цель взаимодействия в контексте языка UML заключается в том, чтобы специфицировать коммуникацию между множеством взаимодействующих объектов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Каждое взаимодействие описывается совокупностью сообщений, которыми участвующие в нем объекты обмениваются между собой. В этом смысле сообщение (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message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) представляет собой законченный фрагмент информации, который отправляется одним объектом другому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прием сообщения инициирует выполнение определенных действий, направленных на решение отдельной задачи тем объектом, которому это сообщение отправлено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Отправителя сообщения - клиент, а получатель — сервер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ри этом сообщение от клиента имеет форму запроса некоторого сервиса, а реакция сервера на запрос после получения сообщения может быть связана с выполнением определенных действий или передачи клиенту необходимой информации тоже в форме сообщ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общения. Определение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3640" y="378936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ервая разновидность сообщения (а) - наиболее распространенная.  Используется для вызова процедур, выполнения операций или обозначения отдельных вложенных потоков управлен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Вторая разновидность сообщения (б) используется для обозначения простого (не вложенного) потока управления. Указывает на прогресс одного шага поток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Третья разновидность (в) явно обозначает асинхронное сообщение между двумя объектами в некоторой процедурной последовательности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26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Последняя разновидность сообщения (г) используется для возврата из вызова процедуры. Примером может служить простое сообщение о завершении некоторых вычислений без предоставления результата расчетов объекту-клиенту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ообщения. Виды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26" name="Object 6"/>
          <p:cNvGraphicFramePr/>
          <p:nvPr/>
        </p:nvGraphicFramePr>
        <p:xfrm>
          <a:off x="1908000" y="1700280"/>
          <a:ext cx="453564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700280"/>
                    <a:ext cx="453564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136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Для изображения ветвления рисуются две или более стрелки, выходящие из одной точки фокуса управления объекта. При этом соответствующие условия должны быть явно указаны рядом с каждой из стрелок в форме сторожевого условия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иаграмма последовательности. 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етвление потока управления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908000" y="2781360"/>
          <a:ext cx="5977080" cy="28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81360"/>
                    <a:ext cx="59770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0"/>
          <p:cNvSpPr/>
          <p:nvPr/>
        </p:nvSpPr>
        <p:spPr>
          <a:xfrm>
            <a:off x="324000" y="54529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Если эта сумма превышает $1000, то могут потребоваться дополнительные действия, связанные с созданием и последующим разрушением Объекта_4. Если же сумма превышает $50, но не превышает $1000, то управление передается Объекту_3. И, наконец, если сумма не превышает $50, то управление получает Объект_2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59:02Z</dcterms:created>
  <dc:creator>www.MRMARKER.ru</dc:creator>
  <dc:description/>
  <dc:language>en-US</dc:language>
  <cp:lastModifiedBy>RePack by Diakov</cp:lastModifiedBy>
  <dcterms:modified xsi:type="dcterms:W3CDTF">2020-10-09T05:26:35Z</dcterms:modified>
  <cp:revision>175</cp:revision>
  <dc:subject/>
  <dc:title>Дисциплина: “Проектирование АСОИУ”. Практическое занятие: №1.  Тема: “Правила создания диаграммы вариантов использования (use case diagram)”</dc:title>
</cp:coreProperties>
</file>