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20.jpeg" ContentType="image/jpeg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19.jpeg" ContentType="image/jpeg"/>
  <Override PartName="/ppt/media/image6.wmf" ContentType="image/x-wmf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1A35-F82B-43EF-8524-FD14BCFC4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49DE-F5CC-416B-B8F2-C9AB4D35B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4D15-A18B-43E4-8378-6F6A5ED7A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4AD2-605A-46DB-BC12-F55CE729C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8ED40-3673-455D-8C9F-E6FCD5D91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5D401-E4F7-4138-85E3-0ABBF0B3E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97AEA-091C-4D19-813E-78BA1A642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55D70-541A-49ED-8BEB-C17771C41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553E9-FBCB-43BC-9199-914576F73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B7EFE-D8B2-45C7-8C2E-76A3C7A33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6C9F5-5E9C-4FF0-978D-56A82D4D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F2B0-0186-4979-AB0D-B99F99836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09285-6BDE-4CD3-8CC9-80A3D700E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128ED-2D9A-4095-BE4F-7AEC64BD2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88741-138E-4224-B2A8-CCC25BBEC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32F10-D247-4882-A7AE-46D6433DB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8B007-1341-4F31-9657-2A44FDE75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9020-75A2-4A05-971F-EBEC5D3BE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8DE9-71D8-4A81-AD87-CEF953939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EFDC-9BDE-449F-A9D4-E0F7BB185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289D-68F5-4585-9C9A-5A2D5E7B4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3F49-7C6C-4CA6-8802-C8D97FFCE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0569-6B6B-44FF-8031-4BDA5E144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EC6B-AE39-4840-98EE-EB5283922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Rectangle 66"/>
          <p:cNvSpPr/>
          <p:nvPr/>
        </p:nvSpPr>
        <p:spPr>
          <a:xfrm>
            <a:off x="0" y="1512720"/>
            <a:ext cx="845820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Rectangle 67"/>
          <p:cNvSpPr/>
          <p:nvPr/>
        </p:nvSpPr>
        <p:spPr>
          <a:xfrm>
            <a:off x="247680" y="0"/>
            <a:ext cx="7938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Rectangle 68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B791D-CA48-4562-8617-723AC8E9BE90}" type="slidenum">
              <a:rPr b="0" lang="ru-RU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" name="AutoShape 57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" name="AutoShape 58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" name="AutoShape 59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" name="AutoShape 61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" name="Rectangle 62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871BE-DAAA-4444-8723-46CEB0DF2C25}" type="slidenum">
              <a:rPr b="0" lang="ru-RU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9640" y="1844280"/>
            <a:ext cx="81360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В языке UML взаимодействие элементов рассматривается в информационном аспекте их коммуникации, т. е. взаимодействующие объекты обмениваются между собой некоторой информацией.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3258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3258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При этом информация принимает форму законченных сообщений. Т.е. сообщение имеет не только информационное содержание, но и приобретает дополнительное свойство оказывать направленное влияние на своего получателя.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3258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Это согласуется с принципами ООАП, когда любые виды информационного взаимодействия между элементами системы должны быть сведены к отправке и приему сообщений между ними.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3258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3258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1. Для представления временных особенностей передачи и приема сообщений между объектами используется </a:t>
            </a:r>
            <a:r>
              <a:rPr b="1" lang="ru-RU" sz="1800" spc="-1" strike="noStrike">
                <a:solidFill>
                  <a:srgbClr val="00264c"/>
                </a:solidFill>
                <a:latin typeface="Times New Roman"/>
              </a:rPr>
              <a:t>диаграмма последовательности</a:t>
            </a: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3258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2. Для описания структурных особенностей взаимодействия объектов используется </a:t>
            </a:r>
            <a:r>
              <a:rPr b="1" lang="ru-RU" sz="1800" spc="-1" strike="noStrike">
                <a:solidFill>
                  <a:srgbClr val="00264c"/>
                </a:solidFill>
                <a:latin typeface="Times New Roman"/>
              </a:rPr>
              <a:t>диаграмма кооперации</a:t>
            </a: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1116000" y="54936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Диаграмма последовательности. </a:t>
            </a:r>
            <a:br>
              <a:rPr sz="2800"/>
            </a:b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Основные положения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95280" y="1699920"/>
            <a:ext cx="81360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261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В языке UML предусмотрены некоторые стандартные действия, выполняемые в ответ на получение соответствующего сообщения. Они могут быть явно указаны на диаграмме последовательности в форме стереотипа рядом с сообщением, к которому они относятся.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261720" indent="-261720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"</a:t>
            </a: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call</a:t>
            </a: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" (вызвать) — сообщение, требующее вызова операции или процедуры принимающего объекта.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261720" indent="-26172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"</a:t>
            </a: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return</a:t>
            </a: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" (возвратить) — сообщение, возвращающее значение выполненной операции или процедуры вызвавшему ее объекту.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261720" indent="-26172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"</a:t>
            </a: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create</a:t>
            </a: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" (создать) — сообщение, требующее создания другого объекта для выполнения определенных действий. Созданный объект может получить фокус управления, а может и не получить его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261720" indent="-26172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"</a:t>
            </a: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destroy</a:t>
            </a: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" (уничтожить) — сообщение с явным требованием уничтожить соответствующий объект.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261720" indent="-26172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"</a:t>
            </a: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send</a:t>
            </a: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" (послать) — обозначает посылку другому объекту некоторого сигнала, который асинхронно инициируется одним объектом и принимается (перехватывается) другим.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1116000" y="54936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Диаграмма последовательности. </a:t>
            </a:r>
            <a:br>
              <a:rPr sz="2800"/>
            </a:b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Стереотипы сообщений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0" y="26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95280" y="1699920"/>
            <a:ext cx="81360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marL="3474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В качестве примера рассмотрим построение диаграммы последовательности для моделирования процесса телефонного разговора с использованием обычной телефонной сети.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3474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Необходимо расположить выбранные объекты. Абонентов следует рассматривать как актеров,— а — играет активную роль, а b — пассивную. Поэтому первый получает фокус управления сразу после своего появления в системе, а второй имеет только линию жизни. Коммутатор имеет постоянную активность. Разговор появляется только после установки соединения и уничтожается с его прекращением. 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1116000" y="54936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Диаграмма последовательности. </a:t>
            </a:r>
            <a:br>
              <a:rPr sz="2800"/>
            </a:b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Пример построения диаграммы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0" y="26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9" name="Rectangle 11"/>
          <p:cNvSpPr/>
          <p:nvPr/>
        </p:nvSpPr>
        <p:spPr>
          <a:xfrm>
            <a:off x="0" y="24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150" name="Object 10"/>
          <p:cNvGraphicFramePr/>
          <p:nvPr/>
        </p:nvGraphicFramePr>
        <p:xfrm>
          <a:off x="1763640" y="3789360"/>
          <a:ext cx="5327640" cy="283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3789360"/>
                    <a:ext cx="5327640" cy="28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16000" y="54936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Диаграмма последовательности. </a:t>
            </a:r>
            <a:br>
              <a:rPr sz="2800"/>
            </a:b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Пример построения диаграммы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26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0" y="24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8" name="Rectangle 11"/>
          <p:cNvSpPr/>
          <p:nvPr/>
        </p:nvSpPr>
        <p:spPr>
          <a:xfrm>
            <a:off x="0" y="18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159" name="Object 10"/>
          <p:cNvGraphicFramePr/>
          <p:nvPr/>
        </p:nvGraphicFramePr>
        <p:xfrm>
          <a:off x="1042920" y="1368360"/>
          <a:ext cx="6985080" cy="537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368360"/>
                    <a:ext cx="6985080" cy="537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95280" y="1844640"/>
            <a:ext cx="81360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3837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Особенности взаимодействия элементов моделируемой системы могут быть представлены на диаграммах последовательности и кооперации. Если первая служит для визуализации временных аспектов взаимодействия, то диаграмма кооперации предназначена для спецификации структурных аспектов взаимодействия. Главная особенность диаграммы кооперации заключается в возможности графически представить не только последовательность взаимодействия, но и все структурные отношения между объектами, участвующими в этом взаимодействии.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3837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Понятие кооперации (</a:t>
            </a: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collaboration</a:t>
            </a: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) является одним из фундаментальных понятий в языке UML. Оно служит для обозначения множества взаимодействующих с определенной целью объектов в общем контексте моделируемой системы.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383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Кооперация может быть представлена на двух уровнях: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383760" indent="-383760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На уровне спецификации — показывает роли классификаторов и роли ассоциаций в рассматриваемом взаимодействии.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383760" indent="-38376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На уровне примеров — указывает экземпляры и связи, образующие отдельные роли в кооперации.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1116000" y="54936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Диаграмма кооперации. </a:t>
            </a:r>
            <a:br>
              <a:rPr sz="2800"/>
            </a:b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Назначение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0" y="26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0" y="24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95280" y="1844640"/>
            <a:ext cx="81360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Применительно к объектам формат строки специфицирования  приобретает следующий вид: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60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64c"/>
                </a:solidFill>
                <a:latin typeface="Times New Roman"/>
              </a:rPr>
              <a:t>&lt;Имя объекта&gt;' / ' &lt;Имя роли класса&gt; ':' &lt;Имя класса&gt;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При этом вся запись подчеркивается.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1116000" y="54936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Диаграмма кооперации. </a:t>
            </a:r>
            <a:br>
              <a:rPr sz="2800"/>
            </a:b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Объекты. Мультиобъекты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0" y="26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0" y="24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5" name="Rectangle 10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176" name="Object 9"/>
          <p:cNvGraphicFramePr/>
          <p:nvPr/>
        </p:nvGraphicFramePr>
        <p:xfrm>
          <a:off x="684360" y="3068640"/>
          <a:ext cx="7777080" cy="82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3068640"/>
                    <a:ext cx="777708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Rectangle 11"/>
          <p:cNvSpPr/>
          <p:nvPr/>
        </p:nvSpPr>
        <p:spPr>
          <a:xfrm>
            <a:off x="395280" y="4292640"/>
            <a:ext cx="590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Мультиобъект (</a:t>
            </a: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multiobject</a:t>
            </a: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) представляет собой целое множество объектов на одном из концов ассоциации. На диаграмме кооперации Мультиобъект используется для того, чтобы показать операции и сигналы, которые адресованы множеству объектов, а не только одному их представителю.</a:t>
            </a: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9" name="Rectangle 13"/>
          <p:cNvSpPr/>
          <p:nvPr/>
        </p:nvSpPr>
        <p:spPr>
          <a:xfrm>
            <a:off x="0" y="288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180" name="Object 12"/>
          <p:cNvGraphicFramePr/>
          <p:nvPr/>
        </p:nvGraphicFramePr>
        <p:xfrm>
          <a:off x="6443640" y="4076640"/>
          <a:ext cx="2448000" cy="2427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43640" y="4076640"/>
                    <a:ext cx="2448000" cy="242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95280" y="1844280"/>
            <a:ext cx="81360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Активный объект (</a:t>
            </a: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active object</a:t>
            </a: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) имеет свою собственную нить (</a:t>
            </a: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thread</a:t>
            </a: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) управления и может инициировать деятельность по управлению другими объектами.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1116000" y="54936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Диаграмма кооперации. </a:t>
            </a:r>
            <a:br>
              <a:rPr sz="2800"/>
            </a:b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Активные объекты. Мультиобъекты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0" y="26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88" name="Rectangle 8"/>
          <p:cNvSpPr/>
          <p:nvPr/>
        </p:nvSpPr>
        <p:spPr>
          <a:xfrm>
            <a:off x="0" y="24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89" name="Rectangle 9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0" name="Rectangle 12"/>
          <p:cNvSpPr/>
          <p:nvPr/>
        </p:nvSpPr>
        <p:spPr>
          <a:xfrm>
            <a:off x="0" y="288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1" name="Rectangle 15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192" name="Object 14"/>
          <p:cNvGraphicFramePr/>
          <p:nvPr/>
        </p:nvGraphicFramePr>
        <p:xfrm>
          <a:off x="1908000" y="2492280"/>
          <a:ext cx="6193080" cy="107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2492280"/>
                    <a:ext cx="6193080" cy="10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Rectangle 17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195" name="Object 16"/>
          <p:cNvGraphicFramePr/>
          <p:nvPr/>
        </p:nvGraphicFramePr>
        <p:xfrm>
          <a:off x="1116000" y="3751200"/>
          <a:ext cx="7201080" cy="2656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6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6000" y="3751200"/>
                    <a:ext cx="720108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395280" y="1844280"/>
            <a:ext cx="81360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438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Составной объект (</a:t>
            </a: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composite object</a:t>
            </a: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) или объект-контейнер предназначен для представления объекта, имеющего собственную структуру и внутренние потоки (нити) управления. Составной объект является экземпляром составного класса (класса-контейнера), который связан отношением агрегации или композиции со своими частями. Аналогичные отношения связывают между собой и соответствующие объекты.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1116000" y="54936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Диаграмма кооперации. </a:t>
            </a:r>
            <a:br>
              <a:rPr sz="2800"/>
            </a:b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Составной объект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0" y="26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0" y="24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4" name="Rectangle 9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5" name="Rectangle 10"/>
          <p:cNvSpPr/>
          <p:nvPr/>
        </p:nvSpPr>
        <p:spPr>
          <a:xfrm>
            <a:off x="0" y="288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6" name="Rectangle 11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8" name="Rectangle 16"/>
          <p:cNvSpPr/>
          <p:nvPr/>
        </p:nvSpPr>
        <p:spPr>
          <a:xfrm>
            <a:off x="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209" name="Object 15"/>
          <p:cNvGraphicFramePr/>
          <p:nvPr/>
        </p:nvGraphicFramePr>
        <p:xfrm>
          <a:off x="2484360" y="3284640"/>
          <a:ext cx="4391280" cy="333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3284640"/>
                    <a:ext cx="4391280" cy="33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395280" y="1844280"/>
            <a:ext cx="81360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3000"/>
          </a:bodyPr>
          <a:p>
            <a:pPr marL="140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64c"/>
                </a:solidFill>
                <a:latin typeface="Times New Roman"/>
              </a:rPr>
              <a:t>Буч и Румбах определяют обязанность (</a:t>
            </a:r>
            <a:r>
              <a:rPr b="1" lang="en-US" sz="1800" spc="-1" strike="noStrike">
                <a:solidFill>
                  <a:srgbClr val="00264c"/>
                </a:solidFill>
                <a:latin typeface="Times New Roman"/>
              </a:rPr>
              <a:t>responsibility</a:t>
            </a:r>
            <a:r>
              <a:rPr b="1" lang="ru-RU" sz="1800" spc="-1" strike="noStrike">
                <a:solidFill>
                  <a:srgbClr val="00264c"/>
                </a:solidFill>
                <a:latin typeface="Times New Roman"/>
              </a:rPr>
              <a:t>) как "контракт или обязательство типа или класса"</a:t>
            </a: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140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140040" indent="-140040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64c"/>
                </a:solidFill>
                <a:latin typeface="Times New Roman"/>
              </a:rPr>
              <a:t>Вопрос.</a:t>
            </a: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 Каков наиболее общий принцип распределения обязанностей между классами при объектно-ориентированном проектировании?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140040" indent="-14004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64c"/>
                </a:solidFill>
                <a:latin typeface="Times New Roman"/>
              </a:rPr>
              <a:t>Решение.</a:t>
            </a: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 Назначить обязанность информационному эксперту — классу, у которого имеется информация, требуемая для выполнения обязанности.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140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140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64c"/>
                </a:solidFill>
                <a:latin typeface="Times New Roman"/>
              </a:rPr>
              <a:t>ПРИМЕР.</a:t>
            </a:r>
            <a:r>
              <a:rPr b="0" i="1" lang="ru-RU" sz="18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140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В приложении системы розничной торговли некоторому классу необходимо знать общую сумму продажи.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140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64c"/>
                </a:solidFill>
                <a:latin typeface="Times New Roman"/>
              </a:rPr>
              <a:t>Вопрос.</a:t>
            </a: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 Какой класс должен отвечать за знание общей суммы продажи?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140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64c"/>
                </a:solidFill>
                <a:latin typeface="Times New Roman"/>
              </a:rPr>
              <a:t>Решение. </a:t>
            </a: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Согласно шаблону </a:t>
            </a: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Expert</a:t>
            </a: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 нужно определить, объекты каких классов содержат информацию, необходимую для вычисления общей суммы продажи.  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1116000" y="54936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Шаблоны. </a:t>
            </a:r>
            <a:br>
              <a:rPr sz="2800"/>
            </a:b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Шаблон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“Expert”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26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0" y="24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8" name="Rectangle 9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9" name="Rectangle 10"/>
          <p:cNvSpPr/>
          <p:nvPr/>
        </p:nvSpPr>
        <p:spPr>
          <a:xfrm>
            <a:off x="0" y="288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20" name="Rectangle 11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21" name="Rectangle 12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22" name="Rectangle 13"/>
          <p:cNvSpPr/>
          <p:nvPr/>
        </p:nvSpPr>
        <p:spPr>
          <a:xfrm>
            <a:off x="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16000" y="54936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Шаблоны. </a:t>
            </a:r>
            <a:br>
              <a:rPr sz="2800"/>
            </a:b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Шаблон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“Expert”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0" y="26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0" y="24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29" name="Rectangle 9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0" name="Rectangle 10"/>
          <p:cNvSpPr/>
          <p:nvPr/>
        </p:nvSpPr>
        <p:spPr>
          <a:xfrm>
            <a:off x="0" y="288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1" name="Rectangle 11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2" name="Rectangle 12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3" name="Rectangle 13"/>
          <p:cNvSpPr/>
          <p:nvPr/>
        </p:nvSpPr>
        <p:spPr>
          <a:xfrm>
            <a:off x="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4" name="Rectangle 15"/>
          <p:cNvSpPr/>
          <p:nvPr/>
        </p:nvSpPr>
        <p:spPr>
          <a:xfrm>
            <a:off x="0" y="22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235" name="Object 14"/>
          <p:cNvGraphicFramePr/>
          <p:nvPr/>
        </p:nvGraphicFramePr>
        <p:xfrm>
          <a:off x="324000" y="1989000"/>
          <a:ext cx="7920000" cy="321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989000"/>
                    <a:ext cx="7920000" cy="32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395280" y="1844280"/>
            <a:ext cx="81360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3837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Необходимо узнать стоимость всех </a:t>
            </a:r>
            <a:r>
              <a:rPr b="1" i="1" lang="ru-RU" sz="1800" spc="-1" strike="noStrike">
                <a:solidFill>
                  <a:srgbClr val="00264c"/>
                </a:solidFill>
                <a:latin typeface="Times New Roman"/>
              </a:rPr>
              <a:t>Позиций продажи </a:t>
            </a:r>
            <a:r>
              <a:rPr b="1" i="1" lang="en-US" sz="1800" spc="-1" strike="noStrike">
                <a:solidFill>
                  <a:srgbClr val="00264c"/>
                </a:solidFill>
                <a:latin typeface="Times New Roman"/>
              </a:rPr>
              <a:t>SalesLineltem</a:t>
            </a:r>
            <a:r>
              <a:rPr b="1" i="1" lang="ru-RU" sz="18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и просуммировать эти промежуточ­ные суммы.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3837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Такой информацией обладает лишь экземпляр класса </a:t>
            </a:r>
            <a:r>
              <a:rPr b="1" i="1" lang="en-US" sz="1800" spc="-1" strike="noStrike">
                <a:solidFill>
                  <a:srgbClr val="00264c"/>
                </a:solidFill>
                <a:latin typeface="Times New Roman"/>
              </a:rPr>
              <a:t>Sale</a:t>
            </a:r>
            <a:r>
              <a:rPr b="1" i="1" lang="ru-RU" sz="1800" spc="-1" strike="noStrike">
                <a:solidFill>
                  <a:srgbClr val="00264c"/>
                </a:solidFill>
                <a:latin typeface="Times New Roman"/>
              </a:rPr>
              <a:t> (Продажа)</a:t>
            </a: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3837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Следовательно, с точки зрения шаблона </a:t>
            </a: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Expert</a:t>
            </a: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 объект класса </a:t>
            </a:r>
            <a:r>
              <a:rPr b="1" i="1" lang="en-US" sz="1800" spc="-1" strike="noStrike">
                <a:solidFill>
                  <a:srgbClr val="00264c"/>
                </a:solidFill>
                <a:latin typeface="Times New Roman"/>
              </a:rPr>
              <a:t>Sale</a:t>
            </a:r>
            <a:r>
              <a:rPr b="1" i="1" lang="ru-RU" sz="1800" spc="-1" strike="noStrike">
                <a:solidFill>
                  <a:srgbClr val="00264c"/>
                </a:solidFill>
                <a:latin typeface="Times New Roman"/>
              </a:rPr>
              <a:t> (Продажа)</a:t>
            </a: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 подходит для выполнения этой обязанности, т.е. является информационным экспертом (</a:t>
            </a: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information expert</a:t>
            </a: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title"/>
          </p:nvPr>
        </p:nvSpPr>
        <p:spPr>
          <a:xfrm>
            <a:off x="1116000" y="54936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Шаблоны. </a:t>
            </a:r>
            <a:br>
              <a:rPr sz="2800"/>
            </a:b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Шаблон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“Expert”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0" y="26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3" name="Rectangle 8"/>
          <p:cNvSpPr/>
          <p:nvPr/>
        </p:nvSpPr>
        <p:spPr>
          <a:xfrm>
            <a:off x="0" y="24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4" name="Rectangle 9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5" name="Rectangle 10"/>
          <p:cNvSpPr/>
          <p:nvPr/>
        </p:nvSpPr>
        <p:spPr>
          <a:xfrm>
            <a:off x="0" y="288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6" name="Rectangle 11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7" name="Rectangle 12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8" name="Rectangle 13"/>
          <p:cNvSpPr/>
          <p:nvPr/>
        </p:nvSpPr>
        <p:spPr>
          <a:xfrm>
            <a:off x="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9" name="Rectangle 15"/>
          <p:cNvSpPr/>
          <p:nvPr/>
        </p:nvSpPr>
        <p:spPr>
          <a:xfrm>
            <a:off x="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250" name="Object 14"/>
          <p:cNvGraphicFramePr/>
          <p:nvPr/>
        </p:nvGraphicFramePr>
        <p:xfrm>
          <a:off x="684360" y="3933720"/>
          <a:ext cx="7991280" cy="134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3933720"/>
                    <a:ext cx="7991280" cy="13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39640" y="1844280"/>
            <a:ext cx="81360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На диаграмме последовательности изображаются исключительно те объекты, которые непосредственно участвуют во взаимодействии и не показываются возможные статические ассоциации с другими объектами.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329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Для диаграммы последовательности ключевым моментом является именно динамика взаимодействия объектов во времени.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64c"/>
                </a:solidFill>
                <a:latin typeface="Times New Roman"/>
              </a:rPr>
              <a:t>Диаграмма условно имеет два измерения.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329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Первое — слева направо в виде вертикальных линий, каждая из которых изображает линию жизни отдельного объекта, участвующего во взаимодействии.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329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Второе — вертикальная временная ось, направленная сверху вниз. Начальному моменту времени соответствует самая верхняя часть диаграммы. Сообщения изображаются в виде горизонтальных стрелок с именем сообщения и также образуют порядок по времени своего возникновения. Другими словами, сообщения, расположенные на диаграмме последовательности выше, инициируются раньше тех, которые расположены ниже.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1116000" y="54936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Диаграмма последовательности. </a:t>
            </a:r>
            <a:br>
              <a:rPr sz="2800"/>
            </a:b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Объекты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395280" y="1844280"/>
            <a:ext cx="81360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4000"/>
          </a:bodyPr>
          <a:p>
            <a:pPr marL="2678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Однако на данном этапе выполнена не вся работа. Необходимы значения атрибутов </a:t>
            </a:r>
            <a:r>
              <a:rPr b="1" i="1" lang="ru-RU" sz="1800" spc="-1" strike="noStrike">
                <a:solidFill>
                  <a:srgbClr val="00264c"/>
                </a:solidFill>
                <a:latin typeface="Times New Roman"/>
              </a:rPr>
              <a:t>SalesLineltem.quantity</a:t>
            </a: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264c"/>
                </a:solidFill>
                <a:latin typeface="Times New Roman"/>
              </a:rPr>
              <a:t>(</a:t>
            </a:r>
            <a:r>
              <a:rPr b="1" i="1" lang="ru-RU" sz="1800" spc="-1" strike="noStrike">
                <a:solidFill>
                  <a:srgbClr val="00264c"/>
                </a:solidFill>
                <a:latin typeface="Times New Roman"/>
              </a:rPr>
              <a:t>ПозицияПродажи.количество</a:t>
            </a:r>
            <a:r>
              <a:rPr b="1" i="1" lang="en-US" sz="1800" spc="-1" strike="noStrike">
                <a:solidFill>
                  <a:srgbClr val="00264c"/>
                </a:solidFill>
                <a:latin typeface="Times New Roman"/>
              </a:rPr>
              <a:t>)</a:t>
            </a: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и </a:t>
            </a:r>
            <a:r>
              <a:rPr b="1" i="1" lang="en-US" sz="1800" spc="-1" strike="noStrike">
                <a:solidFill>
                  <a:srgbClr val="00264c"/>
                </a:solidFill>
                <a:latin typeface="Times New Roman"/>
              </a:rPr>
              <a:t>SalesLineltem.price (</a:t>
            </a:r>
            <a:r>
              <a:rPr b="1" i="1" lang="ru-RU" sz="1800" spc="-1" strike="noStrike">
                <a:solidFill>
                  <a:srgbClr val="00264c"/>
                </a:solidFill>
                <a:latin typeface="Times New Roman"/>
              </a:rPr>
              <a:t>ПозицияПродажи.цена</a:t>
            </a:r>
            <a:r>
              <a:rPr b="1" i="1" lang="en-US" sz="1800" spc="-1" strike="noStrike">
                <a:solidFill>
                  <a:srgbClr val="00264c"/>
                </a:solidFill>
                <a:latin typeface="Times New Roman"/>
              </a:rPr>
              <a:t>)</a:t>
            </a: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. Объекту класса </a:t>
            </a:r>
            <a:r>
              <a:rPr b="1" i="1" lang="ru-RU" sz="1800" spc="-1" strike="noStrike">
                <a:solidFill>
                  <a:srgbClr val="00264c"/>
                </a:solidFill>
                <a:latin typeface="Times New Roman"/>
              </a:rPr>
              <a:t>SalesLineltem</a:t>
            </a:r>
            <a:r>
              <a:rPr b="1" i="1" lang="en-US" sz="1800" spc="-1" strike="noStrike">
                <a:solidFill>
                  <a:srgbClr val="00264c"/>
                </a:solidFill>
                <a:latin typeface="Times New Roman"/>
              </a:rPr>
              <a:t>(</a:t>
            </a:r>
            <a:r>
              <a:rPr b="1" i="1" lang="ru-RU" sz="1800" spc="-1" strike="noStrike">
                <a:solidFill>
                  <a:srgbClr val="00264c"/>
                </a:solidFill>
                <a:latin typeface="Times New Roman"/>
              </a:rPr>
              <a:t>ПозицияПродажи)</a:t>
            </a: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 известно количество товара и связанный с ним объект класса </a:t>
            </a:r>
            <a:r>
              <a:rPr b="1" i="1" lang="en-US" sz="1800" spc="-1" strike="noStrike">
                <a:solidFill>
                  <a:srgbClr val="00264c"/>
                </a:solidFill>
                <a:latin typeface="Times New Roman"/>
              </a:rPr>
              <a:t>ProductSpecification</a:t>
            </a:r>
            <a:r>
              <a:rPr b="1" i="1" lang="ru-RU" sz="1800" spc="-1" strike="noStrike">
                <a:solidFill>
                  <a:srgbClr val="00264c"/>
                </a:solidFill>
                <a:latin typeface="Times New Roman"/>
              </a:rPr>
              <a:t> (ОписаниеТовара)</a:t>
            </a: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. Следовательно, в соответствии с шаблоном </a:t>
            </a:r>
            <a:r>
              <a:rPr b="1" lang="en-US" sz="1800" spc="-1" strike="noStrike">
                <a:solidFill>
                  <a:srgbClr val="00264c"/>
                </a:solidFill>
                <a:latin typeface="Times New Roman"/>
              </a:rPr>
              <a:t>Expert</a:t>
            </a: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 промежуточную сумму должен вычислять объект класса </a:t>
            </a:r>
            <a:r>
              <a:rPr b="1" i="1" lang="ru-RU" sz="1800" spc="-1" strike="noStrike">
                <a:solidFill>
                  <a:srgbClr val="00264c"/>
                </a:solidFill>
                <a:latin typeface="Times New Roman"/>
              </a:rPr>
              <a:t>SalesLineltem </a:t>
            </a:r>
            <a:r>
              <a:rPr b="1" i="1" lang="en-US" sz="1800" spc="-1" strike="noStrike">
                <a:solidFill>
                  <a:srgbClr val="00264c"/>
                </a:solidFill>
                <a:latin typeface="Times New Roman"/>
              </a:rPr>
              <a:t>(</a:t>
            </a:r>
            <a:r>
              <a:rPr b="1" i="1" lang="ru-RU" sz="1800" spc="-1" strike="noStrike">
                <a:solidFill>
                  <a:srgbClr val="00264c"/>
                </a:solidFill>
                <a:latin typeface="Times New Roman"/>
              </a:rPr>
              <a:t>ПозицияПродажи).</a:t>
            </a: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 Другими словами, на данном этапе рассмотрения объект этого класса является информационным экспертом.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2678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В терминах диаграмм взаимодействий это означает, что объект класса </a:t>
            </a:r>
            <a:r>
              <a:rPr b="1" i="1" lang="ru-RU" sz="1800" spc="-1" strike="noStrike">
                <a:solidFill>
                  <a:srgbClr val="00264c"/>
                </a:solidFill>
                <a:latin typeface="Times New Roman"/>
              </a:rPr>
              <a:t>Sale (Продажа)</a:t>
            </a: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 должен передать сообщение </a:t>
            </a:r>
            <a:r>
              <a:rPr b="1" i="1" lang="ru-RU" sz="1800" spc="-1" strike="noStrike">
                <a:solidFill>
                  <a:srgbClr val="00264c"/>
                </a:solidFill>
                <a:latin typeface="Times New Roman"/>
              </a:rPr>
              <a:t>subtotal (промежуточная сумма)</a:t>
            </a: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 каждому объекту класса </a:t>
            </a:r>
            <a:r>
              <a:rPr b="1" i="1" lang="ru-RU" sz="1800" spc="-1" strike="noStrike">
                <a:solidFill>
                  <a:srgbClr val="00264c"/>
                </a:solidFill>
                <a:latin typeface="Times New Roman"/>
              </a:rPr>
              <a:t>SalesLineltem (ПозицияПродажи)</a:t>
            </a: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, а затем просуммировать по­лученные результаты. Этот процесс проиллюстрирован на следующем слайде.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title"/>
          </p:nvPr>
        </p:nvSpPr>
        <p:spPr>
          <a:xfrm>
            <a:off x="1116000" y="54936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Шаблоны. </a:t>
            </a:r>
            <a:br>
              <a:rPr sz="2800"/>
            </a:b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Шаблон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“Expert”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0" y="26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56" name="Rectangle 6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57" name="Rectangle 7"/>
          <p:cNvSpPr/>
          <p:nvPr/>
        </p:nvSpPr>
        <p:spPr>
          <a:xfrm>
            <a:off x="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58" name="Rectangle 8"/>
          <p:cNvSpPr/>
          <p:nvPr/>
        </p:nvSpPr>
        <p:spPr>
          <a:xfrm>
            <a:off x="0" y="24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59" name="Rectangle 9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60" name="Rectangle 10"/>
          <p:cNvSpPr/>
          <p:nvPr/>
        </p:nvSpPr>
        <p:spPr>
          <a:xfrm>
            <a:off x="0" y="288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61" name="Rectangle 11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62" name="Rectangle 12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63" name="Rectangle 13"/>
          <p:cNvSpPr/>
          <p:nvPr/>
        </p:nvSpPr>
        <p:spPr>
          <a:xfrm>
            <a:off x="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64" name="Rectangle 14"/>
          <p:cNvSpPr/>
          <p:nvPr/>
        </p:nvSpPr>
        <p:spPr>
          <a:xfrm>
            <a:off x="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16000" y="54936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Шаблоны. </a:t>
            </a:r>
            <a:br>
              <a:rPr sz="2800"/>
            </a:b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Шаблон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“Expert”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67" name="Rectangle 5"/>
          <p:cNvSpPr/>
          <p:nvPr/>
        </p:nvSpPr>
        <p:spPr>
          <a:xfrm>
            <a:off x="0" y="26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68" name="Rectangle 6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69" name="Rectangle 7"/>
          <p:cNvSpPr/>
          <p:nvPr/>
        </p:nvSpPr>
        <p:spPr>
          <a:xfrm>
            <a:off x="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0" name="Rectangle 8"/>
          <p:cNvSpPr/>
          <p:nvPr/>
        </p:nvSpPr>
        <p:spPr>
          <a:xfrm>
            <a:off x="0" y="24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1" name="Rectangle 9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2" name="Rectangle 10"/>
          <p:cNvSpPr/>
          <p:nvPr/>
        </p:nvSpPr>
        <p:spPr>
          <a:xfrm>
            <a:off x="0" y="288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3" name="Rectangle 11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4" name="Rectangle 12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5" name="Rectangle 13"/>
          <p:cNvSpPr/>
          <p:nvPr/>
        </p:nvSpPr>
        <p:spPr>
          <a:xfrm>
            <a:off x="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6" name="Rectangle 14"/>
          <p:cNvSpPr/>
          <p:nvPr/>
        </p:nvSpPr>
        <p:spPr>
          <a:xfrm>
            <a:off x="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7" name="Rectangle 18"/>
          <p:cNvSpPr/>
          <p:nvPr/>
        </p:nvSpPr>
        <p:spPr>
          <a:xfrm>
            <a:off x="0" y="22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278" name="Object 17"/>
          <p:cNvGraphicFramePr/>
          <p:nvPr/>
        </p:nvGraphicFramePr>
        <p:xfrm>
          <a:off x="395280" y="2133720"/>
          <a:ext cx="8280360" cy="338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133720"/>
                    <a:ext cx="8280360" cy="33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16000" y="54936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Шаблоны. </a:t>
            </a:r>
            <a:br>
              <a:rPr sz="2800"/>
            </a:b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Шаблон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“Expert”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1" name="Rectangle 3"/>
          <p:cNvSpPr/>
          <p:nvPr/>
        </p:nvSpPr>
        <p:spPr>
          <a:xfrm>
            <a:off x="395280" y="2566080"/>
            <a:ext cx="8424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Для выполнения обязанности, связанной со знанием и предоставлением промежуточной суммы, объекту класса </a:t>
            </a:r>
            <a:r>
              <a:rPr b="1" i="1" lang="ru-RU" sz="1800" spc="-1" strike="noStrike">
                <a:solidFill>
                  <a:srgbClr val="00264c"/>
                </a:solidFill>
                <a:latin typeface="Times New Roman"/>
              </a:rPr>
              <a:t>SalesLineltem</a:t>
            </a: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 должна быть известна стоимость товара. В данном случае в качестве </a:t>
            </a:r>
            <a:r>
              <a:rPr b="1" lang="ru-RU" sz="1800" spc="-1" strike="noStrike">
                <a:solidFill>
                  <a:srgbClr val="00264c"/>
                </a:solidFill>
                <a:latin typeface="Times New Roman"/>
              </a:rPr>
              <a:t>информационного эксперта </a:t>
            </a: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будет выступать объект класса </a:t>
            </a:r>
            <a:r>
              <a:rPr b="1" i="1" lang="ru-RU" sz="1800" spc="-1" strike="noStrike">
                <a:solidFill>
                  <a:srgbClr val="00264c"/>
                </a:solidFill>
                <a:latin typeface="Times New Roman"/>
              </a:rPr>
              <a:t>ProductSpecification (ОписаниеТовара)</a:t>
            </a: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В завершение можно сказать следующее. Для выполнения обязанности знать и предоставлять общую сумму продажи трем классам были присвоены три обязанности.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457200" indent="-457200">
              <a:buClr>
                <a:srgbClr val="00264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Sale</a:t>
            </a: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 - Знание общей суммы продажи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457200" indent="-457200">
              <a:buClr>
                <a:srgbClr val="00264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SalesLineltem Знание промежуточной суммы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457200" indent="-457200">
              <a:buClr>
                <a:srgbClr val="00264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ProductSpecification</a:t>
            </a: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 - Знание стоимости товара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2" name="Rectangle 4"/>
          <p:cNvSpPr/>
          <p:nvPr/>
        </p:nvSpPr>
        <p:spPr>
          <a:xfrm>
            <a:off x="0" y="26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4" name="Rectangle 6"/>
          <p:cNvSpPr/>
          <p:nvPr/>
        </p:nvSpPr>
        <p:spPr>
          <a:xfrm>
            <a:off x="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5" name="Rectangle 7"/>
          <p:cNvSpPr/>
          <p:nvPr/>
        </p:nvSpPr>
        <p:spPr>
          <a:xfrm>
            <a:off x="0" y="24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6" name="Rectangle 8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7" name="Rectangle 9"/>
          <p:cNvSpPr/>
          <p:nvPr/>
        </p:nvSpPr>
        <p:spPr>
          <a:xfrm>
            <a:off x="0" y="288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8" name="Rectangle 10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9" name="Rectangle 11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90" name="Rectangle 12"/>
          <p:cNvSpPr/>
          <p:nvPr/>
        </p:nvSpPr>
        <p:spPr>
          <a:xfrm>
            <a:off x="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91" name="Rectangle 13"/>
          <p:cNvSpPr/>
          <p:nvPr/>
        </p:nvSpPr>
        <p:spPr>
          <a:xfrm>
            <a:off x="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92" name="Rectangle 14"/>
          <p:cNvSpPr/>
          <p:nvPr/>
        </p:nvSpPr>
        <p:spPr>
          <a:xfrm>
            <a:off x="0" y="22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93" name="Rectangle 17"/>
          <p:cNvSpPr/>
          <p:nvPr/>
        </p:nvSpPr>
        <p:spPr>
          <a:xfrm>
            <a:off x="0" y="14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16000" y="54936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Шаблоны. </a:t>
            </a:r>
            <a:br>
              <a:rPr sz="2800"/>
            </a:b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Шаблон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“Expert”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5" name="Rectangle 4"/>
          <p:cNvSpPr/>
          <p:nvPr/>
        </p:nvSpPr>
        <p:spPr>
          <a:xfrm>
            <a:off x="0" y="26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96" name="Rectangle 5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97" name="Rectangle 6"/>
          <p:cNvSpPr/>
          <p:nvPr/>
        </p:nvSpPr>
        <p:spPr>
          <a:xfrm>
            <a:off x="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98" name="Rectangle 7"/>
          <p:cNvSpPr/>
          <p:nvPr/>
        </p:nvSpPr>
        <p:spPr>
          <a:xfrm>
            <a:off x="0" y="24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99" name="Rectangle 8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00" name="Rectangle 9"/>
          <p:cNvSpPr/>
          <p:nvPr/>
        </p:nvSpPr>
        <p:spPr>
          <a:xfrm>
            <a:off x="0" y="288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01" name="Rectangle 10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02" name="Rectangle 11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03" name="Rectangle 12"/>
          <p:cNvSpPr/>
          <p:nvPr/>
        </p:nvSpPr>
        <p:spPr>
          <a:xfrm>
            <a:off x="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04" name="Rectangle 13"/>
          <p:cNvSpPr/>
          <p:nvPr/>
        </p:nvSpPr>
        <p:spPr>
          <a:xfrm>
            <a:off x="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05" name="Rectangle 14"/>
          <p:cNvSpPr/>
          <p:nvPr/>
        </p:nvSpPr>
        <p:spPr>
          <a:xfrm>
            <a:off x="0" y="22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14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14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308" name="Object 16"/>
          <p:cNvGraphicFramePr/>
          <p:nvPr/>
        </p:nvGraphicFramePr>
        <p:xfrm>
          <a:off x="324000" y="1695600"/>
          <a:ext cx="7416720" cy="500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695600"/>
                    <a:ext cx="7416720" cy="50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Использование шаблонов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1" name="Rectangle 4"/>
          <p:cNvSpPr/>
          <p:nvPr/>
        </p:nvSpPr>
        <p:spPr>
          <a:xfrm>
            <a:off x="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2" name="Rectangle 5"/>
          <p:cNvSpPr/>
          <p:nvPr/>
        </p:nvSpPr>
        <p:spPr>
          <a:xfrm>
            <a:off x="0" y="26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3" name="Rectangle 6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4" name="Rectangle 7"/>
          <p:cNvSpPr/>
          <p:nvPr/>
        </p:nvSpPr>
        <p:spPr>
          <a:xfrm>
            <a:off x="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5" name="Rectangle 8"/>
          <p:cNvSpPr/>
          <p:nvPr/>
        </p:nvSpPr>
        <p:spPr>
          <a:xfrm>
            <a:off x="0" y="24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6" name="Rectangle 9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7" name="Rectangle 10"/>
          <p:cNvSpPr/>
          <p:nvPr/>
        </p:nvSpPr>
        <p:spPr>
          <a:xfrm>
            <a:off x="0" y="288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8" name="Rectangle 11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9" name="Rectangle 12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20" name="Rectangle 13"/>
          <p:cNvSpPr/>
          <p:nvPr/>
        </p:nvSpPr>
        <p:spPr>
          <a:xfrm>
            <a:off x="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321" name="Picture 19" descr="Без-имени-1"/>
          <p:cNvPicPr/>
          <p:nvPr/>
        </p:nvPicPr>
        <p:blipFill>
          <a:blip r:embed="rId1"/>
          <a:stretch/>
        </p:blipFill>
        <p:spPr>
          <a:xfrm>
            <a:off x="826920" y="1989000"/>
            <a:ext cx="766764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Использование шаблонов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24" name="Rectangle 4"/>
          <p:cNvSpPr/>
          <p:nvPr/>
        </p:nvSpPr>
        <p:spPr>
          <a:xfrm>
            <a:off x="0" y="26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26" name="Rectangle 6"/>
          <p:cNvSpPr/>
          <p:nvPr/>
        </p:nvSpPr>
        <p:spPr>
          <a:xfrm>
            <a:off x="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0" y="24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28" name="Rectangle 8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29" name="Rectangle 9"/>
          <p:cNvSpPr/>
          <p:nvPr/>
        </p:nvSpPr>
        <p:spPr>
          <a:xfrm>
            <a:off x="0" y="288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30" name="Rectangle 10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31" name="Rectangle 11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32" name="Rectangle 12"/>
          <p:cNvSpPr/>
          <p:nvPr/>
        </p:nvSpPr>
        <p:spPr>
          <a:xfrm>
            <a:off x="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333" name="Picture 15" descr="Без-имени-2"/>
          <p:cNvPicPr/>
          <p:nvPr/>
        </p:nvPicPr>
        <p:blipFill>
          <a:blip r:embed="rId1"/>
          <a:stretch/>
        </p:blipFill>
        <p:spPr>
          <a:xfrm>
            <a:off x="395280" y="2133720"/>
            <a:ext cx="812160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813600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Графически каждый объект изображается прямоугольником и располагается в верхней части своей линии жизни. Внутри прямоугольника записываются имя объекта и имя класса, разделенные двоеточием. При этом вся запись подчеркивается, что является признаком объекта, который, как известно, представляет собой экземпляр класса.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Крайним слева на диаграмме изображается объект, который является инициатором взаимодействия. Правее изображается объект, который непосредственно взаимодействует с первым. Все объекты на диаграмме последовательности образуют некоторый порядок, определяемый степенью активности этих объектов при взаимодействии друг с другом.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1116000" y="54936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Диаграмма последовательности. </a:t>
            </a:r>
            <a:br>
              <a:rPr sz="2800"/>
            </a:b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Объекты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99" name="Object 4"/>
          <p:cNvGraphicFramePr/>
          <p:nvPr/>
        </p:nvGraphicFramePr>
        <p:xfrm>
          <a:off x="1258920" y="4027320"/>
          <a:ext cx="6048360" cy="245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027320"/>
                    <a:ext cx="6048360" cy="24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68360" y="1773360"/>
            <a:ext cx="813600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Линия жизни объекта (</a:t>
            </a: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object lifeline</a:t>
            </a: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) изображается пунктирной вертикальной линией, ассоциированной с единственным объектом на диаграмме последовательности. Линия жизни служит для обозначения периода времени, в течение которого объект существует в системе и, следовательно, может потенциально участвовать во всех ее взаимодействиях.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Отдельные объекты, выполнив свою роль в системе, могут быть уничтожены (разрушены), чтобы освободить занимаемые ими ресурсы.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Отдельные объекты в системе могут создаваться по мере необходимости, существенно экономя ресурсы системы и повышая ее производительность.  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1116000" y="54936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Диаграмма последовательности. </a:t>
            </a:r>
            <a:br>
              <a:rPr sz="2800"/>
            </a:b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Линия жизни объекта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104" name="Object 5"/>
          <p:cNvGraphicFramePr/>
          <p:nvPr/>
        </p:nvGraphicFramePr>
        <p:xfrm>
          <a:off x="1619280" y="3997440"/>
          <a:ext cx="6048360" cy="245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3997440"/>
                    <a:ext cx="6048360" cy="24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68360" y="1773360"/>
            <a:ext cx="813600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В процессе функционирования объектно-ориентированных систем одни объекты могут находиться в активном состоянии, непосредственно выполняя определенные действия или в состоянии пассивного ожидания сообщений от других объектов. Чтобы явно выделить подобную активность объектов, применяется специальное понятие - фокус управления (</a:t>
            </a: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focus of control</a:t>
            </a: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Периоды активности объекта могут чередоваться с периодами его пассивности или ожидания. В этом случае у такого объекта будет несколько фокусов управления. Получить фокус управления может только существующий объект. Если объект был уничтожен, то вновь возникнуть в системе он уже не может.    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1116000" y="54936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Диаграмма последовательности. </a:t>
            </a:r>
            <a:br>
              <a:rPr sz="2800"/>
            </a:b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Фокус управления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109" name="Object 5"/>
          <p:cNvGraphicFramePr/>
          <p:nvPr/>
        </p:nvGraphicFramePr>
        <p:xfrm>
          <a:off x="1619280" y="3997440"/>
          <a:ext cx="6048360" cy="245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3997440"/>
                    <a:ext cx="6048360" cy="24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68360" y="1773360"/>
            <a:ext cx="813600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В отдельных случаях инициатором взаимодействия в системе может быть актер или внешний пользователь. В этом случае актер изображается на диаграмме последовательности самым первым объектом слева со своим фокусом управления.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Иногда некоторый объект может инициировать рекурсивное взаимодействие с самим собой. Речь идет о том, что наличие во многих языках программирования специальных средств построения рекурсивных процедур требует визуализации соответствующих понятий в форме графических примитивов.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1116000" y="54936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Диаграмма последовательности. </a:t>
            </a:r>
            <a:br>
              <a:rPr sz="2800"/>
            </a:b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Фокус управления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0" y="26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115" name="Object 6"/>
          <p:cNvGraphicFramePr/>
          <p:nvPr/>
        </p:nvGraphicFramePr>
        <p:xfrm>
          <a:off x="1619280" y="3867120"/>
          <a:ext cx="6013440" cy="264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3867120"/>
                    <a:ext cx="6013440" cy="26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68360" y="1773360"/>
            <a:ext cx="813600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Цель взаимодействия в контексте языка UML заключается в том, чтобы специфицировать коммуникацию между множеством взаимодействующих объектов.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2948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Каждое взаимодействие описывается совокупностью сообщений, которыми участвующие в нем объекты обмениваются между собой. В этом смысле сообщение (</a:t>
            </a: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message</a:t>
            </a: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) представляет собой законченный фрагмент информации, который отправляется одним объектом другому.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2948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При этом прием сообщения инициирует выполнение определенных действий, направленных на решение отдельной задачи тем объектом, которому это сообщение отправлено.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2948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Отправителя сообщения - клиент, а получатель — сервер.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2948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При этом сообщение от клиента имеет форму запроса некоторого сервиса, а реакция сервера на запрос после получения сообщения может быть связана с выполнением определенных действий или передачи клиенту необходимой информации тоже в форме сообщения.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1116000" y="54936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Диаграмма последовательности. </a:t>
            </a:r>
            <a:br>
              <a:rPr sz="2800"/>
            </a:b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Сообщения. Определение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0" y="26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23640" y="3789360"/>
            <a:ext cx="813564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 algn="just">
              <a:lnSpc>
                <a:spcPct val="80000"/>
              </a:lnSpc>
              <a:spcBef>
                <a:spcPts val="451"/>
              </a:spcBef>
              <a:buClr>
                <a:srgbClr val="00264c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Первая разновидность сообщения (а) - наиболее распространенная.  Используется для вызова процедур, выполнения операций или обозначения отдельных вложенных потоков управления.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572760" indent="-572760" algn="just">
              <a:lnSpc>
                <a:spcPct val="80000"/>
              </a:lnSpc>
              <a:spcBef>
                <a:spcPts val="451"/>
              </a:spcBef>
              <a:buClr>
                <a:srgbClr val="00264c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Вторая разновидность сообщения (б) используется для обозначения простого (не вложенного) потока управления. Указывает на прогресс одного шага потока.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572760" indent="-572760" algn="just">
              <a:lnSpc>
                <a:spcPct val="80000"/>
              </a:lnSpc>
              <a:spcBef>
                <a:spcPts val="451"/>
              </a:spcBef>
              <a:buClr>
                <a:srgbClr val="00264c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Третья разновидность (в) явно обозначает асинхронное сообщение между двумя объектами в некоторой процедурной последовательности.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572760" indent="-572760" algn="just">
              <a:lnSpc>
                <a:spcPct val="80000"/>
              </a:lnSpc>
              <a:spcBef>
                <a:spcPts val="451"/>
              </a:spcBef>
              <a:buClr>
                <a:srgbClr val="00264c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Последняя разновидность сообщения (г) используется для возврата из вызова процедуры. Примером может служить простое сообщение о завершении некоторых вычислений без предоставления результата расчетов объекту-клиенту.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1116000" y="54936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Диаграмма последовательности. </a:t>
            </a:r>
            <a:br>
              <a:rPr sz="2800"/>
            </a:b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Сообщения. Виды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26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126" name="Object 6"/>
          <p:cNvGraphicFramePr/>
          <p:nvPr/>
        </p:nvGraphicFramePr>
        <p:xfrm>
          <a:off x="1908000" y="1700280"/>
          <a:ext cx="4535640" cy="190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1700280"/>
                    <a:ext cx="4535640" cy="19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95280" y="1699920"/>
            <a:ext cx="81360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Для изображения ветвления рисуются две или более стрелки, выходящие из одной точки фокуса управления объекта. При этом соответствующие условия должны быть явно указаны рядом с каждой из стрелок в форме сторожевого условия.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1116000" y="54936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Диаграмма последовательности. </a:t>
            </a:r>
            <a:br>
              <a:rPr sz="2800"/>
            </a:b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Ветвление потока управления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0" y="26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134" name="Object 8"/>
          <p:cNvGraphicFramePr/>
          <p:nvPr/>
        </p:nvGraphicFramePr>
        <p:xfrm>
          <a:off x="1908000" y="2781360"/>
          <a:ext cx="5977080" cy="28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2781360"/>
                    <a:ext cx="597708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Rectangle 10"/>
          <p:cNvSpPr/>
          <p:nvPr/>
        </p:nvSpPr>
        <p:spPr>
          <a:xfrm>
            <a:off x="324000" y="545292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Если эта сумма превышает $1000, то могут потребоваться дополнительные действия, связанные с созданием и последующим разрушением Объекта_4. Если же сумма превышает $50, но не превышает $1000, то управление передается Объекту_3. И, наконец, если сумма не превышает $50, то управление получает Объект_2.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2T17:59:02Z</dcterms:created>
  <dc:creator>www.MRMARKER.ru</dc:creator>
  <dc:description/>
  <dc:language>en-US</dc:language>
  <cp:lastModifiedBy>RePack by Diakov</cp:lastModifiedBy>
  <dcterms:modified xsi:type="dcterms:W3CDTF">2020-10-09T05:26:35Z</dcterms:modified>
  <cp:revision>175</cp:revision>
  <dc:subject/>
  <dc:title>Дисциплина: “Проектирование АСОИУ”. Практическое занятие: №1.  Тема: “Правила создания диаграммы вариантов использования (use case diagram)”</dc:title>
</cp:coreProperties>
</file>