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507-EBC2-41C0-82CE-F93088DA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1A1-72AB-4D99-BB44-D06A8995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83A-82DB-46F1-8FAD-1AC1B088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009-3C5B-469B-8B2B-D3434160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6D59-9A3A-43E0-AA44-15F73F13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8B65-FCFA-441D-A46B-3057E727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1C17-54CD-4EFD-AA1B-DEC30EFC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87B0-5DCA-49E5-99B5-85E617B4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F3C8-223B-4131-9F65-57CE0654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4AE9-6B3C-4094-AB3C-26198CB7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8360-23E1-475C-928C-78CDFE92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B38-4F5C-4C03-AAFE-2E884909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ACBD-BABF-421C-A415-CCB9BC2A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7033-2751-4737-B992-AFC28BC5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EF4A-8667-431E-A8EC-535867D8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2E39-304F-4364-9F3A-90CBF543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98DF-906A-4E80-8BF2-AFBBEA53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A0F-7D07-46E1-8D39-D447D572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B0C-CEE7-4942-8D46-E6906813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85E4-E12A-4B9A-A110-35CAA0AF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42F-E9BB-4C12-8D45-27E85B1C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FEA-6C30-48F9-A313-C74D9469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201-D9D1-4302-BEC5-6D9A7FB0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D83-C751-4257-B68E-1AEE3F8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B819-E12F-4086-91DA-88EAE6DF33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78B6-D91F-4F43-A87C-681CEA409A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0033"/>
                </a:solidFill>
                <a:latin typeface="Times New Roman"/>
              </a:rPr>
              <a:t>Мова ворожнечі та вдосконалення журналістських стандартів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Мова ворожнечі у ЗМІ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МІ,що найбільше вдаються до мови ворожнеч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орреспондент.net», 24tv.ua; TSN.ua, «Цензор.net», «Голос України», «Укрінформ», «ЛігаБізнесІнформ», «Газета по-українськи» та «Сегодня.ua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’єкти мови ворожнечі в українських ЗМІ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ителі Рос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тнічні гру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имушені переселенці, мігран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юди з інвалідніст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юди з наркотичною чи алкогольною залежніст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42252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89080" y="3245760"/>
            <a:ext cx="49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’єктами мови ворожнечі в українських З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апобігання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ксперти Мережі етичної журналістики (Ethical Journalism Network) виділ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’ять критерії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обігання мови ворожнеч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і мовле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и не становлять висловлювання суспільної небезпе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 не порушують вони норм законодав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 не міститься в них заклик до насильства стосовно окремих гру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апобігання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ус або посада мовц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інюємо, чи є мовець публічною особо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ублічну особи  можна проігнорува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апобігання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Поширеність мовле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ватна розмова чи трансляція через ЗМІ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ілі мовле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у мету переслідує мовец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апобігання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Економічна, соціальна і політична ситуаці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ва ворожнечі найбіль імовірна за часів економічної кризи, соціального протистояння або воєнних конфлікт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Запобігання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тримання професійних стандар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жерела інформаці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итати і коментар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ректна термінологі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кценти у тек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ва ворожнеч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це всі види висловлювань, які поширюють, розпалюють, підтримують або виправдовують расову ненависть, ксенофобію, антисемітизм та інші форми ненависті, викликані нетерпимістю, в тому числі нетерпимістю, що виявляється у формі ворожого ставлення до менш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’єкти мови ворожнечі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едставники певних рас, етносів чи релігійних гру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люди з інвалідністю, представники ЛГБТ-спільноти, літні люди та і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ідна ознака мови ворожнечі –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б’єктивне висвітлен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вної ситуаці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користання мови ворожнечі в ЗМІ свідчить про інформаційну агресі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Джерела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ова ворожнечі грунтуєть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оціальних стереотипах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 стійкі уявлення про представників певної групи – їхній характер, риси поведінки тощо – з погляду представників іншої групи. Зокрема мову ворожнечі спричиняють ґендерні, етнічні, расові, релігійні та інші стереотип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Джерела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ередженн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це негативна установка стосовно певної соціальної груп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кримінаці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це несправедливе ставлення до людей через те, що вони є членами певної групи. Дискримінацію часто розглядають як поведінкову сторону упередж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Позитивна дискримінація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зитивна дискримінація = позитивні д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 певні “бонуси” для якоїсь групи, яка через обставини, зазвичай історичні, перебуває у вразливішому становищі, ніж інш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оловний принцип позитивних дій - тимчасові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Різновиди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орстка мова ворожнечі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ики до насильства щодо груп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ики до дискримінації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уальовані заклики до насильства та дискримінації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лики не дати групі закріпитися в регіон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Різновиди мови ворожнечі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ередня мова ворожнечі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правдання історичних випадків насильства та дискримінац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ікації та висловлювання, які ставлять під сумнів загальновизнані історичні факти насильства та дискримінац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ердження про історичні злочини тієї чи тієї етнічної чи релігійної групи як тако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ердження про кримінальність тієї чи тієї етнічної чи релігійної груп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мірковування про непропорційну перевагу тієї чи тієї етнічної чи релігійної гру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инувачення тієї чи тієї етнічної чи релігійної групи у негативному впливі на суспільство, держав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инувачення групи у спробах захоплення влади чи у територіальній експанс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еречення громадян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330033"/>
                </a:solidFill>
                <a:latin typeface="Times New Roman"/>
              </a:rPr>
              <a:t>Різновиди мови ворожнечі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’яка мова ворожнечі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ворення негативного іміджу етнічної чи релігійної груп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ження про неповноцінність певної етнічної чи релігійної групи як такої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ження про моральні вади тієї чи тієї етнічної чи релігійної груп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гадування етнічної чи релігійної групи чи її представників як таких у принизливому чи образливому контекст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тування явно ксенофобних висловлювань і текстів без комен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2T16:38:38Z</dcterms:created>
  <dc:creator>Юлия</dc:creator>
  <dc:description/>
  <dc:language>en-US</dc:language>
  <cp:lastModifiedBy>Юлия</cp:lastModifiedBy>
  <dcterms:modified xsi:type="dcterms:W3CDTF">2020-10-21T04:39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