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E0F-4A6F-4F4A-92A3-F81ECF31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0F74-B109-45DC-81B7-4E04CA28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444-D4A6-4C31-804C-24CABA85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0EAC-422D-4C71-BF5F-593BD1C4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A295-43E1-4E3F-90EE-C3B88298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2CCE-CB1A-4BDB-99E0-4190EBAC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6C2C-882C-4BC4-B87B-FD74FCB3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9ABE-DC46-4B8C-8712-7196ACA5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C10A-6BE2-4CE0-A601-BCF35B7C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62BC-2D22-4F75-ADC8-B8A2E94A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DB63-252B-4C0A-A925-D6E9FFDB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807-9304-44C4-A2A8-3841D9C1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1E15-304F-4A8A-A237-0B4FEF6D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A248-0FE0-41F8-8150-8081D0BC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A174-34C0-4E8F-A934-5199564F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661F-ED4D-45F0-AC04-F2407709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1315-3A86-466D-A6D8-D0F1DB9E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7661-C148-469B-9965-06ADDD8E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020-B2AF-44B8-968C-ECCFD755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43B-CB57-4994-9582-6D82799E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305-B433-426F-A59C-E3C0D87D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B39-97D4-49E1-9DB9-92C779B2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34E9-5760-4602-879E-381B58AF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6012-C80A-4A51-AC4C-792EFB0C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A127-9977-442A-84DD-259091259F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75C1-FD84-4080-84D6-50751F6510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0033"/>
                </a:solidFill>
                <a:latin typeface="Times New Roman"/>
              </a:rPr>
              <a:t>Мова ворожнечі та вдосконалення журналістських стандартів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330033"/>
                </a:solidFill>
                <a:latin typeface="Times New Roman"/>
              </a:rPr>
              <a:t>Мова ворожнечі у ЗМІ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МІ,що найбільше вдаються до мови ворожнеч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орреспондент.net», 24tv.ua; TSN.ua, «Цензор.net», «Голос України», «Укрінформ», «ЛігаБізнесІнформ», «Газета по-українськи» та «Сегодня.ua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’єкти мови ворожнечі в українських ЗМ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жителі Рос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тнічні груп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мушені переселенці, мігран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юди з інвалідніст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юди з наркотичною чи алкогольною залежніст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42252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89080" y="3245760"/>
            <a:ext cx="49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’єктами мови ворожнечі в українських ЗМ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Запобігання мови ворожнеч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ксперти Мережі етичної журналістики (Ethical Journalism Network) виділ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’ять критерії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побігання мови ворожнеч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ст і мовле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и не становлять висловлювання суспільної небезпе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 не порушують вони норм законодав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 не міститься в них заклик до насильства стосовно окремих гру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Запобігання мови ворожнеч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тус або посада мовц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інюємо, чи є мовець публічною особо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ублічну особи  можна проігнорува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Запобігання мови ворожнеч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Поширеність мовле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ватна розмова чи трансляція через ЗМІ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ілі мовле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у мету переслідує мовец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Запобігання мови ворожнеч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Економічна, соціальна і політична ситуаці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ва ворожнечі найбіль імовірна за часів економічної кризи, соціального протистояння або воєнних конфлікт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Запобігання мови ворожнеч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отримання професійних стандар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жерела інформації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итати і коментар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ректна термінологі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кценти у тек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ва ворожнеч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це всі види висловлювань, які поширюють, розпалюють, підтримують або виправдовують расову ненависть, ксенофобію, антисемітизм та інші форми ненависті, викликані нетерпимістю, в тому числі нетерпимістю, що виявляється у формі ворожого ставлення до менш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’єкти мови ворожнечі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едставники певних рас, етносів чи релігійних гру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люди з інвалідністю, представники ЛГБТ-спільноти, літні люди та і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ідна ознака мови ворожнечі –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уб’єктивне висвітленн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вної ситуац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користання мови ворожнечі в ЗМІ свідчить про інформаційну агресі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Джерела мови ворожнеч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ова ворожнечі грунтується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оціальних стереотипах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 стійкі уявлення про представників певної групи – їхній характер, риси поведінки тощо – з погляду представників іншої групи. Зокрема мову ворожнечі спричиняють ґендерні, етнічні, расові, релігійні та інші стереотип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Джерела мови ворожнеч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ередженн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це негативна установка стосовно певної соціальної груп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кримінаці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це несправедливе ставлення до людей через те, що вони є членами певної групи. Дискримінацію часто розглядають як поведінкову сторону упередж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330033"/>
                </a:solidFill>
                <a:latin typeface="Times New Roman"/>
              </a:rPr>
              <a:t>“</a:t>
            </a:r>
            <a:r>
              <a:rPr b="1" lang="uk-UA" sz="4200" spc="-1" strike="noStrike">
                <a:solidFill>
                  <a:srgbClr val="330033"/>
                </a:solidFill>
                <a:latin typeface="Times New Roman"/>
              </a:rPr>
              <a:t>Позитивна дискримінація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зитивна дискримінація = позитивні д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 певні “бонуси” для якоїсь групи, яка через обставини, зазвичай історичні, перебуває у вразливішому становищі, ніж інш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оловний принцип позитивних дій - тимчасов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Різновиди мови ворожнеч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орстка мова ворожнечі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ики до насильства щодо груп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ики до дискримінації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уальовані заклики до насильства та дискримінації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ики не дати групі закріпитися в регіон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Різновиди мови ворожнеч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редня мова ворожнечі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правдання історичних випадків насильства та дискриміна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блікації та висловлювання, які ставлять під сумнів загальновизнані історичні факти насильства та дискримінації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ердження про історичні злочини тієї чи тієї етнічної чи релігійної групи як такої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ердження про кримінальність тієї чи тієї етнічної чи релігійної груп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змірковування про непропорційну перевагу тієї чи тієї етнічної чи релігійної груп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винувачення тієї чи тієї етнічної чи релігійної групи у негативному впливі на суспільство, держав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винувачення групи у спробах захоплення влади чи у територіальній експансії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еречення громадян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330033"/>
                </a:solidFill>
                <a:latin typeface="Times New Roman"/>
              </a:rPr>
              <a:t>Різновиди мови ворожнечі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’яка мова ворожнечі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ворення негативного іміджу етнічної чи релігійної груп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ердження про неповноцінність певної етнічної чи релігійної групи як такої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ердження про моральні вади тієї чи тієї етнічної чи релігійної груп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гадування етнічної чи релігійної групи чи її представників як таких у принизливому чи образливому контексті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тування явно ксенофобних висловлювань і текстів без комен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2T16:38:38Z</dcterms:created>
  <dc:creator>Юлия</dc:creator>
  <dc:description/>
  <dc:language>en-US</dc:language>
  <cp:lastModifiedBy>Юлия</cp:lastModifiedBy>
  <dcterms:modified xsi:type="dcterms:W3CDTF">2020-10-21T04:39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