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4996-7818-4808-AB7D-B4A9D4391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63D8-6F41-4730-BE5F-2E8297A7D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8B53-A90D-4348-87A5-038C5BE06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A926-5002-4D8A-B503-38E488EF4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72E7-FA10-4739-A990-B924F7F3B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668F-54F5-4143-BC72-D09980BFA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B1F0-CBB1-4D13-BB5D-417B4F8F8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9339-AAFD-4BE7-A4AF-CEEF142EA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55EC-8822-4357-A0C6-9A438CEF2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48D5-BA29-4860-9109-C36C0F53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976A-543C-4E65-A6F1-EBE082FC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354E-9192-4D70-B3BF-5798D224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B2241-3B0C-4DCF-88AA-610293E11D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2760" y="574200"/>
            <a:ext cx="11182320" cy="472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uk-UA" sz="6600" spc="-1" strike="noStrike">
                <a:solidFill>
                  <a:srgbClr val="ff0000"/>
                </a:solidFill>
                <a:latin typeface="Arial"/>
                <a:ea typeface="Arial"/>
              </a:rPr>
              <a:t>Іонна полімеризація. </a:t>
            </a:r>
            <a:br>
              <a:rPr sz="6600"/>
            </a:br>
            <a:br>
              <a:rPr sz="6600"/>
            </a:br>
            <a:r>
              <a:rPr b="1" lang="uk-UA" sz="6600" spc="-1" strike="noStrike">
                <a:solidFill>
                  <a:srgbClr val="ff0000"/>
                </a:solidFill>
                <a:latin typeface="Arial"/>
                <a:ea typeface="Arial"/>
              </a:rPr>
              <a:t>Катіонна полімеризація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74320" y="290160"/>
            <a:ext cx="11015640" cy="32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Ініціювання на прикладі  протонних кислот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оль середовища в катіонній полімеризації можна проілюструвати наступним прикладом. При взаємодії трифторуксусної кислоти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CF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COOH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із стиролом процес може протікати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з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дво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м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напрям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ка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. При введенні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CF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COOH в рідкий стирол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алополярна речовина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 напрямо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), противойон відразу ж приєднується до карбкатіону, утворюючи складноефірний аддук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2.    При повільному введенні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стиролу в рідку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CF</a:t>
            </a:r>
            <a:r>
              <a:rPr b="1" lang="uk-UA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COOH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високополярна речовина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2 напрямок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), іонна пара сольватована і карбкатіон «встигає» приєднат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 молекул стиролу з утворенням полімер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28" descr=""/>
          <p:cNvPicPr/>
          <p:nvPr/>
        </p:nvPicPr>
        <p:blipFill>
          <a:blip r:embed="rId1"/>
          <a:srcRect l="12035" t="9460" r="23324" b="53914"/>
          <a:stretch/>
        </p:blipFill>
        <p:spPr>
          <a:xfrm>
            <a:off x="1833480" y="3670200"/>
            <a:ext cx="79534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182160" y="0"/>
            <a:ext cx="117824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Стадії катіонної полімеризції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озглянемо реакцію на прикладі отримання поліізобутилену. Ініціатор-кислота Льюїса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Найчастіше в катіонній полімеризації відбувається мономолекулярний обри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rcRect l="28220" t="34474" r="44683" b="54131"/>
          <a:stretch/>
        </p:blipFill>
        <p:spPr>
          <a:xfrm>
            <a:off x="1058760" y="833400"/>
            <a:ext cx="9658440" cy="2293920"/>
          </a:xfrm>
          <a:prstGeom prst="rect">
            <a:avLst/>
          </a:prstGeom>
          <a:ln w="0">
            <a:noFill/>
          </a:ln>
        </p:spPr>
      </p:pic>
      <p:sp>
        <p:nvSpPr>
          <p:cNvPr id="70" name="TextBox 3"/>
          <p:cNvSpPr/>
          <p:nvPr/>
        </p:nvSpPr>
        <p:spPr>
          <a:xfrm>
            <a:off x="1427040" y="1471680"/>
            <a:ext cx="96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Кислота Льюї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7"/>
          <p:cNvSpPr/>
          <p:nvPr/>
        </p:nvSpPr>
        <p:spPr>
          <a:xfrm>
            <a:off x="3668760" y="144936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Ініціат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8"/>
          <p:cNvSpPr/>
          <p:nvPr/>
        </p:nvSpPr>
        <p:spPr>
          <a:xfrm>
            <a:off x="7145280" y="722160"/>
            <a:ext cx="19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Мономер-ізобутиле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9"/>
          <p:cNvSpPr/>
          <p:nvPr/>
        </p:nvSpPr>
        <p:spPr>
          <a:xfrm>
            <a:off x="2309760" y="1521000"/>
            <a:ext cx="103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Соката-лізат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10"/>
          <p:cNvSpPr/>
          <p:nvPr/>
        </p:nvSpPr>
        <p:spPr>
          <a:xfrm>
            <a:off x="6308640" y="3073320"/>
            <a:ext cx="34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Полімер з активним центр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11"/>
          <p:cNvSpPr/>
          <p:nvPr/>
        </p:nvSpPr>
        <p:spPr>
          <a:xfrm>
            <a:off x="1901880" y="2776680"/>
            <a:ext cx="163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Карбкатіо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12"/>
          <p:cNvSpPr/>
          <p:nvPr/>
        </p:nvSpPr>
        <p:spPr>
          <a:xfrm>
            <a:off x="3533760" y="280512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Карбаніо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13"/>
          <p:cNvSpPr/>
          <p:nvPr/>
        </p:nvSpPr>
        <p:spPr>
          <a:xfrm>
            <a:off x="5597640" y="144936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Ініціат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8744040" y="814320"/>
            <a:ext cx="7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іні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16"/>
          <p:cNvSpPr/>
          <p:nvPr/>
        </p:nvSpPr>
        <p:spPr>
          <a:xfrm>
            <a:off x="5205240" y="2646360"/>
            <a:ext cx="6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2"/>
          <a:srcRect l="0" t="31213" r="0" b="0"/>
          <a:stretch/>
        </p:blipFill>
        <p:spPr>
          <a:xfrm>
            <a:off x="2066760" y="4286160"/>
            <a:ext cx="8194680" cy="2332080"/>
          </a:xfrm>
          <a:prstGeom prst="rect">
            <a:avLst/>
          </a:prstGeom>
          <a:ln w="0">
            <a:noFill/>
          </a:ln>
        </p:spPr>
      </p:pic>
      <p:sp>
        <p:nvSpPr>
          <p:cNvPr id="81" name="TextBox 19"/>
          <p:cNvSpPr/>
          <p:nvPr/>
        </p:nvSpPr>
        <p:spPr>
          <a:xfrm rot="19753200">
            <a:off x="5446440" y="4849560"/>
            <a:ext cx="6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о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21"/>
          <p:cNvSpPr/>
          <p:nvPr/>
        </p:nvSpPr>
        <p:spPr>
          <a:xfrm rot="1644000">
            <a:off x="5713560" y="5546880"/>
            <a:ext cx="6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о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22"/>
          <p:cNvSpPr/>
          <p:nvPr/>
        </p:nvSpPr>
        <p:spPr>
          <a:xfrm>
            <a:off x="7924680" y="521028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Ініціат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23"/>
          <p:cNvSpPr/>
          <p:nvPr/>
        </p:nvSpPr>
        <p:spPr>
          <a:xfrm>
            <a:off x="8224920" y="645948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Ініціат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60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Arial"/>
                <a:ea typeface="Arial"/>
              </a:rPr>
              <a:t>5. Кінетика катіонної полімеризації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34720" y="720720"/>
            <a:ext cx="11744280" cy="61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1) Швидкість ініціації залежить від концентрації ініціатор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uk-UA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ініц.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= к</a:t>
            </a:r>
            <a:r>
              <a:rPr b="0" lang="uk-UA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ініц.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[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]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2) Швидкість росту ланцюга пропорційна концентрації карбкатіона і мономер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3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рив ланцюга описується рівнянням мономолекулярної реакції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 відношенню до концентрації активних центрі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4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Швидкість полімеризації матиме наступний вигляд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Рисунок 35" descr=""/>
          <p:cNvPicPr/>
          <p:nvPr/>
        </p:nvPicPr>
        <p:blipFill>
          <a:blip r:embed="rId1"/>
          <a:srcRect l="41834" t="79079" r="43836" b="16595"/>
          <a:stretch/>
        </p:blipFill>
        <p:spPr>
          <a:xfrm>
            <a:off x="4394160" y="2433600"/>
            <a:ext cx="2517840" cy="55728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36" descr=""/>
          <p:cNvPicPr/>
          <p:nvPr/>
        </p:nvPicPr>
        <p:blipFill>
          <a:blip r:embed="rId2"/>
          <a:srcRect l="45292" t="20489" r="44563" b="75056"/>
          <a:stretch/>
        </p:blipFill>
        <p:spPr>
          <a:xfrm>
            <a:off x="4732200" y="4246560"/>
            <a:ext cx="1903680" cy="669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4414680" y="5570640"/>
            <a:ext cx="274968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31640" y="590400"/>
            <a:ext cx="115999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5)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тупінь полімеризації приймає вигляд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6) Енергія активації залежить від енергій активації стадій процесу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Calibri"/>
              </a:rPr>
              <a:t>акт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= Е</a:t>
            </a:r>
            <a:r>
              <a:rPr b="0" lang="uk-UA" sz="2600" spc="-1" strike="noStrike" baseline="-25000">
                <a:solidFill>
                  <a:srgbClr val="000000"/>
                </a:solidFill>
                <a:latin typeface="Calibri"/>
              </a:rPr>
              <a:t>ініц.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+ Е</a:t>
            </a:r>
            <a:r>
              <a:rPr b="0" lang="uk-UA" sz="2600" spc="-1" strike="noStrike" baseline="-25000">
                <a:solidFill>
                  <a:srgbClr val="000000"/>
                </a:solidFill>
                <a:latin typeface="Calibri"/>
              </a:rPr>
              <a:t>росту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+ Е</a:t>
            </a:r>
            <a:r>
              <a:rPr b="0" lang="uk-UA" sz="2600" spc="-1" strike="noStrike" baseline="-25000">
                <a:solidFill>
                  <a:srgbClr val="000000"/>
                </a:solidFill>
                <a:latin typeface="Calibri"/>
              </a:rPr>
              <a:t>обрив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1" lang="uk-UA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обриву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в процесі значн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вище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, через це енергія активації в цілому може мати негативне значення, тому для таких реакцій характерний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негативний температурний коефіцієнт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38" descr=""/>
          <p:cNvPicPr/>
          <p:nvPr/>
        </p:nvPicPr>
        <p:blipFill>
          <a:blip r:embed="rId1"/>
          <a:srcRect l="37839" t="43347" r="39667" b="48706"/>
          <a:stretch/>
        </p:blipFill>
        <p:spPr>
          <a:xfrm>
            <a:off x="4067280" y="1246320"/>
            <a:ext cx="3463920" cy="9223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39" descr=""/>
          <p:cNvPicPr/>
          <p:nvPr/>
        </p:nvPicPr>
        <p:blipFill>
          <a:blip r:embed="rId2"/>
          <a:srcRect l="35569" t="51153" r="50158" b="40900"/>
          <a:stretch/>
        </p:blipFill>
        <p:spPr>
          <a:xfrm>
            <a:off x="4626000" y="2370240"/>
            <a:ext cx="22305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65040"/>
            <a:ext cx="1219212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uk-UA" sz="2800" spc="-1" strike="noStrike">
                <a:solidFill>
                  <a:srgbClr val="ff0000"/>
                </a:solidFill>
                <a:latin typeface="Arial"/>
                <a:ea typeface="Arial"/>
              </a:rPr>
              <a:t>6. Вплив природи середовища на процес катіонної полімеризації.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34720" y="1044720"/>
            <a:ext cx="11612520" cy="57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Чим більше полярність середовища, тим вище міра розділення і вище швидкість процесу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В таблиці наведені дані про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вплив різних середовищ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на швидкість протікання полімеризації α-метилстирола під дією SnCl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∙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O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!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еред найважливіших полімерів, що отримують за допомогою катіонної полімеризації, можна виділити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оліізобутилен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і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бутилкаучук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, а також сополімери триоксану і етиленоксид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, полівінілізобутиловий е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тер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444760" y="2921040"/>
          <a:ext cx="7072200" cy="2084400"/>
        </p:xfrm>
        <a:graphic>
          <a:graphicData uri="http://schemas.openxmlformats.org/drawingml/2006/table">
            <a:tbl>
              <a:tblPr/>
              <a:tblGrid>
                <a:gridCol w="2124000"/>
                <a:gridCol w="2108160"/>
                <a:gridCol w="2840040"/>
              </a:tblGrid>
              <a:tr h="7300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зчин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іелектрична проникність середовища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ідносна швидкість полімеризаці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иклогекс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хлор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і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о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і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обензо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33320" y="1449360"/>
            <a:ext cx="8869320" cy="292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ff5050"/>
                </a:solidFill>
                <a:latin typeface="Arial"/>
                <a:ea typeface="Arial"/>
              </a:rPr>
              <a:t>Дякую за увагу!</a:t>
            </a:r>
            <a:endParaRPr b="0" lang="en-US" sz="8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2600" y="147240"/>
            <a:ext cx="1036476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  <a:ea typeface="Arial"/>
              </a:rPr>
              <a:t>План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82520" y="928800"/>
            <a:ext cx="11095200" cy="56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1. Загальна характеристика іонної полімеризаці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2. Особливості іонної полімеризації в порівнянні з радикальною полімеризаціє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Загальна характеристика катіонної полімеризації. Мономери, які вступають в катіонну полімеризаці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4. Ініціатори (каталізатори) катіонної полімеризації. Стадії катіонної полімеризаці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5. Кінетика катіонної полімеризаці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6. Вплив природи середовища на процес катіонної полімеризаці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2600" y="747720"/>
            <a:ext cx="10364760" cy="4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Calibri Light"/>
              </a:rPr>
              <a:t>1. Загальна характеристика іонної полімеризації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6960" y="1380960"/>
            <a:ext cx="1178244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Іонна полімеризація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– реакція полімеризації,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ініціаторами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якої є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іони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або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поляризовані частки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. Розрізняють на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катіонну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і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аніонну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полімеризацію, в якій ініціаторами є катіони або аніон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- катіонна полімеризаці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- аніонна полімеризаці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Також існує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іонно-координаційна полімеризація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1" descr=""/>
          <p:cNvPicPr/>
          <p:nvPr/>
        </p:nvPicPr>
        <p:blipFill>
          <a:blip r:embed="rId1"/>
          <a:srcRect l="27902" t="27696" r="59114" b="60402"/>
          <a:stretch/>
        </p:blipFill>
        <p:spPr>
          <a:xfrm>
            <a:off x="604800" y="2955960"/>
            <a:ext cx="428148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1760" y="0"/>
            <a:ext cx="11704680" cy="124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uk-UA" sz="3200" spc="-1" strike="noStrike">
                <a:solidFill>
                  <a:srgbClr val="ff0000"/>
                </a:solidFill>
                <a:latin typeface="Arial"/>
                <a:ea typeface="Arial"/>
              </a:rPr>
              <a:t>2. Особливості іонної полімеризації в порівнянні </a:t>
            </a:r>
            <a:br>
              <a:rPr sz="3200"/>
            </a:br>
            <a:r>
              <a:rPr b="1" lang="uk-UA" sz="3200" spc="-1" strike="noStrike">
                <a:solidFill>
                  <a:srgbClr val="ff0000"/>
                </a:solidFill>
                <a:latin typeface="Arial"/>
                <a:ea typeface="Arial"/>
              </a:rPr>
              <a:t>з радикальною полімеризацією.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82520" y="1201320"/>
            <a:ext cx="11730240" cy="552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Вибірковість мономерів до процесів іонної полімеризації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Якщо замісники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електронодонорні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, то сполука буде взаємодіяти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з катіонами, можливий процес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катіонної полімеризації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Якщо замісники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електроноакцепторні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, то сполука буде взаємодіяти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з аніонами, можливий процес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аніонної полімеризації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Вибірковість мономера залежить від типу замісника, його впливу на подвійний зв’язок, розподілу електронної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густин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13" descr=""/>
          <p:cNvPicPr/>
          <p:nvPr/>
        </p:nvPicPr>
        <p:blipFill>
          <a:blip r:embed="rId1"/>
          <a:srcRect l="27352" t="42026" r="67488" b="53606"/>
          <a:stretch/>
        </p:blipFill>
        <p:spPr>
          <a:xfrm>
            <a:off x="4559400" y="2516040"/>
            <a:ext cx="2128680" cy="1000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"/>
          <p:cNvPicPr/>
          <p:nvPr/>
        </p:nvPicPr>
        <p:blipFill>
          <a:blip r:embed="rId2"/>
          <a:srcRect l="28512" t="65680" r="68596" b="29834"/>
          <a:stretch/>
        </p:blipFill>
        <p:spPr>
          <a:xfrm>
            <a:off x="5087880" y="4502160"/>
            <a:ext cx="122076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0" y="-360"/>
            <a:ext cx="1197936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2) Активні центри (іони) можуть існувати в процесах іонної полімеризації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в </a:t>
            </a:r>
            <a:r>
              <a:rPr b="1" lang="uk-UA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будь-яких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формах</a:t>
            </a:r>
            <a:r>
              <a:rPr b="1" lang="uk-UA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 u="sng">
                <a:solidFill>
                  <a:srgbClr val="000000"/>
                </a:solidFill>
                <a:uFillTx/>
                <a:latin typeface="Calibri"/>
              </a:rPr>
              <a:t>                                           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</a:t>
            </a: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(1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</a:t>
            </a: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(2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На протилежному кінці від іону знаходиться 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противоіон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, утворюється іонна пара катіон та карбаніон (1)  або аніон та карбкатіон (2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ри введенні полярного розчинника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можливо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отримати сольватно-розділену іонну пару або розділені іон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1" descr=""/>
          <p:cNvPicPr/>
          <p:nvPr/>
        </p:nvPicPr>
        <p:blipFill>
          <a:blip r:embed="rId1"/>
          <a:srcRect l="27720" t="36469" r="56063" b="53995"/>
          <a:stretch/>
        </p:blipFill>
        <p:spPr>
          <a:xfrm>
            <a:off x="2419200" y="1109520"/>
            <a:ext cx="4921560" cy="17528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" descr=""/>
          <p:cNvPicPr/>
          <p:nvPr/>
        </p:nvPicPr>
        <p:blipFill>
          <a:blip r:embed="rId2"/>
          <a:srcRect l="5593" t="4364" r="5602" b="0"/>
          <a:stretch/>
        </p:blipFill>
        <p:spPr>
          <a:xfrm>
            <a:off x="158760" y="4702320"/>
            <a:ext cx="7612200" cy="199044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8026560" y="4478400"/>
            <a:ext cx="4047840" cy="222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S – молекула розчинник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uk-UA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A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δ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– поляризований зв’язок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..... A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– контактна іонна пар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K 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.. S ... A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– сольватно-розділена іонна пар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uk-UA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uk-UA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 – вільні іон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09520" y="294840"/>
            <a:ext cx="11491920" cy="641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3)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Ініціатори іонної полімеризації не лише формують активні центри, але і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вплив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ають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на константи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росту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ланцюга, на будову ланцюгів, на обрив ланцюг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4) Кінетика полімеризації і будова полімерів, що утворюються, сильно залежить від природи середовищ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Чим більше полярність середовища, тим вище швидкість процесу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 радикальній полімеризації середовище практично не впливає на швидкість полімеризації, впливає лише на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молекулярну масу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лімеру, що утворюєтьс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5) Енергія активації зазвичай нижче, ніж для радикальної полімеризації. Багато реакцій мають негативний температурний коефіцієнт (тобто з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і з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иженням температури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,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швидкість реакції може збільшуватися)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6) У багатьох процесах іонної полімеризації характерне утворення полімерів, що мають регулярну і стереорегулярну будов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-360"/>
            <a:ext cx="11479320" cy="113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Arial"/>
                <a:ea typeface="Arial"/>
              </a:rPr>
              <a:t>3. Загальна характеристика катіонної полімеризації. Мономери, які вступають в катіонну полімеризацію.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94760" y="1112400"/>
            <a:ext cx="11796840" cy="54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Катіонна полімеризація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– це полімеризація, ініціаторами процесу якої є катіо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процес вступають мономери з кратним зв’язком С=С, що мають надлишкову електронну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густину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подвійному зв’язку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−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OR (R – алкіл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або арил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Х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R (алкільна група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1) Сполуки з кратними зв'язками ( нітрили, кетони, сульфід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19" descr=""/>
          <p:cNvPicPr/>
          <p:nvPr/>
        </p:nvPicPr>
        <p:blipFill>
          <a:blip r:embed="rId1"/>
          <a:srcRect l="11849" t="37840" r="76889" b="51493"/>
          <a:stretch/>
        </p:blipFill>
        <p:spPr>
          <a:xfrm>
            <a:off x="7023240" y="3051000"/>
            <a:ext cx="1776240" cy="12542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20" descr=""/>
          <p:cNvPicPr/>
          <p:nvPr/>
        </p:nvPicPr>
        <p:blipFill>
          <a:blip r:embed="rId2"/>
          <a:srcRect l="47170" t="53852" r="27602" b="38150"/>
          <a:stretch/>
        </p:blipFill>
        <p:spPr>
          <a:xfrm>
            <a:off x="1050840" y="5505480"/>
            <a:ext cx="3854520" cy="97776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5" descr=""/>
          <p:cNvPicPr/>
          <p:nvPr/>
        </p:nvPicPr>
        <p:blipFill>
          <a:blip r:embed="rId3"/>
          <a:srcRect l="11843" t="62581" r="56105" b="24324"/>
          <a:stretch/>
        </p:blipFill>
        <p:spPr>
          <a:xfrm>
            <a:off x="5908680" y="5180040"/>
            <a:ext cx="50086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61720" y="328680"/>
            <a:ext cx="11690280" cy="630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)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Ц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клічн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і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мономер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и(окиси, циклічні ацеталі, лактони, лактам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жуть існувати різні варіанти атаки катіона на молекулу мономе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Щоб визначити місце атаки катіона, необхідно порівняти стабільність продуктів, які утворюються. Це допоможе визначити будову полімеру, що утворюєть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16" descr=""/>
          <p:cNvPicPr/>
          <p:nvPr/>
        </p:nvPicPr>
        <p:blipFill>
          <a:blip r:embed="rId1"/>
          <a:srcRect l="12428" t="12612" r="41949" b="74776"/>
          <a:stretch/>
        </p:blipFill>
        <p:spPr>
          <a:xfrm>
            <a:off x="3046320" y="896760"/>
            <a:ext cx="6151680" cy="11448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23" descr=""/>
          <p:cNvPicPr/>
          <p:nvPr/>
        </p:nvPicPr>
        <p:blipFill>
          <a:blip r:embed="rId2"/>
          <a:srcRect l="11646" t="31045" r="64665" b="50031"/>
          <a:stretch/>
        </p:blipFill>
        <p:spPr>
          <a:xfrm>
            <a:off x="3951360" y="2844720"/>
            <a:ext cx="306684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7600" y="169920"/>
            <a:ext cx="1093608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Calibri Light"/>
              </a:rPr>
              <a:t>4. Ініціатори (каталізатори) катіонної полімеризації. Стадії катіонної полімеризації.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74320" y="1346040"/>
            <a:ext cx="11559960" cy="491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Ініціатори (каталізатори) катіонної полімеризаці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1) Протонні кислоти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CF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COOH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HCl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Н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lO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2) Кислоти Льюїса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BF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AlCl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AlBr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SnCl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ZnCl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. При цьому використовують  сокаталізатори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ROH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RCl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3) Галогени і міжгалогенні молекули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JBr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JCl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4) Онієві солі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NR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09T20:38:35Z</dcterms:created>
  <dc:creator>Ann Andr</dc:creator>
  <dc:description/>
  <dc:language>en-US</dc:language>
  <cp:lastModifiedBy>Дмитрий Каленюк</cp:lastModifiedBy>
  <dcterms:modified xsi:type="dcterms:W3CDTF">2020-10-27T21:14:27Z</dcterms:modified>
  <cp:revision>22</cp:revision>
  <dc:subject/>
  <dc:title>Презентация PowerPoint</dc:title>
</cp:coreProperties>
</file>