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F815-85C5-461C-9F08-D0DBC27B3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9E7A-BB1B-4F89-BEA7-14A37F87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176E-EC3C-4AB2-ABD1-0E9CF2C52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4F2B-CA92-4739-AA1B-661CF2FC2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68C5-F87D-4832-BE59-AC69579E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F8B2-C82B-4B35-AF0A-1CC4A2D2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C866-6070-4135-9A02-760C4BE5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3CEC-D6A2-4ACF-81DB-1F5C1FA5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C27D-47F4-410A-83C9-4C5A0DF7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A11B-E2C0-4427-BA96-465B47D4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76FE-4CDB-4A07-8AD0-7E4ABD5B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F492-493A-4977-8EE1-C41B0796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6BC7-5418-4F4E-B83A-F995B5E027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2760" y="574200"/>
            <a:ext cx="11182320" cy="472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uk-UA" sz="6600" spc="-1" strike="noStrike">
                <a:solidFill>
                  <a:srgbClr val="ff0000"/>
                </a:solidFill>
                <a:latin typeface="Arial"/>
                <a:ea typeface="Arial"/>
              </a:rPr>
              <a:t>Іонна полімеризація. </a:t>
            </a:r>
            <a:br>
              <a:rPr sz="6600"/>
            </a:br>
            <a:br>
              <a:rPr sz="6600"/>
            </a:br>
            <a:r>
              <a:rPr b="1" lang="uk-UA" sz="6600" spc="-1" strike="noStrike">
                <a:solidFill>
                  <a:srgbClr val="ff0000"/>
                </a:solidFill>
                <a:latin typeface="Arial"/>
                <a:ea typeface="Arial"/>
              </a:rPr>
              <a:t>Катіонна полімеризація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74320" y="290160"/>
            <a:ext cx="11015640" cy="32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Ініціювання на прикладі  протонних кисло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оль середовища в катіонній полімеризації можна проілюструвати наступним прикладом. При взаємодії трифторуксусної кислоти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OOH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із стиролом процес може протікати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дво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напрям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к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. При введенні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OOH в рідкий стиро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алополярна речовин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напрям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, противойон відразу ж приєднується до карбкатіону, утворюючи складноефірний аддук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2.    При повільному введенні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стиролу в рідк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1" lang="uk-UA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OOH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високополярна речовин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2 напрямок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, іонна пара сольватована і карбкатіон «встигає» приєднат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молекул стиролу з утворенням полімер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28" descr=""/>
          <p:cNvPicPr/>
          <p:nvPr/>
        </p:nvPicPr>
        <p:blipFill>
          <a:blip r:embed="rId1"/>
          <a:srcRect l="12035" t="9460" r="23324" b="53914"/>
          <a:stretch/>
        </p:blipFill>
        <p:spPr>
          <a:xfrm>
            <a:off x="1833480" y="3670200"/>
            <a:ext cx="79534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82160" y="0"/>
            <a:ext cx="11782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Стадії катіонної полімеризції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зглянемо реакцію на прикладі отримання поліізобутилену. Ініціатор-кислота Льюїса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Найчастіше в катіонній полімеризації відбувається мономолекулярний обри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rcRect l="28220" t="34474" r="44683" b="54131"/>
          <a:stretch/>
        </p:blipFill>
        <p:spPr>
          <a:xfrm>
            <a:off x="1058760" y="833400"/>
            <a:ext cx="9658440" cy="229392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1427040" y="1471680"/>
            <a:ext cx="96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ислота Льюї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3668760" y="144936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7145280" y="722160"/>
            <a:ext cx="19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Мономер-ізобутиле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2309760" y="1521000"/>
            <a:ext cx="10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Соката-ліз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6308640" y="3073320"/>
            <a:ext cx="34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олімер з активним центр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1901880" y="2776680"/>
            <a:ext cx="16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арбкаті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3533760" y="280512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арбані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3"/>
          <p:cNvSpPr/>
          <p:nvPr/>
        </p:nvSpPr>
        <p:spPr>
          <a:xfrm>
            <a:off x="5597640" y="144936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8744040" y="814320"/>
            <a:ext cx="7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6"/>
          <p:cNvSpPr/>
          <p:nvPr/>
        </p:nvSpPr>
        <p:spPr>
          <a:xfrm>
            <a:off x="5205240" y="2646360"/>
            <a:ext cx="6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2"/>
          <a:srcRect l="0" t="31213" r="0" b="0"/>
          <a:stretch/>
        </p:blipFill>
        <p:spPr>
          <a:xfrm>
            <a:off x="2066760" y="4286160"/>
            <a:ext cx="8194680" cy="2332080"/>
          </a:xfrm>
          <a:prstGeom prst="rect">
            <a:avLst/>
          </a:prstGeom>
          <a:ln w="0">
            <a:noFill/>
          </a:ln>
        </p:spPr>
      </p:pic>
      <p:sp>
        <p:nvSpPr>
          <p:cNvPr id="81" name="TextBox 19"/>
          <p:cNvSpPr/>
          <p:nvPr/>
        </p:nvSpPr>
        <p:spPr>
          <a:xfrm rot="19753200">
            <a:off x="5446440" y="4849560"/>
            <a:ext cx="6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1"/>
          <p:cNvSpPr/>
          <p:nvPr/>
        </p:nvSpPr>
        <p:spPr>
          <a:xfrm rot="1644000">
            <a:off x="5713560" y="5546880"/>
            <a:ext cx="6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2"/>
          <p:cNvSpPr/>
          <p:nvPr/>
        </p:nvSpPr>
        <p:spPr>
          <a:xfrm>
            <a:off x="7924680" y="521028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3"/>
          <p:cNvSpPr/>
          <p:nvPr/>
        </p:nvSpPr>
        <p:spPr>
          <a:xfrm>
            <a:off x="8224920" y="645948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60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5. Кінетика катіонної полімеризації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34720" y="720720"/>
            <a:ext cx="11744280" cy="61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1) Швидкість ініціації залежить від концентрації ініціато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ініц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= к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ініц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]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2) Швидкість росту ланцюга пропорційна концентрації карбкатіона і мономе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3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рив ланцюга описується рівнянням мономолекулярної реакції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 відношенню до концентрації активних центрі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4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Швидкість полімеризації матиме наступний вигля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35" descr=""/>
          <p:cNvPicPr/>
          <p:nvPr/>
        </p:nvPicPr>
        <p:blipFill>
          <a:blip r:embed="rId1"/>
          <a:srcRect l="41834" t="79079" r="43836" b="16595"/>
          <a:stretch/>
        </p:blipFill>
        <p:spPr>
          <a:xfrm>
            <a:off x="4394160" y="2433600"/>
            <a:ext cx="2517840" cy="5572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6" descr=""/>
          <p:cNvPicPr/>
          <p:nvPr/>
        </p:nvPicPr>
        <p:blipFill>
          <a:blip r:embed="rId2"/>
          <a:srcRect l="45292" t="20489" r="44563" b="75056"/>
          <a:stretch/>
        </p:blipFill>
        <p:spPr>
          <a:xfrm>
            <a:off x="4732200" y="4246560"/>
            <a:ext cx="1903680" cy="669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4414680" y="5570640"/>
            <a:ext cx="27496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31640" y="590400"/>
            <a:ext cx="11599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5)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тупінь полімеризації приймає вигляд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6) Енергія активації залежить від енергій активації стадій процесу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акт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= Е</a:t>
            </a:r>
            <a:r>
              <a:rPr b="0" lang="uk-UA" sz="2600" spc="-1" strike="noStrike" baseline="-25000">
                <a:solidFill>
                  <a:srgbClr val="000000"/>
                </a:solidFill>
                <a:latin typeface="Calibri"/>
              </a:rPr>
              <a:t>ініц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+ Е</a:t>
            </a:r>
            <a:r>
              <a:rPr b="0" lang="uk-UA" sz="2600" spc="-1" strike="noStrike" baseline="-25000">
                <a:solidFill>
                  <a:srgbClr val="000000"/>
                </a:solidFill>
                <a:latin typeface="Calibri"/>
              </a:rPr>
              <a:t>росту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+ Е</a:t>
            </a:r>
            <a:r>
              <a:rPr b="0" lang="uk-UA" sz="2600" spc="-1" strike="noStrike" baseline="-25000">
                <a:solidFill>
                  <a:srgbClr val="000000"/>
                </a:solidFill>
                <a:latin typeface="Calibri"/>
              </a:rPr>
              <a:t>обрив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1" lang="uk-UA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обриву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в процесі значн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вищ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через це енергія активації в цілому може мати негативне значення, тому для таких реакцій характерний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егативний температурний коефіцієн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8" descr=""/>
          <p:cNvPicPr/>
          <p:nvPr/>
        </p:nvPicPr>
        <p:blipFill>
          <a:blip r:embed="rId1"/>
          <a:srcRect l="37839" t="43347" r="39667" b="48706"/>
          <a:stretch/>
        </p:blipFill>
        <p:spPr>
          <a:xfrm>
            <a:off x="4067280" y="1246320"/>
            <a:ext cx="3463920" cy="9223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39" descr=""/>
          <p:cNvPicPr/>
          <p:nvPr/>
        </p:nvPicPr>
        <p:blipFill>
          <a:blip r:embed="rId2"/>
          <a:srcRect l="35569" t="51153" r="50158" b="40900"/>
          <a:stretch/>
        </p:blipFill>
        <p:spPr>
          <a:xfrm>
            <a:off x="4626000" y="2370240"/>
            <a:ext cx="22305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65040"/>
            <a:ext cx="1219212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uk-UA" sz="2800" spc="-1" strike="noStrike">
                <a:solidFill>
                  <a:srgbClr val="ff0000"/>
                </a:solidFill>
                <a:latin typeface="Arial"/>
                <a:ea typeface="Arial"/>
              </a:rPr>
              <a:t>6. Вплив природи середовища на процес катіонної полімеризації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34720" y="1044720"/>
            <a:ext cx="1161252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Чим більше полярність середовища, тим вище міра розділення і вище швидкість процес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В таблиці наведені дані про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плив різних середовищ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а швидкість протікання полімеризації α-метилстирола під дією SnCl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∙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O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!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еред найважливіших полімерів, що отримують за допомогою катіонної полімеризації, можна виділит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оліізобутилен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і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бутилкаучук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а також сополімери триоксану і етиленоксид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полівінілізобутиловий е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те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444760" y="2921040"/>
          <a:ext cx="7072200" cy="2084400"/>
        </p:xfrm>
        <a:graphic>
          <a:graphicData uri="http://schemas.openxmlformats.org/drawingml/2006/table">
            <a:tbl>
              <a:tblPr/>
              <a:tblGrid>
                <a:gridCol w="2124000"/>
                <a:gridCol w="2108160"/>
                <a:gridCol w="2840040"/>
              </a:tblGrid>
              <a:tr h="730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зчин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іелектрична проникність середовищ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ідносна швидкість полімериз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клогекс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хлор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бенз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33320" y="1449360"/>
            <a:ext cx="8869320" cy="292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5050"/>
                </a:solidFill>
                <a:latin typeface="Arial"/>
                <a:ea typeface="Arial"/>
              </a:rPr>
              <a:t>Дякую за увагу!</a:t>
            </a: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2600" y="147240"/>
            <a:ext cx="1036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  <a:ea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2520" y="928800"/>
            <a:ext cx="11095200" cy="56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1. Загальна характеристика 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2. Особливості іонної полімеризації в порівнянні з радикальною полімеризаціє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Загальна характеристика катіонної полімеризації. Мономери, які вступають в катіонну полімеризаці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4. Ініціатори (каталізатори) катіонної полімеризації. Стадії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5. Кінетика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6. Вплив природи середовища на процес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2600" y="747720"/>
            <a:ext cx="1036476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 Light"/>
              </a:rPr>
              <a:t>1. Загальна характеристика іонної полімеризації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6960" y="1380960"/>
            <a:ext cx="1178244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онна полімеризація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– реакція полімеризації,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ніціаторам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якої є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он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або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поляризовані частк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. Розрізняють на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катіонну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і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аніонну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полімеризацію, в якій ініціаторами є катіони або аніон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- катіонна полімериза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- аніонна полімериза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Також існує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онно-координаційна полімеризація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1" descr=""/>
          <p:cNvPicPr/>
          <p:nvPr/>
        </p:nvPicPr>
        <p:blipFill>
          <a:blip r:embed="rId1"/>
          <a:srcRect l="27902" t="27696" r="59114" b="60402"/>
          <a:stretch/>
        </p:blipFill>
        <p:spPr>
          <a:xfrm>
            <a:off x="604800" y="2955960"/>
            <a:ext cx="42814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1760" y="0"/>
            <a:ext cx="1170468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2. Особливості іонної полімеризації в порівнянні </a:t>
            </a:r>
            <a:br>
              <a:rPr sz="3200"/>
            </a:b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з радикальною полімеризацією.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82520" y="1201320"/>
            <a:ext cx="11730240" cy="55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ибірковість мономерів до процесів іонної полімеризації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Якщо замісники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одонорн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, то сполука буде взаємодіяти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з катіонами, можливий процес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катіонної полімериза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Якщо замісники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оакцепторн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, то сполука буде взаємодіяти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з аніонами, можливий процес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аніонної полімериза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Вибірковість мономера залежить від типу замісника, його впливу на подвійний зв’язок, розподілу електронної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густи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13" descr=""/>
          <p:cNvPicPr/>
          <p:nvPr/>
        </p:nvPicPr>
        <p:blipFill>
          <a:blip r:embed="rId1"/>
          <a:srcRect l="27352" t="42026" r="67488" b="53606"/>
          <a:stretch/>
        </p:blipFill>
        <p:spPr>
          <a:xfrm>
            <a:off x="4559400" y="2516040"/>
            <a:ext cx="2128680" cy="1000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2"/>
          <a:srcRect l="28512" t="65680" r="68596" b="29834"/>
          <a:stretch/>
        </p:blipFill>
        <p:spPr>
          <a:xfrm>
            <a:off x="5087880" y="4502160"/>
            <a:ext cx="122076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-360"/>
            <a:ext cx="119793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) Активні центри (іони) можуть існувати в процесах іонної полімеризації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 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будь-яких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формах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Calibri"/>
              </a:rPr>
              <a:t>                 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</a:t>
            </a: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</a:t>
            </a: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На протилежному кінці від іону знаходиться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противоіон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, утворюється іонна пара катіон та карбаніон (1)  або аніон та карбкатіон (2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и введенні полярного розчинника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можлив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отримати сольватно-розділену іонну пару або розділені іон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1" descr=""/>
          <p:cNvPicPr/>
          <p:nvPr/>
        </p:nvPicPr>
        <p:blipFill>
          <a:blip r:embed="rId1"/>
          <a:srcRect l="27720" t="36469" r="56063" b="53995"/>
          <a:stretch/>
        </p:blipFill>
        <p:spPr>
          <a:xfrm>
            <a:off x="2419200" y="1109520"/>
            <a:ext cx="4921560" cy="17528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" descr=""/>
          <p:cNvPicPr/>
          <p:nvPr/>
        </p:nvPicPr>
        <p:blipFill>
          <a:blip r:embed="rId2"/>
          <a:srcRect l="5593" t="4364" r="5602" b="0"/>
          <a:stretch/>
        </p:blipFill>
        <p:spPr>
          <a:xfrm>
            <a:off x="158760" y="4702320"/>
            <a:ext cx="7612200" cy="199044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8026560" y="4478400"/>
            <a:ext cx="404784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S – молекула розчинни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δ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поляризований зв’язо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..... 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контактна іонна па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K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.. S ... 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сольватно-розділена іонна па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– вільні іон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09520" y="294840"/>
            <a:ext cx="11491920" cy="64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)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Ініціатори іонної полімеризації не лише формують активні центри, але і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плив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ють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на константи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осту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ланцюга, на будову ланцюгів, на обрив ланцюг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) Кінетика полімеризації і будова полімерів, що утворюються, сильно залежить від природи середовищ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им більше полярність середовища, тим вище швидкість процесу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 радикальній полімеризації середовище практично не впливає на швидкість полімеризації, впливає лише на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ярну мас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імеру, що утворюєть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) Енергія активації зазвичай нижче, ніж для радикальної полімеризації. Багато реакцій мають негативний температурний коефіцієнт (тобто з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і з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иженням температури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,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швидкість реакції може збільшуватися)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6) У багатьох процесах іонної полімеризації характерне утворення полімерів, що мають регулярну і стереорегулярну будов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-360"/>
            <a:ext cx="11479320" cy="11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3. Загальна характеристика катіонної полімеризації. Мономери, які вступають в катіонну полімеризацію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94760" y="1112400"/>
            <a:ext cx="11796840" cy="54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Катіонна полімеризаці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– це полімеризація, ініціаторами процесу якої є катіо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процес вступають мономери з кратним зв’язком С=С, що мають надлишкову електронну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густину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подвійному зв’язк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−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OR (R – алкіл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або арил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R (алкільна груп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1) Сполуки з кратними зв'язками ( нітрили, кетони, сульфід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19" descr=""/>
          <p:cNvPicPr/>
          <p:nvPr/>
        </p:nvPicPr>
        <p:blipFill>
          <a:blip r:embed="rId1"/>
          <a:srcRect l="11849" t="37840" r="76889" b="51493"/>
          <a:stretch/>
        </p:blipFill>
        <p:spPr>
          <a:xfrm>
            <a:off x="7023240" y="3051000"/>
            <a:ext cx="1776240" cy="1254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0" descr=""/>
          <p:cNvPicPr/>
          <p:nvPr/>
        </p:nvPicPr>
        <p:blipFill>
          <a:blip r:embed="rId2"/>
          <a:srcRect l="47170" t="53852" r="27602" b="38150"/>
          <a:stretch/>
        </p:blipFill>
        <p:spPr>
          <a:xfrm>
            <a:off x="1050840" y="5505480"/>
            <a:ext cx="3854520" cy="9777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5" descr=""/>
          <p:cNvPicPr/>
          <p:nvPr/>
        </p:nvPicPr>
        <p:blipFill>
          <a:blip r:embed="rId3"/>
          <a:srcRect l="11843" t="62581" r="56105" b="24324"/>
          <a:stretch/>
        </p:blipFill>
        <p:spPr>
          <a:xfrm>
            <a:off x="5908680" y="5180040"/>
            <a:ext cx="50086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61720" y="328680"/>
            <a:ext cx="11690280" cy="630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)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кліч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мономер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и(окиси, циклічні ацеталі, лактони, лактам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жуть існувати різні варіанти атаки катіона на молекулу мономе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Щоб визначити місце атаки катіона, необхідно порівняти стабільність продуктів, які утворюються. Це допоможе визначити будову полімеру, що утворює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16" descr=""/>
          <p:cNvPicPr/>
          <p:nvPr/>
        </p:nvPicPr>
        <p:blipFill>
          <a:blip r:embed="rId1"/>
          <a:srcRect l="12428" t="12612" r="41949" b="74776"/>
          <a:stretch/>
        </p:blipFill>
        <p:spPr>
          <a:xfrm>
            <a:off x="3046320" y="896760"/>
            <a:ext cx="6151680" cy="11448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3" descr=""/>
          <p:cNvPicPr/>
          <p:nvPr/>
        </p:nvPicPr>
        <p:blipFill>
          <a:blip r:embed="rId2"/>
          <a:srcRect l="11646" t="31045" r="64665" b="50031"/>
          <a:stretch/>
        </p:blipFill>
        <p:spPr>
          <a:xfrm>
            <a:off x="3951360" y="2844720"/>
            <a:ext cx="30668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7600" y="169920"/>
            <a:ext cx="109360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Calibri Light"/>
              </a:rPr>
              <a:t>4. Ініціатори (каталізатори) катіонної полімеризації. Стадії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74320" y="1346040"/>
            <a:ext cx="11559960" cy="491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Ініціатори (каталізатори)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1) Протонні кислот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COOH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Cl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Н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lO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2) Кислоти Льюїса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BF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AlCl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AlBr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SnCl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ZnCl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. При цьому використовують  сокаталізатор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ROH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RCl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3) Галогени і міжгалогенні молекул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JBr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JCl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4) Онієві солі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NR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9T20:38:35Z</dcterms:created>
  <dc:creator>Ann Andr</dc:creator>
  <dc:description/>
  <dc:language>en-US</dc:language>
  <cp:lastModifiedBy>Дмитрий Каленюк</cp:lastModifiedBy>
  <dcterms:modified xsi:type="dcterms:W3CDTF">2020-10-27T21:14:27Z</dcterms:modified>
  <cp:revision>22</cp:revision>
  <dc:subject/>
  <dc:title>Презентация PowerPoint</dc:title>
</cp:coreProperties>
</file>