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7F36-0E43-4763-9F4C-5B19EEC5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017-4163-422F-872F-D3EFFF7E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2C66-0B24-402A-9705-BAA9C5D7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076-066F-4FFE-BD79-254A0085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D0E-6C6C-4458-B6C7-0F31E815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619B-F250-4603-8EE5-5BD0B50D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BB12-B488-47AB-A25E-92BBF428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AA3-F017-474D-B68A-92F85E75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D22C-F62A-49E9-BC8C-94950DBA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50A-CFE7-4686-84FF-3D708A79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5643-A206-4370-B327-5AB55B3B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FA9-958A-49E3-8657-C8C1F99F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E381-CF77-4112-8E26-AF0C8A4ED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574200"/>
            <a:ext cx="11182320" cy="472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Іонна полімеризація. </a:t>
            </a:r>
            <a:br>
              <a:rPr sz="6600"/>
            </a:b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Катіонна полімеризація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74320" y="290160"/>
            <a:ext cx="110156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Ініціювання на прикладі  протонних кисло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ль середовища в катіонній полімеризації можна проілюструвати наступним прикладом. При взаємодії трифторуксусної кисло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із стиролом процес може протіка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в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При введенн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 в рідкий стиро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, противойон відразу ж приєднується до карбкатіону, утворюючи складноефірний аддук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.    При повільному введенні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стиролу в рід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uk-UA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висок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 напрямо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, іонна пара сольватована і карбкатіон «встигає» приєдна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молекул стиролу з утворенням поліме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8" descr=""/>
          <p:cNvPicPr/>
          <p:nvPr/>
        </p:nvPicPr>
        <p:blipFill>
          <a:blip r:embed="rId1"/>
          <a:srcRect l="12035" t="9460" r="23324" b="53914"/>
          <a:stretch/>
        </p:blipFill>
        <p:spPr>
          <a:xfrm>
            <a:off x="1833480" y="3670200"/>
            <a:ext cx="7953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82160" y="0"/>
            <a:ext cx="11782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Стадії катіонної полімеризції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зглянемо реакцію на прикладі отримання поліізобутилену. Ініціатор-кислота Льюїс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Найчастіше в катіонній полімеризації відбувається мономолекулярний обри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rcRect l="28220" t="34474" r="44683" b="54131"/>
          <a:stretch/>
        </p:blipFill>
        <p:spPr>
          <a:xfrm>
            <a:off x="1058760" y="833400"/>
            <a:ext cx="9658440" cy="2293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1427040" y="1471680"/>
            <a:ext cx="9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ислота Льюї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66876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7145280" y="72216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ономер-ізобутил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309760" y="1521000"/>
            <a:ext cx="10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оката-ліз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308640" y="30733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лімер з активним цент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901880" y="277668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кат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3533760" y="28051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ан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559764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8744040" y="814320"/>
            <a:ext cx="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5205240" y="2646360"/>
            <a:ext cx="6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rcRect l="0" t="31213" r="0" b="0"/>
          <a:stretch/>
        </p:blipFill>
        <p:spPr>
          <a:xfrm>
            <a:off x="2066760" y="4286160"/>
            <a:ext cx="8194680" cy="2332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9"/>
          <p:cNvSpPr/>
          <p:nvPr/>
        </p:nvSpPr>
        <p:spPr>
          <a:xfrm rot="19753200">
            <a:off x="5446440" y="4849560"/>
            <a:ext cx="6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 rot="1644000">
            <a:off x="5713560" y="5546880"/>
            <a:ext cx="6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7924680" y="5210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8224920" y="64594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6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5. Кінетика катіонної полімеризації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4720" y="720720"/>
            <a:ext cx="11744280" cy="61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Швидкість ініціації залежить від концентрації ініціато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= к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) Швидкість росту ланцюга пропорційна концентрації карбкатіона і мономе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ив ланцюга описується рівнянням мономолекулярної реакці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відношенню до концентрації активних центрі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4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видкість полімеризації матиме наступний вигля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5" descr=""/>
          <p:cNvPicPr/>
          <p:nvPr/>
        </p:nvPicPr>
        <p:blipFill>
          <a:blip r:embed="rId1"/>
          <a:srcRect l="41834" t="79079" r="43836" b="16595"/>
          <a:stretch/>
        </p:blipFill>
        <p:spPr>
          <a:xfrm>
            <a:off x="4394160" y="2433600"/>
            <a:ext cx="2517840" cy="557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6" descr=""/>
          <p:cNvPicPr/>
          <p:nvPr/>
        </p:nvPicPr>
        <p:blipFill>
          <a:blip r:embed="rId2"/>
          <a:srcRect l="45292" t="20489" r="44563" b="75056"/>
          <a:stretch/>
        </p:blipFill>
        <p:spPr>
          <a:xfrm>
            <a:off x="4732200" y="4246560"/>
            <a:ext cx="1903680" cy="669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4414680" y="5570640"/>
            <a:ext cx="2749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31640" y="590400"/>
            <a:ext cx="11599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5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тупінь полімеризації приймає вигля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6) Енергія активації залежить від енергій активації стадій процес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ак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=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ініц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росту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обрив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uk-UA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обриву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 процесі значн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ищ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через це енергія активації в цілому може мати негативне значення, тому для таких реакцій характерний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ий температурний коефіцієн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8" descr=""/>
          <p:cNvPicPr/>
          <p:nvPr/>
        </p:nvPicPr>
        <p:blipFill>
          <a:blip r:embed="rId1"/>
          <a:srcRect l="37839" t="43347" r="39667" b="48706"/>
          <a:stretch/>
        </p:blipFill>
        <p:spPr>
          <a:xfrm>
            <a:off x="4067280" y="1246320"/>
            <a:ext cx="3463920" cy="9223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9" descr=""/>
          <p:cNvPicPr/>
          <p:nvPr/>
        </p:nvPicPr>
        <p:blipFill>
          <a:blip r:embed="rId2"/>
          <a:srcRect l="35569" t="51153" r="50158" b="40900"/>
          <a:stretch/>
        </p:blipFill>
        <p:spPr>
          <a:xfrm>
            <a:off x="4626000" y="2370240"/>
            <a:ext cx="22305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65040"/>
            <a:ext cx="12192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4720" y="1044720"/>
            <a:ext cx="1161252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міра розділення і вище швидкість проце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В таблиці наведені дані пр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плив різних середовищ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 швидкість протікання полімеризації α-метилстирола під дією SnCl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∙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!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еред найважливіших полімерів, що отримують за допомогою катіонної полімеризації, можна виділит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ліізобутиле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і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утилкаучу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а також сополімери триоксану і етиленоксид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полівінілізобутиловий е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те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444760" y="2921040"/>
          <a:ext cx="7072200" cy="2084400"/>
        </p:xfrm>
        <a:graphic>
          <a:graphicData uri="http://schemas.openxmlformats.org/drawingml/2006/table">
            <a:tbl>
              <a:tblPr/>
              <a:tblGrid>
                <a:gridCol w="2124000"/>
                <a:gridCol w="2108160"/>
                <a:gridCol w="2840040"/>
              </a:tblGrid>
              <a:tr h="73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чин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іелектрична проникність середовищ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носна швидкість полімериз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клогек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хлор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бенз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3320" y="1449360"/>
            <a:ext cx="886932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5050"/>
                </a:solidFill>
                <a:latin typeface="Arial"/>
                <a:ea typeface="Arial"/>
              </a:rPr>
              <a:t>Дякую за увагу!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2600" y="147240"/>
            <a:ext cx="1036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  <a:ea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520" y="928800"/>
            <a:ext cx="11095200" cy="56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гальна характеристика 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. Особливості іонної полімеризації в порівнянні з радикальною полімеризаціє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5. Кінетика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2600" y="747720"/>
            <a:ext cx="1036476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 Light"/>
              </a:rPr>
              <a:t>1. Загальна характеристика іонної полімеризації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60" y="1380960"/>
            <a:ext cx="1178244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– реакція полімеризації,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ніціаторам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якої 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або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оляризовані частк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 Розрізняють на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т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ан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полімеризацію, в якій ініціаторами є катіони або аніо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кат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ан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Також існу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о-координаційна полімеризаці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rcRect l="27902" t="27696" r="59114" b="60402"/>
          <a:stretch/>
        </p:blipFill>
        <p:spPr>
          <a:xfrm>
            <a:off x="604800" y="2955960"/>
            <a:ext cx="42814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117046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2. Особливості іонної полімеризації в порівнянні 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з радикальною полімеризацією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2520" y="1201320"/>
            <a:ext cx="1173024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ибірковість мономерів до процесів іонної полімеризац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дон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кат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акцепт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ан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ан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ибірковість мономера залежить від типу замісника, його впливу на подвійний зв’язок, розподілу електронно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3" descr=""/>
          <p:cNvPicPr/>
          <p:nvPr/>
        </p:nvPicPr>
        <p:blipFill>
          <a:blip r:embed="rId1"/>
          <a:srcRect l="27352" t="42026" r="67488" b="53606"/>
          <a:stretch/>
        </p:blipFill>
        <p:spPr>
          <a:xfrm>
            <a:off x="4559400" y="2516040"/>
            <a:ext cx="2128680" cy="1000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rcRect l="28512" t="65680" r="68596" b="29834"/>
          <a:stretch/>
        </p:blipFill>
        <p:spPr>
          <a:xfrm>
            <a:off x="5087880" y="4502160"/>
            <a:ext cx="12207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-360"/>
            <a:ext cx="1197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) Активні центри (іони) можуть існувати в процесах іонної полімеризації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удь-яких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ормах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На протилежному кінці від іону знаходитьс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противоіон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, утворюється іонна пара катіон та карбаніон (1)  або аніон та карбкатіон (2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 введенні полярного розчинника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можли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отримати сольватно-розділену іонну пару або розділені іон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rcRect l="27720" t="36469" r="56063" b="53995"/>
          <a:stretch/>
        </p:blipFill>
        <p:spPr>
          <a:xfrm>
            <a:off x="2419200" y="1109520"/>
            <a:ext cx="4921560" cy="1752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2"/>
          <a:srcRect l="5593" t="4364" r="5602" b="0"/>
          <a:stretch/>
        </p:blipFill>
        <p:spPr>
          <a:xfrm>
            <a:off x="158760" y="4702320"/>
            <a:ext cx="7612200" cy="1990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8026560" y="4478400"/>
            <a:ext cx="404784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S – молекула розчин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поляризований зв’яз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..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контакт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.. S 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сольватно-розділе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– вільні іо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9520" y="294840"/>
            <a:ext cx="11491920" cy="64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ніціатори іонної полімеризації не лише формують активні центри, але і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плив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ють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на константи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осту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ланцюга, на будову ланцюгів, на обрив ланцюг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) Кінетика полімеризації і будова полімерів, що утворюються, сильно залежить від природи середовищ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швидкість процес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радикальній полімеризації середовище практично не впливає на швидкість полімеризації, впливає лише на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ярну мас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імеру, що утворюєть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) Енергія активації зазвичай нижче, ніж для радикальної полімеризації. Багато реакцій мають негативний температурний коефіцієнт (тобто з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 з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женням температури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швидкість реакції може збільшуватися)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) У багатьох процесах іонної полімеризації характерне утворення полімерів, що мають регулярну і стереорегулярну будо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1147932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3. 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4760" y="1112400"/>
            <a:ext cx="1179684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– це полімеризація, ініціаторами процесу якої є катіо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оцес вступають мономери з кратним зв’язком С=С, що мають надлишкову електронну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одвійному зв’яз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−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OR (R – алкіл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бо ари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R (алкільна груп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Сполуки з кратними зв'язками ( нітрили, кетони, сульфід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9" descr=""/>
          <p:cNvPicPr/>
          <p:nvPr/>
        </p:nvPicPr>
        <p:blipFill>
          <a:blip r:embed="rId1"/>
          <a:srcRect l="11849" t="37840" r="76889" b="51493"/>
          <a:stretch/>
        </p:blipFill>
        <p:spPr>
          <a:xfrm>
            <a:off x="7023240" y="3051000"/>
            <a:ext cx="1776240" cy="125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0" descr=""/>
          <p:cNvPicPr/>
          <p:nvPr/>
        </p:nvPicPr>
        <p:blipFill>
          <a:blip r:embed="rId2"/>
          <a:srcRect l="47170" t="53852" r="27602" b="38150"/>
          <a:stretch/>
        </p:blipFill>
        <p:spPr>
          <a:xfrm>
            <a:off x="1050840" y="5505480"/>
            <a:ext cx="3854520" cy="977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"/>
          <p:cNvPicPr/>
          <p:nvPr/>
        </p:nvPicPr>
        <p:blipFill>
          <a:blip r:embed="rId3"/>
          <a:srcRect l="11843" t="62581" r="56105" b="24324"/>
          <a:stretch/>
        </p:blipFill>
        <p:spPr>
          <a:xfrm>
            <a:off x="5908680" y="5180040"/>
            <a:ext cx="50086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61720" y="328680"/>
            <a:ext cx="11690280" cy="63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клі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мономе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и(окиси, циклічні ацеталі, лактони, лакта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жуть існувати різні варіанти атаки катіона на молекулу моном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Щоб визначити місце атаки катіона, необхідно порівняти стабільність продуктів, які утворюються. Це допоможе визначити будову полімеру, що утворює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6" descr=""/>
          <p:cNvPicPr/>
          <p:nvPr/>
        </p:nvPicPr>
        <p:blipFill>
          <a:blip r:embed="rId1"/>
          <a:srcRect l="12428" t="12612" r="41949" b="74776"/>
          <a:stretch/>
        </p:blipFill>
        <p:spPr>
          <a:xfrm>
            <a:off x="3046320" y="896760"/>
            <a:ext cx="6151680" cy="1144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3" descr=""/>
          <p:cNvPicPr/>
          <p:nvPr/>
        </p:nvPicPr>
        <p:blipFill>
          <a:blip r:embed="rId2"/>
          <a:srcRect l="11646" t="31045" r="64665" b="50031"/>
          <a:stretch/>
        </p:blipFill>
        <p:spPr>
          <a:xfrm>
            <a:off x="3951360" y="2844720"/>
            <a:ext cx="3066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7600" y="169920"/>
            <a:ext cx="109360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 Light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4320" y="1346040"/>
            <a:ext cx="1155996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Ініціатори (каталізатори)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) Протонні кислот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Н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l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) Кислоти Льюїс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B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B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Z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При цьому використовують  сокаталізатор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) Галогени і міжгалогенні молекул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Br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) Онієві солі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N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9T20:38:35Z</dcterms:created>
  <dc:creator>Ann Andr</dc:creator>
  <dc:description/>
  <dc:language>en-US</dc:language>
  <cp:lastModifiedBy>Дмитрий Каленюк</cp:lastModifiedBy>
  <dcterms:modified xsi:type="dcterms:W3CDTF">2020-10-27T21:14:27Z</dcterms:modified>
  <cp:revision>22</cp:revision>
  <dc:subject/>
  <dc:title>Презентация PowerPoint</dc:title>
</cp:coreProperties>
</file>