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4A4-EF2E-4043-8DB9-02765AB4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7EF-9D0B-4617-8038-58A987AC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653-5F4A-472B-9408-6268FC41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713-AAB9-4E22-981A-4AD91F02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8A8-403B-400B-AF2F-A1B24A01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614-E7AD-46BA-B721-991B5742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3EC-8E36-45BC-9BA8-8598B678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749-D903-4575-9A5F-64EADDD1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EA2-4EE6-41AC-B7F8-9C4CCC6B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C70-7A9D-4A47-80B7-F204279C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7C9-7160-400B-8284-B41D7088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2CF-7C8B-4C9E-8BD6-8337EC75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453B-6E6A-43F5-AF96-DDC33C1AB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574200"/>
            <a:ext cx="11182320" cy="472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Іонна полімеризація.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Катіонна полімеризаці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" y="290160"/>
            <a:ext cx="110156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Ініціювання на прикладі  протонних кисл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ль середовища в катіонній полімеризації можна проілюструвати наступним прикладом. При взаємодії трифторуксусної кисл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з стиролом процес може протіка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в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При введен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 в рідкий стиро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противойон відразу ж приєднується до карбкатіону, утворюючи складноефірний ад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.    При повільному введенн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тиролу в рід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uk-UA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 напрямо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, іонна пара сольватована і карбкатіон «встигає» приєдна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молекул стиролу з утворенням полі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8" descr=""/>
          <p:cNvPicPr/>
          <p:nvPr/>
        </p:nvPicPr>
        <p:blipFill>
          <a:blip r:embed="rId1"/>
          <a:srcRect l="12035" t="9460" r="23324" b="53914"/>
          <a:stretch/>
        </p:blipFill>
        <p:spPr>
          <a:xfrm>
            <a:off x="1833480" y="3670200"/>
            <a:ext cx="7953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160" y="0"/>
            <a:ext cx="1178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адії катіонної полімеризції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зглянемо реакцію на прикладі отримання поліізобутилену. Ініціатор-кислота Льюїс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Найчастіше в катіонній полімеризації відбувається мономолекулярний обри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28220" t="34474" r="44683" b="54131"/>
          <a:stretch/>
        </p:blipFill>
        <p:spPr>
          <a:xfrm>
            <a:off x="1058760" y="833400"/>
            <a:ext cx="9658440" cy="229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427040" y="147168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ислота Льюї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66876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45280" y="7221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номер-ізобути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309760" y="15210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ката-ліз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308640" y="30733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мер з активним цент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901880" y="27766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кат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533760" y="2805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ан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59764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744040" y="81432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205240" y="26463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rcRect l="0" t="31213" r="0" b="0"/>
          <a:stretch/>
        </p:blipFill>
        <p:spPr>
          <a:xfrm>
            <a:off x="2066760" y="4286160"/>
            <a:ext cx="8194680" cy="233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 rot="19753200">
            <a:off x="5446440" y="484956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 rot="1644000">
            <a:off x="5713560" y="55468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7924680" y="521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8224920" y="64594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5. Кінетика катіонної полімеризації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720" y="720720"/>
            <a:ext cx="1174428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Швидкість ініціації залежить від концентрації ініціат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= к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) Швидкість росту ланцюга пропорційна концентрації карбкатіона і моном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ив ланцюга описується рівнянням мономолекулярної реакц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ідношенню до концентрації активних центр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полімеризації матиме наступний вигля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5" descr=""/>
          <p:cNvPicPr/>
          <p:nvPr/>
        </p:nvPicPr>
        <p:blipFill>
          <a:blip r:embed="rId1"/>
          <a:srcRect l="41834" t="79079" r="43836" b="16595"/>
          <a:stretch/>
        </p:blipFill>
        <p:spPr>
          <a:xfrm>
            <a:off x="4394160" y="2433600"/>
            <a:ext cx="251784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6" descr=""/>
          <p:cNvPicPr/>
          <p:nvPr/>
        </p:nvPicPr>
        <p:blipFill>
          <a:blip r:embed="rId2"/>
          <a:srcRect l="45292" t="20489" r="44563" b="75056"/>
          <a:stretch/>
        </p:blipFill>
        <p:spPr>
          <a:xfrm>
            <a:off x="4732200" y="4246560"/>
            <a:ext cx="19036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4414680" y="5570640"/>
            <a:ext cx="274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1640" y="590400"/>
            <a:ext cx="11599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пінь полімеризації приймає вигля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) Енергія активації залежить від енергій активації стадій проце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ак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ініц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росту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обри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брив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 процесі значн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ищ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через це енергія активації в цілому може мати негативне значення, тому для таких реакцій характерн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й температурний коефіціє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8" descr=""/>
          <p:cNvPicPr/>
          <p:nvPr/>
        </p:nvPicPr>
        <p:blipFill>
          <a:blip r:embed="rId1"/>
          <a:srcRect l="37839" t="43347" r="39667" b="48706"/>
          <a:stretch/>
        </p:blipFill>
        <p:spPr>
          <a:xfrm>
            <a:off x="4067280" y="1246320"/>
            <a:ext cx="3463920" cy="922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9" descr=""/>
          <p:cNvPicPr/>
          <p:nvPr/>
        </p:nvPicPr>
        <p:blipFill>
          <a:blip r:embed="rId2"/>
          <a:srcRect l="35569" t="51153" r="50158" b="40900"/>
          <a:stretch/>
        </p:blipFill>
        <p:spPr>
          <a:xfrm>
            <a:off x="4626000" y="2370240"/>
            <a:ext cx="2230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2192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4720" y="1044720"/>
            <a:ext cx="11612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міра розділення і вище швидкість проц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і наведені дані пр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плив різних середовищ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швидкість протікання полімеризації α-метилстирола під дією Sn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ред найважливіших полімерів, що отримують за допомогою катіонної полімеризації, можна виділит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іізобутил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і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утилкауч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а також сополімери триоксану і етиленоксид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івінілізобутиловий 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44760" y="2921040"/>
          <a:ext cx="7072200" cy="2084400"/>
        </p:xfrm>
        <a:graphic>
          <a:graphicData uri="http://schemas.openxmlformats.org/drawingml/2006/table">
            <a:tbl>
              <a:tblPr/>
              <a:tblGrid>
                <a:gridCol w="2124000"/>
                <a:gridCol w="2108160"/>
                <a:gridCol w="2840040"/>
              </a:tblGrid>
              <a:tr h="73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чин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електрична проникність середовищ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на швидкість полімери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клогек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хло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бенз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320" y="1449360"/>
            <a:ext cx="886932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5050"/>
                </a:solidFill>
                <a:latin typeface="Arial"/>
                <a:ea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2600" y="147240"/>
            <a:ext cx="1036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520" y="928800"/>
            <a:ext cx="1109520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гальна характеристика 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. Особливості іонної полімеризації в порівнянні з радикальною полімеризаціє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5. Кінетика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2600" y="747720"/>
            <a:ext cx="1036476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 Light"/>
              </a:rPr>
              <a:t>1. Загальна характеристика іонної полімеризації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60" y="1380960"/>
            <a:ext cx="117824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реакція полімеризації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ніціаторам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якої 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аб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ляризовані частк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Розрізняють на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т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н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лімеризацію, в якій ініціаторами є катіони або аніо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кат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ан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акож існу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о-координаційна полімеризаці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27902" t="27696" r="59114" b="60402"/>
          <a:stretch/>
        </p:blipFill>
        <p:spPr>
          <a:xfrm>
            <a:off x="604800" y="2955960"/>
            <a:ext cx="4281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11704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2. Особливості іонної полімеризації в порівнянні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 радикальною полімеризацією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520" y="1201320"/>
            <a:ext cx="117302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бірковість мономерів до процесів іонної полімер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дон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кат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акцепт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ан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н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ибірковість мономера залежить від типу замісника, його впливу на подвійний зв’язок, розподілу електрон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1"/>
          <a:srcRect l="27352" t="42026" r="67488" b="53606"/>
          <a:stretch/>
        </p:blipFill>
        <p:spPr>
          <a:xfrm>
            <a:off x="4559400" y="2516040"/>
            <a:ext cx="212868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28512" t="65680" r="68596" b="29834"/>
          <a:stretch/>
        </p:blipFill>
        <p:spPr>
          <a:xfrm>
            <a:off x="5087880" y="4502160"/>
            <a:ext cx="1220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1197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Активні центри (іони) можуть існувати в процесах іонної полімеризації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ь-яких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х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тилежному кінці від іону знаходи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противоіон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, утворюється іонна пара катіон та карбаніон (1)  або аніон та карбкатіон (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введенні полярного розчинника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можли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тримати сольватно-розділену іонну пару або розділені іон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27720" t="36469" r="56063" b="53995"/>
          <a:stretch/>
        </p:blipFill>
        <p:spPr>
          <a:xfrm>
            <a:off x="2419200" y="1109520"/>
            <a:ext cx="4921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rcRect l="5593" t="4364" r="5602" b="0"/>
          <a:stretch/>
        </p:blipFill>
        <p:spPr>
          <a:xfrm>
            <a:off x="158760" y="4702320"/>
            <a:ext cx="7612200" cy="199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026560" y="4478400"/>
            <a:ext cx="4047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S – молекула розчи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оляризований зв’яз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..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контакт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.. S 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ольватно-розділе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ільні іо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9520" y="294840"/>
            <a:ext cx="1149192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ніціатори іонної полімеризації не лише формують активні центри, але і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плив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ю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на констант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осту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ланцюга, на будову ланцюгів, на обрив ланцю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Кінетика полімеризації і будова полімерів, що утворюються, сильно залежить від природи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швидкість процес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радикальній полімеризації середовище практично не впливає на швидкість полімеризації, впливає лише н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ярну мас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імеру, що утворю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) Енергія активації зазвичай нижче, ніж для радикальної полімеризації. Багато реакцій мають негативний температурний коефіцієнт (тобто з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 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енням температури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швидкість реакції може збільшуватися)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) У багатьох процесах іонної полімеризації характерне утворення полімерів, що мають регулярну і стереорегулярну буд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114793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3. 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4760" y="1112400"/>
            <a:ext cx="1179684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– це полімеризація, ініціаторами процесу якої є каті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цес вступають мономери з кратним зв’язком С=С, що мають надлишкову електронну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двійному зв’яз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OR (R – алкіл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бо ари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R (алкільна груп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Сполуки з кратними зв'язками ( нітрили, кетони, сульфі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rcRect l="11849" t="37840" r="76889" b="51493"/>
          <a:stretch/>
        </p:blipFill>
        <p:spPr>
          <a:xfrm>
            <a:off x="7023240" y="3051000"/>
            <a:ext cx="177624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2"/>
          <a:srcRect l="47170" t="53852" r="27602" b="38150"/>
          <a:stretch/>
        </p:blipFill>
        <p:spPr>
          <a:xfrm>
            <a:off x="1050840" y="5505480"/>
            <a:ext cx="38545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3"/>
          <a:srcRect l="11843" t="62581" r="56105" b="24324"/>
          <a:stretch/>
        </p:blipFill>
        <p:spPr>
          <a:xfrm>
            <a:off x="5908680" y="5180040"/>
            <a:ext cx="5008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1720" y="328680"/>
            <a:ext cx="1169028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кл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ном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и(окиси, циклічні ацеталі, лактони, лакта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уть існувати різні варіанти атаки катіона на молекулу моно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Щоб визначити місце атаки катіона, необхідно порівняти стабільність продуктів, які утворюються. Це допоможе визначити будову полімеру, що утвор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1"/>
          <a:srcRect l="12428" t="12612" r="41949" b="74776"/>
          <a:stretch/>
        </p:blipFill>
        <p:spPr>
          <a:xfrm>
            <a:off x="3046320" y="896760"/>
            <a:ext cx="615168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3" descr=""/>
          <p:cNvPicPr/>
          <p:nvPr/>
        </p:nvPicPr>
        <p:blipFill>
          <a:blip r:embed="rId2"/>
          <a:srcRect l="11646" t="31045" r="64665" b="50031"/>
          <a:stretch/>
        </p:blipFill>
        <p:spPr>
          <a:xfrm>
            <a:off x="3951360" y="2844720"/>
            <a:ext cx="3066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169920"/>
            <a:ext cx="1093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 Light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" y="1346040"/>
            <a:ext cx="1155996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іціатори (каталізатори)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) Протонні кисло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Н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l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) Кислоти Льюїс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Z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При цьому використовують  сокаталізатор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) Галогени і міжгалогенні молекул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B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) Онієві солі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20:38:35Z</dcterms:created>
  <dc:creator>Ann Andr</dc:creator>
  <dc:description/>
  <dc:language>en-US</dc:language>
  <cp:lastModifiedBy>Дмитрий Каленюк</cp:lastModifiedBy>
  <dcterms:modified xsi:type="dcterms:W3CDTF">2020-10-27T21:14:27Z</dcterms:modified>
  <cp:revision>22</cp:revision>
  <dc:subject/>
  <dc:title>Презентация PowerPoint</dc:title>
</cp:coreProperties>
</file>