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364-C840-4469-9874-B9673FDC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E236-6ABC-4E2C-974F-850F1F4F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15D-19BB-452D-9D5A-8E3AC296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1E1-869D-4D4D-95E2-E8905E68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04C3-9DF8-4134-93CB-C2CF6424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EAB-5838-4048-9E8F-D5276612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54D-BB83-4C96-8871-61D4A6C6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5F21-A19F-468B-AD9D-9768F27D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A7E-3773-4341-BD7D-4306D2B1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FE56-423E-478C-A5F8-7F6B3222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EEA-1D94-4037-A84F-14AFFB3D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8AD-E9A8-426E-8C0A-306839A9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1876-049D-46DC-8A72-8A1B03477E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FDE6-447F-4E41-B5AB-7A212338C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39528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57200" y="3068640"/>
            <a:ext cx="822960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468360" y="3860640"/>
            <a:ext cx="824400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0000"/>
                </a:solidFill>
                <a:latin typeface="Calibri"/>
              </a:rPr>
              <a:t>Інформатика та комп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uk-UA" sz="7200" spc="-1" strike="noStrike">
                <a:solidFill>
                  <a:srgbClr val="000000"/>
                </a:solidFill>
                <a:latin typeface="Calibri"/>
              </a:rPr>
              <a:t>ютерна техні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A329-9F45-4392-8CB0-15406D6718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Підходи до визначення кількості інформаці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82296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57160" y="3214800"/>
          <a:ext cx="4500720" cy="100008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Формула Хартли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=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log</a:t>
                      </a:r>
                      <a:r>
                        <a:rPr b="1" lang="ru-RU" sz="1400" spc="-1" strike="noStrike" baseline="-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91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42960" y="4429080"/>
          <a:ext cx="7464240" cy="988920"/>
        </p:xfrm>
        <a:graphic>
          <a:graphicData uri="http://schemas.openxmlformats.org/drawingml/2006/table">
            <a:tbl>
              <a:tblPr/>
              <a:tblGrid>
                <a:gridCol w="7464240"/>
              </a:tblGrid>
              <a:tr h="98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Формула Шеннона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=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(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p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log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p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+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p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log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p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+ . . . +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p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N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log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p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N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),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где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p</a:t>
                      </a:r>
                      <a:r>
                        <a:rPr b="1" i="1" lang="en-US" sz="1400" spc="-1" strike="noStrike" baseline="-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вероятность того, что именно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е сообщение выделено в наборе из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N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сообщений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E0BA-E2DB-48A2-BB48-B00FE636A9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одування даних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3000240"/>
            <a:ext cx="822960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анг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i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b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igi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— двоичная циф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Бит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теории информаци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— количество информации, необходимое для различения двух равновероятных сообщений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вычислительной техник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битом называют наименьшую "порцию" памяти компьютера, необходимую для хранения одного из двух знаков "0" и "1", используемых для внутримашинного представления данных и коман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70D7-FCFD-4397-AC25-3E020B07E4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одування даних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ілобайт (Кбайт): 1 Кбайт = 101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айт = 1024 бай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габайт (Мбайт): 1 Мбайт = 101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байт = 1024 Кбай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ігабайт (Гбайт): 1 Гбайт = 101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байт = 1024 Мбай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рабайт (Тбайт): 1 Тбайт = 101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байт = 1024 Гбай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0256-FB70-4F19-A723-F1F71EE44D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одування даних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купність прийомів та правил найменування й позначення чисел називаєтьс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системою числення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І - …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- …., Х - …., С - ….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- …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-…., М - ….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приклад,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ССХХІ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=?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F93-01C6-4A91-9E41-7CB408DBF3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Інформатика та комп'ютерна техні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372888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Calibri"/>
              </a:rPr>
              <a:t>СИСТЕМИ ЧИСЛЕ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D0B5-044B-4FF4-978A-3192270146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17928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гальні відомості про системи числе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6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901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Числові дані в комп’ютерах характеризують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истемою числення (двійкова, десяткова та інш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идом числа (числа дійсні, комплексні, масив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формою представлення числа (місце коми) – з природною (змінною), фіксованою, плаваючою ком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розрядною сіткою і форматом чис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іапазоном і точністю подання чисе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пособом кодування від’ємних чисел – прямим, оберненим та доповняльними код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алгоритмами виконання арифметичних операці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502-BF9D-4165-8821-F1B371B8A7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00"/>
                </a:solidFill>
                <a:latin typeface="Calibri"/>
              </a:rPr>
              <a:t>СИСТЕМИ ЧИСЛЕНН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укупність прийомів та правил найменування й позначення чисел називається системою числення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истема числення, в якій значення кожної цифри в довільному місці послідовності цифр, яка означає запис числа, не змінюється, називається непозиційно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истема числення, в якій значення кожної цифри залежить від місця в послідовності цифр у записі числа, називається позиційно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79A9-D6CC-420A-94BD-8E954A8868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Система числення повинна забезпечуват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3213000"/>
            <a:ext cx="822960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ожливість представлення будь-якого числа в заданому діапазоні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однозначність, стислість запису числа і простоту виконання арифметичних операці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осягнення високої швидкодії машини в процесі обробки дан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28760" y="186480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F77-F893-4A4E-9305-283D51AF68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26028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озиційна система числення значення числ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60930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0" y="4581360"/>
                <a:ext cx="90360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±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84360" y="3645000"/>
                <a:ext cx="51847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24000" y="5589720"/>
                <a:ext cx="18716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2B1-DACA-4C11-B0EB-333AAA81D7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лгоритми переведення чисел з однієї позиційної системи числення в інш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ереведення чисел із системи числення з основою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систему числення з основою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икористовуючи арифметику нової системи числення з основою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отрібно записати коефіцієнти розкладу, основи степенів і показники степенів у системі з основою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і виконати всі дії в цій самій систем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D94-3A7F-4682-AE69-6529A5126E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28760" y="264312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Інформатик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 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с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іч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у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щ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атизує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йо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воренн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береженн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ідтворенн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об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дач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соба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числювально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і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о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нцип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іонуванн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собі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еруванн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CC6-0C33-46AA-BA21-209A2044F4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лгоритми переведення чисел з однієї позиційної системи числення в інш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істнадцяткова система використовується, зокрема, для кодування адрес комірок оперативної пам'яті. Алфавіт системи складається з шістнадцяти символів: 0, 1,2, 3, 4, 5, 6, 7, 8, 9, А, В, С, В Е, Р, де А=10, В = 11, С = 12, В = 13, Е = 14, Р = 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49B-8289-4CE6-A69B-B12E486E52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вдання 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 Адреса комірки оперативної пам'яті така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FА2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Визначити її ном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авдання 2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льори в графічних системах кодуються трьома шістнадцятковими числами. Який колір відповідає код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FF, FF, 0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4F0-B1B0-40C9-A021-72C5055DF3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лгоритми переведення чисел з однієї позиційної системи числення в інш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ереведення чисел із системи числення з основою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систему числення з основою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з використанням арифметики старої системи числення з основою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трібн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для переведення цілої части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ідовно число, записане в системі основою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ілити на основу нової системи числення, виділяючи остачі. Останні записані у зворотному порядку, будуть утворювати число в новій системі численн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для переведення дробової части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ідовно дробову частину множити на основу нової системи числення, виділяючи цілі частини, які й будуть утворювати запис дробової частини числа в новій системі числе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B1E8-B37E-4540-9067-5B9CF49DB7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241992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клад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99,3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4608360" cy="3008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627280" y="407592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9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111110011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524A-F167-4C8E-B3DE-820FB8D14F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1106280" cy="4824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627280" y="256464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99,3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1111100111,0101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00E4-08D0-42A5-B399-51F26FCDA1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265400" y="2349360"/>
                <a:ext cx="25970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2313000" y="2135160"/>
            <a:ext cx="278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13000" y="2135160"/>
            <a:ext cx="50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338120" y="3284640"/>
                <a:ext cx="25974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357200" y="4292640"/>
                <a:ext cx="27003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F3C5-E5CD-452B-B91A-33966E61124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Інформатика та комп'ютерна техні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372888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ОСНОВИ АЛГОРИТМІЗАЦІЇ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C0AE-686F-44BC-9B6E-0F623A4FBB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8856720" cy="66387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Підготовка задачі до розв'язку на ЕОМ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. Постановки й математичної формалізації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. Розробки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математичної моделі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й вибору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методу чисельного розв'язку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3. Розробки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алгоритму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й визначення структури да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4. Реалізації алгоритму мовою програмування (складання програм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5. Підготовки завдання для ПЕОМ, введення програми й даних контрольного прикла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6. Налагодження й випробування прогр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FE06-4904-4256-94C1-A249459702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няття алгоритму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ід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алгоритмом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розуміється «точне приписання, що визначає обчислювальний процес, який веде від початкових даних, що змінюються, до шуканого результату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ухаммеда ибн Муса ал-Хорезми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lhorithmi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D5C-BA72-4430-A00E-5BC2FD9E8FD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539640" y="3240"/>
            <a:ext cx="8604360" cy="64501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Властивості алгоритм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визначені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дискретні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скінченні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результативні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раціональні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масові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8E6C-AB50-44C4-8392-18C557FBE9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едмет інформатики як науки складаю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паратне забезпечення засобів обчислювальної техні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амне забезпечення засобів обчислювальної техні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соби взаємодії апаратного та програмного забезпечен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соби взаємодії людини з апаратними та програмними засоб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7ED-B9ED-4B99-A8DF-392B3EAC32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53964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пособи опису (представлення) алгоритму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4" marL="1995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словесний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(засобами мови людськ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спілкування з ретельно відібраним набором слів і фраз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структурно-стилізований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(мовою псевдокоді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графічний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(схемами із графічних блок-символів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 algn="just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програмний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(текстами програм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C19-6235-4849-A5DB-31E3182AAE5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53964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пособи опису (представлення) алгоритму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4" marL="1995480" indent="0" algn="just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Словесний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посіб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запису алгоритмів являє собою опис послідовності дій по обробці даних природною мовою людського спілкуванн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 algn="just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. Почат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 algn="just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. Підійти до пішохідного перехо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 algn="just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3. Подивитися який сигнал світлофора гори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 algn="just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4. Якщо сигнал світлофора червоний, то почека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 algn="just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5. Подивитися налі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 algn="just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6. Подивитися напра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 algn="just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7. Якщо машин немає, то переходити, інакше - почека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 algn="just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8. Кінец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FDA-325B-4E3C-ADC6-12FFA48B829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53964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пособи опису (представлення) алгоритму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4" marL="21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Словесний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посіб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запису алгоритмів являє собою опис послідовності дій по обробці даних природною мовою людського спілкува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оритм Эвклид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адать два чис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если числа равны, то взять любое из них в качестве ответа и остановиться, в противном случае продолжить выполнение алгоритм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пределить большее из чисел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заменить большее из чисел разностью большего и меньшего из чисел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вторить алгоритм с шага 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AD7-B61C-4668-9C38-A54C0E3DE1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53964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пособи опису (представлення) алгоритму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графічний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(схемами із графічних блок-символів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графічному описі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алгоритми зображуються у вигляді блок-схеми, доповненої елементами словесного або математичного запису. Схема алгоритму включає геометричні фігури (блокові символи), з'єднані між собою стрілками (лініями), що вказують порядок виконання операці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1280" y="5373720"/>
            <a:ext cx="809640" cy="761760"/>
            <a:chOff x="611280" y="5373720"/>
            <a:chExt cx="809640" cy="761760"/>
          </a:xfrm>
        </p:grpSpPr>
        <p:sp>
          <p:nvSpPr>
            <p:cNvPr id="269" name=""/>
            <p:cNvSpPr/>
            <p:nvPr/>
          </p:nvSpPr>
          <p:spPr>
            <a:xfrm>
              <a:off x="611280" y="5373720"/>
              <a:ext cx="809640" cy="30456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0" name=""/>
            <p:cNvCxnSpPr/>
            <p:nvPr/>
          </p:nvCxnSpPr>
          <p:spPr>
            <a:xfrm>
              <a:off x="1029960" y="5677920"/>
              <a:ext cx="1080" cy="14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1" name=""/>
            <p:cNvSpPr/>
            <p:nvPr/>
          </p:nvSpPr>
          <p:spPr>
            <a:xfrm>
              <a:off x="710280" y="5420880"/>
              <a:ext cx="61596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</a:rPr>
                <a:t>Почат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25920" y="5942160"/>
              <a:ext cx="18864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</a:rPr>
                <a:t>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763640" y="5300640"/>
            <a:ext cx="1009800" cy="5904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3203640" y="5373720"/>
            <a:ext cx="1247760" cy="514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4859280" y="5300640"/>
            <a:ext cx="14860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6804000" y="5373720"/>
            <a:ext cx="1009800" cy="5428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8244000" y="5373720"/>
            <a:ext cx="695160" cy="54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FA1F-CF0B-4B3D-9807-BF206D108C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53964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пособи опису (представлення) алгоритму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just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Структурно-стилізований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посіб запису заснований на застосуванні природної мови у формалізованому представленні приписань, конструкції якого близькі до конструкцій структурних мов програмуванн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900000" y="3645000"/>
          <a:ext cx="7451640" cy="2763720"/>
        </p:xfrm>
        <a:graphic>
          <a:graphicData uri="http://schemas.openxmlformats.org/drawingml/2006/table">
            <a:tbl>
              <a:tblPr/>
              <a:tblGrid>
                <a:gridCol w="1490400"/>
                <a:gridCol w="1487520"/>
                <a:gridCol w="1495440"/>
                <a:gridCol w="1487520"/>
                <a:gridCol w="1490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алгорит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имвольны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аргумен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литерны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результа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логическ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начал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аблиц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       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конец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ц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начало цикл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ач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целы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ц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конец цикл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вещественны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дли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       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B980-7E8E-4FED-BBB0-E04F4FC267A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3095640"/>
            <a:ext cx="7315200" cy="36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39640" y="2852640"/>
          <a:ext cx="7315200" cy="288000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288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вид алгоритма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алг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название алгоритма (аргументы и результаты)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ourier New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дан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условия применимости алгоритма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ourier New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над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цель выполнения алгорит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нач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описание промежуточных величи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|   последовательность команд (тело алгоритма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К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6E1-BF2B-496F-A72C-8EBB2182E73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53964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Базові алгоритмічні структу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2096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гічна структура будь-якого алгоритму може бути представлена комбінацією трьох базових структур:слідування, розгалуження, цик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горитми, у яких використовується тільки структура «Слідування», називаються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інійни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горитми, в основі яких лежить структура «Розгалуження», називаються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лгоритмами з розгалуження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горитми, в основі яких лежить структура «Повторення», називають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иклічни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9C98-F83D-407B-9098-EA9A41E45BB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53964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Базові алгоритмічні структу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209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ідування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це така форма організації команд (вказівок) в алгоритмі, під час виконання яких дії виконуються послідовно, одна за одною, без пропусків або повторен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згалуження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це така форма організації команд, коли залежно від виконання або невиконання певної умови виконується одна з двох послідовностей коман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вторення (цикл) 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 така форма організації команд, за якою одна й та сама послідовність дій виконується кілька разів залежно від певної умов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рактиці алгоритми розв’язування складних задач містять у собі базові структури всіх трьох тип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501-784D-4BA7-8927-074488D1C28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"/>
          <p:cNvSpPr/>
          <p:nvPr/>
        </p:nvSpPr>
        <p:spPr>
          <a:xfrm>
            <a:off x="2500200" y="221472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ank you for attention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78B-2F6A-41D0-AAD2-0F4504F408F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ою задачею інформати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к науки є систематизація прийомів та методів роботи з апаратними та програмними засобами обчислювальної техні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Інформат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практична нау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CEA-C486-494F-AA39-9E11CA6185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Інформація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це сукупність відомостей (даних), які сприймають із навколишнього середовища (вхідна інформація), видають у навколишнє середовище (вихідна інформація) або зберігають всередині певної систе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968-89C7-4BF9-8996-4955E8B650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Інформаці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це позначення змісту, отриманого з зовнішнього світу в процесі нашого пристосування до нього і пристосування до нього наших почутті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рберт Вине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Інформаці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є характеристика не повідомлення, а співвідношення між повідомленням і його споживачем. Без наявності споживача, хоча б потенційного, говорити про інформацію безглузд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F739-8E6E-4AA9-A42E-CA9377190B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ластивості інформації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достовірні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вно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адекватні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доступні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зрозум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ілі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цінні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актуальні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51D2-3BE7-49C4-8858-B64C7224A5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сновні операції обробки дани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збір дан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формалізація дан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фільтрація дан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ортування дан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архівація дан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захист дан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транспортування дан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еретворення дан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BBA-7702-42BF-BF7F-DED992C8D3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Інформаційна система -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заємозв'язана сукупність засобів, методів і персоналу, використовувана для зберігання, оброблення та видачі інформації з метою вирішення конкретного завдан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Інформаційна технологія -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людино-машинна технологія збирання, обробки та передачі інформації, що грунтується на використанні обчислювальної техніки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E53-5698-4DB0-A5BA-A54567CC05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3T05:50:07Z</dcterms:created>
  <dc:creator>q</dc:creator>
  <dc:description/>
  <dc:language>en-US</dc:language>
  <cp:lastModifiedBy>z</cp:lastModifiedBy>
  <dcterms:modified xsi:type="dcterms:W3CDTF">2020-11-14T10:40:06Z</dcterms:modified>
  <cp:revision>38</cp:revision>
  <dc:subject/>
  <dc:title>Слайд 1</dc:title>
</cp:coreProperties>
</file>