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9DD-DCB0-4E4B-A37F-6F55C786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42C-B541-4117-A82A-94C2A5E5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643-3271-4E92-898B-B388A331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5F9-9264-40F6-BF2B-C933B05B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A73-9626-481B-8B6A-16F2374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EC6-DB6A-4852-BA91-4508BC6B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8A4-4738-470E-A1FD-50A16C4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30E-2BE9-460C-BD8C-03B2CB1F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22F-8BF2-4F93-ACF2-49AA25A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FD0-90D9-4C29-9639-B4FF6AC2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383-36BB-4A3B-9494-B2DDB63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97D-6A95-4810-BBBE-B3C196B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6257-7D2B-4F69-819C-CCC5EBCD0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6A7-A6A3-49EC-8635-5ADCC911F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39528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57200" y="3068640"/>
            <a:ext cx="822960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68360" y="3860640"/>
            <a:ext cx="824400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Інформатика та комп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7200" spc="-1" strike="noStrike">
                <a:solidFill>
                  <a:srgbClr val="000000"/>
                </a:solidFill>
                <a:latin typeface="Calibri"/>
              </a:rPr>
              <a:t>ютерна техні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4C6-D587-4F62-A977-7E4E77E557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ідходи до визначення кількості інформац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57160" y="3214800"/>
          <a:ext cx="4500720" cy="100008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ормула Хартли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=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4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42960" y="4429080"/>
          <a:ext cx="7464240" cy="988920"/>
        </p:xfrm>
        <a:graphic>
          <a:graphicData uri="http://schemas.openxmlformats.org/drawingml/2006/table">
            <a:tbl>
              <a:tblPr/>
              <a:tblGrid>
                <a:gridCol w="7464240"/>
              </a:tblGrid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Формула Шеннона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=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(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+ . . . +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log</a:t>
                      </a:r>
                      <a:r>
                        <a:rPr b="1" lang="ru-RU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)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д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p</a:t>
                      </a:r>
                      <a:r>
                        <a:rPr b="1" i="1" lang="en-US" sz="1400" spc="-1" strike="noStrike" baseline="-30000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вероятность того, что именно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-е сообщение выделено в наборе из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сообщений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F22-44C4-425D-BB23-87A22F617D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300024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нг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gi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двоичная циф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Би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теории 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— количество информации, необходимое для различения двух равновероятных сообщений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вычислительной техник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битом называют наименьшую "порцию" памяти компьютера, необходимую для хранения одного из двух знаков "0" и "1", используемых для внутримашинного представления данных и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5A6-D24C-4394-8C29-9980775AB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ілобайт (Кбайт): 1 К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йт = 1024 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габайт (Мбайт): 1 М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байт = 1024 К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ігабайт (Гбайт): 1 Г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байт = 1024 Мбай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абайт (Тбайт): 1 Тбайт = 101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байт = 1024 Гбай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862-5E07-4B3F-9B18-E16CA6B72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дування даних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купність прийомів та правил найменування й позначення чисел називаєтьс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истемою числення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-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…., Х - …., С - ….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 …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-…., М - …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риклад,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ССХХ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17E-34AD-469F-A0E4-0E10BEE02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Інформатика та комп'ютерна техні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3728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СИСТЕМИ ЧИСЛЕ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531-F34C-491A-A25B-6888CE1C19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7928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гальні відомості про системи числе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Числові дані в комп’ютерах характеризують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истемою числення (двійкова, десяткова та інш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дом числа (числа дійсні, комплексні, масив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ою представлення числа (місце коми) – з природною (змінною), фіксованою, плаваючою ком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рядною сіткою і форматом чис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іапазоном і точністю подання чисе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пособом кодування від’ємних чисел – прямим, оберненим та доповняльними код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алгоритмами виконання арифметичних операц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575-72B5-4E99-A06E-5894C3EAEB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Calibri"/>
              </a:rPr>
              <a:t>СИСТЕМИ ЧИСЛЕН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купність прийомів та правил найменування й позначення чисел називається системою численн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 числення, в якій значення кожної цифри в довільному місці послідовності цифр, яка означає запис числа, не змінюється, називається непозиційно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истема числення, в якій значення кожної цифри залежить від місця в послідовності цифр у записі числа, називається позицій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4E1-7376-40E7-AFA4-889CA77053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Система числення повинна забезпечува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ожливість представлення будь-якого числа в заданому діапазо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днозначність, стислість запису числа і простоту виконання арифметичних операці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сягнення високої швидкодії машини в процесі обробки да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28760" y="186480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52A-5920-47E2-B86E-E5D3CDC560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26028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озиційна система числення значення чис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60930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4581360"/>
                <a:ext cx="9036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84360" y="3645000"/>
                <a:ext cx="5184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4000" y="5589720"/>
                <a:ext cx="1871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F56-32EB-4E1C-82E1-7C1F94C31C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ереведення чисел із системи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стему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икористовуючи арифметику нової системи числення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потрібно записати коефіцієнти розкладу, основи степенів і показники степенів у системі з основою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і виконати всі дії в цій самій систем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4C3-0B9E-42E6-B9DA-50E8D6C87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264312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Інформати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і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щ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у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йо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вор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береж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ідтворе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об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ачі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а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числювальної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і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о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іонува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і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руванн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B85-DA91-428F-83A8-EC4B905410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істнадцяткова система використовується, зокрема, для кодування адрес комірок оперативної пам'яті. Алфавіт системи складається з шістнадцяти символів: 0, 1,2, 3, 4, 5, 6, 7, 8, 9, А, В, С, В Е, Р, де А=10, В = 11, С = 12, В = 13, Е = 14, Р =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05F-34FF-4F11-8013-1F9696567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 Адреса комірки оперативної пам'яті та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А2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изначити її ном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авдання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ьори в графічних системах кодуються трьома шістнадцятковими числами. Який колір відповідає код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FF, FF, 0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DFF-9FC8-46FA-BACE-53D48AFC60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 переведення чисел з однієї позиційної системи числення в інш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ереведення чисел із системи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систему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 використанням арифметики старої системи числення з основою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ріб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переведення цілої част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ідовно число, записане в системі осново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ілити на основу нової системи числення, виділяючи остачі. Останні записані у зворотному порядку, будуть утворювати число в новій системі числ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ля переведення дробової части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ідовно дробову частину множити на основу нової системи числення, виділяючи цілі частини, які й будуть утворювати запис дробової частини числа в новій системі числе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8A8-5878-421C-B390-2398029AAF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4199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кла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,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4608360" cy="3008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627280" y="407592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1111001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9CC-3584-4F99-8867-21AA77D6FE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106280" cy="4824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627280" y="2564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99,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1111100111,0101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E96-41EE-4130-B820-C3D394D6D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65400" y="2349360"/>
                <a:ext cx="2597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2313000" y="2135160"/>
            <a:ext cx="278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3000" y="2135160"/>
            <a:ext cx="50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38120" y="3284640"/>
                <a:ext cx="2597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57200" y="4292640"/>
                <a:ext cx="2700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4B6-6313-419C-8818-09F2DB2527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Інформатика та комп'ютерна техні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37288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ОСНОВИ АЛГОРИТМІЗАЦІЇ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02D-B622-4276-B84A-1204A80F0A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8856720" cy="66387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Підготовка задачі до розв'язку на Е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. Постановки й математичної формалізації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. Розробки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математичної моделі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й вибору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методу чисельного розв'язк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. Розробки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алгоритм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й визначення структури да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4. Реалізації алгоритму мовою програмування (складання прогр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5. Підготовки завдання для ПЕОМ, введення програми й даних контрольного прикл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6. Налагодження й випробування програ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D05-5FD3-4BB1-8811-BF8253D2F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46836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няття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 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алгоритмом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розуміється «точне приписання, що визначає обчислювальний процес, який веде від початкових даних, що змінюються, до шуканого результату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ухаммеда ибн Муса ал-Хорезми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horithm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1C4-0E1C-417B-BF2A-0B9BF21B26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8604360" cy="64501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Властивості алгоритм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изначе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дискрет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скінчен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езультатив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раціональн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асові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334-383E-4373-A308-9C16FDD73E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мет інформатики як науки складаю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паратне забезпечення засобів обчислювальної техні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не забезпечення засобів обчислювальної техні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и взаємодії апаратного та програмного забезпеченн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оби взаємодії людини з апаратними та програмними засоб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3CD-71A1-43AC-90E7-EFCF57E36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ловес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засобами мови людськ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ілкування з ретельно відібраним набором слів і фр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труктурно-стилізований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(мовою псевдокоді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графіч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схемами із графічних блок-символі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програм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текстами програм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3E1-47D6-4B31-9056-4EFF3B8EA4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19954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ловесний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посі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апису алгоритмів являє собою опис послідовності дій по обробці даних природною мовою людського спілкув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1. Поча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. Підійти до пішохідного переход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3. Подивитися який сигнал світлофора гор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4. Якщо сигнал світлофора червоний, то почека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5. Подивитися налі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6. Подивитися напра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7. Якщо машин немає, то переходити, інакше - почека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0" algn="just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8. Кінец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B06-6BB1-4E58-8B8F-1161A3B643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21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Словесний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посіб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апису алгоритмів являє собою опис послідовності дій по обробці даних природною мовою людського спілк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Эвкли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дать два чис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если числа равны, то взять любое из них в качестве ответа и остановиться, в противном случае продолжить выполнение алгоритм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ределить большее из чисе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заменить большее из чисел разностью большего и меньшего из чисе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торить алгоритм с шага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10C-501F-4364-8A05-7BCD019A2C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графічний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схемами із графічних блок-символів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афічному описі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алгоритми зображуються у вигляді блок-схеми, доповненої елементами словесного або математичного запису. Схема алгоритму включає геометричні фігури (блокові символи), з'єднані між собою стрілками (лініями), що вказують порядок виконання операці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1280" y="5373720"/>
            <a:ext cx="809640" cy="761760"/>
            <a:chOff x="611280" y="5373720"/>
            <a:chExt cx="809640" cy="761760"/>
          </a:xfrm>
        </p:grpSpPr>
        <p:sp>
          <p:nvSpPr>
            <p:cNvPr id="269" name=""/>
            <p:cNvSpPr/>
            <p:nvPr/>
          </p:nvSpPr>
          <p:spPr>
            <a:xfrm>
              <a:off x="611280" y="5373720"/>
              <a:ext cx="809640" cy="3045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"/>
            <p:cNvCxnSpPr/>
            <p:nvPr/>
          </p:nvCxnSpPr>
          <p:spPr>
            <a:xfrm>
              <a:off x="1029960" y="5677920"/>
              <a:ext cx="108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1" name=""/>
            <p:cNvSpPr/>
            <p:nvPr/>
          </p:nvSpPr>
          <p:spPr>
            <a:xfrm>
              <a:off x="710280" y="5420880"/>
              <a:ext cx="61596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Поча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25920" y="5942160"/>
              <a:ext cx="18864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imes New Roman"/>
                </a:rPr>
                <a:t>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9800" cy="5904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203640" y="5373720"/>
            <a:ext cx="1247760" cy="514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859280" y="5300640"/>
            <a:ext cx="14860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6804000" y="5373720"/>
            <a:ext cx="1009800" cy="542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8244000" y="5373720"/>
            <a:ext cx="695160" cy="5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180-7FE6-49CA-9F7E-DCFEEF4F2E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особи опису (представлення) алгоритму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alibri"/>
              </a:rPr>
              <a:t>Структурно-стилізований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посіб запису заснований на застосуванні природної мови у формалізованому представленні приписань, конструкції якого близькі до конструкцій структурних мов програмув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900000" y="3645000"/>
          <a:ext cx="7451640" cy="2763720"/>
        </p:xfrm>
        <a:graphic>
          <a:graphicData uri="http://schemas.openxmlformats.org/drawingml/2006/table">
            <a:tbl>
              <a:tblPr/>
              <a:tblGrid>
                <a:gridCol w="1490400"/>
                <a:gridCol w="1487520"/>
                <a:gridCol w="1495440"/>
                <a:gridCol w="1487520"/>
                <a:gridCol w="1490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алгорит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имволь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аргуме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литер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резуль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логическ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нача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бл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       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оне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начало цикл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ач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цел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конец цикл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веществен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л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       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846-EE89-4B4B-AAEB-B7328E8F7A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095640"/>
            <a:ext cx="7315200" cy="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2852640"/>
          <a:ext cx="7315200" cy="288000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288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вид алгоритма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алг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название алгоритма (аргументы и результаты)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ан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условия применимости алгоритма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ourier New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д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цель выполнения алгорит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на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описание промежуточных велич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|   последовательность команд (тело алгоритм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4E6-0632-4DFC-BA84-9BE77F4DF8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азові алгоритмічні структу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ічна структура будь-якого алгоритму може бути представлена комбінацією трьох базових структур:слідування, розгалуження, ци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у яких використовується тільки структура «Слідування», називаються 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інійни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в основі яких лежить структура «Розгалуження», називаються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горитмами з розгалуження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, в основі яких лежить структура «Повторення», називають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иклічни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FEA-91EB-429D-8B38-CD626E2D09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53964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Базові алгоритмічні структу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ідуванн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це така форма організації команд (вказівок) в алгоритмі, під час виконання яких дії виконуються послідовно, одна за одною, без пропусків або повтор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згалуження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це така форма організації команд, коли залежно від виконання або невиконання певної умови виконується одна з двох послідовностей кома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торення (цикл) 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 така форма організації команд, за якою одна й та сама послідовність дій виконується кілька разів залежно від певної умо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актиці алгоритми розв’язування складних задач містять у собі базові структури всіх трьох тип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2"/>
          <p:cNvSpPr/>
          <p:nvPr/>
        </p:nvSpPr>
        <p:spPr>
          <a:xfrm>
            <a:off x="1371600" y="3276720"/>
            <a:ext cx="36576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52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F45-F1AE-4ECE-9490-3A2C1139D6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500200" y="2214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ank you for attention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856-13A2-43B0-AC70-2D7A68159A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ю задачею інформати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к науки є систематизація прийомів та методів роботи з апаратними та програмними засобами обчислювальної техні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т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рактична на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17B-9E32-483E-A83D-38C6D67FC6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Інформація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це сукупність відомостей (даних), які сприймають із навколишнього середовища (вхідна інформація), видають у навколишнє середовище (вихідна інформація) або зберігають всередині певної систе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055-9203-4744-AFF9-0517027A5B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ці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це позначення змісту, отриманого з зовнішнього світу в процесі нашого пристосування до нього і пристосування до нього наших почутті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берт Вин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нформаці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є характеристика не повідомлення, а співвідношення між повідомленням і його споживачем. Без наявності споживача, хоча б потенційного, говорити про інформацію безглузд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AF6-EBA8-4864-BF7F-E76760B585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ластивості інформації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остовір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вн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декват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оступ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розум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л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цінні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ктуальні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9AE-3D08-48C4-A3D8-04DF5BE7F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сновні операції обробки дани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бір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ормаліз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ільтр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ртуванн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рхіваці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ахист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ранспортування дани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етворення дан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28C-8626-42FA-851D-422293E50C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-648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Інформаційна система 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заємозв'язана сукупність засобів, методів і персоналу, використовувана для зберігання, оброблення та видачі інформації з метою вирішення конкретного завда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Інформаційна технологія 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людино-машинна технологія збирання, обробки та передачі інформації, що грунтується на використанні обчислювальної технік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28760" y="1750320"/>
            <a:ext cx="871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607212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E65-2633-4C1C-8B4C-E567F7B33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05:50:07Z</dcterms:created>
  <dc:creator>q</dc:creator>
  <dc:description/>
  <dc:language>en-US</dc:language>
  <cp:lastModifiedBy>z</cp:lastModifiedBy>
  <dcterms:modified xsi:type="dcterms:W3CDTF">2020-11-14T10:40:06Z</dcterms:modified>
  <cp:revision>38</cp:revision>
  <dc:subject/>
  <dc:title>Слайд 1</dc:title>
</cp:coreProperties>
</file>