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B69-9BF9-46D4-BF18-B038D80E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575-790E-46FE-932D-74CB78C7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4E4-0CFC-4831-B6D9-BA93DA5E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1B5-8260-42CC-8311-F4F2187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BDD1-DA32-4A23-A48D-93548DB7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DF7-D443-4850-9945-E5F09DEC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AB3C-61B5-4543-A6FC-2978655D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500D-E848-4E35-888D-C2E7434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EE46-2095-4588-947B-38C32F2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4F34-0E9A-4254-8236-16067CD7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87EC-AB5F-4E17-AA54-B1EB8CA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F9D-3C76-4439-9C0D-46F88C7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1F9-7CB1-4F08-AF01-ECF9C74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939F-F81F-475C-A1E9-DF14360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A47-3E95-435D-A559-2588064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6477-215F-4B9E-8E81-355F4489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D3AA-9244-41CC-A4A3-E508924E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BAC-F47C-4DEB-A2EC-330E917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95-3C79-441A-8877-50CDD36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DB5-9022-4B54-BC4D-B5F44473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90F-2886-403D-971C-B3A62140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A11-D446-4DB5-BCF6-F556A684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986-B9F2-4CBA-8A62-E2546C8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122-0ACA-4805-A4B1-ADD70D3F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484-CF03-4D65-B783-F092407FD4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56A7-FA36-464B-A314-DC25DC5F2E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16280"/>
            <a:ext cx="6400800" cy="29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Comic Sans MS"/>
              </a:rPr>
              <a:t>Редакторська підготовка дитячих видань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6327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Дети читают, библиотека | Мультипликационные рисунки, Детские рисунки,  Школьные фрески"/>
          <p:cNvPicPr/>
          <p:nvPr/>
        </p:nvPicPr>
        <p:blipFill>
          <a:blip r:embed="rId1"/>
          <a:stretch/>
        </p:blipFill>
        <p:spPr>
          <a:xfrm>
            <a:off x="1547640" y="189000"/>
            <a:ext cx="46674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907920"/>
            <a:ext cx="7342200" cy="4578480"/>
          </a:xfrm>
          <a:prstGeom prst="rect">
            <a:avLst/>
          </a:prstGeom>
          <a:solidFill>
            <a:srgbClr val="fff48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ета курсу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- забезпечення студентів теоретичними знаннями з редагування видань для дітей, а також набуття студентами практичних навичок редакторської роботи з ними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129440" cy="4681440"/>
          </a:xfrm>
          <a:prstGeom prst="rect">
            <a:avLst/>
          </a:prstGeom>
          <a:solidFill>
            <a:srgbClr val="fff48b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Comic Sans MS"/>
              </a:rPr>
              <a:t>Завдання</a:t>
            </a:r>
            <a:r>
              <a:rPr b="0" lang="uk-UA" sz="2800" spc="-1" strike="noStrike">
                <a:solidFill>
                  <a:srgbClr val="000099"/>
                </a:solidFill>
                <a:latin typeface="Comic Sans MS"/>
              </a:rPr>
              <a:t> </a:t>
            </a:r>
            <a:r>
              <a:rPr b="1" lang="uk-UA" sz="2800" spc="-1" strike="noStrike">
                <a:solidFill>
                  <a:srgbClr val="000099"/>
                </a:solidFill>
                <a:latin typeface="Comic Sans MS"/>
              </a:rPr>
              <a:t>курсу</a:t>
            </a:r>
            <a:r>
              <a:rPr b="0" lang="uk-UA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br>
              <a:rPr sz="28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розрізнення основних форм книжкової продукції для дітей, дитячої періодики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вивчення тематики та проблематики дитячих видань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з’ясування особливостей дитячої читацької аудиторії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вивчення специфіки редакторського опрацювання дитячої літератури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дослідження найкращих зразків дитячої літератури сучасності, а також пошук видань із недоліками на рівні форми та змісту і формулюванн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7342200" cy="4794120"/>
          </a:xfrm>
          <a:prstGeom prst="rect">
            <a:avLst/>
          </a:prstGeom>
          <a:solidFill>
            <a:srgbClr val="fff48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omic Sans MS"/>
              </a:rPr>
              <a:t>У результаті вивчення навчальної дисципліни студент повинен </a:t>
            </a:r>
            <a:r>
              <a:rPr b="1" lang="ru-RU" sz="3000" spc="-1" strike="noStrike">
                <a:solidFill>
                  <a:srgbClr val="000099"/>
                </a:solidFill>
                <a:latin typeface="Comic Sans MS"/>
              </a:rPr>
              <a:t>уміти</a:t>
            </a:r>
            <a:r>
              <a:rPr b="0" lang="ru-RU" sz="3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створювати концепцію дитячого видання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добирати й оцінювати дитячі видання за основними критеріями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редагувати дитячі видання різних типів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добирати ілюстративний матеріал відповідно до вікової категорії дитячого видання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У вас є ідеї щодо створення книжки для діт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авайте реалізуємо їх?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obemnaja-knizhka-s-kartinkami"/>
          <p:cNvPicPr/>
          <p:nvPr/>
        </p:nvPicPr>
        <p:blipFill>
          <a:blip r:embed="rId1"/>
          <a:stretch/>
        </p:blipFill>
        <p:spPr>
          <a:xfrm>
            <a:off x="4140360" y="3500280"/>
            <a:ext cx="4444920" cy="270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Золушка. Книга-панорама Шарль Перро – купить книгу Шарль Перро Золушка.  Книга-панорама | Booklya"/>
          <p:cNvPicPr/>
          <p:nvPr/>
        </p:nvPicPr>
        <p:blipFill>
          <a:blip r:embed="rId2"/>
          <a:stretch/>
        </p:blipFill>
        <p:spPr>
          <a:xfrm>
            <a:off x="0" y="1413000"/>
            <a:ext cx="42116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11:08:13Z</dcterms:created>
  <dc:creator>Microsoft Office</dc:creator>
  <dc:description/>
  <dc:language>en-US</dc:language>
  <cp:lastModifiedBy>Microsoft Office</cp:lastModifiedBy>
  <dcterms:modified xsi:type="dcterms:W3CDTF">2020-11-29T11:53:55Z</dcterms:modified>
  <cp:revision>2</cp:revision>
  <dc:subject/>
  <dc:title>Редакторська підготовка дитячих видань</dc:title>
</cp:coreProperties>
</file>