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0B5-9AE4-4B50-81D9-14FF0B71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6E7-EE55-4E5C-8787-DB8E42D8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102-29DD-499D-8967-71816ECC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739-5C78-4752-8C26-067567F7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13C-CA1B-4D86-A84B-86AB6D7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922-2843-420F-B50A-4F441C9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8866-D45D-42ED-BC44-6CECD5C3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52F-4A87-4513-AFD8-B899DF02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1630-D403-408C-9B37-23344E7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5956-66D5-4637-A834-6140E43F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25C6-4EED-4364-8153-F1E42E8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0C3-A318-42B5-BE34-2A427A1A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789-4BF2-456B-B388-9A880A7F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5FDE-E1BC-434E-ADE9-BC8FD581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8C6-D5B9-4EAF-BCF2-5770A809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EB84-62E7-40E4-BA81-49E55D80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96D-61B2-4A4A-9036-86615580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37C-8AB1-4E21-89C2-72C5CA46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14B-A5D4-4916-8C3B-8B2BAE55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417-6D1B-4336-92DC-DDC744A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7C0-A375-4572-96F3-ABC2E76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484-D502-4009-809F-BCF21A2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594-928F-4A08-8F40-CF39068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ED1-5DE3-4E1D-98BA-9C833DD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275E-EDE9-4467-A097-EA112F4590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30AB-F817-4F6C-8362-D4489CADE9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16280"/>
            <a:ext cx="6400800" cy="29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99"/>
                </a:solidFill>
                <a:latin typeface="Comic Sans MS"/>
              </a:rPr>
              <a:t>Редакторська підготовка дитячих видань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63272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Дети читают, библиотека | Мультипликационные рисунки, Детские рисунки,  Школьные фрески"/>
          <p:cNvPicPr/>
          <p:nvPr/>
        </p:nvPicPr>
        <p:blipFill>
          <a:blip r:embed="rId1"/>
          <a:stretch/>
        </p:blipFill>
        <p:spPr>
          <a:xfrm>
            <a:off x="1547640" y="189000"/>
            <a:ext cx="466740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907920"/>
            <a:ext cx="7342200" cy="457848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Мета курсу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- забезпечення студентів теоретичними знаннями з редагування видань для дітей, а також набуття студентами практичних навичок редакторської роботи з ними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129440" cy="468144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Comic Sans MS"/>
              </a:rPr>
              <a:t>Завдання</a:t>
            </a:r>
            <a:r>
              <a:rPr b="0" lang="uk-UA" sz="2800" spc="-1" strike="noStrike">
                <a:solidFill>
                  <a:srgbClr val="000099"/>
                </a:solidFill>
                <a:latin typeface="Comic Sans MS"/>
              </a:rPr>
              <a:t> </a:t>
            </a:r>
            <a:r>
              <a:rPr b="1" lang="uk-UA" sz="2800" spc="-1" strike="noStrike">
                <a:solidFill>
                  <a:srgbClr val="000099"/>
                </a:solidFill>
                <a:latin typeface="Comic Sans MS"/>
              </a:rPr>
              <a:t>курсу</a:t>
            </a:r>
            <a:r>
              <a:rPr b="0" lang="uk-UA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br>
              <a:rPr sz="28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розрізнення основних форм книжкової продукції для дітей, дитячої періодики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вивчення тематики та проблематики дитячих видань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з’ясування особливостей дитячої читацької аудиторії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вивчення специфіки редакторського опрацювання дитячої літератури;</a:t>
            </a:r>
            <a:br>
              <a:rPr sz="2600"/>
            </a:br>
            <a:r>
              <a:rPr b="0" lang="ru-RU" sz="2600" spc="-1" strike="noStrike">
                <a:solidFill>
                  <a:srgbClr val="000099"/>
                </a:solidFill>
                <a:latin typeface="Comic Sans MS"/>
              </a:rPr>
              <a:t>- дослідження найкращих зразків дитячої літератури сучасності, а також пошук видань із недоліками на рівні форми та змісту і формулюванн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7342200" cy="4794120"/>
          </a:xfrm>
          <a:prstGeom prst="rect">
            <a:avLst/>
          </a:prstGeom>
          <a:solidFill>
            <a:srgbClr val="fff48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omic Sans MS"/>
              </a:rPr>
              <a:t>У результаті вивчення навчальної дисципліни студент повинен </a:t>
            </a:r>
            <a:r>
              <a:rPr b="1" lang="ru-RU" sz="3000" spc="-1" strike="noStrike">
                <a:solidFill>
                  <a:srgbClr val="000099"/>
                </a:solidFill>
                <a:latin typeface="Comic Sans MS"/>
              </a:rPr>
              <a:t>уміти</a:t>
            </a:r>
            <a:r>
              <a:rPr b="0" lang="ru-RU" sz="3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створювати концепцію дитячого видання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добирати й оцінювати дитячі видання за основними критеріями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редагувати дитячі видання різних типів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99"/>
                </a:solidFill>
                <a:latin typeface="Comic Sans MS"/>
              </a:rPr>
              <a:t>- добирати ілюстративний матеріал відповідно до вікової категорії дитячого видання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У вас є ідеї щодо створення книжки для діт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Давайте реалізуємо їх?</a:t>
            </a: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obemnaja-knizhka-s-kartinkami"/>
          <p:cNvPicPr/>
          <p:nvPr/>
        </p:nvPicPr>
        <p:blipFill>
          <a:blip r:embed="rId1"/>
          <a:stretch/>
        </p:blipFill>
        <p:spPr>
          <a:xfrm>
            <a:off x="4140360" y="3500280"/>
            <a:ext cx="4444920" cy="270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Золушка. Книга-панорама Шарль Перро – купить книгу Шарль Перро Золушка.  Книга-панорама | Booklya"/>
          <p:cNvPicPr/>
          <p:nvPr/>
        </p:nvPicPr>
        <p:blipFill>
          <a:blip r:embed="rId2"/>
          <a:stretch/>
        </p:blipFill>
        <p:spPr>
          <a:xfrm>
            <a:off x="0" y="1413000"/>
            <a:ext cx="42116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11:08:13Z</dcterms:created>
  <dc:creator>Microsoft Office</dc:creator>
  <dc:description/>
  <dc:language>en-US</dc:language>
  <cp:lastModifiedBy>Microsoft Office</cp:lastModifiedBy>
  <dcterms:modified xsi:type="dcterms:W3CDTF">2020-11-29T11:53:55Z</dcterms:modified>
  <cp:revision>2</cp:revision>
  <dc:subject/>
  <dc:title>Редакторська підготовка дитячих видань</dc:title>
</cp:coreProperties>
</file>