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694A-58E6-46F3-890E-0D277928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DD77-BFBC-4364-9130-5E1703FE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C177-025C-4296-B6EF-E1BBAF77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7ED4-8BBA-4348-953F-AF0F7E10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43F11-E648-4735-9254-745BFC98A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44C3E-8819-44A2-B217-B0B10444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76B5B-7857-4BEC-831C-BEAFAE58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ECA0B-0FCE-4522-A5B6-202503C3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DDE55-67A3-4643-A9DC-A43E36CF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96267-14E2-4104-A961-02E75E3A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6FF21-7B9D-42AF-BD7B-B2CB1622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F423-EFCB-4AC5-8F20-2F9BDD88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D6E10-7751-440F-BC52-7BFECD5D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35F3B-CB91-46FC-A851-8DEE40E1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7600F-3F43-4593-9702-23B9D518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2448F-BA02-4399-9F90-39C7B621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BC2D6-D12E-4D41-A827-60BEDE0E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F8E-528D-460B-9151-A2C1360A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CC4B-D950-4859-9DB1-175B1F42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11E8-5D9A-4C19-8426-5033F0C9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8EEF-9717-4FEB-9901-B44406DC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8B07-03E8-4A0B-B8E0-A92140C8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5BC6-979B-49A4-87C7-47BDF62C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7EC3-F4FD-4100-9344-A181B232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DE3E-662C-409B-9F51-785B61969A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CC43-6A64-4DFE-BC14-3BD4F7080BF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Презентація на тему: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Речові права в зарубіжних цивільно-правових системах. 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Право власності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ласифікація об’єктів речового права існує в усіх цивільно-правових системах. Вона здійснюється відповідно до природних властивостей об’єктів, тому основним є 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розподіл речей на рухомі й нерухом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826920" y="1844640"/>
            <a:ext cx="7705800" cy="1944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ь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визначають за фізичними ознаками (нерозривний зв’язок із землею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юридичними (ускладнена процедура відчуження)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і речі мають індивідуальні ознаки та є незамінним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 нерухомості належать земля й безпосередньо пов’язані з нею або невіддільні від неї речі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дівлі, споруди, рослини на кор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еякі з них можуть набувати статусу рухомих рече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826920" y="4005360"/>
            <a:ext cx="770580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Рухомі можуть переміщуватися в просторі та в більшості випадків можут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ти замінені іншими однорідними речами, хоча можуть бути і незамінними. 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сі інші речі розглядаються як рухомі (рухомість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79280" y="256536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79280" y="465300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У цивільному праві ФРН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вважаються виключно матеріальні об’єкти: земля, складові частини земельної ділянки, під якими маються на увазі речі, міцно пов’язані із землею, - будинки, рослини на корені, висаджене в ґрунт насіння, а також права, що пов’язані з правом власності на дану земельну ділянку.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є все, що не є земельною ділянкою чи його складовою частино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Особливості в поділі речей на рухомі й нерухомі існують в праві Англії та більшості штатів США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У праві США нерухомістю вважаєтьс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земна кора й все, що нерозривно з нею пов’язане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стю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— речі, які можуть слідувати за власником у разі переміщенні його в просторі. Самі терміни «рухоме» і «нерухоме» майно застосовуються, переважно, у відносинах з іноземним елементом, які регулюються міжнародним приватним правом; у внутрішніх відносинах застосовується дещо інший підхід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Більш докладна класифікація речей існує не в усіх правових системах. Доктрина романо-германського права, а також законодавчі акти деяких країн (НЦК) поділяють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 речі на: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які в обороті визначаються кількістю, об’ємом, вагою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єдині в своєму роді чи виділені з числа подібних речей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знищуються чи змінюються внаслідок разового використання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розраховані на більш тривале використання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ільні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(не втрачають свого призначення під час поділу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поділь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оділ яких неможливий без втрати господарського призначення); а також виділяють речі —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істотні складові частини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невіддільні від речі), зокрема істотні складові частини земельної ділянки чи будівлі, а також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чі-приналежності та речі користуванн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лоди, продукція, права чи вигоди, які виникають внаслідок користуванн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і права власності полягають у тому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, що його нормами визначається правовий режим матеріальних цінностей у цивільному обороті взагалі, оскільки ці норми встановлюють міру можливої поведінки власника щодо володіння, користування й розпорядження май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Зміст суб’єктивного права власності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тановить сукупність виключних суб’єктивних правомочностей власн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2124000" y="4724280"/>
            <a:ext cx="540072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більшості вони зводяться до трьох основних: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39528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334800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630072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255600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46432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70930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468360" y="692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 (jus possidendi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643280" y="333360"/>
            <a:ext cx="3745080" cy="1440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адана законом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фактичного панування над річчю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тримання її у сфері господарювання.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68360" y="2924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utendi et jus fruendi)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643280" y="2637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аснована на закон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можливість експлуатації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одержання від нього плодів 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68360" y="508464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disponendi) 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4643280" y="4869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дана власнику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 власний розсуд визначати юридичну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фактичну долю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продавати, здавати в найм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ередати під заставу) 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3995640" y="981000"/>
            <a:ext cx="505080" cy="71640"/>
          </a:xfrm>
          <a:prstGeom prst="rightArrow">
            <a:avLst>
              <a:gd name="adj1" fmla="val 50000"/>
              <a:gd name="adj2" fmla="val 17625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3995640" y="3141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3995640" y="5373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5"/>
          <p:cNvSpPr/>
          <p:nvPr/>
        </p:nvSpPr>
        <p:spPr>
          <a:xfrm>
            <a:off x="2340000" y="692280"/>
            <a:ext cx="4753080" cy="792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ідстави набуття права власності </a:t>
            </a:r>
            <a:endParaRPr b="1" lang="en-US" sz="20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82692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ервіс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21964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хід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24000" y="2924280"/>
            <a:ext cx="395892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первісних способах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ласності виникає вперше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або незалежно від права і вол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572000" y="2924280"/>
            <a:ext cx="424980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кі, за яких право власності набувача виник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порядку правонаступництва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 волі 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226836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665964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H="1">
            <a:off x="1763280" y="1052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093080" y="1125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1763640" y="1052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7740720" y="112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4"/>
          <p:cNvSpPr/>
          <p:nvPr/>
        </p:nvSpPr>
        <p:spPr>
          <a:xfrm>
            <a:off x="1547640" y="404640"/>
            <a:ext cx="5904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 первісних способів набуття права власності належа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250920" y="1628640"/>
            <a:ext cx="237636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пецифі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0920" y="2492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Одержання пл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50920" y="3500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ирощува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мішування речей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об’єднання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5580000" y="162864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безхазяйних речей 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5580000" y="2492280"/>
            <a:ext cx="252108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вальн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дав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5580000" y="3500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ціоналіз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1403280" y="4724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Конфіс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4284720" y="4724280"/>
            <a:ext cx="252072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Реквізи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4067280" y="1197000"/>
            <a:ext cx="0" cy="30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6" name="Line 17"/>
          <p:cNvSpPr/>
          <p:nvPr/>
        </p:nvSpPr>
        <p:spPr>
          <a:xfrm>
            <a:off x="277164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529272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4067280" y="184464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9" name="Line 20"/>
          <p:cNvSpPr/>
          <p:nvPr/>
        </p:nvSpPr>
        <p:spPr>
          <a:xfrm flipH="1">
            <a:off x="2627280" y="184464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4067280" y="2781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2627280" y="2781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2" name="Line 24"/>
          <p:cNvSpPr/>
          <p:nvPr/>
        </p:nvSpPr>
        <p:spPr>
          <a:xfrm>
            <a:off x="4067280" y="3789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3" name="Line 25"/>
          <p:cNvSpPr/>
          <p:nvPr/>
        </p:nvSpPr>
        <p:spPr>
          <a:xfrm flipH="1">
            <a:off x="2627280" y="3789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2771640" y="429264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5" name="AutoShape 27"/>
          <p:cNvSpPr/>
          <p:nvPr/>
        </p:nvSpPr>
        <p:spPr>
          <a:xfrm>
            <a:off x="539640" y="5516640"/>
            <a:ext cx="792000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 похідних способів набуття права власності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лежать різноманітні цивільні угоди: договор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купівля-продаж, дарування, поставка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дносторонні угоди (заповіт, прийняття спадщини, індосамент на цінному папері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ласності в зарубіжних правових системах захищається різноманітними засобами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: кримінально-правовими, адміністративними, цивільно-правовими та ін. Однак саме цивільне право наділяє власника матеріально-правовими засобами захисту, які забезпечують поновлення його порушених прав, ліквідацію негативних майнових наслідків різного роду посягань на його права.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і засоби захисту права власності в доктрині зарубіжних країн поділяють на зобов’язально-правові та речові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4"/>
          <p:cNvSpPr/>
          <p:nvPr/>
        </p:nvSpPr>
        <p:spPr>
          <a:xfrm>
            <a:off x="1116000" y="476280"/>
            <a:ext cx="7343640" cy="865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Зобов’язально-правовими способами захисту права власності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79280" y="1844640"/>
            <a:ext cx="5472360" cy="936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1. Позови про порушення договірних зобов’язан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шляхом примушення до виконання договірного зобов’язання в натурі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вернення майна після закінчення дії договору майнового найму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835280" y="2924280"/>
            <a:ext cx="5472000" cy="93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2.Позови про відшкодування шкод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стягнення грошової компенсації, відновлення речі в натур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2268360" y="134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6443640" y="1341360"/>
            <a:ext cx="0" cy="158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826920" y="4076640"/>
            <a:ext cx="7705800" cy="1224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о-правові способ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рямовані безпосередньо проти різних порушень права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та мають на меті захист цього права в цілому чи захист окремих правомочностей власника.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324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країнах романо-германської системи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осовують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еціальні речово-правові позов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572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англо-американського права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і позови з правопорушень (torts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і деякі спеціальні речово-правові позови</a:t>
            </a: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6" name="AutoShape 13"/>
          <p:cNvSpPr/>
          <p:nvPr/>
        </p:nvSpPr>
        <p:spPr>
          <a:xfrm>
            <a:off x="324000" y="836640"/>
            <a:ext cx="718920" cy="144360"/>
          </a:xfrm>
          <a:prstGeom prst="rightArrow">
            <a:avLst>
              <a:gd name="adj1" fmla="val 50000"/>
              <a:gd name="adj2" fmla="val 12450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7" name="AutoShape 14"/>
          <p:cNvSpPr/>
          <p:nvPr/>
        </p:nvSpPr>
        <p:spPr>
          <a:xfrm>
            <a:off x="108000" y="458136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/>
          <p:cNvSpPr/>
          <p:nvPr/>
        </p:nvSpPr>
        <p:spPr>
          <a:xfrm>
            <a:off x="1332000" y="404640"/>
            <a:ext cx="6912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Загальними (речово-правовими) способами захисту права власності 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1835280" y="1484280"/>
            <a:ext cx="6912000" cy="1081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Віндикаційний позов (rei vindicatio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неволодіючого власника до володіючого не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повернення майна з незаконного володі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1763640" y="2781360"/>
            <a:ext cx="6912000" cy="1584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Негаторний позов (actio negatoria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про припине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еправомірних дій, не пов’язаних із позбавленням володі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власнику здійснюва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мочності користування й розпорядження майном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539640" y="191628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539640" y="335772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4"/>
          <p:cNvSpPr/>
          <p:nvPr/>
        </p:nvSpPr>
        <p:spPr>
          <a:xfrm>
            <a:off x="1332000" y="549360"/>
            <a:ext cx="6335640" cy="107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Доктрина зарубіжних країн окремо розгляд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способи захисту володіння, серед яких виділя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268360" y="1989000"/>
            <a:ext cx="6048720" cy="719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права власності за давністю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268360" y="2852640"/>
            <a:ext cx="6048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на самодопомогу (володілець може примусово відібрати річ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ивести особу зі свого будинку, земельної ділянки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2268360" y="378936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сесорні позови (позови володільця)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відновлення володіння; про припинення порушень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нормальному володінню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2268360" y="486900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евентивні позови - про усунення погрози порушення володіння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755640" y="2205000"/>
            <a:ext cx="1224000" cy="144360"/>
          </a:xfrm>
          <a:prstGeom prst="rightArrow">
            <a:avLst>
              <a:gd name="adj1" fmla="val 50000"/>
              <a:gd name="adj2" fmla="val 211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684360" y="3141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684360" y="4149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684360" y="522936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1e"/>
                </a:solidFill>
                <a:latin typeface="Tahoma"/>
              </a:rPr>
              <a:t>План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Права на чужі речі в зарубіжних 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5. Права на чужі речі в зарубіжних правових системах</a:t>
            </a:r>
            <a:r>
              <a:rPr b="0" lang="ru-RU" sz="36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ми на чужі речі або обмеженими речовими правами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є різні за своїм змістом абсолютні права на речі, які належать на праві власності іншим особам. Ці права закріплюють за їхніми носіями окремі правомочності, які є правомочностями власника, однак не позбавляють останнього права власності на дану рі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2411280" y="4797360"/>
            <a:ext cx="410544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Такими правами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50920" y="4869000"/>
            <a:ext cx="169236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755640" y="5734080"/>
            <a:ext cx="1871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користува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916360" y="5734080"/>
            <a:ext cx="107928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Узуфрукт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21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ервітут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579600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уперфіцій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745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Емфітевзис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7236000" y="4869000"/>
            <a:ext cx="169200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Застав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H="1">
            <a:off x="1979280" y="5084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>
            <a:off x="2340000" y="551664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349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93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37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6516720" y="515772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6659640" y="5445000"/>
            <a:ext cx="792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395280" y="260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забезпечена об’єктивним правом можливість фактичного панування над річчю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а належить на праві власності іншій особі. У всіх правових системах право володіння розглядаєтьс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 самостійний правовий інститут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95280" y="1268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(узус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право користування чужою річчю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живання в чужому будинку для задоволення власних потреб (чи потреб своєї сім’ї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 права одержання прибутку від такого користування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95280" y="2205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зуфрук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довічне чи строкове право користування чужою річчю з вилученням доход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бов’язком зберігати її; це найбільш повне право на чужу річ, яке залишає власнику лише формальне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к зване «голе» право власності;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ласник має тільки юридичну можливість контролювати користувача (узуфруктарія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5280" y="335772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Сервіту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дає право проїзду, проходу, прокладення комунікацій через чужу земельну ділянку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и (servitute, Dienstbarkeit) відомі всім національним правовим системам як встановл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ідносно земельної (слугуючої) ділянки, маєтку чи будівлі обтяження для потреб користув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ншою (пануючою) ділянкою чи будівле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395280" y="4437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Емфітевзис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- речове успадковуване відчужуване право користування землею та плодами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олоділець цього права (емфітевт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може змінити господарське призначення ділянки, якщо це не зашкодить її якості (родючості та ін.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395280" y="5661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Застава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-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комплекс правомочностей кредитора стосов­но майна, яке виділене боржником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чи надане іншою особою) для забезпечення виконання ним зобов’язання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 за рахунок якого можуть задовольнятися вимоги кредитора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0" y="62064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0" y="148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0" y="2421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0" y="3645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0" y="472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0" y="602136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187280" y="333360"/>
            <a:ext cx="66247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 доктрині розглядається досить докладна класифікація сервітут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539640" y="155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Міські та сільські (водні і дорожні)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643280" y="1484280"/>
            <a:ext cx="410544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лежно від місця знаходження земельної ділянк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39640" y="220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убліч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643280" y="213372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невизначеного кола осіб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або суспільства в цілому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539640" y="299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иват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643280" y="299736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конкретної особи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3924360" y="1700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995640" y="2421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3995640" y="3213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539640" y="414972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зи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4643280" y="3860640"/>
            <a:ext cx="4175280" cy="1224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вчиняти певні дії за рахунок чужог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ого майна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право проходу чи проїзду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гону худоби, користування водо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чи пасовищами ділянки, яка слугує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539640" y="544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ега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4643280" y="5157720"/>
            <a:ext cx="4175280" cy="15130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раво вимагати, щоб власник прилеглої ділянки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(яка слугує) утримувався від певних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видів її використання (не зводив будівель чи споруд,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або ж споруджував лише такі, які не можуть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ерешкоджати доступу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до пануючої ділянки світла,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овітря («сервітут світла й повітря»)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чи псувати краєвид</a:t>
            </a:r>
            <a:r>
              <a:rPr b="1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995640" y="4365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95640" y="566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овірча власність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термін суто англо-американського права, однак його аналоги та подібні до довірчої власності правовідносини останнім часом виникають і в країнах романо-германської правової систем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є одним з найбільш своєрідних і разом з тим надзвичайно поширених у практиці інститутів сучасного англо-американського права. Він має назву також фідуциарної, тобто заснованої на довірі власності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(fiduciary ownership) або трасту (trust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як система майнових відносин склалася в англійському праві та знайшла своє відображення у праві справедливості. У Сполучених Штатах Америки інститут довірчої власності у своїх основних рисах не відрізняється від англійсь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Інститут довірчої власності регулюється нормами прецедентного права, а також англійським Законом про довірчу власність (1925 р.) та законами з окремих видів довірчої власності; у США - Єдиним (уніфікованим) законом про довірчу власність, Зводом правил про довірчу власність (Restatements of the Law of the Trust), який має велике практичне значення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У окремих штатах США прийнято закони про довірчу власність; у більшості штатів діють закони, що стосуються окремих різновидів трасту. Провідну роль у регулюванні відносин довірчої власності, як і інших правових інститутів в англо-американській системі права, продовжує відігравати судовий прецедент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468360" y="549360"/>
            <a:ext cx="8064360" cy="1150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ідносини, за яких одна особа (засновник - settlor), встановлює довірчу власність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передає іншій особі - довірчому власнику (trustee) майно для управл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зазначених вигодонабувач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(бенефіціаріїв - beneficiary, cestui que trust).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79280" y="2205000"/>
            <a:ext cx="3240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Засновником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є власник майна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яке передається в довірчу власність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403280" y="321300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им власником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, який зобов’язується управляти майн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вигодонабувачів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може виступати як фізична, так і юридична особа.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203640" y="450864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Бенефіціаріями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ють вказані засновником особи: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дна особа, кілька чи невизначене коло осіб. 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4" name="Line 8"/>
          <p:cNvSpPr/>
          <p:nvPr/>
        </p:nvSpPr>
        <p:spPr>
          <a:xfrm>
            <a:off x="1835280" y="1700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5" name="Line 9"/>
          <p:cNvSpPr/>
          <p:nvPr/>
        </p:nvSpPr>
        <p:spPr>
          <a:xfrm>
            <a:off x="4140360" y="1700280"/>
            <a:ext cx="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6" name="Line 10"/>
          <p:cNvSpPr/>
          <p:nvPr/>
        </p:nvSpPr>
        <p:spPr>
          <a:xfrm>
            <a:off x="6877080" y="170028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виникає різними способами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підставі особистого волевиявлення засновника за його життя (inter vivos) або на випадок смерті (mortis caus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наслідок закону (логічно виведений траст - resulting trust; конструктивний траст - constructive trust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основі договор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На довірчого власника покладаються такі обов’язк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управляти майном відповідно до умов, котрі зазначені в установчому акті та в інтересах бенефіціарі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иявляти дбайливість і розсудливість, діяти в інтересах інших як у своїх власних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е виявляти зайвого ризику, марнотратства, не здійснювати пожертв; зберігати май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ін зобов’язаний звітувати перед вигодонабувачем за першою його вимогою по всіх справах, пов’язаних з управлінням майном, та передавати останньому всі вигоди і доходи, одержані від управління. Він не має права нічого залишати собі, якщо інше не передбачене в установчому ак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Довірча власність припиняється за таких обставин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 досягненням мети, задля якої вона створювалас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із закінченням заздалегідь передбаченого термін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бставин, настання яких повинно, за умовами установчого акту, припинити її існування (досягнення бенефіціарієм певного віку, укладення ним шлюбу та ін.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і смертю бенефіціарі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дностороннього волевиявлення засновника, якщо таку можливість було прямо передбачено в установчому акті.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1e"/>
                </a:solidFill>
                <a:latin typeface="Times New Roman"/>
              </a:rPr>
              <a:t>У сучасному цивільному обороті інститут довірчої власності використовується для регулювання різноманітних, зокрема й господарських (підприємницьких), відноси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Так, довірча власність застосовується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правління майном недієздатних осіб (неповнолітніх, обмежено дієздатних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благодійних фондів (наукових, навчальних, культурних, лікувальних організацій: університетів, шкіл, лікарень, музеїв тощо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об’єднань (акціонерних компаній (Англія), корпорацій (США); для голосування на загальних зборах в інтересах засновників (voting trust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захисту інтересів кредитора й підвищення відповідальності боржника (конструктивний траст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Найбільш широко він використовується у сфері комерційного управлінн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чужим майном через створення численних корпоративних утворень - інвестиційних банків, компаній, страхових, пенсійних ощадних фондів. Часом він суттєво відрізняється від традиційних трастових форм, однак суть залишається незмінною: довірчий власник в особі подібних організацій передає майно (акції, інші цінні папери, грошові вклади ) з метою ефективного комерційного управління на користь власників, які й виступають бенефіціаріями (вигодонабувачами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1. Безбах В.В. Цивільне та торгове право зарубіжних країн: навчальний посібник.- М.: МЦФЕР, 2004. - 896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2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Богустов, А.А. Цивільне та торгове право зарубіжних країн. - М.: ТетраСистемс, 2009. - 128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3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удінов О.А. Цивільне та торгове право зарубіжних країн. Короткий курс. - М.:Дашков і К, 2010. - 92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Шимон С. І. Цивільне та торгове право зарубіжних країн. Навч. посіб. (Курс лекцій). - К.: КНЕУ, 2004. - 220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континентальної правової системи правові норми, що регулюють майнові відносини, виділяються в цивільних кодексах як самостійні та групуються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в два розділ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чове прав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обов’язальне пра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</a:t>
            </a:r>
            <a:r>
              <a:rPr b="1" lang="uk-UA" sz="2400" spc="-1" strike="noStrike" u="sng">
                <a:solidFill>
                  <a:srgbClr val="00001e"/>
                </a:solidFill>
                <a:uFillTx/>
                <a:latin typeface="Times New Roman"/>
              </a:rPr>
              <a:t>і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речового права країн континентальної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ої систе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існий зв’язок цивільного й публічно-правових елементів у регулюванні відносин власності, що має загальні риси та зміст незалежно від правового становища власник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чітке розмежування речових і зобов’язальних правовідносин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собливий підхід до функцій і видів володіння, яке розглядається не тільки як одна з правомочностей власника, але і як окремий правовий інститут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агнення законодавця докладно врегулювати стан приналежності речі суб’єкту, способів захисту цього стану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1e"/>
                </a:solidFill>
                <a:latin typeface="Tahoma"/>
              </a:rPr>
              <a:t>Дякую за увагу!!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1476360" y="476280"/>
            <a:ext cx="6408720" cy="936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і права в цій системі поділяють на дві групи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50920" y="1989000"/>
            <a:ext cx="3816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Право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як повне приєднання речі до майна суб’єкт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найменш обмежене право)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86200" y="1989000"/>
            <a:ext cx="38149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Обмежені речові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права на чужі реч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62728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>
            <a:off x="651672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68360" y="335736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джерелах права зарубіжних країн немає легального визначення речового права, але воно сформульоване в доктрині, яка розглядає його як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сукупність норм, що регулюють такі майнові відносини, у яких управомочені особи можуть здійснювати свої права на майно (річ) незалежно від позитивних дій інших осіб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До інституту речового права належать норми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прямовані на те, щоб закріпити за управомоченою особою можливість володіти майном і користуватися ним незалежно від дій інших осі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218440" cy="22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Власник та інші носії речових прав можуть розраховувати на утримання усіма іншими від вчинення дій, що перешкоджають здійсненню приналежних їм правомочностей; усі інші учасники правовідносин протистоять носію речового права як зобов’язані суб’єкти. </a:t>
            </a:r>
            <a:br>
              <a:rPr sz="1800"/>
            </a:b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Абсолютний характер речових прав виявляється </a:t>
            </a: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праві слідування та праві переваг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250920" y="2781360"/>
            <a:ext cx="2952720" cy="718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слідування</a:t>
            </a: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924360" y="234936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речове право слідує за річчю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и переході права власності на неї до інших ос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б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наслідок права слідування засновані власник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 чи прав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и продовжують існувати щодо речі 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ісля переходу її до іншого власника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324000" y="4581360"/>
            <a:ext cx="295272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переваги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924360" y="436572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володілець речових пра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здійсненні свого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держує перевагу перед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часником зобов’язальних правовідносин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3276720" y="4941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3203640" y="3141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4"/>
          <p:cNvSpPr/>
          <p:nvPr/>
        </p:nvSpPr>
        <p:spPr>
          <a:xfrm>
            <a:off x="611280" y="620640"/>
            <a:ext cx="784836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англо-американському праві поняття речового права відрізняється від аналогічного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континентальн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Йому за змістом відповідає поняття права власності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611280" y="1773360"/>
            <a:ext cx="799308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цій цивільно-правовій системі існує основне речове право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е є аналогічним до континентального права власності (ownership)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інші речові права, які, по суті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хожі з правами на чужі речі в романо-германськ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92360" y="3357720"/>
            <a:ext cx="5111640" cy="502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В юридичній літературі розрізняють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79280" y="407664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умовне право волод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власності (право власност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68360" y="515772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рендне володі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оренда за договором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227640" y="407664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тримання, що слугує (сервітут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3059280" y="5157720"/>
            <a:ext cx="2736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вічне володіння (узуфрукт)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5940360" y="515772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строкового утрим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одержателя (застав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1979640" y="3860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6588000" y="3860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84328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4284720" y="393372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601200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Автори з країн загального права намагаються сформулювати універсальне визначення поняття власності за допомогою складання переліку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повноважень власника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який може бути досить широки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До правомочностей власника відносять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володіння, тобто виключний фізичний контроль над річчю чи право виключного її користува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користування чи особистого використання речі, якщо воно не включає два наступних повноваже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управління, тобто право вирішувати, хто і як може використову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доход, тобто на ті блага, які приносить реалізація двох попередніх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відчуження, споживання, витрату на свій розсуд, зміну чи знищення речі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гарантії від експропріації чи право на безпеку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переда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безстроковість здійснення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кінцевий характер повноважень, тобто здійснення правил, які забезпечують відновлення порушених пра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б’єктами речових прав є майн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 майна, насамперед, належать річ, сукупність речей, а також електроенергія та газ, інші види енергії й сировини, що виходять за межі традиційного розуміння речей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оло об’єктів речових прав розширюється за рахунок розробленої в зарубіжній доктрині концепції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«безтілесного майна», під яким розуміють так званий ідеальний майновий об’єкт, що має вартість і грошову оцінку, але не є матеріальни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За сучасною концепцією власності до «безтілесного майна» належать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технічні й нетехнічні об’єкти промислової власності (винаходи, «ноу-хау», промислові зразки й товарні знаки, фірмові найменування), а також об’єкти фінансової та комерційної власност</a:t>
            </a:r>
            <a:r>
              <a:rPr b="0" lang="uk-UA" sz="2000" spc="-1" strike="noStrike" u="sng">
                <a:solidFill>
                  <a:srgbClr val="ffffff"/>
                </a:solidFill>
                <a:uFillTx/>
                <a:latin typeface="Times New Roman"/>
              </a:rPr>
              <a:t>і,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що виступають у вигляді права вимоги по грошових і товаророзпорядчих документах (облігації, векселі, чеки, паї, коносаменти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країнах англо-американської системи права коло об’єктів права власності більш широке, аніж у континентальному праві: поряд з матеріальними об’єктами права власності є так звані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«речі у вимозі»: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грошові зобов’язання, оборотні документи, акції, паї, облігації; авторські права, патентні права, товарні знаки, фірмові найменування, пенсії, ануітети (вид державної позики, з якої кредитор одержує ренту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У цій правовій системі відстоюється концепція виключних прав на такі цінності, тоді як у романо-германській поширена суто власницька концепція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Однак практика всіх країн зазвичай переносить на право промислової, фінансової й комерційної власності режим, встановлений для матеріальних об’єкті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13:58:21Z</dcterms:created>
  <dc:creator>WORK</dc:creator>
  <dc:description/>
  <dc:language>en-US</dc:language>
  <cp:lastModifiedBy>George</cp:lastModifiedBy>
  <dcterms:modified xsi:type="dcterms:W3CDTF">2020-11-29T21:26:48Z</dcterms:modified>
  <cp:revision>18</cp:revision>
  <dc:subject/>
  <dc:title>Презентація на тему: Речові права в зарубіжних цивільно-правових системах.  Право власності.</dc:title>
</cp:coreProperties>
</file>