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7F8B-5E24-401B-B6BF-4005E119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D96-01AA-4258-ACD9-A536F968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0FD8-B611-476C-822B-F4E63CC1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FCE-734E-4042-BE11-068A5F8F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408A4-5DF7-4020-B069-1A8F7398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EA9BF-8CA0-49AF-A3BB-F5475D9C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F0F85-65F7-402F-9E7C-406994C1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329AC-1C60-4989-932C-00C18F32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D7863-EB94-47D7-A2F1-F65F2527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E9F55-FC7D-4593-A013-EEFA88CA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3BBD8-B3B9-4F14-B89C-815449D1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AEDB-F5FB-4959-9F92-CF4DE257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13903-1240-4EC1-AC4F-6488D9D7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51B31-A54C-4706-9B46-A1A75AE1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63B0A-9D86-46ED-8B21-F69AEF26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95834-D67B-4C19-AB7C-E070285F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0CE70-E3DA-4FD1-A111-15164B36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DC28-E0A7-412C-8FA4-683BD976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4BF-6672-42E5-A1DA-FEFDB27C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9BB9-FFC9-4DAF-917C-48BA5C45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F7B1-2B12-405B-9E34-7E3FE092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5EA3-85F1-437C-A84B-21C7B9AA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EA8-B734-4820-8BF7-59E2BA8F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16B7-F745-4866-B6EC-558B4930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BB91-5DAB-428D-9403-074499EA56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5408-E228-4F4F-AF79-E59D85D63A2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Презентація на тему: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Речові права в зарубіжних цивільно-правових системах. </a:t>
            </a:r>
            <a:br>
              <a:rPr sz="3600"/>
            </a:b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Право власност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ласифікація об’єктів речового права існує в усіх цивільно-правових системах. Вона здійснюється відповідно до природних властивостей об’єктів, тому основним є 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розподіл речей на рухомі й нерухом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826920" y="1844640"/>
            <a:ext cx="7705800" cy="1944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ь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визначають за фізичними ознаками (нерозривний зв’язок із землею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юридичними (ускладнена процедура відчуження)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і речі мають індивідуальні ознаки та є незамінним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 нерухомості належать земля й безпосередньо пов’язані з нею або невіддільні від неї речі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дівлі, споруди, рослини на кор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еякі з них можуть набувати статусу рухомих рече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826920" y="4005360"/>
            <a:ext cx="770580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Рухомі можуть переміщуватися в просторі та в більшості випадків можут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ути замінені іншими однорідними речами, хоча можуть бути і незамінними. 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сі інші речі розглядаються як рухомі (рухомість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79280" y="256536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79280" y="465300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У цивільному праві ФРН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не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вважаються виключно матеріальні об’єкти: земля, складові частини земельної ділянки, під якими маються на увазі речі, міцно пов’язані із землею, - будинки, рослини на корені, висаджене в ґрунт насіння, а також права, що пов’язані з правом власності на дану земельну ділянку.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Рухомістю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є все, що не є земельною ділянкою чи його складовою частино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Особливості в поділі речей на рухомі й нерухомі існують в праві Англії та більшості штатів США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У праві США нерухомістю вважаєтьс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земна кора й все, що нерозривно з нею пов’язане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стю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— речі, які можуть слідувати за власником у разі переміщенні його в просторі. Самі терміни «рухоме» і «нерухоме» майно застосовуються, переважно, у відносинах з іноземним елементом, які регулюються міжнародним приватним правом; у внутрішніх відносинах застосовується дещо інший підхі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Більш докладна класифікація речей існує не в усіх правових системах. Доктрина романо-германського права, а також законодавчі акти деяких країн (НЦК) поділяють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рухомі речі на: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які в обороті визначаються кількістю, об’ємом, вагою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замін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єдині в своєму роді чи виділені з числа подібних речей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знищуються чи змінюються внаслідок разового використання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пожив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розраховані на більш тривале використання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ільні 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(не втрачають свого призначення під час поділу) т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дільні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оділ яких неможливий без втрати господарського призначення); а також виділяють речі 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істотні складові частини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невіддільні від речі), зокрема істотні складові частини земельної ділянки чи будівлі, а також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і-приналежності та речі користування</a:t>
            </a: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 (плоди, продукція, права чи вигоди, які виникають внаслідок користуванн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і права власності полягають у тому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, що його нормами визначається правовий режим матеріальних цінностей у цивільному обороті взагалі, оскільки ці норми встановлюють міру можливої поведінки власника щодо володіння, користування й розпорядження май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Зміст суб’єктивного права власності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тановить сукупність виключних суб’єктивних правомочностей власн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124000" y="4724280"/>
            <a:ext cx="540072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більшості вони зводяться до трьох основних: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9528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34800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6300720" y="5661000"/>
            <a:ext cx="266400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556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6432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709308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68360" y="692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 (jus possidendi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43280" y="333360"/>
            <a:ext cx="3745080" cy="1440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адана законом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фактичного панування над річчю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тримання її у сфері господарювання.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68360" y="292428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utendi et jus fruendi)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43280" y="2637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аснована на закон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можливість експлуатації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одержання від нього плодів 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68360" y="5084640"/>
            <a:ext cx="345600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ahoma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розпорядження річчю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(jus disponendi) 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643280" y="4869000"/>
            <a:ext cx="3745080" cy="1439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дана власнику можлив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 власний розсуд визначати юридичну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фактичну долю майна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продавати, здавати в найм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ередати під заставу) 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3995640" y="981000"/>
            <a:ext cx="505080" cy="71640"/>
          </a:xfrm>
          <a:prstGeom prst="rightArrow">
            <a:avLst>
              <a:gd name="adj1" fmla="val 50000"/>
              <a:gd name="adj2" fmla="val 17625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3995640" y="3141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995640" y="5373720"/>
            <a:ext cx="505080" cy="71280"/>
          </a:xfrm>
          <a:prstGeom prst="rightArrow">
            <a:avLst>
              <a:gd name="adj1" fmla="val 50000"/>
              <a:gd name="adj2" fmla="val 177146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2340000" y="692280"/>
            <a:ext cx="4753080" cy="792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ідстави набуття права власності </a:t>
            </a:r>
            <a:endParaRPr b="1" lang="en-US" sz="2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ервіс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219640" y="1844640"/>
            <a:ext cx="302580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хідні способи набутт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 власності  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4000" y="2924280"/>
            <a:ext cx="395892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первісних способах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ласності виникає вперше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або незалежно від права і волі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0" y="2924280"/>
            <a:ext cx="4249800" cy="115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кі, за яких право власності набувача виник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порядку правонаступництва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 волі попереднього 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26836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659640" y="2421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1763280" y="1052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093080" y="112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176364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774072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547640" y="404640"/>
            <a:ext cx="5904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 первісних способів набуття права власності належа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50920" y="1628640"/>
            <a:ext cx="237636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пецифі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0920" y="2492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Одержання пл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і доход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0920" y="3500280"/>
            <a:ext cx="2376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ирощува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змішування речей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(об’єднання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580000" y="162864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безхазяйних речей 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5580000" y="2492280"/>
            <a:ext cx="25210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валь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дав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580000" y="3500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ціоналіз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403280" y="4724280"/>
            <a:ext cx="25210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Конфіска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4284720" y="4724280"/>
            <a:ext cx="252072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Реквізиці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4067280" y="119700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277164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529272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4067280" y="184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 flipH="1">
            <a:off x="2627280" y="184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4067280" y="2781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2627280" y="2781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4067280" y="378936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2627280" y="378936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771640" y="429264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5" name="AutoShape 27"/>
          <p:cNvSpPr/>
          <p:nvPr/>
        </p:nvSpPr>
        <p:spPr>
          <a:xfrm>
            <a:off x="539640" y="5516640"/>
            <a:ext cx="792000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 похідних способів набуття права власності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лежать різноманітні цивільні угоди: договор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купівля-продаж, дарування, поставка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дносторонні угоди (заповіт, прийняття спадщини, індосамент на цінному папері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ласності в зарубіжних правових системах захищається різноманітними засобами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: кримінально-правовими, адміністративними, цивільно-правовими та ін. Однак саме цивільне право наділяє власника матеріально-правовими засобами захисту, які забезпечують поновлення його порушених прав, ліквідацію негативних майнових наслідків різного роду посягань на його права.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і засоби захисту права власності в доктрині зарубіжних країн поділяють на зобов’язально-правові та речові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/>
          <p:cNvSpPr/>
          <p:nvPr/>
        </p:nvSpPr>
        <p:spPr>
          <a:xfrm>
            <a:off x="1116000" y="476280"/>
            <a:ext cx="7343640" cy="865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Зобов’язально-правовими способами захисту права власності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9280" y="1844640"/>
            <a:ext cx="5472360" cy="936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1. Позови про порушення договірних зобов’язань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шляхом примушення до виконання договірного зобов’язання в натурі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вернення майна після закінчення дії договору майнового найму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835280" y="2924280"/>
            <a:ext cx="5472000" cy="93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2.Позови про відшкодування шкод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стягнення грошової компенсації, відновлення речі в натур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68360" y="134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443640" y="134136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826920" y="4076640"/>
            <a:ext cx="7705800" cy="1224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о-правові способ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рямовані безпосередньо проти різних порушень права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та мають на меті захист цього права в цілому чи захист окремих правомочностей власника.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24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країнах романо-германської системи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осовують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спеціальні речово-правові позови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72000" y="5734080"/>
            <a:ext cx="388764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англо-американського права –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і позови з правопорушень (torts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і деякі спеціальні речово-правові позови</a:t>
            </a: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324000" y="836640"/>
            <a:ext cx="718920" cy="144360"/>
          </a:xfrm>
          <a:prstGeom prst="rightArrow">
            <a:avLst>
              <a:gd name="adj1" fmla="val 50000"/>
              <a:gd name="adj2" fmla="val 124501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108000" y="458136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1332000" y="404640"/>
            <a:ext cx="6912000" cy="792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Загальними (речово-правовими) способами захисту права власності 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835280" y="1484280"/>
            <a:ext cx="6912000" cy="1081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Віндикаційний позов (rei vindicatio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неволодіючого власника до володіючого невласник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повернення майна з незаконного володі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763640" y="2781360"/>
            <a:ext cx="6912000" cy="1584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орний позов (actio negatoria) –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зов про припинення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еправомірних дій, не пов’язаних із позбавленням володіння,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власнику здійснюва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мочності користування й розпорядження майном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39640" y="191628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39640" y="335772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1332000" y="549360"/>
            <a:ext cx="6335640" cy="107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Доктрина зарубіжних країн окремо розглядає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imes New Roman"/>
              </a:rPr>
              <a:t>способи захисту володіння, серед яких виділяє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268360" y="1989000"/>
            <a:ext cx="604872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Набуття права власності за давністю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268360" y="2852640"/>
            <a:ext cx="6048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на самодопомогу (володілець може примусово відібрати річ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ивести особу зі свого будинку, земельної ділянки)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268360" y="378936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осесорні позови (позови володільця):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о відновлення володіння; про припинення порушень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і перешкоджають нормальному володінню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268360" y="4869000"/>
            <a:ext cx="604872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евентивні позови - про усунення погрози порушення володіння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55640" y="220500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84360" y="3141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684360" y="414972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684360" y="5229360"/>
            <a:ext cx="1223640" cy="144360"/>
          </a:xfrm>
          <a:prstGeom prst="rightArrow">
            <a:avLst>
              <a:gd name="adj1" fmla="val 50000"/>
              <a:gd name="adj2" fmla="val 211908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1e"/>
                </a:solidFill>
                <a:latin typeface="Tahoma"/>
              </a:rPr>
              <a:t>Пла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3. Право власності в зарубіжних правових системах. Підстави набуття права влас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4. Захист права власності в романо-германській та англо-американській цивільно-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Права на чужі речі в зарубіжних правових системах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5. Права на чужі речі в зарубіжних правових системах</a:t>
            </a:r>
            <a:r>
              <a:rPr b="0" lang="ru-RU" sz="3600" spc="-1" strike="noStrike">
                <a:solidFill>
                  <a:srgbClr val="00001e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ами на чужі речі або обмеженими речовими правами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є різні за своїм змістом абсолютні права на речі, які належать на праві власності іншим особам. Ці права закріплюють за їхніми носіями окремі правомочності, які є правомочностями власника, однак не позбавляють останнього права власності на дану рі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2411280" y="4797360"/>
            <a:ext cx="410544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Такими правами є: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0920" y="4869000"/>
            <a:ext cx="169236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володі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55640" y="5734080"/>
            <a:ext cx="1871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Право користування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16360" y="5734080"/>
            <a:ext cx="107928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Узуфрукт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21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ервітут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79600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Суперфіцій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7451640" y="5734080"/>
            <a:ext cx="136836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Емфітевзис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6000" y="4869000"/>
            <a:ext cx="1692000" cy="57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1e"/>
                </a:solidFill>
                <a:latin typeface="Times New Roman"/>
              </a:rPr>
              <a:t>Застава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1979280" y="5084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2340000" y="5516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49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3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372360" y="551664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516720" y="51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6659640" y="5445000"/>
            <a:ext cx="79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95280" y="260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володіння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забезпечена об’єктивним правом можливість фактичного панування над річчю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а належить на праві власності іншій особі. У всіх правових системах право володіння розглядаєтьс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як самостійний правовий інститут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95280" y="1268280"/>
            <a:ext cx="806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користування (узус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право користування чужою річчю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живання в чужому будинку для задоволення власних потреб (чи потреб своєї сім’ї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 права одержання прибутку від такого користування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2205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зуфрук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- довічне чи строкове право користування чужою річчю з вилученням доход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обов’язком зберігати її; це найбільш повне право на чужу річ, яке залишає власнику лише формальне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к зване «голе» право власності;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ласник має тільки юридичну можливість контролювати користувача (узуфруктарія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5280" y="335772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Сервітут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надає право проїзду, проходу, прокладення комунікацій через чужу земельну ділянку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и (servitute, Dienstbarkeit) відомі всім національним правовим системам як встановлені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ідносно земельної (слугуючої) ділянки, маєтку чи будівлі обтяження для потреб користув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ншою (пануючою) ділянкою чи будівле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95280" y="4437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Емфітевзис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- речове успадковуване відчужуване право користування землею та плодами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олоділець цього права (емфітевт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може змінити господарське призначення ділянки, якщо це не зашкодить її якості (родючості та ін.)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395280" y="5661000"/>
            <a:ext cx="806436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Застава </a:t>
            </a: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-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комплекс правомочностей кредитора стосов­но майна, яке виділене боржником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чи надане іншою особою) для забезпечення виконання ним зобов’язання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і за рахунок якого можуть задовольнятися вимоги кредитора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62064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148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2421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0" y="3645000"/>
            <a:ext cx="395280" cy="71280"/>
          </a:xfrm>
          <a:prstGeom prst="rightArrow">
            <a:avLst>
              <a:gd name="adj1" fmla="val 50000"/>
              <a:gd name="adj2" fmla="val 138636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0" y="472428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0" y="6021360"/>
            <a:ext cx="395280" cy="71640"/>
          </a:xfrm>
          <a:prstGeom prst="rightArrow">
            <a:avLst>
              <a:gd name="adj1" fmla="val 50000"/>
              <a:gd name="adj2" fmla="val 13794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187280" y="333360"/>
            <a:ext cx="66247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 </a:t>
            </a: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У доктрині розглядається досить докладна класифікація сервітутів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39640" y="155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Міські та сільські (водні і дорожні)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643280" y="1484280"/>
            <a:ext cx="410544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лежно від місця знаходження земельної ділянки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39640" y="220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убліч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643280" y="213372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невизначеного кола осіб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або суспільства в цілому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39640" y="299736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риватні сервітути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643280" y="2997360"/>
            <a:ext cx="41054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Встановлюються для конкретної особи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924360" y="1700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995640" y="242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3995640" y="321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539640" y="4149720"/>
            <a:ext cx="3419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Пози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43280" y="3860640"/>
            <a:ext cx="4175280" cy="1224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вчиняти певні дії за рахунок чужог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нерухомого майна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право проходу чи проїзду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огону худоби, користування водою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чи пасовищами ділянки, яка слугує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539640" y="5445000"/>
            <a:ext cx="341964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Негативні сервітут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643280" y="5157720"/>
            <a:ext cx="4175280" cy="1513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раво вимагати, щоб власник прилеглої ділянки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(яка слугує) утримувався від певних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видів її використання (не зводив будівель чи споруд,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або ж споруджував лише такі, які не можуть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ерешкоджати доступу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до пануючої ділянки світла,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повітря («сервітут світла й повітря»)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1e"/>
                </a:solidFill>
                <a:latin typeface="Times New Roman"/>
              </a:rPr>
              <a:t>чи псувати краєвид</a:t>
            </a:r>
            <a:r>
              <a:rPr b="1" lang="ru-RU" sz="12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995640" y="4365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95640" y="566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1e"/>
                </a:solidFill>
                <a:latin typeface="Times New Roman"/>
              </a:rPr>
              <a:t>6. Інститут довірчої власності в праві Англії та СШ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овірча власність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термін суто англо-американського права, однак його аналоги та подібні до довірчої власності правовідносини останнім часом виникають і в країнах романо-германської правової систем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є одним з найбільш своєрідних і разом з тим надзвичайно поширених у практиці інститутів сучасного англо-американського права. Він має назву також фідуциарної, тобто заснованої на довірі власності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fiduciary ownership) або трасту (trus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Довірча власність як система майнових відносин склалася в англійському праві та знайшла своє відображення у праві справедливості. У Сполучених Штатах Америки інститут довірчої власності у своїх основних рисах не відрізняється від англійсь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Інститут довірчої власності регулюється нормами прецедентного права, а також англійським Законом про довірчу власність (1925 р.) та законами з окремих видів довірчої власності; у США - Єдиним (уніфікованим) законом про довірчу власність, Зводом правил про довірчу власність (Restatements of the Law of the Trust), який має велике практичне значення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У окремих штатах США прийнято закони про довірчу власність; у більшості штатів діють закони, що стосуються окремих різновидів трасту. Провідну роль у регулюванні відносин довірчої власності, як і інших правових інститутів в англо-американській системі права, продовжує відігравати судовий прецеден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468360" y="549360"/>
            <a:ext cx="8064360" cy="1150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ідносини, за яких одна особа (засновник - settlor), встановлює довірчу власність: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передає іншій особі - довірчому власнику (trustee) майно для управл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зазначених вигодонабувачі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(бенефіціаріїв - beneficiary, cestui que trust).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79280" y="2205000"/>
            <a:ext cx="324036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Засновником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є власник майна,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яке передається в довірчу власність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403280" y="321300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им власником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, який зобов’язується управляти майн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 інтересах вигодонабувачів,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може виступати як фізична, так і юридична особа.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203640" y="4508640"/>
            <a:ext cx="4824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Бенефіціаріями </a:t>
            </a: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виступають вказані засновником особи: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одна особа, кілька чи невизначене коло осіб. </a:t>
            </a:r>
            <a:r>
              <a:rPr b="1" lang="ru-RU" sz="1400" spc="-1" strike="noStrike" u="sng">
                <a:solidFill>
                  <a:srgbClr val="00001e"/>
                </a:solidFill>
                <a:uFillTx/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835280" y="1700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4140360" y="170028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6877080" y="170028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вірча власність виникає різними способами</a:t>
            </a:r>
            <a:r>
              <a:rPr b="1" lang="ru-RU" sz="2000" spc="-1" strike="noStrike">
                <a:solidFill>
                  <a:srgbClr val="00001e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підставі особистого волевиявлення засновника за його життя (inter vivos) або на випадок смерті (mortis caus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наслідок закону (логічно виведений траст - resulting trust; конструктивний траст - constructive trust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а основі догов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На довірчого власника покладаються такі обов’яз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управляти майном відповідно до умов, котрі зазначені в установчому акті та в інтересах бенефіціарі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иявляти дбайливість і розсудливість, діяти в інтересах інших як у своїх власни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не виявляти зайвого ризику, марнотратства, не здійснювати пожертв; зберігати май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Він зобов’язаний звітувати перед вигодонабувачем за першою його вимогою по всіх справах, пов’язаних з управлінням майном, та передавати останньому всі вигоди і доходи, одержані від управління. Він не має права нічого залишати собі, якщо інше не передбачене в установчому ак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Довірча власність припиняється за таких обст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 досягненням мети, задля якої вона створювалас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із закінченням заздалегідь передбаченого термін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бставин, настання яких повинно, за умовами установчого акту, припинити її існування (досягнення бенефіціарієм певного віку, укладення ним шлюбу та ін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зі смертю бенефіціарі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наслідок одностороннього волевиявлення засновника, якщо таку можливість було прямо передбачено в установчому акті.</a:t>
            </a:r>
            <a:r>
              <a:rPr b="0" lang="ru-RU" sz="28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e"/>
                </a:solidFill>
                <a:latin typeface="Times New Roman"/>
              </a:rPr>
              <a:t>У сучасному цивільному обороті інститут довірчої власності використовується для регулювання різноманітних, зокрема й господарських (підприємницьких), віднос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ак, довірча власність застосовується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правління майном недієздатних осіб (неповнолітніх, обмежено дієздатних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благодійних фондів (наукових, навчальних, культурних, лікувальних організацій: університетів, шкіл, лікарень, музеїв тощо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ворення об’єднань (акціонерних компаній (Англія), корпорацій (США); для голосування на загальних зборах в інтересах засновників (voting trust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захисту інтересів кредитора й підвищення відповідальності боржника (конструктивний трас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Найбільш широко він використовується у сфері комерційного управлінн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чужим майном через створення численних корпоративних утворень - інвестиційних банків, компаній, страхових, пенсійних ощадних фондів. Часом він суттєво відрізняється від традиційних трастових форм, однак суть залишається незмінною: довірчий власник в особі подібних організацій передає майно (акції, інші цінні папери, грошові вклади ) з метою ефективного комерційного управління на користь власників, які й виступають бенефіціаріями (вигодонабувачам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1e"/>
                </a:solidFill>
                <a:latin typeface="Times New Roman"/>
              </a:rPr>
              <a:t>Список використаної літератур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1. Безбах В.В. Цивільне та торгове право зарубіжних країн: навчальний посібник.- М.: МЦФЕР, 2004. - 896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Богустов, А.А. Цивільне та торгове право зарубіжних країн. - М.: ТетраСистемс, 2009. - 128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удінов О.А. Цивільне та торгове право зарубіжних країн. Короткий курс. - М.:Дашков і К, 2010. - 9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1e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Шимон С. І. Цивільне та торгове право зарубіжних країн. Навч. посіб. (Курс лекцій). - К.: КНЕУ, 2004. - 220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1. Поняття й види речових прав у зарубіжних цивільно-правових системах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країнах континентальної правової системи правові норми, що регулюють майнові відносини, виділяються в цивільних кодексах як самостійні та групуються 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в два розді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чове пра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обов’язальне п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Особливост</a:t>
            </a:r>
            <a:r>
              <a:rPr b="1" lang="uk-UA" sz="2400" spc="-1" strike="noStrike" u="sng">
                <a:solidFill>
                  <a:srgbClr val="00001e"/>
                </a:solidFill>
                <a:uFillTx/>
                <a:latin typeface="Times New Roman"/>
              </a:rPr>
              <a:t>і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речового права країн континентально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цивільно-правової систе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існий зв’язок цивільного й публічно-правових елементів у регулюванні відносин власності, що має загальні риси та зміст незалежно від правового становища власни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ітке розмежування речових і зобов’язальних правовідносин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обливий підхід до функцій і видів володіння, яке розглядається не тільки як одна з правомочностей власника, але і як окремий правовий інститут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агнення законодавця докладно врегулювати стан приналежності речі суб’єкту, способів захисту цього стан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1e"/>
                </a:solidFill>
                <a:latin typeface="Tahoma"/>
              </a:rPr>
              <a:t>Дякую за увагу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1476360" y="476280"/>
            <a:ext cx="6408720" cy="936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Речові права в цій системі поділяють на дві групи</a:t>
            </a:r>
            <a:r>
              <a:rPr b="1" lang="ru-RU" sz="1800" spc="-1" strike="noStrike" u="sng">
                <a:solidFill>
                  <a:srgbClr val="00001e"/>
                </a:solidFill>
                <a:uFillTx/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50920" y="1989000"/>
            <a:ext cx="381636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Право власності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як повне приєднання речі до майна суб’єкт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найменш обмежене право)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86200" y="1989000"/>
            <a:ext cx="38149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Обмежені речові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e"/>
                </a:solidFill>
                <a:latin typeface="Times New Roman"/>
              </a:rPr>
              <a:t>(права на чужі речі)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62728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516720" y="1413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джерелах права зарубіжних країн немає легального визначення речового права, але воно сформульоване в доктрині, яка розглядає його як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 сукупність норм, що регулюють такі майнові відносини, у яких управомочені особи можуть здійснювати свої права на майно (річ) незалежно від позитивних дій інших осіб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До інституту речового права належать норми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спрямовані на те, щоб закріпити за управомоченою особою можливість володіти майном і користуватися ним незалежно від дій інших осі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21844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Власник та інші носії речових прав можуть розраховувати на утримання усіма іншими від вчинення дій, що перешкоджають здійсненню приналежних їм правомочностей; усі інші учасники правовідносин протистоять носію речового права як зобов’язані суб’єкти. </a:t>
            </a:r>
            <a:br>
              <a:rPr sz="1800"/>
            </a:br>
            <a:r>
              <a:rPr b="0" lang="ru-RU" sz="1800" spc="-1" strike="noStrike">
                <a:solidFill>
                  <a:srgbClr val="00001e"/>
                </a:solidFill>
                <a:latin typeface="Times New Roman"/>
              </a:rPr>
              <a:t>Абсолютний характер речових прав виявляється </a:t>
            </a:r>
            <a:r>
              <a:rPr b="1" i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у праві слідування та праві перева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50920" y="2781360"/>
            <a:ext cx="2952720" cy="718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слідування</a:t>
            </a:r>
            <a:r>
              <a:rPr b="0" lang="ru-RU" sz="1800" spc="-1" strike="noStrike">
                <a:solidFill>
                  <a:srgbClr val="00001e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24360" y="234936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речове право слідує за річчю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и переході права власності на неї до інших ос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б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наслідок права слідування засновані власником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сервітут чи право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и продовжують існувати щодо речі й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ісля переходу її до іншого власника.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24000" y="4581360"/>
            <a:ext cx="295272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1e"/>
                </a:solidFill>
                <a:uFillTx/>
                <a:latin typeface="Times New Roman"/>
              </a:rPr>
              <a:t>Право переваги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924360" y="4365720"/>
            <a:ext cx="5040360" cy="15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олягає в тому, що володілець речових прав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 здійсненні свого права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держує перевагу перед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часником зобов’язальних правовідносин.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3640" y="31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611280" y="620640"/>
            <a:ext cx="7848360" cy="1008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В англо-американському праві поняття речового права відрізняється від аналогічного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континентальн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1e"/>
                </a:solidFill>
                <a:uFillTx/>
                <a:latin typeface="Times New Roman"/>
              </a:rPr>
              <a:t>Йому за змістом відповідає поняття права власності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11280" y="1773360"/>
            <a:ext cx="7993080" cy="143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У цій цивільно-правовій системі існує основне речове право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яке є аналогічним до континентального права власності (ownership)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та інші речові права, які, по суті,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1e"/>
                </a:solidFill>
                <a:latin typeface="Times New Roman"/>
              </a:rPr>
              <a:t>схожі з правами на чужі речі в романо-германській системі права. </a:t>
            </a:r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92360" y="3357720"/>
            <a:ext cx="5111640" cy="5029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1e"/>
                </a:solidFill>
                <a:latin typeface="Tahoma"/>
              </a:rPr>
              <a:t>В юридичній літературі розрізняють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79280" y="407664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Безумовне право володіння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та власності (право власност</a:t>
            </a:r>
            <a:r>
              <a:rPr b="0" lang="uk-UA" sz="1400" spc="-1" strike="noStrike">
                <a:solidFill>
                  <a:srgbClr val="00001e"/>
                </a:solidFill>
                <a:latin typeface="Times New Roman"/>
              </a:rPr>
              <a:t>і)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68360" y="5157720"/>
            <a:ext cx="2521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орендне володі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(оренда за договором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227640" y="407664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утримання, що слугує (сервітут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059280" y="5157720"/>
            <a:ext cx="273672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довічне володіння (узуфрукт)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940360" y="5157720"/>
            <a:ext cx="2737080" cy="72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право строкового утримання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1e"/>
                </a:solidFill>
                <a:latin typeface="Times New Roman"/>
              </a:rPr>
              <a:t>заставодержателя (застава) </a:t>
            </a:r>
            <a:endParaRPr b="1" lang="en-US" sz="1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1979640" y="386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6588000" y="3860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4284720" y="393372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6012000" y="386064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Автори з країн загального права намагаються сформулювати універсальне визначення поняття власності за допомогою складання переліку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повноважень власника,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який може бути досить широк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До правомочностей власника відносят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володіння, тобто виключний фізичний контроль над річчю чи право виключного її користува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користування чи особистого використання речі, якщо воно не включає два наступних повноваже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управління, тобто право вирішувати, хто і як може використову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доход, тобто на ті блага, які приносить реалізація двох попередніх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відчуження, споживання, витрату на свій розсуд, зміну чи знищення реч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гарантії від експропріації чи право на безпек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передавати рі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безстроковість здійснення повноважен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 на кінцевий характер повноважень, тобто здійснення правил, які забезпечують відновлення порушених пра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1e"/>
                </a:solidFill>
                <a:latin typeface="Times New Roman"/>
              </a:rPr>
              <a:t>2. Класифікація об’єктів речов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б’єктами речових прав є май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До майна, насамперед, належать річ, сукупність речей, а також електроенергія та газ, інші види енергії й сировини, що виходять за межі традиційного розуміння речей.</a:t>
            </a: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e"/>
                </a:solidFill>
                <a:latin typeface="Times New Roman"/>
              </a:rPr>
              <a:t>Коло об’єктів речових прав розширюється за рахунок розробленої в зарубіжній доктрині концепції </a:t>
            </a: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«безтілесного майна», під яким розуміють так званий ідеальний майновий об’єкт, що має вартість і грошову оцінку, але не є матеріальни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1e"/>
                </a:solidFill>
                <a:uFillTx/>
                <a:latin typeface="Times New Roman"/>
              </a:rPr>
              <a:t>За сучасною концепцією власності до «безтілесного майна» належать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технічні й нетехнічні об’єкти промислової власності (винаходи, «ноу-хау», промислові зразки й товарні знаки, фірмові найменування), а також об’єкти фінансової та комерційної власност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Times New Roman"/>
              </a:rPr>
              <a:t>і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що виступають у вигляді права вимоги по грошових і товаророзпорядчих документах (облігації, векселі, чеки, паї, коносаменти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У країнах англо-американської системи права коло об’єктів права власності більш широке, аніж у континентальному праві: поряд з матеріальними об’єктами права власності є так звані </a:t>
            </a: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«речі у вимозі»: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грошові зобов’язання, оборотні документи, акції, паї, облігації; авторські права, патентні права, товарні знаки, фірмові найменування, пенсії, ануітети (вид державної позики, з якої кредитор одержує ренту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1e"/>
                </a:solidFill>
                <a:uFillTx/>
                <a:latin typeface="Times New Roman"/>
              </a:rPr>
              <a:t>У цій правовій системі відстоюється концепція виключних прав на такі цінності, тоді як у романо-германській поширена суто власницька концепція.</a:t>
            </a:r>
            <a:r>
              <a:rPr b="0" lang="ru-RU" sz="2400" spc="-1" strike="noStrike">
                <a:solidFill>
                  <a:srgbClr val="00001e"/>
                </a:solidFill>
                <a:latin typeface="Times New Roman"/>
              </a:rPr>
              <a:t> Однак практика всіх країн зазвичай переносить на право промислової, фінансової й комерційної власності режим, встановлений для матеріальних об’єкті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3:58:21Z</dcterms:created>
  <dc:creator>WORK</dc:creator>
  <dc:description/>
  <dc:language>en-US</dc:language>
  <cp:lastModifiedBy>George</cp:lastModifiedBy>
  <dcterms:modified xsi:type="dcterms:W3CDTF">2020-11-29T21:26:48Z</dcterms:modified>
  <cp:revision>18</cp:revision>
  <dc:subject/>
  <dc:title>Презентація на тему: Речові права в зарубіжних цивільно-правових системах.  Право власності.</dc:title>
</cp:coreProperties>
</file>