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1691-058A-43D7-A7FE-2E46E7FC3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C7E8-5D04-4CDE-B878-AA7454F4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CD17-40CC-4463-ABD2-A216BF49D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E63D-C722-4CB8-9FFE-032AE8476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35393-01D7-4ED5-9004-D6F92CD00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CDD01-D050-4C6C-BA11-EB9FF68E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11DE1-0CDB-4F56-8162-B13AC9EE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B7970-7069-406D-8E25-4EEDE468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DA6A6-58E3-4A8A-AD88-DE852C8B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ADFE34-D249-4104-95CD-79DB9E0B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22B39-A146-49EF-8436-5D6BAFCC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CF59-E9F9-47FB-B862-8B5C0161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F22434-2457-4B0C-9327-FF082986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B0645-B097-42AE-A719-8B0F9C0E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E7E8F5-6CB4-4200-ADD1-E0403DF9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A7BAA-4F16-435A-90A3-2AED6FE95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A653D-2341-496A-BDDD-C1FFF9151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71A9-B628-46DB-92AD-30013031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6918-5A8E-42C4-84EA-798A3B35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68DB-807A-4200-8D22-6C0C2DBC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2A70-A2A5-44C5-B8C3-9CA68D7C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FEAE-FD1B-420A-8786-EC54E606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C59D-B132-4581-9EA2-0E0D0251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AAFE-7CF5-4993-B3D3-1E393AE9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8C50-9A13-49DF-86CB-12264DC695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5F41-6745-428B-8375-1E26AC3A7BF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62828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1e"/>
                </a:solidFill>
                <a:latin typeface="Times New Roman"/>
              </a:rPr>
              <a:t>Презентація на тему:</a:t>
            </a:r>
            <a:br>
              <a:rPr sz="3600"/>
            </a:b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Речові права в зарубіжних цивільно-правових системах. </a:t>
            </a:r>
            <a:br>
              <a:rPr sz="3600"/>
            </a:b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Право власності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ласифікація об’єктів речового права існує в усіх цивільно-правових системах. Вона здійснюється відповідно до природних властивостей об’єктів, тому основним є </a:t>
            </a: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розподіл речей на рухомі й нерухом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826920" y="1844640"/>
            <a:ext cx="7705800" cy="1944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Нерухомість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визначають за фізичними ознаками (нерозривний зв’язок із землею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юридичними (ускладнена процедура відчуження).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Нерухомі речі мають індивідуальні ознаки та є незамінними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ahoma"/>
              </a:rPr>
              <a:t>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о нерухомості належать земля й безпосередньо пов’язані з нею або невіддільні від неї речі –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удівлі, споруди, рослини на корені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еякі з них можуть набувати статусу рухомих речей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826920" y="4005360"/>
            <a:ext cx="7705800" cy="14396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Рухомі можуть переміщуватися в просторі та в більшості випадків можуть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ути замінені іншими однорідними речами, хоча можуть бути і незамінними. 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Усі інші речі розглядаються як рухомі (рухомість)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179280" y="2565360"/>
            <a:ext cx="576360" cy="71640"/>
          </a:xfrm>
          <a:prstGeom prst="rightArrow">
            <a:avLst>
              <a:gd name="adj1" fmla="val 50000"/>
              <a:gd name="adj2" fmla="val 201131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179280" y="4653000"/>
            <a:ext cx="576360" cy="71280"/>
          </a:xfrm>
          <a:prstGeom prst="rightArrow">
            <a:avLst>
              <a:gd name="adj1" fmla="val 50000"/>
              <a:gd name="adj2" fmla="val 202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У цивільному праві ФРН 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нерухомістю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вважаються виключно матеріальні об’єкти: земля, складові частини земельної ділянки, під якими маються на увазі речі, міцно пов’язані із землею, - будинки, рослини на корені, висаджене в ґрунт насіння, а також права, що пов’язані з правом власності на дану земельну ділянку.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 Рухомістю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є все, що не є земельною ділянкою чи його складовою частино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Особливості в поділі речей на рухомі й нерухомі існують в праві Англії та більшості штатів США.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У праві США нерухомістю вважається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земна кора й все, що нерозривно з нею пов’язане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рухомістю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— речі, які можуть слідувати за власником у разі переміщенні його в просторі. Самі терміни «рухоме» і «нерухоме» майно застосовуються, переважно, у відносинах з іноземним елементом, які регулюються міжнародним приватним правом; у внутрішніх відносинах застосовується дещо інший підхід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Більш докладна класифікація речей існує не в усіх правових системах. Доктрина романо-германського права, а також законодавчі акти деяких країн (НЦК) поділяють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рухомі речі на: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мін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які в обороті визначаються кількістю, об’ємом, вагою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замін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єдині в своєму роді чи виділені з числа подібних речей);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ожив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знищуються чи змінюються внаслідок разового використання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спожив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розраховані на більш тривале використання);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ільні 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(не втрачають свого призначення під час поділу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поділь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поділ яких неможливий без втрати господарського призначення); а також виділяють речі —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істотні складові частини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невіддільні від речі), зокрема істотні складові частини земельної ділянки чи будівлі, а також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чі-приналежності та речі користування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плоди, продукція, права чи вигоди, які виникають внаслідок користуванн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3. Право власності в зарубіжних правових системах. Підстави набуття права власності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ості права власності полягають у тому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, що його нормами визначається правовий режим матеріальних цінностей у цивільному обороті взагалі, оскільки ці норми встановлюють міру можливої поведінки власника щодо володіння, користування й розпорядження майн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Зміст суб’єктивного права власності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становить сукупність виключних суб’єктивних правомочностей власни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2124000" y="4724280"/>
            <a:ext cx="540072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більшості вони зводяться до трьох основних: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39528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334800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630072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розпорядження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255600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464328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709308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468360" y="69228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 (jus possidendi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643280" y="333360"/>
            <a:ext cx="3745080" cy="1440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Надана законом можлив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фактичного панування над річчю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тримання її у сфері господарювання.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468360" y="292428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річчю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(jus utendi et jus fruendi)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ahoma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4643280" y="2637000"/>
            <a:ext cx="3745080" cy="1439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аснована на законі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можливість експлуатації майна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одержання від нього плодів і дох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468360" y="508464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ahoma"/>
              </a:rPr>
              <a:t> 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розпорядження річчю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(jus disponendi) 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4643280" y="4869000"/>
            <a:ext cx="3745080" cy="1439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дана власнику можлив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 власний розсуд визначати юридичну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фактичну долю майна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(продавати, здавати в найм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ередати під заставу) 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2" name="AutoShape 10"/>
          <p:cNvSpPr/>
          <p:nvPr/>
        </p:nvSpPr>
        <p:spPr>
          <a:xfrm>
            <a:off x="3995640" y="981000"/>
            <a:ext cx="505080" cy="71640"/>
          </a:xfrm>
          <a:prstGeom prst="rightArrow">
            <a:avLst>
              <a:gd name="adj1" fmla="val 50000"/>
              <a:gd name="adj2" fmla="val 17625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3" name="AutoShape 11"/>
          <p:cNvSpPr/>
          <p:nvPr/>
        </p:nvSpPr>
        <p:spPr>
          <a:xfrm>
            <a:off x="3995640" y="3141720"/>
            <a:ext cx="505080" cy="71280"/>
          </a:xfrm>
          <a:prstGeom prst="rightArrow">
            <a:avLst>
              <a:gd name="adj1" fmla="val 50000"/>
              <a:gd name="adj2" fmla="val 177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3995640" y="5373720"/>
            <a:ext cx="505080" cy="71280"/>
          </a:xfrm>
          <a:prstGeom prst="rightArrow">
            <a:avLst>
              <a:gd name="adj1" fmla="val 50000"/>
              <a:gd name="adj2" fmla="val 177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5"/>
          <p:cNvSpPr/>
          <p:nvPr/>
        </p:nvSpPr>
        <p:spPr>
          <a:xfrm>
            <a:off x="2340000" y="692280"/>
            <a:ext cx="4753080" cy="792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Підстави набуття права власності </a:t>
            </a:r>
            <a:endParaRPr b="1" lang="en-US" sz="20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826920" y="1844640"/>
            <a:ext cx="302580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ервісні способи набутт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 власності  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5219640" y="1844640"/>
            <a:ext cx="302580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охідні способи набутт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 власності  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324000" y="2924280"/>
            <a:ext cx="3958920" cy="115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первісних способах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власності виникає вперше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або незалежно від права і волі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переднього 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4572000" y="2924280"/>
            <a:ext cx="4249800" cy="115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кі, за яких право власності набувача виникає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 порядку правонаступництва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 волі попереднього 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0" name="Line 10"/>
          <p:cNvSpPr/>
          <p:nvPr/>
        </p:nvSpPr>
        <p:spPr>
          <a:xfrm>
            <a:off x="2268360" y="2421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6659640" y="2421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2" name="Line 12"/>
          <p:cNvSpPr/>
          <p:nvPr/>
        </p:nvSpPr>
        <p:spPr>
          <a:xfrm flipH="1">
            <a:off x="1763280" y="105264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7093080" y="1125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4" name="Line 14"/>
          <p:cNvSpPr/>
          <p:nvPr/>
        </p:nvSpPr>
        <p:spPr>
          <a:xfrm>
            <a:off x="1763640" y="105264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5" name="Line 18"/>
          <p:cNvSpPr/>
          <p:nvPr/>
        </p:nvSpPr>
        <p:spPr>
          <a:xfrm>
            <a:off x="7740720" y="1125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4"/>
          <p:cNvSpPr/>
          <p:nvPr/>
        </p:nvSpPr>
        <p:spPr>
          <a:xfrm>
            <a:off x="1547640" y="404640"/>
            <a:ext cx="5904000" cy="792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До первісних способів набуття права власності належа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250920" y="1628640"/>
            <a:ext cx="237636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Специфік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250920" y="2492280"/>
            <a:ext cx="2376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Одержання пл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і дох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250920" y="3500280"/>
            <a:ext cx="2376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ирощування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мішування речей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(об’єднання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5580000" y="162864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ття безхазяйних речей 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5580000" y="2492280"/>
            <a:ext cx="252108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вальн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давн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5580000" y="350028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ціоналіз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1403280" y="472428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Конфіск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4284720" y="4724280"/>
            <a:ext cx="252072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Реквізи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5" name="Line 14"/>
          <p:cNvSpPr/>
          <p:nvPr/>
        </p:nvSpPr>
        <p:spPr>
          <a:xfrm>
            <a:off x="4067280" y="1197000"/>
            <a:ext cx="0" cy="30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6" name="Line 17"/>
          <p:cNvSpPr/>
          <p:nvPr/>
        </p:nvSpPr>
        <p:spPr>
          <a:xfrm>
            <a:off x="2771640" y="4292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7" name="Line 18"/>
          <p:cNvSpPr/>
          <p:nvPr/>
        </p:nvSpPr>
        <p:spPr>
          <a:xfrm>
            <a:off x="5292720" y="4292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8" name="Line 19"/>
          <p:cNvSpPr/>
          <p:nvPr/>
        </p:nvSpPr>
        <p:spPr>
          <a:xfrm>
            <a:off x="4067280" y="184464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9" name="Line 20"/>
          <p:cNvSpPr/>
          <p:nvPr/>
        </p:nvSpPr>
        <p:spPr>
          <a:xfrm flipH="1">
            <a:off x="2627280" y="184464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0" name="Line 21"/>
          <p:cNvSpPr/>
          <p:nvPr/>
        </p:nvSpPr>
        <p:spPr>
          <a:xfrm>
            <a:off x="4067280" y="278136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1" name="Line 22"/>
          <p:cNvSpPr/>
          <p:nvPr/>
        </p:nvSpPr>
        <p:spPr>
          <a:xfrm flipH="1">
            <a:off x="2627280" y="278136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2" name="Line 24"/>
          <p:cNvSpPr/>
          <p:nvPr/>
        </p:nvSpPr>
        <p:spPr>
          <a:xfrm>
            <a:off x="4067280" y="378936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3" name="Line 25"/>
          <p:cNvSpPr/>
          <p:nvPr/>
        </p:nvSpPr>
        <p:spPr>
          <a:xfrm flipH="1">
            <a:off x="2627280" y="378936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4" name="Line 26"/>
          <p:cNvSpPr/>
          <p:nvPr/>
        </p:nvSpPr>
        <p:spPr>
          <a:xfrm>
            <a:off x="2771640" y="4292640"/>
            <a:ext cx="252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5" name="AutoShape 27"/>
          <p:cNvSpPr/>
          <p:nvPr/>
        </p:nvSpPr>
        <p:spPr>
          <a:xfrm>
            <a:off x="539640" y="5516640"/>
            <a:ext cx="7920000" cy="1008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До похідних способів набуття права власності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належать різноманітні цивільні угоди: договор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купівля-продаж, дарування, поставка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односторонні угоди (заповіт, прийняття спадщини, індосамент на цінному папері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4. Захист права власності в романо-германській та англо-американській цивільно-правових системах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ласності в зарубіжних правових системах захищається різноманітними засобами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: кримінально-правовими, адміністративними, цивільно-правовими та ін. Однак саме цивільне право наділяє власника матеріально-правовими засобами захисту, які забезпечують поновлення його порушених прав, ліквідацію негативних майнових наслідків різного роду посягань на його права. </a:t>
            </a: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Цивільно-правові засоби захисту права власності в доктрині зарубіжних країн поділяють на зобов’язально-правові та речові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4"/>
          <p:cNvSpPr/>
          <p:nvPr/>
        </p:nvSpPr>
        <p:spPr>
          <a:xfrm>
            <a:off x="1116000" y="476280"/>
            <a:ext cx="7343640" cy="8650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Зобов’язально-правовими способами захисту права власності є: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79280" y="1844640"/>
            <a:ext cx="5472360" cy="936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1. Позови про порушення договірних зобов’язань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шляхом примушення до виконання договірного зобов’язання в натурі: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вернення майна після закінчення дії договору майнового найму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835280" y="2924280"/>
            <a:ext cx="5472000" cy="93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2.Позови про відшкодування шкод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стягнення грошової компенсації, відновлення речі в натурі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2268360" y="1341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2" name="Line 8"/>
          <p:cNvSpPr/>
          <p:nvPr/>
        </p:nvSpPr>
        <p:spPr>
          <a:xfrm>
            <a:off x="6443640" y="1341360"/>
            <a:ext cx="0" cy="158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3" name="AutoShape 9"/>
          <p:cNvSpPr/>
          <p:nvPr/>
        </p:nvSpPr>
        <p:spPr>
          <a:xfrm>
            <a:off x="826920" y="4076640"/>
            <a:ext cx="7705800" cy="1224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Речово-правові способ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спрямовані безпосередньо проти різних порушень права власності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та мають на меті захист цього права в цілому чи захист окремих правомочностей власника.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324000" y="5734080"/>
            <a:ext cx="388764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 країнах романо-германської системи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осовують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спеціальні речово-правові позов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4572000" y="5734080"/>
            <a:ext cx="388764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У країнах англо-американського права –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і позови з правопорушень (torts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і деякі спеціальні речово-правові позови</a:t>
            </a: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6" name="AutoShape 13"/>
          <p:cNvSpPr/>
          <p:nvPr/>
        </p:nvSpPr>
        <p:spPr>
          <a:xfrm>
            <a:off x="324000" y="836640"/>
            <a:ext cx="718920" cy="144360"/>
          </a:xfrm>
          <a:prstGeom prst="rightArrow">
            <a:avLst>
              <a:gd name="adj1" fmla="val 50000"/>
              <a:gd name="adj2" fmla="val 124501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7" name="AutoShape 14"/>
          <p:cNvSpPr/>
          <p:nvPr/>
        </p:nvSpPr>
        <p:spPr>
          <a:xfrm>
            <a:off x="108000" y="4581360"/>
            <a:ext cx="718920" cy="144720"/>
          </a:xfrm>
          <a:prstGeom prst="rightArrow">
            <a:avLst>
              <a:gd name="adj1" fmla="val 50000"/>
              <a:gd name="adj2" fmla="val 124192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4"/>
          <p:cNvSpPr/>
          <p:nvPr/>
        </p:nvSpPr>
        <p:spPr>
          <a:xfrm>
            <a:off x="1332000" y="404640"/>
            <a:ext cx="6912000" cy="792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Загальними (речово-правовими) способами захисту права власності є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1835280" y="1484280"/>
            <a:ext cx="6912000" cy="10810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Віндикаційний позов (rei vindicatio) –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зов неволодіючого власника до володіючого не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о повернення майна з незаконного володінн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1763640" y="2781360"/>
            <a:ext cx="6912000" cy="1584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Негаторний позов (actio negatoria) –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зов про припиненн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еправомірних дій, не пов’язаних із позбавленням володіння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і перешкоджають власнику здійснюва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мочності користування й розпорядження майном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539640" y="1916280"/>
            <a:ext cx="1079640" cy="144360"/>
          </a:xfrm>
          <a:prstGeom prst="rightArrow">
            <a:avLst>
              <a:gd name="adj1" fmla="val 50000"/>
              <a:gd name="adj2" fmla="val 186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539640" y="3357720"/>
            <a:ext cx="1079640" cy="144360"/>
          </a:xfrm>
          <a:prstGeom prst="rightArrow">
            <a:avLst>
              <a:gd name="adj1" fmla="val 50000"/>
              <a:gd name="adj2" fmla="val 186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4"/>
          <p:cNvSpPr/>
          <p:nvPr/>
        </p:nvSpPr>
        <p:spPr>
          <a:xfrm>
            <a:off x="1332000" y="549360"/>
            <a:ext cx="6335640" cy="107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Доктрина зарубіжних країн окремо розглядає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способи захисту володіння, серед яких виділяє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2268360" y="1989000"/>
            <a:ext cx="6048720" cy="719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ття права власності за давністю володі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2268360" y="2852640"/>
            <a:ext cx="604872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на самодопомогу (володілець може примусово відібрати річ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ивести особу зі свого будинку, земельної ділянки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2268360" y="3789360"/>
            <a:ext cx="6048720" cy="934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сесорні позови (позови володільця)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о відновлення володіння; про припинення порушень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і перешкоджають нормальному володінню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2268360" y="4869000"/>
            <a:ext cx="6048720" cy="934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евентивні позови - про усунення погрози порушення володіння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8" name="AutoShape 9"/>
          <p:cNvSpPr/>
          <p:nvPr/>
        </p:nvSpPr>
        <p:spPr>
          <a:xfrm>
            <a:off x="755640" y="2205000"/>
            <a:ext cx="1224000" cy="144360"/>
          </a:xfrm>
          <a:prstGeom prst="rightArrow">
            <a:avLst>
              <a:gd name="adj1" fmla="val 50000"/>
              <a:gd name="adj2" fmla="val 211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9" name="AutoShape 10"/>
          <p:cNvSpPr/>
          <p:nvPr/>
        </p:nvSpPr>
        <p:spPr>
          <a:xfrm>
            <a:off x="684360" y="314172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0" name="AutoShape 11"/>
          <p:cNvSpPr/>
          <p:nvPr/>
        </p:nvSpPr>
        <p:spPr>
          <a:xfrm>
            <a:off x="684360" y="414972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684360" y="522936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1e"/>
                </a:solidFill>
                <a:latin typeface="Tahoma"/>
              </a:rPr>
              <a:t>План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1. Поняття й види речових прав у зарубіжних цивільно-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2. Класифікація об’єктів речового пра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3. Право власності в зарубіжних правових системах. Підстави набуття права власност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4. Захист права власності в романо-германській та англо-американській цивільно-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5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Права на чужі речі в зарубіжних 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6. Інститут довірчої власності в праві Англії та СШ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1e"/>
                </a:solidFill>
                <a:latin typeface="Times New Roman"/>
              </a:rPr>
              <a:t>Список використаної літератур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5. Права на чужі речі в зарубіжних правових системах</a:t>
            </a:r>
            <a:r>
              <a:rPr b="0" lang="ru-RU" sz="36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ми на чужі речі або обмеженими речовими правами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 є різні за своїм змістом абсолютні права на речі, які належать на праві власності іншим особам. Ці права закріплюють за їхніми носіями окремі правомочності, які є правомочностями власника, однак не позбавляють останнього права власності на дану річ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2411280" y="4797360"/>
            <a:ext cx="4105440" cy="71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Такими правами є: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250920" y="4869000"/>
            <a:ext cx="1692360" cy="576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володі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755640" y="5734080"/>
            <a:ext cx="187164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користува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2916360" y="5734080"/>
            <a:ext cx="107928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Узуфрукт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421164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Сервітут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579600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Суперфіцій</a:t>
            </a:r>
            <a:r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745164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Емфітевзис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7236000" y="4869000"/>
            <a:ext cx="1692000" cy="576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Застав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2" name="Line 12"/>
          <p:cNvSpPr/>
          <p:nvPr/>
        </p:nvSpPr>
        <p:spPr>
          <a:xfrm flipH="1">
            <a:off x="1979280" y="5084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3" name="Line 13"/>
          <p:cNvSpPr/>
          <p:nvPr/>
        </p:nvSpPr>
        <p:spPr>
          <a:xfrm flipH="1">
            <a:off x="2340000" y="5516640"/>
            <a:ext cx="21600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349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93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637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6516720" y="515772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6659640" y="5445000"/>
            <a:ext cx="792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395280" y="260280"/>
            <a:ext cx="806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забезпечена об’єктивним правом можливість фактичного панування над річчю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яка належить на праві власності іншій особі. У всіх правових системах право володіння розглядаєтьс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як самостійний правовий інститут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95280" y="1268280"/>
            <a:ext cx="806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(узус)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право користування чужою річчю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оживання в чужому будинку для задоволення власних потреб (чи потреб своєї сім’ї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ез права одержання прибутку від такого користування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95280" y="2205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зуфрукт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довічне чи строкове право користування чужою річчю з вилученням доході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обов’язком зберігати її; це найбільш повне право на чужу річ, яке залишає власнику лише формальне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к зване «голе» право власності;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ласник має тільки юридичну можливість контролювати користувача (узуфруктарія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95280" y="335772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Сервітут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надає право проїзду, проходу, прокладення комунікацій через чужу земельну ділянку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Сервітути (servitute, Dienstbarkeit) відомі всім національним правовим системам як встановлені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ідносно земельної (слугуючої) ділянки, маєтку чи будівлі обтяження для потреб користува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іншою (пануючою) ділянкою чи будівлею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395280" y="4437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Емфітевзис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- речове успадковуване відчужуване право користування землею та плодами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олоділець цього права (емфітевта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може змінити господарське призначення ділянки, якщо це не зашкодить її якості (родючості та ін.)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395280" y="5661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Застава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-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комплекс правомочностей кредитора стосов­но майна, яке виділене боржником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чи надане іншою особою) для забезпечення виконання ним зобов’язання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і за рахунок якого можуть задовольнятися вимоги кредитора.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5" name="AutoShape 10"/>
          <p:cNvSpPr/>
          <p:nvPr/>
        </p:nvSpPr>
        <p:spPr>
          <a:xfrm>
            <a:off x="0" y="62064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6" name="AutoShape 11"/>
          <p:cNvSpPr/>
          <p:nvPr/>
        </p:nvSpPr>
        <p:spPr>
          <a:xfrm>
            <a:off x="0" y="148428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7" name="AutoShape 12"/>
          <p:cNvSpPr/>
          <p:nvPr/>
        </p:nvSpPr>
        <p:spPr>
          <a:xfrm>
            <a:off x="0" y="2421000"/>
            <a:ext cx="395280" cy="71280"/>
          </a:xfrm>
          <a:prstGeom prst="rightArrow">
            <a:avLst>
              <a:gd name="adj1" fmla="val 50000"/>
              <a:gd name="adj2" fmla="val 138636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8" name="AutoShape 13"/>
          <p:cNvSpPr/>
          <p:nvPr/>
        </p:nvSpPr>
        <p:spPr>
          <a:xfrm>
            <a:off x="0" y="3645000"/>
            <a:ext cx="395280" cy="71280"/>
          </a:xfrm>
          <a:prstGeom prst="rightArrow">
            <a:avLst>
              <a:gd name="adj1" fmla="val 50000"/>
              <a:gd name="adj2" fmla="val 138636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9" name="AutoShape 14"/>
          <p:cNvSpPr/>
          <p:nvPr/>
        </p:nvSpPr>
        <p:spPr>
          <a:xfrm>
            <a:off x="0" y="472428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0" name="AutoShape 15"/>
          <p:cNvSpPr/>
          <p:nvPr/>
        </p:nvSpPr>
        <p:spPr>
          <a:xfrm>
            <a:off x="0" y="602136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1187280" y="333360"/>
            <a:ext cx="662472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 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 доктрині розглядається досить докладна класифікація сервітут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539640" y="155736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Міські та сільські (водні і дорожні)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4643280" y="1484280"/>
            <a:ext cx="4105440" cy="503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лежно від місця знаходження земельної ділянки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539640" y="2205000"/>
            <a:ext cx="3419640" cy="432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ублічні сервіту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4643280" y="2133720"/>
            <a:ext cx="410544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становлюються для невизначеного кола осіб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або суспільства в цілому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539640" y="299736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иватні сервіту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4643280" y="2997360"/>
            <a:ext cx="410544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становлюються для конкретної особи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3924360" y="170028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3995640" y="242100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>
            <a:off x="3995640" y="3213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539640" y="414972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озитивні сервітути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2" name="Rectangle 16"/>
          <p:cNvSpPr/>
          <p:nvPr/>
        </p:nvSpPr>
        <p:spPr>
          <a:xfrm>
            <a:off x="4643280" y="3860640"/>
            <a:ext cx="4175280" cy="1224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аво вчиняти певні дії за рахунок чужого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нерухомого майна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право проходу чи проїзду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огону худоби, користування водою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чи пасовищами ділянки, яка слугує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3" name="Rectangle 17"/>
          <p:cNvSpPr/>
          <p:nvPr/>
        </p:nvSpPr>
        <p:spPr>
          <a:xfrm>
            <a:off x="539640" y="5445000"/>
            <a:ext cx="3419640" cy="432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Негативні сервітути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4" name="Rectangle 18"/>
          <p:cNvSpPr/>
          <p:nvPr/>
        </p:nvSpPr>
        <p:spPr>
          <a:xfrm>
            <a:off x="4643280" y="5157720"/>
            <a:ext cx="4175280" cy="15130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раво вимагати, щоб власник прилеглої ділянки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(яка слугує) утримувався від певних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видів її використання (не зводив будівель чи споруд,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або ж споруджував лише такі, які не можуть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ерешкоджати доступу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до пануючої ділянки світла,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овітря («сервітут світла й повітря»)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чи псувати краєвид</a:t>
            </a:r>
            <a:r>
              <a:rPr b="1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5" name="Line 19"/>
          <p:cNvSpPr/>
          <p:nvPr/>
        </p:nvSpPr>
        <p:spPr>
          <a:xfrm>
            <a:off x="3995640" y="436572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6" name="Line 20"/>
          <p:cNvSpPr/>
          <p:nvPr/>
        </p:nvSpPr>
        <p:spPr>
          <a:xfrm>
            <a:off x="3995640" y="5661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6. Інститут довірчої власності в праві Англії та СШ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Довірча власність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термін суто англо-американського права, однак його аналоги та подібні до довірчої власності правовідносини останнім часом виникають і в країнах романо-германської правової системи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Довірча власність є одним з найбільш своєрідних і разом з тим надзвичайно поширених у практиці інститутів сучасного англо-американського права. Він має назву також фідуциарної, тобто заснованої на довірі власності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(fiduciary ownership) або трасту (trust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Довірча власність як система майнових відносин склалася в англійському праві та знайшла своє відображення у праві справедливості. У Сполучених Штатах Америки інститут довірчої власності у своїх основних рисах не відрізняється від англійсько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Інститут довірчої власності регулюється нормами прецедентного права, а також англійським Законом про довірчу власність (1925 р.) та законами з окремих видів довірчої власності; у США - Єдиним (уніфікованим) законом про довірчу власність, Зводом правил про довірчу власність (Restatements of the Law of the Trust), який має велике практичне значення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У окремих штатах США прийнято закони про довірчу власність; у більшості штатів діють закони, що стосуються окремих різновидів трасту. Провідну роль у регулюванні відносин довірчої власності, як і інших правових інститутів в англо-американській системі права, продовжує відігравати судовий прецедент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4"/>
          <p:cNvSpPr/>
          <p:nvPr/>
        </p:nvSpPr>
        <p:spPr>
          <a:xfrm>
            <a:off x="468360" y="549360"/>
            <a:ext cx="8064360" cy="1150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а власн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ідносини, за яких одна особа (засновник - settlor), встановлює довірчу власність: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передає іншій особі - довірчому власнику (trustee) майно для управління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 інтересах зазначених вигодонабувачі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(бенефіціаріїв - beneficiary, cestui que trust).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179280" y="2205000"/>
            <a:ext cx="3240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Засновником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иступає власник майна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яке передається в довірчу власність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1403280" y="3213000"/>
            <a:ext cx="482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им власником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, який зобов’язується управляти майном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 інтересах вигодонабувачів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може виступати як фізична, так і юридична особа.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3203640" y="4508640"/>
            <a:ext cx="482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Бенефіціаріями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иступають вказані засновником особи: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одна особа, кілька чи невизначене коло осіб. 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4" name="Line 8"/>
          <p:cNvSpPr/>
          <p:nvPr/>
        </p:nvSpPr>
        <p:spPr>
          <a:xfrm>
            <a:off x="1835280" y="170028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5" name="Line 9"/>
          <p:cNvSpPr/>
          <p:nvPr/>
        </p:nvSpPr>
        <p:spPr>
          <a:xfrm>
            <a:off x="4140360" y="1700280"/>
            <a:ext cx="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6" name="Line 10"/>
          <p:cNvSpPr/>
          <p:nvPr/>
        </p:nvSpPr>
        <p:spPr>
          <a:xfrm>
            <a:off x="6877080" y="170028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а власність виникає різними способами</a:t>
            </a: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а підставі особистого волевиявлення засновника за його життя (inter vivos) або на випадок смерті (mortis causa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наслідок закону (логічно виведений траст - resulting trust; конструктивний траст - constructive trust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а основі договор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На довірчого власника покладаються такі обов’язк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управляти майном відповідно до умов, котрі зазначені в установчому акті та в інтересах бенефіціарі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иявляти дбайливість і розсудливість, діяти в інтересах інших як у своїх власних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е виявляти зайвого ризику, марнотратства, не здійснювати пожертв; зберігати майн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ін зобов’язаний звітувати перед вигодонабувачем за першою його вимогою по всіх справах, пов’язаних з управлінням майном, та передавати останньому всі вигоди і доходи, одержані від управління. Він не має права нічого залишати собі, якщо інше не передбачене в установчому акт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Довірча власність припиняється за таких обставин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з досягненням мети, задля якої вона створювалас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із закінченням заздалегідь передбаченого термін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наслідок обставин, настання яких повинно, за умовами установчого акту, припинити її існування (досягнення бенефіціарієм певного віку, укладення ним шлюбу та ін.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зі смертю бенефіціарі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наслідок одностороннього волевиявлення засновника, якщо таку можливість було прямо передбачено в установчому акті.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1e"/>
                </a:solidFill>
                <a:latin typeface="Times New Roman"/>
              </a:rPr>
              <a:t>У сучасному цивільному обороті інститут довірчої власності використовується для регулювання різноманітних, зокрема й господарських (підприємницьких), відносин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Так, довірча власність застосовується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управління майном недієздатних осіб (неповнолітніх, обмежено дієздатних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створення благодійних фондів (наукових, навчальних, культурних, лікувальних організацій: університетів, шкіл, лікарень, музеїв тощо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створення об’єднань (акціонерних компаній (Англія), корпорацій (США); для голосування на загальних зборах в інтересах засновників (voting trust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захисту інтересів кредитора й підвищення відповідальності боржника (конструктивний траст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Найбільш широко він використовується у сфері комерційного управлінн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чужим майном через створення численних корпоративних утворень - інвестиційних банків, компаній, страхових, пенсійних ощадних фондів. Часом він суттєво відрізняється від традиційних трастових форм, однак суть залишається незмінною: довірчий власник в особі подібних організацій передає майно (акції, інші цінні папери, грошові вклади ) з метою ефективного комерційного управління на користь власників, які й виступають бенефіціаріями (вигодонабувачами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1e"/>
                </a:solidFill>
                <a:latin typeface="Times New Roman"/>
              </a:rPr>
              <a:t>Список використаної літератури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1. Безбах В.В. Цивільне та торгове право зарубіжних країн: навчальний посібник.- М.: МЦФЕР, 2004. - 896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2.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Богустов, А.А. Цивільне та торгове право зарубіжних країн. - М.: ТетраСистемс, 2009. - 128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3.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удінов О.А. Цивільне та торгове право зарубіжних країн. Короткий курс. - М.:Дашков і К, 2010. - 92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4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Шимон С. І. Цивільне та торгове право зарубіжних країн. Навч. посіб. (Курс лекцій). - К.: КНЕУ, 2004. - 220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1. Поняття й види речових прав у зарубіжних цивільно-правових системах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країнах континентальної правової системи правові норми, що регулюють майнові відносини, виділяються в цивільних кодексах як самостійні та групуються 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в два розділ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чове прав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обов’язальне пра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ост</a:t>
            </a:r>
            <a:r>
              <a:rPr b="1" lang="uk-UA" sz="2400" spc="-1" strike="noStrike" u="sng">
                <a:solidFill>
                  <a:srgbClr val="00001e"/>
                </a:solidFill>
                <a:uFillTx/>
                <a:latin typeface="Times New Roman"/>
              </a:rPr>
              <a:t>і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 речового права країн континентальної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цивільно-правової систем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існий зв’язок цивільного й публічно-правових елементів у регулюванні відносин власності, що має загальні риси та зміст незалежно від правового становища власник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чітке розмежування речових і зобов’язальних правовідносин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собливий підхід до функцій і видів володіння, яке розглядається не тільки як одна з правомочностей власника, але і як окремий правовий інститут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агнення законодавця докладно врегулювати стан приналежності речі суб’єкту, способів захисту цього стану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1e"/>
                </a:solidFill>
                <a:latin typeface="Tahoma"/>
              </a:rPr>
              <a:t>Дякую за увагу!!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4"/>
          <p:cNvSpPr/>
          <p:nvPr/>
        </p:nvSpPr>
        <p:spPr>
          <a:xfrm>
            <a:off x="1476360" y="476280"/>
            <a:ext cx="6408720" cy="936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Речові права в цій системі поділяють на дві групи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250920" y="1989000"/>
            <a:ext cx="3816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Право власності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як повне приєднання речі до майна суб’єкт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(найменш обмежене право)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786200" y="1989000"/>
            <a:ext cx="381492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Обмежені речові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(права на чужі речі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2" name="Line 7"/>
          <p:cNvSpPr/>
          <p:nvPr/>
        </p:nvSpPr>
        <p:spPr>
          <a:xfrm>
            <a:off x="2627280" y="1413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3" name="Line 8"/>
          <p:cNvSpPr/>
          <p:nvPr/>
        </p:nvSpPr>
        <p:spPr>
          <a:xfrm>
            <a:off x="6516720" y="1413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68360" y="3357360"/>
            <a:ext cx="8229600" cy="31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 джерелах права зарубіжних країн немає легального визначення речового права, але воно сформульоване в доктрині, яка розглядає його як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 сукупність норм, що регулюють такі майнові відносини, у яких управомочені особи можуть здійснювати свої права на майно (річ) незалежно від позитивних дій інших осіб.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До інституту речового права належать норми,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спрямовані на те, щоб закріпити за управомоченою особою можливість володіти майном і користуватися ним незалежно від дій інших осі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8218440" cy="227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Власник та інші носії речових прав можуть розраховувати на утримання усіма іншими від вчинення дій, що перешкоджають здійсненню приналежних їм правомочностей; усі інші учасники правовідносин протистоять носію речового права як зобов’язані суб’єкти. </a:t>
            </a:r>
            <a:br>
              <a:rPr sz="1800"/>
            </a:b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Абсолютний характер речових прав виявляється </a:t>
            </a:r>
            <a:r>
              <a:rPr b="1" i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праві слідування та праві переваг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250920" y="2781360"/>
            <a:ext cx="2952720" cy="7189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слідування</a:t>
            </a:r>
            <a:r>
              <a:rPr b="0" lang="ru-RU" sz="1800" spc="-1" strike="noStrike">
                <a:solidFill>
                  <a:srgbClr val="00001e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924360" y="2349360"/>
            <a:ext cx="5040360" cy="1511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лягає в тому, що речове право слідує за річчю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и переході права власності на неї до інших ос</a:t>
            </a:r>
            <a:r>
              <a:rPr b="0" lang="uk-UA" sz="1400" spc="-1" strike="noStrike">
                <a:solidFill>
                  <a:srgbClr val="00001e"/>
                </a:solidFill>
                <a:latin typeface="Times New Roman"/>
              </a:rPr>
              <a:t>іб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наслідок права слідування засновані власником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сервітут чи право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ави продовжують існувати щодо речі й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ісля переходу її до іншого власника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324000" y="4581360"/>
            <a:ext cx="2952720" cy="71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переваги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3924360" y="4365720"/>
            <a:ext cx="5040360" cy="1511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лягає в тому, що володілець речових пра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 здійсненні свого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одержує перевагу перед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часником зобов’язальних правовідносин.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3276720" y="494172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3203640" y="314172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4"/>
          <p:cNvSpPr/>
          <p:nvPr/>
        </p:nvSpPr>
        <p:spPr>
          <a:xfrm>
            <a:off x="611280" y="620640"/>
            <a:ext cx="7848360" cy="1008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 англо-американському праві поняття речового права відрізняється від аналогічного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континентальній системі права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Йому за змістом відповідає поняття права власності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611280" y="1773360"/>
            <a:ext cx="7993080" cy="14396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цій цивільно-правовій системі існує основне речове право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е є аналогічним до континентального права власності (ownership)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інші речові права, які, по суті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схожі з правами на чужі речі в романо-германській системі права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1692360" y="3357720"/>
            <a:ext cx="5111640" cy="5029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ahoma"/>
              </a:rPr>
              <a:t> </a:t>
            </a:r>
            <a:r>
              <a:rPr b="1" lang="ru-RU" sz="1600" spc="-1" strike="noStrike">
                <a:solidFill>
                  <a:srgbClr val="00001e"/>
                </a:solidFill>
                <a:latin typeface="Tahoma"/>
              </a:rPr>
              <a:t>В юридичній літературі розрізняють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179280" y="4076640"/>
            <a:ext cx="2521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езумовне право володіння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власності (право власност</a:t>
            </a:r>
            <a:r>
              <a:rPr b="0" lang="uk-UA" sz="1400" spc="-1" strike="noStrike">
                <a:solidFill>
                  <a:srgbClr val="00001e"/>
                </a:solidFill>
                <a:latin typeface="Times New Roman"/>
              </a:rPr>
              <a:t>і)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468360" y="5157720"/>
            <a:ext cx="2521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орендне володі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оренда за договором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6227640" y="4076640"/>
            <a:ext cx="2737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тримання, що слугує (сервітут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3059280" y="5157720"/>
            <a:ext cx="273672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овічне володіння (узуфрукт)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5940360" y="5157720"/>
            <a:ext cx="2737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аво строкового утрима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аводержателя (застава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1" name="Line 12"/>
          <p:cNvSpPr/>
          <p:nvPr/>
        </p:nvSpPr>
        <p:spPr>
          <a:xfrm>
            <a:off x="1979640" y="3860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2" name="Line 13"/>
          <p:cNvSpPr/>
          <p:nvPr/>
        </p:nvSpPr>
        <p:spPr>
          <a:xfrm>
            <a:off x="6588000" y="386064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2843280" y="3860640"/>
            <a:ext cx="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4" name="Line 15"/>
          <p:cNvSpPr/>
          <p:nvPr/>
        </p:nvSpPr>
        <p:spPr>
          <a:xfrm>
            <a:off x="4284720" y="393372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6012000" y="3860640"/>
            <a:ext cx="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291600"/>
            <a:ext cx="82184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Автори з країн загального права намагаються сформулювати універсальне визначення поняття власності за допомогою складання переліку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повноважень власника,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який може бути досить широки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До правомочностей власника відносять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володіння, тобто виключний фізичний контроль над річчю чи право виключного її користуванн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користування чи особистого використання речі, якщо воно не включає два наступних повноваженн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управління, тобто право вирішувати, хто і як може використовувати річ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доход, тобто на ті блага, які приносить реалізація двох попередніх повноважен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відчуження, споживання, витрату на свій розсуд, зміну чи знищення речі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гарантії від експропріації чи право на безпеку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передавати річ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безстроковість здійснення повноважен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кінцевий характер повноважень, тобто здійснення правил, які забезпечують відновлення порушених пра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2. Класифікація об’єктів речового пра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Об’єктами речових прав є майн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До майна, насамперед, належать річ, сукупність речей, а також електроенергія та газ, інші види енергії й сировини, що виходять за межі традиційного розуміння речей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оло об’єктів речових прав розширюється за рахунок розробленої в зарубіжній доктрині концепції </a:t>
            </a: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«безтілесного майна», під яким розуміють так званий ідеальний майновий об’єкт, що має вартість і грошову оцінку, але не є матеріальни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За сучасною концепцією власності до «безтілесного майна» належать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 технічні й нетехнічні об’єкти промислової власності (винаходи, «ноу-хау», промислові зразки й товарні знаки, фірмові найменування), а також об’єкти фінансової та комерційної власност</a:t>
            </a:r>
            <a:r>
              <a:rPr b="0" lang="uk-UA" sz="2000" spc="-1" strike="noStrike" u="sng">
                <a:solidFill>
                  <a:srgbClr val="ffffff"/>
                </a:solidFill>
                <a:uFillTx/>
                <a:latin typeface="Times New Roman"/>
              </a:rPr>
              <a:t>і,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що виступають у вигляді права вимоги по грошових і товаророзпорядчих документах (облігації, векселі, чеки, паї, коносаменти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 країнах англо-американської системи права коло об’єктів права власності більш широке, аніж у континентальному праві: поряд з матеріальними об’єктами права власності є так звані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«речі у вимозі»: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грошові зобов’язання, оборотні документи, акції, паї, облігації; авторські права, патентні права, товарні знаки, фірмові найменування, пенсії, ануітети (вид державної позики, з якої кредитор одержує ренту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У цій правовій системі відстоюється концепція виключних прав на такі цінності, тоді як у романо-германській поширена суто власницька концепція.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Однак практика всіх країн зазвичай переносить на право промислової, фінансової й комерційної власності режим, встановлений для матеріальних об’єкті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2T13:58:21Z</dcterms:created>
  <dc:creator>WORK</dc:creator>
  <dc:description/>
  <dc:language>en-US</dc:language>
  <cp:lastModifiedBy>George</cp:lastModifiedBy>
  <dcterms:modified xsi:type="dcterms:W3CDTF">2020-11-29T21:26:48Z</dcterms:modified>
  <cp:revision>18</cp:revision>
  <dc:subject/>
  <dc:title>Презентація на тему: Речові права в зарубіжних цивільно-правових системах.  Право власності.</dc:title>
</cp:coreProperties>
</file>