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B935-BD8B-456A-A853-52580E788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3134-F4CF-4FD2-9F2F-B8BBA80F5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3569-6FFB-41F1-B51B-10EC16BE5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ECB9-C8EF-4BC2-B8D0-8748E7505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1BEA96-63A9-455C-A8F8-2FECC49C3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CD6563-0D6B-4685-A658-0B89C4E50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D01564-03B3-4C98-952F-828AF514E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43BA13-E68A-4A19-BC88-8F80046BD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603F42-A099-48CD-AD97-7621A99B0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F41475-7582-4DCF-B3AD-BA3BE0BC7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2F1B94-26CF-4CC5-AD84-3CDA8F6F0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13FB-9AAB-4F91-88E3-AA66051C6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17CD29-A669-415A-996A-C6D87E7F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68ABB0-F3EA-479B-821F-6DACCDB24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EA1A78-DE49-4C9D-841C-357378F88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0AA2C9-EF81-4BB7-9B28-A53362BFD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70BA05-4AF7-4AFB-90B6-F2CE748AB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8755-115D-4056-9D70-6B61300EF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49B4-1A01-4E6B-92F9-654F186FC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3A7F-2A09-4032-8EFE-682A47BCB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4CB7-E3CE-4C81-90FF-495206B19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B48D-F35F-488F-AFA6-509DFAAF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269F-A42F-4FE6-9E3F-CCDF0BF1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C03B-F42D-4000-BB16-86469177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C7086-35FE-4519-ACD2-3F828BEA57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83A33-135F-4517-A70E-F8F1566FC26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162828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1e"/>
                </a:solidFill>
                <a:latin typeface="Times New Roman"/>
              </a:rPr>
              <a:t>Презентація на тему:</a:t>
            </a:r>
            <a:br>
              <a:rPr sz="3600"/>
            </a:br>
            <a:r>
              <a:rPr b="1" lang="ru-RU" sz="3600" spc="-1" strike="noStrike">
                <a:solidFill>
                  <a:srgbClr val="00001e"/>
                </a:solidFill>
                <a:latin typeface="Times New Roman"/>
              </a:rPr>
              <a:t>Речові права в зарубіжних цивільно-правових системах. </a:t>
            </a:r>
            <a:br>
              <a:rPr sz="3600"/>
            </a:br>
            <a:r>
              <a:rPr b="1" lang="ru-RU" sz="3600" spc="-1" strike="noStrike">
                <a:solidFill>
                  <a:srgbClr val="00001e"/>
                </a:solidFill>
                <a:latin typeface="Times New Roman"/>
              </a:rPr>
              <a:t>Право власності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Класифікація об’єктів речового права існує в усіх цивільно-правових системах. Вона здійснюється відповідно до природних властивостей об’єктів, тому основним є </a:t>
            </a:r>
            <a:r>
              <a:rPr b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розподіл речей на рухомі й нерухомі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AutoShape 4"/>
          <p:cNvSpPr/>
          <p:nvPr/>
        </p:nvSpPr>
        <p:spPr>
          <a:xfrm>
            <a:off x="826920" y="1844640"/>
            <a:ext cx="7705800" cy="19447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Нерухомість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визначають за фізичними ознаками (нерозривний зв’язок із землею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та юридичними (ускладнена процедура відчуження).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Нерухомі речі мають індивідуальні ознаки та є незамінними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1e"/>
                </a:solidFill>
                <a:latin typeface="Tahoma"/>
              </a:rPr>
              <a:t> 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До нерухомості належать земля й безпосередньо пов’язані з нею або невіддільні від неї речі –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будівлі, споруди, рослини на корені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Деякі з них можуть набувати статусу рухомих речей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23" name="AutoShape 5"/>
          <p:cNvSpPr/>
          <p:nvPr/>
        </p:nvSpPr>
        <p:spPr>
          <a:xfrm>
            <a:off x="826920" y="4005360"/>
            <a:ext cx="7705800" cy="143964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Рухомі можуть переміщуватися в просторі та в більшості випадків можуть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бути замінені іншими однорідними речами, хоча можуть бути і незамінними. 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Усі інші речі розглядаються як рухомі (рухомість)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179280" y="2565360"/>
            <a:ext cx="576360" cy="71640"/>
          </a:xfrm>
          <a:prstGeom prst="rightArrow">
            <a:avLst>
              <a:gd name="adj1" fmla="val 50000"/>
              <a:gd name="adj2" fmla="val 201131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25" name="AutoShape 7"/>
          <p:cNvSpPr/>
          <p:nvPr/>
        </p:nvSpPr>
        <p:spPr>
          <a:xfrm>
            <a:off x="179280" y="4653000"/>
            <a:ext cx="576360" cy="71280"/>
          </a:xfrm>
          <a:prstGeom prst="rightArrow">
            <a:avLst>
              <a:gd name="adj1" fmla="val 50000"/>
              <a:gd name="adj2" fmla="val 202146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У цивільному праві ФРН </a:t>
            </a: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нерухомістю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вважаються виключно матеріальні об’єкти: земля, складові частини земельної ділянки, під якими маються на увазі речі, міцно пов’язані із землею, - будинки, рослини на корені, висаджене в ґрунт насіння, а також права, що пов’язані з правом власності на дану земельну ділянку.</a:t>
            </a: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 Рухомістю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є все, що не є земельною ділянкою чи його складовою частиною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ctr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Особливості в поділі речей на рухомі й нерухомі існують в праві Англії та більшості штатів США.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У праві США нерухомістю вважається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земна кора й все, що нерозривно з нею пов’язане,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рухомістю</a:t>
            </a: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— речі, які можуть слідувати за власником у разі переміщенні його в просторі. Самі терміни «рухоме» і «нерухоме» майно застосовуються, переважно, у відносинах з іноземним елементом, які регулюються міжнародним приватним правом; у внутрішніх відносинах застосовується дещо інший підхід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ctr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Більш докладна класифікація речей існує не в усіх правових системах. Доктрина романо-германського права, а також законодавчі акти деяких країн (НЦК) поділяють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рухомі речі на: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амінні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які в обороті визначаються кількістю, об’ємом, вагою) та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замінні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єдині в своєму роді чи виділені з числа подібних речей);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поживні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знищуються чи змінюються внаслідок разового використання) та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споживні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розраховані на більш тривале використання);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дільні 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(не втрачають свого призначення під час поділу) та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подільні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поділ яких неможливий без втрати господарського призначення); а також виділяють речі —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істотні складові частини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невіддільні від речі), зокрема істотні складові частини земельної ділянки чи будівлі, а також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ечі-приналежності та речі користування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плоди, продукція, права чи вигоди, які виникають внаслідок користуванн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1e"/>
                </a:solidFill>
                <a:latin typeface="Times New Roman"/>
              </a:rPr>
              <a:t>3. Право власності в зарубіжних правових системах. Підстави набуття права власності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Особливості права власності полягають у тому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, що його нормами визначається правовий режим матеріальних цінностей у цивільному обороті взагалі, оскільки ці норми встановлюють міру можливої поведінки власника щодо володіння, користування й розпорядження майн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Зміст суб’єктивного права власності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 становить сукупність виключних суб’єктивних правомочностей власни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AutoShape 4"/>
          <p:cNvSpPr/>
          <p:nvPr/>
        </p:nvSpPr>
        <p:spPr>
          <a:xfrm>
            <a:off x="2124000" y="4724280"/>
            <a:ext cx="5400720" cy="7207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У більшості вони зводяться до трьох основних: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395280" y="5661000"/>
            <a:ext cx="2664000" cy="7207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володіння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1" name="AutoShape 6"/>
          <p:cNvSpPr/>
          <p:nvPr/>
        </p:nvSpPr>
        <p:spPr>
          <a:xfrm>
            <a:off x="3348000" y="5661000"/>
            <a:ext cx="2664000" cy="7207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користування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2" name="AutoShape 7"/>
          <p:cNvSpPr/>
          <p:nvPr/>
        </p:nvSpPr>
        <p:spPr>
          <a:xfrm>
            <a:off x="6300720" y="5661000"/>
            <a:ext cx="2664000" cy="7207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розпорядження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3" name="Line 8"/>
          <p:cNvSpPr/>
          <p:nvPr/>
        </p:nvSpPr>
        <p:spPr>
          <a:xfrm>
            <a:off x="2556000" y="5445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4" name="Line 9"/>
          <p:cNvSpPr/>
          <p:nvPr/>
        </p:nvSpPr>
        <p:spPr>
          <a:xfrm>
            <a:off x="4643280" y="5445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5" name="Line 10"/>
          <p:cNvSpPr/>
          <p:nvPr/>
        </p:nvSpPr>
        <p:spPr>
          <a:xfrm>
            <a:off x="7093080" y="5445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4"/>
          <p:cNvSpPr/>
          <p:nvPr/>
        </p:nvSpPr>
        <p:spPr>
          <a:xfrm>
            <a:off x="468360" y="692280"/>
            <a:ext cx="345600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володіння (jus possidendi)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4643280" y="333360"/>
            <a:ext cx="3745080" cy="1440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Надана законом можливість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фактичного панування над річчю,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r>
              <a:rPr b="0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утримання її у сфері господарювання. 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468360" y="2924280"/>
            <a:ext cx="345600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користування річчю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(jus utendi et jus fruendi)</a:t>
            </a:r>
            <a:r>
              <a:rPr b="1" lang="ru-RU" sz="1600" spc="-1" strike="noStrike" u="sng">
                <a:solidFill>
                  <a:srgbClr val="00001e"/>
                </a:solidFill>
                <a:uFillTx/>
                <a:latin typeface="Tahoma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4643280" y="2637000"/>
            <a:ext cx="3745080" cy="1439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Заснована на законі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можливість експлуатації майна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та одержання від нього плодів і доходів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468360" y="5084640"/>
            <a:ext cx="345600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ahoma"/>
              </a:rPr>
              <a:t> </a:t>
            </a: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розпорядження річчю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(jus disponendi) 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4643280" y="4869000"/>
            <a:ext cx="3745080" cy="1439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адана власнику можливість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а власний розсуд визначати юридичну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та фактичну долю майна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(продавати, здавати в найм,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ередати під заставу) 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2" name="AutoShape 10"/>
          <p:cNvSpPr/>
          <p:nvPr/>
        </p:nvSpPr>
        <p:spPr>
          <a:xfrm>
            <a:off x="3995640" y="981000"/>
            <a:ext cx="505080" cy="71640"/>
          </a:xfrm>
          <a:prstGeom prst="rightArrow">
            <a:avLst>
              <a:gd name="adj1" fmla="val 50000"/>
              <a:gd name="adj2" fmla="val 176256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3" name="AutoShape 11"/>
          <p:cNvSpPr/>
          <p:nvPr/>
        </p:nvSpPr>
        <p:spPr>
          <a:xfrm>
            <a:off x="3995640" y="3141720"/>
            <a:ext cx="505080" cy="71280"/>
          </a:xfrm>
          <a:prstGeom prst="rightArrow">
            <a:avLst>
              <a:gd name="adj1" fmla="val 50000"/>
              <a:gd name="adj2" fmla="val 177146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4" name="AutoShape 12"/>
          <p:cNvSpPr/>
          <p:nvPr/>
        </p:nvSpPr>
        <p:spPr>
          <a:xfrm>
            <a:off x="3995640" y="5373720"/>
            <a:ext cx="505080" cy="71280"/>
          </a:xfrm>
          <a:prstGeom prst="rightArrow">
            <a:avLst>
              <a:gd name="adj1" fmla="val 50000"/>
              <a:gd name="adj2" fmla="val 177146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AutoShape 5"/>
          <p:cNvSpPr/>
          <p:nvPr/>
        </p:nvSpPr>
        <p:spPr>
          <a:xfrm>
            <a:off x="2340000" y="692280"/>
            <a:ext cx="4753080" cy="79200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Підстави набуття права власності </a:t>
            </a:r>
            <a:endParaRPr b="1" lang="en-US" sz="20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826920" y="1844640"/>
            <a:ext cx="302580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ервісні способи набутт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а власності  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5219640" y="1844640"/>
            <a:ext cx="302580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охідні способи набутт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а власності  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324000" y="2924280"/>
            <a:ext cx="3958920" cy="1152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У первісних способах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аво власності виникає вперше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або незалежно від права і волі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опереднього власника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9" name="Rectangle 9"/>
          <p:cNvSpPr/>
          <p:nvPr/>
        </p:nvSpPr>
        <p:spPr>
          <a:xfrm>
            <a:off x="4572000" y="2924280"/>
            <a:ext cx="4249800" cy="1152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 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Такі, за яких право власності набувача виникає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в порядку правонаступництва,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з волі попереднього власника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0" name="Line 10"/>
          <p:cNvSpPr/>
          <p:nvPr/>
        </p:nvSpPr>
        <p:spPr>
          <a:xfrm>
            <a:off x="2268360" y="242100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1" name="Line 11"/>
          <p:cNvSpPr/>
          <p:nvPr/>
        </p:nvSpPr>
        <p:spPr>
          <a:xfrm>
            <a:off x="6659640" y="242100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2" name="Line 12"/>
          <p:cNvSpPr/>
          <p:nvPr/>
        </p:nvSpPr>
        <p:spPr>
          <a:xfrm flipH="1">
            <a:off x="1763280" y="105264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3" name="Line 13"/>
          <p:cNvSpPr/>
          <p:nvPr/>
        </p:nvSpPr>
        <p:spPr>
          <a:xfrm>
            <a:off x="7093080" y="112536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4" name="Line 14"/>
          <p:cNvSpPr/>
          <p:nvPr/>
        </p:nvSpPr>
        <p:spPr>
          <a:xfrm>
            <a:off x="1763640" y="105264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5" name="Line 18"/>
          <p:cNvSpPr/>
          <p:nvPr/>
        </p:nvSpPr>
        <p:spPr>
          <a:xfrm>
            <a:off x="7740720" y="1125360"/>
            <a:ext cx="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AutoShape 4"/>
          <p:cNvSpPr/>
          <p:nvPr/>
        </p:nvSpPr>
        <p:spPr>
          <a:xfrm>
            <a:off x="1547640" y="404640"/>
            <a:ext cx="5904000" cy="79236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До первісних способів набуття права власності належать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250920" y="1628640"/>
            <a:ext cx="2376360" cy="64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Специфікаці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250920" y="2492280"/>
            <a:ext cx="2376360" cy="792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Одержання плодів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і доходів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250920" y="3500280"/>
            <a:ext cx="2376360" cy="792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ирощування,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змішування речей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(об’єднання)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5580000" y="1628640"/>
            <a:ext cx="2521080" cy="64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абуття безхазяйних речей 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5580000" y="2492280"/>
            <a:ext cx="2521080" cy="647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абувальна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давність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2" name="Rectangle 10"/>
          <p:cNvSpPr/>
          <p:nvPr/>
        </p:nvSpPr>
        <p:spPr>
          <a:xfrm>
            <a:off x="5580000" y="3500280"/>
            <a:ext cx="2521080" cy="64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аціоналізаці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1403280" y="4724280"/>
            <a:ext cx="2521080" cy="64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Конфіскаці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4" name="Rectangle 13"/>
          <p:cNvSpPr/>
          <p:nvPr/>
        </p:nvSpPr>
        <p:spPr>
          <a:xfrm>
            <a:off x="4284720" y="4724280"/>
            <a:ext cx="2520720" cy="64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Реквізиці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5" name="Line 14"/>
          <p:cNvSpPr/>
          <p:nvPr/>
        </p:nvSpPr>
        <p:spPr>
          <a:xfrm>
            <a:off x="4067280" y="1197000"/>
            <a:ext cx="0" cy="30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6" name="Line 17"/>
          <p:cNvSpPr/>
          <p:nvPr/>
        </p:nvSpPr>
        <p:spPr>
          <a:xfrm>
            <a:off x="2771640" y="429264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7" name="Line 18"/>
          <p:cNvSpPr/>
          <p:nvPr/>
        </p:nvSpPr>
        <p:spPr>
          <a:xfrm>
            <a:off x="5292720" y="429264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8" name="Line 19"/>
          <p:cNvSpPr/>
          <p:nvPr/>
        </p:nvSpPr>
        <p:spPr>
          <a:xfrm>
            <a:off x="4067280" y="1844640"/>
            <a:ext cx="1512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9" name="Line 20"/>
          <p:cNvSpPr/>
          <p:nvPr/>
        </p:nvSpPr>
        <p:spPr>
          <a:xfrm flipH="1">
            <a:off x="2627280" y="1844640"/>
            <a:ext cx="1440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0" name="Line 21"/>
          <p:cNvSpPr/>
          <p:nvPr/>
        </p:nvSpPr>
        <p:spPr>
          <a:xfrm>
            <a:off x="4067280" y="2781360"/>
            <a:ext cx="1512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1" name="Line 22"/>
          <p:cNvSpPr/>
          <p:nvPr/>
        </p:nvSpPr>
        <p:spPr>
          <a:xfrm flipH="1">
            <a:off x="2627280" y="2781360"/>
            <a:ext cx="1440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2" name="Line 24"/>
          <p:cNvSpPr/>
          <p:nvPr/>
        </p:nvSpPr>
        <p:spPr>
          <a:xfrm>
            <a:off x="4067280" y="3789360"/>
            <a:ext cx="1512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3" name="Line 25"/>
          <p:cNvSpPr/>
          <p:nvPr/>
        </p:nvSpPr>
        <p:spPr>
          <a:xfrm flipH="1">
            <a:off x="2627280" y="3789360"/>
            <a:ext cx="1440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4" name="Line 26"/>
          <p:cNvSpPr/>
          <p:nvPr/>
        </p:nvSpPr>
        <p:spPr>
          <a:xfrm>
            <a:off x="2771640" y="4292640"/>
            <a:ext cx="252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5" name="AutoShape 27"/>
          <p:cNvSpPr/>
          <p:nvPr/>
        </p:nvSpPr>
        <p:spPr>
          <a:xfrm>
            <a:off x="539640" y="5516640"/>
            <a:ext cx="7920000" cy="100800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До похідних способів набуття права власності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належать різноманітні цивільні угоди: договори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(купівля-продаж, дарування, поставка)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та односторонні угоди (заповіт, прийняття спадщини, індосамент на цінному папері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1e"/>
                </a:solidFill>
                <a:latin typeface="Times New Roman"/>
              </a:rPr>
              <a:t>4. Захист права власності в романо-германській та англо-американській цивільно-правових системах</a:t>
            </a:r>
            <a:r>
              <a:rPr b="0" lang="ru-RU" sz="2800" spc="-1" strike="noStrike">
                <a:solidFill>
                  <a:srgbClr val="00001e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власності в зарубіжних правових системах захищається різноманітними засобами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: кримінально-правовими, адміністративними, цивільно-правовими та ін. Однак саме цивільне право наділяє власника матеріально-правовими засобами захисту, які забезпечують поновлення його порушених прав, ліквідацію негативних майнових наслідків різного роду посягань на його права. </a:t>
            </a:r>
            <a:r>
              <a:rPr b="1" i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Цивільно-правові засоби захисту права власності в доктрині зарубіжних країн поділяють на зобов’язально-правові та речові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4"/>
          <p:cNvSpPr/>
          <p:nvPr/>
        </p:nvSpPr>
        <p:spPr>
          <a:xfrm>
            <a:off x="1116000" y="476280"/>
            <a:ext cx="7343640" cy="86508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Зобов’язально-правовими способами захисту права власності є: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179280" y="1844640"/>
            <a:ext cx="5472360" cy="936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1. Позови про порушення договірних зобов’язань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(шляхом примушення до виконання договірного зобов’язання в натурі: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овернення майна після закінчення дії договору майнового найму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1835280" y="2924280"/>
            <a:ext cx="5472000" cy="93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2.Позови про відшкодування шкоди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(стягнення грошової компенсації, відновлення речі в натурі)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1" name="Line 7"/>
          <p:cNvSpPr/>
          <p:nvPr/>
        </p:nvSpPr>
        <p:spPr>
          <a:xfrm>
            <a:off x="2268360" y="134136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2" name="Line 8"/>
          <p:cNvSpPr/>
          <p:nvPr/>
        </p:nvSpPr>
        <p:spPr>
          <a:xfrm>
            <a:off x="6443640" y="1341360"/>
            <a:ext cx="0" cy="1582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3" name="AutoShape 9"/>
          <p:cNvSpPr/>
          <p:nvPr/>
        </p:nvSpPr>
        <p:spPr>
          <a:xfrm>
            <a:off x="826920" y="4076640"/>
            <a:ext cx="7705800" cy="122400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Речово-правові способи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спрямовані безпосередньо проти різних порушень права власності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та мають на меті захист цього права в цілому чи захист окремих правомочностей власника. 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324000" y="5734080"/>
            <a:ext cx="388764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У країнах романо-германської системи права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застосовують 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спеціальні речово-правові позови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4572000" y="5734080"/>
            <a:ext cx="388764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У країнах англо-американського права –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особливі позови з правопорушень (torts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і деякі спеціальні речово-правові позови</a:t>
            </a: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6" name="AutoShape 13"/>
          <p:cNvSpPr/>
          <p:nvPr/>
        </p:nvSpPr>
        <p:spPr>
          <a:xfrm>
            <a:off x="324000" y="836640"/>
            <a:ext cx="718920" cy="144360"/>
          </a:xfrm>
          <a:prstGeom prst="rightArrow">
            <a:avLst>
              <a:gd name="adj1" fmla="val 50000"/>
              <a:gd name="adj2" fmla="val 124501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7" name="AutoShape 14"/>
          <p:cNvSpPr/>
          <p:nvPr/>
        </p:nvSpPr>
        <p:spPr>
          <a:xfrm>
            <a:off x="108000" y="4581360"/>
            <a:ext cx="718920" cy="144720"/>
          </a:xfrm>
          <a:prstGeom prst="rightArrow">
            <a:avLst>
              <a:gd name="adj1" fmla="val 50000"/>
              <a:gd name="adj2" fmla="val 124192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AutoShape 4"/>
          <p:cNvSpPr/>
          <p:nvPr/>
        </p:nvSpPr>
        <p:spPr>
          <a:xfrm>
            <a:off x="1332000" y="404640"/>
            <a:ext cx="6912000" cy="79236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1e"/>
                </a:solidFill>
                <a:latin typeface="Times New Roman"/>
              </a:rPr>
              <a:t>Загальними (речово-правовими) способами захисту права власності є: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9" name="AutoShape 5"/>
          <p:cNvSpPr/>
          <p:nvPr/>
        </p:nvSpPr>
        <p:spPr>
          <a:xfrm>
            <a:off x="1835280" y="1484280"/>
            <a:ext cx="6912000" cy="108108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Віндикаційний позов (rei vindicatio) –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озов неволодіючого власника до володіючого невласника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о повернення майна з незаконного володінн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0" name="AutoShape 6"/>
          <p:cNvSpPr/>
          <p:nvPr/>
        </p:nvSpPr>
        <p:spPr>
          <a:xfrm>
            <a:off x="1763640" y="2781360"/>
            <a:ext cx="6912000" cy="158436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Негаторний позов (actio negatoria) –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озов про припиненн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еправомірних дій, не пов’язаних із позбавленням володіння,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які перешкоджають власнику здійснювати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авомочності користування й розпорядження майном.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1" name="AutoShape 7"/>
          <p:cNvSpPr/>
          <p:nvPr/>
        </p:nvSpPr>
        <p:spPr>
          <a:xfrm>
            <a:off x="539640" y="1916280"/>
            <a:ext cx="1079640" cy="144360"/>
          </a:xfrm>
          <a:prstGeom prst="rightArrow">
            <a:avLst>
              <a:gd name="adj1" fmla="val 50000"/>
              <a:gd name="adj2" fmla="val 18697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2" name="AutoShape 8"/>
          <p:cNvSpPr/>
          <p:nvPr/>
        </p:nvSpPr>
        <p:spPr>
          <a:xfrm>
            <a:off x="539640" y="3357720"/>
            <a:ext cx="1079640" cy="144360"/>
          </a:xfrm>
          <a:prstGeom prst="rightArrow">
            <a:avLst>
              <a:gd name="adj1" fmla="val 50000"/>
              <a:gd name="adj2" fmla="val 18697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AutoShape 4"/>
          <p:cNvSpPr/>
          <p:nvPr/>
        </p:nvSpPr>
        <p:spPr>
          <a:xfrm>
            <a:off x="1332000" y="549360"/>
            <a:ext cx="6335640" cy="107928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1e"/>
                </a:solidFill>
                <a:latin typeface="Times New Roman"/>
              </a:rPr>
              <a:t>Доктрина зарубіжних країн окремо розглядає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1e"/>
                </a:solidFill>
                <a:latin typeface="Times New Roman"/>
              </a:rPr>
              <a:t>способи захисту володіння, серед яких виділяє: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2268360" y="1989000"/>
            <a:ext cx="6048720" cy="7192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абуття права власності за давністю володіння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2268360" y="2852640"/>
            <a:ext cx="604872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аво на самодопомогу (володілець може примусово відібрати річ,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вивести особу зі свого будинку, земельної ділянки)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2268360" y="3789360"/>
            <a:ext cx="6048720" cy="9349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осесорні позови (позови володільця):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о відновлення володіння; про припинення порушень,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які перешкоджають нормальному володінню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2268360" y="4869000"/>
            <a:ext cx="6048720" cy="9349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евентивні позови - про усунення погрози порушення володіння.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8" name="AutoShape 9"/>
          <p:cNvSpPr/>
          <p:nvPr/>
        </p:nvSpPr>
        <p:spPr>
          <a:xfrm>
            <a:off x="755640" y="2205000"/>
            <a:ext cx="1224000" cy="144360"/>
          </a:xfrm>
          <a:prstGeom prst="rightArrow">
            <a:avLst>
              <a:gd name="adj1" fmla="val 50000"/>
              <a:gd name="adj2" fmla="val 21197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9" name="AutoShape 10"/>
          <p:cNvSpPr/>
          <p:nvPr/>
        </p:nvSpPr>
        <p:spPr>
          <a:xfrm>
            <a:off x="684360" y="3141720"/>
            <a:ext cx="1223640" cy="144360"/>
          </a:xfrm>
          <a:prstGeom prst="rightArrow">
            <a:avLst>
              <a:gd name="adj1" fmla="val 50000"/>
              <a:gd name="adj2" fmla="val 211908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0" name="AutoShape 11"/>
          <p:cNvSpPr/>
          <p:nvPr/>
        </p:nvSpPr>
        <p:spPr>
          <a:xfrm>
            <a:off x="684360" y="4149720"/>
            <a:ext cx="1223640" cy="144360"/>
          </a:xfrm>
          <a:prstGeom prst="rightArrow">
            <a:avLst>
              <a:gd name="adj1" fmla="val 50000"/>
              <a:gd name="adj2" fmla="val 211908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1" name="AutoShape 12"/>
          <p:cNvSpPr/>
          <p:nvPr/>
        </p:nvSpPr>
        <p:spPr>
          <a:xfrm>
            <a:off x="684360" y="5229360"/>
            <a:ext cx="1223640" cy="144360"/>
          </a:xfrm>
          <a:prstGeom prst="rightArrow">
            <a:avLst>
              <a:gd name="adj1" fmla="val 50000"/>
              <a:gd name="adj2" fmla="val 211908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1e"/>
                </a:solidFill>
                <a:latin typeface="Tahoma"/>
              </a:rPr>
              <a:t>План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1. Поняття й види речових прав у зарубіжних цивільно-правових системах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2. Класифікація об’єктів речового прав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3. Право власності в зарубіжних правових системах. Підстави набуття права власності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4. Захист права власності в романо-германській та англо-американській цивільно-правових системах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5.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Права на чужі речі в зарубіжних правових системах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6. Інститут довірчої власності в праві Англії та СШ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1e"/>
                </a:solidFill>
                <a:latin typeface="Times New Roman"/>
              </a:rPr>
              <a:t>Список використаної літератур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1e"/>
                </a:solidFill>
                <a:latin typeface="Times New Roman"/>
              </a:rPr>
              <a:t>5. Права на чужі речі в зарубіжних правових системах</a:t>
            </a:r>
            <a:r>
              <a:rPr b="0" lang="ru-RU" sz="3600" spc="-1" strike="noStrike">
                <a:solidFill>
                  <a:srgbClr val="00001e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1e"/>
                </a:solidFill>
                <a:uFillTx/>
                <a:latin typeface="Times New Roman"/>
              </a:rPr>
              <a:t>Правами на чужі речі або обмеженими речовими правами</a:t>
            </a:r>
            <a:r>
              <a:rPr b="0" lang="ru-RU" sz="2800" spc="-1" strike="noStrike">
                <a:solidFill>
                  <a:srgbClr val="00001e"/>
                </a:solidFill>
                <a:latin typeface="Times New Roman"/>
              </a:rPr>
              <a:t> є різні за своїм змістом абсолютні права на речі, які належать на праві власності іншим особам. Ці права закріплюють за їхніми носіями окремі правомочності, які є правомочностями власника, однак не позбавляють останнього права власності на дану річ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AutoShape 4"/>
          <p:cNvSpPr/>
          <p:nvPr/>
        </p:nvSpPr>
        <p:spPr>
          <a:xfrm>
            <a:off x="2411280" y="4797360"/>
            <a:ext cx="4105440" cy="71928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Такими правами є: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250920" y="4869000"/>
            <a:ext cx="1692360" cy="576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аво володіння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755640" y="5734080"/>
            <a:ext cx="187164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аво користування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2916360" y="5734080"/>
            <a:ext cx="107928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1e"/>
                </a:solidFill>
                <a:latin typeface="Times New Roman"/>
              </a:rPr>
              <a:t>Узуфрукт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4211640" y="5734080"/>
            <a:ext cx="136836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1e"/>
                </a:solidFill>
                <a:latin typeface="Times New Roman"/>
              </a:rPr>
              <a:t>Сервітут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5796000" y="5734080"/>
            <a:ext cx="136836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1e"/>
                </a:solidFill>
                <a:latin typeface="Times New Roman"/>
              </a:rPr>
              <a:t>Суперфіцій</a:t>
            </a:r>
            <a:r>
              <a:rPr b="0" lang="uk-UA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0" name="Rectangle 10"/>
          <p:cNvSpPr/>
          <p:nvPr/>
        </p:nvSpPr>
        <p:spPr>
          <a:xfrm>
            <a:off x="7451640" y="5734080"/>
            <a:ext cx="136836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1e"/>
                </a:solidFill>
                <a:latin typeface="Times New Roman"/>
              </a:rPr>
              <a:t>Емфітевзис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1" name="Rectangle 11"/>
          <p:cNvSpPr/>
          <p:nvPr/>
        </p:nvSpPr>
        <p:spPr>
          <a:xfrm>
            <a:off x="7236000" y="4869000"/>
            <a:ext cx="1692000" cy="576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1e"/>
                </a:solidFill>
                <a:latin typeface="Times New Roman"/>
              </a:rPr>
              <a:t>Застава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2" name="Line 12"/>
          <p:cNvSpPr/>
          <p:nvPr/>
        </p:nvSpPr>
        <p:spPr>
          <a:xfrm flipH="1">
            <a:off x="1979280" y="508464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3" name="Line 13"/>
          <p:cNvSpPr/>
          <p:nvPr/>
        </p:nvSpPr>
        <p:spPr>
          <a:xfrm flipH="1">
            <a:off x="2340000" y="5516640"/>
            <a:ext cx="21600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4" name="Line 14"/>
          <p:cNvSpPr/>
          <p:nvPr/>
        </p:nvSpPr>
        <p:spPr>
          <a:xfrm>
            <a:off x="3492360" y="5516640"/>
            <a:ext cx="0" cy="21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5" name="Line 15"/>
          <p:cNvSpPr/>
          <p:nvPr/>
        </p:nvSpPr>
        <p:spPr>
          <a:xfrm>
            <a:off x="4932360" y="5516640"/>
            <a:ext cx="0" cy="21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6" name="Line 16"/>
          <p:cNvSpPr/>
          <p:nvPr/>
        </p:nvSpPr>
        <p:spPr>
          <a:xfrm>
            <a:off x="6372360" y="5516640"/>
            <a:ext cx="0" cy="21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7" name="Line 17"/>
          <p:cNvSpPr/>
          <p:nvPr/>
        </p:nvSpPr>
        <p:spPr>
          <a:xfrm>
            <a:off x="6516720" y="5157720"/>
            <a:ext cx="719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8" name="Line 18"/>
          <p:cNvSpPr/>
          <p:nvPr/>
        </p:nvSpPr>
        <p:spPr>
          <a:xfrm>
            <a:off x="6659640" y="5445000"/>
            <a:ext cx="792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4"/>
          <p:cNvSpPr/>
          <p:nvPr/>
        </p:nvSpPr>
        <p:spPr>
          <a:xfrm>
            <a:off x="395280" y="260280"/>
            <a:ext cx="806436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володіння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- забезпечена об’єктивним правом можливість фактичного панування над річчю,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яка належить на праві власності іншій особі. У всіх правових системах право володіння розглядається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як самостійний правовий інститут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395280" y="1268280"/>
            <a:ext cx="806436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користування (узус)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- право користування чужою річчю,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роживання в чужому будинку для задоволення власних потреб (чи потреб своєї сім’ї)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без права одержання прибутку від такого користування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395280" y="2205000"/>
            <a:ext cx="806436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Узуфрукт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- довічне чи строкове право користування чужою річчю з вилученням доходів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та обов’язком зберігати її; це найбільш повне право на чужу річ, яке залишає власнику лише формальне,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так зване «голе» право власності;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власник має тільки юридичну можливість контролювати користувача (узуфруктарія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395280" y="3357720"/>
            <a:ext cx="806436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Сервітут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надає право проїзду, проходу, прокладення комунікацій через чужу земельну ділянку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Сервітути (servitute, Dienstbarkeit) відомі всім національним правовим системам як встановлені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відносно земельної (слугуючої) ділянки, маєтку чи будівлі обтяження для потреб користування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іншою (пануючою) ділянкою чи будівлею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395280" y="4437000"/>
            <a:ext cx="806436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Емфітевзис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- речове успадковуване відчужуване право користування землею та плодами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Володілець цього права (емфітевта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може змінити господарське призначення ділянки, якщо це не зашкодить її якості (родючості та ін.)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4" name="Rectangle 9"/>
          <p:cNvSpPr/>
          <p:nvPr/>
        </p:nvSpPr>
        <p:spPr>
          <a:xfrm>
            <a:off x="395280" y="5661000"/>
            <a:ext cx="806436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Застава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-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комплекс правомочностей кредитора стосов­но майна, яке виділене боржником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(чи надане іншою особою) для забезпечення виконання ним зобов’язання,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і за рахунок якого можуть задовольнятися вимоги кредитора.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5" name="AutoShape 10"/>
          <p:cNvSpPr/>
          <p:nvPr/>
        </p:nvSpPr>
        <p:spPr>
          <a:xfrm>
            <a:off x="0" y="620640"/>
            <a:ext cx="395280" cy="71640"/>
          </a:xfrm>
          <a:prstGeom prst="rightArrow">
            <a:avLst>
              <a:gd name="adj1" fmla="val 50000"/>
              <a:gd name="adj2" fmla="val 13794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6" name="AutoShape 11"/>
          <p:cNvSpPr/>
          <p:nvPr/>
        </p:nvSpPr>
        <p:spPr>
          <a:xfrm>
            <a:off x="0" y="1484280"/>
            <a:ext cx="395280" cy="71640"/>
          </a:xfrm>
          <a:prstGeom prst="rightArrow">
            <a:avLst>
              <a:gd name="adj1" fmla="val 50000"/>
              <a:gd name="adj2" fmla="val 13794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7" name="AutoShape 12"/>
          <p:cNvSpPr/>
          <p:nvPr/>
        </p:nvSpPr>
        <p:spPr>
          <a:xfrm>
            <a:off x="0" y="2421000"/>
            <a:ext cx="395280" cy="71280"/>
          </a:xfrm>
          <a:prstGeom prst="rightArrow">
            <a:avLst>
              <a:gd name="adj1" fmla="val 50000"/>
              <a:gd name="adj2" fmla="val 138636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8" name="AutoShape 13"/>
          <p:cNvSpPr/>
          <p:nvPr/>
        </p:nvSpPr>
        <p:spPr>
          <a:xfrm>
            <a:off x="0" y="3645000"/>
            <a:ext cx="395280" cy="71280"/>
          </a:xfrm>
          <a:prstGeom prst="rightArrow">
            <a:avLst>
              <a:gd name="adj1" fmla="val 50000"/>
              <a:gd name="adj2" fmla="val 138636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9" name="AutoShape 14"/>
          <p:cNvSpPr/>
          <p:nvPr/>
        </p:nvSpPr>
        <p:spPr>
          <a:xfrm>
            <a:off x="0" y="4724280"/>
            <a:ext cx="395280" cy="71640"/>
          </a:xfrm>
          <a:prstGeom prst="rightArrow">
            <a:avLst>
              <a:gd name="adj1" fmla="val 50000"/>
              <a:gd name="adj2" fmla="val 13794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0" name="AutoShape 15"/>
          <p:cNvSpPr/>
          <p:nvPr/>
        </p:nvSpPr>
        <p:spPr>
          <a:xfrm>
            <a:off x="0" y="6021360"/>
            <a:ext cx="395280" cy="71640"/>
          </a:xfrm>
          <a:prstGeom prst="rightArrow">
            <a:avLst>
              <a:gd name="adj1" fmla="val 50000"/>
              <a:gd name="adj2" fmla="val 13794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4"/>
          <p:cNvSpPr/>
          <p:nvPr/>
        </p:nvSpPr>
        <p:spPr>
          <a:xfrm>
            <a:off x="1187280" y="333360"/>
            <a:ext cx="662472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 </a:t>
            </a: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У доктрині розглядається досить докладна класифікація сервітутів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539640" y="1557360"/>
            <a:ext cx="3419640" cy="431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Міські та сільські (водні і дорожні)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4643280" y="1484280"/>
            <a:ext cx="4105440" cy="5032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Залежно від місця знаходження земельної ділянки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539640" y="2205000"/>
            <a:ext cx="3419640" cy="432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ублічні сервітути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4643280" y="2133720"/>
            <a:ext cx="4105440" cy="647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Встановлюються для невизначеного кола осіб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або суспільства в цілому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6" name="Rectangle 9"/>
          <p:cNvSpPr/>
          <p:nvPr/>
        </p:nvSpPr>
        <p:spPr>
          <a:xfrm>
            <a:off x="539640" y="2997360"/>
            <a:ext cx="3419640" cy="431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иватні сервітути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7" name="Rectangle 10"/>
          <p:cNvSpPr/>
          <p:nvPr/>
        </p:nvSpPr>
        <p:spPr>
          <a:xfrm>
            <a:off x="4643280" y="2997360"/>
            <a:ext cx="4105440" cy="647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Встановлюються для конкретної особи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8" name="Line 12"/>
          <p:cNvSpPr/>
          <p:nvPr/>
        </p:nvSpPr>
        <p:spPr>
          <a:xfrm>
            <a:off x="3924360" y="170028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9" name="Line 13"/>
          <p:cNvSpPr/>
          <p:nvPr/>
        </p:nvSpPr>
        <p:spPr>
          <a:xfrm>
            <a:off x="3995640" y="242100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0" name="Line 14"/>
          <p:cNvSpPr/>
          <p:nvPr/>
        </p:nvSpPr>
        <p:spPr>
          <a:xfrm>
            <a:off x="3995640" y="321300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1" name="Rectangle 15"/>
          <p:cNvSpPr/>
          <p:nvPr/>
        </p:nvSpPr>
        <p:spPr>
          <a:xfrm>
            <a:off x="539640" y="4149720"/>
            <a:ext cx="3419640" cy="431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озитивні сервітути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2" name="Rectangle 16"/>
          <p:cNvSpPr/>
          <p:nvPr/>
        </p:nvSpPr>
        <p:spPr>
          <a:xfrm>
            <a:off x="4643280" y="3860640"/>
            <a:ext cx="4175280" cy="1224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раво вчиняти певні дії за рахунок чужого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нерухомого майна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(право проходу чи проїзду,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рогону худоби, користування водою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чи пасовищами ділянки, яка слугує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3" name="Rectangle 17"/>
          <p:cNvSpPr/>
          <p:nvPr/>
        </p:nvSpPr>
        <p:spPr>
          <a:xfrm>
            <a:off x="539640" y="5445000"/>
            <a:ext cx="3419640" cy="432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Негативні сервітути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4" name="Rectangle 18"/>
          <p:cNvSpPr/>
          <p:nvPr/>
        </p:nvSpPr>
        <p:spPr>
          <a:xfrm>
            <a:off x="4643280" y="5157720"/>
            <a:ext cx="4175280" cy="15130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Право вимагати, щоб власник прилеглої ділянки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(яка слугує) утримувався від певних 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видів її використання (не зводив будівель чи споруд, 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або ж споруджував лише такі, які не можуть 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перешкоджати доступу 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до пануючої ділянки світла,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повітря («сервітут світла й повітря») 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чи псувати краєвид</a:t>
            </a:r>
            <a:r>
              <a:rPr b="1" lang="ru-RU" sz="12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5" name="Line 19"/>
          <p:cNvSpPr/>
          <p:nvPr/>
        </p:nvSpPr>
        <p:spPr>
          <a:xfrm>
            <a:off x="3995640" y="436572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6" name="Line 20"/>
          <p:cNvSpPr/>
          <p:nvPr/>
        </p:nvSpPr>
        <p:spPr>
          <a:xfrm>
            <a:off x="3995640" y="566100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1e"/>
                </a:solidFill>
                <a:latin typeface="Times New Roman"/>
              </a:rPr>
              <a:t>6. Інститут довірчої власності в праві Англії та СШ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Довірча власність»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термін суто англо-американського права, однак його аналоги та подібні до довірчої власності правовідносини останнім часом виникають і в країнах романо-германської правової системи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Довірча власність є одним з найбільш своєрідних і разом з тим надзвичайно поширених у практиці інститутів сучасного англо-американського права. Він має назву також фідуциарної, тобто заснованої на довірі власності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(fiduciary ownership) або трасту (trust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Довірча власність як система майнових відносин склалася в англійському праві та знайшла своє відображення у праві справедливості. У Сполучених Штатах Америки інститут довірчої власності у своїх основних рисах не відрізняється від англійськог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Інститут довірчої власності регулюється нормами прецедентного права, а також англійським Законом про довірчу власність (1925 р.) та законами з окремих видів довірчої власності; у США - Єдиним (уніфікованим) законом про довірчу власність, Зводом правил про довірчу власність (Restatements of the Law of the Trust), який має велике практичне значення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1e"/>
                </a:solidFill>
                <a:latin typeface="Times New Roman"/>
              </a:rPr>
              <a:t>У окремих штатах США прийнято закони про довірчу власність; у більшості штатів діють закони, що стосуються окремих різновидів трасту. Провідну роль у регулюванні відносин довірчої власності, як і інших правових інститутів в англо-американській системі права, продовжує відігравати судовий прецедент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4"/>
          <p:cNvSpPr/>
          <p:nvPr/>
        </p:nvSpPr>
        <p:spPr>
          <a:xfrm>
            <a:off x="468360" y="549360"/>
            <a:ext cx="8064360" cy="11509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Довірча власність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відносини, за яких одна особа (засновник - settlor), встановлює довірчу власність: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передає іншій особі - довірчому власнику (trustee) майно для управління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в інтересах зазначених вигодонабувачів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(бенефіціаріїв - beneficiary, cestui que trust).</a:t>
            </a:r>
            <a:r>
              <a:rPr b="1" lang="ru-RU" sz="1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179280" y="2205000"/>
            <a:ext cx="3240360" cy="792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Засновником </a:t>
            </a: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виступає власник майна,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яке передається в довірчу власність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1403280" y="3213000"/>
            <a:ext cx="482436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Довірчим власником</a:t>
            </a: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, який зобов’язується управляти майном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в інтересах вигодонабувачів,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може виступати як фізична, так і юридична особа.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3203640" y="4508640"/>
            <a:ext cx="482436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Бенефіціаріями </a:t>
            </a: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виступають вказані засновником особи: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одна особа, кілька чи невизначене коло осіб. 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54" name="Line 8"/>
          <p:cNvSpPr/>
          <p:nvPr/>
        </p:nvSpPr>
        <p:spPr>
          <a:xfrm>
            <a:off x="1835280" y="170028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55" name="Line 9"/>
          <p:cNvSpPr/>
          <p:nvPr/>
        </p:nvSpPr>
        <p:spPr>
          <a:xfrm>
            <a:off x="4140360" y="1700280"/>
            <a:ext cx="0" cy="151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56" name="Line 10"/>
          <p:cNvSpPr/>
          <p:nvPr/>
        </p:nvSpPr>
        <p:spPr>
          <a:xfrm>
            <a:off x="6877080" y="1700280"/>
            <a:ext cx="0" cy="28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61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Довірча власність виникає різними способами</a:t>
            </a: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на підставі особистого волевиявлення засновника за його життя (inter vivos) або на випадок смерті (mortis causa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внаслідок закону (логічно виведений траст - resulting trust; конструктивний траст - constructive trust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на основі договор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На довірчого власника покладаються такі обов’язк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управляти майном відповідно до умов, котрі зазначені в установчому акті та в інтересах бенефіціарі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виявляти дбайливість і розсудливість, діяти в інтересах інших як у своїх власних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не виявляти зайвого ризику, марнотратства, не здійснювати пожертв; зберігати майн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Він зобов’язаний звітувати перед вигодонабувачем за першою його вимогою по всіх справах, пов’язаних з управлінням майном, та передавати останньому всі вигоди і доходи, одержані від управління. Він не має права нічого залишати собі, якщо інше не передбачене в установчому акті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1e"/>
                </a:solidFill>
                <a:latin typeface="Times New Roman"/>
              </a:rPr>
              <a:t>Довірча власність припиняється за таких обставин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з досягненням мети, задля якої вона створювалася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із закінченням заздалегідь передбаченого терміну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унаслідок обставин, настання яких повинно, за умовами установчого акту, припинити її існування (досягнення бенефіціарієм певного віку, укладення ним шлюбу та ін.)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зі смертю бенефіціарі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унаслідок одностороннього волевиявлення засновника, якщо таку можливість було прямо передбачено в установчому акті.</a:t>
            </a:r>
            <a:r>
              <a:rPr b="0" lang="ru-RU" sz="28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1e"/>
                </a:solidFill>
                <a:latin typeface="Times New Roman"/>
              </a:rPr>
              <a:t>У сучасному цивільному обороті інститут довірчої власності використовується для регулювання різноманітних, зокрема й господарських (підприємницьких), відносин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Так, довірча власність застосовується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управління майном недієздатних осіб (неповнолітніх, обмежено дієздатних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створення благодійних фондів (наукових, навчальних, культурних, лікувальних організацій: університетів, шкіл, лікарень, музеїв тощо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створення об’єднань (акціонерних компаній (Англія), корпорацій (США); для голосування на загальних зборах в інтересах засновників (voting trust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захисту інтересів кредитора й підвищення відповідальності боржника (конструктивний траст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Найбільш широко він використовується у сфері комерційного управлінн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чужим майном через створення численних корпоративних утворень - інвестиційних банків, компаній, страхових, пенсійних ощадних фондів. Часом він суттєво відрізняється від традиційних трастових форм, однак суть залишається незмінною: довірчий власник в особі подібних організацій передає майно (акції, інші цінні папери, грошові вклади ) з метою ефективного комерційного управління на користь власників, які й виступають бенефіціаріями (вигодонабувачами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1e"/>
                </a:solidFill>
                <a:latin typeface="Times New Roman"/>
              </a:rPr>
              <a:t>Список використаної літератури</a:t>
            </a: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1. Безбах В.В. Цивільне та торгове право зарубіжних країн: навчальний посібник.- М.: МЦФЕР, 2004. - 896 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1e"/>
                </a:solidFill>
                <a:latin typeface="Times New Roman"/>
              </a:rPr>
              <a:t>2.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Богустов, А.А. Цивільне та торгове право зарубіжних країн. - М.: ТетраСистемс, 2009. - 128 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1e"/>
                </a:solidFill>
                <a:latin typeface="Times New Roman"/>
              </a:rPr>
              <a:t>3.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Кудінов О.А. Цивільне та торгове право зарубіжних країн. Короткий курс. - М.:Дашков і К, 2010. - 92 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1e"/>
                </a:solidFill>
                <a:latin typeface="Times New Roman"/>
              </a:rPr>
              <a:t>4.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Шимон С. І. Цивільне та торгове право зарубіжних країн. Навч. посіб. (Курс лекцій). - К.: КНЕУ, 2004. - 220 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1e"/>
                </a:solidFill>
                <a:latin typeface="Times New Roman"/>
              </a:rPr>
              <a:t>1. Поняття й види речових прав у зарубіжних цивільно-правових системах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У країнах континентальної правової системи правові норми, що регулюють майнові відносини, виділяються в цивільних кодексах як самостійні та групуються </a:t>
            </a: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в два розділи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ечове прав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зобов’язальне пра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Особливост</a:t>
            </a:r>
            <a:r>
              <a:rPr b="1" lang="uk-UA" sz="2400" spc="-1" strike="noStrike" u="sng">
                <a:solidFill>
                  <a:srgbClr val="00001e"/>
                </a:solidFill>
                <a:uFillTx/>
                <a:latin typeface="Times New Roman"/>
              </a:rPr>
              <a:t>і</a:t>
            </a: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 речового права країн континентальної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цивільно-правової систем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тісний зв’язок цивільного й публічно-правових елементів у регулюванні відносин власності, що має загальні риси та зміст незалежно від правового становища власника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чітке розмежування речових і зобов’язальних правовідносин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особливий підхід до функцій і видів володіння, яке розглядається не тільки як одна з правомочностей власника, але і як окремий правовий інститут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рагнення законодавця докладно врегулювати стан приналежності речі суб’єкту, способів захисту цього стану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1e"/>
                </a:solidFill>
                <a:latin typeface="Tahoma"/>
              </a:rPr>
              <a:t>Дякую за увагу!!!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4"/>
          <p:cNvSpPr/>
          <p:nvPr/>
        </p:nvSpPr>
        <p:spPr>
          <a:xfrm>
            <a:off x="1476360" y="476280"/>
            <a:ext cx="6408720" cy="9367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Речові права в цій системі поділяють на дві групи</a:t>
            </a:r>
            <a:r>
              <a:rPr b="1" lang="ru-RU" sz="1800" spc="-1" strike="noStrike" u="sng">
                <a:solidFill>
                  <a:srgbClr val="00001e"/>
                </a:solidFill>
                <a:uFillTx/>
                <a:latin typeface="Tahoma"/>
              </a:rPr>
              <a:t>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250920" y="1989000"/>
            <a:ext cx="381636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Право власності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як повне приєднання речі до майна суб’єкта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(найменш обмежене право)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4786200" y="1989000"/>
            <a:ext cx="381492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Обмежені речові права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(права на чужі речі)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2" name="Line 7"/>
          <p:cNvSpPr/>
          <p:nvPr/>
        </p:nvSpPr>
        <p:spPr>
          <a:xfrm>
            <a:off x="2627280" y="1413000"/>
            <a:ext cx="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3" name="Line 8"/>
          <p:cNvSpPr/>
          <p:nvPr/>
        </p:nvSpPr>
        <p:spPr>
          <a:xfrm>
            <a:off x="6516720" y="1413000"/>
            <a:ext cx="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468360" y="3357360"/>
            <a:ext cx="8229600" cy="31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У джерелах права зарубіжних країн немає легального визначення речового права, але воно сформульоване в доктрині, яка розглядає його як</a:t>
            </a: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 сукупність норм, що регулюють такі майнові відносини, у яких управомочені особи можуть здійснювати свої права на майно (річ) незалежно від позитивних дій інших осіб.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До інституту речового права належать норми,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 спрямовані на те, щоб закріпити за управомоченою особою можливість володіти майном і користуватися ним незалежно від дій інших осіб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91600"/>
            <a:ext cx="8218440" cy="227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Власник та інші носії речових прав можуть розраховувати на утримання усіма іншими від вчинення дій, що перешкоджають здійсненню приналежних їм правомочностей; усі інші учасники правовідносин протистоять носію речового права як зобов’язані суб’єкти. </a:t>
            </a:r>
            <a:br>
              <a:rPr sz="1800"/>
            </a:b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Абсолютний характер речових прав виявляється </a:t>
            </a:r>
            <a:r>
              <a:rPr b="1" i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у праві слідування та праві переваг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AutoShape 5"/>
          <p:cNvSpPr/>
          <p:nvPr/>
        </p:nvSpPr>
        <p:spPr>
          <a:xfrm>
            <a:off x="250920" y="2781360"/>
            <a:ext cx="2952720" cy="7189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слідування</a:t>
            </a:r>
            <a:r>
              <a:rPr b="0" lang="ru-RU" sz="1800" spc="-1" strike="noStrike">
                <a:solidFill>
                  <a:srgbClr val="00001e"/>
                </a:solidFill>
                <a:latin typeface="Tahoma"/>
              </a:rPr>
              <a:t>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3924360" y="2349360"/>
            <a:ext cx="5040360" cy="15112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 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олягає в тому, що речове право слідує за річчю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ри переході права власності на неї до інших ос</a:t>
            </a:r>
            <a:r>
              <a:rPr b="0" lang="uk-UA" sz="1400" spc="-1" strike="noStrike">
                <a:solidFill>
                  <a:srgbClr val="00001e"/>
                </a:solidFill>
                <a:latin typeface="Times New Roman"/>
              </a:rPr>
              <a:t>іб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Унаслідок права слідування засновані власником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сервітут чи право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застави продовжують існувати щодо речі й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ісля переходу її до іншого власника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9" name="AutoShape 7"/>
          <p:cNvSpPr/>
          <p:nvPr/>
        </p:nvSpPr>
        <p:spPr>
          <a:xfrm>
            <a:off x="324000" y="4581360"/>
            <a:ext cx="2952720" cy="71928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переваги 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3924360" y="4365720"/>
            <a:ext cx="5040360" cy="15112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олягає в тому, що володілець речових прав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у здійсненні свого права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одержує перевагу перед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учасником зобов’язальних правовідносин.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1" name="Line 10"/>
          <p:cNvSpPr/>
          <p:nvPr/>
        </p:nvSpPr>
        <p:spPr>
          <a:xfrm>
            <a:off x="3276720" y="494172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2" name="Line 11"/>
          <p:cNvSpPr/>
          <p:nvPr/>
        </p:nvSpPr>
        <p:spPr>
          <a:xfrm>
            <a:off x="3203640" y="314172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AutoShape 4"/>
          <p:cNvSpPr/>
          <p:nvPr/>
        </p:nvSpPr>
        <p:spPr>
          <a:xfrm>
            <a:off x="611280" y="620640"/>
            <a:ext cx="7848360" cy="100800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В англо-американському праві поняття речового права відрізняється від аналогічного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у континентальній системі права.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Йому за змістом відповідає поняття права власності.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611280" y="1773360"/>
            <a:ext cx="7993080" cy="143964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У цій цивільно-правовій системі існує основне речове право,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яке є аналогічним до континентального права власності (ownership),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та інші речові права, які, по суті,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схожі з правами на чужі речі в романо-германській системі права.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1692360" y="3357720"/>
            <a:ext cx="5111640" cy="5029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1e"/>
                </a:solidFill>
                <a:latin typeface="Tahoma"/>
              </a:rPr>
              <a:t> </a:t>
            </a:r>
            <a:r>
              <a:rPr b="1" lang="ru-RU" sz="1600" spc="-1" strike="noStrike">
                <a:solidFill>
                  <a:srgbClr val="00001e"/>
                </a:solidFill>
                <a:latin typeface="Tahoma"/>
              </a:rPr>
              <a:t>В юридичній літературі розрізняють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179280" y="4076640"/>
            <a:ext cx="252108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Безумовне право володіння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та власності (право власност</a:t>
            </a:r>
            <a:r>
              <a:rPr b="0" lang="uk-UA" sz="1400" spc="-1" strike="noStrike">
                <a:solidFill>
                  <a:srgbClr val="00001e"/>
                </a:solidFill>
                <a:latin typeface="Times New Roman"/>
              </a:rPr>
              <a:t>і)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468360" y="5157720"/>
            <a:ext cx="252108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орендне володіння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(оренда за договором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6227640" y="4076640"/>
            <a:ext cx="273708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утримання, що слугує (сервітут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3059280" y="5157720"/>
            <a:ext cx="273672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довічне володіння (узуфрукт)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5940360" y="5157720"/>
            <a:ext cx="273708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раво строкового утримання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заставодержателя (застава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11" name="Line 12"/>
          <p:cNvSpPr/>
          <p:nvPr/>
        </p:nvSpPr>
        <p:spPr>
          <a:xfrm>
            <a:off x="1979640" y="386064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12" name="Line 13"/>
          <p:cNvSpPr/>
          <p:nvPr/>
        </p:nvSpPr>
        <p:spPr>
          <a:xfrm>
            <a:off x="6588000" y="3860640"/>
            <a:ext cx="0" cy="14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13" name="Line 14"/>
          <p:cNvSpPr/>
          <p:nvPr/>
        </p:nvSpPr>
        <p:spPr>
          <a:xfrm>
            <a:off x="2843280" y="3860640"/>
            <a:ext cx="0" cy="129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14" name="Line 15"/>
          <p:cNvSpPr/>
          <p:nvPr/>
        </p:nvSpPr>
        <p:spPr>
          <a:xfrm>
            <a:off x="4284720" y="3933720"/>
            <a:ext cx="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15" name="Line 16"/>
          <p:cNvSpPr/>
          <p:nvPr/>
        </p:nvSpPr>
        <p:spPr>
          <a:xfrm>
            <a:off x="6012000" y="3860640"/>
            <a:ext cx="0" cy="129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000" y="291600"/>
            <a:ext cx="821844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Автори з країн загального права намагаються сформулювати універсальне визначення поняття власності за допомогою складання переліку </a:t>
            </a: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повноважень власника,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 який може бути досить широки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До правомочностей власника відносять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володіння, тобто виключний фізичний контроль над річчю чи право виключного її користуванн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користування чи особистого використання речі, якщо воно не включає два наступних повноваженн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управління, тобто право вирішувати, хто і як може використовувати річ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на доход, тобто на ті блага, які приносить реалізація двох попередніх повноважень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на відчуження, споживання, витрату на свій розсуд, зміну чи знищення речі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на гарантії від експропріації чи право на безпеку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передавати річ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на безстроковість здійснення повноважень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на кінцевий характер повноважень, тобто здійснення правил, які забезпечують відновлення порушених пра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1e"/>
                </a:solidFill>
                <a:latin typeface="Times New Roman"/>
              </a:rPr>
              <a:t>2. Класифікація об’єктів речового пра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Об’єктами речових прав є майн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До майна, насамперед, належать річ, сукупність речей, а також електроенергія та газ, інші види енергії й сировини, що виходять за межі традиційного розуміння речей.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Коло об’єктів речових прав розширюється за рахунок розробленої в зарубіжній доктрині концепції </a:t>
            </a:r>
            <a:r>
              <a:rPr b="1" i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«безтілесного майна», під яким розуміють так званий ідеальний майновий об’єкт, що має вартість і грошову оцінку, але не є матеріальни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За сучасною концепцією власності до «безтілесного майна» належать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 технічні й нетехнічні об’єкти промислової власності (винаходи, «ноу-хау», промислові зразки й товарні знаки, фірмові найменування), а також об’єкти фінансової та комерційної власност</a:t>
            </a:r>
            <a:r>
              <a:rPr b="0" lang="uk-UA" sz="2000" spc="-1" strike="noStrike" u="sng">
                <a:solidFill>
                  <a:srgbClr val="ffffff"/>
                </a:solidFill>
                <a:uFillTx/>
                <a:latin typeface="Times New Roman"/>
              </a:rPr>
              <a:t>і,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що виступають у вигляді права вимоги по грошових і товаророзпорядчих документах (облігації, векселі, чеки, паї, коносаменти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У країнах англо-американської системи права коло об’єктів права власності більш широке, аніж у континентальному праві: поряд з матеріальними об’єктами права власності є так звані </a:t>
            </a: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«речі у вимозі»: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 грошові зобов’язання, оборотні документи, акції, паї, облігації; авторські права, патентні права, товарні знаки, фірмові найменування, пенсії, ануітети (вид державної позики, з якої кредитор одержує ренту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У цій правовій системі відстоюється концепція виключних прав на такі цінності, тоді як у романо-германській поширена суто власницька концепція.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 Однак практика всіх країн зазвичай переносить на право промислової, фінансової й комерційної власності режим, встановлений для матеріальних об’єкті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2T13:58:21Z</dcterms:created>
  <dc:creator>WORK</dc:creator>
  <dc:description/>
  <dc:language>en-US</dc:language>
  <cp:lastModifiedBy>George</cp:lastModifiedBy>
  <dcterms:modified xsi:type="dcterms:W3CDTF">2020-11-29T21:26:48Z</dcterms:modified>
  <cp:revision>18</cp:revision>
  <dc:subject/>
  <dc:title>Презентація на тему: Речові права в зарубіжних цивільно-правових системах.  Право власності.</dc:title>
</cp:coreProperties>
</file>