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4783-39C3-4C3D-83BA-5C012900F929}" type="datetime">
              <a:rPr b="0" lang="ru-RU" sz="1200" spc="-1" strike="noStrike">
                <a:solidFill>
                  <a:srgbClr val="000000"/>
                </a:solidFill>
                <a:latin typeface="Calibri"/>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DCCD-C37B-45C9-BA0F-65F6CC5E1E9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E916-31CB-473A-BE48-C62668E6159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726B2DF-088B-47B1-BCBD-D39BA683A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28109C5-132B-4BA2-BB79-57FFACA9D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8704261-F525-44F7-B4E4-B7243738B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AF6F37D-0A41-482D-92A5-D6CBFF524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BC2F410-41B6-4035-9A5B-7DEB86DFB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4C8DDA8-5A70-4FDA-A416-BCF000032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C5C0C6-CBBE-419A-8B42-5A8BB19D3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6174D5D-3378-46F6-AF31-561B487D7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EBB39E3-7654-48EF-A213-442D53618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00F86A-739C-49E3-861F-2EA5CC3DC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B45FCE-FA3E-4808-B62D-9885E71F2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0876E0-423F-4695-8BA9-D063261E0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3538-8C5A-4240-BB07-CE54C5F3F4C3}" type="datetime">
              <a:rPr b="0" lang="ru-RU" sz="1200" spc="-1" strike="noStrike">
                <a:solidFill>
                  <a:srgbClr val="000000"/>
                </a:solidFill>
                <a:latin typeface="Arial"/>
              </a:rPr>
              <a:t>30.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E95C-C09E-43D6-A1AC-F67259214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34B9-5BE3-4D89-88F3-30B212046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85F8-F68B-4DDA-8FB5-3DE5E47DB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793B-1FF8-403D-809F-0DE03EF8B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B07E-5ADE-4517-9F33-FAB8CC40B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8C89-66B3-4A1F-A304-3D1E27021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1EE2-034E-4E8F-92DD-CB2CE6857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019C-3658-4B06-89E2-0A3D31719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4D44-023D-4A1E-AF2D-6838C0ED5189}"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FA50-2156-4B27-8AB4-4725C4E9C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E11B-8CFA-4E37-AEF4-3195649EE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F35E-5906-4863-B655-279B9537C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B92B-6F7C-4A17-97D5-B8DC69AEB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C51B-1A8C-4255-B734-CC0B2D6CC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3432-0C04-4D1D-AFEB-10D978A9F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C62B-6829-4874-93CA-A2A998C5F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CD58-9804-4ED3-A3BA-A6D101AB2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A4AB-D9B8-4DEA-AAA3-70DD29747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3589-D0D3-4B8A-AEFF-83DDD424A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D036-2141-4BA4-85FB-B987EAECB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02B6-97B4-455F-8D9F-4E2EAC1A1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8F82-1ECF-4259-B808-0F95DCF78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3353-EC97-4A6A-A830-3D4302903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5E67-35E1-49D7-A5F5-8D0745C6F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CA4C-B340-4B67-A28A-93627610F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A844-4B48-4BAF-8491-FFCA47C05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