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40E8-F0D8-4A87-8A72-6387D23FEB47}" type="datetime">
              <a:rPr b="0" lang="ru-RU" sz="1200" spc="-1" strike="noStrike">
                <a:solidFill>
                  <a:srgbClr val="000000"/>
                </a:solidFill>
                <a:latin typeface="Calibri"/>
              </a:rPr>
              <a:t>30.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07489-A454-44E0-BCE7-D2A9EEA52A9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88CF-423D-47B3-A35D-D2FD214690A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79B8204-1C1E-4FB7-8258-FB20EF2B6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ACB27C5-A1BC-4EE1-AECC-60DBB69BD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DE2ED5A-517B-4510-BFAA-ABA4EB132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769E41E-A2A5-4D0B-AC15-37EEEC9F0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403F1F-1037-47D9-9B57-F3F1EBF37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92F6E14-2721-45BD-8A47-D8EDA1E07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8844141-1C60-41AB-9929-D537912BE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1A4D108-95ED-4601-A8B7-82539832B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C3C1F40-82C2-43B5-83D7-E67760B28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E1E160-C202-483E-B570-7424BC8F4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1C2A1F-B90E-4BF0-8583-8440E5807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D7114A-0233-42C8-ACE3-7504EACF5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18A7-A1C3-4F6E-863B-1F1C37734DAB}" type="datetime">
              <a:rPr b="0" lang="ru-RU" sz="1200" spc="-1" strike="noStrike">
                <a:solidFill>
                  <a:srgbClr val="000000"/>
                </a:solidFill>
                <a:latin typeface="Arial"/>
              </a:rPr>
              <a:t>30.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DEDD-238E-4D10-9102-A77F5A1F0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6670-BE15-4186-8BA5-7D652E467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D77B-6E0D-4944-AAC6-B6B7847A8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FCE1-3792-4D55-9027-F123F99D0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A5CF-9BDB-4404-801A-23AB62E2B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4BD7-AA14-4A24-82A7-7DADC2405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EB93-84AC-4F13-A668-BE00DE0D3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B378-2B44-4959-AC27-09320D2C3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2966-7479-4E40-87CE-E4957D6812BF}"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6B76-C6C7-4CFE-83D0-3D2774268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3485-E37E-463A-B6EF-848C2EFF5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08DB-D48B-473A-91F1-DE21E5ABE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5228-3456-4CD1-96EB-05B7D1B07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6F40-B660-43B9-82CE-31A6E3878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E56A-4BD3-4013-B533-9C4D5987B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26BA-1E20-4DFA-883B-1C35394C1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8E98-32ED-4A24-B084-074E167B3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2965-1767-451A-8F5E-0CEBD4D31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8268-D804-447C-A5FB-992298800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C5B6-C658-4244-B5FB-62C0228E1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C4A6-D4A3-4B63-978E-6F43CE0C1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1967A-BA30-473B-A4B8-38AA4BDCB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2C8E-7AE6-4622-A03B-D6395191F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A3E5-9DCE-4212-B61D-B61B9C20F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D6B1-50F8-4E2F-A866-467660EFB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36B9-C05F-4B5B-AF1F-8642F9017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