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8415-6ABB-470B-B779-CA6480E0B16A}" type="datetime">
              <a:rPr b="0" lang="ru-RU" sz="1200" spc="-1" strike="noStrike">
                <a:solidFill>
                  <a:srgbClr val="000000"/>
                </a:solidFill>
                <a:latin typeface="Calibri"/>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26D0-058F-4AD1-8403-2B61E211328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E516-31C5-4542-89FD-29D37EEF78F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9824F3D-E8AF-4B27-95BF-4166EB1FA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2F00FD-E6D1-46A1-B978-F9C348E65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68AED44-6FD5-4ED0-B362-8B683B463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319B84-6111-491D-BDA8-6A61A0826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5BCA91-DD6F-40F6-817D-B1BD56891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7F66E4-1C70-4375-A8FE-4E28B2D5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E63BC99-FE0B-47BD-9945-17C778D2A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FF7480-F239-499A-8AF2-E152A8D6E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F5889DF-AA7D-4C1E-9EDF-2BFC7DAFA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177E5E-0C1D-4604-9B74-5D0F42F19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9B54FB-5C4E-4A3E-B6D9-D9C9C5D34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868C49-F666-47A3-ACC3-B8CD7A9EB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1FC9-1D75-437E-8C45-F73E46274161}" type="datetime">
              <a:rPr b="0" lang="ru-RU" sz="1200" spc="-1" strike="noStrike">
                <a:solidFill>
                  <a:srgbClr val="000000"/>
                </a:solidFill>
                <a:latin typeface="Arial"/>
              </a:rPr>
              <a:t>29.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6E32-7B01-4A97-8340-C40995A3F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7022-ECA0-464C-8A08-5CF2D08B2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2728-2D35-42E4-A0C5-FAFB1ED35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4BE2-31FF-4709-B7D0-EF2AD4FEC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3B1E-6EA5-4B1E-9D27-F828FCD41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1953-21DF-41EF-AC00-25F7D6BD0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23E6-66F8-4A14-BF10-B964DBCA1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383B-5EA8-41BB-ADA1-28B633DC6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FFB2-0496-4132-B2BC-161FFEE4591F}"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A547-BBB3-4138-85D7-399FF96C1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ECC3-E20F-4A9E-A9F3-E3A135DAF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BD3B-3FD1-4C9C-B35D-29CD5C0B5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7BC0-C25A-40FD-A9A4-D901E00C2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ADBB-0A92-4827-8F01-936F89E9D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8E2E-E5C2-4ED5-8F5B-59D4FBF3B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E44C-BB92-4A0D-8845-696D38233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4ED1-6385-43CE-BFDD-42D47581D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2307-7435-4814-9613-44C43FDEC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7225-BD5E-4FAC-94AE-695B3FE93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9BF9-448A-491F-900E-2C6B86839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BE8F-2749-4447-BB9C-BD5576082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3196-F69A-49D9-8DA0-547857A44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2C18-AE83-4BE5-8DDD-E85A4EBA1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C37C-7523-450D-8A45-6CD78CDBE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67B2-9619-49A8-B7CA-E2DA61DFD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8041-B4C8-4F3E-9099-E420D8515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