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29B-478D-4E7B-8E05-C5F245F3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D4C-2D1D-4DAA-AC4F-32088485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A9A-64C0-4946-82A6-959F69AE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672-783B-400D-A5F6-13B1F19A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154F-3DD8-4F2F-8A4D-42DD268F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B2E1-1FF3-4680-9E44-638364AD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5C2F-4387-4475-91E8-31C146D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3AFF-BE14-4B0D-A76F-5D2DC444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2A01-4D00-46A3-8326-912E1E2E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8836-A759-4B59-8969-A4D2946C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BD70-EDC8-4506-A825-4C6CF78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238-6ACD-4DAE-9F69-BB6F84ED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B821-6AAA-4711-9207-29A12122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2DDA-730C-4C8D-9808-A99C6BD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D9AB-46DE-4EED-A37A-C2A694D6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DF77-4F98-486C-83BD-C27847F9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A3D0-6C06-4CA5-BBEE-8D8C40F8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8EB-4EBC-43A4-9BA5-65FC1649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53B-A620-4768-933C-F2887A8B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90E-814E-4EDF-92A3-EC3C056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F5E-4F6A-4A45-8543-0C0CB479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C59-6F8C-4845-A675-F40D346A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B65-21DA-4F54-A941-274478E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B8D-56F0-41BF-99BD-71679736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11AE-03BB-473D-9E98-9095F0FB55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5E08-1854-482E-9423-806CEFA8F6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99cc00"/>
                </a:solidFill>
                <a:latin typeface="Times New Roman"/>
              </a:rPr>
              <a:t>«</a:t>
            </a:r>
            <a:r>
              <a:rPr b="1" i="1" lang="uk-UA" sz="4800" spc="-1" strike="noStrike">
                <a:solidFill>
                  <a:srgbClr val="c0c0c0"/>
                </a:solidFill>
                <a:latin typeface="Arial"/>
              </a:rPr>
              <a:t>Інформаційно-правове забезпечення правоохоронної діяльності</a:t>
            </a: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99cc00"/>
                </a:solidFill>
                <a:latin typeface="Times New Roman"/>
              </a:rPr>
              <a:t>»</a:t>
            </a:r>
            <a:r>
              <a:rPr b="0" lang="uk-U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uk-UA" sz="2200" spc="-1" strike="noStrike">
                <a:solidFill>
                  <a:srgbClr val="c0c0c0"/>
                </a:solidFill>
                <a:latin typeface="Times New Roman"/>
              </a:rPr>
              <a:t>– 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це комплекс знань, що подаються для вивчення теорії і практики регулювання суспільних відносин, що виникають у зв’язку зі здійсненням суб’єктами владних повноважень інформаційної діяльності.</a:t>
            </a:r>
            <a:endParaRPr b="0" lang="en-US" sz="22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Самостійна робота студентів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Зміст самостійної роботи з дисципліни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 складають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Самостійне опрацювання теоретичних питань курс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ідготовка до семінарських занять, опрацювання першоджерел та навчальної літератур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Написання рефераті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Виконання контрольної роботи студентами заочної форми навчанн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Інші форми самостійної роботи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6044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Види контролю і система накопичення балів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0880"/>
        </p:xfrm>
        <a:graphic>
          <a:graphicData uri="http://schemas.openxmlformats.org/drawingml/2006/table">
            <a:tbl>
              <a:tblPr/>
              <a:tblGrid>
                <a:gridCol w="533520"/>
                <a:gridCol w="2895480"/>
                <a:gridCol w="1828800"/>
                <a:gridCol w="1600200"/>
                <a:gridCol w="1371600"/>
              </a:tblGrid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заходу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ількість контрольних заходів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ількість балів з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захі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ього  балів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ідготовка завдання самостійної творчої робо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е тестув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ступи, обговорення та дискусії на семінарських заняттях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дивідуальне завданн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кзамен в письмовому вигляді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ь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Рекомендована література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істова І. В. Державна інформаційна політика: організаційно-правові аспекти : монографія / І.В. Арістова ; за заг. ред. Бандурки О. М. – Харків : Вид-во Ун-ту внутр. справ, 2000. – 368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нов О. А. Інформаційне право України: стан, проблеми, перспективи : навчальний посібник / О. А. Баранов. – К. : Видавничий дім «СофтПрес», 2005. – 316 с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зпека комп'ютерних систем. Комп'ютерна злочинність та її попередження : монографія / М. С. Вертузаєв, В. О. Голубєв, О. І. Котляревський, О. М. Юрченко ; за ред. О. П. Снігерьова. – Запоріжжя : ПВКФ «Павло», 1998. – 31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гуш В. М. Інформаційна безпека держави : навчальний посібник / В. М. Богуш, О. К. Юдін. – М. : «МК-Прес», 2005. – 432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мич Б. А. Інформаційне право : підручник / Б. А. Кормич. – Харків : БУРУН і К., 2011. – 33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циба М. В. Методичні рекомендації щодо практичного впровадження Закону України «Про доступ до публічної інформації» / М. В. Лациба, О. С. Хмара, В. В. Андрусів [та ін.] ; Укр. незалеж. центр політ. дослідж. – К. : Агентство «Україна», 2012. – 16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Адміністративно-правовий режим інформації з обмеженим доступом : монографія / В. А. Ліпкан, В. Ю. Баскаков / за заг. ред. В. А. Ліпкана. – К. : ФОП О. С. Ліпкан, 2013. – 34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Боротьба з тероризмом : монографія / В. А. Ліпкан, Д. Й. Никифорчук, М. М. Руденко. – К. : Знання, 2002. – 25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корпорація інформаційного законодавства України : монографія / В. А. Ліпкан, К. П. Череповський / за заг. ред. В. А. Ліпкана. – К. : ФОП О. С. Ліпкан, 2014. – 408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формаційна безпека України : глосарій / В. А. Ліпкан, Л. С. Харченко, О. В. Логінов. – К. : Текст, 2004. – 13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формаційна безпека України в умовах євроінтеграції : навчальний посібник / В. А. Ліпкан, Ю. Є. Максименко, В. М. Желіховський. – К. : КНТ, 2006. – 280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Консолідація інформаційного законодавства України : монографія / В. А. Ліпкан, М. І. Дімчогло / за заг. ред. В. А. Ліпкана. – К. : ФОП О. С. Ліпкан, 2014. – 41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Систематизація інформаційного законодавства України : монографія / В. А. Ліпкан, В. А. Залізняк / за заг. ред. В. А. Ліпкана. – К. : ФОП О. С. Ліпкан, 2012. – 30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Тероризм і національна безпека України : монографія / В. А. Ліпкан. – К. : Знання, 2000. – 18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ущак А. І. Інформаційне право України : підручник / А. І. Марущак. – К. : Дакор, 2011. – 451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Times New Roman"/>
              </a:rPr>
              <a:t>Мета та завдання навчального курсу</a:t>
            </a:r>
            <a:br>
              <a:rPr sz="2400"/>
            </a:b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200" spc="-1" strike="noStrike">
                <a:solidFill>
                  <a:srgbClr val="c0c0c0"/>
                </a:solidFill>
                <a:latin typeface="Arial"/>
              </a:rPr>
              <a:t>Мета </a:t>
            </a:r>
            <a:r>
              <a:rPr b="0" lang="uk-UA" sz="2200" spc="-1" strike="noStrike">
                <a:solidFill>
                  <a:srgbClr val="c0c0c0"/>
                </a:solidFill>
                <a:latin typeface="Arial"/>
              </a:rPr>
              <a:t>навчальної дисципліни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полягає у засвоєнні основних теоретичних положень та набутті практичних навичок з інформаційно-правової діяльності органів державної влади. Навчальна дисципліна орієнтована на ознайомлення майбутніх фахівців з основами та особливостями інформаційної діяльності в юридичній сфер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Основними завданнями вивчення курсу «Інформаційно-правове забезпечення правоохоронної діяльності» є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воїти основні доктринальні положення, що визначають сутність і зміст ключових для науки інформаційного права та, відповідно, актуальних питань інформаційно-правової діяльності органів державної влади категорі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тримати знання стосовно нормативно-правового регулювання інформаційно-правової діяльності органів державної влади й інформаційних правовідносин в Україні загалом як сфери її об’єктивіз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значити коло та компетенцію органів державної влади України, на які покладається реалізація державної політики в інформаційній сфер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знайомитися із порядком одержання, використання, поширення і зберігання різних видів інформ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знайомитися із порядком реалізації права на доступ до інформації про діяльність органів державної влад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бути навичок підготовки документів, необхідних для отримання та надання інформації про діяльність зазначених органі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воїти основні положення, що визначають міжнародно-правові засади забезпечення інформаційної безпеки та дотримання права на доступ до інформ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панувати загальнотеоретичні засади, що визначають засоби та способи боротьби із кіберзлочинністю та кібертероризмом як основними загрозами для інформаційної безпеки Україн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значити основні проблеми у сфері інформаційно-правової діяльності органів державної влади й перспективи вдосконалення національного законодавства України у зазначеному напрям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підвищити рівень правової свідомості та правової культури слухачів магістратур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Згідно з вимогами освітньої програми студенти повинні досягти таких результатів навчання (компетентностей)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студент повинен знати основні доктринальні положення, що визначають специфіку правовідносин, пов’язаних із інформаційно-правовою діяльністю органів державної влад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орієнтуватися у положеннях основних нормативно-правових актів, які врегульовують правовідносини у сфері інформаційно-правової діяльності органів державної влад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знати міжнародно-правові стандарти забезпечення дотримання права людини на доступ до інформації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визначати способи та порядок реалізації права на доступ до інформації про діяльність органів державної влади в Україні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знати положення, що визначають сутність та зміст інформаційної безпеки особи, суспільства, держав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визначати перелік та специфіку основних загроз для інформаційної безпеки України, а також способи протидії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кладати відповідно до вимог чинного законодавства звернення до органів державної влади, їх службових, посадових осіб, а також запити на інформацію та проекти відповідей на ни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валіфікувати за чинним законодавством діяння, які порушують інформаційні права громадян та підривають інформаційну безпеку держав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ористуватися науковою юридичною термінологіє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ільно володіти конкретним фактичним і нормативно-правовим матеріалом з курс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тосовувати спеціально-наукові методи юридичних дисциплін при розгляді окремих тем чи пробл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ористуватися необхідною спеціальною літературою і джерел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Знання дисципліни «Інформаційно-правове забезпечення правоохоронної діяльності»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необхідні для розуміння основних засад нормативно-правового регулювання суспільних відносин, пов’язаних з інформаційною сферою, за участі суб’єктів владних повноважень, вміння орієнтуватися в системі інформаційного законодавства України, набуття навичок аналізу джерел інформаційного права України та тлумачення окремих положень, необхідних для подальшої правозастосовчої діяльності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cc00"/>
                </a:solidFill>
                <a:latin typeface="Arial"/>
              </a:rPr>
              <a:t>В навчальному курсі виділяється дві основні пробле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ормативно-правове регулювання інформаційно-правової діяльності органів державної влади, орієнтованої на задоволення інформаційних потреб сторонніх суб’єктів, в процесі якої реалізується право на доступ до інформації про діяльність таких орган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ормативно-правове регулювання інформаційно-правової діяльності органів державної влади, орієнтованої на задоволення власних інформаційних потреб таких органів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Міждисциплінарні зв’язки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ісце дисципліни </a:t>
            </a:r>
            <a:r>
              <a:rPr b="1" i="1" lang="uk-UA" sz="22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серед юридичних дисциплін визначається її зв’язками як з теоретико-юридичними, так і галузевими юридичними науками. Зокрема, основоположні для розуміння вихідних категорій та понять засади розкриваються в межах дисципліни 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«Теорія держави і права»</a:t>
            </a:r>
            <a:r>
              <a:rPr b="1" i="1" lang="uk-UA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як-от: нормативно-правовий акт, правовідносини, структура правовідносин, об’єкт, суб’єкти, зміст правовідносин, юридичний факт; загальна та спеціальна правосуб’єктність тощ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Дисципліна </a:t>
            </a:r>
            <a:r>
              <a:rPr b="1" i="1" lang="uk-UA" sz="2400" spc="-1" strike="noStrike">
                <a:solidFill>
                  <a:srgbClr val="c0c0c0"/>
                </a:solidFill>
                <a:latin typeface="Arial"/>
              </a:rPr>
              <a:t>«Актуальні питання інформаційно-правової діяльності органів державної влади»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тісно пов’язана з 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«Інформаційним правом»</a:t>
            </a:r>
            <a:r>
              <a:rPr b="1" i="1" lang="uk-UA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що обумовлюється тим, що інформаційне забезпечення є способом організації діяльності та водночас видом інформаційної діяльності, правові засади здійснення якої, у свою чергу, визначаються нормами інформаційного права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Дисципліна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ов’язана також з 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«Адміністративним правом 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України»</a:t>
            </a: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Зв'язок вказаних дисциплін полягає в тому,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що саме норми адміністративного права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врегульовують відносини за участі суб’єктів владних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овноважен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З іншого боку,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частині приватно-правового аспекту пов’язано з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дисципліною </a:t>
            </a:r>
            <a:r>
              <a:rPr b="0" i="1" lang="uk-UA" sz="2600" spc="-1" strike="noStrike">
                <a:solidFill>
                  <a:srgbClr val="99cc00"/>
                </a:solidFill>
                <a:latin typeface="Arial"/>
              </a:rPr>
              <a:t>«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Цивільне право України</a:t>
            </a:r>
            <a:r>
              <a:rPr b="0" i="1" lang="uk-UA" sz="2600" spc="-1" strike="noStrike">
                <a:solidFill>
                  <a:srgbClr val="99cc00"/>
                </a:solidFill>
                <a:latin typeface="Arial"/>
              </a:rPr>
              <a:t>»</a:t>
            </a:r>
            <a:r>
              <a:rPr b="0" i="1" lang="uk-UA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до системи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якого як галузі права включено інститут особистих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майнових та немайнових прав фізичної особи, в тому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числі права на інформаці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20-12-03T09:21:1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