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6F1-C7D9-4061-8BE4-7EE8B1FE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D74-3E86-4711-82FC-81122BBA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DF4-1B52-46E6-B249-E044FA00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DF7-6333-4A44-90E3-0F464D2A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2BF6-DB07-4C5B-A9A7-37471449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D09F-8139-4010-8F49-AC5BAF7F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6D41-19CE-40A0-ABF6-C4BFF149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2764-4321-4A25-A179-F97B5270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E916-DFC4-456C-B59C-0281943C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BD23-D063-4960-8E2A-AAE2AB06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1EB1-FC12-4BE6-ABE8-6249AB4B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6E0-F3C9-4553-B021-18078E5C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4E36-4FC9-44EA-8E8D-D1AD25E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BF56-8E0F-465B-9326-D7C73A8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10A5-56BB-4BE1-A37F-75D46F72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24E4-5240-4F62-9B40-9313B03C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947-B603-44B7-9CA0-6EA0D509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8D7-A17B-4DA7-862A-BCE1D19A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EF9-738C-4617-9411-890C5082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FAC-16CC-44BC-8C7C-6E980DCA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57E-96DC-4D37-92B4-1053793F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A1F-57CA-49DA-A821-30F5FB7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ED7-2435-4E68-8BEB-8D08757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A22-D0CE-4F77-A806-D5AB5241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0426-65B1-4958-9B08-BD2182AC8A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5940-D6FA-4EA2-90BD-52AE2ED1F2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36640"/>
            <a:ext cx="85341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99cc00"/>
                </a:solidFill>
                <a:latin typeface="Times New Roman"/>
              </a:rPr>
              <a:t>«</a:t>
            </a:r>
            <a:r>
              <a:rPr b="1" i="1" lang="uk-UA" sz="4800" spc="-1" strike="noStrike">
                <a:solidFill>
                  <a:srgbClr val="c0c0c0"/>
                </a:solidFill>
                <a:latin typeface="Arial"/>
              </a:rPr>
              <a:t>Інформаційно-правове забезпечення правоохоронної діяльності</a:t>
            </a: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99cc00"/>
                </a:solidFill>
                <a:latin typeface="Times New Roman"/>
              </a:rPr>
              <a:t>»</a:t>
            </a:r>
            <a:r>
              <a:rPr b="0" lang="uk-UA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uk-UA" sz="2200" spc="-1" strike="noStrike">
                <a:solidFill>
                  <a:srgbClr val="c0c0c0"/>
                </a:solidFill>
                <a:latin typeface="Times New Roman"/>
              </a:rPr>
              <a:t>– 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це комплекс знань, що подаються для вивчення теорії і практики регулювання суспільних відносин, що виникають у зв’язку зі здійсненням суб’єктами владних повноважень інформаційної діяльності.</a:t>
            </a:r>
            <a:endParaRPr b="0" lang="en-US" sz="22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Самостійна робота студентів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Arial"/>
              </a:rPr>
              <a:t>Зміст самостійної роботи з дисципліни </a:t>
            </a:r>
            <a:r>
              <a:rPr b="1" i="1" lang="uk-UA" sz="26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1" i="1" lang="uk-UA" sz="2600" spc="-1" strike="noStrike">
                <a:solidFill>
                  <a:srgbClr val="ffffff"/>
                </a:solidFill>
                <a:latin typeface="Arial"/>
              </a:rPr>
              <a:t> складають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Самостійне опрацювання теоретичних питань курс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Підготовка до семінарських занять, опрацювання першоджерел та навчальної літератур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Написання рефераті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Виконання контрольної роботи студентами заочної форми навчанн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Інші форми самостійної роботи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6044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Види контролю і система накопичення балів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0880"/>
        </p:xfrm>
        <a:graphic>
          <a:graphicData uri="http://schemas.openxmlformats.org/drawingml/2006/table">
            <a:tbl>
              <a:tblPr/>
              <a:tblGrid>
                <a:gridCol w="533520"/>
                <a:gridCol w="2895480"/>
                <a:gridCol w="1828800"/>
                <a:gridCol w="1600200"/>
                <a:gridCol w="1371600"/>
              </a:tblGrid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заходу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ількість контрольних заходів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ількість балів з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захі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ього  балів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ідготовка завдання самостійної творчої робо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е тестув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ступи, обговорення та дискусії на семінарських заняттях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дивідуальне завдання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кзамен в письмовому вигляді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ь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Рекомендована література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істова І. В. Державна інформаційна політика: організаційно-правові аспекти : монографія / І.В. Арістова ; за заг. ред. Бандурки О. М. – Харків : Вид-во Ун-ту внутр. справ, 2000. – 368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нов О. А. Інформаційне право України: стан, проблеми, перспективи : навчальний посібник / О. А. Баранов. – К. : Видавничий дім «СофтПрес», 2005. – 316 с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зпека комп'ютерних систем. Комп'ютерна злочинність та її попередження : монографія / М. С. Вертузаєв, В. О. Голубєв, О. І. Котляревський, О. М. Юрченко ; за ред. О. П. Снігерьова. – Запоріжжя : ПВКФ «Павло», 1998. – 316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гуш В. М. Інформаційна безпека держави : навчальний посібник / В. М. Богуш, О. К. Юдін. – М. : «МК-Прес», 2005. – 432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мич Б. А. Інформаційне право : підручник / Б. А. Кормич. – Харків : БУРУН і К., 2011. – 33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циба М. В. Методичні рекомендації щодо практичного впровадження Закону України «Про доступ до публічної інформації» / М. В. Лациба, О. С. Хмара, В. В. Андрусів [та ін.] ; Укр. незалеж. центр політ. дослідж. – К. : Агентство «Україна», 2012. – 16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Адміністративно-правовий режим інформації з обмеженим доступом : монографія / В. А. Ліпкан, В. Ю. Баскаков / за заг. ред. В. А. Ліпкана. – К. : ФОП О. С. Ліпкан, 2013. – 34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Боротьба з тероризмом : монографія / В. А. Ліпкан, Д. Й. Никифорчук, М. М. Руденко. – К. : Знання, 2002. – 25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Інкорпорація інформаційного законодавства України : монографія / В. А. Ліпкан, К. П. Череповський / за заг. ред. В. А. Ліпкана. – К. : ФОП О. С. Ліпкан, 2014. – 408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Інформаційна безпека України : глосарій / В. А. Ліпкан, Л. С. Харченко, О. В. Логінов. – К. : Текст, 2004. – 136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Інформаційна безпека України в умовах євроінтеграції : навчальний посібник / В. А. Ліпкан, Ю. Є. Максименко, В. М. Желіховський. – К. : КНТ, 2006. – 280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Консолідація інформаційного законодавства України : монографія / В. А. Ліпкан, М. І. Дімчогло / за заг. ред. В. А. Ліпкана. – К. : ФОП О. С. Ліпкан, 2014. – 416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Систематизація інформаційного законодавства України : монографія / В. А. Ліпкан, В. А. Залізняк / за заг. ред. В. А. Ліпкана. – К. : ФОП О. С. Ліпкан, 2012. – 30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Тероризм і національна безпека України : монографія / В. А. Ліпкан. – К. : Знання, 2000. – 18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ущак А. І. Інформаційне право України : підручник / А. І. Марущак. – К. : Дакор, 2011. – 451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Times New Roman"/>
              </a:rPr>
              <a:t>Мета та завдання навчального курсу</a:t>
            </a:r>
            <a:br>
              <a:rPr sz="2400"/>
            </a:b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200" spc="-1" strike="noStrike">
                <a:solidFill>
                  <a:srgbClr val="c0c0c0"/>
                </a:solidFill>
                <a:latin typeface="Arial"/>
              </a:rPr>
              <a:t>Мета </a:t>
            </a:r>
            <a:r>
              <a:rPr b="0" lang="uk-UA" sz="2200" spc="-1" strike="noStrike">
                <a:solidFill>
                  <a:srgbClr val="c0c0c0"/>
                </a:solidFill>
                <a:latin typeface="Arial"/>
              </a:rPr>
              <a:t>навчальної дисципліни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полягає у засвоєнні основних теоретичних положень та набутті практичних навичок з інформаційно-правової діяльності органів державної влади. Навчальна дисципліна орієнтована на ознайомлення майбутніх фахівців з основами та особливостями інформаційної діяльності в юридичній сфер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Основними завданнями вивчення курсу «Інформаційно-правове забезпечення правоохоронної діяльності» є: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своїти основні доктринальні положення, що визначають сутність і зміст ключових для науки інформаційного права та, відповідно, актуальних питань інформаційно-правової діяльності органів державної влади категорі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тримати знання стосовно нормативно-правового регулювання інформаційно-правової діяльності органів державної влади й інформаційних правовідносин в Україні загалом як сфери її об’єктивізац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значити коло та компетенцію органів державної влади України, на які покладається реалізація державної політики в інформаційній сфері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знайомитися із порядком одержання, використання, поширення і зберігання різних видів інформац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знайомитися із порядком реалізації права на доступ до інформації про діяльність органів державної влад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бути навичок підготовки документів, необхідних для отримання та надання інформації про діяльність зазначених органі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своїти основні положення, що визначають міжнародно-правові засади забезпечення інформаційної безпеки та дотримання права на доступ до інформац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панувати загальнотеоретичні засади, що визначають засоби та способи боротьби із кіберзлочинністю та кібертероризмом як основними загрозами для інформаційної безпеки Україн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значити основні проблеми у сфері інформаційно-правової діяльності органів державної влади й перспективи вдосконалення національного законодавства України у зазначеному напрямі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підвищити рівень правової свідомості та правової культури слухачів магістратур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Згідно з вимогами освітньої програми студенти повинні досягти таких результатів навчання (компетентностей):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студент повинен знати основні доктринальні положення, що визначають специфіку правовідносин, пов’язаних із інформаційно-правовою діяльністю органів державної влад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орієнтуватися у положеннях основних нормативно-правових актів, які врегульовують правовідносини у сфері інформаційно-правової діяльності органів державної влад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знати міжнародно-правові стандарти забезпечення дотримання права людини на доступ до інформації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визначати способи та порядок реалізації права на доступ до інформації про діяльність органів державної влади в Україні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знати положення, що визначають сутність та зміст інформаційної безпеки особи, суспільства, держав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визначати перелік та специфіку основних загроз для інформаційної безпеки України, а також способи протидії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кладати відповідно до вимог чинного законодавства звернення до органів державної влади, їх службових, посадових осіб, а також запити на інформацію та проекти відповідей на ни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кваліфікувати за чинним законодавством діяння, які порушують інформаційні права громадян та підривають інформаційну безпеку держав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користуватися науковою юридичною термінологіє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ільно володіти конкретним фактичним і нормативно-правовим матеріалом з курс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стосовувати спеціально-наукові методи юридичних дисциплін при розгляді окремих тем чи пробл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користуватися необхідною спеціальною літературою і джерел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99cc00"/>
                </a:solidFill>
                <a:latin typeface="Arial"/>
              </a:rPr>
              <a:t>Знання дисципліни «Інформаційно-правове забезпечення правоохоронної діяльності»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необхідні для розуміння основних засад нормативно-правового регулювання суспільних відносин, пов’язаних з інформаційною сферою, за участі суб’єктів владних повноважень, вміння орієнтуватися в системі інформаційного законодавства України, набуття навичок аналізу джерел інформаційного права України та тлумачення окремих положень, необхідних для подальшої правозастосовчої діяльності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cc00"/>
                </a:solidFill>
                <a:latin typeface="Arial"/>
              </a:rPr>
              <a:t>В навчальному курсі виділяється дві основні пробле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ормативно-правове регулювання інформаційно-правової діяльності органів державної влади, орієнтованої на задоволення інформаційних потреб сторонніх суб’єктів, в процесі якої реалізується право на доступ до інформації про діяльність таких органі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ормативно-правове регулювання інформаційно-правової діяльності органів державної влади, орієнтованої на задоволення власних інформаційних потреб таких органів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Міждисциплінарні зв’язки: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ісце дисципліни </a:t>
            </a:r>
            <a:r>
              <a:rPr b="1" i="1" lang="uk-UA" sz="22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серед юридичних дисциплін визначається її зв’язками як з теоретико-юридичними, так і галузевими юридичними науками. Зокрема, основоположні для розуміння вихідних категорій та понять засади розкриваються в межах дисципліни </a:t>
            </a:r>
            <a:r>
              <a:rPr b="1" i="1" lang="uk-UA" sz="2200" spc="-1" strike="noStrike">
                <a:solidFill>
                  <a:srgbClr val="99cc00"/>
                </a:solidFill>
                <a:latin typeface="Arial"/>
              </a:rPr>
              <a:t>«Теорія держави і права»</a:t>
            </a:r>
            <a:r>
              <a:rPr b="1" i="1" lang="uk-UA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як-от: нормативно-правовий акт, правовідносини, структура правовідносин, об’єкт, суб’єкти, зміст правовідносин, юридичний факт; загальна та спеціальна правосуб’єктність тощо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Дисципліна </a:t>
            </a:r>
            <a:r>
              <a:rPr b="1" i="1" lang="uk-UA" sz="2400" spc="-1" strike="noStrike">
                <a:solidFill>
                  <a:srgbClr val="c0c0c0"/>
                </a:solidFill>
                <a:latin typeface="Arial"/>
              </a:rPr>
              <a:t>«Актуальні питання інформаційно-правової діяльності органів державної влади»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тісно пов’язана з </a:t>
            </a:r>
            <a:r>
              <a:rPr b="1" i="1" lang="uk-UA" sz="2200" spc="-1" strike="noStrike">
                <a:solidFill>
                  <a:srgbClr val="99cc00"/>
                </a:solidFill>
                <a:latin typeface="Arial"/>
              </a:rPr>
              <a:t>«Інформаційним правом»</a:t>
            </a:r>
            <a:r>
              <a:rPr b="1" i="1" lang="uk-UA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що обумовлюється тим, що інформаційне забезпечення є способом організації діяльності та водночас видом інформаційної діяльності, правові засади здійснення якої, у свою чергу, визначаються нормами інформаційного права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Дисципліна </a:t>
            </a:r>
            <a:r>
              <a:rPr b="1" i="1" lang="uk-UA" sz="26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пов’язана також з 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«Адміністративним правом 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України»</a:t>
            </a:r>
            <a:r>
              <a:rPr b="1" i="1" lang="uk-UA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Зв'язок вказаних дисциплін полягає в тому,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що саме норми адміністративного права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врегульовують відносини за участі суб’єктів владних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повноважен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З іншого боку, </a:t>
            </a:r>
            <a:r>
              <a:rPr b="1" i="1" lang="uk-UA" sz="26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частині приватно-правового аспекту пов’язано з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дисципліною </a:t>
            </a:r>
            <a:r>
              <a:rPr b="0" i="1" lang="uk-UA" sz="2600" spc="-1" strike="noStrike">
                <a:solidFill>
                  <a:srgbClr val="99cc00"/>
                </a:solidFill>
                <a:latin typeface="Arial"/>
              </a:rPr>
              <a:t>«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Цивільне право України</a:t>
            </a:r>
            <a:r>
              <a:rPr b="0" i="1" lang="uk-UA" sz="2600" spc="-1" strike="noStrike">
                <a:solidFill>
                  <a:srgbClr val="99cc00"/>
                </a:solidFill>
                <a:latin typeface="Arial"/>
              </a:rPr>
              <a:t>»</a:t>
            </a:r>
            <a:r>
              <a:rPr b="0" i="1" lang="uk-UA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до системи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якого як галузі права включено інститут особистих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майнових та немайнових прав фізичної особи, в тому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числі права на інформаці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20-12-03T09:21:1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