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D76F-C904-40D7-B732-48C0E267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C4B-FC4E-4221-BA5D-4261B0DF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C61-74F3-4681-A772-4848C05D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29A3-8EB1-4A87-B603-21D0340C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070E-6ACA-4D4B-8225-F20F4125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C40C-E265-43A5-8011-476F1BBD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9427-1638-47D6-B48C-AAFDDB4D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C215-29A8-4F25-86F6-0E88EE3A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D3EA-5064-49D5-9F67-95EA1CA0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89DB-C10F-48A5-8AC6-5ED3ED81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34F3-7D3B-4FC8-ABCC-439D0FF4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7F57-F706-47C9-801F-2BF7AE93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A696-3EE2-48EA-9CD6-5D56F505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FB83-19E9-48DB-851D-AC4A074C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CA75-28E3-4597-A06D-8B073962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3110-928E-493B-8F98-DD4AF9EE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894E-44CD-4E18-9288-11C9C772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43A8-D2B6-4B58-9D96-907A5329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3B8-CDD4-4896-B47E-89C11D1C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AF0C-40FF-448C-A7D4-10F0C5EA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7740-ECCE-413F-A2A2-ADD1FA5E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6FD-99D7-4DA6-AEE3-F19E4BE9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3145-8481-4B73-84B2-3CF60FE9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A9B-A6EF-4A5F-8247-A1CCD6B3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CFED-4B15-418B-84B5-7868DD4B04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C5A2-D403-4616-9BA4-38874A1EB0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736640"/>
            <a:ext cx="8534160" cy="38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99cc00"/>
                </a:solidFill>
                <a:latin typeface="Times New Roman"/>
              </a:rPr>
              <a:t>«</a:t>
            </a:r>
            <a:r>
              <a:rPr b="1" i="1" lang="uk-UA" sz="4800" spc="-1" strike="noStrike">
                <a:solidFill>
                  <a:srgbClr val="c0c0c0"/>
                </a:solidFill>
                <a:latin typeface="Arial"/>
              </a:rPr>
              <a:t>Інформаційно-правове забезпечення правоохоронної діяльності</a:t>
            </a:r>
            <a:r>
              <a:rPr b="0" lang="ru-RU" sz="48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i="1" lang="uk-UA" sz="3600" spc="-1" strike="noStrike">
                <a:solidFill>
                  <a:srgbClr val="99cc00"/>
                </a:solidFill>
                <a:latin typeface="Times New Roman"/>
              </a:rPr>
              <a:t>»</a:t>
            </a:r>
            <a:r>
              <a:rPr b="0" lang="uk-UA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uk-UA" sz="2200" spc="-1" strike="noStrike">
                <a:solidFill>
                  <a:srgbClr val="c0c0c0"/>
                </a:solidFill>
                <a:latin typeface="Times New Roman"/>
              </a:rPr>
              <a:t>– </a:t>
            </a:r>
            <a:r>
              <a:rPr b="0" lang="uk-UA" sz="2200" spc="-1" strike="noStrike">
                <a:solidFill>
                  <a:srgbClr val="ffffff"/>
                </a:solidFill>
                <a:latin typeface="Times New Roman"/>
              </a:rPr>
              <a:t>це комплекс знань, що подаються для вивчення теорії і практики регулювання суспільних відносин, що виникають у зв’язку зі здійсненням суб’єктами владних повноважень інформаційної діяльності.</a:t>
            </a:r>
            <a:endParaRPr b="0" lang="en-US" sz="22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cc00"/>
                </a:solidFill>
                <a:latin typeface="Arial"/>
              </a:rPr>
              <a:t>Самостійна робота студентів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Arial"/>
              </a:rPr>
              <a:t>Зміст самостійної роботи з дисципліни </a:t>
            </a:r>
            <a:r>
              <a:rPr b="1" i="1" lang="uk-UA" sz="2600" spc="-1" strike="noStrike">
                <a:solidFill>
                  <a:srgbClr val="c0c0c0"/>
                </a:solidFill>
                <a:latin typeface="Arial"/>
              </a:rPr>
              <a:t>«Інформаційно-правове забезпечення правоохоронної діяльності»</a:t>
            </a:r>
            <a:r>
              <a:rPr b="1" i="1" lang="uk-UA" sz="2600" spc="-1" strike="noStrike">
                <a:solidFill>
                  <a:srgbClr val="ffffff"/>
                </a:solidFill>
                <a:latin typeface="Arial"/>
              </a:rPr>
              <a:t> складають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Самостійне опрацювання теоретичних питань курс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Підготовка до семінарських занять, опрацювання першоджерел та навчальної літератур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Написання рефераті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Виконання контрольної роботи студентами заочної форми навчанн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Інші форми самостійної роботи.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6044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cc00"/>
                </a:solidFill>
                <a:latin typeface="Arial"/>
              </a:rPr>
              <a:t>Види контролю і система накопичення балів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520880"/>
        </p:xfrm>
        <a:graphic>
          <a:graphicData uri="http://schemas.openxmlformats.org/drawingml/2006/table">
            <a:tbl>
              <a:tblPr/>
              <a:tblGrid>
                <a:gridCol w="533520"/>
                <a:gridCol w="2895480"/>
                <a:gridCol w="1828800"/>
                <a:gridCol w="1600200"/>
                <a:gridCol w="1371600"/>
              </a:tblGrid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заходу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ількість контрольних заходів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ількість балів з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захі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ього  балів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ідготовка завдання самостійної творчої робо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е тестува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ступи, обговорення та дискусії на семінарських заняттях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Індивідуальне завдання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кзамен в письмовому вигляді</a:t>
                      </a: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ьо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cc00"/>
                </a:solidFill>
                <a:latin typeface="Arial"/>
              </a:rPr>
              <a:t>Рекомендована література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рістова І. В. Державна інформаційна політика: організаційно-правові аспекти : монографія / І.В. Арістова ; за заг. ред. Бандурки О. М. – Харків : Вид-во Ун-ту внутр. справ, 2000. – 368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аранов О. А. Інформаційне право України: стан, проблеми, перспективи : навчальний посібник / О. А. Баранов. – К. : Видавничий дім «СофтПрес», 2005. – 316 с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зпека комп'ютерних систем. Комп'ютерна злочинність та її попередження : монографія / М. С. Вертузаєв, В. О. Голубєв, О. І. Котляревський, О. М. Юрченко ; за ред. О. П. Снігерьова. – Запоріжжя : ПВКФ «Павло», 1998. – 316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гуш В. М. Інформаційна безпека держави : навчальний посібник / В. М. Богуш, О. К. Юдін. – М. : «МК-Прес», 2005. – 432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рмич Б. А. Інформаційне право : підручник / Б. А. Кормич. – Харків : БУРУН і К., 2011. – 334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ациба М. В. Методичні рекомендації щодо практичного впровадження Закону України «Про доступ до публічної інформації» / М. В. Лациба, О. С. Хмара, В. В. Андрусів [та ін.] ; Укр. незалеж. центр політ. дослідж. – К. : Агентство «Україна», 2012. – 164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Адміністративно-правовий режим інформації з обмеженим доступом : монографія / В. А. Ліпкан, В. Ю. Баскаков / за заг. ред. В. А. Ліпкана. – К. : ФОП О. С. Ліпкан, 2013. – 344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Боротьба з тероризмом : монографія / В. А. Ліпкан, Д. Й. Никифорчук, М. М. Руденко. – К. : Знання, 2002. – 254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Інкорпорація інформаційного законодавства України : монографія / В. А. Ліпкан, К. П. Череповський / за заг. ред. В. А. Ліпкана. – К. : ФОП О. С. Ліпкан, 2014. – 408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Інформаційна безпека України : глосарій / В. А. Ліпкан, Л. С. Харченко, О. В. Логінов. – К. : Текст, 2004. – 136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Інформаційна безпека України в умовах євроінтеграції : навчальний посібник / В. А. Ліпкан, Ю. Є. Максименко, В. М. Желіховський. – К. : КНТ, 2006. – 280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Консолідація інформаційного законодавства України : монографія / В. А. Ліпкан, М. І. Дімчогло / за заг. ред. В. А. Ліпкана. – К. : ФОП О. С. Ліпкан, 2014. – 416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Систематизація інформаційного законодавства України : монографія / В. А. Ліпкан, В. А. Залізняк / за заг. ред. В. А. Ліпкана. – К. : ФОП О. С. Ліпкан, 2012. – 304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іпкан В. А. Тероризм і національна безпека України : монографія / В. А. Ліпкан. – К. : Знання, 2000. – 184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рущак А. І. Інформаційне право України : підручник / А. І. Марущак. – К. : Дакор, 2011. – 451 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cc00"/>
                </a:solidFill>
                <a:latin typeface="Times New Roman"/>
              </a:rPr>
              <a:t>Мета та завдання навчального курсу</a:t>
            </a:r>
            <a:br>
              <a:rPr sz="2400"/>
            </a:br>
            <a:r>
              <a:rPr b="1" i="1" lang="uk-UA" sz="2400" spc="-1" strike="noStrike">
                <a:solidFill>
                  <a:srgbClr val="99cc00"/>
                </a:solidFill>
                <a:latin typeface="Arial"/>
              </a:rPr>
              <a:t>«Інформаційно-правове забезпечення правоохоронної діяльності»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200" spc="-1" strike="noStrike">
                <a:solidFill>
                  <a:srgbClr val="c0c0c0"/>
                </a:solidFill>
                <a:latin typeface="Arial"/>
              </a:rPr>
              <a:t>Мета </a:t>
            </a:r>
            <a:r>
              <a:rPr b="0" lang="uk-UA" sz="2200" spc="-1" strike="noStrike">
                <a:solidFill>
                  <a:srgbClr val="c0c0c0"/>
                </a:solidFill>
                <a:latin typeface="Arial"/>
              </a:rPr>
              <a:t>навчальної дисципліни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 полягає у засвоєнні основних теоретичних положень та набутті практичних навичок з інформаційно-правової діяльності органів державної влади. Навчальна дисципліна орієнтована на ознайомлення майбутніх фахівців з основами та особливостями інформаційної діяльності в юридичній сфері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cc00"/>
                </a:solidFill>
                <a:latin typeface="Arial"/>
              </a:rPr>
              <a:t>Основними завданнями вивчення курсу «Інформаційно-правове забезпечення правоохоронної діяльності» є: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своїти основні доктринальні положення, що визначають сутність і зміст ключових для науки інформаційного права та, відповідно, актуальних питань інформаційно-правової діяльності органів державної влади категорі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отримати знання стосовно нормативно-правового регулювання інформаційно-правової діяльності органів державної влади й інформаційних правовідносин в Україні загалом як сфери її об’єктивізації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визначити коло та компетенцію органів державної влади України, на які покладається реалізація державної політики в інформаційній сфері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ознайомитися із порядком одержання, використання, поширення і зберігання різних видів інформації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ознайомитися із порядком реалізації права на доступ до інформації про діяльність органів державної влад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набути навичок підготовки документів, необхідних для отримання та надання інформації про діяльність зазначених органі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своїти основні положення, що визначають міжнародно-правові засади забезпечення інформаційної безпеки та дотримання права на доступ до інформації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опанувати загальнотеоретичні засади, що визначають засоби та способи боротьби із кіберзлочинністю та кібертероризмом як основними загрозами для інформаційної безпеки Україн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визначити основні проблеми у сфері інформаційно-правової діяльності органів державної влади й перспективи вдосконалення національного законодавства України у зазначеному напрямі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підвищити рівень правової свідомості та правової культури слухачів магістратур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cc00"/>
                </a:solidFill>
                <a:latin typeface="Arial"/>
              </a:rPr>
              <a:t>Згідно з вимогами освітньої програми студенти повинні досягти таких результатів навчання (компетентностей):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студент повинен знати основні доктринальні положення, що визначають специфіку правовідносин, пов’язаних із інформаційно-правовою діяльністю органів державної влади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орієнтуватися у положеннях основних нормативно-правових актів, які врегульовують правовідносини у сфері інформаційно-правової діяльності органів державної влади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знати міжнародно-правові стандарти забезпечення дотримання права людини на доступ до інформації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визначати способи та порядок реалізації права на доступ до інформації про діяльність органів державної влади в Україні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знати положення, що визначають сутність та зміст інформаційної безпеки особи, суспільства, держави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ffffff"/>
                </a:solidFill>
                <a:latin typeface="Arial"/>
              </a:rPr>
              <a:t>визначати перелік та специфіку основних загроз для інформаційної безпеки України, а також способи протидії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5345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складати відповідно до вимог чинного законодавства звернення до органів державної влади, їх службових, посадових осіб, а також запити на інформацію та проекти відповідей на них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кваліфікувати за чинним законодавством діяння, які порушують інформаційні права громадян та підривають інформаційну безпеку держав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користуватися науковою юридичною термінологією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вільно володіти конкретним фактичним і нормативно-правовим матеріалом з курс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застосовувати спеціально-наукові методи юридичних дисциплін при розгляді окремих тем чи проблем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користуватися необхідною спеціальною літературою і джерела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200" spc="-1" strike="noStrike">
                <a:solidFill>
                  <a:srgbClr val="99cc00"/>
                </a:solidFill>
                <a:latin typeface="Arial"/>
              </a:rPr>
              <a:t>Знання дисципліни «Інформаційно-правове забезпечення правоохоронної діяльності»</a:t>
            </a:r>
            <a:r>
              <a:rPr b="1" lang="uk-UA" sz="2200" spc="-1" strike="noStrike">
                <a:solidFill>
                  <a:srgbClr val="ffffff"/>
                </a:solidFill>
                <a:latin typeface="Arial"/>
              </a:rPr>
              <a:t> необхідні для розуміння основних засад нормативно-правового регулювання суспільних відносин, пов’язаних з інформаційною сферою, за участі суб’єктів владних повноважень, вміння орієнтуватися в системі інформаційного законодавства України, набуття навичок аналізу джерел інформаційного права України та тлумачення окремих положень, необхідних для подальшої правозастосовчої діяльності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99cc00"/>
                </a:solidFill>
                <a:latin typeface="Arial"/>
              </a:rPr>
              <a:t>В навчальному курсі виділяється дві основні проблем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ормативно-правове регулювання інформаційно-правової діяльності органів державної влади, орієнтованої на задоволення інформаційних потреб сторонніх суб’єктів, в процесі якої реалізується право на доступ до інформації про діяльність таких органі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ормативно-правове регулювання інформаційно-правової діяльності органів державної влади, орієнтованої на задоволення власних інформаційних потреб таких органів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cc00"/>
                </a:solidFill>
                <a:latin typeface="Arial"/>
              </a:rPr>
              <a:t>Міждисциплінарні зв’язки:</a:t>
            </a:r>
            <a:endParaRPr b="0" lang="en-US" sz="2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Місце дисципліни </a:t>
            </a:r>
            <a:r>
              <a:rPr b="1" i="1" lang="uk-UA" sz="2200" spc="-1" strike="noStrike">
                <a:solidFill>
                  <a:srgbClr val="c0c0c0"/>
                </a:solidFill>
                <a:latin typeface="Arial"/>
              </a:rPr>
              <a:t>«Інформаційно-правове забезпечення правоохоронної діяльності»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 серед юридичних дисциплін визначається її зв’язками як з теоретико-юридичними, так і галузевими юридичними науками. Зокрема, основоположні для розуміння вихідних категорій та понять засади розкриваються в межах дисципліни </a:t>
            </a:r>
            <a:r>
              <a:rPr b="1" i="1" lang="uk-UA" sz="2200" spc="-1" strike="noStrike">
                <a:solidFill>
                  <a:srgbClr val="99cc00"/>
                </a:solidFill>
                <a:latin typeface="Arial"/>
              </a:rPr>
              <a:t>«Теорія держави і права»</a:t>
            </a:r>
            <a:r>
              <a:rPr b="1" i="1" lang="uk-UA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 як-от: нормативно-правовий акт, правовідносини, структура правовідносин, об’єкт, суб’єкти, зміст правовідносин, юридичний факт; загальна та спеціальна правосуб’єктність тощо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Дисципліна </a:t>
            </a:r>
            <a:r>
              <a:rPr b="1" i="1" lang="uk-UA" sz="2400" spc="-1" strike="noStrike">
                <a:solidFill>
                  <a:srgbClr val="c0c0c0"/>
                </a:solidFill>
                <a:latin typeface="Arial"/>
              </a:rPr>
              <a:t>«Актуальні питання інформаційно-правової діяльності органів державної влади»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 тісно пов’язана з </a:t>
            </a:r>
            <a:r>
              <a:rPr b="1" i="1" lang="uk-UA" sz="2200" spc="-1" strike="noStrike">
                <a:solidFill>
                  <a:srgbClr val="99cc00"/>
                </a:solidFill>
                <a:latin typeface="Arial"/>
              </a:rPr>
              <a:t>«Інформаційним правом»</a:t>
            </a:r>
            <a:r>
              <a:rPr b="1" i="1" lang="uk-UA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uk-UA" sz="2200" spc="-1" strike="noStrike">
                <a:solidFill>
                  <a:srgbClr val="ffffff"/>
                </a:solidFill>
                <a:latin typeface="Arial"/>
              </a:rPr>
              <a:t> що обумовлюється тим, що інформаційне забезпечення є способом організації діяльності та водночас видом інформаційної діяльності, правові засади здійснення якої, у свою чергу, визначаються нормами інформаційного права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Дисципліна </a:t>
            </a:r>
            <a:r>
              <a:rPr b="1" i="1" lang="uk-UA" sz="2600" spc="-1" strike="noStrike">
                <a:solidFill>
                  <a:srgbClr val="c0c0c0"/>
                </a:solidFill>
                <a:latin typeface="Arial"/>
              </a:rPr>
              <a:t>«Інформаційно-правове забезпечення правоохоронної діяльності»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пов’язана також з </a:t>
            </a:r>
            <a:r>
              <a:rPr b="1" i="1" lang="uk-UA" sz="2600" spc="-1" strike="noStrike">
                <a:solidFill>
                  <a:srgbClr val="99cc00"/>
                </a:solidFill>
                <a:latin typeface="Arial"/>
              </a:rPr>
              <a:t>«Адміністративним правом </a:t>
            </a:r>
            <a:r>
              <a:rPr b="1" i="1" lang="uk-UA" sz="26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i="1" lang="uk-UA" sz="2600" spc="-1" strike="noStrike">
                <a:solidFill>
                  <a:srgbClr val="99cc00"/>
                </a:solidFill>
                <a:latin typeface="Arial"/>
              </a:rPr>
              <a:t>України»</a:t>
            </a:r>
            <a:r>
              <a:rPr b="1" i="1" lang="uk-UA" sz="2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 Зв'язок вказаних дисциплін полягає в тому,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що саме норми адміністративного права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врегульовують відносини за участі суб’єктів владних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повноважень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З іншого боку, </a:t>
            </a:r>
            <a:r>
              <a:rPr b="1" i="1" lang="uk-UA" sz="2600" spc="-1" strike="noStrike">
                <a:solidFill>
                  <a:srgbClr val="c0c0c0"/>
                </a:solidFill>
                <a:latin typeface="Arial"/>
              </a:rPr>
              <a:t>«Інформаційно-правове забезпечення правоохоронної діяльності»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 в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частині приватно-правового аспекту пов’язано з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дисципліною </a:t>
            </a:r>
            <a:r>
              <a:rPr b="0" i="1" lang="uk-UA" sz="2600" spc="-1" strike="noStrike">
                <a:solidFill>
                  <a:srgbClr val="99cc00"/>
                </a:solidFill>
                <a:latin typeface="Arial"/>
              </a:rPr>
              <a:t>«</a:t>
            </a:r>
            <a:r>
              <a:rPr b="1" i="1" lang="uk-UA" sz="2600" spc="-1" strike="noStrike">
                <a:solidFill>
                  <a:srgbClr val="99cc00"/>
                </a:solidFill>
                <a:latin typeface="Arial"/>
              </a:rPr>
              <a:t>Цивільне право України</a:t>
            </a:r>
            <a:r>
              <a:rPr b="0" i="1" lang="uk-UA" sz="2600" spc="-1" strike="noStrike">
                <a:solidFill>
                  <a:srgbClr val="99cc00"/>
                </a:solidFill>
                <a:latin typeface="Arial"/>
              </a:rPr>
              <a:t>»</a:t>
            </a:r>
            <a:r>
              <a:rPr b="0" i="1" lang="uk-UA" sz="2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 до системи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якого як галузі права включено інститут особистих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майнових та немайнових прав фізичної особи, в тому 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Arial"/>
              </a:rPr>
              <a:t>числі права на інформаці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20-12-03T09:21:1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