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F833-6A07-4B09-B8A9-46AB894FE39A}"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D841-6E02-4020-8387-21F9A9B9C01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77AA-85D8-4450-8896-88CA148017A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8858-0D09-4F66-8D3F-10CE576375C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BCEB-DEFE-4411-B430-FD49B1FE66E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B725-8FCB-40A3-ACB3-3C283802472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53FA6-03AA-4CBE-8384-37399E229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BEEBE-039A-44DF-AC54-834FE1756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535F0F-FBA3-4722-8956-1E3A43CD91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418F43-9375-42AC-B1E8-527834DEDF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D838F2-4404-46C2-8D60-184F89C19F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77D93E-9385-4A5E-9725-13919ED08C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815AE3-93A7-4DCB-A653-2254660612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67CA3F-580E-4645-93AB-EA7A59144C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FBD32A-1282-4BB8-9933-3BAE4548A8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B51341-2FA7-4653-B593-E888E0E7E9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86F994-72AD-4C6F-9AE0-035D122745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54261D-4E85-4B54-AFBF-F38F694EBD7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8A093-48FA-4CCD-B2E4-942C748CF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B71222-33CE-42BB-99C3-5EF35BDE41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B7ABB3-20FD-48FA-A11C-31B68CACD9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ECD03B-8CB2-4698-A2BE-3EA48FA758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6363CD-054D-4B26-840B-8B89A70EB3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5BBD89-41DC-4176-BE1D-54A3B9FD63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448DCD-92B6-4958-84DA-66DBD26D08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B65DFF-01D7-45CD-B1CF-8C708673A2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A17871-3724-4CE6-98AB-740C66B693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6DF2B2-1BE2-4101-AAF4-F340E8F17B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404944E-2F0B-49F1-B503-5DDFAFF1656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C2195-ADE1-47B6-89FD-529CF897C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83F0FB-28FB-4F40-A1DF-5B042463A1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46293B-0004-433D-84D5-2DC56015F3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40A112-EB6E-4DCB-89B2-AE4090A0FD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21645D-8359-4F72-95EC-DD6DE2BFCB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B8DCD4-29FD-4CB6-B6E4-9F716BB43C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C46D07-22C1-4E36-8DD2-98556E253E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BD6CC8-3975-49D5-B38A-B725784738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506051-FB2F-4780-8EBB-5FFEB7B9DE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073643-3459-4610-AA38-B5A3D36EC5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ED099E-4FC8-4C61-A821-D652D2CF6F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8E51F-5B0B-41FE-B035-D65C6C3DE3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1834DA-39F5-467E-8296-2F4EE5F543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039E66-FA82-4375-978B-EE956EFC6E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42BCDE-FECF-4875-826F-AE167EFF0B2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D682AB0-3526-4659-897E-F0F21F79815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5727B2-F68B-4AB3-B2C2-2A2091B835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9E1206-771C-43C3-B50E-DF7D7FD85A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C66981-A95B-48C2-9435-D8C8E1451E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D68512-FD45-40EA-9032-097DCBE8FD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CAAF76-D7A9-4D53-992F-709A85E452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E73EFB-8E25-48AC-B597-FF4D18DC0E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08BF6-532C-48E1-8C3D-A1532E5D9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F28A8C-4D8B-4C35-B0EF-5C8F675CE6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63D73C-1F01-4465-8895-34A11776E6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B2D1AD-B9D7-48E5-A028-CE8143EC58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95776F1-43BB-4395-B78B-733DB4B6850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A497D6-5B8A-49B5-ABC4-A1A9A29185A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D21069A-8BC5-4496-B1DC-67E5E2D1E5F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BC9504-B39E-4AB2-AB10-15B0AC4C05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1F80544-1ABF-4EE7-81AE-9EEF8B2BA41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AAFE4D-5D36-4A02-8C5C-A9BACC621F2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051C7C-BCEE-4808-95B0-D3D9361A65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60934-3D18-4990-899B-FDE606152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A697DE-840E-4A6E-970C-80E327D2D94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CE8085B-4DE4-4F7F-AD0D-6196EF6EF9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3E1BA0-118B-4E98-ADD0-B833CB7D9B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500928-7F84-4D29-94EC-5F3FED95D0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D3B823F-593F-4CC5-96F2-D3DF091A7BA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C243255-81E0-48BD-A2A7-A067205DBEB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DD4904D-891A-429E-AD3A-494D5CFD754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D7AE33E-DDAC-4AA2-B110-E6E698B0DCE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6784619-516F-44F5-99BD-4D57E6D069F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598F365-A910-4F19-87EA-FC4EB1DA14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C2DB6-0F1B-489F-B26F-C870BE739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98D34E0-58D3-42AC-9668-D7905E79418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B70B582-63ED-4F06-9767-F28AEECCB02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CC43C4-A28D-4444-89DC-99F132145D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DF0602-10E5-4E11-95F3-E3861DA341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48D05D-3228-4ED1-8DFA-BBBE89B4B0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60873B-9758-484E-AA87-EEF665DBF5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E69AC3-186E-427A-8CD5-576CE6B1232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42B5FEE-EEE5-4C11-A62C-EC1E08B657A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EE4BD6B-D672-44FE-B0A9-72591511229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6C3E80B-6978-4FDF-BA77-FDD2077D80D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C8AD3-BB49-4E31-B2DA-EAD64701F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5B8D7AA-20DE-4EBD-929F-E22B2CF10B2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E00E1ED-68BE-481D-8BF1-CF150446973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76B76B-D8BF-4C3C-AB69-E37C5A8FC20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AEB4635-28CE-4445-BFBC-1C915501EEC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FB2EA97-4A04-4646-B784-04297BC616E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D96D52-58AE-4170-BF76-EC2D8B4DDC5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102ED7-0ECA-4EEC-A81F-187AC0F1894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6EA7F52-B3BD-4E09-BED3-13C33A2008F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B3578FF-8DBE-4C95-B306-1A110627F0C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078075B-5744-41B2-928E-02785E89789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2CC6B-C194-486C-A383-F86640A26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23DE1D9-1BBD-4A47-8F23-CFFDE7276CB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F268812-CC57-47CA-B61F-F5F280F4E95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2F84A8E-BBC0-495F-ADEF-11F0646BC48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57DAC85-7A60-4796-9616-7B3D9587F4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44AE3D6-C3C0-4701-AE86-7F4FD502EA5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BCE2492-8129-482A-8DF9-4DA0E5FC8B4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1FD67B4-E5DC-4066-B3F2-B5440DA4AA9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5A50C68-240A-4E0D-B1B0-2271A6532E8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61F7F2A-DE08-4E59-81C2-E9A10C1B584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266843D-996A-4357-9F2D-FE8C531BA0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A43AA-D7C0-4F47-926C-5E222C3D4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85613D8-0998-4D97-B7FA-F4C8F805BF4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CCE3020-15A2-4908-B47C-362A514B8B7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593C6D4-1274-44D4-879A-136D3CE45F4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20F5923-EF6C-498B-8693-BEC01277138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697B194-EB6D-43EB-80B8-C50B33731B1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0E57013-0A7A-4D6C-A3A1-5C7CE5A127D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57C2896-5134-4CCE-8B99-C6909E58D54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C3A3CEB-857F-4F1B-9691-B2EEE6A90BF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964A69F-4F65-40D7-AC48-914F82E3654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B5E52C4-2723-4066-82AF-2BEF017BC33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828DB-C57C-49D2-AFA6-4C141B4D1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09B69-F11E-4F7E-A6B0-4BC1849D4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609A1C3-31A0-464A-9A95-D0B7534ECBC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86702D-E680-44DB-9108-6BA2BCA6950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303E90A-A046-46B4-8534-369CAA93F9F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958C7A3-FA74-4281-B282-99F1D3D7F7D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6689D47-A971-457D-85FE-BBC955B5759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35311D4-1FF9-4403-8F5E-3F6B2395B4D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A38A21F-458E-4AE6-B096-0D539BD5513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E33E158-7DEB-4104-B12F-4EAD7EDD053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35809AA-431F-4D0F-BAF1-98BE2814034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2C58BF5-AA80-41CE-9E65-D3D8B32F8D7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26390-922A-49BB-8230-DA1BB6D13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CED5919-54A9-4E93-99E0-B9BCECAE95C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94D58BB-E712-47FE-804A-AA844543357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46D984D-BA29-4EBE-8564-DA5CB234399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58EFF8C-C366-47F9-940F-95FAB1B0E31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E68B024-9D17-4D3D-A6FA-AF2B0385822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6F5E6C5-0028-45B9-AB50-5E4F11CBD5D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FED5B38-1F79-4917-ABDF-19323C838D0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4FB09B7-2E6C-4D88-9DB8-93AD37AD240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40BD2F1-914F-4B5E-8EB6-D4BBDAAC5DB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19913D4-E2C6-4766-A56D-D5FFDC7A5C5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08F6F-BF4C-43DC-A9A4-E9307EA16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37ACBBE-4762-4126-94D9-4532E26C845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1910289-A500-4ECE-9CA8-D4118BBE302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FDFD7A5-0D69-4E0C-8331-5CF2EDD0B19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4FC090-9F28-419E-A5F2-C7DE1EAD4A6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C2483D0-5275-4D0B-958C-D485599D88C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D259E6F-B056-4932-A0BC-8A03E0593B0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B227893-5410-4688-800F-A0F79E308A7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261116E-B280-436C-AB7D-C4061C1BD6B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A33D704-872D-4D45-941E-FE3D01FA2FA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E04C233-EEB2-4C68-8813-70A84F4B374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9AC9FF-0F84-4908-87CB-65BC876C2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E45AB5A-622B-4F7E-9EA9-67B6D6FE75D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C6F58F7-894C-4364-905E-729165F8EB3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95AF681-FA68-4CEC-A5D3-D66C51BA646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CD15C76-DEB6-4191-8139-8721DB68B17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2120619-A479-4177-B914-D5D1A251612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30FA158-530E-4EC6-A297-F7E610A1141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07E0AE3-78BE-402D-B817-BF29CBE2064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5C137F6-9CF6-45BB-AB36-7C307109182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B05E9E5-7829-430E-AE20-415453F9E8A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8BF79CE-110D-4293-8898-8192DB9175C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34A94-9542-45F0-8BD7-B46F562E9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E725958-75C1-4E34-B648-8AD2BB5CF34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2DB0D2E-5E7F-4F08-AC12-6E7702679A8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7F60F42-1F82-4490-B0DF-8E12C0AF63F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3B65848-9190-4C22-8690-DB4BEAB5D50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5F461F7-3F9C-4475-9C49-FC3B3E8C598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4E9E6CD-22BA-48BE-9DB8-1AC2E7CC488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CF4B40A-732E-4A43-B494-9F4C613B577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320F4CC-F398-4BD6-9A65-CBFB1D5CA9D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4ECDBC6-865B-4DAC-81CF-FC149A68760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9825A73-69EE-4512-8B47-8BE065C2EF6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270526-6BB4-4459-A416-EFFE181092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EA87DD7-DCBF-4C36-A617-F526EDA63A7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C45F02A-814E-4F37-B2A8-69DEC42C045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7F28509-4292-4E59-A76F-2B992F24398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86F4E5D-D70B-4E8B-B02C-AEC53773FE1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6128DA1-E293-44B4-83A7-B5B0C994834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0B6AC80-BE84-46A1-BE9D-F9DDD5BDD27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46935FC-3DC9-4650-98F6-77E34502216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52EFADF-06F1-4F8B-AFCC-1E484E3CFC7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F90DF07-DB59-4FA4-99E9-605F38DD7FE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B378466-5F00-49F0-BA53-A92858115DB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9E9B18-3F20-4BB8-A7E6-D4A91FF7A5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FBCB2FF-6E09-4141-B206-78073479D25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FDC3BBF-4829-4FCB-9ED5-E4CACB8E8CE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8E3D842-860E-4590-9CBC-9BD09DD2E00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B147457-B376-48D0-B202-110FD9030EA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44D3D94-59A9-4809-A71E-49F49B06115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6D69D2F-505E-426B-8997-E5CB93F16F8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C08AD3B-10DF-4D80-BFFF-25D5B35B361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3BDB4FE-D30D-4123-9124-924255A16F7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F4100AF-401F-40B2-9EA6-BACA915F36D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27E0F2E-B6E6-4C5A-8DEF-35A99C85472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7D8E2-9403-4397-8011-06E5041C7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DDE9AF8-37B6-4F36-B526-8F0CACE349C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5816CB4-290F-475F-860A-0D9F322D94C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79B9447-1ADD-41DE-A1C2-46CC6EAB4FF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54BD260-4588-4E1C-8B2F-0457E2F6704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0AD5BDE-C039-4504-81F9-7AD91F4AA37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91B01BD-81E0-496B-B253-63698F13087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363B1A2-02F8-445E-9765-2E828E59E63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82BD108-56AD-49F2-9EC7-17266F20026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5C09A2E-329E-46A1-93A3-3291AF92DC2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BDC1F53-B291-44BF-9D02-CC8745125AD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37BDA0-FBC7-4A9E-AD5D-0084115450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B8F1669-8010-4E80-9908-346CB1481D8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FE7199A-CD48-4644-9078-5C0E2B3CF31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78B5298-3F5C-414F-BB5C-EEFC22F44FE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CB8F7B0-2336-4706-8CDE-54FD604E47F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61EBC8B-BE83-47D7-B8DC-E1D4297B8BA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9752404-BDA0-4134-8EE6-5624AA7F58B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89D0B16-7736-45DA-AF90-F03C74FC54C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10125BD-623C-4511-B47F-7269B897578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360D62E-E528-4CDC-B51E-A13906364C5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B656687-9ACC-4DE6-A743-209CD88BE94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10F966-6B57-4DDB-9B2A-735B95D9A9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ECCBEE5-A756-4B06-933C-9BC400D42D2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C408E1D-E2AF-4ABB-8A0C-14959D8700B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C1CC486-4D73-4B8C-8C5F-B40131051AA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3E3AA52-9E9A-44CF-B6C1-9A151288761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7B6C9D3-690A-445F-9AE2-F135BD9D9FD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9CDE9A2-1798-4913-9B9F-244656D3B27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1BF97E3-DF48-404F-940B-C8079AF8F14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89504AA-DD42-45BE-909E-5CA7171BA77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834AD45-510E-437D-A87E-58483612B46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B784FDE-6B76-4532-AF83-9B6FEEE60D2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A2E4A-6571-4ACE-A571-94806004E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51D089-716C-4043-855A-B6BB1B6D6D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0306AF9-0873-4742-9E82-DAE95E0BA4D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89D5836-3CB6-46D8-8C4A-888BC6DDE72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A39506A-20C3-49FE-BDF9-0010CA0B336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AD302F8-3CA1-4C86-8B3D-DFA5B4EEDEC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31E1B22-0904-4EA1-A819-12C7893BC18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871C45F-A62C-4254-B86E-6450E3E91C3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EF1267B-13FE-458D-8A03-F4978E730EC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FF54B34-22E7-44E3-B7E3-F3CC41B2EC7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1436CC1-C446-4C88-A13C-269AE71787A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A0CDD73-B731-4EDF-900B-6F3D0B64ADB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92F092-8054-4901-9474-8CC09AD8F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CAA3703-93E2-4942-93CD-17FA1DA9D7D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6B52C7B-5860-4223-9E57-7005AD4713D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0BC2723-A138-4694-B882-E2E996CDD0A3}"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842CBF2-ABD7-4A4A-8EBA-9A949581A6A5}"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7BB5820-80A3-43E1-8552-F5D0A04DA2C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7FD554C-4401-47A0-8CA5-11D6E4A739F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3895B5B-DC65-4D4B-A6CF-A80A325B306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D7E80A7-AA0D-435B-A108-267CB0BEB0D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37D2226-FBF4-4292-BB98-03937BB7829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FD02B42-988E-4F75-9EDC-9123C300B27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04A20A-0C34-4F4B-B12B-AC5099333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6E7AEE2-8998-4767-BEA3-5AF11C9B5B6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8EDABCF-259F-4537-B9F5-286EBAD88B2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2C29A49-CD24-49CB-AAFD-E0BBCA7C73A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EDCF080-813B-430B-965C-6DA5EE17CD7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6E6B5D3E-1B55-4D23-8668-2DDBB24A3416}"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1441F02-95A2-4F70-8C73-394D3FF76D3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F0799FD-263C-467A-B8C8-ECAD43B8AF5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1CAB8EA-97C9-44B5-B519-B46C56854FC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D0AC338-17BA-4DA8-92E4-290B8D1AC17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1267AED-BDFA-4394-9A64-7863101D7BA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B19E3-0FC8-48E3-8C99-D34109193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DD93836-3675-4B39-A431-362FDD1DC9D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8838BF3-9875-4789-9591-0A50967C4DE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6DF15E4-4F6B-4DCD-835A-633299F0254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A67334B-2575-47AF-A443-6D2AF68F9FC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307C5ED-2F46-43C4-A4CC-9D2835EA087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3D17A0BC-0649-4827-A47A-F651073C2A8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CD1B116-E272-4AB7-9A02-FF4A5DC8102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EB3ECD7-00F0-49A2-8169-E7E3CFB8EBC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D6A349E-8D08-41FD-B8C4-3ABAC097375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78DFA9D-855C-45F5-AF68-973AEE5E12D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0D2E93-1633-44A2-BDE8-6D51482B71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B11AE7E-0D24-4526-A1D2-97A79AE97B5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382397F-22BB-404A-AC8A-AE527059ACB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75CD7C9-A7A6-4EBB-9414-F1513045CB1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7E051C5-256A-4C34-8A7A-320EFF12B49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2238390-C0F4-440B-9716-FA30768CF6B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C61F66E-F944-4712-AD13-FF9713C7BD6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406BB96-4817-4CD8-BC05-F2809533E1A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B7CA5A2B-6267-4011-BAB4-E8D30928345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61804C5E-D9D7-497C-98C2-E326400862DD}"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2514982C-3F35-4840-B070-957D35413141}"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AD11D5-754D-4211-A0E2-B878B76402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374604A-2133-4F5B-89E8-08EE06B7E16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41C2F6B-2A92-4416-A291-309B356B7F2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46DB1A5-DB8F-451D-8A86-95AD7DD5C8C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1C37F2C-768F-4B82-B4CA-40EDD17353A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3A7910C-6703-456B-B5DD-CE0FC6DEAFD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1EBDF9B-57A8-4371-BB4A-03B4711FF11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0588D40-77FD-4177-94FD-9C0DA0B2977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D36AFB3-A42D-4918-9B14-535C9B5A4AC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08C6411-6B1C-4085-8C46-323BA31A630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EA68191D-B7C2-49E5-8E76-127FE97C525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EA583A-2736-4263-9250-FA824353AA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AAA401BE-6FCE-4EF8-88CE-0F480609328D}"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8F3B8A3-06E4-4621-8B1B-256A11FA85F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C93E8FF-DFCB-4B90-8627-BD106EA4138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EE6BB48-B6BE-4DA0-912E-D7CA7A636A1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08D41D9-CAB8-4ED3-8F1F-E04155705B1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EEAEB32-7B04-44FC-ADB9-838E58CF2C7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69AAF8F-06B5-4909-9A41-9A93B5AD23A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812A779-0177-4448-A14E-414A40F63C1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E9ABC97-C031-4C94-B604-9AB197B5CEB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1DC49EF-6201-431A-8F47-F28247B77A3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6190F6-E9AF-4628-8C81-03B830663B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60B1FCE-F074-400D-A31C-C8B8C4C6997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36D7189-B8C0-482C-B5AD-44D6D6363131}"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6505DC9A-0E66-4649-A428-C04BDC6D2D84}"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E59D0F2-C48A-45FD-AE4F-8C801013D073}"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0D466B2-90F7-4E03-A1C1-3C1EC7D6B93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5757A5A-31DE-4362-A54D-FA242ACB9F3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1E64B04-79EB-47A2-BDCF-1CDE0772479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B0E1E4F-A80A-4171-BD98-B7608081CA3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D4C841F-5EBA-4D95-9B87-E65CDCA851D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208B232-D216-4F57-9C3F-D7D2571E650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0DD417-918F-4442-AC70-D789FDD529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3CA978E-2B68-4E84-8F01-800F470FF2C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2D6B662-CC0E-4DF9-90D2-A2DAE4A9027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690AC6A-A968-4B05-BBEE-A077FC2400C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75CB62A6-E085-4D18-96BB-04F5FD2EA5D1}"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CA41D07-8E62-4928-A8BE-211FE04CD5C0}"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9995E883-7410-4173-9EA3-C638BE0C1BEA}"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58797A4-654C-49FD-AD83-4FC25B66641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DEE333A-35ED-4C60-957D-1AD751CFCB5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DB95242-95F5-4992-87BD-55562182849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D5DC6E2-D423-4A95-AF96-2D0DDD72444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F1A979-6792-4F73-9CCC-68E83E7B0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FEF9646-F233-4C38-B1AD-AD5266B69DA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3A997EE-A4AE-4DD6-A683-FE4409CB108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49442FF-A9A8-440D-BF9B-83811963A7B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BB44E67-AE34-4752-98A6-671D97364A3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2EEE4C3-FF43-446C-B606-D8559346F43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BFF3B7E6-CF86-4AF1-86EA-FDB9DDEFB4E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2BC88C68-753B-48EA-B574-9F6753D4F6CF}"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561212D8-2E4C-4D9D-8011-4F62ED0A47F6}"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20BC190-0E0D-41A7-884A-EC6002B3A3F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2322E35-BADD-4F5F-858E-F0B719BBD53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3005E-95D4-48B9-888C-E01A616E5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0D3ECC-B11C-41F4-948A-A6783358BB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D96DC92-712C-4404-BDA6-918A110F7AC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79F50D2-C457-44D6-B4ED-12746E6E59F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097D127-DAB4-4C45-8887-0F86F974C97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34DF91C-445E-401F-98EC-C12E300090E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A46A440-515D-4334-A4F5-89A6A494F74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22D7589-4BB2-46F0-AE0A-104D91E5923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65D2592-819B-4B98-87AB-6EBF44BDF7E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202570CE-DE35-4944-B444-B21C9BE83307}"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CC02858E-0482-4CDF-9479-AEA61053B178}"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1FCBD84B-CB1F-4B0C-93F4-9EA96C475A2A}"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92056B-1B53-4745-8C96-2753AB6474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F24C96E-5A13-472A-B8F5-2295EB49A1E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9A2591D-8DF1-448A-8126-675EBC408BA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BEBF63A-F5BB-480D-B77D-10244CBB994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1F8F0B7-9553-4A23-ACC4-F7991331B09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A9F4E96-3940-4FD5-9C1F-1D1C13EDDB0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7D29214-6517-4814-97B8-F5AC8619EE8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901C350-8E62-4013-9563-1905942EC66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16C5292-E376-4437-8B2C-135B796D526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C6E2538-6A8B-4076-97CE-D4B262EEC75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56638E16-0E9A-4F7B-B26F-D74D6358983C}"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328FA7-DEA7-4072-85F5-B3BE2267FE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0A65F1A6-B0DB-4CB1-A16E-2812C6476225}"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BEFE2BDB-4942-443C-9A08-F3DCE77973C1}"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53459B9-A9ED-442E-8642-F413EF967A4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3146CE3C-6D74-49A4-B1C7-41A1EE5C6EB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3824EAD-F684-4E87-948A-65CFC57D7BF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5842C59-AEF0-492E-B29B-58EF758FBA2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0B5153F-B46B-4BAE-94DC-36A68756DDF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EC45E13-5492-4DEB-AA1B-8E562473C9F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C48ABD2-1E4F-487F-B961-A14ADAFE9A6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8FC6360-3316-4B11-AE2C-AE7C4F8AE45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7CA582-EFF9-42E0-8436-870A055BD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0B0FE61-A1D4-49BB-894A-559189A2ECF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518FB729-764D-4966-8775-1C23CBC7A9D6}"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0988190C-87BE-4596-AB8C-2F96FBE8CE31}"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9C494A98-888F-4B83-8759-758BE6905CA8}"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E3CA32E1-F23A-47AA-B622-4F95F2C160F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CD68494-581B-4D46-8407-9A74DE7F2D3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2601155A-A7F1-4EA4-BDA8-DE5471B1CA0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8C38322A-17A5-484E-9163-8BF9A0B8DAB0}"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A698DD1-E2F8-46EB-B4F3-87FFFA8C7030}"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97FB87E-FCE5-4760-9480-E473F34E6C1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01FD95-79B9-4F1F-93DA-7E5449EB73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9DDC472-CAB9-4949-BF65-42E7C02D193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98CF976-4FCA-4932-B6C2-79721A0D4741}"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2D577A2-65AE-4863-85A1-B1B4021D7427}"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9A83A009-0F55-415E-8280-33E82982AAC4}"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142EAFC1-C5CC-49BD-9A38-5A1F669D05AE}"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E274E211-5E51-45C0-8728-A99818DFB5CE}"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4936826-502A-497B-8B1A-DFC47664F3B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5E9B68B-CDB7-4F03-A280-DA54442528BA}"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4C8CECF5-C379-4C3B-A53E-71727867F01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6D226EE-C3F1-4A2E-8C4A-12AD580B72E5}"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E750FD-F139-4B8D-812D-3A7C0FCFFC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189797C0-4CD2-413A-8BB6-D9AB9545FA6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48EDD78-2C24-4B58-B721-928D5F88B33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1E1F367-BC31-4E6E-8B51-3C4AEA1FCD5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EFB2903-B1FD-4874-91E6-F023A8D5044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5280AD2-4CAF-41FD-8A7D-F8B2C2A720A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7668B656-722F-4E6E-8CBE-93F6626CCD08}"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7EAD4A78-1557-41BC-8182-7613F5C81469}"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BFA87149-84F4-48F9-918A-C828DB564587}"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AE866E7-DB38-4DED-A209-52A24E5B915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350CCA5-C35C-45ED-86A9-E9C66D63484D}"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6BD660-90EB-4E3A-BE94-EFE420FC2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1FEBF999-36DF-4E97-A6B8-61DC6DA6B81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C69CEB6-704C-4C92-BC64-B9F0C2E8A73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83D079A6-5970-4645-AC76-6CFF5C7F571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DAD851D-F8D5-4401-B17C-A5EAA47FFEB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97D1187-7A81-4905-A094-C03F1F6347F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9C9F87D-4174-43F2-8C31-CCCE403E3AB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6F6CECF8-FA0A-4DB6-B8AE-AA1D729B0D4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9CE2AEDA-E193-4C96-89D8-FD3FFB4D0E0C}"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5364E57D-ACE1-4702-BD7C-5B3DD82A1857}"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4049EE15-C4F3-4C11-8C8D-525E3032B4F7}"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1BA956-9E12-405E-89AF-79B8BCDE8A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C11DACFA-F874-4887-A5BB-64BEBF29CF13}"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93630E06-F45E-403D-AD9C-5FAA19FA4BB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E8EBFB29-66BE-495D-B93D-2CDB6A098E9B}"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6CE811E-FDC0-4F13-92B5-203900EF21DC}"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55E61BA9-3743-4A66-A137-5E3E99181559}"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9BA1E8B-2B5D-4878-9C21-7D3A38564EE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B96529D-1700-441D-9A02-89C4EB52FAF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DB249E8-F8F0-4570-9165-453DF1EB9E1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55F6875-5DEF-4546-936B-A51F94A09790}"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7DD02B84-FDB5-477A-AD49-BE099B5C67A5}"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009F10-4F5C-4411-B797-B9E1E5DFCF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C3320D00-4D2A-4046-ABAB-9C240DE9E973}"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9DCE4EEE-EBB2-40EE-BB5A-25F994623950}"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C77CD0C0-2E60-4708-A83F-B7A8AEB10DE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FB75AE41-D226-44BE-8AB8-9724F463423C}"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480A9C06-CE2A-48D1-B1C4-C40D086ED7CE}"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580DABF-3D09-412A-BDE6-2A8D153D8DCE}"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3B3AAC3F-4101-4E0E-941C-0E99E72A504E}"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98629994-C574-4727-BA59-F4252C1C0515}"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6852ACC-1A2C-40DD-B92E-84455BBC1DF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CBC5312-2750-4B5E-B196-53CE2E378B8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5F5245-D65A-4158-BA1E-E706D8BA10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1F68EFF-1678-4847-98AC-49028B360F20}"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20ED9D37-F1A1-4B4C-A8C6-9B4D549DE08C}"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1BCAAD7F-0EA8-4817-8EA3-FE491C197F20}"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E1445D52-0B27-42CC-842B-EF7CC38CB6C6}"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9CEEC1D0-6AA6-4A2F-BCAC-BCC9FD0077DB}"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C6FE0BC-F489-4FC7-A5C8-E37670C4DF64}"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5B6A43B6-6820-4E8A-8B01-2DF18B4178FF}"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B955CDA9-F276-4958-B0EA-E7FD9ACF736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FBB97817-4B16-4E68-9B9B-24CB050C73B5}"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F70DFCF-4A77-447E-9D4A-344AE515FD46}"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3B5A6-E72F-4956-8406-0327A2C50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D91100-C7E6-4B12-8B5C-10EA2C0F24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C4A3F53-073A-4661-B092-DCA34AAE25E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6588F354-B218-49FF-B213-AC05D1E19E24}"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BF71A34F-D957-4466-9957-5F7C93B3C12C}"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838F0196-7BC6-4BE2-86EC-D66A0B3D42FE}"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FB860752-5A7C-4E7D-BD92-AB3EF4EE2B6D}"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3F819424-684F-4395-ADD4-F350A429BD55}"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36953988-45F5-4E04-B711-F6FEF6CCC8A2}"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2CDA390E-119B-4CC0-84A8-E73DE6196306}"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4C747921-DA76-4C2E-9EAB-562D2C493859}"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93D90276-CCCA-4C65-A113-873D3BC7349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7B8D2C-7E87-443E-9FF3-86030FAF63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24594281-9D15-4933-A2EB-4A108BF28B46}"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BFAF5B2-C325-42D8-AC90-4863FCF2061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71D2EA4-F637-4D84-87D7-93252CBFAB6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9C52EF5-824F-4EDD-9AA0-3F6104DE75D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D2EB4EED-DC7B-4EFC-976C-BC46EA840EA3}"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76B8D5FC-3FE2-4773-9336-7E2E98EE4CD1}"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6B46A212-54C8-4D1F-A46E-B0934C256856}"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BE19A72A-DE05-4247-ADB9-82F58AFD7BA8}"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4EE8249-2FAF-4A3B-9D92-3CB95A4CBCBE}"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98698801-2926-442B-BCD2-D5030D837A56}"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94D917-07EC-4BB2-80F1-9BF49DDF92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10419FC9-67C9-4F20-A55B-A056ACF9CCEE}"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D2C15480-D604-4B0D-BF4C-906E09FF9164}"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F711B025-B458-463B-9326-9A8B16934034}"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1CA1748A-448B-4F0F-B7C1-526C27D6334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EBD4FD9-64F3-41D7-98FB-46967543179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54598737-C74C-4CFF-9765-2EFE6D8DFC4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FB42D1FF-65BD-42F3-8AB8-9DBCF6EF6A93}"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A238490A-1C40-409A-B4E9-92EBFB709A54}"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D78DB48C-C0FC-4784-BD7A-CED4A33B9C64}"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B53FCC0C-4CC8-4D3E-A7FD-BEEDAB86E63F}"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B07E65-B60A-433E-BE35-605DCF5737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69092B1-8458-4CF5-AC86-9CABBB3F64EB}"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ADCDAE71-C3D4-48D1-A2D8-C494A591A0C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7567E4FC-3954-4DBD-9E2D-6B3CDA96A143}"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C5184535-448B-44B5-8302-CCDE621315DF}"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E46897A4-136B-49D6-AFD3-18B05EE771C6}"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24F0D67-9C5B-4510-ABD5-1E9C4B71145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3EE9C60-E959-43C3-99D8-ED106E651A5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1AD1EB30-3A28-4C3F-B60C-354C067363D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D6AAB0C-E2D5-484E-85BC-20E8E360AAF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130BD106-C4EA-45EC-8E8F-F99DD3D6FFF8}"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BADEC5-3B57-4C1F-A741-58D7D90C64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B3DEA3E4-382F-47BD-BC88-98B04162E54D}"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D760C9EE-A49E-4F3B-9444-D43A914152FB}"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3D7BB532-14C6-4457-8629-7A4EB06ABB71}"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8F962721-E7FF-481B-A550-0A6F2D003592}"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186863BA-97C7-4D99-ABA0-24119696AE70}"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769F863E-83A5-4606-BBAF-75C239242741}"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6720F8DB-0233-44A8-9408-532BCDA1B56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C9B1AC5-2039-4FEC-89F6-2998C0D4528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2086097-37A9-4FD5-880D-A1E7F5C317E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1FDA0E9A-881A-4282-B9E8-4137E0351388}"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94077B-10D9-4EF3-940D-39692B54E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AC5F5622-7434-4AA4-9DBE-BBB1D88D80E0}"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74C3A642-BB90-4F84-A811-7C59B731E826}"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0FBA08B5-FE7A-4D0C-8521-12455933130A}"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69C56EF5-C4B5-496B-BEAE-0DC1D511B1DA}"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C477DFD7-6E32-4C4E-993E-58380F59AD5B}"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F0529682-6D94-42E1-A263-35DD1FD005CD}"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DE0DE3CB-9F7A-43B1-AEC1-21ED0984B15C}"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0FFAE893-8D49-40B6-88E1-32E376C2D044}"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4F9A2A2A-2E83-4A5F-959C-D4C70A97A9C4}"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EA5774F-728C-4464-B516-AD0B3B8D01D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A6D4C-A919-4FF9-88EA-E987053093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03ED12A-B59B-4606-AAA7-84A63B7EFBF2}"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5CF3305-2F63-4775-A2A7-72EAA294330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F700B475-BA03-42EA-A73D-E93D067EDB7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7518CA86-ECEE-41C0-9A62-7220143F65DE}"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D5D732D8-4022-48CF-B04F-8BCD790D96E2}"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073C352B-57F5-44CF-9A95-9485CDE1DAFA}"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7454308-DAB3-407D-98CD-3D8C68187964}"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B7362547-EF01-4C25-9ACC-0F49CB366A23}"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453932BF-A1A8-46EF-809B-4B29BEAAE21A}"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A563FD66-F17C-46C0-90F2-59F52174CB69}"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E3ED5A-0019-4179-B7F3-F38336AA22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D6ACF92F-2680-4C85-B78D-FC1129C185C9}"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7156C95F-9E49-4A4E-BCE5-9B566C22EE04}"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3C92A4D0-F757-4572-B6AA-EA97194FBA9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2F6C10B3-54D4-4463-BA0F-E534E819E0F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5C9DA233-B43D-492B-A2EA-C7D5E7B44768}"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AC5AA0CE-4E61-4F8B-8A5D-42D0244EAF47}"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E1B2632D-F66F-4D5C-B652-3EE7DDC6E040}"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FDF803-3C7F-4642-8F7E-1408195142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F1C151-E11C-4B3A-852E-5A02A05735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6F13E-FD96-4A66-8CBE-85FC38BF0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D22322-A496-4BC6-BA88-FD2383AB64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EE9C41-D6A6-4AA6-A019-EDA75B3718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D7434C-9AF9-41B2-9F7E-351F563958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CF676E-71D9-41CA-9077-27007D20B3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B70AE3-E3A8-44BC-92BC-ED9C3053AF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F5CF12-0D1F-4749-A709-0FE1A5287A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4DF36C-4E98-409B-A70F-AAAB7BBE63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47426A-44ED-4EDA-B98F-0E6C01896F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77F623-0057-4796-9B4E-D2017A48C6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240FB-F3AD-429A-8DF6-3DE2EBF20F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0C4B7-10C8-4F02-9297-3BAF50542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52C7E7-433B-4379-B8C0-1188E42C1C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E65E21-642F-4C23-8595-A4775BF4C6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A12983-6607-460C-88B7-572F85CAB5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8B086F-9CAB-4681-A27F-3544D1BBD4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89CF35-F8A8-4053-8D90-70FC44AB92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C901B9-1D49-4B5D-A4F0-41819C575A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011ABA-5B60-4C2D-942A-C92D2A2210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B4FC59-E303-4285-8817-1D675DAD55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C8C87A-BE7F-4EA6-B52A-313D414026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C9710-5652-4EED-BA25-EAA950C02A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20166-5288-457C-B833-FBC59B3CA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6E8621-C68D-4449-9391-53395EEBE5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0EBDD8-7077-458A-9CE7-5AD3614B2F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3CF1B0-33C6-45E7-827A-44AC654FCA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E62AB8-2070-4445-9FD0-F59E13B2AE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2E61CF-0A75-4648-9A41-FD70BBF231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DBDAAB-D843-4887-855E-BB69644E1C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F7CB7E-EF50-4670-9F8D-37BF645D7F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D5445A-2FA1-47B5-8174-A986132053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AA1131-943E-4279-AA71-77E1EB3F01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AD1ABF-55E7-4807-A1D3-BA9E635C80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118F9-523C-477D-8728-8C91063A6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8FEF1A-1A5B-4B27-B7B5-D073B0664F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025BF5-D7E8-46F1-BCD1-5B0A38CE51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8C859B-4639-490B-A559-4E364D82AF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0CA4D1-F349-4F70-BC6A-79C4445EB2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8EF153-6812-4E4A-BB80-243DFAF9C0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E6DB21-7B01-4926-B3A0-4D0284D63B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529B3F-BCCE-47AF-9F51-E5F208B2F9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2605B4-7DCF-4755-BBBB-5C668AA97C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57C43D-AD0F-4048-906A-2095DBFBA6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F45EBB-5BCF-4957-8C5C-984BF431684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5429-4306-4201-B5C4-FA9DB08F3BB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965E-D608-47D7-A708-72147C707C0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CB34-75FC-4ABE-BE0B-7DA83D28022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2EC4-ABCE-47E8-8327-B8B8820CD2D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D853-DC47-417D-888C-C6BED7212B4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56C3-C8E7-46F8-956C-24921AAAA23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B396-1E7A-4D08-927F-85B5A35C4CE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0A94-21CF-43CC-8C4B-22F187E354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9779-094D-4BEF-8508-63693870FB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EEEF-5B93-40DF-BEF6-49D0087324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9BCDC-1EB2-40DB-A1F1-4309A3945D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24C9-203A-4359-BB47-9507DEBE75D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82400-6754-4586-95CC-B9BF33C5A0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9BCF-C777-4045-9192-C05562EB63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8C20-0C4B-442D-8518-0F677CE64A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5E7F-FF91-4B2D-893C-85B7AA3A8D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0BF9-B684-4D22-A273-3A9AF72A4B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1A18-FAD9-4811-8296-4F795484A4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C1A4-8FE5-4663-95C1-383D997B55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3B19-D937-4A5F-9B98-81AB9E8D7F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AA4E-6A66-44A2-8609-CCC5993A63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D522-1DAD-48BF-9080-79039A8C508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69FE-364B-4873-AEA2-7E1AD9C249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C8C5-1F40-4800-A800-B8EB590B15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192E-4CA6-414A-9DAD-551A1FF63C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5B05-75C1-4055-9F7A-6204A19BAC8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AF3F-CC76-45EF-9576-532C96834E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0116-0E85-48D6-AD97-6782B3322A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69A3-05D2-4594-BFCA-F4308440F0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773E-9D49-4803-B471-901AB62039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CD67-4726-401C-9509-30D1B5DAE1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1711-7389-4515-A681-28DD84171E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1A1A-EF74-4414-AB02-FB821DC415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F1BF-1DF7-4AA4-9A8C-23DFED6F22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F195-5258-4CC0-997B-C88D5C21A16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1218-35E8-4E6D-A691-2F31D2BA9B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E0AE-4B31-4FD3-BDCE-54A89699B1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B2EC-B879-420D-AA89-A4725AFE0D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6E41-BD37-4F51-B39C-353372E6ED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D5D8-739B-4235-92CB-B9F14490C6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E8E7-313D-4852-B2B9-86DD0B6316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4201-FBD5-4D29-AF8D-80EBB72174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26F5-EC72-416C-A6C9-5B5F13267A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44C1-B86A-4F95-A1F8-B5CEEE31C03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DFDB-A467-469C-83DD-9C6E064FF77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935B-A0E6-4750-BFBB-38222D5B090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F7B6-CC4E-4558-9260-899F80BE0F1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B64CC-8C05-410C-B068-C67FD27BBDE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