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4D9B-BAAA-4F96-BA4B-A7A737B583B5}"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66F4-E515-4BDF-8EFB-011575784E8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C2E9-459E-418A-A934-2FA7857BB10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4AFB-D3A4-4A05-A0E9-BE9FB283DE2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91D3-9ED0-4D68-BB5D-D1742CE3795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6224-8B51-4302-B8B0-848711F5509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86532-0FAC-4DFE-B10B-80291A4C8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18FE8-B681-4074-ACAD-1DCDA5397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524056-7BE1-4F1F-8B8A-6E16455280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6F2B8F-CDEA-4332-A64A-F5735F5FE8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2712F6-9F31-431D-B9FC-26CFFCA540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12B793-0C47-4514-9920-37ABD30EB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CE29F2-1B40-46AD-AB8C-8D2D9B17AC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8F750A-10EF-4513-BA78-A9993AE44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614133-0956-4C7E-95A3-2AD299A452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912DFD-9EF2-41F8-B6BD-266092D95D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18DB53-882F-49E5-8020-919DB16227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C34CE0-80B7-4EDD-AAF0-98FD598965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F658D-9584-4C70-9213-6DD246CF9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462722-1669-42B8-BEFC-A518281CD7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BC5A83-6EA3-49EC-B8D2-E01A267C4B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8F26EE-211A-4FB9-9515-13D546AEBC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8A18A4-7A71-4AAF-AA37-91BBDCCE09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31C21B-383D-4F49-B3C8-70969AD0D4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016AE4-BC5E-4FD4-AEA4-2D255843A3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44DEF7-8735-486E-8D85-A39B68E7AC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6F5760-D1E3-4435-867D-360AFDA491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2BBFF2-B6E3-4130-AC9F-36132AD3A1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9F827B-4A70-4B58-9165-F4AD6D8A00A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41973-4157-4D9D-B9A8-CF33E978B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06723A6-EFF7-4EF0-9F72-8FF9B5B664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69C9F0-62CA-4C87-ABD5-BC89D539491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49676A-D409-41AE-9627-8B9193273A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7ED9AB-4B84-483A-B09F-F50E39D979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8C27AC-0F01-434E-B813-A1925DA0C8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10D2E3-B7C1-4C9F-B19A-75F7B1A02C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C7AA8A-FCDD-45B9-9C2F-CF02569E0E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C81BB1-BDE9-4BC5-AC35-AACEF16701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6CA9AB-2C47-4E2E-8F5B-E2DE564AED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195664-2026-4FB7-B10F-8028C69E75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0DE85-458F-427E-AEF1-03BCCE3B4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3132F0-F0F5-44F0-A10A-CB72E91CC1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F49BEF7-5DA1-4C1B-AE15-2D4FEF8DA9F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DA78406-418D-40FB-B2D7-42B9CEFE50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5D06B19-9B13-43CA-8AD1-CA0C4BD97F3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4F5347-38CD-4CDB-AB62-BED5CE5AC7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5C476C-1083-4F0F-A7B8-68F15519F6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BC2947-9961-47E0-B358-9D56DD8488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A798A4-800F-42D5-B2D8-63B053DF38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18ACDD-AE9B-402A-B58E-DD266EAD89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293822-CFCC-4D08-A484-2095E672F4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99B78-48E3-457B-A4A6-4C64259D3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A72AFD-A731-45CE-9CB1-0D3E9FD400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05856E-3179-493A-ADCE-1ACE3EE117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84AEE1-E82D-4343-AD95-9A688C26B6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098BA78-E788-4169-BF2D-FD838195CD6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28ACA0-3F4E-4B7B-AD9A-B788C05A64F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91942BA-5E45-4F64-B780-DFA33E96A46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167B02-0ADE-457E-904C-7B3E89134F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4DB45C9-BFD5-4722-B355-CD39570F2F3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DB9FAD-ACBF-4F42-8563-8DA9A70B2A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30E91A-5241-4710-B696-E6BD077B46D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D6338-69D0-4CB8-BCF5-2CEA13DFF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0B5B78-A410-4F97-A277-D38D6515DB0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8CFEA3-3CF0-46C6-B2E0-0C4A896B9E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971538-B6B6-48FB-B582-E705ACBEB5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49B4F5-4A41-4BD7-9162-C22C0346E8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C388D12-15C1-4587-9465-9168BE5072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184B1C7-7054-4B97-BB5C-B15FA300B52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31BBC05-8021-4A37-856C-8A1F42E58A8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1B0C9F9-5C9D-4370-989E-0F2E1762126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16B3F1-D1C5-47E5-BFC7-B473603B606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CD25116-9F4B-432F-801E-B4CB168EF07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F0C43-5F99-4876-A5F1-1B99061B6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534C2A8-7DA1-47C1-8C7C-15ED4DF2162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763DC73-CCCD-43AF-8534-A0D5D4A6FD2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354D003-9849-4364-925E-D8E2D8161F6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1FFE04-8DC3-4A7D-9578-B5923ABAE25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9A4F91-942F-4EA2-88A2-5B9C5D9680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CAE923-D524-4CDA-9AF8-A188156E4C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F440C0-1137-4878-BEB6-5F7A30A9ED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5327758-8685-4E11-8756-FC520466585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A1B6C71-7302-4F23-85FD-1F77C1C970B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689D266-4C7D-4054-AAFC-2BE7B021F14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81982-85E8-4856-AC51-B35453D89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966DDF7-F7A5-4C2E-AF54-8CE74204E0E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C354B0E-E8C7-423C-BB83-2875F2610AD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6BB1372-21FA-4D01-A4FA-891DB781460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C280E0D-CDC8-4D9B-96D6-09615CB881A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9FE9A38-C517-4946-A359-A8055BB4415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D4C5BA4-DD31-4215-A4B6-1D0F02497F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89FACF-0683-4BB5-987C-A4DA2D65A1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65F711-B93A-4257-9654-25359986BAE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57DF50-7D05-4F72-892F-2F9EE397F47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228755C-2D3D-4466-BD01-470D36935FD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1D981-66A3-4FC9-B7B7-27A96AFF8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70785F9-D58A-4EBE-AF00-7EA24276315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7D6CAB4-CBEF-4021-8556-803BFCBA64B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41BDE1C-A926-49C3-8744-0D1302F4C2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4014CDE-DA46-4B8E-981E-C20848C92F2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24B696F-3010-4887-9230-F98932E3021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29D9E2C-53D2-4DB9-9053-8F1A5AF8510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EA5AFB9-171D-4E7E-B687-C129DECF8F2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70790C9-DFDE-4F27-A18F-7AA7B4E94B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04D97C9-89CB-4B46-A974-4C77BA5B62A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A461C6-C4CE-4938-A9A8-6284287B8E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D6E28-FC1C-432A-9174-54D389982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B34A4C4-0F9B-414F-8460-896FD942B49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273DF8D-BCA2-45E9-A4B4-57B91906476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DEDC2A5-8F31-4363-A46A-8E7249BB4C6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D95B90B-B494-4765-8EFE-9DDC661D3A6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E7F2925-BA06-4280-8328-1BFB6348437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8F849B9-48C1-44C1-8F41-E5C7FB3FE01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9C77ABA-95C8-4C4D-A579-F2EBA5F5086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550EF04-E684-475D-BDB7-F178A0B6C08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C735673-8C2C-4819-BDDB-81020D3F0FE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CEEEBED-B10E-4EB3-81C9-E7D2D583708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F870E-0B3D-4262-8BC9-DEA745193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627FD-B78D-481A-AC0F-61047D97E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9E0402-C874-4D32-BE6E-5DB0A8B1668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623EEE3-A7D7-4B61-BB9C-24FC5478A2A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5D0D70C-2D60-4695-8E8C-3CBB480B4C0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FCE158A-CF83-46ED-A6F6-FE5FB9919D5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D6C87D5-063E-4E68-8468-69A9CEA7A83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6988E66-9C15-4F57-9AB1-B7E48416DEB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6AF8AB0-7782-41BA-B6BF-811B87E35D9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BDACD14-26D5-44EC-9279-1D7753EE039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6714482-417A-40B4-BD9A-D0892FAF7E0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3262C67-A00C-47DB-A3D3-10243B4E6A2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4C7B5-64EE-435B-8F55-131955FED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DB51F7E-A183-4543-A26D-6EC8068A670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E3E290-BBE4-4268-AC88-E19DC6B9AC1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66056C7-2AA4-4859-AE84-28A55440D15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CCFF4B8-2DF3-41A7-AD78-95D160ED9A9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117FDFB-0E78-4535-9601-2473EB51EE9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E444A0E-3F2B-43E3-8539-AC0171A642C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AE600A0-F864-451B-BB28-FF694A0383E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6D3746A-0087-4998-8222-D31FB8F2149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5D8DAC8-240E-4427-AE27-7BFC43C78E1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2590F30-223D-449E-99FB-3EA5AAEA782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AD5CD-BDC8-4120-8E08-C77F9B7FD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82F4B26-1B8D-4655-A711-164DDA476EB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FFBCCA6-1D15-4A65-B9B3-3E0EF589699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692D169-E814-476A-A14E-59C4B26C95C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05F3096-8FB9-4EA6-AB72-B25B866B9A6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A4D71AC-D6C5-41AB-9956-73F75569E55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9CFA50D-1FC5-4273-88B7-ADEEDA412D6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3F34486-BA31-4D74-977A-02DD97E3FA3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1C99522-0D91-49A3-B569-D1DB50C2406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4BB87CE-27C7-4876-A20F-998168706B7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9C7E957-3E37-484F-9A60-8EDF13B9306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EC7F9-AC20-493D-B136-4FEDADE71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A7B981F-DE25-488F-9461-CEAA1F302F0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4083BA4-DA5C-4B03-BDD0-BE60F6607D7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3535636-2103-49C1-98C5-C3782A31620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0690B5C-3C1F-4DC4-A6EC-4D609A59E56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7E7F047-6556-454C-A98D-C722CFA1D36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8C46308-2E09-4BA2-8EBB-0F62468F0E7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7B5E5EB-2FAE-4FC8-99F4-F92F6AFB0B0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EAB98CD-AE84-48A1-B235-EFAEEE90243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BA3EAFF-20D0-4A80-89CC-3D213A14AF9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D371F4E-22C5-41F4-BC2B-3C224479E81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B32D1-4BDA-4437-A641-591589E8E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A021D5A-AB58-4D91-969D-9E7C81B45F2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BDD4AA7-F26C-4134-BCD2-D081FF039FC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D128F79-2C78-4B46-9AB2-DA600B3B163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6F1DABF-3F58-439F-8654-7C541D6C2D7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A397681-D5A1-4F6F-AC3F-9D46CCFC44E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0A47325-6267-4092-A113-AB12AD35B47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09843CE-76CD-4E78-BCD1-9453E4E4EBB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ABD9737-680B-477F-8622-892704EC87D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F50BF39-CFDB-42AF-8971-15494FA5BED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68C1246-A9D9-4F69-A34C-9C031BE5750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09C79C-1D21-4E29-866E-E0F9C196A5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DA66101-C20F-41D5-B8A7-8AE8508A841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3AC0360-3715-49C0-8FB0-D944B627A22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5C1021D-A14B-4DAB-8BD3-43862B377D2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3DD9836-6630-4C15-927D-26E4F0F31C9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3A5DF19-5841-4552-A5CA-0BA3F565809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72C07A2-FACB-42CC-A4EC-39F55E35378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B0132C6-C4AD-488D-9932-93C637BC532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55D7644-14F8-4887-B6B2-1CEBAF6E4BE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EF691D9-2AAF-4019-9E09-37A91F603B1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4C4737B-7ADE-4CBF-A49E-D55104271D1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B5F723-7B9C-4182-9927-8E46F9965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39784F8-00BB-4E49-99DC-1F349D128B0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9C5F8C8-C10C-473F-9520-64C34DD9327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C478920-A6E0-4089-8034-731F98B8A90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31BCCD3-F537-4059-AB9A-F77514E6E37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1B22168-1107-4D3B-AF51-E53C0BB19E1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67EFDC5-D181-48DC-93F4-A7ED1E9BCE2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38CD6A5-203F-48D8-BFB2-7D0E1C47102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50FA6CF-D8D0-49C8-9CA9-F664105E824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EB37277-9FA3-4CEB-A7D1-C4D48C05543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6B1162A-A9CF-45BF-9B58-12F8C10D401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C6CA2F-9FA9-41CD-9476-2A2E5B0C36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A41A98E-0EB7-4CA8-9967-0A4A26463A1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54AA0F4-6DB3-4968-AC98-14D6132BE18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8A03E0A-670D-4DAD-AEE6-4E630EEFCA2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382518E-1797-493A-BF1D-A0CB6173CF0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7BCF664-19CE-4277-8682-55A57135B6E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E469CFD-94B7-43FA-8B10-D5F2F17D898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9E0DE7D-DEA0-4BAC-B184-5C7CF42D7B4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BCACA70-E1AF-466A-9223-D27E2EEC425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10976A1-6C67-4BDE-8D17-4482DCA948E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A00E99B-C5B9-4E5F-91C2-7B7A26AE86C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EF38F7-64F0-4352-981E-4C2996725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9B0414B-A1DA-46A4-AF5A-22CBC240DFD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A31BA5C-67C4-464B-9AA7-7EFCF72C84F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9ED22D9-7092-45EA-B5B8-7C86D1DC767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64D7D5A-6325-43AC-9614-D0532BB1B93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BE93240-5352-4961-9F24-25DD7D67F09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B2F2EB7-8D9F-4917-8715-85FF9EA6271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E4DCC75-0C6F-4BE4-BBCC-230E9352594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899C9D3-C6EF-4D8E-8A2E-859A54A3704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DB177C4-0D39-433A-A1EB-896FB7A71FC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C32C426-2EC5-42DA-ABB3-68E3B2E3699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9E2639-ABBE-4C1A-BF54-C7BD0240D1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CD2E7B0-39FE-42EC-8992-38E61501235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650C67E-803B-46AF-A329-DF7E366016A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874DE9C-76A2-4517-B3CE-D61D7890742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D9695FF-FEDB-4B60-9A5D-3440B9FD61A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B756E10-5FD7-466B-871B-D4BAF99F34B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06797EF-C93A-49DB-AA45-A2809A57608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1CF5F96-0399-450E-9373-BFC4182C87A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DE01B49-8116-4A30-95AC-F303469B4FD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A51AB57-99B0-4C9C-BD06-B924C2E6956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294469E-5681-4BEE-AC19-5D3E7B168BC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4256D-991A-4CF9-8C3B-4E5539D44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C79AD5-12C9-4541-AF9A-7D29A1EAB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5658409-0120-4737-B2E9-092B53D6622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6A037FA-3705-42CD-B3BD-CDBA701EDA7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10A336D-F0CC-4713-9BE4-401A2F20565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8C9CEDE-1230-4693-8897-DC1769D7F69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801B956-9329-4380-927A-63C21D43863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52A6403-9B9A-4D58-A857-39F6457C074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A9997D5-D6B5-4CA4-BDEB-B3C47C743E9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ABEA6B8-B1F3-4B87-AA84-AF25E0F1E87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6663255-F3F0-4C04-A594-9E4F8BB734D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F38DE13-14C7-455A-B04C-496360144B4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851C0-7647-44BF-9647-F484B090C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27D79A0-A895-40EF-8ADF-FB959D9D559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3AA53D1-DA68-4E3A-9E41-02B525C30FD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79A9198-42FE-4C5E-BCCA-528E56B3A9B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FBC8A2A-DCD9-4F86-AD1E-B4B0725C977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A658E82-07FC-4869-AEE7-3DDE9048920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EF2E378-1D17-46B2-84C0-269753C9DBA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0174027-FF71-4EB8-887A-546167F373F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4332188-35F6-4C46-9CEF-D23A5FC7505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3AADA4D-3283-4AF7-AB34-059FBBE896E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A7A7964-CA2F-4DD7-A093-03868AD2D46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BDDB5-7B62-4C8E-BB35-C462ACDEC6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39B184E-AA77-4FB5-B4B5-4EB6CDCADB1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90BEEBC-33E6-4CB5-84F2-3D86D3D7EFA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B423974-B981-4A23-81EB-457B5F0CD7E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BBCCB71-2607-4D5F-96D3-FB0C5477AAE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C76D5D0-2A53-4057-8B19-B8DEDC97389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8E3C268-9358-4043-9F87-E757C15522A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4081C12-D0F4-4448-A7A4-5193BA9DAC0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0AD8466-AE0E-4802-8866-62039DE580F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C96E00F-AE1F-4769-BA1E-363D899E461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4AC524E-BE1F-4317-8DD6-E5E18715429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291E56-2367-4DBD-9918-DB3965E89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DEDE860-7E54-4B10-BC19-A026925C8DA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F0BFB62-F911-4E0B-9749-7DCB46407AA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852465F-24A7-42FA-911B-D5B2E2F3ECD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5635892-BDDB-4169-BD5A-6EC9921B7A3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724B05D-9C56-4735-9E47-89704D0AEE2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F931B99-7918-435C-AFDF-2DE6746901DA}"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97DB587-ADF8-4A26-B76D-D667FBB1C65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51CDD991-15AC-4F52-913D-7A3896BF108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A0DB4DA-BED2-4314-BBAE-A8F0E8210C1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7DAECA1-2EE0-4A7D-A2A3-8F6B27924C1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EE1E4-846B-495D-AA05-81EA40BA87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24066EA-6036-4F0E-A042-FD5FBE6358D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09A1CBA-435D-4B41-9E17-9552243E9D6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5F24017-DBCF-4A5F-B820-CE7B25FAFE0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9B5F84F-934B-4B49-917C-E825F21D933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564DCCF-D18D-4B50-BDEA-059BFB1553B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E7D6B9A-C6CC-49EF-B9BF-AC524829388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C6373FC-7D54-403A-B64E-DBC69DED99D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8210356-D4BA-441B-AFAE-86106FF9B44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8417009-66FA-45E6-A3F0-F7938DA8D6BC}"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0C6A8AE-973F-4016-B1AD-D37645DF1451}"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39A167-EFB2-4123-9372-2B6625F1D0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F116B8E-55E8-405F-A23E-AE9C2966844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A213340-5C41-4FD6-BC4B-CB3DF26437B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61CF4B0-828A-4283-8F36-939437AA780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475650A-EEBC-4A41-B819-2B45F37DC3B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5BDA7FA-8EB6-4749-9D9D-AC016E8B262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F4FB855-72EB-41EC-A038-41AB064B6C7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4D4E9F1-BCB7-47EE-9F7E-8829B1D4479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C72170D-D987-468A-8696-209E96AEF80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C746B44-88FF-4BD3-A96B-18ED72923CB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52A2FC29-CDD9-480C-A1DA-DFBD667B6BE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9C625D-CB62-4390-99E4-4CC0520007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F043BD8-BA2C-4C7E-A68F-2293CD189FB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09E10F0D-8B31-4520-9199-9D55ACABCEB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293B7DE-E113-4DC1-B2AF-3F54525997C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723C603-800F-498D-ADD1-73F9E06235C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340854F-00EF-485F-A85D-EAF402FA44D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E04BDE5-1BFB-4A05-85BE-EF1CE298BEC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7E8ADAC-24A2-4434-B37E-40B8AD9E53C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6EE2CD2-4A3C-4100-87DC-AFBE0DE283A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9B8DF8A-E903-4AB8-B5DE-298A4509076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D19A85D-E713-4340-B29E-D290785EA0B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ED2308-6E97-4451-B2C3-FA4D54CA22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052A282-C039-4984-8140-53F2D154A9E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0C93437-40C8-4228-A3BC-D9AA71020FB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B182BDE8-215C-4D27-91CD-D25960DAF1C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F3BAC6C3-FE27-4799-B881-89D419204A82}"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91EBAA5-7769-4086-8BD0-1ABEB88FFCA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BBD1B76-67D4-4166-9EBD-A723B082557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09F4A52-9DED-4FAB-918F-2770981AC74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3CDA604-CC20-47C2-A8B8-911A42B0ECC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96302A3-8C86-4CA7-92CA-BE19592CFC5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675CCFE-7947-41B5-8270-E8E3658C492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BE0A76-1D68-4285-B541-0043B85117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AA0846C-B53A-4F76-B3A9-79662141B90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F4B73EA-61E8-4770-83D6-2798FC50265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FF054F5-D893-48C2-AFA8-CAA71FCAAE2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0E13618F-5193-4259-A029-AE59567F170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E7830361-9123-4B21-BEF6-73EE269DFB1B}"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32FABC00-432F-4F5A-A855-060BC95F0DEA}"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34FBE58-6FD5-4EF6-B755-8B5B7725BD1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FE19775-9091-485F-9668-F7473B6F637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5223091-A245-4ECF-A1C0-8E1C81ED1B9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A1F6454-E101-4554-A8A2-DFFCB6E5D90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EBD0B0-13D6-45B0-ABD3-954EDB541E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F3875AD-3DB5-47FF-82E2-461953DF303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A7C1A27-A3FD-4689-97B8-E4991C7E231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AA0BC3A-ED49-4123-9FD9-A09FCD2EDDD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7FD83F6-E368-4117-9798-9F20D1EB09C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89D7BBB-20BC-4625-A2D4-72BF8F1C205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6C07CEC6-D1EC-4199-83FB-A6C5D1638A0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D88BCDD-AB35-4B80-B99F-CD02CAF0F883}"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76BB5DD-6CC3-4FB3-A51C-2138173C04F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F1DE070-A295-4B65-BC11-6945A35B43C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266F991-2652-4867-BA5D-BF0E805E190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C80DA-74B2-4FAB-8C76-DFEC70BD2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3B756F-3753-44C6-877B-931F32FDC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E785A32-E197-40F3-B7A3-93815B153D1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5BD7B34-E077-44F1-B338-0D42869C6B8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F76E4A4-55F9-4A72-A113-D340312FC2D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2354ADC-B734-403F-B858-5D52F94E224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596C515-C4B3-4588-AF3A-CBF69507D88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7C926E5-6089-40BD-98C7-5D74DC474B1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C9EF890-7EE5-4829-88D5-B3E8132A45E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A08C8C79-A185-4035-A75F-25874F8AA0F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DAFA33B-D6A4-48D2-9C8B-87B4EC507E6E}"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25D0858-FB60-43C2-A23C-4BEA3D7E494A}"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7318D2-21CD-4410-8611-AF60BAE642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0D4F75D-1192-4FEA-9D26-E3458D41B77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93DE275-57D7-42B5-B243-CE5518E25A0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33A01FA-2AE2-4578-9E13-9DC4F3CA531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D4B9F89-DAC8-4772-9730-4E6AE12AE98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F421B9F-9A0E-48C2-91E6-6A0F4CDB4AE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D01D277-AFC2-4CCD-84CE-CE380439310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D7569CF-29FA-44DF-8429-37019DE624B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6501FDA-8F96-45F1-B3AD-A46EC64DC3C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289826D-ADF7-4DCD-8D41-5D176C19456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11B134F-C123-41CA-A343-A67F2C49ED92}"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94F7B9-96BE-4DBF-95E3-9A4BE67E03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0D2E300D-F925-43C5-BB06-E30C8DB32498}"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E39AE64-985F-47F2-A74A-4ED94F17D597}"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E8669CE-0922-47FE-9241-E7A6AC46482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F06AC21-E08F-4B4A-9617-A4947AB8FB8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AB8DA47-BA96-4D46-801E-9D795B9E889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20C86F2-4724-4CAA-8279-04383F005F7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87BFD17-6603-4552-BA1A-A9E3D75B1FE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3265ACA-EA2D-47C8-A0AD-67FB219E9D9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60EC20B-658F-4DB9-8A08-FB3719ABA70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E43DCD0-D988-4C4E-B38A-9916CA8CA1C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E58F9-0603-4DF7-A4AC-D2C88E8FB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D0BBFDA-ED25-4A36-B93B-AD75EB94F06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400E21E-39E0-48A1-A521-0D2263D3779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E78F65EC-99E0-4EB3-97F8-19431A03102E}"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FBEE87C2-1404-4E30-B665-80EC7CC35396}"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7D59C5F-E30C-476E-AC62-9F1EA2BEB3D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13C5429-3029-45AB-A2CC-A37DCC47AF8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CED51C95-B70E-4F1E-8799-8E8B5B4639B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A6085CA1-B61B-4CA3-B871-E772E65482E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C7643A9-AA5F-459F-B76A-966DC03DCE4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3D9D85D-3E71-41B9-A43E-0E4380A2E5A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71B26-6B6D-4490-8739-8EB2D00A3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77188FA-33A2-427A-A978-CB415931BB9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8EDA1EF-7F76-4494-9D15-0868A553323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0331BE6-BF08-4157-A046-5BADAF428C6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B37D717D-2948-4798-BF39-954492E91C4E}"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36E3630C-0618-42B2-9149-EACA8783EF78}"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B0A8C09D-A462-4159-A8A3-B4FACD67E4D9}"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2447A88-3EF2-4B5A-B828-67AD5F20D354}"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DA9FF4E7-2DF5-445C-AE6F-30B42394E12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D5FE0A1-57BB-4022-B2A1-735733376BB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E9065D7-0C56-4857-9589-2DAD64BD918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0EC4F-4784-40C9-8310-A853F10849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2727ABE5-CCAB-4374-9CC7-B5EC670588E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38E7B34-D62E-4214-899A-59CCED42D37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5D557BE-E32F-456A-BB85-504899786E0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FBCF6BF-DD7F-4BC2-899F-3B5103DA417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036BDBC-DF88-4336-AC7E-6B4F7877FA3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0A2C134D-DA8D-4C28-B9EC-BE8539CF3BF6}"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9942C56F-54C0-4CA5-B2FB-29327391F4B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7FBBB2EF-174A-4B6D-B1C4-F95F475ABEE8}"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3F458F5-6846-4C79-B495-56C5678D54D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E06FF3B-6DF0-4042-9B3E-2C0B9421662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231717-E722-4EDC-8D72-9B317BEAD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89F7B8A-53C1-4E98-8083-AD55D8639E2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11E65C9-305B-4F3B-8B09-1E0A0A0DB7DA}"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8FCB4B90-D317-4E09-A5A2-3A63AFADFF5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70D156B-F2D1-4535-82A1-EEB03A17894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1BC64B0-40DB-460E-A91E-3B05A5875BE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25FD10A-1AC5-4575-8573-29AD4E40FC3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53BCF32-59F1-4409-A202-1A153BF4BDF7}"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65C1C002-2C85-40C5-B107-54CCAB58BA03}"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E7BC6FCA-A28D-4E7D-ACD8-9701432FAAAC}"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BC52736C-F655-434A-AD31-333DED702DBF}"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FBCE88-C339-4AB2-B5DC-DEAF2FBC48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67ED7294-1F2C-4B41-A4EC-61E441A4635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8121F94-6386-40F8-80B1-3AEAD5FE711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7281235A-A85C-40B4-BE5D-54EADF6A4F81}"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06657B4-F138-4663-8484-954EE4851A1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27A21B6-49BE-4979-95BC-B7652877CB44}"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EADD097-3F6A-436F-9AAD-1697A008BEF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202BB4B-52B3-4CA3-94F0-918778AD09F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70062F2-AACD-47D0-AFFC-818ED172C8E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B2F21B4-9227-4D4E-BEFE-09AFE841BA8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84841C5D-2950-416A-B36B-C3776EF17B91}"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4F847F-0D65-47A1-9745-5E0BAF4678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CC16D306-04D4-4728-BA3B-E382595325FF}"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BA893B01-8A5B-4745-A6ED-5DB228160124}"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B0DBB69-E0F1-4283-AB9B-E5E45B68950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9A9A503-8C1D-4EA5-97AA-91AB8EACD71B}"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2B8839C-686E-4E91-B568-FD9F8ABB4A5A}"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851F117-FEA1-4896-B1E1-CDFF0B9DEE8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6E583A0-5A55-4FB6-97BA-E7CF1FE72CA6}"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956D4CBC-A991-46FD-97A1-CFF852D5C69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7ECF515-98FE-4D0A-920C-8B4AEE26FE2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1350736-2BDA-441B-A970-18A201FDA2C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B2F66B-0CF7-40EB-8966-F1E8A3C0A8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1E2DCE9-7E91-489B-8056-0C5783075B0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998057EC-7594-49DA-9B10-132C7ED70B74}"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C7AF10C4-7A57-4EF3-AE55-240E4ECCF980}"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27A83608-D391-4B18-873F-38DAA22F3530}"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CA51AC6-337B-4911-9F94-C7884B02703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75E81118-B867-43AA-8B17-135193F634F1}"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32517A6-6DC9-4006-9823-684FFB9F4F2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E1884EB8-6EE8-4E37-AD9F-FFA6AF93C9EC}"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B3D61E3-0FEC-4CD4-8DDC-7A60A608697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A51C3EF-89F9-4A8C-B5A5-E7E0918B132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08A36-0A90-4A5E-9FAA-75F1106AC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E872E8-806C-466E-AA06-8115EC79B7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19FE90F-AF10-4783-BA5C-225C9128E02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F82065D-1528-4F11-BF94-EA3325464BC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5E464088-F358-4E7A-A612-3FCA2C17965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E041945F-2C75-4837-BBA7-AB89AFF3ABCF}"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25EA1245-126F-45F3-BBDA-59437A650A11}"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E28A57DF-4DE4-4BB8-92D7-C4422D7F0B9D}"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453EA11-9E51-4320-A394-9E7AD94361C6}"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74585447-69E7-4AFE-A758-3622641F0560}"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EBEE3D2C-DB14-412C-BC2A-225D96DB875D}"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44AABE34-F3E7-45B9-BAAB-BD738431C6F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342A6A-F1EA-4AB3-AC45-758B2D5556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14F5E31-BD17-4E97-97F8-40C567B6DE0D}"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27E6072-507D-4ACE-B3EA-4CA1EDE6C15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6462811-0B62-44B6-9E62-0A2C40A4B0D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EC35E65-3DBC-488C-B4EE-F43061A9605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DAC77CD3-84B9-4A02-95D5-8DEAD8860E5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0A7AD7B0-AF99-4272-94ED-526565A2F66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22633F98-3BBE-4773-975F-95190A34F466}"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A6687D1E-CAA4-4852-A046-CDC0D9FDA81F}"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E2930EA-A44A-4BB1-9819-DA37B84F4F6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5AF062AA-D80C-463C-BEF7-FE4F37B46AC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A7A010-5D0F-45C9-A5B5-035B8939B9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151CBC1-C0E8-4515-A567-CAC3050922D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F860101F-3C42-4EE5-AE8D-2D34363D3676}"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1B2DA221-112C-4728-A3EC-D640F3FE1117}"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7C2CD6E-18B9-4F81-A043-095D18151A7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D38A33A-C73D-4436-B5F9-6866E1CB531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AD03065-935D-44B6-A61B-C80969A7A0B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568CA7EE-C10D-4E75-903C-185717FE24FC}"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069A6AB2-6207-419F-83F7-5268B11D8EB9}"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C682C506-4A37-4674-BC44-01FC20D0807A}"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FF8FCD21-9592-4982-A64A-99CA937F277C}"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5BB029-A911-4A92-985D-ED39318EB4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7065AB8-306E-433A-8FCD-F3A276CFAAB3}"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7E76BFD-9A79-447B-993D-F55ED22E22E4}"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6E1AEF3B-063D-45CF-BD85-ABDFD1A72CB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29DCCB7-D5A4-419B-BE20-EBE0671F47C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61EDF72C-7558-4074-8CBA-43ABA59F56C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A818152-38A3-4A4C-8ED4-2CEFCBA4948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A234A67-CE49-4BA4-AFF7-F34D3661AEF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5EAACE6-CFC9-4C5C-A319-64682FC8680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2702821-A19E-4B2F-8A86-6B696FCD07D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82D587C6-F9A5-4F22-A986-E6A8088356D7}"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6F3427-76BF-4DBB-8447-F15E0758D9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4CB55D8F-B592-4997-B609-DBFA2DA3AFBD}"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0CB38698-6421-4CFD-B8E6-0AEB5DCD9975}"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0F449263-572E-4AED-BD89-EBED26E28A4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AC2368D0-2F9E-4998-B3C9-B15B21615F39}"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754F459-5043-4E3D-A304-A5DDAFE188FE}"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A4E7807-44A8-418D-AFA0-AAD6ABD00393}"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85BC71F7-8F48-45E1-8D92-70445B34580C}"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51B2784-1A02-4B49-83B9-265E8E30F5B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ABCAA06-96AC-4D35-97BA-94266624DBA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4314B29-EE26-46E6-801E-178E2CFA666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AC7F57-65DE-4823-ACDC-F0712D78E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76687CBE-ED06-41F4-B6E7-2BA192EB20D2}"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6FCB50F5-9CF2-43C4-B88E-840274F81841}"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B5D7ED2B-6D27-47D3-8F60-0FF6AC7185F1}"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D07263F2-82E6-4DE3-AD8F-D5EE96D8388D}"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76D077C-BBD2-469C-BD8D-239BAE25FCAA}"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312DDD3-D4BA-47D8-95EC-C66AC359228D}"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34552C8D-D3F3-4DB6-BBFD-F2169F021E01}"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D1CF5BB-A686-46E9-8DEF-705F10BE88DF}"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8785FD18-97A5-43E0-8BFB-C687AFFCB913}"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A146DAA-F467-47C5-AA66-8A752C4CF702}"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0AA463-EFB4-447C-8978-5DDD6483A2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4673A07-FE4B-4A79-8353-FA8F8F10D9A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764BB9B-BE71-4E1B-9756-CD5C868F10F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806509C-4A14-4694-9CCB-E2D49EF7C8DA}"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A9FD69E0-0D84-42C6-BAEA-C2B939A6269A}"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9A93DAB0-BAC0-4B9A-93D2-3C88DF0EEC37}"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F8D1CAF3-E7AB-467B-8B32-5F9BA192587D}"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8D8560C5-C153-4144-A594-33BD0118EC3E}"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DF60F2FF-AAD7-44DE-94B7-0B701ACB34EC}"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AFB1076E-75E3-4069-AE6D-3AA331EE6882}"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E6A598C4-341D-4445-9255-73F0C34BEA78}"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E770AA-02A5-4204-A416-32D0C0F40A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A3046E83-0874-4EA9-B75C-D9DED23C582F}"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D6749F0-6CED-4431-923C-0B1869ED98E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A0B1A15-96EC-434D-A657-08EB67CDDFF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0CEEC41-6B65-42DD-8795-FDB90646C70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AC2382A-84AA-4A36-B27B-CBABDA5B83FA}"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0628B10D-96DE-40E4-A4C6-7F6E9165B753}"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503ADBD7-417D-4981-804F-AE2E340869AC}"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EE34E0-B938-481C-8CA8-3B69A4A1B3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F19B59-6C5D-4F31-8BF0-F86AF376A3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C78F3-6F23-47C4-BC2E-9CF31FA93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EAE897-2E44-40C3-85EC-CF9C54382C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8DFD7C-CA9A-40B7-B656-3E5AFFABEF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17C676-FF2D-4F74-86F6-089E384DE3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873CA2-AD4D-45B3-ABDA-F9031F20CC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61A4C9-67F2-48A1-AF42-3CCFE733F4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DAFFF0-AED6-4338-98E9-A1A2A8B3AE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9334F3-5C54-4A8B-9C6A-2B18D3F96D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2FB33E-01F2-48D2-A51D-36AE3B16D5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A22EB7-EEA4-4DE1-BDA6-A6E55036A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47DFED-025A-4C34-A8AE-864646CACA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8179B-8FFD-4A0B-A1F3-804443C8B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82E67F-8BF0-400E-9EE3-FFD5C5A061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0A5081-FA32-4802-9641-7B3A0435E2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635156-9981-4568-B71E-9AC991C8D5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88DE4C-3370-4C00-B911-EB9BACFA60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85EE2E-F818-4259-9265-FFE628D825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B27CD1-B30C-48D1-AA8B-53D4EBFE04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120408-D324-4807-A87D-3EE835056D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CED60A-2B1B-4A8E-8D4A-FB25C865FA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22D723-58A5-460E-8699-7DC6E1619A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5AF4CC-3D29-4C7C-BE82-A8A9578EA7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A5F91-E17C-4B6E-BBE9-B518FC1E5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C8B50-A720-4932-9BE4-2DF16118C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31ED8C-4E80-4DAC-8106-19BA778303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A40C03-BAE8-4470-9EF2-4A00D61349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F27B74-EA1E-4EC3-8CE2-8F6A6C4802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3E27D3-DECA-42B3-912E-53A0AC24F6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9C245A-406B-496A-99CD-CF80955A80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E41649-C7AB-4F41-8C6B-B64A85115D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63FA1C-9B7E-42D3-9766-6869DCE9C7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29D41F-05AA-48FD-9726-18D416C691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5A1015-8583-4928-90E0-877A8BCC79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F78FF-5A4F-4E63-A8D3-F52D62DF0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F5B059-2370-42E7-B5C9-D63B1CFB62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CDC0EE-12EF-44B5-935B-4454C25AB4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58BF8C-447A-49FA-9FA9-EB375A823F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28E4EB-A366-4861-920D-FB8C2E2E7B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4809A9-8CF8-4F6C-A32C-DA0D92B52D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CA0695-0D21-468C-81E1-102BE76862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09948D-CED6-4097-A946-BE683EBBCD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FE54EE-960F-43BE-B7C6-BBEF624C07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83FF30-43B7-4603-A70D-C255E199EA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331325-34D3-4F9A-885C-23A0C3298E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5376-EABC-492D-998F-8433D74C918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292C-06DF-4418-B5BF-137215D832F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08F9-2F8D-41EB-B4D5-00144B479B6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113C-5DC7-4B2A-8348-02C4EF33E53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8CDC-1F39-440F-B927-6052BC70988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1EFA-B703-4151-998F-4D91DC2B100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A85F-2EB1-4C72-A975-50471A10A3D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DCDF-4AA9-4105-8EC7-2111BA3B1A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E5A0-FC48-476B-8B5A-7F2DA3D878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08DF-2FA9-4374-B31A-61029B7DD4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18A8-C9AE-4050-A7ED-DF6F54FA9B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9A25-2549-4F65-A60E-D1AE53E29B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F2E2B-2369-405B-81EB-1E40B9164B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D469-92D5-4639-85E0-34718FA9E7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A5DB-F8C3-4CBA-AFF2-35C0C471FF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CEBD-5843-463C-9125-D392CBADA7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6C4B-5667-40E2-B86B-B32D7738A0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17F0-1E54-4D3A-A894-C8A8B3A3BA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3767-D5B4-410F-A9E3-A311B54C76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2684-EEDF-4718-8DFD-AAB88DFB6B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0D61-0E9A-4BE4-8093-C579F7440E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7697-7948-47E9-AB1A-D1222BEDCE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038A-384A-4241-97D3-1BC6BAC20B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FACF-7054-442A-B409-249C236B7D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C646-5170-4B28-B07F-154158F17F3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2372-84EC-4164-BF3C-58BFC1C7D2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1B99-9586-4CFE-A966-0551B190E5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751B-5A10-4D82-BEF8-A349CE6B73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434B-4258-4B54-87E9-1398172140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ACAC-7BC7-4178-899C-B71F9DB3D2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AEBA-04D2-4860-AD4B-27ADA5910F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B24E-998F-4998-9CA0-CDF18EA6B3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B43C-F570-4072-AE4E-093E1048AE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E811-135B-4356-970B-1BCB72A7DA0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FFD8-EFAE-4388-B55A-A962F0FBEA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A8AF-9414-4347-AA3D-D3BEC3878B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C6D4-2E94-4B37-83DA-BC25E909F1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A905-C72F-4E78-93CD-93A6326552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B2D1-A9AB-4C4E-A4EB-6D3526676E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4CD3-9094-4362-98BD-BA34B9BF99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5B84-03D9-4AED-A2CE-FBD7D44B2E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5F1B-5BC2-487A-BE29-5D93577539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44CB-5978-4294-9B5E-F1FCED0C74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1B7F-8B7A-4705-A329-F0161B91970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E06E-9C5C-41C0-B2ED-24F721EFEE9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92B6-4AC9-4DB0-8060-C2F92A114D51}"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8C0B-5700-4D54-BB8F-04AC16E4EFD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0000-234F-41AB-ADDB-0123B525C2C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