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9FDF-D450-4585-8CC6-9CB15415A736}"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79E1-F744-429A-BCB4-48887814A48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ED23F-E5DC-4E42-B7CA-718CB778F61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C514-53D1-4657-BFE3-CF905D65E71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13CE-BDA4-4989-977D-8E36E440EB5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8093-C28D-4474-AD6E-DA4D6D92B13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21740-02B1-465E-9413-BF4F765CA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77FD1-2725-441E-ABDF-B685105AA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CAA4DC-BBD9-40B2-8DD6-8F6A391D72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511DBB-9EFB-4635-97B0-8DCF8F8E82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82F8E1-7C7F-4545-908B-02F34B7F8F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832615-6844-4A9A-BD6A-19FAC0DE7E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248072-2C81-452A-AA77-9C88FE84DE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024415-9E3D-4EB0-B879-E2EF2D548B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34A3B6-1008-420C-8E2D-A99B832E5D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87C992-F858-4330-9F3A-73AECCEB23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D488E9-3093-4D0B-99AD-1AD81E80BA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621E460-FA89-499C-8D7B-370A8BF88CF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D9BA7-B8CE-4911-9DC6-07CBCB209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BA3331-E4FF-4F74-83D7-181E6D7320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0445D6-C9EB-45BD-9EC6-949487B88E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27BE26-92E7-46B2-9507-C67A078043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80C611-FAED-48DB-B582-E6922F17B9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4E7A67-18C3-4684-8E80-45FAC395CA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478503-EE06-4878-8C9F-10EAAB48D9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67F006-CBB9-43BD-9BF0-F9D2788FE3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4DF333-B16B-459C-9E26-70BF7CE734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9E3156-4793-4B48-A888-9C32A34E40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7D2A71D-BB74-4729-B57D-C3E07AD143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5C6BC-E015-4695-8A78-D5555A698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2A64AC9-C49C-417A-B7AF-3BC0CDD69BA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74967FD-C3FB-4EDB-8837-3B2C47B73D2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E397D3-84A6-4491-8776-6A0AFB2FF9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CD409D-9FC0-4261-B520-8B9B297D95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5294AB-0759-4FBC-A1B7-C2DD33C021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35D585-B9D9-43C2-BE12-EDFF86A091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435B9B-01DC-4D89-9635-8D070EF9AB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A6465A-38D8-4830-B43D-CBA5281F94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8D3DB1-F975-4AB5-A894-895D785ADB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AAF3E3-AF9D-4C9D-8AFF-04D15769FA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26B1ED-7626-46B9-A245-DA1F911F5F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0AC949-60F5-4960-825A-07F4357726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2BEACE-D0E2-421A-BA5C-EE8CAA72EF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A8F78CA-6F5A-404D-BF27-DF31F350611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7C7659B-6266-4B75-97B9-52EFC152119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7CAD7A-3BF9-4774-A8D9-89724AC7BD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B94F81-56C4-45ED-9868-3F24AAD321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2EFFFB-9766-4FE9-9328-CEBE6979B2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35D5CB-295B-48A2-AE7F-EECED35314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D14692-D1BB-44B3-8A48-FEAA2E30DC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32A154-D80A-4024-87AC-1A3211B1D0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ED913-E0AC-4F79-B3FB-951A22F4E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BB6370-C58A-4B0E-8491-0B27EFF4EB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6C81BD-2BC5-4B73-935F-5E99BE1137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F5AC9C-A98E-4890-8AAE-AE4AC9701E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4C2D26B-F134-4DDB-BFB6-A30C799F1F8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1419267-4A38-4A47-8E4D-55E7756FD04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684B834-44AD-440F-98A4-11012E579CC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F565361-7E33-424D-9842-88FB93DD7BB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53CB77-10B7-40B0-BDD8-5B6763ACD2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F0AB891-D040-41CA-B60C-58790D7B24D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6F980B8-22E3-4FC2-9D3E-2FF8FDD1FA2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8A826-427C-4B57-8169-3945B4591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3B2BC9C-FEEF-4C4D-A327-FAA26289C06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B4D1C8-B016-49EE-91B1-CAE10F1671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C9406A-1967-4421-A703-562701F586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7F8D2C-CFAE-4CF2-87AD-0582D406B11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5D0739-E276-404D-ADBE-4DADAD0FD92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24DFC4D-FBF1-49F9-BB94-377402BF307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F50131C-B166-431F-BB05-96A0D3BFE2F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47AFFF2-F00B-4BA0-B224-F0908010BFA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331D28D-71FD-4702-B272-6763D8535F6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9457237-370B-46CC-A8DF-4340FB6043A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21E84-AC25-4E49-B8E6-210F9E1F9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D7E38B4-1CCB-45CB-8A7C-F4D0D282E3C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FC21B87-C810-4870-946C-41FC44070C4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F8C6315-8036-4C8C-94FD-3011C1D9E0F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5FBF04-AC4C-4277-B40A-6074AA82D4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8F2160-3CEB-4CAC-8DC9-F3A6AAB5CF3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1D583C7-8843-459B-9E2B-4A7FB2D1C9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C644B1E-0082-4253-A03F-D5FA2DED42B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5DE05F3-AD67-4D5E-B6D8-C84C85E1FAF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42007BC-44B6-4C96-B54E-727944D0F18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F144E29-200C-4015-977D-A084683517C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20DE5-8947-4137-95D6-0B4B51799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F769251-2F38-417B-BEA5-2DA7E1B6140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CA71D56-DA98-4819-AA9C-5C05F1237C1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DE71061-F5E3-41CE-BD02-F45C212E1A1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397E011-CEB0-4F10-9DEB-CA89DA6D70C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424F61D-CEAD-45B9-94DF-9FF7B8849C7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D8C067E-3305-43D6-AE7F-9C1DE7C50AD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636B684-A240-488C-B11C-37227EBCC44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55C5A7E-C4B5-44B0-929C-C23ED41C70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E225919-F9FF-4AC7-A102-5C4F271684D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C373423-DB40-4143-9903-9A578467572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22BEE-9FDF-46C6-8362-7A538A3B1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B183047-329F-4D21-A09A-F0618E05032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E982B6E-7D3F-478A-BD63-D2B44C74E2E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A15C716-6793-4A78-91F1-443D6A271F2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A56284D-6CD4-4875-8ECA-8E0625DF2CE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9FBCAED-3236-410C-A2D4-63CF15AD10F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8EE1D6D-3F4B-441D-AB11-5D754E7DD7B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C90ADEC-AA0F-4B26-8727-EC90A00C0E8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BF17BF1-43A9-496A-BA23-00303C39E09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5FE32E3-28B9-4622-A45C-4AA3729CC26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D316465-746C-4169-A1D3-1760EFB4554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254B5-650E-4CFC-BFC7-E25D78E42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11575FF-AC46-4DE5-BF40-CD0C3C25A21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C37D1CF-7BB9-4571-A846-4499575B5B6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15EFF83-F5F0-435D-99CB-F9BE7475093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609CB78-5B14-4159-8B19-90DDCFADED6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9539875-F0F4-47C6-9566-EAD44BAE2C7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BA9C104-EDE3-43B2-8A55-B2C6AC55610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AF9AA59-9F1F-423D-8BAD-68B20ECF8D8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6C307AA-09F0-424E-95A3-BDA645254EF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2D2644B-18BF-4A55-98AE-2F468AB49FC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94C58D3-87B9-4AE5-B14C-005F5A509FB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2C9AC-0C7F-49B7-B5BE-4E54E0032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1AD18-C406-4E53-98EC-A5F9CFAC2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91A7287-41BF-4BB1-A196-8D3C831CBA1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42367EA-5D81-41A9-9084-899B7705C6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E3DF88E-BFDE-4504-818B-F105BDC572B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D17052B-7EB1-493C-9417-0A52C9A78E0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EC95F18-D149-4E9C-83DB-A60C371F438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E5836D1-25D0-4548-BAE8-B762A61FD5A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F99F1A6-8C6A-4CCF-8105-F48A02E532B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C1F915A-04A9-4135-887A-B976AFF3CBD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5DD670B-778A-4DA7-B33B-73EDD36F66B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A2C1446-3544-4940-88FB-5F2D15079C2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9716B-A2B0-4CF4-95EB-E5E31011A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57DFA3F-46E1-4121-8FFA-93B991DB394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E7FA3F9-680C-4A9E-96D9-38F2FFC37C5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1C01286-39E9-474A-90C4-8DA827C1415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731EAF6-CC1E-4731-882C-54D873AC87E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3757855-8C8A-4A45-B7E7-E971C0C0B52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2007706-095E-441D-9A41-BF78306AC70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A1B1A86-3093-46C9-A4A9-8BF7DF5F784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A78BD4A-57F2-4BE2-A064-D271F308665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E7C0048-6ED5-4616-ADEB-ED1DA3FFF2D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3740D27-E511-4B2B-8641-65005FAE471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E064C-86B4-4963-88AB-54CBFCCB3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2BB926B-B2C9-4CFD-A87C-C0A03A6AB7D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24F3D7B-FD50-4EBC-8D11-4C150C3E658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75565A2-8E84-4A0B-8725-D34FEC5F960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96AF912-FD98-4D32-A4DC-7FFCC7FF4F5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5AA7D98-A3E1-4D62-91B2-75DA55FC0AC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66F7DAB-03F0-4F4B-A27F-AA6A1E55CB4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C9DBD0C-9F43-4FF3-80EE-69B5CACC52B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34A7ADB-CC21-4828-88DD-8197B7667D9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452B71D-D4D2-47A4-845E-65F70F6A0A9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7618853-F9EF-4387-8324-3C2678D84D9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27892-8BC8-421B-892E-57D929EB8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3DD0B47-84FC-4949-8531-732C975533C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7AF0BA2-3D12-43FF-84B8-E8463E440FD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9A834B8-CE8F-44B4-A74B-1315DD82EF8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C4CD6DD-1C37-4DCB-A1B7-7B0D2A54E2A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6190ACE-395E-4199-81F4-8E0039AF9C0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C3DCB10-050A-43A5-9C22-83E3F66DA35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305B792-DA62-42F2-BACB-3DE13D687B9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655B7B7-19BA-4CFB-90F3-7CB3E4E8DCF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6FDE6D2-C4B3-4A23-BC9D-7C939ABAD22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F884D98-8477-4867-8D3F-E53B63C55BF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BC25D-621C-4F1B-BDB2-57FF71049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FF3C7AF-4619-4FF0-A396-A57A59B4C72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26E84FC-EE87-40FE-BC5E-65DB86C09B0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F803663-D5B5-4710-8DA1-BF8183EF33F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BB8587B-B1D3-4CFD-93C2-4F1D26A24BC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CD535E3-10EF-4C7A-8E42-5B39CE0F58E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F32A3F0-76CA-45F7-A3B6-2FFD566F0D7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07490BC-DE17-4D5D-9F12-077DFB2F704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45AEF12-60ED-4090-B77D-779CFE8088D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8FBEB57-12D9-453A-A459-9E5C2EDDB0F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C579CAC-55D1-4A97-9265-86EFBD42F07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6E4332-B2B6-4983-AC83-5E705062A1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2A918B2-EB2A-4854-A37B-71FCFCEFDDD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DE32A1E-8498-4E31-BF8A-B42C13E63D2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F8509FE-F40E-4D5B-BA7F-72A8F7467D3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E7907C7-3874-4607-826B-1F918497E08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D474A41-D88E-4F73-BA80-051ABDBD063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FDE052F-E59F-4CC0-9F67-1181A5881D4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9F2530E-DEFB-4290-A615-F134C0634A4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C61DBC3-AE6E-42A6-9539-94DDD634BFE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3FA2223-A6F5-4532-B718-3ED7A5B1CFC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8D78B40-A1A9-4465-A9E0-433002D99C0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E24C17-1E01-4764-861E-C6428238E9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A0D3DE6-2E5F-4505-A9B0-42A8A818A26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7C780AA-C511-45EC-BE1D-C833BE9CEEA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180829F-AE4B-482F-B250-EFB0F00356F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D0352B2-AECD-432F-9441-2B086411432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E1F4EC5-DA4C-410B-8DD9-2B31C6D4EAF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B53BAAF-1B35-4A85-8AF7-D1DA65AE5C3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4677F9D-ACD4-45C3-AD56-61A961C3167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C94BF7E-0937-4074-81A0-0622BA2C6C7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800C508-B64D-4BBC-8623-67602F6C9FF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CC07D9D-7AB7-4F27-933E-5108B8B888A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A2AC3A-B358-4D4F-A0BF-A2065D17B9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6DBAA16-1C07-4C9D-85C2-EAB0D67BD4F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88BA5BD-8DC4-4BDF-A0DB-F800CBA9215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7A80FC6-41DE-45A3-97EC-E63FD4D145B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6307A2C-A072-40A1-9BDA-97C2208435B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F4D01EC-0789-4690-966E-504191D0053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390A4B8-2CBA-418B-97A6-C1FCA7D373A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038042C-C122-4490-AC27-F7D1C3A0C31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A898CCC-2A27-4D74-9EE0-B69F2DDC116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1CDB207-4CA5-4E1E-A869-27F02679EA5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E462CC6-9C9B-4196-9983-F8327C303F6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A8D92D-3463-463D-83A0-7FFB2A2D20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9E0A871-4E33-47BD-91CE-330F8C67F2F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5B2A77E-340B-4348-9956-D029E32B6C9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442AA21-DFD9-4F13-A548-F2518E72E3C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BA45E76-F926-42F2-820B-B0FCB8C94FC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DE18939-881B-4C8B-BE62-C40618FD7A5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ECA792F-13D3-4FD3-82DE-3189844651D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372F16C-C8AC-4763-9528-E5ECFFEB16C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983AD9F-6213-472C-961F-E130F24B2A0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8182D73-25B9-470C-AAA5-0C1917D98C2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1621C5F-58A1-4708-8457-FE8872B789A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2A6FC1-CC78-48D9-A845-41F59DA367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C9FD819-78D5-454A-A36C-83E0ED83579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4E77BE3-853B-4FFD-A6FD-82242C26550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20B1766-E047-4E01-B852-987771B5315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4AAA955-D274-4D73-88B4-7B73FF0AA3F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305ADD9-8FF0-44D8-B3E9-6F68469AE0E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409A2A6-6BCD-40A2-B7DB-DEA3577A466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5234B38-5EC3-448D-93D5-CED60A6131B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8A95A11-85E1-4C40-BDE9-71F464803AD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B891063-38AC-473F-92C0-69517324791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66364F3-4708-4754-8A3A-67175A59C92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C6A50-FACA-4267-B589-6FC3A73BF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2504E1-A7A4-4E42-A30C-ED0868E4E8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37E51EA-3E6B-4876-B705-04C7A045CB6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9F62CEC-90AE-45DF-A0E9-B7442C76C4D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39CBC0B-BA04-40FB-9B21-A6C5F7BF99C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271CD5E-E6A9-470B-BD0F-FDF99B98318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61A732A-371F-4FB3-9388-B7F6AC43C2A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237B1B4-D1A5-4955-90F6-96B49E48A89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776306A-A83E-4F86-80F8-D58BCB9EEE4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2BF0323-E070-4056-9885-7FA21AFE201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795A1F8-6227-434B-A88E-261E7F1758C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1C7FB67-72BD-4374-A81F-F6FCF1F0916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C1B88D-73E1-42BB-9999-31E6F72F7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E703B05-DB6F-4113-9F26-3D07DE29D85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A4C08A6-7E11-4813-9074-524D54FCED1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AF1C46E-F4F2-4782-A9BA-E32A7339315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CFF5D54-0308-4835-B3AA-1AC35B400F61}"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D9CF9D0-1B79-460D-A2F1-2540CA1437A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EDA819C-0D3B-48AA-BEDC-8675747BC42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BC724D6-7541-4E23-B8A2-3EE9955B8BB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E27F2FB-885A-4414-A26F-74C54883B70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FD1C243-F161-4EF4-9DC4-5846C531D71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33E6813-FCDF-44E2-9FBF-7C32CCC40A4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C7B896-9A2F-492C-8EA0-4125525E87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3AD3655-CA14-4AAF-9ABD-4D482AC3CB6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F346513-7018-4E57-B565-E5CF2C9B124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2CE93EF-1195-4F17-80EB-BE53B5841C9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C831ED9-BB04-4254-958C-28F303D1CAC0}"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B2F302E7-AB46-4DCE-A70A-78DCECE40982}"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B1CCADB-155D-46BF-83F5-5538959C47AA}"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C0939EF-7613-4DFA-8585-EE2AF6B6435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5B7B28A-0193-4DB8-BB89-943D7B2F11B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9F36737-CCB1-42B5-915C-79041557D57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E39EAB3-91DF-43C1-AFA6-A04A8AE8383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757C5B-272D-4AD4-BCA0-7751417E9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FC32E8B-8667-4A15-B390-45974BDA047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C9E8843-D21E-4EE1-A239-930B19DB7B1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6E18A38-836D-4C8B-A876-D241DC50567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3712FA6-4C62-4B77-856A-431D322A380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DF9BE4D-6AA9-459B-A0F9-282E264E882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25AD9BBF-641B-4929-9EB1-8D541C1361E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5B5B5B3-B7AA-4C45-B816-E5BBC1C497E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89715FD1-0120-4AA6-B413-FEC67F904039}"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841E489-4495-4B0B-80E4-9296CA58232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33EE17C-EA6E-4CAD-A53B-9D300111CBF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09719F-65A3-47F6-9E8E-A1C796A5A1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E292635-8AB5-4E68-9093-15B590CAE46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317B4FD-7983-44D8-9EBB-5BC05B4ADCC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F9D555D-E56E-4E10-8C57-D32A84B7FA5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9B98B4A-C890-4D4E-93DA-D09DB6F3B16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EC1C239-1139-424B-B260-729B4FDB574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9BB1EAE-F9EC-4EE1-B0EB-33CD891EFAD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1F93850-F5BE-480F-BDF5-DAF812F33B7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579AC900-08C0-4B85-B900-35BD37FA677F}"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50E28C3B-1044-4E68-8BCF-51CB7E16A0E2}"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F6575F2F-22ED-4DA4-8400-595CA878A3C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A2AA4C-CF49-4D97-82C1-4B0774225E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DCB1284-1564-4B26-AEDD-372977E710D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31D3664-D2EC-41E3-9354-218B4F0AB31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4493B54-CD6D-4513-AECE-1FE8DFC19A3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0872870-F029-44A4-8C61-FE6FF667F01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D90B6AC-4600-466A-A2A9-0CA4F338BA8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1273512-4DA0-40F8-A883-7467052DEEA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858900F-35BA-427B-889A-47B5594553B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5936DDD-4474-42F2-ABF7-9CE67D88931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47A54BC-52A0-4A7A-9885-D76991014BA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F1F77B20-81B7-4054-ACAC-57BC4E78702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9C6896-C0AD-44FE-A5D3-1D504A48A1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3AC6E7AC-7FBF-4DBE-B294-E62C97DCF7A6}"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BA7F5239-576C-4779-B1A4-86443C07ACBB}"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02F5921-3A86-432C-B083-8098C2A29D1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5671539-D857-4213-934F-D30B8DA6D8C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04A24BC-AA83-4C4B-8BD9-929CD8A2228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DB18BE1-DD9F-4735-B6F1-DB0326B1C79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1252512-70BC-47FD-BE73-07C715ADE7F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C87B23D-19CE-445F-942C-DB6B657503D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F5F3018-87D4-437F-9A1A-0C0FE0799D2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838024B-519F-4650-A850-A0E5BD2BC74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453D0A-2D02-4AEF-B63E-441310BF8D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40FA471-7293-4796-BD8D-D52DE6DA913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FBB6645-40FA-4C16-82AF-162AEB6E64CE}"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2F2FFBAE-5863-4405-8249-2832EB75F65B}"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0C57EC46-880A-42EB-ADA5-901961205C05}"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7ADD40E-93A5-40CA-AB68-71F2C37F175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D235CF2-A09D-4898-8E6A-9BF120EF2A9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2737A50-31E6-49D6-9B5B-BBB6700793E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F2E9A26-96BC-4D7B-9ECF-E289CFF3E71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45C28B3-31BF-4D3A-83C8-AFC35212A1C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014068A-36B1-4629-84D6-1C55CFB0B03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66F91A-1BFB-48A1-8C36-C9038D4899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AF432E6-D391-45DE-8A5F-2CF03D14459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FC13334-190D-4741-9E4B-81FF0E7F476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3980A43-CB9B-4AA8-BAA5-ADC0A84369B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492562F8-84D4-46CD-B1F1-10AB37466CCA}"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F29E8FB6-1C03-49B4-8B1B-13DD90203332}"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11672A64-EAA1-4BAA-8A75-1C0FC73D0CCB}"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260930B-6F3E-4EDF-8DFA-663B7AD2936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B7B058F-4740-43C7-9907-488E90C5CC0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D627529-8868-4B29-99FC-7ECAA1A287D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62A63DE-698A-49D7-91AD-41FF6239ECD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9CB3F5-B78A-485A-AABA-7D1A275F58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80DE727-BCCF-48F6-8507-68A80E4665A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74E701F-5EFD-4AF7-977F-0F97421E0FC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E86E95D-D486-49D2-B2D8-1AE753B2CA6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E2A030F-169A-4E61-B3E7-8CAF8D527A2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2DE50FB-ABEA-4425-9A59-0ACD0962087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A0A51C71-C1F0-4AB6-A22D-4C7056EE5C43}"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B844F090-6A43-491B-8360-D40065A3F8F6}"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CA5DAF2C-8B08-49F3-AE3E-8318B3B55780}"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D7DC667-4973-42CF-977B-52DB6238EAB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4E562AB-07A8-4C0D-BB99-2EE673B04B4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ABEB7-2D5F-4322-8EE4-61015588F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D04BF1-4894-4C6A-AE28-C03070374F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D679B4F-A1FA-43DB-A122-5BDA80BCAD4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A9F2AD87-FB0F-4632-B567-F3232C4B39DE}"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D7FC654-5A70-44F2-9F6A-75ED7F31E538}"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3195B4A-B095-49CF-B161-63B315F684F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3BB35ED-15F1-4F8E-B8C4-20B7F238481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F6A6399-C141-48E8-B550-9150F917563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B33C6DF-1CE8-43BF-87EC-6458A550464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2CC270C5-C7C8-4F33-98F5-DFBB35B460DA}"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7F12443F-43B8-42CE-AE40-C4F4F2B5044A}"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9CEF4DBD-EEBE-436B-8576-7B639D5BF4EA}"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336A7A-3B17-40A0-AED7-ECFBE2CE1D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1F3C874-38A0-4D1D-9EAC-8A12E08A2CE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7FD993A-C591-4D86-B821-B1D3BDF5497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564E2BD-B37C-4134-AA10-8AF7E611560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F25DC0C-64E5-4084-8758-E3D321B1E35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C24B5BE-AF54-433C-93BE-0FE78D476BE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2E6E311-A97D-43A7-BD0E-F75500A70AA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85D2977-638B-43BF-B867-3A3A1E0A13B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990B00C-F7F8-4E2B-BD52-21D242E155B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8EC9061-15B0-49F1-8D47-E96CAFFFAE27}"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945E47BC-E0A1-4C29-82A8-0CE806E941E3}"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F59110-286F-4E9F-A649-220B489755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9E2E9B87-97E3-407F-8BB1-3034870B4D41}"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719D2810-2199-49E3-B151-61313AF50DB9}"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CFB3331-A57B-4361-8BC3-FA43678A94B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3D13A49-2615-4C3B-9B4E-8FC7E5A3235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1B68C50-1BAD-4151-B870-9668A7DEB08C}"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BF6A07A-1E5D-41CF-9FE6-DD7788672FA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CBDBB79-4C97-4171-A19B-DC1B60DF598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1651F2F-1753-4DBC-98AF-3595A7A3081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83C6502-15EF-4DEA-B3C7-A8F27710DD5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C4B7C36-099D-4E92-8A94-9C9648CAA7A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A5CCFA-ED8E-408F-95EB-49CB1E0957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DE5A6B4-1B34-4D4C-90A3-DA870C06783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C8A3E5EB-C181-4019-8850-CF0FE436BF1C}"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3FD53F82-2A9C-4743-AB4B-FF901B20A22E}"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8D345380-6201-4FDB-9707-F10C2083A303}"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258292F9-31C4-4434-9011-E7402A33BF9A}"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D73C3FC-A78F-49C6-976E-26FB15C313E9}"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EFAEF13-C7DF-4076-90FB-410901ADCBD7}"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04A0509-0CE0-478B-8193-EF17216165AC}"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F4C9B66D-CE35-4AD3-A98D-6DC603E9D67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8098013-653C-4A56-8512-D00B0F3436B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649776-DE89-4C71-AC9B-975796BEFF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6594CB1-D08F-4315-A95A-ABEAFFFC591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4C81EF1-F99A-4A04-9D93-9EF2315D03F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9ACB403-8DE8-4DA2-A87B-7FC9B5187CB3}"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126D6401-ADC7-4D49-B2D0-60C04B29DC51}"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AB9B7F2E-5F63-408C-B939-9026C49F487C}"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9B594E34-7046-4CF6-A45A-8E906F5338A4}"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62AB53B-2CBF-499E-907E-98241DF49D05}"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D6D031D-D31C-4471-8BF6-F707196E018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4EB35738-C837-479D-A789-E7B4B6296418}"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98363840-DD4F-442E-AD32-F77FFD9CD486}"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DEA02-21C4-437E-BAC8-8534F806F6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24D410F-812E-4E10-BA7F-85F94F3CD6F6}"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3E3DB32-3F66-4BE8-A034-1A9024B0E4F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713E0C2-540D-4DD6-AAF8-8A3C5A27142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CD3206D-DF14-406D-B89D-8586FCD0B26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B363E237-245F-4470-B3DD-AF9A6DD2B578}"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B06BF97E-C994-4192-922D-6FE96A532E3A}"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8200F9FC-6BD0-4D32-98C8-49AF3A651849}"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5B56B3F2-1660-4863-BB72-C3E801174DF7}"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E5DD70A2-968D-47C9-991D-3DD50B76F0EB}"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E12EB43-5B5A-4D15-8697-EC761322E11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7B5DC6-88DB-4724-90C0-D920C673F0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60A54914-D797-4471-95D6-67E6C5D19E66}"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55E4199D-B114-4EBF-8D47-D08EB2076966}"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83900743-8E71-4FD1-AE7D-B7CA2EE756FF}"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0067376C-1421-408C-ADAC-30930877152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67D18AF7-A353-451B-9A38-D1B4345D91E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6572024-A698-43EF-B608-EBF8BCA8573A}"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D4D3F56E-97B7-4B0E-8295-3E22F6AA1EDA}"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6BB6005C-6C92-4A08-8B16-CBE180BD1D52}"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DACB323A-09AA-4313-96BA-221939887367}"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DB9ACA84-FD0F-4981-A07B-947C1F90D88C}"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236995-0647-49D2-A2C5-B0B4DDC019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8E8D1CA6-C623-4C76-960C-AF4101E5294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E65ECA4C-CCA2-4C77-969A-8112889D0D1B}"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A79A7542-C2FA-4580-A00E-486E03C47C5A}"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804F6BE9-5D9C-4BDD-A5AF-18343801A114}"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C941151B-EF13-4B90-98CE-22B2CB577984}"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9E7AB47-7929-462C-BC26-4A9A89DEF46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1AAE59D-9E7A-46EE-A2FA-AF5569788CE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502DF00-CE9E-408F-8812-8244FB6F769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E7662115-22CA-4D44-AD0D-8409967A7A0B}"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E09B832B-EEAA-469C-9D73-ADAEF4B5745B}"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8D91B3-4FBE-421D-98E4-B4CB357ABF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CA18E031-C4C3-4AF3-9B7B-E6A74A6F429F}"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695940FB-7414-41C5-9DD0-D4450348F0B0}"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29F55B95-D7C7-4097-AC04-81217B6A433C}"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323F2D59-3FF9-4007-8A5A-AA77E92437F5}"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8C9F2286-DBAD-4E1A-9C87-E0D8827A61FB}"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F45A4A8B-B6A1-40B3-871A-75D6E955E947}"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620084D6-8F21-47B8-A797-2D163EC29045}"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A3D7E9D-3D0C-4ADC-99C0-A21B1E2A02D5}"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00A0AEE-3574-4D91-9C53-0E1D4C9F039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BFBF0A0B-65EB-4DCF-9861-933B39E090D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71966B-4246-4362-90CB-D9B2C67096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FAD8A758-BD4A-41AB-BB2F-4548C453599F}"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E3FAF660-E071-41FD-BE93-1E9EDB079C37}"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24338885-21E9-4DD7-9C6E-4494CBF9E843}"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744B24D6-258C-42C0-95E4-27F48268B88D}"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4209E7A5-73A6-46E2-BE7E-FB502D12876C}"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D5158052-BDE0-4DCC-A5CE-14595A4366B6}"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40552471-0C67-4AF5-B588-1EA01068C04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EA9A330E-B634-4AAA-B3BF-0A5A02D9D466}"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3E1C7D01-474A-4A9E-8FF1-5FC237E45EB0}"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3AA9A9F-876D-41F3-A9FB-5243F1DFD734}"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34494-346C-47DB-A7C5-963D83DA3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5275A4-840F-4FF6-834C-07F34E6AFE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3AE9142-944F-46CC-85D2-18A15F9E8746}"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114FB4E-CA6F-4915-BF3E-F8B8ADDB424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7E4FC171-A600-4CF0-86A3-99AAD8E11AA4}"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13B04417-4C88-4BEB-A58B-E22AC6BB901C}"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2FF07C7C-EE41-40FE-B293-22DE20518553}"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9C844A9C-872B-46CE-B882-438F196BA301}"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5D5179F5-3CDB-42E6-AEED-076CD638D40D}"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861695A8-0330-4227-A1D0-790D31426F61}"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43BB4578-499A-413E-9FB7-4B91888CE70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4EE62BA2-95A6-4156-805C-C660CE01E567}"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5766AD-E629-4194-BBFA-B7A28643ED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8D585C53-64D8-4D03-86DE-7A8119F7DEEE}"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F4B3A63-D7E7-4AE4-B18B-5BEAD42054F3}"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9AC1F40-2FE9-4B93-9097-AC671292FD9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182A4BEE-1AF2-4F0B-9ABE-8ED1346A545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BC51F685-9EA5-4D00-B52C-CA7389C9E10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6868B34D-C6EA-441A-A5E4-3B09AB165502}"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D860AA94-7769-42D0-A97F-38EAD8F8A4A8}"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B3461DC2-0F62-467A-8FA5-6AF91670D164}"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CCD7FA0D-D842-4867-ADE3-258C38C79B25}"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AB711BFE-2D4A-4688-8AAB-9EEAE7223C59}"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63146D-8E3E-49EF-B1CD-8980C35D32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244149C8-F313-4864-81FC-A6176BE38523}"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9CD5E163-B598-4212-AAFB-DCF527B7ACD7}"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80F2E120-D9A0-45ED-A8D9-BCAAE7B3C2D0}"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E2A8706-1EB7-4FCE-ADB7-5A563EEE110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DD30074-9A32-44DE-88B7-908D7031911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46C965A-D567-4108-9739-99F6AED9E30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C3FDE9EE-5C8A-4AC6-BD8F-57429292A2CC}"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5272450F-9D0A-45D8-80F7-575E6D52C2A8}"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5B2212D4-BAD9-461D-8B6D-374768F082D2}"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E2F8D91B-CEB8-45BC-905E-C3BC4CBD7A9B}"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500331-CCF9-449A-9030-86F60107A0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3979C315-156E-4EF4-85D7-8284C07A97B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A4AD0DA7-73DB-4772-BCC9-F1601B24DEA9}"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64CCA376-DF5D-45F9-89EA-616F187193AE}"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3392EAC8-D950-400A-BFE3-CC6015434134}"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2989B51B-EA7F-425B-AD18-42D09B9FC46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7762E9D2-74FB-4FEE-8578-FEBA9761627E}"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6EFDC57-D38F-4FA3-B768-8BDF2BD86F1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A28DCEA-95D3-4AA1-808D-970BC7B0723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77C18FA6-867C-4CC7-BCCE-BAA3FAFD1195}"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883CB136-75D4-4359-93B1-F14A2912DB64}"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D91BE3-7C6B-4D50-AAF9-BCB2161C26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2179D894-E3A7-4618-85DA-BDF039564588}"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593F7226-E112-4E1E-AA3C-21CBFD2D1918}"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835047E0-1717-4F12-AFCA-E0CD5EA9B983}"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90B28899-8875-4D58-97D1-4BC88B8EF3DC}"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09CAC278-8BA6-4F48-ACA4-950BE05C24B1}"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9C84A577-50FD-4B2D-B438-C8B3A5DF291B}"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9280822B-6237-426A-9D38-619DB05A7F64}"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2E201CB-4417-4C86-9C17-5DF395A166F7}"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65AB6C9-5887-4A74-94A2-D50B6ECD89F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E47CA1E1-1675-4F98-84C8-585D1405B84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DE11BE-AE6D-4E36-AD98-55CF7926D2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FC5A3BF7-AD39-4143-AC6E-D26071631518}"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84AA273E-092E-4889-B145-70D4C8DC0063}"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356194D2-CC4F-4A54-8F70-7B5EDD69AD86}"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8DD5E7AF-02A9-44E0-AE19-58DF56E5C65D}"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0DB3869C-C3C7-4B93-B685-0FB65AFD27F7}"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F3053618-0E59-45FC-9CC5-480A3D2751E2}"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3090827C-3A84-4A3E-BFCE-CCF69C35970F}"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B72B2F7D-8E4B-4083-9F64-90312FC98905}"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98BBF405-5054-4ED6-8EF9-7ED03C19BCC0}"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5F07C68-F43F-4883-8804-ADCAC856EDE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E36790-3B2F-42A2-B556-A32B0E03CF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11446903-DA40-40BE-B86B-65F0365E6C2E}"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528DFD3-AD72-4801-8DC6-350DCAAD890F}"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D9B6B907-E937-4E0D-B74F-09EEACCE7495}"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94C2F08C-A6A4-4B84-8989-421C1B58001A}"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5FCB2018-8D75-49C4-8B1C-392656F480D7}"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273AD288-80BA-4601-9904-54C17A737E16}"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B2C31C5B-815C-4CA9-9F45-B398CE2575E3}"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0B607641-D78E-4C88-8318-8DD08E6CDD0B}"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34813D8C-B117-4880-9362-D48C346D1238}"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AB879771-81E7-4CDD-AACE-2515BDF0A24B}"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B1D842-9BFE-4DAC-A289-560DE99616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8C144497-55A5-4B71-A536-7A71CF38D260}"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DF916A8-D01A-40F8-B9F6-1EB1DF795D58}"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CAD992B-A0A3-4F2C-8493-ECE39A0C9050}"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67684668-B391-4E36-B6F3-C0E6C5715E1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CF5F6EF6-07C7-4FFA-BA3E-E4A049131D92}"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2198A9A1-0A3F-4064-BFBE-6A435BA28371}"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68034A2F-1A18-4398-8260-4620FA470847}"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54AAF8-A3AC-4856-A538-7A712001A2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F109B4-380D-4DC9-AFDD-BE6111269E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3EA74-3AB6-40C6-8F54-DFDA4D550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0C6E98-54AA-4B66-A293-BFBE6AE5A7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72D5A3-D20D-49B7-AB77-535EC41FCF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AA10CD-0EDF-4750-B774-AC250B3E76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E83822-231F-42AD-A91A-A105343259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31AAEC-0507-420B-A67B-619A413F6A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F72C0A-B58C-4F75-B148-DF690F1119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D5FB4E-CC23-4313-8E8D-16F7F5CF2B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F8E1B3-F5A6-4C29-8D0D-28C3DFAAAE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C9518F-5D9E-4286-986E-7D59174E6A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6C3BC8-7F1E-46AD-BE8A-AAB58F920F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058BC-6735-4977-B547-66EDC5648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C8D303-B820-474C-8AEF-A8120749D8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F4C625-4C92-4D49-8595-8C76DA85F0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77F346-5AB4-41DA-8D63-ACCC8B7B15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0EE586-0A5A-49C0-904D-AF6748FCC1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E99213-AB2E-4795-BA51-3E3A059A7F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F6F8D8-86F1-4610-B8F8-E0E1DA286A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F92EF9-37DA-4FCD-889E-B6960DC44A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963D15-30CD-4912-8AA6-11D7D0D07F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7BA28E-3299-4463-B7C5-4F53F00EDA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D776BE-4BA2-494D-BB51-A4E68E19B5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1A949-8486-4C8B-8305-7E806CE9C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35A0C8-D411-4170-9180-4E1B1AB5BE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042CAD-7042-49EA-A8A6-AF4623F41F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B4242D-0E1A-4AA8-BD8D-66C2B98186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295E90-8B29-4B30-B9F8-A5228CEE36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3F04C2-FA1D-485A-9C2C-C78010A6C5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9EE414-7591-4CD5-A70F-A743A93346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94D445-966C-4E84-A6E9-3E695F3F50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343325-D12B-444F-91C8-30503DCCF7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26F22C-01CC-4446-AE41-764CDE142A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07011B-1994-433C-B5D1-345BD31AB1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BC9F9-847A-47E5-B16B-9F8E9D8E1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9CD3BE-F9FB-47EA-850B-E7EF55C816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4E92A8-26C2-44EC-BB98-6232E40327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449226-FAB3-4CFE-923F-D2A108CA64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B180DF-6720-4AFE-A40E-A86E2D600F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2D9EF3-F355-46A5-AD77-03650145BF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34F303-4DD4-4630-997C-88D5F10C5B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AA84D4-F3B9-4792-A6E0-FDEBA5EB6D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A75F8B-D6C9-4CE3-9C9D-D7A9ED50B1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6AC03F-F539-44EB-9C8C-32CFC48FD0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1E5288-44EA-48D6-97E1-610DFBFAADA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7FA0-3658-4AA1-9FA0-5D4D7DE37CC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CA50-1F41-4515-A971-85F7CA52824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405B-3167-4307-AC9B-500F5AF23A8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B249-C557-4A78-B826-9457C9DA91C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B9F22-1C72-414F-BCE8-C12710C2E82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0D2C-DCA6-4D2F-AA4F-8B72B6629D7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DF7A-057E-484F-BB44-DB77D1050D0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1EC3-793A-4F2D-A2E0-D791EAA814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B54D-E7F8-4D0C-912A-3A4591B84C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3549-F06B-4E85-B0C4-DFC379C3CD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9FF25-E345-4082-A2A5-C4E1CC609A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00CC-1BCE-441A-9ACC-9322B12EC4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80D2-B554-466C-8415-A59D31087C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D8EB-819A-4748-8390-1ADE862F43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60B4-EF4E-4DB6-AC31-4D31F94EF1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C020-50BB-4519-ADE9-D0532C8CFE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9B6A-EA0F-48EB-BCA1-8EE70F89C8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29C3-A3DA-4379-8310-2D03752526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4CC8-E9EF-4F29-8BE5-D262083D2C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8A6E-054C-444E-852E-71D154B0390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A8E5-DBFB-4697-AFF7-CC40F48C29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449E-25B5-4E26-A016-D6ED649453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0EA58-66DC-4AB1-9DD2-627F06FDE4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9A9D-6DC3-48DA-935A-5129AE8DF3B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8BAF-EA76-42CF-AB6B-CEF4DEE47F5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57A4-1D15-4023-B1C9-3AB56B0814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B2AB-357B-4C69-9D3C-20C26B3B60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F46A-894F-4135-BE19-23D3B73EC0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716D-5D72-4EC5-AAE1-188963750E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69EC-2729-4DCC-A72F-16EACA74FD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8338-8231-439B-9BFE-7419E8A6B0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6C0F-5ED4-415B-8A21-5D4C97849D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EA89-4898-4778-874F-5159F1C906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5CCD-157B-431E-9984-B0B4835F359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FBB7-555A-4B10-B406-093F6036D7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7EBE-5243-4C4A-8197-A8BAE1C3F8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48DB-A6E5-484F-B6A1-25F0973BC9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4CD2-4EEE-46B0-BC7E-162C446D55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AA0C8-7DA4-41A5-B7DD-A4383D4F8B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8149-EE23-423B-B8F3-E8E1FBA01D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9C1C-4813-4A3E-80CB-A089636CFE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F4D4-02DC-48C4-BFCF-7F07D92EBE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CEE9-1FBB-4569-A54B-ED6E66DD50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9C2C-DC44-4D4F-A51E-20FAF27CA22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E743-93E1-4D48-A9A2-3C7B83A7F82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A732-D156-425B-B0A2-1200B1732A3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E2B1-CDE1-4BE1-9B88-362A88E7FFF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0DD6-F527-4512-8D7F-4E405F4D6EA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