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C6DC-65DB-4637-BB78-5F1CD71E0CD5}"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C164-1CEC-4C32-9CF7-FC2F6C6B5F3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47A3-5796-4D04-B464-124D1213378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4EBD-1181-4057-9CD8-5A9436AD745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47EA-9957-4C1C-83DB-65C49DA1F58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56E9-2D86-44E8-ACEB-F9B5E041237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3E472-5F84-4DE5-8D7F-0D314DD60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C47D8-1AD7-4B46-913F-80752F8C4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96DEDE-17E4-4DE5-8736-C6A88C45DC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098505-0F04-4F93-86BF-91CA1A4075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A4C850-B3A0-4420-930A-D3FF952594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BB766D-097B-43F0-BB87-A0B5090925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9DCDFE-A198-4E76-95C7-4EB4C86BDF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9C8E4C-5760-4693-8457-FEFF8DFE11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31E59A-03BE-4AE8-8ADE-3174155A33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AD2078-8F86-4FC1-A0DF-36E14F1D94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9D64E8-E738-4B5A-9B8A-76B7C9D3B4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83C6BD-0F06-4BE6-8E25-8D46E98DA4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5F5B6-1AE7-418F-ACB1-19DD72497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551A80-7F1F-42AF-8931-CBE1426651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01942C-429F-459D-9126-62E2732205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177417-63B1-4F7A-81CF-A3B968DF83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5E178B-67D1-4C40-A8D0-0E29EBC175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3655EE-21AF-4A17-AC71-ED21E8F609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E3A20A-FA05-470B-9357-86D10D634C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27E55A-0D07-463B-8FC7-809CDD748D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ADF0CE-C3DF-4B56-9BE5-E10DD9B8E6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C1FC76-E336-46CA-A691-BAD3E75703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323C7E-53A7-4A2E-85B7-805192268D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FB658-B6C3-47EC-B6F0-B81E8C354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CCB555-E3D4-4827-99B5-45733276307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EE303F-5FB9-4BA1-80EC-CF8DF0A1A4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7B1DC6-8EFC-4ABE-A16E-E86256776D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D78883-323E-424E-9519-70F03514F3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BF2A08-7C0C-4899-A06A-22581B2A84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22D57E-E602-4E5D-B0E0-B2E10389DB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94DE1C-0C40-4823-A144-23FCE992C0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6B8BB1-7A1B-4216-831D-65BFE08B75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1E6CED-83BB-4BD9-AE51-08C6C9ABEC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F5E514-CB27-45E4-809A-4B229FE11A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8A358-9193-4BFD-B3ED-A17C9BE9B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B9B3B7-1D92-43B0-B2E0-B0C513DC6D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A46D5C-C3F5-4093-BA64-DC2282DC34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85F5F5-1994-4920-A97F-7A19C7A180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2FA6E2-1E99-4E84-A78D-A03B6F2BFA8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1301B2-BDA8-46AD-8B21-0DAD83DB9F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87BFB5-B169-43F2-BAED-FE5949751A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D1725B-80AF-401D-8661-135AC189A5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2B7C4F-F4E1-4D56-90B5-B3B9201E3C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C76429-A395-451E-9AEC-1C3E61EE44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2F27C7-50B0-4D49-A5D9-54042B8646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B1D10-BEBC-4D6C-8863-289B0AF21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CBDFFE-D009-45E6-B376-1E06CE0AF0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7CB7A9-CBAA-4EAD-8955-FC6BCE0D43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ED569F-F011-46B8-9198-165F7F2D21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A636E7-4583-467D-87F5-F7DEEA50EE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FAE0DA-0BEC-4B22-A46A-05FCC013A3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F198FD4-D1C3-4A05-B50C-D4553E03C07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30BA31-E82B-4618-AB30-AC3B1E44ED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556B38-DE17-4666-92E9-5A9C6C4F46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9C6D7C-0ACF-46BB-B63D-134F38847E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FA6FC3-36A5-4B46-BF5E-8BCF722D07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5B946-C938-47D5-9F22-7C7AEB791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0B4AC7-82A8-44A8-8780-0FDCF2DE92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143068-8D99-4A36-A4E8-9EC25660D0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C0C433-B13A-4E35-B1CE-1AA192D9E2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B27D27-9FFB-467A-92E8-33E1AEF797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4AEF2D-819A-4F63-A43C-4F771FCB4E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FC1203F-E42B-4B33-8016-436063EE326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D5D2BF6-A9D0-4C9E-9183-C6A4A32364F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4ED735B-4B04-4966-AA73-7886B3FADDF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4400DB-7374-4129-AF33-644981CB46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8FF9500-F0BC-448B-A5AA-410DC323E5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ECBC1-7341-43D4-92D1-5ED900A53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DF785B-EFBD-429E-9C99-89E205F2F0F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D48ADBD-5019-491B-A464-A795BDAA36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4B9BCA-CE54-413D-A171-C0D536E3CB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3E3D0E-3906-43D2-AEF5-58E1F0BEA3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481EF2-639F-4046-9AD1-157200FCE4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498188-0C15-426C-9F2C-EBC73E5016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AF19F74-1FDB-4208-934F-23E09DFBC49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59340F0-0C3D-43A5-916A-B9ABCE8AED7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40E5251-EC7D-4C4B-94C6-B9EB01E3CA7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1145C44-63A2-4100-A535-E0CA02836B4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5D978-8B5F-455E-B3C1-2A3828898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48F7270-6BC1-4426-A792-DAB3DF127F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C7559B3-EBED-4BB0-8EC3-0241EA9F7C8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6CC9970-E2A6-4C30-829D-550BC24AE46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4FA77B7-4B94-4A78-905E-3DF82091C51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3AFC513-975A-49C8-9725-1DAA37B4965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38DBCA-7180-491B-945E-B27939C0C5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CC9AD7-D8E5-4093-BE49-C4C50DC377D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540C62-0511-4808-9670-F837387BA92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B860992-9C70-4C91-B7E0-AA46044732B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B9FCFD3-5B52-4DC1-A0E2-E2407777661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40800-1803-47C4-BCA3-C16DA4ED4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6DDE5F4-EA02-4D62-B341-65FBDF06892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EA7A894-AF1F-4854-A6ED-4E7C8A2B002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205F0D2-816D-4C37-989C-CA5D49E4547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5A9229-55BD-42AA-A805-C4FC7C576B4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8E5071C-165D-4A4E-A306-29384CD1EC5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2150657-BCFB-42C2-B657-D6A6564D07D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6CD947-3D06-4EED-9D7E-20F4F7766A9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4530A05-387E-471B-A7E2-AAD1F427D0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E106FEA-8B39-4F96-BD6B-7B0111C6F5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6E08D5-AE15-46C0-88AF-DED31C30D6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B1211-9E18-4BDD-A8CE-5D1844498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134AD64-D77B-4641-B7A9-AFA9758120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5B03787-15F7-4DA3-A48B-1686AB7CE8F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35366DD-C358-4E56-A62C-16D8DADD6A4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85E6FE8-3361-4B6D-BCDE-693F9BBD992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AC666AE-69E9-48B6-ABD8-1298A46BFFD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B72B776-D5BD-4E3E-9675-2E1B42850A2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7024B08-F806-4F03-BC9F-8918227B48B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4C26C8-21F2-41F6-85BD-C94D6523048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4B3AD00-C8B5-48DF-9352-EE1FCC17DED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E6BBD0B-A94B-40C0-87FA-23E9D2BB3F4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172C1-A38C-43ED-B9CB-64C1A94A2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54586-AC3E-4825-9162-788E820B2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3CDF6FB-AF3A-4992-8999-30E00AD108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529891-6FAE-4466-ABDA-A5F01FFC62B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0D9AF59-4334-4141-82CB-39D8C671479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7712E30-BE76-45BE-B595-798EC797F26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32D6412-C566-496E-99BF-EFB36DBFFC0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D88E531-A68D-4BDB-8D0C-9C54E039F53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317D692-28CE-43E4-AD1F-4646B32184D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9B903B9-5AE3-40F6-AC2E-3468ED3E23A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6C390D4-C8F7-467A-9746-0785DF1115E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079268E-F6BA-4160-9DDA-4FBBE8388AF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DF192-DA7B-45F0-8FB9-B8F07E188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03FE68B-4F22-47B8-A225-2954848B818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F45D06E-F806-4072-8454-12272DC6791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0CDD98B-3F40-4ADF-9A25-BB36F369250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9D1AB63-23E7-487E-A08D-1C03CEBA408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346FEA8-92E0-40DE-8532-8E9AB5B9A1E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B302810-4362-4111-B7E1-EB3E56668D9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94DE1B0-E3E2-4EB8-8857-9FFA47C3BF4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86A0219-4946-48BD-8C94-6F7CFCEDCDE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8A54CBF-CCF2-4649-8AE7-12ACFA4F28D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CB5D342-23B1-422B-9042-1A491F3B8AD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39B52-7A07-4803-AEDE-ED8BE7C47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0C0F2EA-534C-4DCA-A795-97CDCF0128F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7FF1D51-7A87-4E81-831F-8B9EA1DD73B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78D0D9A-890D-4C4F-A52A-3959808F493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294CCD9-E5A8-431E-B99D-FCB62D72398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983E9D2-468A-4397-972D-ABC34C6FC62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066BA8A-DCBF-42C4-AE5D-3F79F750954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F1254FA-2C80-4FBD-9F7F-ACE1744E6C2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E1DA008-4B53-49FA-84B8-BD686E16331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BC9CFC0-285A-4B6E-A94D-13BCB074C23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6D5FDBB-6523-4E1E-9143-D73665E518E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BE237-FA74-46C1-AB18-13E6902E9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D22A370-CDB4-404D-A3AF-8394E075FD5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CF54AA8-90CF-4836-A938-A0AA50A5E1E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A9385DC-2FEE-401B-B1E1-EE32535D9B1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0456AE7-621C-4F5C-9A77-80FD9F74E5A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1F6A7DB-71DF-4329-B7F0-AEF9E14EB4E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B7E3FC2-F0E1-43B5-9E5B-2F9BEBEEB0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86D48D3-D740-4BEC-929A-DFBFAD9A871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62432A4-D45E-4E65-A153-AA559C0FC67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EE6B792-D8C1-45BB-A08B-A6764A16762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CA48D3F-55B5-4EA2-8478-63915C52AE1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385EB-6F12-4A59-B4C4-C29D21569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C78A81B-44F0-4D7F-AA7D-92CA8AE5DB4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ECC087D-ABC7-4C96-A8B2-75E9BEFE577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8BFB109-4A17-45F1-A882-CCA40B932EE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46619B7-35E9-4B28-A804-B9507102ED3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CDC8D63-1120-482E-A514-E56945E7E3A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F193A54-B98C-4F59-B8E7-6956A33168C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662D44D-F781-4D29-99ED-FA66FEF1D26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FB99626-9088-4283-9CA9-9686B5E7B41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DD1EC3E-3B9D-4ED3-BA60-36EA200523C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3F66B49-6800-4574-B828-2C380026712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1D5518-7B72-4635-9542-258E4C977C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302C5BC-4072-4EEF-83DF-296F3B299EC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8F26914-58C4-4FDD-8B4E-DAA632BDABE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073592A-4792-4B71-B59F-9663AFB44BF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38335AF-3B90-4F02-86B5-51E5B10F8A9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8C839EC-E150-49F5-97B0-2CBB7D26ED3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4725C0E-3501-476A-BA5A-176B610AFFC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0E585ED-2EA1-47B5-A5D8-AD2C11863C1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91B668B-BC81-4D3D-A9C5-97E4066236F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81ECAB1-3E96-48C2-90A7-2FE0A6FCCD7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DAC81F9-7D96-4645-962A-670EA7CFFB3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F3DDC-4E6C-4F07-B61E-EEFBE4E67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56910C1-AF98-4EA5-A0CF-3569F3AD6D5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AF81911-FBB1-4BE0-87E2-324385E0A7B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AABA9E6-0E1B-4079-AB69-EA70A76CE59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EE6F9ED-C31A-4622-8C03-18C9FB441E0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6A54D1C-5D08-45DC-87D5-A834369452C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F34AED5-2A85-4BA8-9D72-68304A550C9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AE071EC-1421-4D19-AFFC-283864E35C0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ED29555-C185-4EA8-94B7-E1C596C5D99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0C28EE1-A9C4-4611-A74F-314894188E8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619447B-0BDE-497E-9AD1-52FEF2E7BE2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46C65C-8CB3-4621-9C00-B16F4A954B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A5FA4A9-3481-4BB3-9A01-83CBA21C4B0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659F78A-6EE5-42B4-9AFE-FF1485704FF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7920A29-C322-4395-9806-955BC367014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4AC2CB0-C1FE-4C37-BBAA-B0451D0F26F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09C05DE-6045-44C8-9FC0-4DBFF0EF06A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792676D-EB36-4F43-A9FF-2DC6BB3A2E1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FE42738-2E3E-4E43-BA75-5B4EFBF71E8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322B704-C7F5-47B0-8006-E2F01F21284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948EB5A-FC88-478A-ADBF-B9829E06831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205E39E-277A-4514-8FEC-BC73A2CB7C4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2DCF1B-D114-4690-8E13-1C5D93F7F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5382CAD-9C32-4C9A-B39A-D78759ADE9A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A10EC88-E85A-4DD1-B189-FEE17075A16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D43819C-7CF8-43CB-99B0-68FFCAD86CD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283636C-9547-4551-B354-4BB7F37EF38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70694F6-017B-4467-9C6F-8FFC3A3B4CD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AC83BB5-C6FC-43F8-B852-AD660BB9DBE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4F5A7C8-2B33-46B2-AFE9-F38D34B144C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5E93524-62EB-4781-BEEB-2772DB21BA3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75850A1-6EF8-4760-93F2-A7DC4446B00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4BA7F3E-C90A-452A-84DC-64C4178D015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53545A-32C1-4032-A89B-16A5F312BA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5EA7A68-3BB8-4193-9AAE-6E938FBACD1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8C8BB71-FF6F-4273-8A96-10C5FBD0FE2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CC59B14-7869-47EF-8F40-D73283C034D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265638D-D075-4201-A7A8-AF8C613ECF0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5B1EC9F-A63D-426D-88F6-D9BE9D10CF0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4654D29-C551-4D0F-B87C-AF3455ED6E9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A903E1D-2DF2-4853-B51D-AE7F27E8FF5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E15DE5A-7EB5-4BF5-837E-5918A854459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D2B3B02-F418-46AA-BA57-A2EB00E1FCA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1560011-4C11-4F64-927B-8C3EDC5EDE5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69384-FBC8-4905-90F5-B70DAEF85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F5537A-F159-4C32-9F53-77699A85AC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6CD7EBC-2AD2-4305-8904-AE8C705BBB6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FCA2901-EE2C-41F3-AD6D-B652487BB60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FB4A46C-5C11-49DD-B936-DC8C5400CF1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6DC4F0D-A556-4AF1-BE47-8B8BC6964C0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AADF244-6880-4603-B26F-3D3DB9D487A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08F3AC6-789D-4A96-8D16-DD6DE34BDA8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807D59B-3356-48E9-922E-F593576E5B3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8510E7D-89D6-44C0-9C9D-CA9E52BAE1E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EC91975-BA34-4A23-A9F2-D3CB360E7C8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9BA286D-0776-4A16-A900-FE9C244A87C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8F81C-317A-4A62-8DAE-E81B9CFB8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479002E-3963-4A69-8B2F-3CA5D60D6A2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2015B26-F6D2-4DEB-BC10-6C837326EFF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A41700D-97D2-4467-A535-01815FF57C1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DCE8F93-4E5F-48F0-8F69-9C779698EAF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7CAFE9E-EF11-4FDD-8261-3FDE6E3A740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D397099-5BF0-4294-B56E-3BE8DDCBDB2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6549273-243A-4470-948F-284CEB743FF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3B5430B-8467-4E92-AE66-AF01645DE30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5FA8AA5-EF90-4C63-B689-B432FC6CAFC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B43601E-BA1B-4B8D-90FB-B5F94E38A08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BD02E-0DA4-4C50-AD39-CFB28BF2A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F9083EF-7F24-495A-9C43-5DEFF426EB6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2B91AA4-A624-4B38-A72F-E33BEE9D889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12D3F8A-15E9-4D71-B5D3-6D753379A37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D454227-94A7-4ECD-A9A5-01B3E080CFA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C6A5D61-E729-4EAE-AF94-B58D49654D8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1897654-0AF0-4F91-9059-2EEA8C8AC39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22A2115-1B24-45FB-B403-5DE353B7E39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D8888C8-861E-4CE4-9B35-FD126694116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CF7A9CA-58C0-4E35-829A-D2BAF22F692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290429A-78DD-4A93-B7EC-5D62B1647BA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78FD14-237B-432F-971E-BA74C0229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4B73220-5923-46A1-9B9B-6BB5CABF173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3FC2222-E3DB-4BE5-BEC1-A0532F147BE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55EE846-47DC-47EC-9F75-36728FCA490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897A532-9AF9-4A20-BEFE-5F15FC223CD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2F92900-C5FF-42E5-863B-8EDE0041364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0D67FEA-9407-45D4-875C-901E70EA3F7B}"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F9E5D77-ED87-4501-BBE6-B020433893F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A5B1646-70D0-44EF-A985-B954A18CC0D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BFD82C2-0937-436D-A6E4-37C3572B8EC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1493E15-9D38-4B34-A936-E2DFC167E29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2E39E5-CE12-4A84-89C3-633CE64CF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D587133-014C-49FA-9C79-A8459C4BD18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EC22AC2-D49A-4294-B410-49CF3158A5F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13B7FAE-3EAF-4765-852F-67657527098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3255C2F-2163-4473-A92F-5CEC807D0F6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C295F8C-000A-4ED3-8C04-0447451491D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B97A981-3B92-4AA7-8B7A-E1CC3339C58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64EC6B6-8D87-4675-9575-EA2E6E47390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9904143-BD3D-4E25-BFA9-FBCBA7F4C70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E43A9DB2-273F-4EE4-A0A7-D8D4A370928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1E4AD670-B7F7-498A-95DF-00109493BAB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8954A0-E698-4B37-B2A4-FD72B51194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23B7947-2F28-4004-A42A-1071B3178D7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78345D0-F3DB-40E0-B1B1-AD14847DB17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733344B-3FAB-4C7A-8FC5-7BE1BAD6CD3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9BF699D-CD17-4EC3-B178-01E71C5BBEC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2281B4E-86B0-4393-8E40-34A04C904A2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F889DAD-4937-475A-8258-4B22D7C9DCD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C0B0279-1DBA-43F6-9919-0C3DB6B173A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82BFDE2-78FF-488D-9323-70D88BA7300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1272DF5-F851-482F-8534-9F153137265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D5FFED0-0E3E-4EA4-8F30-D3F50BA77BB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560957-40E9-4CFA-82CA-2878313DAC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E36BED9-DFEB-49C3-A2EE-807B1E5A17B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69D05A83-FDEA-4D7E-95F8-0D75F09708D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C30FE6A-54EA-4CA1-BA39-E10AAF394B0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CEBEF15-F50A-4895-AB3C-0A553B0F60A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A1209B0-556C-46D6-9CD6-96FFE10EEDB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5C17313-2767-455A-B4CE-C81B06F859C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11B6927-528B-4B24-A4D0-C6A59525281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D270B83-1886-4FFB-8C8D-7E29FA50C9D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CFDD19D-9EBE-4503-8A91-0069E641FE8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E579D47-DA1B-4082-A376-7B0860DCD71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9D2865-6F4D-48D6-8AF0-64B073752D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15C5718-934C-4BD1-9238-2C3994AEFE9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8487842C-EC14-42F1-B937-7EDA81C8690C}"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192E035F-867D-44B9-A670-86BFCA0EBCA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F74C178-BA26-4153-930C-D1A58E0BFA11}"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1AA500E-BC92-4F5E-9547-ABFED087F94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401F5DE-CBB5-4A62-8E76-53E2ACB6A28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24E03D5-72AA-4C23-8F0F-6677DEEBB90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566D483-E0D9-49DC-8A7F-DBE13DE8DC6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C4272BF-F000-47C4-8729-8541961D6B5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8A8391D-B2F3-4AF6-875F-5E9BA5593B4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C126B3-1A1A-4303-914D-FEE2E46938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BCCE570-6547-4DCA-A744-5AE156AEBF2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077B902-63CE-462D-A783-C62F70F5A26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5FF3446-5B7F-4455-BDE3-87BE9486E6B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5AD4A51-A147-47A4-A07D-D92FC2D3105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4A22169-63C4-4129-A95C-AF1CF7CEC52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D9E614C-CCAF-4914-B399-02C0EC3FFB9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F90B3E7-BECF-4CC6-A981-5A0680F5A17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2B20824-709E-4B42-AB16-17CE2BC4BE1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8FC503A-04FE-4798-8E86-A707B8E28B5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374703B-E27C-4BCF-87C1-1A7994C614A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F2134D-31AA-4DB1-89F5-E6B41F257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C0466F6-4C73-4B67-872F-8834B724BE2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45D5DD3-91B1-4FD1-AFFB-F4401B29C85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46716E9-B97C-43DF-B7C5-C3E06476E73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2785B65-18D8-48C6-BFB3-5B794518768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3577940-C08C-4AD1-AB8E-B729D2AC032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C4E2477-8D43-4BDA-8C51-1ACE799C60A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6B571D5-8888-4A48-B349-348A8929B862}"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B960DC94-73A4-492A-8A33-EF84116A5567}"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E3E9679-F1A1-427C-BA98-9BFAA4229FA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23011F9-FD70-4ADB-8BE1-CBF62503073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CE483-93A5-4ED0-AFCC-4CEBC28C4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DBBD0-870E-4B6E-A238-E6EFBF1EF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43C7EBC-DCFB-4E02-90E9-406FD818DD5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4899D40-D424-4426-80E5-D81E3B0E8F4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7FBDFD6-61D4-4F9F-9EEF-2D1B13D64A4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01A99CF-DC09-4DE5-96FA-6D48F7EAAF0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E2E07D1-C88B-4EB4-8654-915900C41C5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422720D-595C-4480-97B2-2171DEBDCC4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AA6A2D5-300B-4740-AF4B-1F473F27585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847B870-C5C8-4D3D-A329-4BDC33A6A8C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1AB47A14-23DF-40F6-B0F3-B9062AA50486}"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3A0CDA0-3F56-4470-8066-550A5FAD775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4C062-A2B2-4074-95BD-85A6387986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DEF6C61-A6D2-4A03-AF52-1CF68B3ED8F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8E4A80B-8437-4AF6-A659-D3C0C1EE028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8665F31-505B-448E-998B-577D151DA39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1E251A3-3554-4679-AE26-63D6E890D21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FA015FE-2B0B-4D85-8343-6CFCDC2CABD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C961FCC-81D9-4956-8987-1688A21A682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AB71012-4352-4579-B106-0DACD9157B1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C032116-DE0C-44D8-A1B2-0B59CAC3917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E5DE6B1-D0C5-4BB8-9A4C-6480E294D80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29698BA8-E967-4978-B711-189A875D2E16}"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BDAA6-3D3D-4074-B88D-A3CEE2AE42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2ABCB766-14DD-4FC0-9602-0C36D6091A3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5928EF7-DFD0-4471-82C2-392D98DDD95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300275B-708C-4FE9-A62D-76F736AB66C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AEA4661-131B-4F46-B2B8-345E33EC980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9B61EFB-3DA0-4A1F-AE06-48B2625E0AB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72F2776-9945-46C5-8C3C-F73A12B4388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425E2FA-1532-46EE-8BC4-82C7BE396A2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9A391B1-69EE-4F8D-AC20-FC251B0E2B8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EFE3C37-7190-4BF8-819C-96E16887C3C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A2F6B59-C6FF-47D9-838D-99313AFE42B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BA569E-EAA1-48C8-98D5-3953F8951E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8BCB6CE-D858-4210-87A3-21A76550D10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9B84941A-D5DA-445A-871F-FFB576AEFF02}"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9E74CE10-D7ED-42B6-BBA8-8311C632573A}"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9ECB3F91-4F71-49E7-84A6-E4B91AF42612}"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FEFC3B1-B409-4916-9CD0-443E4B4BAC6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51352D9-AC2F-440A-9F2D-2E124E8A7BA9}"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D4D69E4-F42D-433D-AB7F-0B5DE3AFE6E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1CB7C90-ECCC-4A2A-BFA7-C2AE9375C12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6B1A49BA-82CC-4E0E-AB41-869B418AB86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132CD1D-B2CF-48FD-975D-E9918A9DD3A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BC9C73-D8F2-432E-A30F-AC2F24D25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C5B5F8B-D416-41B3-99DE-E624489C43E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F4984AE-4ABB-41D7-9382-69ADE99CDA8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75F9123-ED14-469C-9FE8-A62ED3F0DEA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13864FF1-9856-4802-BF31-2D52D3910C21}"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03FC1F57-807A-488E-A8BD-C612A532C5F5}"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78B3219E-49E0-499E-843A-817456B785BC}"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C44E2DE-DB6A-4143-8F5E-CBDE54571B9C}"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DD8936C-E138-430E-8E7F-5D385DBD452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4B19F9F0-9894-4612-B983-4C74880F06F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0A84C48-3CA3-46CC-9C0E-44791F2135A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A78B1-5D78-48A5-88B7-53FE6C090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5A32B1FF-3464-4FF0-B06A-BEC36E14178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3F5B4B4-C5DE-4CB0-9C03-E5C04578281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BC305BF-9C9C-4A0F-ADC3-018BD20F3D1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97C6CEC-693B-46DE-B3F2-EF81720074D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0E189B6-016B-46F4-BBBD-48CDA7E55BE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8813B9C7-704A-4969-ABD4-80FE1518A6E8}"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379AB86A-0630-498A-B716-78779A50CB88}"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89A8E00C-E9F5-4E8F-BB8A-E0A7996C47BF}"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490AA05B-8A62-4995-B2A5-EC95C4222947}"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4058545-D90A-4BE9-A8F3-468E4FAF1D92}"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2B1940-4644-4434-AC48-95846265E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5B1D808-6580-4E17-B08B-A171FD0181F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CA6CE72-D039-4B42-B8CF-D88C7091100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FFD0EC4B-A0B0-4FFD-B025-DA4BDD955B6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8C8CAE0-72CF-4C66-BBBF-CC8AF6A93BC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C682568-F062-401E-A56A-B7DAF57D5CB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4B9B0D1-4C24-42B4-BE65-8F715C8FB48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6607FBE-7BAA-4625-A85B-F50BFBFEE9E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48856779-D602-47EE-A385-51D98FA2CC1F}"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53F8A78A-DAB5-46C0-9942-78872B2EB9A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EFF4DDE8-677F-4E9B-ACD1-D7DBD42D7E78}"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AEFB04-A569-48E4-83B7-014257EDED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B2C276A-8E8C-4F8D-8F29-5C19406A912F}"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4C257AF-0ED7-478E-9524-FC61D42B200E}"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002469A-1E08-42A5-8E26-0A963375DD0C}"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4E7C253-53DB-4896-9B62-B6342D2700B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CAE8E781-1FEE-4BC8-8C1E-8054BD504D2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5192562-A1AE-4BF0-B4A7-CA60BBE7781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28F0516-DA4B-4B12-A379-956F95AC9E8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F6AC5F1-FE99-4E31-9B19-C4F9BFE1079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63E0F97-DEE3-437A-B724-EBCBE185EEA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7BEBD428-0EE4-48B1-A0A7-C9979FDC6CE4}"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BCD5EA-BCFF-4DF2-867F-61E9AE9C01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F9650855-8B67-4DA5-A549-14DC2130847C}"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89BA7C3C-9403-487D-BC08-F8BA1EA72532}"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7684BAC1-64E5-4B50-82DB-FCDE8E974E3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173280FC-52CE-4596-B348-17BC41D394D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522CCF14-D893-4BB7-8BD3-BC7E6BDEF721}"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EE9312C-FC40-488B-AA4F-9076180829FD}"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15B0E32-3174-4F74-B848-17148A41917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7696FD7-1E40-40AF-8C27-8B314CCEF0F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270C185-4236-4D56-AB39-8F6A28523D8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E329750-DA34-4488-992D-CD917BCC78F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033CC5-9E5D-477E-A745-AF0E11A64A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4BD33D8-C73B-42D2-B88D-95B9E49AE2D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B8928DED-A616-4FAC-90E2-B90428D996B9}"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694FE232-8A7B-4BB1-AB0E-8E193A68178D}"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FAF99FEB-371E-4707-B62A-82814A93C5F9}"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6411FD01-3894-4FD8-B69E-ADC8276E999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A5F51F29-B5FB-488D-A420-6F0460A57BA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9C2D578-E49A-41C8-8958-9294F5C2392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8AE681E7-CC87-4F19-8687-E085CB9B79F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F9B00FA1-5095-445F-8991-AFC6E4BCEC5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BEE1E9D-434A-4346-BF5E-010EEE19D67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39D11-CD84-4EDE-9619-E707D895C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82D876-8B27-4C3E-9F01-EBAAD4F4B2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C1328C3-65D0-4D5C-AF4F-A0A4F238D16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A539886-F07C-4E44-8C90-A43B8F1DCD82}"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94EDAF2-69BE-421F-BC39-C15FB22EAEB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3A1A998C-CB9D-486C-BC8E-1F1578E315BD}"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D2B8D756-9442-455F-B4B6-C6B7A507330C}"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8CEA08FD-1088-4BD6-88D2-D0B918A2BAA9}"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245C37D9-4875-4004-98D4-B3CD950D805E}"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D9B2D81-11DD-4055-A5C1-3D2EDBEB518E}"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5605B5D6-F8C9-4C79-98B3-FE7D745DE95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E703205-7B05-4ABB-B987-60213206C489}"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83659F-DD6E-4950-8507-9E47CF4481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99FED335-9954-47AF-8B38-F83A8EA6D6A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B0F0459-8625-4BD8-B134-E60C2B87076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AA971D9-077E-40BF-B622-A4602BBDDD9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4CE76CD-95D7-413A-AFA8-F44EA2213CF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1F24A8E-349C-4BE1-8A80-BF01157D5B39}"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C2B61E3C-290F-4A65-B60F-D92B9F475FD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2405F219-345D-4C5C-B81D-E4EAF8CDF582}"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F78268A0-93FE-4EE6-8F80-6B4DD339E852}"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21061034-64D6-484C-BBB0-1B55FB390FF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C8EDA395-0E95-419A-9041-ACDBCF8FDECD}"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947785-B67E-4C3F-8599-22668A8410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FAFAE2F6-CA92-4291-A2FE-69B8E75B406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DE54CE7-326E-4AB0-B761-E61CDC2C30C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26D2246-B2C5-41D4-B315-D7083C2A004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328E625-4C5D-4CE5-ADD2-0E0B781EEFE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8557544-C2FF-4576-97AA-B79C5B6E078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97D4E2C-0270-4826-97B5-B72C8B19A08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E0CF43C-18D8-43C0-AE55-9633A7892B7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D1659196-1502-4B38-B0D9-C7E5DAEAD405}"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8B1E08A0-18E4-43E5-9C9D-7DDFC75C0FB0}"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7726C326-634F-4B54-A93B-E3EF6A8754BC}"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2006B5-1543-4CA8-92AA-16C7BDC76D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70F10AED-994F-4B8C-87C2-F3C302B3908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A73E383-D778-4DCD-ADF5-726E5DE4C33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2AFC33A7-A26E-4818-A488-56EFB8E1383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F2362FD-4544-4D6D-8DC6-21DCC6AC433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BFEFCD8-84F8-41C8-829D-A88B53353D67}"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16AB23E-A4E2-4277-95C0-76B99B225D0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5793AE5-02DE-4383-B475-A1C8E58B3DC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15A0973E-3A70-4F5A-B0BE-E5CA1E46B24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0EDF6296-4FA6-480C-8BDA-DBD9767A24B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F2D607D4-728B-48E1-A0EC-0E521A7D2B5D}"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6968DB-C952-4C31-A994-0394BF0268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A1BDC180-E49A-4D43-9E15-DBFDA72952E9}"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56075914-0523-445A-BD17-BB0BA087ED96}"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AE7F5C3D-B4A7-41F8-B5CF-2E4D963972E9}"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C88A274-4950-44CE-B5BC-5844270067BD}"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468A316-2ACE-4864-88AE-C8C82E584BA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562240F7-003E-4882-9E82-3B739BCF437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FFDE33DA-3259-474C-AF26-2A1D2EAFB1D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780505C-B405-4661-A34B-83D14C186F4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74E5C7F-8A91-4BB3-8B30-BC5B0D15DC6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F93F373-AD40-452E-92C3-907FA5B3B69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D66298-10E5-4247-92FC-C876E034C6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EE46045D-0D87-4D71-A3B1-52B03C956E22}"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641C8ABF-4EF9-4486-A4F2-78886917B273}"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B667EB8F-7912-4D55-A479-99302E4F1AB8}"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36EDA877-81AF-4077-86C6-48A86A71EE7E}"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D998637B-4ECA-4B1B-BA38-EA3E9CD56B38}"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3E26458D-329F-4BCD-BC2C-40CEB52EBB4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A30267D7-C6BD-47C1-9479-ECA3BEBD79E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06092FA-B8B5-45A4-BFA9-E0504FFE6B39}"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5B23867-169E-45CC-97EF-8127B72A8537}"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3A0F222-399A-45F6-AAE6-60201D1CAB1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22D94-FF24-4296-B636-6EF20E0604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346BD10-F5AA-4BF7-94D4-7C523109F9E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10B84D7-2BA0-4332-B384-6FBC4522CF4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BF026AC-380B-4E5D-8CB5-2E1B37519F3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1C1D774B-9A15-44E6-9158-C33A62559A7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62497B65-4459-486D-A4C2-96CCFE8B6208}"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345793EA-9141-4B37-8077-FA08054835DD}"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E23E0861-949C-4A96-8BE2-6E3238AC383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4A062ABF-87EC-4337-80D5-82DCCC0934D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1E73D050-ADB3-40BF-A4D1-6E875FE8ED15}"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D9A7864-B96F-4A8E-9938-5D684A3DFD0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149F91-3785-47B0-83F9-A4C94E872E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61EAF451-DE73-4F1D-9633-4062365DE25B}"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D661846-8A47-4BC9-9B79-0583DD1AF3E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543098B-B3B2-48BD-A811-9CF886C7BD1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8BBC929-6CE3-4B39-B498-47BE5030988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BF30252-F6BE-42B7-A47E-5448AE20B6F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78F57A5B-ABEE-45B2-806C-ECAD58F87D40}"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65A200FE-6088-4059-87A1-457C1B76829C}"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26D414-CB19-49CF-B196-4395C34A58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BE0A52-3F67-4B6D-BBC8-F610C5E4BA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F04CD-439D-4A53-84B0-0C1B7B6B3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5AF129-8F35-47C7-B89A-F1878A8523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70903E-B5E5-4429-A994-180032C8AE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A1C488-6C38-43BF-A839-6D8AB682CE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3D13F5-D2FA-486A-BF38-F5F8A34064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A721A1-296C-46BD-A7F9-F53C8AD659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B4CE6B-1350-4917-BBAD-328D3A1A80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2228AC-05B5-4CE5-8693-0C5FDA9193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8BFF26-C365-4095-AE10-2A6E842095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757771-26E9-4D08-A3FF-BBF7994DB3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A3DA01-6BC7-4547-AF94-DB8966AF7D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B2AC1-0238-4BB0-8516-E521FA10A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6C9D7E-4AB8-477B-BDA0-9B5DC738E5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551A60-C4CB-437A-B712-965062B195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47CFE6-DBC2-4835-81C0-1C7CC89112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CE824D-60D1-4E3B-B06E-795B8ADDFB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018A25-F0AD-4C3E-B5F6-00EE462C6A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ED8B3F-850E-4E9C-8520-DF16990F2A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86C53B-E2DD-4EBE-8B63-B46D23DE61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238127-7235-464F-B34F-2978C2EDBB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EEF3B8-0A44-4575-87E4-6D648B87D0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F85664-BDEA-46EB-AE32-DA81F8565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993D-473C-4278-8CF1-9F9DD9750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934D8-5B43-4D24-B075-D8E17D2DAC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ED5E3E-BD2C-4FF2-8D1F-29EE41C45F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99C70F-9FCF-4E6E-84E9-4AD0B9ADEE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F719BD-1813-478E-B4DB-7C16D14C4E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51F328-8D23-456C-9274-B9C29068E6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2F4502-C231-403E-BFD9-02D058ADF1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C36BA6-5C4B-433B-B7F2-8B8553DA5D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EF2D21-248A-443E-8B36-68609EE186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7A1D7B-9285-42DE-9A70-0038014795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31B712-107B-42D4-B529-CF3FA66F7D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E8086-A034-498E-AA37-19FAFDDB9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332AA8-EF6A-4B27-86E7-F177E695B4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7150ED-86F9-4BCE-AE0D-E7EF87567F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514D20-BF50-4C3E-A0FF-8B2CEFD907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4BDA7-40AB-4217-A79C-7DF9985BED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16CCE0-C72C-4ADA-8ECC-DB0F1466CA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6A8CC7-F7D4-409D-9421-F9221B7C64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4F4227-BB67-4967-9DB6-58BACDF148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AAB88B-8951-40E6-B593-DD23520A0F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72BAE1-43D2-43CC-84DE-BE6B272F9D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FF5C17-8D02-458B-ADAB-9265E97899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BB0B-4904-412C-8DE1-823695C26E8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7B3E-0E49-4CF7-9F07-DFB632B8A69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7EFD-48A7-4C4C-ADE5-CCB03572F0F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AE61-BC5F-4EAF-9814-F1CD0F50436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21E0-0D96-496F-84B8-DAED4F34B40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C622-580C-475E-87B3-180A4D9330E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D48F-BF6D-4B4C-9DD2-6EC0F81763E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CA49-6F9A-4D1E-B185-DEE845572F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502E-16BB-47AD-B49C-46E917629B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7270-98DB-48B3-9CEA-FF321BDBE9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4AF8-DA25-4BAC-93D9-F683E2E6D2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B277-E315-44D1-862D-6F50FFD0EF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47D8-5991-42AE-9099-9462EBB9D3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EBC1-66CE-49B0-A146-11ABD6FA00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0401-1A2F-4C3D-814C-34D78CF6D2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F061-8A02-421A-BC73-119D025D70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51EF-F3FC-4DAA-8B59-4BB85A427D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1A21-FFDA-435A-B065-222E45E0FC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8F58-9BB2-4C37-AE1B-3717EB0B82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E512-873D-4740-924E-E122681322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D5F7-C489-420A-B379-43A32413D0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EFE0-33B6-47F0-AC65-C506B64334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1185-AF0D-4EA4-B7E3-D5D5158C56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A0B1-F8F1-4CE9-A4F4-AF105F7AC0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FD20-6213-4587-BF37-A89249F307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A85F-AEB0-4F5A-8D43-C61AC2599C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3397-C6C9-4385-B1E6-5DD2445CB0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1BBD-E6F2-4561-A0E3-8072C32A72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AD3E-4FFE-4BCA-8D06-637DB6EDB7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4E21-C240-4D92-9811-D77F8AC271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5B85-512A-4BA4-8CA9-43B0AD2E55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390D-8B7D-4962-96E0-6E361D871E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34AB-D536-4AE9-8D6F-DD7E9329C5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1A48-C4BB-4F49-B658-54F41128BB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C076-41DD-460D-B877-3AEF84B872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EFA7-48FE-4FCC-9122-F9D65232CE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4808-1693-40E9-AB8B-D4E10C229D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9E04-F50D-4ED0-A008-00D952D8D0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1B81-FA6D-4403-82A5-142E4A623B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53B1-BB73-4466-AB85-19E2AD6289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9BA7-9BB1-4209-9725-D415F9EE19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8AE6-2739-4448-BC33-C275A50CA4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E46E-55EA-4398-9218-1F4EAB6876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460E-48D7-46DE-8FDD-1680817AB9F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4191-C629-495D-BC93-3B160CEE68A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A86C-5D4B-4BA6-9BF7-90C54005291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D784-0DE3-405A-9154-8ADAF86C7A9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5829-C675-41ED-B3A4-F4D75618966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