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A210-D601-4782-A884-10D8C8265356}"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9F71-FB64-414C-A714-CA132F63BAF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5E24-62BD-479F-8BD2-00849510EB7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C6FA-3313-43FC-9349-9E7E68A7D5E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82A9-94BE-419C-BE68-1837D1AB781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3E5C-9ECC-4FEE-B5BE-45985B31923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0FBE0-997E-4347-9EB7-15309901D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75051-E341-4C21-970A-EF870C572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D8BA7A-B064-48D8-98C5-E4CBD75512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F39DB3-31D6-42C7-8CFE-2C3B099F7A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3B9796-52CD-4CC1-A444-30B4C60C54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158653-3F68-4AE8-9BD7-3C5461C1BC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F92A43-A7C9-4D40-AF87-D1E49F8F97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8801EA-8C30-4B67-8C5B-03D51FA332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87C646-4749-4039-80DE-E4FFDDF62E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B79CC9-A827-4F31-AA71-1B57CC93DE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A1B9E1-B592-490D-BA97-F9C8747806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B5E29C-EDE5-4F02-8041-9F260F7BC6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D2BCC-1E5B-4571-BC75-868D7C0C8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FF5EEF-22B4-491C-A6CD-AD2E714CA1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0F0802-81CE-4D95-BED9-C4525E5FAC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86E701-50DC-4B1C-B4AB-F8DA523833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334DCE-71E6-4C45-98C9-9D64DFF5C8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B06280-CD2C-4D8F-98BA-304F139634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D1C1E9-827A-42AE-A481-3936C03F6D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6A6C5E-B124-4CFD-854C-DFE0D0F15C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3C2573-7439-4D46-AA02-97E59E897A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8122C3-4FD2-4D6D-B0FE-C65767A67A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ACFBE5A-BA3B-48F7-B199-9AB0A174C0A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96CE9-EC05-413C-92B0-5EED5942E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D7AF20B-107B-4F07-93B0-E36F202E4B3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1D61664-5ABC-42C7-9562-581A26288E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88489F-E53B-479D-B097-59E2933531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C22B4C-E090-47F5-A64C-7A2AC63A74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025E27-BF1A-4B16-B8B0-B113B66C2D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ACC6A9-9F5A-4509-9789-4FEBEA99EC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8F56F1-3870-455A-85B5-F196E26747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7E4DB2-2346-432E-85B3-274872A0FF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6FA24A-A030-49FE-8532-55ECBCE619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BE5BB3-6909-4F43-A6C4-2626E55433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E1830-F23B-4890-9677-235380C48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C1240A-90BB-45D9-84E6-4A7B85F74B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80085F-9D45-4A05-98D5-E71B6DF722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9D53A6D-5A8D-4B2A-95BE-6E2E03A5D4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621ED25-B025-402D-97F8-B3FA57F098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3E898D-4576-4761-9CBC-B7FD1F9FDB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8F168D-D8F6-4232-95D7-702AE0C52B5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367EAE-51D6-46B6-95AB-0AE8E98F23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1BA93E-F208-4103-94FF-944DE9C5E6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82F257-D338-429E-8220-34D8EADAA0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58F94A-24B0-4F01-97D6-3C5F081E2A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CD15A-D6D7-4919-9831-2409C2536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5EA172-9566-45D1-BF24-33E3558A05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D79E6D-C831-4061-83A1-5E03C335FE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926231-7DDC-45AB-924F-1615869471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FB4B1E3-0E60-4839-A628-B21AA8BA76B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93B9697-75C9-49E2-8159-45BA32BE251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86D9BFF-F753-4523-9E56-CE75521AAC3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59F8068-98AA-4807-8A5E-3C2F2B095E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0D2357E-1C62-456C-8CE9-6070E24CF3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41F8E2-482A-45CF-97D0-990D8DDC22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14E6A5F-7DB2-4911-8C0A-CF73ECC735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66256-1C25-4DCB-A64D-8914B9D86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954ED7-1865-4F6D-802F-DECCD5E7210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3EA106-EB46-41B4-9DE9-28F73AB54E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62B918-51AC-4586-8EBF-69BF094D24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F36F6E-A1CA-4307-86C6-2CF445616B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F517B85-72DD-4840-AB39-3D0323C1004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98FFE00-2586-4B60-B00B-040A85B4034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746F68C-AEFA-41CE-A15D-6C81425E536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FBF905F-95FA-45A5-A197-3CBA7EFC401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628D30-FDAC-4221-BD32-188C69D9205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61C5BBD-1965-43E3-A55B-51755A6B32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B4275-E299-4AFD-9635-3500F2F19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7C3737-5DB7-4C7D-914F-70FA5EA208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32F220F-D61D-4916-97B3-5D1B2170079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CF7C622-618A-4C05-9D3B-F8AF0F47AC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76721E-7E96-4675-9B37-E2722A0335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CE88EA-D4C9-48E8-8727-842ADC766E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ACC7B7-9F33-4114-8B25-813039F84C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EA34AC-6E2B-4A6D-A6F5-AD2E22AA8F2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B26B2FC-CC6E-437A-8246-E063FC8B9D5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04F74B0-60B9-4632-AF05-25E211C9310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631CD77-053B-425A-8FE6-59B858883FD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7623E-0D34-40C0-9B48-237CE33AD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4A912C-602D-4A02-9775-6A797A11BDB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D4FB270-CF83-4C5B-B0AD-3DBB0E5581E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8415859-A7DC-482C-AA2A-490D5B36C90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1ADBC4-CB7D-4E6C-848F-B1FF06AFA8C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B8C4F72-8AB8-4C73-A63B-AF7C1A5F11F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35FE5D-F3F9-4D49-865F-1CC91490153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F7073B-8D0A-46C6-890E-B61404194C1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6774FA-29DB-4989-AD5C-29FD461D520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62A50E8-0828-4C03-A908-E70A634D2D5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3FDD920-3E0A-4D73-A809-BD8A4BCDE30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6DF8B-0C3C-454D-BAF6-C43092930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D043F7F-3645-42D7-9495-FF432E58158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B961A31-6B83-4AB8-A74D-6A6E89BD7B9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99C54C-5F7E-40DF-BE00-3537BD2587F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C264C84-941B-423E-9917-658E807CB2F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97DAFA6-BF5C-4CC5-BDCA-7DF442612DC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05BD38D-56CA-4BDA-8DDB-01A51252504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C08C854-1B42-4268-80F5-301E0DD2DE5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5AC2BA-9732-4035-8C9B-3BCDCAE0A6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1CF974-5B69-4E5D-B14C-CC1A350BB65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8EDD4F6-3E97-4323-A4B7-83B9D768EBF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F7107-E65F-4B7F-AF00-5113EE566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159D475-83CE-4230-9611-FB62BB62087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5C29088-E834-4F42-A8E1-D05B01D1D8B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53B5054-67F5-400C-9B6D-007BA481FEB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8C5EEAC-FC43-42AD-9E87-BBB9A46BC1D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9791F8B-263E-4BD1-9FF5-C5668E98260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8B40D51-F7C4-4AE2-B37C-AC93030F195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227DCC9-E690-4261-A739-79081AD9E93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12DCB34-CDEC-4596-90F8-51F37516883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3C003DD-EEBB-48E8-A05F-90283A4BCC2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0454E6F-9E34-4BFD-8D3C-13B95CFC00C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3CE7E-2F1E-4545-A1E5-E2CA3AE24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75AE9-82BB-497D-9F6D-3D333F818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E1B64B7-69DD-4222-91AB-3CBD6CB1A60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68881ED-4119-49DB-8872-F27815781EF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9629378-1AFC-4A2F-916E-9CF3991A942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E36847B-09A2-46D6-AD2A-B3D9E396AC6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9D962A3-977C-455D-9BAC-968F0FB1A6C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9B1FFBD-4AC2-429A-B2B3-79734A0A5F5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E75D9E8-8A10-41F1-A57B-16B8013349B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A8B526F-6D82-4D02-B861-BB40260946D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67EAED6-CD9E-4CF2-B9DE-50D1362A911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723D3E6-A038-4546-B996-C77A5D77602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EB4DA-1458-4797-B196-871751E85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3081A25-AAD2-49EA-9CA7-350C5274D19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FC9EC0-0221-4692-9686-C61CEC0D979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B7B4729-E2A0-4A51-93CA-FA7541D44AA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6EFAAEF-67A2-4FC4-A421-62BFE4160F5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E1AC35E-4DCC-4687-B856-4C5E721519E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85027CF-DEB7-4B50-8955-1A2A7BFF81E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009A014-5F61-42A4-A769-9E5F2CE47E3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8878867-0BCA-446B-B9D4-899880DE9C4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D09BD32-3175-4D33-8051-7391562C9A3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E90D00A-6027-4CC8-972B-94620526B79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57E87-DB3B-477C-AB68-EAB7044A4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881B3D2-E294-43D4-8724-92DF86980EC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31CE9BA-71F8-4154-A774-9E13B5AC7BE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2956590-FD6B-4494-8B1A-F0991EF7CFF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FFEA53E-DDC6-4DDA-B243-FE4B3465F07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44B5331-62C4-4DFF-8ABA-4A85CA303C9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1650C19-5BE0-4520-9347-FBE65860BAC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CE0DAD3-2143-43FC-8632-FCB704C9C02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FCAF397-8899-4E0D-B431-79E5BE760F5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02DF4C0-AFEE-40E0-898F-7E6EBFFECAC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F08D4C9-3324-4E2A-8426-E730FF3D8F9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42DDB8-E0D5-4B9D-B383-F326B478D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BFD5F25-4C0F-4050-9658-BB8A70A270A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B985653-A94B-4380-B454-81EDC1C0996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E1C9B02-3AF2-4018-BF91-23B2129AD60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803572A-CA0D-4F40-B221-96B6E4AB053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68E5217-D3D7-403D-B8FC-F8AFB2CEC73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30E8F14-9A6E-4C66-AA8E-48E10866F58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154D4E1-A53E-4561-B148-AD2320D23B5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E854EF3-2768-4E49-948A-3C15A6541A3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341CD99-ABAD-45A3-8903-84ACD488903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696B66F-A260-49DA-9A4C-0B485DFF3DA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3EF26-0BA8-465C-AF1D-C97BE185D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9A0FA53-2863-4FCB-96B9-998EB1B6803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C0477B2-C255-4384-9412-029473F3979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F54296C-791B-4F2F-B661-89743A0C7EE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A897D9F-3EBF-4315-B212-DAA9176B0B3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B01B5BC-CD50-4B9D-B2D6-7E447AE9F15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F79472C-68CF-43D4-98FB-207C7833CF8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E9CF26E-17C9-4D6D-978D-8BA0C34F2C5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E7C9FD8-E34A-4FAF-A3D2-B86CE21853E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7878878-E574-43DA-9AF1-3F194F20B17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2A38470-20A9-4CEA-B00B-75C56162687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25D73F-1FF3-47E3-8C99-644C88B740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1FFDC58-0853-4B3D-A048-CAD002CC66F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AA00D25-23A8-452F-9593-1CED1CFBFF7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7CBD958-F774-461C-8BFA-9660B36D46B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44411D3-F5A1-4BA0-A3F7-6B857DF41A8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0FEC2C5-7CD1-4076-8D35-58FFF8F3952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0945A7C-3640-42C5-89BF-8AD53A9EC73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8F36C49-63EB-4921-BEA9-84B8C0C1CB9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B676C24-9371-4D1A-8DE4-B3E5E13B6D6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1E1C667-E0F9-461B-A6AD-66A25CA8F15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F6F53BD-0688-486F-A202-7AF9D6C62A7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F12286-0D2D-4C42-874C-5300E0A8E1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B557063-B7D8-4437-899B-6FC98DB8FA0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BFC66E2-1F31-4776-A7FC-99B65093E76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B3E2D6A-0978-4242-A253-3C4A0670655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BF5B0C5-CDA2-40A9-9AEE-666092BFAA9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05C96A6-ABB0-4E1D-AFC3-C9EF1007853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B9E607F-9254-460F-956F-1575B323F35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3BA44D7-3B25-40CB-9669-EA5A3A5510E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A8F2A20-7989-4AE2-B821-ED2AE14A52A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064DDB3-EB5E-4951-AA6B-4405E1E7DCE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C374F41-C737-4532-8345-7842E02E5B2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ECF347-0A1F-4916-8E0E-85C57A5E5B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FA45819-A69C-4857-B1AD-0E62CDCCBBF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6D854B3-905F-47D8-80BE-4079A66005C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3596ECC-C002-4961-87CB-6C68A41C15E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899B852-83F3-4705-BFF2-29E6C1E0B8D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773234C-C4F6-4BB4-862C-CBC59F41B21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235B7E8-D0CF-4C55-BAC9-0E91EA71ADD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B655136-09C2-44BF-AD50-50A7DF73DD0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9EDC7DB-4911-4813-A26C-FFA59340844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4D438C9-CD83-4B71-B5B0-B90711BC243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10065F1-CBE1-4AB7-891F-EAB4C88EDC5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21BE88-48A6-47FC-B198-688F4CB610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7C8193A-565B-400B-8BFC-58054DB3DC5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5F7E68B-2AD2-4DF9-8ABD-48443FEA713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FE9D4FB-272E-4484-B0B6-17E144E0E7F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04CF49C-EE53-4749-8FB1-F5CC330A880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FA4AEB3-156A-4C2B-B79A-20ECFF69F18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4A608E2-0B39-442F-96A9-09D34BA9875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7EFFBA0-FC62-4065-9FDE-838F2D02E90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8777993-9D59-4B7D-9CC9-1E4FAA102C3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6A23FC8-25F6-4BF8-A345-A4AFEF96236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2F58D1D-3E5E-435E-9054-729CDE2E90F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F0D24C-E2DB-4237-97E9-CCE889AA86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EF88C16-401F-4B04-AC5F-13320DDBE7D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3A4DBF6-CA48-4AC3-ADEB-E70E68291E5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9F8C3F2-24D6-463F-A5BC-695FB877673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7250470-A994-48B9-9B32-9B7E55FF40D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1EC41CF-CB4E-40CE-9CA8-DA53020E45C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C5FD0FA-A7EC-4DC8-A547-1D82E96134E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E19DB3E-9303-4B35-8A86-4CA3DBFACA2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E0DA105-7EB5-44ED-AE3A-E519896BB5E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A665FE7-DF99-4EB6-98A3-7C21E9542C8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DCAA5FA-FE4E-4CE7-B77D-C85AFEAB083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0FFDF-0992-4841-91CA-C87EA3241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214B06-BE75-4BDD-B4AF-DE9A82C365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51B20C8-2FFB-442C-A2BC-1E51B72757F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E807233-D45E-4759-9D16-A0A87A1BB8B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780BC9E-76A4-40BA-BA4E-597283FFCBC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7488541-FA02-4C74-9982-82D3F6B05CA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B9D454E-5BE7-437B-8DF0-F9F59F76FCA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6EA0422-9C81-4F28-99C4-9EEC304B660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AC978CE-C6F2-42AC-90A7-943B484907F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BAF6ACD-A3F3-4945-B8EF-F420481512B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50DCFF2-C48C-4C48-81B1-02581E7EE1D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7CA2464-2678-4863-8C78-A7498813A37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E8ECAD-1BC7-4A31-A51E-D9ED6ADAC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B77C678-A4F5-404F-8C51-CA87AF7D938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9D415AE-E77D-4429-8076-F89DA3485C4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0F77ABE-329E-4EAA-AD73-A232EE84A29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00535A6-3D3E-4BFD-BA08-FCC95ED62B73}"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2962991-3CD4-49B7-A6FE-1EEB646109A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5C741C6-4075-47A8-9688-4D5B9A64AA7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BCBDED4-FFF4-417C-8147-7604B163BFA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72F8FBB-49C0-4938-BA12-571B2D82118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13D0463-3FC1-4F0B-980A-95613726F71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38522A5-79DA-4464-B9C8-B6CF8C99B0A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3C12E5-1871-42FF-8775-BB78A6BB9B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D55933B-900C-4B0F-9038-52320E26EDB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435CCCC-78BA-4E1B-84C7-DE66E052AF0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183C0F8-B578-4FE6-B403-3E8F30AB9B0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3BAA715-08D1-470D-AFFA-43ADEB7B070E}"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C3F99C3-7D0E-4854-888C-559AEAEF58A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23707D1-CEC0-4A78-A85D-572089A5600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DBB4515-A7B7-4924-8D74-BE2798D76AC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4CC0509-8ABB-471B-A2E5-A14FF28A076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FFA1166-3184-4586-98F5-340AE774FB5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2F3AEAB-1DE8-40D7-9104-E9FE369E8C8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821E8A-AD58-4C59-8915-43957CB7D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1BA2701-84BD-4308-8DB5-9E9C0BBBC03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4B225EF-BD27-44AD-8C3A-875A4D85166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4F23DB3-6530-4AA4-8D89-E786B317B00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6E55727-2EDB-4696-B1FC-4332ADF853E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A088AA6-A8E9-455C-B11C-19D4862F9C9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A48DC10A-6994-483D-A1AE-95FF9F6F8E9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0FD7369-5967-415F-9275-7A54F2746A0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2B61AA32-7DA1-4EE7-8092-EBC9F71CAF7A}"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430ED61-F31F-4E35-9AEB-D7DA4E8ADCE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3DE60BC-BE46-4AC2-AFEC-A53B252B7E8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A58A07-6DB5-4244-B8DA-22176CD974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A2384D3-80F6-4EEF-9CFF-C03CF2E7AB2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DBE5C3A-374F-4B95-B23F-C5ACC241828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1936821-6B1D-49D7-BAE2-E868F1C596D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46EAF6E-BB6C-4BB5-A551-205E53917DD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AE0FC64-B214-455C-A440-0037B874CE6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FBC243D-3685-4892-9DFC-1AEFA4BD5A2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B0C8990-B817-4C32-A52D-62B0160A526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45523EDB-0FA6-4786-B7B1-F9CD3D78FFDA}"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A08AD057-F105-44D7-A158-3FD2CCEC2B4D}"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55C840E5-54BD-4A39-9887-FCCFD2C2818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AC3594-7072-45FB-A74C-40AF526121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EAF3299-F92F-47DE-9676-6139889B465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C62AED7-35E8-4445-AE74-1F6F5DABD98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C42EB23-D53D-4490-BC56-85F2FBDFAFC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3C6F826-49E2-4652-882D-B936ED0E94C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3A5E1E7-6BD6-4EEF-9E31-607F35E0AFF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8C2F6F1-73FB-459E-BD15-E00D98BE484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920C000-EEE9-4DA1-B492-FFF5FC89AD3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36D63FC-40D6-4C99-A099-9734D10258B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987F256-68D8-4F3A-8A3D-CEC74913E75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E7F066C1-0B03-4E73-BBD9-7504AEBC4E95}"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BF6CA6-CEAF-4CCA-8583-83F0C32F30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A73A8297-5162-41D1-BB34-A524BB131B70}"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3497DFC-1EF3-41D3-B93E-D6B571D66760}"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A9B6834-897D-4693-A084-09F7578D61A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1D84CA1-0C0C-4CF3-9529-7241E060396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E254486-8055-488B-AAA8-7BB8985D75F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949535F3-75CB-42D4-872E-19E0CD28492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090C47C-D668-4CBB-AFAF-5BF4AF11CD6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CD92F93-C48B-41CE-8E0D-1AC000A8F2E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3FC9C1A-323C-43D0-9CC0-11C57AC0E02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5D5E7D5-7B66-437E-9BFC-0301B6C2C2F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2A8717-EC42-4CFD-89B8-4F3B6FEEBF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A8D4F01-6C34-4AC2-8B5A-6645FE9F4AA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2E3DF76-D224-447C-A244-1A3CDB27A059}"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7C2904B-0CC5-4F9D-92C2-13B2ECBE9719}"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DD9B315B-B6DF-4634-8E31-F0DB5F0D3E7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7A3C5EA-8239-4D1E-A560-2406078960D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508CA21-EC68-4F63-A780-3735EB0C73C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C2E9240-6FF1-4F08-9D33-184F179989A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A451C2B-A1BB-4776-BD41-38268CA09A2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D3FE3CF-A6AE-4A0A-A1E9-9A35D74921D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D85BDB8-75D1-4B2B-ADFA-62086A2D456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D7BA75-2FCC-4FE6-90BC-43D7B5BF1B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44BDB6D-F56F-4BB5-BCCB-8F5F2458B38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8978E79-7322-446C-8D35-6E690520071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F305019-8A92-45FE-BCEA-430DC2F7E02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94DE87F4-B3F0-4342-921E-4B37475B8F1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4E7A6715-2E21-479B-9FD3-5DD7D89DDDA5}"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60CE8559-DCB0-40D2-A24D-0352ADD679ED}"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9183628-DE56-49AC-AEA8-9F5E4462181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FB37ED4-3AB7-4449-91BD-1EAC61A62CE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DFF8E26-7C19-4B72-B17F-DE86065AF37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8F2BD2E-B56A-4497-92AF-81FF740DE0D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CA90B3-65F2-4A6D-9E4D-5A73EA2694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15E1A0E-9054-4EA6-8E1D-E116DE8DE51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B9B21D0-43D9-459C-9933-7E1FF984A5A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97E045D-7779-4C37-8565-694FF6C0C43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C93C888-866E-433C-89CB-7EFA2AC90C3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774A5A0-1A16-4BDE-94FF-0C5282F236F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7DCE7220-913A-49A7-96EC-460C4F3CE490}"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24538B08-89DE-4FE5-A3DA-19E73F541038}"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7E69241C-51BC-4AA7-9642-143709D957B4}"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06CD57E-B65A-423B-A003-38D82B21910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3A49419A-BE8F-4487-8858-F8C50A32867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51400-F55C-4943-9682-34B9C95EB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0F9658-EB98-43E7-BD0F-75170675F7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3E6A47C-CD2B-4D6A-B6C5-C1EBD700D51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64FDF89-7A76-43D0-8EDB-37C23826DCD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C74BC7F-73A9-413A-91A8-10AE69ABF72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20FFBD2-97B1-4A81-99A9-AEFF2EB6856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B47CB1B-101B-4363-8C37-9DD923FF2C5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E9F9210-A2C8-4C10-8AE3-734DF7E10DC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501E65D-4E3B-49C9-AC7B-45BCEE32409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94D384A5-0720-4353-BF6D-D229BF25E3FF}"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83B41766-975A-46D3-A4FF-D3394DC6E1BC}"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2661476A-F8A8-40B4-97D4-4675D96BB6FE}"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E0CEE0-84E9-41A9-BB4B-06BAF4E441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F9E660C-8215-4237-B8E6-BA475B2DD77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086959E-8784-4CDE-A98E-455F713073F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0D11DC0-5E4A-4A0B-A288-D33F8ADE840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8366A3C-9CCF-42E7-8865-72280F55D72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AC4C3CD-3B09-44CD-871F-42F7069DC60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F928B34-6522-4F25-8D27-5F9F6292A5B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2A7799A-7835-4776-9451-6E0E0341AA2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1183D70-29AE-4883-B0A0-5992FEDF93A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022278C-2E28-4A1F-A144-DD2E936F51A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5DDF76A0-DC1F-4485-A373-03EEFBD80C44}"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AF8EC3-E1E5-4872-AB0A-94D088A34D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960C9E23-FC2C-4274-9C63-FDEA7C026234}"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A456B51D-54B4-4E57-8FB8-A2BFDBFC772B}"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B023850-B7CF-4DC1-ADA2-42DA00F1FE3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333BCFE-562E-4529-A4F3-150B73AD9F0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BB7E993-BE22-4ED1-A670-7CA916DD833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68D88C2-FDD4-4B71-9365-0A5839555A9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6EF6207-6F13-4B45-86CD-A7C347666F6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EA16D4F-30C9-43A4-AEF1-F389BAEF91F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9BC092F-A819-4BFF-A518-7A3BDDE30CB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7961AE7-AA46-441B-98C2-72395897B61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64463-C4EB-488D-B3C0-3B21F3226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3E872EF-B731-44E5-974D-A3E5D156C7E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BEAD0147-1FFC-4D42-AB36-5A2738643933}"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5BBE3E3C-CECB-4FFB-85D1-AD76B2AD1EF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4584C04C-54B4-4FB2-BC9A-2F49558505F1}"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370165E-2945-4AAD-94BB-D22056B6FF6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F53C078D-F461-42E6-8C48-C9FF6CE04045}"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7D2B7442-BA53-4001-B51D-E758012AD486}"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64FBF6E3-26F5-40FF-8097-1FA296605FB7}"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E5E35E47-3282-4228-B1BB-C400BB5AB64A}"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74CB046-8483-4D93-8E5A-F0A82295569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42B127-50D7-4FA8-B304-AE6CC226B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7290B53-65ED-49AC-AD7B-9BAA906C8EA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7B8F04A-0D61-48B9-80BE-48F5D65ACED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90530DD6-0CA7-4A7B-AAB5-8C40F41CB3F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898AC340-8C7F-4A74-BD3B-F5183D06B744}"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83DC5151-DFA3-4D8E-8D1A-99B53DC2D043}"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01941524-4BBA-4DC8-AFCD-E889DB55E9AF}"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EF72ED4-6C61-4345-A462-CFC1B5E97275}"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D1437779-AEB7-4904-AAB5-6B77FA579FA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40A95A03-8B16-4123-A321-0762EB97D9A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3E95E916-C9AB-4659-A0FE-69F2AACA3C4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463409-C17E-48AE-A51E-7A4848CFE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12C0CD63-5BD6-44D5-A726-8D0447A7792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5C5F5FF-3B53-49A0-994C-65261084C0E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0B12675-9C2D-4AF8-8735-1A28B07816A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5FE78EF-D3D7-431E-8829-A627F7C171A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4E613FE2-4AAB-4D24-B829-795AB8086335}"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4C3086E9-44B9-4BDE-BA4C-5ADEA199EAE6}"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9B2DCF26-9EDA-40C9-938C-BD816C42690B}"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00801781-DB0C-40F4-A1CA-BB2876B9C2C4}"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F3D4BA3A-B10F-4941-BD28-60470E8ED21D}"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B0A6B0F-5493-47F0-85DF-54A6FC06855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2FA337-2366-4B32-B369-6661D4C013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0BED7AE-30F0-4825-AED9-DD8CE8585206}"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94ED5EA-5ECF-440E-972D-75D7D335D57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08DC904-6AE7-4DAC-80F6-82EA0D58825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486BB85-7001-4D9C-801B-4251AD04682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DF6A459-9898-40EE-B7F3-7CA50085AC4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62B0402-BD26-4F97-BA87-88DDD2A0234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38698D5-8B19-4662-9E08-9805807DFA3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6561B017-FD98-4F6E-AEE3-F2FBE50D4100}"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835371EB-60D3-48D5-8DC3-F65B398457C7}"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5220C95F-0438-4C7C-84ED-188C35C35FB8}"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561559-8560-439E-A0E2-D890C8F639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CB563B2C-35DE-4620-A654-7F3E56C059D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E7DBD7C6-7535-49D2-84E3-2D96CF9509C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055C434-F1D5-4270-B34A-30F02EF81DF1}"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8F9FAED5-A6C8-4CDD-B6B7-7E42E4563521}"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12CE16FB-0E0C-48FA-BAE6-D199B7D9AD34}"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7D06B70-D94E-4B6C-9A2E-0DA11CC8C3D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4C02729-9029-47D0-A8A5-4F775F26805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013E9BB-D603-413C-99C6-D6378D3AED7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71DCD70-BCB7-426E-856D-369063E930D7}"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F4103B60-EBEC-4CFC-B8D3-3489EA55CB13}"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D7CB70-71C7-4486-8C4E-2A340F262D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55C50511-C46C-4D8F-BDA6-15D5021942DA}"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CD10EC2C-C4FC-4C23-B39A-656960389D9A}"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E5C60D4-F99F-4CFC-9118-AC6944EE0FB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FD01F88B-615C-4A72-ACD2-1A186BE0047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8E3F4F84-513A-46CE-A8AE-0EC9FE7B1AF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28C0EA57-55D0-4301-BCD8-47FDCB156A8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BDE871BD-8D82-4307-9194-3F44AD5CEA22}"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BEFE88C-3F3D-408E-BBFA-A36661A90AC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DDBCB4E-B5D5-4270-A84B-4580791191EE}"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A345F31-FDC1-4F24-A762-E0F6CF4E52C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5CA60B-A492-40ED-B0C5-BAD9AF9924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B38EAC21-3016-4136-BA4B-2EEF6C900E5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C555FA6C-4C20-475B-A0CB-C52249A7B580}"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4B4EE72B-1CCA-45BA-8B1F-FAC74F13ED21}"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07A72E23-FC35-49DA-8D52-2F77699EA719}"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57D845F-1AFF-47AD-995A-51452A182894}"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D4F977DD-8632-4BF1-88C4-78CC8100E477}"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E2B91CD-2AED-4B70-902F-C48B9F39D27E}"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7ED0375C-C848-4914-9FD0-1D93B21DCA7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D56444CC-CC4C-4246-80A4-4CE4EB817A25}"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6A0B657-87DF-4283-90AF-77ABBC7E5C1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376CC-A143-47F7-BAB0-A47A9C0E1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BF9364-4827-430C-8BEC-7C8E6674E9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CA88A1A-83DA-4E3D-8B9F-88A30E2ED9A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2DE095E-0D19-42C5-9B6A-1FC25F1E7DA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A9F02528-7927-4694-8723-3F3931A9B0BC}"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45815057-C837-44F6-A30D-7633DF68C875}"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44D6438F-9172-46A1-90E6-9E1039E095E6}"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27E3A4B5-FC68-4754-B47C-2AFC05781277}"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526B25BF-2055-4F87-9185-A614EA296A32}"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67998A7-6464-4C12-BFC8-DA5DBED6134A}"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C904BF8B-064F-4C0C-BAB1-3A1CB72C975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0BE30AF0-C66E-46B9-9E92-4E31DD98750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63F4AF-DF4A-4CD1-8CEB-A1DE9DD6B1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50DE6C9-A251-469A-8B4C-3282B7A724E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726CAD1-2F43-49EB-BCFC-76FB5470C78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9EF113C-71B2-466B-AA3A-650A42327C6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E8F0C6E-FF45-4B2C-BF3C-8D71AB2FAE7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3E744EDE-6018-45DB-AF5F-8B78C19336F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9CD6CC0D-4316-4026-85C6-041D2F07B33A}"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69BC527A-284E-4B53-A16C-1D28C4081FDF}"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A9D2A5E7-2224-4302-A054-52B2CDDC03F0}"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5AD6F50-6099-4114-999E-E813E4466A33}"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F003E818-3070-4916-B0CA-EF50C912BB04}"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700D55-719F-4C91-A887-8911AD51B5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FFAC75B8-43C1-4DE1-B087-0A918FA67DEA}"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560209D-6291-4504-8AC6-96344242CC3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C51CA142-291C-47E4-8AB1-2609B080A33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D9C3FC1-E04C-4F79-99CE-C8D1BC71A3B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D16CDF0-9424-4B05-8368-A362626B961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B1BAFF5-6613-4AA8-83AA-04A5A4CDED5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670D8677-C108-4A67-9933-1EC10855192A}"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928735D9-BE5B-473D-A5C9-33791E0A04A8}"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5FB1C6EC-C212-4FE1-B3C2-2AB0507BA172}"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5FAAD9FA-BBEA-462B-A4A3-5F160D62B952}"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808A54-3BEA-4ACA-99D9-B84FB1CAE2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5425BD77-28F3-4208-93B4-2B3F109B4E8F}"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A0AE8482-0A4E-434C-B525-D441EC502C65}"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E916B06E-8F5D-4FC3-B6FD-82280310A798}"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4A35DE2-C142-423E-A735-B85DC20E821E}"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1F584CC-8FBE-43C6-BC22-D56B9F43C798}"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473A479-A9EC-40DC-9CA1-99361EFA0D6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EFB1316-F9F1-4269-8EF6-A7D648E2971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4DE9621-B45D-4475-8552-D9F6A8784B0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06F906A-735A-4BC1-9123-38F3DD55248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889305F3-ECAD-425C-AA2F-B165FB1F71F9}"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119858-304A-4B1A-AD24-989BE34EBB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8BF73158-2376-42F7-87B2-2B59D1791A54}"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6E67D753-FFC0-40F8-B0EB-CC72377CE78F}"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F929F0C1-3568-4C9F-B0A6-A663F300FF3B}"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E505686-E4EC-4D8A-9E68-5FDDE230FECE}"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7DEEC307-F7A2-4D39-9CAE-FBDC37411119}"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EFAE3128-093C-49C1-BC25-7A20A6E3DD7E}"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2C1929BB-3426-4FD1-9FD1-1916CD486A3C}"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5E070B4-6DB1-42AF-A134-815A8C49280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5C24CD8-A9C8-40B5-A60B-0440381CC92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FF50786-AAA9-44D4-9AEA-C5A15A96194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C34250-CF18-452D-9E15-89932CFD41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FC8FDDD5-2A84-4EE1-9AB8-B9A53AF9504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D5B17657-7F3A-45F6-BDC1-0B6BA9043789}"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46CF88A6-4A34-4E72-8404-BD46E0D9EE7F}"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220894E3-A026-4F42-970A-2ACC19419D05}"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C4915656-B116-4AF1-909F-0E68910458B8}"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8687899B-248D-4C6C-AF00-FE6BA15B4C29}"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6B53CC43-B7E6-410E-9141-97EB939633C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1D9653A2-FFF0-4F4A-BB85-C4BA89A2870F}"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676671B5-A107-46AD-8A33-5181CE1F7E27}"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2A6BA95-ABEE-4E1F-BB3F-B33D57726F2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B4EC7C-458D-4BB4-BC8E-13D9FB9F97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FC0EF6A-7695-40F4-B681-04AB1437F2B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65025150-7ACA-435B-A9AC-BFD0E92CA8F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4DF0B34-FC7F-4F7C-B16F-9F1D3D044B3B}"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0B15BC36-20CA-4C07-9F6F-87D798A74DB0}"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3FD45AC0-C6A8-49C0-BB66-F68B20C11A2A}"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BF6E1A54-0268-42AF-B3D4-DBBA6D415644}"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7BE4E548-D8D4-4F81-8373-4AE462602814}"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0B39F60B-7CA9-446E-8525-7CF7962EB1AF}"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2FDFE82F-B686-4D46-AEB4-F1E634DE3178}"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CF514205-F7D1-4502-81BA-5E006CE8B6E1}"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F2467A-410F-48B6-AB0E-ABE3D1F0B5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CF227DAD-0FB4-4C0B-B212-13177C57E3E1}"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98AAEC5-0E48-4554-9C0F-580BCCD2BBE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99B3D6F1-C011-410F-BFFC-98BD1833F483}"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CA022D6-A9CE-4916-93A2-781ADB0559C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4C5A9C14-3B7B-489A-B0CE-931A86EDD28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96110E99-C2CB-47FC-A7AE-3EF6B6A49CEA}"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A9098CCD-33F6-4AA9-8468-B24109E2BFE7}"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9E67C6-4FAC-4F77-B702-F6846F4231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61D356-ADCA-436A-8107-4CA9C9E73A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5561B-2FDE-4A46-A960-DEC7E228F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DD9C18-937D-49EC-8526-B181C2C973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E127EA-FB42-4528-AED9-D0ADB489C0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91AF01-2383-486E-A9BF-20DFC25732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FE6729-F781-4B50-95E3-366B37E65D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23980A-EF4E-4B27-AD6E-C842BFEC48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978647-A2B6-4E05-A795-C270445CC4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4E0BDA-40FE-449F-8D64-B3872C861B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9849A5-5EB7-4180-BEE1-07677B0258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191C26-8883-49AC-8280-194BC746C9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5D0D9C-606B-4751-92E6-30A6F365C3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35868-C929-4C40-A4D1-7FE3058DE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31949D-20FB-400A-AD27-38178D2E87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93F778-56D1-4DD0-8E7A-E0040B9778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D54984-7472-4C8D-9FEC-3F98814C94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CD62B2-45F3-4DB2-906E-9134603D2D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A4DD37-03E7-46EC-A4EA-C71E71DC3A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345715-FA8B-423D-A800-00ECAFE2B5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4E6D38-6B14-4CF0-8A42-2D3A7E1282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D80D77-AFFB-4C1B-B7E5-1AE7F73A97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27DEE0-415C-44BC-9390-1ED940D567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6ACE92-C61B-4CC5-9936-13F852BFB7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1EA74-3AD5-4839-8797-C231CD549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3EE556-9F8D-48EC-B310-DFB2538447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EB3026-A3FB-4B20-9F50-84F973FAAF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DD8956-A7E2-4C41-87FF-8F4E5A9169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F9294B-50D0-4FB3-8E01-D51EF1FEFA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1E80E5-F0C8-4870-B8BC-F36243C389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98CB42-6AE3-4DC8-B689-E23B83BF89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912AFD-C2F1-4EFF-B93C-61E9AE20B2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48192B-1E0B-45F4-A1BE-374B7BE74D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4EA70D-153E-4210-9827-CEBE66C462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617995-C968-40E2-99AA-6265D30EEB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81B72-BC35-4A81-BB21-574A91A03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AEBC2A-4F86-4951-A3C4-2BCD46B609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E2B2C3-AA61-43D5-9C28-8AEBBD84E7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172C87-545D-4756-87A4-75AB142FD5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33A748-7E34-499A-92B3-99C7CCA7CD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E4150B-7C42-4687-864B-B232442CF5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6CAA48-166D-42AD-8376-B41B3C979F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F85C92-D054-4CDA-A9CA-BEA11A8DF9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BA95CE-A3CA-4C7D-97B8-F00DA3172A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EA40C2-5E3C-4126-A363-FF5FFBD740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488B17-BD16-43BA-89D4-06552D4B22D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08E9-ACAA-46FF-B539-FBECF0B54C9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7AFE-BB67-49FD-A8EF-74524EA2DCA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ABDD-7031-476E-848D-530D396A96D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CCF6-5899-4604-9FC9-BEBCA13C484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5DB3-CD5B-452C-816A-4C72BFDA49F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1CFD1-B71C-48C3-8075-11E4400F173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65BB-0F8E-42DE-9CB5-98ADBB3B78A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0707-27A5-4558-8C8F-73873107970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E8F3-7C27-41EC-A3D8-F3ED0F3C2C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B5B0-5233-4737-9404-8CEBA92B7E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8B44-3AC5-431E-8E1A-002D8808B6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97D9-E33E-41FD-8A5A-F16BA5D07D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1CF6C-453F-437D-B670-4858C97628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A795-633D-4B84-BD45-25F83485F5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C64E-610C-48FB-BAA7-F77B03E24C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D87F-0DC3-4826-B992-583F2B7813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A8BD-D467-441E-A525-D7745604E2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DC3B-9C36-475D-83C1-082A6662FC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75379-C5EA-4C67-9B29-2F8F0E98F5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FE66-AFA1-4AC1-8C3B-16D73BBC04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B047-0803-4093-B216-38781880A2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26F8-9642-4B95-B3E0-A6C620DC8A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B75D-17AF-47AC-A996-E9FCA5EA03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3E72-95C6-43FB-8053-4A6B286A2F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9930-9F7C-4DCA-B86F-A0D0E14529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A892-C0A1-47A1-8236-1D91674C76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54AC-C5B0-4BA1-A00E-011223832F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2629-4016-4C47-AB75-D09661FE01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744E-68B7-472E-98BB-7E6247ED37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75AB-4C06-4373-AF82-B4C8316194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6152-3C14-4D31-8674-4555B9E6FE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B2536-C7C9-42D9-A4B7-99A2066906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5E45-DAD6-4C7B-8BFB-05D6B7AD459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20DB-5C4C-4060-A78B-4DFCC23083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FAE0-C716-43C8-A391-0BD6652250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16F3-1360-45E0-A83C-DDE87F1D30B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39AD-936A-4559-8F6B-412AA8FA00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EF61-044E-4107-BE65-1FAD0DF9E0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F5A6-6F17-4F8B-911A-C86EF945AB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4485-B2AC-4E2E-8892-0CE3F65E75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98F4-0688-4424-A968-8A468B44B2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CC11-CBD2-40C7-9AA6-AF8BB8E98F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6A0A-7070-443A-A291-C134A15198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32C1-EF99-4865-A834-3FC268857F4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C6357-E978-447F-B45B-BB74A1F27EF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4B67-EA1B-4A57-B886-A331B236AA2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607D-BB74-4F28-A629-7B0BF98B7A0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EF1A-529F-45AC-8CE4-1DBBC5474DE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