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0.jpeg" ContentType="image/jpe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notesMasterIdLst>
    <p:notesMasterId r:id="rId50"/>
  </p:notesMasterIdLst>
  <p:sldIdLst>
    <p:sldId id="256" r:id="rId51"/>
    <p:sldId id="257" r:id="rId52"/>
    <p:sldId id="258" r:id="rId53"/>
    <p:sldId id="259" r:id="rId54"/>
    <p:sldId id="260" r:id="rId55"/>
    <p:sldId id="261"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notesMaster" Target="notesMasters/notesMaster1.xml"/><Relationship Id="rId51" Type="http://schemas.openxmlformats.org/officeDocument/2006/relationships/slide" Target="slides/slide1.xml"/><Relationship Id="rId52" Type="http://schemas.openxmlformats.org/officeDocument/2006/relationships/slide" Target="slides/slide2.xml"/><Relationship Id="rId53" Type="http://schemas.openxmlformats.org/officeDocument/2006/relationships/slide" Target="slides/slide3.xml"/><Relationship Id="rId54" Type="http://schemas.openxmlformats.org/officeDocument/2006/relationships/slide" Target="slides/slide4.xml"/><Relationship Id="rId55" Type="http://schemas.openxmlformats.org/officeDocument/2006/relationships/slide" Target="slides/slide5.xml"/><Relationship Id="rId56" Type="http://schemas.openxmlformats.org/officeDocument/2006/relationships/slide" Target="slides/slide6.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3" name="PlaceHolder 2"/>
          <p:cNvSpPr>
            <a:spLocks noGrp="1"/>
          </p:cNvSpPr>
          <p:nvPr>
            <p:ph type="dt" idx="14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7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0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76" name="PlaceHolder 5"/>
          <p:cNvSpPr>
            <a:spLocks noGrp="1"/>
          </p:cNvSpPr>
          <p:nvPr>
            <p:ph type="ftr" idx="14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77" name="PlaceHolder 6"/>
          <p:cNvSpPr>
            <a:spLocks noGrp="1"/>
          </p:cNvSpPr>
          <p:nvPr>
            <p:ph type="sldNum" idx="14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49458-3ACA-426A-AAAB-53978998F533}"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7" name="PlaceHolder 1"/>
          <p:cNvSpPr>
            <a:spLocks noGrp="1"/>
          </p:cNvSpPr>
          <p:nvPr>
            <p:ph type="sldImg"/>
          </p:nvPr>
        </p:nvSpPr>
        <p:spPr>
          <a:xfrm>
            <a:off x="1143000" y="685800"/>
            <a:ext cx="4572000" cy="3429000"/>
          </a:xfrm>
          <a:prstGeom prst="rect">
            <a:avLst/>
          </a:prstGeom>
          <a:ln w="0">
            <a:noFill/>
          </a:ln>
        </p:spPr>
      </p:sp>
      <p:sp>
        <p:nvSpPr>
          <p:cNvPr id="2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 </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Referentiell (Kontext)</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Sender) Poetisch (Mitteilung)</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Emotiv------------------------------------------------------------------------------Konativ (Empfanger)</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Phatisch (Kontakt)</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Metasprachlich (Kod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rlauterung:</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1. </a:t>
            </a:r>
            <a:r>
              <a:rPr b="1" lang="de-DE" sz="700" spc="-1" strike="noStrike">
                <a:solidFill>
                  <a:srgbClr val="000000"/>
                </a:solidFill>
                <a:latin typeface="Times New Roman"/>
                <a:ea typeface="Times New Roman"/>
              </a:rPr>
              <a:t>referentielle Funktion </a:t>
            </a:r>
            <a:r>
              <a:rPr b="0" lang="de-DE" sz="700" spc="-1" strike="noStrike">
                <a:solidFill>
                  <a:srgbClr val="000000"/>
                </a:solidFill>
                <a:latin typeface="Times New Roman"/>
                <a:ea typeface="Times New Roman"/>
              </a:rPr>
              <a:t>(= kognitive oder denotative Funktion): Orientierung auf d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Kontakt, auf den Referenten; Botschaft, bei der die Einstellung der Kommunikationsteilnehm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f den Referenten (den Kontext, die ‚Welt’, auf die sich die Botschaft bezie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dominiert) etwa Rundfunk- und Pressenachrich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2. </a:t>
            </a:r>
            <a:r>
              <a:rPr b="1" lang="de-DE" sz="700" spc="-1" strike="noStrike">
                <a:solidFill>
                  <a:srgbClr val="000000"/>
                </a:solidFill>
                <a:latin typeface="Times New Roman"/>
                <a:ea typeface="Times New Roman"/>
              </a:rPr>
              <a:t>emotive Funktion </a:t>
            </a:r>
            <a:r>
              <a:rPr b="0" lang="de-DE" sz="700" spc="-1" strike="noStrike">
                <a:solidFill>
                  <a:srgbClr val="000000"/>
                </a:solidFill>
                <a:latin typeface="Times New Roman"/>
                <a:ea typeface="Times New Roman"/>
              </a:rPr>
              <a:t>(= expressive Funktion): bringt die Haltung des Sprechers zum</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Gesprochenen unmittelbar zum Ausdruck; d.h. die Einstellung des Senders zum Tex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mphatische Rede; sie sucht einen Eindruck oder eine Emotion zu erwecken (bspw.: Zor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Freude, Ironie etwa mit Hilfe von Interjektionen im literarischen Text) etwa Parodi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3. </a:t>
            </a:r>
            <a:r>
              <a:rPr b="1" lang="de-DE" sz="700" spc="-1" strike="noStrike">
                <a:solidFill>
                  <a:srgbClr val="000000"/>
                </a:solidFill>
                <a:latin typeface="Times New Roman"/>
                <a:ea typeface="Times New Roman"/>
              </a:rPr>
              <a:t>konative Funktion</a:t>
            </a:r>
            <a:r>
              <a:rPr b="0" lang="de-DE" sz="700" spc="-1" strike="noStrike">
                <a:solidFill>
                  <a:srgbClr val="000000"/>
                </a:solidFill>
                <a:latin typeface="Times New Roman"/>
                <a:ea typeface="Times New Roman"/>
              </a:rPr>
              <a:t>: primare Ausrichtung auf den Empfanger, findet reins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grammatischen Ausdruck im Vokativ (Anrede) und Imperativ (Befehl);</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4. </a:t>
            </a:r>
            <a:r>
              <a:rPr b="1" lang="de-DE" sz="700" spc="-1" strike="noStrike">
                <a:solidFill>
                  <a:srgbClr val="000000"/>
                </a:solidFill>
                <a:latin typeface="Times New Roman"/>
                <a:ea typeface="Times New Roman"/>
              </a:rPr>
              <a:t>phatische Funktion</a:t>
            </a:r>
            <a:r>
              <a:rPr b="0" lang="de-DE" sz="700" spc="-1" strike="noStrike">
                <a:solidFill>
                  <a:srgbClr val="000000"/>
                </a:solidFill>
                <a:latin typeface="Times New Roman"/>
                <a:ea typeface="Times New Roman"/>
              </a:rPr>
              <a:t>: einige sprachliche Botschaften verfolgen v.a. den Zweck,</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Kommunikation herzustellen, zu verlangern, zu unterbrechen etc. (Bsp. der Anfang vo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Telefongesprachen, die mit immer der gleichen oder ahnlichen Wendung beginnen u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versuchen, Kommunikation herzustellen oder zu verlangern oder zu erhalten), etwa: Bis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Du noch dran? Horst Du mir zu?</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5. </a:t>
            </a:r>
            <a:r>
              <a:rPr b="1" lang="de-DE" sz="700" spc="-1" strike="noStrike">
                <a:solidFill>
                  <a:srgbClr val="000000"/>
                </a:solidFill>
                <a:latin typeface="Times New Roman"/>
                <a:ea typeface="Times New Roman"/>
              </a:rPr>
              <a:t>metasprachliche Funktion </a:t>
            </a:r>
            <a:r>
              <a:rPr b="0" lang="de-DE" sz="700" spc="-1" strike="noStrike">
                <a:solidFill>
                  <a:srgbClr val="000000"/>
                </a:solidFill>
                <a:latin typeface="Times New Roman"/>
                <a:ea typeface="Times New Roman"/>
              </a:rPr>
              <a:t>(= erlauternde Funktion): orientiert sich am Kode, Sender u./o.</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mpfanger wollen kontrollieren, ob beide denselben Kode gebrauchen; Sprechen ub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Sprache: „Ich verstehe nicht, was sie mei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6. </a:t>
            </a:r>
            <a:r>
              <a:rPr b="1" lang="de-DE" sz="700" spc="-1" strike="noStrike">
                <a:solidFill>
                  <a:srgbClr val="000000"/>
                </a:solidFill>
                <a:latin typeface="Times New Roman"/>
                <a:ea typeface="Times New Roman"/>
              </a:rPr>
              <a:t>poetische Funktion</a:t>
            </a:r>
            <a:r>
              <a:rPr b="0" lang="de-DE" sz="700" spc="-1" strike="noStrike">
                <a:solidFill>
                  <a:srgbClr val="000000"/>
                </a:solidFill>
                <a:latin typeface="Times New Roman"/>
                <a:ea typeface="Times New Roman"/>
              </a:rPr>
              <a:t>: Einstellung auf die Botschaft, Ausrichtung auf die Botschaft um ihr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selbst willen, poetische Funktion steht fur die Struktur, den Aufbau der Mitteilung; nic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nur ‚was’ gesprochen wird ist entscheidend, sondern auch ‚wie’, d.h. mit welchen Mittel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f welche Art und Weise etwas gesprochen oder geschrieben wird, ist entscheide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zentrale Satze bei Jakobso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jede verbale Botschaft basiert auf Selektion und Kombination von Wortmaterial; Wort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werden auf Grund des Themas der jeweiligen Botschaft aus dem vorhandenen Wortschatz</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sgewahlt (selektiert) und zu einer sinnvollen und eindeutigen Aussage kombinier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t>
            </a:r>
            <a:r>
              <a:rPr b="1" lang="de-DE" sz="700" spc="-1" strike="noStrike">
                <a:solidFill>
                  <a:srgbClr val="000000"/>
                </a:solidFill>
                <a:latin typeface="Times New Roman"/>
                <a:ea typeface="Times New Roman"/>
              </a:rPr>
              <a:t>Die Selektion vollzieht sich (dabei) auf der Grundlage der Aquivalenz, der Ahnlichkei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und Unahnlichkeit, der Synonymie und Antinomie, wahrend der Aufbau der Sequenz</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uf Kontiguitat basier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quivalenz </a:t>
            </a:r>
            <a:r>
              <a:rPr b="0" lang="de-DE" sz="700" spc="-1" strike="noStrike">
                <a:solidFill>
                  <a:srgbClr val="000000"/>
                </a:solidFill>
                <a:latin typeface="Times New Roman"/>
                <a:ea typeface="Times New Roman"/>
              </a:rPr>
              <a:t>= Gleichwertigkeit; </a:t>
            </a:r>
            <a:r>
              <a:rPr b="1" lang="de-DE" sz="700" spc="-1" strike="noStrike">
                <a:solidFill>
                  <a:srgbClr val="000000"/>
                </a:solidFill>
                <a:latin typeface="Times New Roman"/>
                <a:ea typeface="Times New Roman"/>
              </a:rPr>
              <a:t>Synonymie </a:t>
            </a:r>
            <a:r>
              <a:rPr b="0" lang="de-DE" sz="700" spc="-1" strike="noStrike">
                <a:solidFill>
                  <a:srgbClr val="000000"/>
                </a:solidFill>
                <a:latin typeface="Times New Roman"/>
                <a:ea typeface="Times New Roman"/>
              </a:rPr>
              <a:t>= inhaltliche Ubereinstimmung von Worter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oder Wortgruppen; bedeutungsgleiches oder -ahnliches Wort; </a:t>
            </a:r>
            <a:r>
              <a:rPr b="1" lang="de-DE" sz="700" spc="-1" strike="noStrike">
                <a:solidFill>
                  <a:srgbClr val="000000"/>
                </a:solidFill>
                <a:latin typeface="Times New Roman"/>
                <a:ea typeface="Times New Roman"/>
              </a:rPr>
              <a:t>Antinomie </a:t>
            </a:r>
            <a:r>
              <a:rPr b="0" lang="de-DE" sz="700" spc="-1" strike="noStrike">
                <a:solidFill>
                  <a:srgbClr val="000000"/>
                </a:solidFill>
                <a:latin typeface="Times New Roman"/>
                <a:ea typeface="Times New Roman"/>
              </a:rPr>
              <a: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Widerspruchlichkeit, Gegensatzlichkei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t>
            </a:r>
            <a:r>
              <a:rPr b="1" lang="de-DE" sz="700" spc="-1" strike="noStrike">
                <a:solidFill>
                  <a:srgbClr val="000000"/>
                </a:solidFill>
                <a:latin typeface="Times New Roman"/>
                <a:ea typeface="Times New Roman"/>
              </a:rPr>
              <a:t>Die poetische Funktion projiziert (d.h. ubertragt) das Prinzip der Aquivalenz von d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chse der Selektion auf die Achse der Kombination. </a:t>
            </a:r>
            <a:r>
              <a:rPr b="1" lang="ru-RU" sz="700" spc="-1" strike="noStrike">
                <a:solidFill>
                  <a:srgbClr val="000000"/>
                </a:solidFill>
                <a:latin typeface="Times New Roman"/>
                <a:ea typeface="Times New Roman"/>
              </a:rPr>
              <a:t>Die Aquivalenz wird zum</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konstitutiven Prinzip der Sequenz erhob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0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62EE2-C320-4EA3-A7F1-7E823F085BB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PlaceHolder 1"/>
          <p:cNvSpPr>
            <a:spLocks noGrp="1"/>
          </p:cNvSpPr>
          <p:nvPr>
            <p:ph type="sldImg"/>
          </p:nvPr>
        </p:nvSpPr>
        <p:spPr>
          <a:xfrm>
            <a:off x="1143000" y="685800"/>
            <a:ext cx="4572000" cy="3429000"/>
          </a:xfrm>
          <a:prstGeom prst="rect">
            <a:avLst/>
          </a:prstGeom>
          <a:ln w="0">
            <a:noFill/>
          </a:ln>
        </p:spPr>
      </p:sp>
      <p:sp>
        <p:nvSpPr>
          <p:cNvPr id="20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Eine genaue Definition von einem Sprechakt ist nicht möglich. Man kann ihn allerdings umschreiben als eine in Satzform präsentierte kleinere sprachliche Satzart. Für jede Art von sprachlicher Kommunikation ist es wesentlich, dass sie einen sprachlichen Akt enthält. Dabei besteht jeder einzelne Sprechakt aus „mehreren simultan vollzogenen Teilakten“. Austin unterscheidet zwischen fünf simultan vollzogenen Teilakten: dem phonetischen Akt, dem phatischen Akt, dem erheischen Akt, dem illokutiven Akt und dem perlokutiven Akt. Searle hingegen unterscheidet nur zwischen vier simultan vollzogenen Teilakten. Er fasst im Gegensatz zu Austin den phonetischen Akt und den phatischen Akt zusammen und nennt ihn Äußerungsakt (Lokution). Diesem folgt der propositionalen Akt (Proposition), unter dem Austin den rhetischen Akt versteht. Die letzten beiden Teilakte sind wie bei Austin der illokutive Akt (Illokution) und der perlokutive Akt (Perlokution). Zur besseren Übersicht fassen wir die Struktur der simultan vollzogenen Teilakte in einer Tabelle zusammen</a:t>
            </a:r>
            <a:r>
              <a:rPr b="1" lang="ru-RU" sz="1400" spc="-1" strike="noStrike">
                <a:solidFill>
                  <a:srgbClr val="000000"/>
                </a:solidFill>
                <a:latin typeface="Calibri"/>
              </a:rPr>
              <a:t>.</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9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5C3FC-1B3F-450F-8F47-9E888B33CC3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PlaceHolder 1"/>
          <p:cNvSpPr>
            <a:spLocks noGrp="1"/>
          </p:cNvSpPr>
          <p:nvPr>
            <p:ph type="sldImg"/>
          </p:nvPr>
        </p:nvSpPr>
        <p:spPr>
          <a:xfrm>
            <a:off x="1143000" y="685800"/>
            <a:ext cx="4572000" cy="3429000"/>
          </a:xfrm>
          <a:prstGeom prst="rect">
            <a:avLst/>
          </a:prstGeom>
          <a:ln w="0">
            <a:noFill/>
          </a:ln>
        </p:spPr>
      </p:sp>
      <p:sp>
        <p:nvSpPr>
          <p:cNvPr id="20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Nach Austin lassen sich folgende Akte unterscheiden, die in einem alltäglichen Kommunikationsprozess simultan ablauf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Der lokutionäre Akt</a:t>
            </a:r>
            <a:r>
              <a:rPr b="0" lang="de-DE" sz="700" spc="-1" strike="noStrike">
                <a:solidFill>
                  <a:srgbClr val="000000"/>
                </a:solidFill>
                <a:latin typeface="Calibri"/>
              </a:rPr>
              <a:t> (auch: lokutiver Akt: Handlung des 'Etwas Sagens' - 'saying something' "in the full normal sense", wie Austin sagt) besteht aus drei Teilaktivitä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phonetischer Akt: (phonetic act) das Hervorbringen von sprachlichen Lauten und Lautketten, die in phonetischer Schrift einer bestimmten Sprache aufgezeichnet werden kön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phatischer Akt: das Hervorbringen von Äußerungen, die nach den Regeln der Grammatik einer bestimmten Sprache unter Verwendung der Wörter (Lexeme) und syntaktischer Strukturen gebildet si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rhetischer Akt: das Hervorbringen von Äußerungen, die sowohl einen sinnvollen Bezug zu Gegenständen und Ereignissen der Welt ('reference') als auch Bedeutung ('sense') haben, indem sie Aussagen über die Referenzobjekte mach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Beispiel: Hannah sagt zu ihrem Freund: „Fahr’ vorsichtig, die Straße da vorn in der Kurve ist glatt“. Hannah weist auf eine Stelle hin, ordnet ihr eine Eigenschaft zu und äußert sich über das Fahrverhalten ihres Freundes.</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2. illokutionärer Ak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auch: illokutiver Akt): der Vollzug einer konventionellen Sprechhandlung, die der 'Aufnahme' (engl., "uptake") bedarf , wie beispielsweise einer Frage, Bitte, Warnung, Empfehlung, Drohung etc. ('doing something' "in saying something", wie Austin sagt). Dieser zentrale Aspekt enthält die zwischenmenschliche Bestimmung. Aus einer sozialen Interaktion heraus wird eine Sprechhandlung – der Äußerungsakt - ausgeführt (das, was mitgeteilt werden soll), aus der im dritten Teilaspekt evtl. vom Hörer die Folgerung gezogen wird. Beispiel: Hannah macht durch ihren Satz den Freund auf die Gefahrenstelle aufmerksam und spricht eine Warnung aus. An diesem Beispiel kann man Searls Kritik nachvollziehen, illokutionärer und rhetischer Akt seien kaum zu tren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3. perlokutionärer Akt</a:t>
            </a:r>
            <a:r>
              <a:rPr b="0" lang="de-DE" sz="700" spc="-1" strike="noStrike">
                <a:solidFill>
                  <a:srgbClr val="000000"/>
                </a:solidFill>
                <a:latin typeface="Calibri"/>
              </a:rPr>
              <a:t> (auch: perlokutiver Akt): das Erzielen einer Wirkung, die über den illokutionären Akt hinausgeht, wie beispielsweise Überzeugen, Umstimmen, Verärgern, Verunsichern, Kränken, Trösten, etc. ('doing something' by saying something", wie Austin sagt) - Beispiel: Hannah beabsichtigt mit ihrer Äußerung, durch Überzeugen Einfluss auf das Verhalten des Freundes zu nehmen. Versteht er die Sprechhandlung, hat dies Folgen (ein perlokutionärer Effekt) für den weiteren Kommunikations- und Handlungsprozess (Reduzierung der Geschwindigkeit und/oder Fortsetzung des Gesprächs) Zu unterscheiden ist also nach Austin der perlokutionäre Akt vom perlokutionären Effekt. Der perlokutionäre Effekt ist die Wirkung, die aufgrund eines perlokutionären Aktes eintritt. Der Sprecher kann bei einem Sprechakt z. B. beabsichtigt haben, dass der Hörer lacht. Der tatsächlich eingetretene Effekt ist aber, dass der Hörer sich ärgert. Der intendierte perlokutionäre Akt des Sprechers ist also gescheitert. Vom Vollzug eines perlokutionären Aktes kann man nur dann sprechen, wenn die vom Sprecher in-tendierte Absicht mit der tatsächlich eingetretenen Wirkung übereinstimmt. Dabei handelt es sich nicht nur um Teilakte einer normalen Kommunikation , die nacheinander oder gleichzeitig vollzogen werden, sondern auch um Aspekte der einen Sprachhandlung. Sie sind durch die „indem-Relation“ miteinander verbund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Beispiel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Kränken des Hörers, indem er den illokutionären Akt des Behauptens vollzieht, indem er den lokutionären Akt vollzieht, d. h. sagt: „Du bist hässlich.“</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Verunsichern des Hörers, indem er den illokutionären Akt der Frage vollzieht, indem der den lokutionären Akt vollzieht, d. h. sagt: „Wann haben Sie das letzte Mal gedusc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den Hörer von etwas Abbringen, indem er den illokutionären Akt der Warnung vollzieht, indem der den lokutionären Akt vollzieht, d. h. sagt: „Das ist zu gefährlich, was du da plans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Zu unterscheiden ist nach Austin der perlokutionäre Akt vom perlokutionären Effekt. Der perlokutionäre Effekt ist die Wirkung, die aufgrund eines perlokutionären Aktes eintritt. Der Sprecher kann bei einem Sprechakt z. B. beabsichtigt haben, dass der Hörer lacht. Der tatsächlich eingetretene Effekt ist aber, dass der Hörer sich ärgert. Der intendierte perlokutionäre Akt des Sprechers ist also gescheitert. Vom Vollzug eines perlokutionären Aktes kann man nur dann sprechen, wenn die vom Sprecher intendierte Absicht mit der tatsächlich eingetretenen Wirkung übereinstimm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0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42364-20CC-4DA6-B006-9C3B0D4A529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PlaceHolder 1"/>
          <p:cNvSpPr>
            <a:spLocks noGrp="1"/>
          </p:cNvSpPr>
          <p:nvPr>
            <p:ph type="sldImg"/>
          </p:nvPr>
        </p:nvSpPr>
        <p:spPr>
          <a:xfrm>
            <a:off x="1143000" y="685800"/>
            <a:ext cx="4572000" cy="3429000"/>
          </a:xfrm>
          <a:prstGeom prst="rect">
            <a:avLst/>
          </a:prstGeom>
          <a:ln w="0">
            <a:noFill/>
          </a:ln>
        </p:spPr>
      </p:sp>
      <p:sp>
        <p:nvSpPr>
          <p:cNvPr id="20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Während Austin die Unterteilung eines Sprechaktes in drei Teilakte vornimmt, unterscheidet Searle vier solcher Teilakt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1. Äußerungsakt 2. propositionalen Akt 3. illokutionärer Akt 4. perlokutionärer Akt wie bei Austin Die von Searle vorgeschlagenen Änderungen an Austins Theorie betreffen hauptsächlich den rhetischen Akt. Da dieser vom illokutionären Akt nicht zu unterscheiden sei, ersetzt er ihn durch den „propositionalen Akt“ und bestimmt ihn durch Differenzierung in „Referenz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 </a:t>
            </a:r>
            <a:r>
              <a:rPr b="0" lang="de-DE" sz="1100" spc="-1" strike="noStrike">
                <a:solidFill>
                  <a:srgbClr val="000000"/>
                </a:solidFill>
                <a:latin typeface="Calibri"/>
              </a:rPr>
              <a:t>und „Prädikationsakt“ neu. Den phonetischen und den phatischen Akt fasst er unter dem Begriff eines „Äußerungsaktes“ zusamme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Äußerungs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utterance act'): Der Äußerungsakt entspricht dem phonetischen und phatischen Akt bei Austin, d. h. er besteht aus dem Hervorbringen von Äußerungen nach den Regeln der Phonologie und Grammatik einer Sprach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propositionalen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propositional act'): Der propositionale Akt besteht nach Searle wiederum aus zwei Teilakten, dem Referenzakt und dem Prädikationsakt. Mit dem Referenzakt bezieht sich der Sprecher auf bestimmte Objekte der Welt, z. B. mit dem Eigennamen „Peter“ auf die Person Peter. Mit dem Prädikationsakt ordnet der Sprecher dem Objekt, auf das er sich bezogen hat, eine Eigenschaft zu (z. B. „ist mutig“). Bei den folgenden Sprechakten vollzieht der Sprecher den gleichen propositionalen Akt: Peter ist mutig. Ist Peter mutig? Peter, sei mutig!. Man prädiziert und referiert also nicht nur bei Behauptungen sondern auch bei anderen illokutionären Akte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illokutionärer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perlokutionärer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wie bei Austi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9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3B479-63E6-4BCF-99D6-0DA955CF23D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9" name="PlaceHolder 1"/>
          <p:cNvSpPr>
            <a:spLocks noGrp="1"/>
          </p:cNvSpPr>
          <p:nvPr>
            <p:ph type="sldImg"/>
          </p:nvPr>
        </p:nvSpPr>
        <p:spPr>
          <a:xfrm>
            <a:off x="1143000" y="685800"/>
            <a:ext cx="4572000" cy="3429000"/>
          </a:xfrm>
          <a:prstGeom prst="rect">
            <a:avLst/>
          </a:prstGeom>
          <a:ln w="0">
            <a:noFill/>
          </a:ln>
        </p:spPr>
      </p:sp>
      <p:sp>
        <p:nvSpPr>
          <p:cNvPr id="2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Explizite Sprechakte sind z. B. „Ich verspreche hiermit, X zu tun“ oder „Hiermit taufe ich dieses Schiff auf den Namen Y“. Man spricht von explizit performativen direkten Sprechakten. Explizit performativ deshalb, weil ein so genanntes performatives Verb verwendet wird, im ersten Beispiel also „versprechen”, im zweiten „taufen”. Man spricht von direkten Sprechakten, weil die Proposition („X zu tun”) genau dem illokutionären Witz, dem Ziel der Äußerung, entsprich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Dagegen gibt es auch implizite (primäre), direkte Sprechakte. Diese sind wesentlich häufiger. Zum explizit performativen, direkten Sprechakt „Ich verspreche, X zu tun” lautet der implizit performative „Ich werde X tun”, das performative Verb wird also einfach weggelass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Zudem gibt es – zumindest gemäß Searle – auch noch indirekte Sprechakte. Hier ist das illokutionäre Ziel nicht aus der Proposition erkennbar. Indirekte Sprechakte beziehen sich auf Bedingungen, die für einen Sprechakt(-typ) vorliegen. Man kann z. B. sagen „Gib mir das Salz!“, aber genauso gut kann man sich dabei auch auf eine Einleitungsbedingung für diesen Sprechakt beziehen: „Der Hörer muss in der Lage sein, das Salz zu reichen“; dementsprechend kann man fragen „Kannst du mir mal das Salz reichen?“. Dies ist (wörtlich genommen) eine Frage nach dem Vermögen des Hörers, das Salz zu reichen. Der illokutionäre Akt, den der Sprecher damit vollziehen will, ist aber eine Bitte. Bei indirekten Sprechakten unterscheidet man primäre und sekundäre Illokution. Die sekundäre Illokution ist die wörtliche, also in unserem Beispiel die Frage nach dem Vermögen des Hörers, das Salz reichen zu können. Die primäre Illokution, das eigentliche Ziel der Äußerung, ist hier aber eine Bitte, die man auch durch die Äußerung „Gib mir bitte das Salz!“ vorbringen könnte. Man vollzieht dabei den primären Sprechakt, indem man den sekundären vollzieht. Nach Searles Konzeption der indirekten Sprechakte muss die primäre Illokution (Bitte) über eine komplizierte Abfolge von Schlussfolgerungen aus der sekundären erschlossen werden. Erst nach diesen Schlussfolgerungen erkennt der Hörer nach Searle, dass es sich nicht um eine Frage nach der Handlungsfähigkeit, sondern um eine Bitte handelt. Damit ein indirekter Sprechakt gelingt, der Hörer also einen weiteren propositionaler Gehalt über das Gesagte hinaus erkennt, muss für den Sprecher die Maxime gelten: Sei aufrichtig und relevant! Für den Hörer lautet die Maxime: Suche nach dem Sinn! Ebenfalls müssen beide über dasselbe (sprachliche wie außersprachliche) Hintergrundwissen verfügen. Diese Position ist in der Forschung jedoch nicht unumstritten. Gegner dieser Auffassung führen aus, dass die Äußerung „Kannst du mir das Salz reichen?“ im Deutschen konventioneller weise „Gib mir bitte das Salz!“ bedeutet. Die Hörer müssen das nicht erst mühsam erschließ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1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DB4A9-AA31-450E-8819-130AED34254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29F21D-6CB0-49A4-85E5-06CDA0C8D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D4860-110C-43F9-A82A-668FA69BD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23EC61-31AA-47C6-AD1A-F59045267D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6B7C8F-F144-46FE-8CEF-2727FFF26E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770686-5ECF-4E1A-86D6-0BD3B0A185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73059A-43AA-4A2F-8ECE-13FEE9F53D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6D110D-AA62-4357-B8FA-D9B120B932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A0A3B5-2C64-4C1E-855F-FAEF647DED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882FC4-C0D9-4333-8DBB-321C14C2DD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25B296F-6E1C-46D8-A03B-50E55BBF2B8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349CCF-F982-41DA-8A32-E31C7D494D0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C5B9643-E4D8-4051-9989-7FC5A6B1A0F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8BF6D9-AF47-4196-9FC4-4E015F2937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C89A5C0-91B2-4032-A9F0-449DC418C52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1D3D0B0-BB4C-4122-8CC6-489BBDB53B9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14F2764-DCCE-4583-A475-1DEA5F93D8C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3ADF952-AD54-4B7D-A76C-BD697971491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DDF4026-CD39-48D4-B9B7-66B2AA86070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7E0698-C051-4AEC-943D-F89E664649F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11153E-E679-4A87-9257-E6D77791CB5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00AC16-EBA8-434D-BA3E-0CDC75B7DA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28E5C3A-7947-4E45-B63A-4F0FB71B985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1CEC14D-1D11-4ADE-8B42-73F6C007767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AC4EE-5FB6-496C-9B19-6971AA451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C60B4FC-7A80-4BA8-BEE3-AA4043F7310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576983B-9960-4D85-8CD6-3B7B187CF49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E5F814A-95B6-440F-8826-2077B89EADB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7077B37-00D3-481C-86E1-F5EF0B4C386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613BCA4-EBAD-41BD-BBBA-663A7C1D349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162F9B0-4E91-4C51-8740-6D5C36ECB90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F1F19D0-9014-4230-9E37-6BF6E0B82F0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FC57D0-1EFD-48C1-A972-38F74207CB6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B97CAF-A650-4CAC-A5F9-533E6475BAF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1330BB-7922-4714-BEB6-4C17934A5F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DC640C-9B3C-4896-AD01-B83AABB573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1C0BF30-AC9F-46E8-8594-AFEE6B78FA3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E2C7D11-5C7C-4EF7-ACE1-F9C8CE321CF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F2C69AB-4D18-41A9-9A96-C53B27B36DD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8450BF9-BE2A-4587-AA56-CF0C3A24B4A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5DB5304-9838-450A-BF46-59945110362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FD97418-F623-44B6-8AA6-CADC951AC6D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5AF6E4E-ADFF-4F1D-A921-C11937E7FE2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03FB3C8-A5CF-41AC-9EEF-3D1C570C46C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2A60DB4-4928-4CE6-9E73-A2F8A11D137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0902D0B-EF65-4720-AF59-F8C5993CA6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F481D-A2A5-4063-B564-A6E1F8DFD5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432EF6C-72E5-4962-AC07-0E7324B91EC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695F898-DD98-467D-B7E6-97610A791EB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40CB02E-BEC8-478B-B3DF-A9601CF5606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EF6EB24-9548-4F10-8133-50CA4700C22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C7E3326-2BFF-4F0C-96E4-DC79AEAF745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E40B462-8917-499F-8C9D-9B31842663A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580872F-0BC3-4FFE-B311-5F9A07B6F1D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DC73983-2AFA-4238-A245-9CD9B0343EC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08BFDCF-7BB2-45F7-BB3D-7C7B2B3A3F1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401B1A9-502D-4CC1-A0B7-B3D8FFC7F0F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D0E76-9AC2-4B2A-93D2-27C8C30F55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CD7049B-3B31-4E66-9CD0-DF622C2E46C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B6B0683-7411-4870-92A2-4AFA5A8AF39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799D4F6-2CED-4F7C-88E7-0219BFF79B3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1A0A86A-C340-48C1-8DB3-686E0BD3C5E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DABDADB-3CF7-4153-BA26-B00FA2C9911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02D9F19-DD1D-47FA-B418-165472F07D7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00D044A-63E0-4E3F-B2F8-4F27CB29702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400105B-35AC-49AD-BF44-5F422B7B278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89758B2-774F-4275-BB5C-B7A531F97B9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70A95A8-0A8E-45C2-BAE0-2AA26F5EA9A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EB0FB7-52A7-4568-89D8-A30DBDA4AE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04563E7-780D-4343-83F6-87F80D3FFAB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29E2C0D-5E80-42C7-90BA-16E793516D2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7C21B1E-3C12-4A4C-8FE9-2093C24E892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56F1AF4-B8A9-4AA7-866B-A646A317A2F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AFF576D-E658-44A3-BB0B-CDC61A21747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76F1C55-9159-4522-AF2E-107E875BAA2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66D6292-F995-42E5-99A3-E8F3DAE7A73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750BA83-9602-44B4-BFBB-3B4B149D065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B592481-65EB-4445-A618-33A25D4FA38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7221F23-38E7-488D-A068-6146E906E30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C44AF2-7153-48B0-8704-D4CC6BDB0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DD072F2-5087-49AF-BDF3-7064C75E8DB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D21B187-D5D2-4EF7-91C2-8F15821F07C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9A787C2-9114-4713-AF6F-CD7BFA0E1C9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A459FCB-9A32-458C-AB20-2201947DCF5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8741150-D701-42CB-8B31-9A9248FAA40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CCC2D44-648F-4643-8C7B-7DDE1105DB2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63F4964-3F96-4679-A49D-A940638CD1A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2A9EF68-13CE-4CAE-AA35-82934DFB7E9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CA5609A-3B3F-4C96-AAEE-2FDE1ACBAE0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F8EA225-9C8E-417E-912E-C2535C10553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68C644-5F7C-4B08-B0A2-745682ED83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A00484D-CAB7-4D75-995E-AC5336AEC1C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DF18814-E2D1-4B4E-A3DD-B6542434893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1F339A7-6C98-40EF-A943-2895E199E40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0C1F156-932B-434E-9923-C70A73894FE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2B165CA-CC8B-454C-BFBB-08635002E7F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2879ACC-506D-4E0B-81BF-5EE740D7956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51A86C4-C433-4609-B90C-E140827BF91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1CED3F6-8D7A-4966-9E3B-6D1F1A4B47C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3034A50-4D02-42A3-B73C-8EAB7E1ADE1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15A2A96-FE35-483C-8639-F10F9AA05B1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CFF10-82ED-401B-AD0E-86E7AFDD5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57B179D-8A33-4ED2-A41A-E6AD484C576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807A4A7-CFDC-4B70-AC6E-DABF3A9A7F3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EC49CFB-7981-44A5-A622-9B0B4258E2A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A1E9C75-FCDB-4CAD-81C6-01CA3FCECF9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CA8C444-3CBF-46EC-AA3B-5D62982DBC0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0647CC1-1090-4BFD-96DD-78EC9E67A26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F428384-04E7-419A-90C5-4A817910147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46E1AD1-D07D-44FA-8FC1-6524366A774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F4A957E-E912-4C98-B4D3-7815E8F1847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647F51B-C254-48AA-8770-89E085C145D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9CE7C-FE73-44BC-8A23-C322F0AF0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00670-9656-4A88-81BC-9B85106DE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B376B4D-AA8A-4FDE-94FA-DC596181793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D972F51-8E55-488F-B452-7F470151C8B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75DA5B4-2742-4486-89F5-83037867051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85FED35-9BE8-44E2-AE04-FFBF203C456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B2E068C-BA27-4709-B0F8-99244C25C87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4A53042-C5E2-449B-8ABC-E0AE9EC42EF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493576B-689C-49DE-893B-B20C121A25E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0D45368-C45A-4C9F-B25B-6B90A722C4A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6F6FF40-422D-41C7-A3CB-F5EADA79059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80F5D58-C860-4740-8787-0940E5BD75E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8AEC3-1AE3-4E4F-9ACD-5BF2A3A51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AA3C36F-E1B8-4C88-9638-D459552A21B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A925B81-203C-4709-B2D6-9108753DACB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B93C113-9B3D-411C-9CF2-00A05EFF275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D853218-4D3E-45EF-B53E-FF7C1D6B436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E04497D-BB17-4FFB-9756-645AF843735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343EB74-E86B-4C2D-86FD-8CDDA9DE15A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A4D1D38-6455-42E6-8F35-5198AB45893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4B668E2-81A1-4CC4-A11F-9221480CA96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CDAA90B-0806-4223-AC04-E69258A07BC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79B959A-4740-4144-9F23-95DD0ADAFE9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B90C9-A8E7-45CA-9875-09B6DC6EE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677A057-280F-4E4C-BC30-7C0796A1567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9F91150-AABF-4CEC-9105-ED88F056E29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3E42401-C0FC-4BEC-B048-7D4CB55D455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D9408AC-5D58-4440-9B83-A9430887CCB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B200D18-D20C-4156-9743-7707F57875B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F295BBD-4634-4D87-B186-0ACED2E22AD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87731FF-70B0-44D5-A8DC-223EBFD1C60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A3795F8-AF22-486F-9AA7-ECA8CA7FF0A9}"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99E22883-64B3-4CCD-9CFC-69B3DD0EE03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0008BFD5-996E-4DFA-868D-31E25911C4A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E8B252-8550-4221-A749-714B1372E8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9891911-86D8-47A9-8555-05ECC210EFA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612C844-5880-467E-817E-7833F9253B2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3CDA7F1-E2DB-4AF4-B99D-2DBF871680C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C9A08BD-0C67-487F-AA8A-0CCE4A2CA1C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38AB06F-3102-4DFE-A6F7-53B221BD4BD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B938FBD-3D36-4ABE-8251-79D7C5631FB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B635355-7318-41EC-B9DB-3328DDA7D88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2545823-9E48-44CD-A16D-57E8299D8F4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CBC6D84-1802-42B0-B95A-AB7BCA97256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845934F6-C7A1-4DFB-8C5A-33EF4D8F4858}"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5751CC-D73A-4969-AD77-D6DF1A834B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D8E510E-3E05-4DEA-B3C9-B2789CEA4CD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7E7325B4-376A-4BEC-AA8B-EAC382460A4B}"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06B3B31-E1F5-4072-B8EC-A26BDE5CE92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00B77B9-82E7-4768-B067-B6831F7D136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97F5078-0A44-482F-9942-0CC9FEC175D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A680D48-936C-4C66-BF11-7FCFB6B616E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58069A2-B40A-4D2F-A307-63456D7CB3E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DC6894F-DA08-4213-9ECD-40E748381A2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DD70FD1-A86C-435C-ACBD-036D5692DD3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BBCD998-D98B-4318-96C2-3F40A7845F6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7769E3-0B7A-4E7F-A7C4-93D94ADC51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E52F260-238A-4E4D-BBBC-2171189BD00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2FD54190-C019-41B8-9DF0-59D3CC98AA15}"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B9B06167-1A35-435F-85D7-A11AB1AD2970}"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7B6ABF37-255F-4311-9285-CEB8D219A0A7}"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49AC35A-8861-467B-B26B-565A7C37349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A87F664-5F4F-4590-92F9-1155CEC9503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D9111F5-F416-4092-A00A-B90BE34B760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E788B90-35CE-444B-AABB-CE0B4DEDC6D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50E2D39-6205-4D6A-B9F9-AA3E4B5AF7F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1ABFC3D-7168-438F-B76F-2C55D40E4C9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803D00-511D-4B9F-9C1A-C7E14DBD39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2E20F8E-9F04-48D7-B8BD-4CAF2DA4E07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2A0E529-47CF-4892-A287-A0F5E40F268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073AD1F-E8A0-40D8-9B95-717509180E8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98426673-552F-428F-9077-E39A18188F48}"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A08D747C-8092-4D8F-A29E-246FB2966180}"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FBEC8A95-A035-4F16-BA09-86E739677772}"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1D785CA-07E8-4D50-A76A-8D565CF9B49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25E3276-9282-4874-9943-F7D4411E2D0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F92CD3A-D83A-4E5D-95EC-3F826D80831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4F7D597-70D0-48C6-B4F6-F05171CE8CC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D05C0C-2674-47BA-A318-21A6A28BEF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3EA6FD8-C923-41AB-8A11-D1B4956B0FD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F9B645B-E6BC-4A31-95CB-30D8AB105AF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5508C74-8DCB-4A5F-8051-2BA839734ED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CF877E2-9DC5-4FE8-BD91-42C1FF028D9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9DBA811-B99B-4FE5-821C-5D7375EDA9C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71B0341B-D6FE-4F82-BE20-DE473691A912}"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1DE943A4-ACAD-4D46-A09A-A6F3F59E191F}"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A2BB5FC2-5A1C-4821-8FA1-0C8E92191BFF}"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98C539A8-D396-4583-9AED-E93B9473A09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C7F2280-4D2F-4A10-A034-D6DFD44A44B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3F7A4F-FA7E-40A8-B086-05063F62E1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9E8B7D9-1EE3-4705-A946-829A095C966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E40CB49-97AD-4AEA-826D-ED6B4528C20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0F87124-6AE4-429A-8D79-A493B3CED6A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80CECDF-A28A-4985-BF85-4C0D6DE514A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D50C71B-4924-4914-ADF2-91F21D0FBD4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ADF01EA-4789-495B-83EF-D7C5594615C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9E1DB4F-5C4A-463D-895C-0D622E4600F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AC793B58-DE16-4970-A30D-7DA4ED6A5EF9}"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328266FC-2776-4AFB-8D42-866EACCC5530}"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6954B7C2-4850-4DAD-88BB-8C14274571D0}"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78806F-CB17-4BBB-AD97-637069B354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404C3950-9532-4AE1-AA30-9FA3E784A8B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69D4515-978B-459C-9051-C019F21491B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ADEC4D2-3C86-4F86-BA0D-F28736318DE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CC1E591-AA6B-4A86-A4E1-919E6EA834A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79ABAC0C-9544-4621-8CF8-ECE90B78A37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D2524F3-2F22-4BB3-9613-E8DCFFB3D22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54EF9EA-CDDC-4194-965D-9AFCE0C373B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1F879CA-28DF-4255-9F9B-723313F4582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98A2313F-8225-4AAA-A4AD-0788FF14925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ECB6DC59-C6BF-4605-9D51-5F6C78542F32}"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88F10-A293-48BC-A7DD-2BE7B30FB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E11F57-B8AF-4976-8A62-E0130004C4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EC4C3D1D-ECB1-49BB-8201-E23AD7FEE5FE}"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8FDC56F8-0A2F-40DA-BF59-D40B23809BF5}"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ECFF02BD-C19D-4D39-9AC5-4ADBF0D52A1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6E57F46A-FB76-4D54-9880-99EB5DD2392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348F5636-09C3-493A-B6C8-0E1E649C4A51}"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A640E8B-1B94-4384-9048-F0627252E9BB}"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722116D-F787-4861-A429-4DFA0F2BF455}"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96F2525-C0D7-4CF4-9B48-16DBF9F7A93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821F99A-D936-4798-8A56-6BEEC5640D5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EF06CB1-A3F8-4EDA-A8F2-1352971ACCF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502BCD-827A-4BC3-AF36-410CC41DBE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9805D2FC-C1FD-466D-A75A-FC5D92A3EE5B}"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EF2A1266-ECE3-4F30-A62A-DDEFDF88E8E5}"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98F21669-7CA4-45CC-BC6E-280D8E69E3B3}"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AF55ABA0-385F-45EB-B9EB-B0685E92686D}"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37859B03-01D1-4D76-8EFA-5D84F9F32AE2}"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0C9A380F-441C-4382-BDB6-B43F3B89A7C4}"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638DEA6B-B89C-4447-8225-84379F74254E}"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58385E8D-8245-4B55-B541-089B8721C17C}"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0543C878-CD67-4B8E-BD0B-17E0C81C02FE}"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A141EF7-902A-444E-85E1-0C6DF91411B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68369A-8ADC-4A47-8F95-1752CBC074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41E0735-3634-42AB-9968-E6E34A2FD3C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609F07B-2CA6-4843-9AC8-899F0051789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77AF4051-B0E3-4D19-8D10-7AB8A2E4594A}"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B2CA3119-7292-4F1D-8E9D-45CFAC22C064}"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926BFE85-C6A2-4706-8153-F39711A7E184}"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8CD3BD89-6E6D-4A8B-ADE2-6B44AA384D71}"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1BAB65D-5F63-4796-AB3C-9AA25015453B}"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B5769CEF-4413-4D11-B218-B0E099BE7683}"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87141CEE-1EE7-4843-B26B-77C9DCCB0BD2}"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B05155F7-1AD9-45E4-9BBD-2359BDA6BA3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96E240-495E-4B22-B26D-F36B460A67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3D5AE66-FA92-4516-AE44-B2F6214D6E81}"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1FA70D1-0823-4DF8-9F00-85B124D1391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429862C-72AA-4975-A20E-908F1E22EF2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27E4023-77EC-4DFD-8A31-B6EC5980B3A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303D4A50-1F05-4FD3-BC83-F3F5DEED2A2C}"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A0DCCB60-61B7-47E2-BC0E-D963ABB3472A}"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B15D4D81-C0D7-4BD1-A5E8-C6D77B77B930}"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9FA9F246-3D35-480C-A455-725B03CB3F32}"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42C80A65-2BF5-4065-B536-12F87047C7EC}"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1990FA12-CFAA-4CF8-A3FF-35B0C710A0A3}"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CB9CD1-39DD-44B8-9C9B-4272680548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DB3987FD-8D45-4B30-9D71-619970933FB8}"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57A39398-1E59-4E2A-A3B9-DD37F507BCEC}"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5070F9BB-77E0-4219-B865-75AB404D228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5E15D9A9-5A95-443D-9308-9BFC6C665CE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DFA5F5F-D1C4-4491-942D-BADD75C8478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B57B50A-99C8-4ED0-A9D7-801A0C46264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40F6B2CF-5A58-4AF2-8A28-13DD5CA2E040}"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7F7298B8-FAA5-46EE-A3C0-83AF72941A9D}"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7769DB78-A654-46A2-81C3-5B6BC8142BCC}"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EA087990-73D0-429B-89DB-5F6F04B0E4A1}"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4A58F4-DA61-4C0F-B5AD-51002B2299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D775990E-312F-440B-A9AD-901679EDA5A3}"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3CA988BC-C142-40F0-A6CA-C48DF5E6A7F0}"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1FB7C831-5B66-4DA4-9B8D-2DA4D55A3022}"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487E4660-1FD9-45CD-BA4E-485BAFF69CCD}"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2970C72F-EA8E-440E-BEDC-9E601D3CAAD2}"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A4D3684-CCBC-46BC-9F06-317713436BA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362DD58-0297-4971-A857-A4921913D01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9DD193E3-1602-4C74-962B-E4BBDEC34663}"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2CD0B798-3CEE-426D-9C83-502156A1ECDE}"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0BE5F9B8-FF4D-4D84-8048-3A0353CCF40F}"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129EE0-CC02-4925-A652-2362A03509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154B2DE9-15EB-4EB7-B6EC-176FCF66CAB8}"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837864F0-66CC-43D3-9766-257235DCEB9C}"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8419F88B-B44A-453B-9648-2EB009D99F5F}"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7147E8B7-7482-42A8-877F-6171D7E375EB}"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4CFC7EB0-F957-4723-AF2F-727405C3FB12}"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ADE9E6F6-0AF5-4CD3-9668-62F16BDFF038}"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0B93391D-8E7F-4303-92F5-32F7F40E1C53}"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C9ECE0A3-F43C-49D8-91F0-9470E968C9A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92CAEA8F-BEC5-471B-AE64-FF909E86C489}"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E0ED466-C27D-47C5-B8B9-E434E7CA4548}"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E5D787-1BF7-4048-9306-B38A23FF2B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C1A41012-B5A8-4288-BA7B-74A4C0B0CDB7}"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362094BC-FA60-4FB2-A63B-8FB8D0B56E96}"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2EFE5D0D-84E0-4B5F-A3D3-BA7EC2CC9BBC}"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B8698A8F-C64F-4245-86C0-A1BDFB6126D0}"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11B39076-4409-4D6E-9DA7-0EC7CA66F440}"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8177CC61-9EC3-4C1E-BBB6-6018003D2E81}"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E0C122A4-6421-4BB3-8F03-D29E8BA01949}"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60FDCA80-6565-4D0D-A2DD-102C05AC9D0A}"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356EA7A9-D34C-4A3C-A110-7D7263B49B8C}"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69F7C7A2-6146-4129-9EA1-E91F36922DBB}"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E5407B-7FE7-4CAB-A809-95C9DB8D78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2D6B081-3D56-4144-BAB2-3DA148635283}"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92D30A5C-79C3-410B-A5AC-C194C736291F}"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447221B1-D5FC-4095-AF9F-7D0E3B5481D3}"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D9CA8286-6BB1-402B-B069-A62652504F1E}"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4255B480-096F-41AA-A997-BDE627373F40}"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50D673B4-4E60-4DF3-BAFA-D2D63068CE2B}"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5789294F-7145-4447-81B5-69B402B7F12F}"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9EEE22C4-E945-4CFA-8F69-FE20B6DAA812}"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288BF771-9D93-49B2-AAB0-4AC7E4AF94C1}"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079DD78E-5B97-4A98-8224-3B31DE11E082}"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768B48-6F34-4AF9-BD9B-1B3794901D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48E9EBDA-774B-4F1C-946F-EDD43882CB95}"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B72F19BC-86EF-42F0-A42F-1DFC4181A642}"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28272765-36E0-4C8B-A8F0-54DD6523C156}"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F26E65C3-5BD5-4F8C-9B61-A6A7D70B8B16}"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3F5D4C36-58C9-4AE1-B80D-979D64EE4D64}"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BE64BAD2-07D4-4AF6-982E-9BD6893494C5}"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C5EB8EF8-9B9E-4B3A-93B6-F2C259012E28}"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1B9427DB-6D0F-4A54-9278-E0E46A939974}"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61605895-88C1-46B2-934F-F5259F1F2776}"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83A57868-F70A-41E4-B3DB-D0956B943445}"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CE01A-6552-42CD-BC88-7D5A179DB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CB8861-0C07-4267-A5A6-15514EAEDE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F45EC553-2037-404C-ACBE-0914C47FCD88}"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118CFA31-DA87-47E0-A961-D69626D0AFEC}"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FD9A7C9C-0899-483D-A797-BE94327C0EE8}"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962F135F-793E-4075-85C1-CD006292E85D}"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A4285609-93E4-4FD1-B11A-5B9C56220618}"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78EFFB00-7DA5-4504-B483-D89411DC9BE5}"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F540AB1D-CB83-432B-8FC0-B72BD0D67D0F}"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393B2EF5-C7F8-466C-B920-7CE409277F85}"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5F5C7867-7E9C-481C-B2D0-590F08CD0CC4}"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A739C198-8229-4466-9BF7-B98FD728872C}"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25C8DB-F9D0-401C-9F71-8F0B23FCFD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83D478D7-BE4C-406A-940B-FB38F365ACB6}"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C11B9A0A-682B-4BAD-BCDE-7F0D681B3EC0}"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FC7FE755-064B-4F26-AB45-CE888E93B182}"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A756FE43-5F0D-4EA5-B60F-CADFFDB50ACA}"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21C35E07-21F6-46EB-AA89-6640C70B188C}"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8F289568-3171-4325-AA8D-C7385A59C67E}"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0EBE77BF-4E31-49F2-B506-4EC6B88F23BC}"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0897584B-89A2-4251-8F54-8568CEA1BDB5}"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4BF42B72-4675-45DF-886B-3E7AC74665D5}"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32F81C97-61E6-4DA7-92CB-FE6C3C46DAB6}"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25B03A-3BB2-404D-9CA4-A5BFA766B1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67DB8D84-C136-4329-BB32-35938F289F5A}"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840FFAFA-1EC6-4A73-ADBF-305AEF1719D2}"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95C5B28A-1D6C-4E66-A4F0-C843656EF22D}"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A85D7664-0BED-4D36-B676-A115D7C6EDCF}"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F0E39B90-A841-46B6-9970-803BC08AE85F}"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E53CADB6-3B8C-429C-A824-2B0B01AA0CD2}"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A5E0AE25-4033-4FB5-AB9F-56AA54C0168C}"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F527A647-6D48-40A1-BAAB-240FC55E2E6F}"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38274CA3-04E4-44C3-9155-B81006B1FB0B}"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44A400FB-30DB-48A8-B8AB-1FED3ED55E8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09B7D7-D250-498D-B7A9-44D55AC24C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0CE302B2-0F0E-409F-B25A-DA57486FBFDE}"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6ED945D2-28C6-444D-8A79-058EF8C59A8F}"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00009AB5-90E7-4874-90DC-F00A46FD119F}"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06B8B968-58ED-46D2-8B69-3F8BE3523163}"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D6F7D6A4-1A1F-4B65-BE6F-08C885633C76}"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0E58C6DD-BC30-4261-B6FB-B1C636E215E2}"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B97E98E5-E5EE-42E0-8A03-3C54C7C3002F}"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0C152222-B74C-4EC3-968B-F9FD76FD6F32}"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1803AB8D-EBC7-46C8-8202-025CCBD6C897}"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FF6FE469-7EA7-431B-BD2A-94972EC84100}"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65650C-C6F1-4134-9527-64C8AA2369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01DD5D96-EE5B-4FF6-AE9A-78266D410C79}"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96ECF5DC-F602-4218-99D5-13BF5FF0DA15}"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AEA8E729-29C4-42AE-BFB3-D55E323EEA74}"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FD72F889-68F2-4CC9-B058-F0169389E301}"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B0F6E327-4F5E-4F76-9020-71B3E91A2A50}"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49F9054C-2205-4C65-8D42-17046528C864}"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153DF966-2012-4680-8ABE-331BB7CF28E8}"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3F2F8FD4-25A2-4C4F-9522-A627B13BEF30}"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33ED0BA8-D3C7-4F73-8A31-0BDCED6E3807}"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CD1D7FFA-7CFC-46FA-9FB7-ABE004C8E35C}"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A73427-BAFB-486D-97F6-6DC5B5C69D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37627D4C-A259-4E17-9EBE-286882420265}"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C94912C6-7A09-4F62-8232-1F34A6ED2844}"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D3BAB700-E369-4962-B23F-23DBE92E7B8F}"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0C31CC48-71FD-453E-8693-72A3018B2907}"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F38F7BAF-2478-4EFE-8326-124F6ED60DF8}"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24D5F217-09D8-4AE8-8B1A-DBD3C472D8F1}"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F269B6D4-6E13-451C-9796-01037CE3AD54}"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D8770CC8-DB7F-4E29-97F6-7E2A0BDCAC44}"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60084C3C-3DF6-4532-A754-46EA02F019DC}"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1202A37B-7EE3-4198-9051-6AC5A419BC8A}"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062F00-BB92-4041-97F2-1FD5136641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EC9EEAB2-F5BC-460A-AE81-52DD1ED7CFA6}"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139F7473-B2AA-4B63-8F31-D5CAC3EBDA92}"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511CC2AC-3F8C-4365-BE9F-7699272BC124}"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A15D7DA6-0A1B-4647-83C4-4198C3526D42}"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6E580B37-CC45-402D-8F25-DB10AF69DD0D}"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FA607614-1450-49C8-A2B1-48844E312902}"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A5D007DE-4115-49BA-A6C3-3FFC4CB3185F}"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A49A9663-6A51-4C39-889A-50112C2801A5}"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8C699086-1A3C-4F87-9E0E-573D5D7006FF}"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9D7189C1-1A2B-46DC-8ACE-F26D1ADA663E}"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D835AD-DD4D-400D-86DD-5AFC5BCB92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F97DB79E-8A1F-48D4-B76B-F6EC22EE11E8}"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7DC40BF2-E4A1-4E7E-A991-61583B31C040}"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800E49CF-1017-43D6-B3BF-F328EFAE43A0}"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AFDACE70-F665-4D04-A852-5A867D0A0A68}"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057A3CE3-5749-441A-822D-C82496672DF3}"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71784D61-8BEF-4425-A770-A6CFDA1F04F4}"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65705590-7468-4E85-B183-601B70B06603}"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C025F8D5-B4CA-4A7E-914D-D50FCFD975A4}"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43556B67-A186-417B-B944-C8917883BCA6}"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EDB38827-6B98-482E-8251-2DBF2AD96FF3}"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D55CEC-B602-44DA-B319-BE81223D5C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B100D111-0362-4BF3-891B-8CBFE28AC925}"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1F1C59F5-72FD-45C5-88A8-7F54DD44B5DE}"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A7FD0966-FD5B-49CD-AAB7-7EB9454031F4}"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D4DC5B99-884B-407D-9704-6605E755164D}"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DF14EF49-4457-4726-AABB-A5553A3DBCCF}"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214953CC-033C-49D4-B15F-7456014FE46F}"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0EDDED45-2E23-4884-959E-131725E8B140}"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26637E3A-12E3-40CA-8614-9414C40AB6E2}"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B4C19AF2-BF10-4510-B666-EA71915917E7}"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038477FE-71F2-491D-9C80-A40BCD8EC3BA}"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E2FA8B-FE1D-4DCA-9BE1-37226CA992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A636B90E-C2A4-49B0-84B2-01AAC2558E95}"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1FB47170-B61C-4C88-93D6-6B300485225E}"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0ED95F9D-2F0C-467A-86F4-B1FC983C3656}"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0AF370B0-7A38-4E41-95DA-CCC17DC5AD74}"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0775D6E0-2985-46E1-976F-ED9A89C05701}"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237C039F-4A3C-414F-BA65-BFB5B31BB542}"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1BFE2EBC-2C2D-4AC4-A3B9-B549132E20EB}"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A56EBBF6-7C3A-4934-913F-B85FAF73AFA8}"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F85D20B6-D86A-41A4-9C54-49DAB65AD45B}"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879283EF-4F69-47D6-B4AE-A13A7F1FC1A0}"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BC45F-0E45-4D99-9BFF-53818AF1E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151ADB-0BA6-4667-9075-FEF04EBF7E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14B438B9-7831-43B4-B680-1F3C94A7AE6F}"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A37C0CC0-44B8-4CAF-807F-D4BF8BAC388D}"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A9DD0C1F-D42E-4D09-88A1-F1C4BC580048}"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5DA89055-D840-4A23-8E99-DFCD998F01D7}"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3A46479A-93E6-4E6F-94D9-FD21BAB31808}"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5BDC710C-DADD-4516-AD79-9FD391B05052}"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33185366-8435-4688-90D8-C8C4CA50C783}"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1287D879-6D27-4B22-A07C-D41580AF1409}"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697B70B0-1ABF-4E7B-9FEB-E5070C9FBFBB}"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8F85C6B2-F734-4BB8-9A37-4C79E1E0B56C}"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A1F139-7ED5-48F6-A3A4-4EEC11A2F5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0E7B99B2-167A-4A19-B4A1-E4C53D4941B2}"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33C97286-9BC7-486C-9D74-F418142B7E17}"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78F8BF30-94AD-403C-A25E-CD15DBE628B3}"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DD6B1273-2FBB-430C-A587-FC88B898ABE1}"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2CFFFAA8-C414-44DB-BBE3-166C2185E996}"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8558B953-8F1C-4E9D-984D-5C1462D0319C}"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8D28AE4C-A1AB-45DD-8FD0-451CDE1298E3}"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CB7BFBF7-FFB4-4510-86E7-43FC6E169CB8}"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29CC3F17-CBEE-4719-B05C-061CF368D0F6}"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B8CE81FE-40DD-4CC6-BBB1-25965532C608}"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F1F7D8-DDB6-4407-842D-5ED7219EB0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328E2B20-C6FC-449B-B663-C1359FB5717B}"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495CA076-F287-4ADA-BCF2-947ED5C78363}"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6C802875-82D0-4ACA-9F90-4EADEAFA0386}"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B4C350C0-E329-46B0-A046-06AE8CB4BC1B}"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3AF77357-2812-4A2B-9F35-E862BE406A02}"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1CAE48E4-BCFB-40C5-A709-6696D6BC2E42}"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4AFBB4A9-86B4-4164-B670-9D4F81B955E9}"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C5D13480-392A-445D-8B1A-29B1273E8734}"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2E3D7E41-CBEE-49ED-B3BF-DCBD6A2DA563}"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8979BBF6-91DF-406E-8010-F0C589DE069F}"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050D47-35D4-4090-A37D-4F728613D9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8DDD4255-C206-49ED-9164-35AA92EA9360}"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ED7F5DB1-6FA7-4028-B7DE-4CA35AF3930B}"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A444CDF5-95B0-4C7D-A662-FC57DF78FD4F}"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A9FE1BD7-AFD0-4D4B-9944-591516B29988}"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89219D7C-9861-4B6F-B706-7FEEDAEDAF03}"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9FB4B291-0212-4A9C-8156-549AE8E7E9D4}"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8D649F60-2161-43BB-A030-7F8717C220BE}"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7ED0E2F7-60D4-4BEC-BFDB-4FED455356C8}"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31FD3027-6B94-40B7-906F-7AC41695CD9D}"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57688B61-C575-49D2-B658-1129E57EB59E}"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EDA6D5-7DA9-4794-9994-82F8F02911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F61842C1-676C-422A-99E3-53563A14AD31}"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5E19346C-C849-4BBF-9659-C35753401F2D}"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3E237983-27E1-43AB-BCD8-80C22BE37D42}"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A346EA5E-4400-46D1-A76F-FF685F90780B}"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91E32212-D522-4837-AB08-482E8AEED28C}"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55D1A74F-1430-48CB-81BC-6C5526AB2EAF}"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E6D4A781-3D62-408E-BD6B-B2A94BA96A6B}"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4BB42DE2-804A-4BFC-86E3-AB5C5529AA9D}"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B0A124CD-EB6F-46BA-925C-3AE71B2FF35C}"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D4DA3B88-E589-41E2-B2F8-E9367BF8CC61}"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3B46C3-709E-4FD3-A445-5D7746AA63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DF241A09-C984-4549-8450-32BFEBFB402F}"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3B6E4A2D-0F96-4BB4-81F3-92F002770B91}"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B3863E37-8379-43BA-8C65-775B371CEDE4}"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E368F2B8-D200-4385-A585-CBB8BFED027C}"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644588D6-4F8C-4E82-9D5D-F9F0DAFE4930}"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26EEB4D0-ECC2-4E6E-AE70-49EBB3C4FF59}"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97F45EEC-3C50-45B5-B85D-BEB9F340177E}"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ACDBD18D-69C0-4DDE-B197-F656E92E6B11}"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58556836-9DEE-460C-A478-C1DF93D44434}"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5B8A5ED6-81D8-451C-9F00-981DCDFFD2DA}"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FAADC6-3646-412D-B85A-BCE4AB247E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1F9DEB5F-F4A4-4C30-9A29-0A56A0E4CF4F}"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B4FF2BA7-CABE-4C9F-B206-8354B061A1E6}"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90833483-55AA-4931-83F4-4765336494EA}"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4FDBD8FC-0888-40D1-8D81-D62549BD1241}"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58570A97-BE63-471B-9444-ED85FE6C7D1D}"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5EEFF4CE-376D-4504-8E0D-929F3CEF8A52}"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B355DF67-514B-47DC-8D1E-316BDF254F75}"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2F8B4B69-C1ED-447A-977A-7AD866B9EF67}"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C0883313-B622-4EA0-8619-0D3CB2233C0C}"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16C80F88-0ED8-4DC0-944A-44710201AFAA}"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8FB048-70E4-412F-8A28-7A258B0F28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F107DF8B-BF31-4C83-9CE1-302D9BA49BBA}"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599C02D3-C0F1-433F-878B-9FB8F9F9E157}"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7A3052B5-3264-4F86-96AF-83E6739D4FE6}"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10A3DCCC-DBBA-45E6-A073-60DE0C962361}"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67F59002-2166-493B-8D85-6F3130FDB8D5}"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D0791144-36AC-4945-B658-D5FB15AEBB75}"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75D644CF-EF6F-49B7-ABC5-B113FC98DFE6}"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F3F56C-F02D-48B0-8A30-B0208E7D54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057F2D-F0C3-401E-9F30-890D85C60C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F8852-A459-4E2E-AF8F-B484EC288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804823-9999-4204-8530-445F2A0A19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5BB466-74FD-4F12-BF38-C151D3A1F5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FB5CCE-73C9-4006-A29C-AEEF1B01CC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5B1A3C-01D0-4614-82DC-BFFB7A8B29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42A873-3209-43E8-A2BA-E69FDDFE90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95FB47-68C3-472A-89B4-4DB0D9299D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AD3B86-CE95-4344-ABC2-79B5338C4E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B40973-85E0-400F-BADF-BF981CDE33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CAD978-23F3-4C81-AED3-C78A3AF4B8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D36225-F3E7-4A5B-82B3-7943EA250A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B93D0-5F26-4D27-A3BF-6F057920B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DEA876-1955-4CD0-B85D-B69B0E5E34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69249F-032E-4815-8329-5FBEBF32D7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20902E-FA76-4D41-AAC8-01FB91942A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F547E7-78A9-4CA5-8E63-2138DCDE4E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C105FC-C80F-4E7D-A0F2-E0E5551F2A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BA47DE-A1F3-4ACA-A44F-4ABEA39222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A3BFC2-0F70-49B5-BE46-DE9419897A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EF8B1C-2F05-4933-895C-2DA01B6123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1EA459-4E8D-482F-BD72-BA4BB8974C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9ECF81-A650-49D3-B680-0756B7CD27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6CAB5-AB4E-449F-83A2-2EA0D516A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3048EF-84FF-440A-98C1-8DC6839D47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CFC5A0-912C-4BCE-A8DD-DC6A4DC3AC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455C22-A3A0-4F68-83BF-796ECC0EC0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B71887-574F-41F4-822F-42AB197940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469AFE-4192-4FE7-B753-CC06002752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768641-777F-41A2-9FF2-6CC76CB796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A27E62-B658-4D80-A63C-B99833C08A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657334-9345-4BFB-B113-59596CD0E4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E844E0-6667-4E27-8E8E-359177AA0E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78EE35-1F39-434F-AFC8-F0789071B4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A09E0-F7D4-4AD9-AFEC-81A94E397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12452E-9C54-44B8-B541-B65B4355B9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F552B8-7E4E-4EEC-B0E5-3179A84C28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29F57A-3D03-4721-958E-8AE508CF3F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A3DF3C-6301-407F-AA09-447B7EA945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D1FE31-EA86-4C39-B185-679A563922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D2E5E32-1421-47F0-B0B0-E3FC7F770D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9FCEEB-E598-4D46-85FB-A0F5F37C2E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48DB8DD-E73F-4561-890C-11A313DD05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2776B9-0686-4F08-B12A-5E8AE4DE50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619245-9F3B-4A0F-9383-E76085114FE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F7A3C-2EB5-4D98-9D55-55F992AAF271}"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5" name="Группа 1"/>
          <p:cNvGrpSpPr/>
          <p:nvPr/>
        </p:nvGrpSpPr>
        <p:grpSpPr>
          <a:xfrm>
            <a:off x="-19080" y="203040"/>
            <a:ext cx="9181080" cy="648000"/>
            <a:chOff x="-19080" y="203040"/>
            <a:chExt cx="9181080" cy="648000"/>
          </a:xfrm>
        </p:grpSpPr>
        <p:grpSp>
          <p:nvGrpSpPr>
            <p:cNvPr id="426" name="Полилиния 11"/>
            <p:cNvGrpSpPr/>
            <p:nvPr/>
          </p:nvGrpSpPr>
          <p:grpSpPr>
            <a:xfrm>
              <a:off x="-19080" y="203040"/>
              <a:ext cx="9156600" cy="648000"/>
              <a:chOff x="-19080" y="203040"/>
              <a:chExt cx="9156600" cy="648000"/>
            </a:xfrm>
          </p:grpSpPr>
          <p:pic>
            <p:nvPicPr>
              <p:cNvPr id="427" name="Полилиния 11" descr=""/>
              <p:cNvPicPr/>
              <p:nvPr/>
            </p:nvPicPr>
            <p:blipFill>
              <a:blip r:embed="rId3"/>
              <a:stretch/>
            </p:blipFill>
            <p:spPr>
              <a:xfrm>
                <a:off x="3960" y="203040"/>
                <a:ext cx="9133560" cy="648000"/>
              </a:xfrm>
              <a:prstGeom prst="rect">
                <a:avLst/>
              </a:prstGeom>
              <a:ln w="0">
                <a:noFill/>
              </a:ln>
            </p:spPr>
          </p:pic>
          <p:sp>
            <p:nvSpPr>
              <p:cNvPr id="4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9" name="Полилиния 12"/>
            <p:cNvGrpSpPr/>
            <p:nvPr/>
          </p:nvGrpSpPr>
          <p:grpSpPr>
            <a:xfrm>
              <a:off x="-19080" y="248040"/>
              <a:ext cx="9181080" cy="561600"/>
              <a:chOff x="-19080" y="248040"/>
              <a:chExt cx="9181080" cy="561600"/>
            </a:xfrm>
          </p:grpSpPr>
          <p:pic>
            <p:nvPicPr>
              <p:cNvPr id="430" name="Полилиния 12" descr=""/>
              <p:cNvPicPr/>
              <p:nvPr/>
            </p:nvPicPr>
            <p:blipFill>
              <a:blip r:embed="rId4"/>
              <a:stretch/>
            </p:blipFill>
            <p:spPr>
              <a:xfrm>
                <a:off x="-3240" y="248040"/>
                <a:ext cx="9165240" cy="561600"/>
              </a:xfrm>
              <a:prstGeom prst="rect">
                <a:avLst/>
              </a:prstGeom>
              <a:ln w="0">
                <a:noFill/>
              </a:ln>
            </p:spPr>
          </p:pic>
          <p:sp>
            <p:nvSpPr>
              <p:cNvPr id="4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34"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435"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5"/>
          <p:cNvSpPr>
            <a:spLocks noGrp="1"/>
          </p:cNvSpPr>
          <p:nvPr>
            <p:ph type="sldNum" idx="30"/>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81670-7247-43E5-AC1B-D888F570252A}"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5" name="Группа 1"/>
          <p:cNvGrpSpPr/>
          <p:nvPr/>
        </p:nvGrpSpPr>
        <p:grpSpPr>
          <a:xfrm>
            <a:off x="-19080" y="203040"/>
            <a:ext cx="9181080" cy="648000"/>
            <a:chOff x="-19080" y="203040"/>
            <a:chExt cx="9181080" cy="648000"/>
          </a:xfrm>
        </p:grpSpPr>
        <p:grpSp>
          <p:nvGrpSpPr>
            <p:cNvPr id="476" name="Полилиния 11"/>
            <p:cNvGrpSpPr/>
            <p:nvPr/>
          </p:nvGrpSpPr>
          <p:grpSpPr>
            <a:xfrm>
              <a:off x="-19080" y="203040"/>
              <a:ext cx="9156600" cy="648000"/>
              <a:chOff x="-19080" y="203040"/>
              <a:chExt cx="9156600" cy="648000"/>
            </a:xfrm>
          </p:grpSpPr>
          <p:pic>
            <p:nvPicPr>
              <p:cNvPr id="477" name="Полилиния 11" descr=""/>
              <p:cNvPicPr/>
              <p:nvPr/>
            </p:nvPicPr>
            <p:blipFill>
              <a:blip r:embed="rId3"/>
              <a:stretch/>
            </p:blipFill>
            <p:spPr>
              <a:xfrm>
                <a:off x="3960" y="203040"/>
                <a:ext cx="9133560" cy="648000"/>
              </a:xfrm>
              <a:prstGeom prst="rect">
                <a:avLst/>
              </a:prstGeom>
              <a:ln w="0">
                <a:noFill/>
              </a:ln>
            </p:spPr>
          </p:pic>
          <p:sp>
            <p:nvSpPr>
              <p:cNvPr id="4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9" name="Полилиния 12"/>
            <p:cNvGrpSpPr/>
            <p:nvPr/>
          </p:nvGrpSpPr>
          <p:grpSpPr>
            <a:xfrm>
              <a:off x="-19080" y="248040"/>
              <a:ext cx="9181080" cy="561600"/>
              <a:chOff x="-19080" y="248040"/>
              <a:chExt cx="9181080" cy="561600"/>
            </a:xfrm>
          </p:grpSpPr>
          <p:pic>
            <p:nvPicPr>
              <p:cNvPr id="480" name="Полилиния 12" descr=""/>
              <p:cNvPicPr/>
              <p:nvPr/>
            </p:nvPicPr>
            <p:blipFill>
              <a:blip r:embed="rId4"/>
              <a:stretch/>
            </p:blipFill>
            <p:spPr>
              <a:xfrm>
                <a:off x="-3240" y="248040"/>
                <a:ext cx="9165240" cy="561600"/>
              </a:xfrm>
              <a:prstGeom prst="rect">
                <a:avLst/>
              </a:prstGeom>
              <a:ln w="0">
                <a:noFill/>
              </a:ln>
            </p:spPr>
          </p:pic>
          <p:sp>
            <p:nvSpPr>
              <p:cNvPr id="4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84"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485"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D33F2-D452-40F6-BCC0-7BE9DF05829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5" name="Группа 1"/>
          <p:cNvGrpSpPr/>
          <p:nvPr/>
        </p:nvGrpSpPr>
        <p:grpSpPr>
          <a:xfrm>
            <a:off x="-19080" y="203040"/>
            <a:ext cx="9181080" cy="648000"/>
            <a:chOff x="-19080" y="203040"/>
            <a:chExt cx="9181080" cy="648000"/>
          </a:xfrm>
        </p:grpSpPr>
        <p:grpSp>
          <p:nvGrpSpPr>
            <p:cNvPr id="526" name="Полилиния 11"/>
            <p:cNvGrpSpPr/>
            <p:nvPr/>
          </p:nvGrpSpPr>
          <p:grpSpPr>
            <a:xfrm>
              <a:off x="-19080" y="203040"/>
              <a:ext cx="9156600" cy="648000"/>
              <a:chOff x="-19080" y="203040"/>
              <a:chExt cx="9156600" cy="648000"/>
            </a:xfrm>
          </p:grpSpPr>
          <p:pic>
            <p:nvPicPr>
              <p:cNvPr id="527" name="Полилиния 11" descr=""/>
              <p:cNvPicPr/>
              <p:nvPr/>
            </p:nvPicPr>
            <p:blipFill>
              <a:blip r:embed="rId3"/>
              <a:stretch/>
            </p:blipFill>
            <p:spPr>
              <a:xfrm>
                <a:off x="3960" y="203040"/>
                <a:ext cx="9133560" cy="648000"/>
              </a:xfrm>
              <a:prstGeom prst="rect">
                <a:avLst/>
              </a:prstGeom>
              <a:ln w="0">
                <a:noFill/>
              </a:ln>
            </p:spPr>
          </p:pic>
          <p:sp>
            <p:nvSpPr>
              <p:cNvPr id="5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9" name="Полилиния 12"/>
            <p:cNvGrpSpPr/>
            <p:nvPr/>
          </p:nvGrpSpPr>
          <p:grpSpPr>
            <a:xfrm>
              <a:off x="-19080" y="248040"/>
              <a:ext cx="9181080" cy="561600"/>
              <a:chOff x="-19080" y="248040"/>
              <a:chExt cx="9181080" cy="561600"/>
            </a:xfrm>
          </p:grpSpPr>
          <p:pic>
            <p:nvPicPr>
              <p:cNvPr id="530" name="Полилиния 12" descr=""/>
              <p:cNvPicPr/>
              <p:nvPr/>
            </p:nvPicPr>
            <p:blipFill>
              <a:blip r:embed="rId4"/>
              <a:stretch/>
            </p:blipFill>
            <p:spPr>
              <a:xfrm>
                <a:off x="-3240" y="248040"/>
                <a:ext cx="9165240" cy="561600"/>
              </a:xfrm>
              <a:prstGeom prst="rect">
                <a:avLst/>
              </a:prstGeom>
              <a:ln w="0">
                <a:noFill/>
              </a:ln>
            </p:spPr>
          </p:pic>
          <p:sp>
            <p:nvSpPr>
              <p:cNvPr id="5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34"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35"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2CB33-A211-4FC2-A404-95C6DFDAA5E3}"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3"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79"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80"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5"/>
          <p:cNvSpPr>
            <a:spLocks noGrp="1"/>
          </p:cNvSpPr>
          <p:nvPr>
            <p:ph type="sldNum" idx="39"/>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0CDBA-F4CC-438D-A177-8BA9E2B1F52B}"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8"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0" name="Группа 1"/>
          <p:cNvGrpSpPr/>
          <p:nvPr/>
        </p:nvGrpSpPr>
        <p:grpSpPr>
          <a:xfrm>
            <a:off x="-19080" y="203040"/>
            <a:ext cx="9181080" cy="648000"/>
            <a:chOff x="-19080" y="203040"/>
            <a:chExt cx="9181080" cy="648000"/>
          </a:xfrm>
        </p:grpSpPr>
        <p:grpSp>
          <p:nvGrpSpPr>
            <p:cNvPr id="621" name="Полилиния 11"/>
            <p:cNvGrpSpPr/>
            <p:nvPr/>
          </p:nvGrpSpPr>
          <p:grpSpPr>
            <a:xfrm>
              <a:off x="-19080" y="203040"/>
              <a:ext cx="9156600" cy="648000"/>
              <a:chOff x="-19080" y="203040"/>
              <a:chExt cx="9156600" cy="648000"/>
            </a:xfrm>
          </p:grpSpPr>
          <p:pic>
            <p:nvPicPr>
              <p:cNvPr id="622" name="Полилиния 11" descr=""/>
              <p:cNvPicPr/>
              <p:nvPr/>
            </p:nvPicPr>
            <p:blipFill>
              <a:blip r:embed="rId3"/>
              <a:stretch/>
            </p:blipFill>
            <p:spPr>
              <a:xfrm>
                <a:off x="3960" y="203040"/>
                <a:ext cx="9133560" cy="648000"/>
              </a:xfrm>
              <a:prstGeom prst="rect">
                <a:avLst/>
              </a:prstGeom>
              <a:ln w="0">
                <a:noFill/>
              </a:ln>
            </p:spPr>
          </p:pic>
          <p:sp>
            <p:nvSpPr>
              <p:cNvPr id="62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4" name="Полилиния 12"/>
            <p:cNvGrpSpPr/>
            <p:nvPr/>
          </p:nvGrpSpPr>
          <p:grpSpPr>
            <a:xfrm>
              <a:off x="-19080" y="248040"/>
              <a:ext cx="9181080" cy="561600"/>
              <a:chOff x="-19080" y="248040"/>
              <a:chExt cx="9181080" cy="561600"/>
            </a:xfrm>
          </p:grpSpPr>
          <p:pic>
            <p:nvPicPr>
              <p:cNvPr id="625" name="Полилиния 12" descr=""/>
              <p:cNvPicPr/>
              <p:nvPr/>
            </p:nvPicPr>
            <p:blipFill>
              <a:blip r:embed="rId4"/>
              <a:stretch/>
            </p:blipFill>
            <p:spPr>
              <a:xfrm>
                <a:off x="-3240" y="248040"/>
                <a:ext cx="9165240" cy="561600"/>
              </a:xfrm>
              <a:prstGeom prst="rect">
                <a:avLst/>
              </a:prstGeom>
              <a:ln w="0">
                <a:noFill/>
              </a:ln>
            </p:spPr>
          </p:pic>
          <p:sp>
            <p:nvSpPr>
              <p:cNvPr id="62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2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29" name="PlaceHolder 3"/>
          <p:cNvSpPr>
            <a:spLocks noGrp="1"/>
          </p:cNvSpPr>
          <p:nvPr>
            <p:ph type="dt" idx="4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630" name="PlaceHolder 4"/>
          <p:cNvSpPr>
            <a:spLocks noGrp="1"/>
          </p:cNvSpPr>
          <p:nvPr>
            <p:ph type="ftr" idx="4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PlaceHolder 5"/>
          <p:cNvSpPr>
            <a:spLocks noGrp="1"/>
          </p:cNvSpPr>
          <p:nvPr>
            <p:ph type="sldNum" idx="4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11634-A7AE-444F-9F56-7EA504785553}"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8"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0" name="Группа 1"/>
          <p:cNvGrpSpPr/>
          <p:nvPr/>
        </p:nvGrpSpPr>
        <p:grpSpPr>
          <a:xfrm>
            <a:off x="-19080" y="203040"/>
            <a:ext cx="9181080" cy="648000"/>
            <a:chOff x="-19080" y="203040"/>
            <a:chExt cx="9181080" cy="648000"/>
          </a:xfrm>
        </p:grpSpPr>
        <p:grpSp>
          <p:nvGrpSpPr>
            <p:cNvPr id="671" name="Полилиния 11"/>
            <p:cNvGrpSpPr/>
            <p:nvPr/>
          </p:nvGrpSpPr>
          <p:grpSpPr>
            <a:xfrm>
              <a:off x="-19080" y="203040"/>
              <a:ext cx="9156600" cy="648000"/>
              <a:chOff x="-19080" y="203040"/>
              <a:chExt cx="9156600" cy="648000"/>
            </a:xfrm>
          </p:grpSpPr>
          <p:pic>
            <p:nvPicPr>
              <p:cNvPr id="672" name="Полилиния 11" descr=""/>
              <p:cNvPicPr/>
              <p:nvPr/>
            </p:nvPicPr>
            <p:blipFill>
              <a:blip r:embed="rId3"/>
              <a:stretch/>
            </p:blipFill>
            <p:spPr>
              <a:xfrm>
                <a:off x="3960" y="203040"/>
                <a:ext cx="9133560" cy="648000"/>
              </a:xfrm>
              <a:prstGeom prst="rect">
                <a:avLst/>
              </a:prstGeom>
              <a:ln w="0">
                <a:noFill/>
              </a:ln>
            </p:spPr>
          </p:pic>
          <p:sp>
            <p:nvSpPr>
              <p:cNvPr id="67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4" name="Полилиния 12"/>
            <p:cNvGrpSpPr/>
            <p:nvPr/>
          </p:nvGrpSpPr>
          <p:grpSpPr>
            <a:xfrm>
              <a:off x="-19080" y="248040"/>
              <a:ext cx="9181080" cy="561600"/>
              <a:chOff x="-19080" y="248040"/>
              <a:chExt cx="9181080" cy="561600"/>
            </a:xfrm>
          </p:grpSpPr>
          <p:pic>
            <p:nvPicPr>
              <p:cNvPr id="675" name="Полилиния 12" descr=""/>
              <p:cNvPicPr/>
              <p:nvPr/>
            </p:nvPicPr>
            <p:blipFill>
              <a:blip r:embed="rId4"/>
              <a:stretch/>
            </p:blipFill>
            <p:spPr>
              <a:xfrm>
                <a:off x="-3240" y="248040"/>
                <a:ext cx="9165240" cy="561600"/>
              </a:xfrm>
              <a:prstGeom prst="rect">
                <a:avLst/>
              </a:prstGeom>
              <a:ln w="0">
                <a:noFill/>
              </a:ln>
            </p:spPr>
          </p:pic>
          <p:sp>
            <p:nvSpPr>
              <p:cNvPr id="67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79" name="PlaceHolder 3"/>
          <p:cNvSpPr>
            <a:spLocks noGrp="1"/>
          </p:cNvSpPr>
          <p:nvPr>
            <p:ph type="dt" idx="4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680" name="PlaceHolder 4"/>
          <p:cNvSpPr>
            <a:spLocks noGrp="1"/>
          </p:cNvSpPr>
          <p:nvPr>
            <p:ph type="ftr" idx="4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PlaceHolder 5"/>
          <p:cNvSpPr>
            <a:spLocks noGrp="1"/>
          </p:cNvSpPr>
          <p:nvPr>
            <p:ph type="sldNum" idx="4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47DC6-01F8-454A-9EB7-53911A911A5D}"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0"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21"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87151-1199-449B-8649-56A888DC95D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61"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62"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21D5B-222A-4092-AB59-B62336C6862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02"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03"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F70E0-7968-4BB7-8585-B1AAE6E407D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3"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44"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C374C-1A59-4F64-9E88-E282D063B72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F08F2-FD34-49C3-AD99-A2E0897FA6F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4"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5"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4644E-7CE2-479E-84C3-1E4777C7ECF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5"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26"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2E91B-6B2B-4B78-882F-4153299EF3D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6"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67"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C9649-F5C9-421D-A75B-39689B85D18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7"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08"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D22AD-96B5-4D1F-BC5F-616FA27F2D9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48"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49"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D7CA6-D87E-44F4-B3A3-61320022452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9"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90"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ECBE8-9A8A-45CA-BB76-ECF5D195CBE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0"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31"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BB20E-6ECA-4F21-A460-745E9AA65B9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1"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72"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3E388-BBF7-4A7A-8D0F-BCC715B34E5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12" name="PlaceHolder 3"/>
          <p:cNvSpPr>
            <a:spLocks noGrp="1"/>
          </p:cNvSpPr>
          <p:nvPr>
            <p:ph type="dt" idx="8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13" name="PlaceHolder 4"/>
          <p:cNvSpPr>
            <a:spLocks noGrp="1"/>
          </p:cNvSpPr>
          <p:nvPr>
            <p:ph type="ftr" idx="8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PlaceHolder 5"/>
          <p:cNvSpPr>
            <a:spLocks noGrp="1"/>
          </p:cNvSpPr>
          <p:nvPr>
            <p:ph type="sldNum" idx="8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8B942-A539-4940-BD13-84AB2B4BD32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3"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54"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PlaceHolder 5"/>
          <p:cNvSpPr>
            <a:spLocks noGrp="1"/>
          </p:cNvSpPr>
          <p:nvPr>
            <p:ph type="sldNum" idx="8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481D7-A385-41FE-84CB-B483F8D34E5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4C8BC-9833-4690-92CB-4B9997F08A2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4" name="PlaceHolder 3"/>
          <p:cNvSpPr>
            <a:spLocks noGrp="1"/>
          </p:cNvSpPr>
          <p:nvPr>
            <p:ph type="dt" idx="8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5" name="PlaceHolder 4"/>
          <p:cNvSpPr>
            <a:spLocks noGrp="1"/>
          </p:cNvSpPr>
          <p:nvPr>
            <p:ph type="ftr" idx="8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PlaceHolder 5"/>
          <p:cNvSpPr>
            <a:spLocks noGrp="1"/>
          </p:cNvSpPr>
          <p:nvPr>
            <p:ph type="sldNum" idx="9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C06F2-6548-491C-9361-516AC20A2B7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5"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36"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PlaceHolder 5"/>
          <p:cNvSpPr>
            <a:spLocks noGrp="1"/>
          </p:cNvSpPr>
          <p:nvPr>
            <p:ph type="sldNum" idx="9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8026E-D65A-4F28-9443-6308AC6E112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76" name="PlaceHolder 3"/>
          <p:cNvSpPr>
            <a:spLocks noGrp="1"/>
          </p:cNvSpPr>
          <p:nvPr>
            <p:ph type="dt" idx="9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77" name="PlaceHolder 4"/>
          <p:cNvSpPr>
            <a:spLocks noGrp="1"/>
          </p:cNvSpPr>
          <p:nvPr>
            <p:ph type="ftr" idx="9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PlaceHolder 5"/>
          <p:cNvSpPr>
            <a:spLocks noGrp="1"/>
          </p:cNvSpPr>
          <p:nvPr>
            <p:ph type="sldNum" idx="9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2E6BF-8B0E-4502-9CBE-9604C805F32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17" name="PlaceHolder 3"/>
          <p:cNvSpPr>
            <a:spLocks noGrp="1"/>
          </p:cNvSpPr>
          <p:nvPr>
            <p:ph type="dt" idx="9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18" name="PlaceHolder 4"/>
          <p:cNvSpPr>
            <a:spLocks noGrp="1"/>
          </p:cNvSpPr>
          <p:nvPr>
            <p:ph type="ftr" idx="9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PlaceHolder 5"/>
          <p:cNvSpPr>
            <a:spLocks noGrp="1"/>
          </p:cNvSpPr>
          <p:nvPr>
            <p:ph type="sldNum" idx="9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2A27A-18FC-4C18-9AEA-DFD87928CB2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58" name="PlaceHolder 3"/>
          <p:cNvSpPr>
            <a:spLocks noGrp="1"/>
          </p:cNvSpPr>
          <p:nvPr>
            <p:ph type="dt" idx="10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59" name="PlaceHolder 4"/>
          <p:cNvSpPr>
            <a:spLocks noGrp="1"/>
          </p:cNvSpPr>
          <p:nvPr>
            <p:ph type="ftr" idx="10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PlaceHolder 5"/>
          <p:cNvSpPr>
            <a:spLocks noGrp="1"/>
          </p:cNvSpPr>
          <p:nvPr>
            <p:ph type="sldNum" idx="10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EA475-81E6-4B38-A6C5-019B662DC48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99" name="PlaceHolder 3"/>
          <p:cNvSpPr>
            <a:spLocks noGrp="1"/>
          </p:cNvSpPr>
          <p:nvPr>
            <p:ph type="dt" idx="10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00" name="PlaceHolder 4"/>
          <p:cNvSpPr>
            <a:spLocks noGrp="1"/>
          </p:cNvSpPr>
          <p:nvPr>
            <p:ph type="ftr" idx="10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PlaceHolder 5"/>
          <p:cNvSpPr>
            <a:spLocks noGrp="1"/>
          </p:cNvSpPr>
          <p:nvPr>
            <p:ph type="sldNum" idx="10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55CDF-5354-476B-877E-E3EA4C6827F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40" name="PlaceHolder 3"/>
          <p:cNvSpPr>
            <a:spLocks noGrp="1"/>
          </p:cNvSpPr>
          <p:nvPr>
            <p:ph type="dt" idx="10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41" name="PlaceHolder 4"/>
          <p:cNvSpPr>
            <a:spLocks noGrp="1"/>
          </p:cNvSpPr>
          <p:nvPr>
            <p:ph type="ftr" idx="10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PlaceHolder 5"/>
          <p:cNvSpPr>
            <a:spLocks noGrp="1"/>
          </p:cNvSpPr>
          <p:nvPr>
            <p:ph type="sldNum" idx="10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4B93C-C025-4A72-B1D5-1E9CC142F95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81" name="PlaceHolder 3"/>
          <p:cNvSpPr>
            <a:spLocks noGrp="1"/>
          </p:cNvSpPr>
          <p:nvPr>
            <p:ph type="dt" idx="10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82" name="PlaceHolder 4"/>
          <p:cNvSpPr>
            <a:spLocks noGrp="1"/>
          </p:cNvSpPr>
          <p:nvPr>
            <p:ph type="ftr" idx="1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PlaceHolder 5"/>
          <p:cNvSpPr>
            <a:spLocks noGrp="1"/>
          </p:cNvSpPr>
          <p:nvPr>
            <p:ph type="sldNum" idx="1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7F956-3898-4254-803F-4DEB4F8721A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22" name="PlaceHolder 3"/>
          <p:cNvSpPr>
            <a:spLocks noGrp="1"/>
          </p:cNvSpPr>
          <p:nvPr>
            <p:ph type="dt" idx="1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23" name="PlaceHolder 4"/>
          <p:cNvSpPr>
            <a:spLocks noGrp="1"/>
          </p:cNvSpPr>
          <p:nvPr>
            <p:ph type="ftr" idx="1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PlaceHolder 5"/>
          <p:cNvSpPr>
            <a:spLocks noGrp="1"/>
          </p:cNvSpPr>
          <p:nvPr>
            <p:ph type="sldNum" idx="1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C4115-4286-4733-A457-070ED657D56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3" name="PlaceHolder 3"/>
          <p:cNvSpPr>
            <a:spLocks noGrp="1"/>
          </p:cNvSpPr>
          <p:nvPr>
            <p:ph type="dt" idx="1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64" name="PlaceHolder 4"/>
          <p:cNvSpPr>
            <a:spLocks noGrp="1"/>
          </p:cNvSpPr>
          <p:nvPr>
            <p:ph type="ftr" idx="1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PlaceHolder 5"/>
          <p:cNvSpPr>
            <a:spLocks noGrp="1"/>
          </p:cNvSpPr>
          <p:nvPr>
            <p:ph type="sldNum" idx="1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F6032-284F-4241-8C76-B1CF318E6B2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7DD70-948B-4F2C-B68A-9F7198BFBEB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4" name="PlaceHolder 3"/>
          <p:cNvSpPr>
            <a:spLocks noGrp="1"/>
          </p:cNvSpPr>
          <p:nvPr>
            <p:ph type="dt" idx="1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05" name="PlaceHolder 4"/>
          <p:cNvSpPr>
            <a:spLocks noGrp="1"/>
          </p:cNvSpPr>
          <p:nvPr>
            <p:ph type="ftr" idx="1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PlaceHolder 5"/>
          <p:cNvSpPr>
            <a:spLocks noGrp="1"/>
          </p:cNvSpPr>
          <p:nvPr>
            <p:ph type="sldNum" idx="12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4A568-DAA5-480C-B5D8-74ECEE63169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45" name="PlaceHolder 3"/>
          <p:cNvSpPr>
            <a:spLocks noGrp="1"/>
          </p:cNvSpPr>
          <p:nvPr>
            <p:ph type="dt" idx="1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46" name="PlaceHolder 4"/>
          <p:cNvSpPr>
            <a:spLocks noGrp="1"/>
          </p:cNvSpPr>
          <p:nvPr>
            <p:ph type="ftr" idx="1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PlaceHolder 5"/>
          <p:cNvSpPr>
            <a:spLocks noGrp="1"/>
          </p:cNvSpPr>
          <p:nvPr>
            <p:ph type="sldNum" idx="1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580BC-037B-4A3B-B0FF-B849A7B04C4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86" name="PlaceHolder 3"/>
          <p:cNvSpPr>
            <a:spLocks noGrp="1"/>
          </p:cNvSpPr>
          <p:nvPr>
            <p:ph type="dt" idx="1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87" name="PlaceHolder 4"/>
          <p:cNvSpPr>
            <a:spLocks noGrp="1"/>
          </p:cNvSpPr>
          <p:nvPr>
            <p:ph type="ftr" idx="1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PlaceHolder 5"/>
          <p:cNvSpPr>
            <a:spLocks noGrp="1"/>
          </p:cNvSpPr>
          <p:nvPr>
            <p:ph type="sldNum" idx="12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AA3B0-2DC1-4758-9603-687590DA4E2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27" name="PlaceHolder 3"/>
          <p:cNvSpPr>
            <a:spLocks noGrp="1"/>
          </p:cNvSpPr>
          <p:nvPr>
            <p:ph type="dt" idx="1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28" name="PlaceHolder 4"/>
          <p:cNvSpPr>
            <a:spLocks noGrp="1"/>
          </p:cNvSpPr>
          <p:nvPr>
            <p:ph type="ftr" idx="1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PlaceHolder 5"/>
          <p:cNvSpPr>
            <a:spLocks noGrp="1"/>
          </p:cNvSpPr>
          <p:nvPr>
            <p:ph type="sldNum" idx="1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5FAD6-5DBD-41DB-9E35-EF40B5B99C0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68" name="PlaceHolder 3"/>
          <p:cNvSpPr>
            <a:spLocks noGrp="1"/>
          </p:cNvSpPr>
          <p:nvPr>
            <p:ph type="dt" idx="1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69" name="PlaceHolder 4"/>
          <p:cNvSpPr>
            <a:spLocks noGrp="1"/>
          </p:cNvSpPr>
          <p:nvPr>
            <p:ph type="ftr" idx="1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0" name="PlaceHolder 5"/>
          <p:cNvSpPr>
            <a:spLocks noGrp="1"/>
          </p:cNvSpPr>
          <p:nvPr>
            <p:ph type="sldNum" idx="1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9DD39-17CE-4CDF-B12B-0376D999B1F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09" name="PlaceHolder 3"/>
          <p:cNvSpPr>
            <a:spLocks noGrp="1"/>
          </p:cNvSpPr>
          <p:nvPr>
            <p:ph type="dt" idx="1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10" name="PlaceHolder 4"/>
          <p:cNvSpPr>
            <a:spLocks noGrp="1"/>
          </p:cNvSpPr>
          <p:nvPr>
            <p:ph type="ftr" idx="1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PlaceHolder 5"/>
          <p:cNvSpPr>
            <a:spLocks noGrp="1"/>
          </p:cNvSpPr>
          <p:nvPr>
            <p:ph type="sldNum" idx="1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8F0E6-4323-4F4A-98E5-9213636825E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50" name="PlaceHolder 3"/>
          <p:cNvSpPr>
            <a:spLocks noGrp="1"/>
          </p:cNvSpPr>
          <p:nvPr>
            <p:ph type="dt" idx="13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51" name="PlaceHolder 4"/>
          <p:cNvSpPr>
            <a:spLocks noGrp="1"/>
          </p:cNvSpPr>
          <p:nvPr>
            <p:ph type="ftr" idx="13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2" name="PlaceHolder 5"/>
          <p:cNvSpPr>
            <a:spLocks noGrp="1"/>
          </p:cNvSpPr>
          <p:nvPr>
            <p:ph type="sldNum" idx="13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09AF0-6908-4A0F-A2A7-29B7A9CCEB8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91" name="PlaceHolder 3"/>
          <p:cNvSpPr>
            <a:spLocks noGrp="1"/>
          </p:cNvSpPr>
          <p:nvPr>
            <p:ph type="dt" idx="13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92" name="PlaceHolder 4"/>
          <p:cNvSpPr>
            <a:spLocks noGrp="1"/>
          </p:cNvSpPr>
          <p:nvPr>
            <p:ph type="ftr" idx="14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PlaceHolder 5"/>
          <p:cNvSpPr>
            <a:spLocks noGrp="1"/>
          </p:cNvSpPr>
          <p:nvPr>
            <p:ph type="sldNum" idx="14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BD38D-5652-4E7E-901D-87A47EAB9DF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32" name="PlaceHolder 3"/>
          <p:cNvSpPr>
            <a:spLocks noGrp="1"/>
          </p:cNvSpPr>
          <p:nvPr>
            <p:ph type="dt" idx="14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33" name="PlaceHolder 4"/>
          <p:cNvSpPr>
            <a:spLocks noGrp="1"/>
          </p:cNvSpPr>
          <p:nvPr>
            <p:ph type="ftr" idx="14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PlaceHolder 5"/>
          <p:cNvSpPr>
            <a:spLocks noGrp="1"/>
          </p:cNvSpPr>
          <p:nvPr>
            <p:ph type="sldNum" idx="14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0C93A-6290-4D40-A283-010AA806DDD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Группа 1"/>
          <p:cNvGrpSpPr/>
          <p:nvPr/>
        </p:nvGrpSpPr>
        <p:grpSpPr>
          <a:xfrm>
            <a:off x="-19080" y="203040"/>
            <a:ext cx="9181080" cy="648000"/>
            <a:chOff x="-19080" y="203040"/>
            <a:chExt cx="9181080" cy="648000"/>
          </a:xfrm>
        </p:grpSpPr>
        <p:grpSp>
          <p:nvGrpSpPr>
            <p:cNvPr id="176" name="Полилиния 11"/>
            <p:cNvGrpSpPr/>
            <p:nvPr/>
          </p:nvGrpSpPr>
          <p:grpSpPr>
            <a:xfrm>
              <a:off x="-19080" y="203040"/>
              <a:ext cx="9156600" cy="648000"/>
              <a:chOff x="-19080" y="203040"/>
              <a:chExt cx="9156600" cy="648000"/>
            </a:xfrm>
          </p:grpSpPr>
          <p:pic>
            <p:nvPicPr>
              <p:cNvPr id="177" name="Полилиния 11" descr=""/>
              <p:cNvPicPr/>
              <p:nvPr/>
            </p:nvPicPr>
            <p:blipFill>
              <a:blip r:embed="rId3"/>
              <a:stretch/>
            </p:blipFill>
            <p:spPr>
              <a:xfrm>
                <a:off x="3960" y="203040"/>
                <a:ext cx="9133560" cy="648000"/>
              </a:xfrm>
              <a:prstGeom prst="rect">
                <a:avLst/>
              </a:prstGeom>
              <a:ln w="0">
                <a:noFill/>
              </a:ln>
            </p:spPr>
          </p:pic>
          <p:sp>
            <p:nvSpPr>
              <p:cNvPr id="1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 name="Полилиния 12"/>
            <p:cNvGrpSpPr/>
            <p:nvPr/>
          </p:nvGrpSpPr>
          <p:grpSpPr>
            <a:xfrm>
              <a:off x="-19080" y="248040"/>
              <a:ext cx="9181080" cy="561600"/>
              <a:chOff x="-19080" y="248040"/>
              <a:chExt cx="9181080" cy="561600"/>
            </a:xfrm>
          </p:grpSpPr>
          <p:pic>
            <p:nvPicPr>
              <p:cNvPr id="180" name="Полилиния 12" descr=""/>
              <p:cNvPicPr/>
              <p:nvPr/>
            </p:nvPicPr>
            <p:blipFill>
              <a:blip r:embed="rId4"/>
              <a:stretch/>
            </p:blipFill>
            <p:spPr>
              <a:xfrm>
                <a:off x="-3240" y="248040"/>
                <a:ext cx="9165240" cy="561600"/>
              </a:xfrm>
              <a:prstGeom prst="rect">
                <a:avLst/>
              </a:prstGeom>
              <a:ln w="0">
                <a:noFill/>
              </a:ln>
            </p:spPr>
          </p:pic>
          <p:sp>
            <p:nvSpPr>
              <p:cNvPr id="1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84"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85"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28FA2-C2D5-4DF7-A128-87981CE985F4}"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Группа 1"/>
          <p:cNvGrpSpPr/>
          <p:nvPr/>
        </p:nvGrpSpPr>
        <p:grpSpPr>
          <a:xfrm>
            <a:off x="-19080" y="203040"/>
            <a:ext cx="9181080" cy="648000"/>
            <a:chOff x="-19080" y="203040"/>
            <a:chExt cx="9181080" cy="648000"/>
          </a:xfrm>
        </p:grpSpPr>
        <p:grpSp>
          <p:nvGrpSpPr>
            <p:cNvPr id="226" name="Полилиния 11"/>
            <p:cNvGrpSpPr/>
            <p:nvPr/>
          </p:nvGrpSpPr>
          <p:grpSpPr>
            <a:xfrm>
              <a:off x="-19080" y="203040"/>
              <a:ext cx="9156600" cy="648000"/>
              <a:chOff x="-19080" y="203040"/>
              <a:chExt cx="9156600" cy="648000"/>
            </a:xfrm>
          </p:grpSpPr>
          <p:pic>
            <p:nvPicPr>
              <p:cNvPr id="227" name="Полилиния 11" descr=""/>
              <p:cNvPicPr/>
              <p:nvPr/>
            </p:nvPicPr>
            <p:blipFill>
              <a:blip r:embed="rId3"/>
              <a:stretch/>
            </p:blipFill>
            <p:spPr>
              <a:xfrm>
                <a:off x="3960" y="203040"/>
                <a:ext cx="9133560" cy="648000"/>
              </a:xfrm>
              <a:prstGeom prst="rect">
                <a:avLst/>
              </a:prstGeom>
              <a:ln w="0">
                <a:noFill/>
              </a:ln>
            </p:spPr>
          </p:pic>
          <p:sp>
            <p:nvSpPr>
              <p:cNvPr id="2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Полилиния 12"/>
            <p:cNvGrpSpPr/>
            <p:nvPr/>
          </p:nvGrpSpPr>
          <p:grpSpPr>
            <a:xfrm>
              <a:off x="-19080" y="248040"/>
              <a:ext cx="9181080" cy="561600"/>
              <a:chOff x="-19080" y="248040"/>
              <a:chExt cx="9181080" cy="561600"/>
            </a:xfrm>
          </p:grpSpPr>
          <p:pic>
            <p:nvPicPr>
              <p:cNvPr id="230" name="Полилиния 12" descr=""/>
              <p:cNvPicPr/>
              <p:nvPr/>
            </p:nvPicPr>
            <p:blipFill>
              <a:blip r:embed="rId4"/>
              <a:stretch/>
            </p:blipFill>
            <p:spPr>
              <a:xfrm>
                <a:off x="-3240" y="248040"/>
                <a:ext cx="9165240" cy="561600"/>
              </a:xfrm>
              <a:prstGeom prst="rect">
                <a:avLst/>
              </a:prstGeom>
              <a:ln w="0">
                <a:noFill/>
              </a:ln>
            </p:spPr>
          </p:pic>
          <p:sp>
            <p:nvSpPr>
              <p:cNvPr id="2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34"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33DF7-B83F-432C-AF20-CF29F8385E2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Группа 1"/>
          <p:cNvGrpSpPr/>
          <p:nvPr/>
        </p:nvGrpSpPr>
        <p:grpSpPr>
          <a:xfrm>
            <a:off x="-19080" y="203040"/>
            <a:ext cx="9181080" cy="648000"/>
            <a:chOff x="-19080" y="203040"/>
            <a:chExt cx="9181080" cy="648000"/>
          </a:xfrm>
        </p:grpSpPr>
        <p:grpSp>
          <p:nvGrpSpPr>
            <p:cNvPr id="276" name="Полилиния 11"/>
            <p:cNvGrpSpPr/>
            <p:nvPr/>
          </p:nvGrpSpPr>
          <p:grpSpPr>
            <a:xfrm>
              <a:off x="-19080" y="203040"/>
              <a:ext cx="9156600" cy="648000"/>
              <a:chOff x="-19080" y="203040"/>
              <a:chExt cx="9156600" cy="648000"/>
            </a:xfrm>
          </p:grpSpPr>
          <p:pic>
            <p:nvPicPr>
              <p:cNvPr id="277" name="Полилиния 11" descr=""/>
              <p:cNvPicPr/>
              <p:nvPr/>
            </p:nvPicPr>
            <p:blipFill>
              <a:blip r:embed="rId3"/>
              <a:stretch/>
            </p:blipFill>
            <p:spPr>
              <a:xfrm>
                <a:off x="3960" y="203040"/>
                <a:ext cx="9133560" cy="648000"/>
              </a:xfrm>
              <a:prstGeom prst="rect">
                <a:avLst/>
              </a:prstGeom>
              <a:ln w="0">
                <a:noFill/>
              </a:ln>
            </p:spPr>
          </p:pic>
          <p:sp>
            <p:nvSpPr>
              <p:cNvPr id="2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9" name="Полилиния 12"/>
            <p:cNvGrpSpPr/>
            <p:nvPr/>
          </p:nvGrpSpPr>
          <p:grpSpPr>
            <a:xfrm>
              <a:off x="-19080" y="248040"/>
              <a:ext cx="9181080" cy="561600"/>
              <a:chOff x="-19080" y="248040"/>
              <a:chExt cx="9181080" cy="561600"/>
            </a:xfrm>
          </p:grpSpPr>
          <p:pic>
            <p:nvPicPr>
              <p:cNvPr id="280" name="Полилиния 12" descr=""/>
              <p:cNvPicPr/>
              <p:nvPr/>
            </p:nvPicPr>
            <p:blipFill>
              <a:blip r:embed="rId4"/>
              <a:stretch/>
            </p:blipFill>
            <p:spPr>
              <a:xfrm>
                <a:off x="-3240" y="248040"/>
                <a:ext cx="9165240" cy="561600"/>
              </a:xfrm>
              <a:prstGeom prst="rect">
                <a:avLst/>
              </a:prstGeom>
              <a:ln w="0">
                <a:noFill/>
              </a:ln>
            </p:spPr>
          </p:pic>
          <p:sp>
            <p:nvSpPr>
              <p:cNvPr id="2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84"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285"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6D11C-CE33-4752-B715-6050AD965A19}"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5" name="Группа 1"/>
          <p:cNvGrpSpPr/>
          <p:nvPr/>
        </p:nvGrpSpPr>
        <p:grpSpPr>
          <a:xfrm>
            <a:off x="-19080" y="203040"/>
            <a:ext cx="9181080" cy="648000"/>
            <a:chOff x="-19080" y="203040"/>
            <a:chExt cx="9181080" cy="648000"/>
          </a:xfrm>
        </p:grpSpPr>
        <p:grpSp>
          <p:nvGrpSpPr>
            <p:cNvPr id="326" name="Полилиния 11"/>
            <p:cNvGrpSpPr/>
            <p:nvPr/>
          </p:nvGrpSpPr>
          <p:grpSpPr>
            <a:xfrm>
              <a:off x="-19080" y="203040"/>
              <a:ext cx="9156600" cy="648000"/>
              <a:chOff x="-19080" y="203040"/>
              <a:chExt cx="9156600" cy="648000"/>
            </a:xfrm>
          </p:grpSpPr>
          <p:pic>
            <p:nvPicPr>
              <p:cNvPr id="327" name="Полилиния 11" descr=""/>
              <p:cNvPicPr/>
              <p:nvPr/>
            </p:nvPicPr>
            <p:blipFill>
              <a:blip r:embed="rId3"/>
              <a:stretch/>
            </p:blipFill>
            <p:spPr>
              <a:xfrm>
                <a:off x="3960" y="203040"/>
                <a:ext cx="9133560" cy="648000"/>
              </a:xfrm>
              <a:prstGeom prst="rect">
                <a:avLst/>
              </a:prstGeom>
              <a:ln w="0">
                <a:noFill/>
              </a:ln>
            </p:spPr>
          </p:pic>
          <p:sp>
            <p:nvSpPr>
              <p:cNvPr id="3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 name="Полилиния 12"/>
            <p:cNvGrpSpPr/>
            <p:nvPr/>
          </p:nvGrpSpPr>
          <p:grpSpPr>
            <a:xfrm>
              <a:off x="-19080" y="248040"/>
              <a:ext cx="9181080" cy="561600"/>
              <a:chOff x="-19080" y="248040"/>
              <a:chExt cx="9181080" cy="561600"/>
            </a:xfrm>
          </p:grpSpPr>
          <p:pic>
            <p:nvPicPr>
              <p:cNvPr id="330" name="Полилиния 12" descr=""/>
              <p:cNvPicPr/>
              <p:nvPr/>
            </p:nvPicPr>
            <p:blipFill>
              <a:blip r:embed="rId4"/>
              <a:stretch/>
            </p:blipFill>
            <p:spPr>
              <a:xfrm>
                <a:off x="-3240" y="248040"/>
                <a:ext cx="9165240" cy="561600"/>
              </a:xfrm>
              <a:prstGeom prst="rect">
                <a:avLst/>
              </a:prstGeom>
              <a:ln w="0">
                <a:noFill/>
              </a:ln>
            </p:spPr>
          </p:pic>
          <p:sp>
            <p:nvSpPr>
              <p:cNvPr id="3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34"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335"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F32D6-56D2-44A1-854F-14DBF756F397}"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5" name="Группа 1"/>
          <p:cNvGrpSpPr/>
          <p:nvPr/>
        </p:nvGrpSpPr>
        <p:grpSpPr>
          <a:xfrm>
            <a:off x="-19080" y="203040"/>
            <a:ext cx="9181080" cy="648000"/>
            <a:chOff x="-19080" y="203040"/>
            <a:chExt cx="9181080" cy="648000"/>
          </a:xfrm>
        </p:grpSpPr>
        <p:grpSp>
          <p:nvGrpSpPr>
            <p:cNvPr id="376" name="Полилиния 11"/>
            <p:cNvGrpSpPr/>
            <p:nvPr/>
          </p:nvGrpSpPr>
          <p:grpSpPr>
            <a:xfrm>
              <a:off x="-19080" y="203040"/>
              <a:ext cx="9156600" cy="648000"/>
              <a:chOff x="-19080" y="203040"/>
              <a:chExt cx="9156600" cy="648000"/>
            </a:xfrm>
          </p:grpSpPr>
          <p:pic>
            <p:nvPicPr>
              <p:cNvPr id="377" name="Полилиния 11" descr=""/>
              <p:cNvPicPr/>
              <p:nvPr/>
            </p:nvPicPr>
            <p:blipFill>
              <a:blip r:embed="rId3"/>
              <a:stretch/>
            </p:blipFill>
            <p:spPr>
              <a:xfrm>
                <a:off x="3960" y="203040"/>
                <a:ext cx="9133560" cy="648000"/>
              </a:xfrm>
              <a:prstGeom prst="rect">
                <a:avLst/>
              </a:prstGeom>
              <a:ln w="0">
                <a:noFill/>
              </a:ln>
            </p:spPr>
          </p:pic>
          <p:sp>
            <p:nvSpPr>
              <p:cNvPr id="3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 name="Полилиния 12"/>
            <p:cNvGrpSpPr/>
            <p:nvPr/>
          </p:nvGrpSpPr>
          <p:grpSpPr>
            <a:xfrm>
              <a:off x="-19080" y="248040"/>
              <a:ext cx="9181080" cy="561600"/>
              <a:chOff x="-19080" y="248040"/>
              <a:chExt cx="9181080" cy="561600"/>
            </a:xfrm>
          </p:grpSpPr>
          <p:pic>
            <p:nvPicPr>
              <p:cNvPr id="380" name="Полилиния 12" descr=""/>
              <p:cNvPicPr/>
              <p:nvPr/>
            </p:nvPicPr>
            <p:blipFill>
              <a:blip r:embed="rId4"/>
              <a:stretch/>
            </p:blipFill>
            <p:spPr>
              <a:xfrm>
                <a:off x="-3240" y="248040"/>
                <a:ext cx="9165240" cy="561600"/>
              </a:xfrm>
              <a:prstGeom prst="rect">
                <a:avLst/>
              </a:prstGeom>
              <a:ln w="0">
                <a:noFill/>
              </a:ln>
            </p:spPr>
          </p:pic>
          <p:sp>
            <p:nvSpPr>
              <p:cNvPr id="3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84"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385"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CACB6-563D-4779-901D-9393738D7EC0}"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9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5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57.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Прямоугольник 3"/>
          <p:cNvSpPr/>
          <p:nvPr/>
        </p:nvSpPr>
        <p:spPr>
          <a:xfrm>
            <a:off x="47880" y="2492280"/>
            <a:ext cx="910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Соціолінгвістичні проблеми переклад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9" name="Заголовок 1" descr=""/>
          <p:cNvPicPr/>
          <p:nvPr/>
        </p:nvPicPr>
        <p:blipFill>
          <a:blip r:embed="rId2"/>
          <a:stretch/>
        </p:blipFill>
        <p:spPr>
          <a:xfrm>
            <a:off x="285840" y="785880"/>
            <a:ext cx="8572320" cy="3786120"/>
          </a:xfrm>
          <a:prstGeom prst="rect">
            <a:avLst/>
          </a:prstGeom>
          <a:ln w="0">
            <a:noFill/>
          </a:ln>
        </p:spPr>
      </p:pic>
      <p:sp>
        <p:nvSpPr>
          <p:cNvPr id="2080" name="PlaceHolder 1"/>
          <p:cNvSpPr>
            <a:spLocks noGrp="1"/>
          </p:cNvSpPr>
          <p:nvPr>
            <p:ph type="subTitle"/>
          </p:nvPr>
        </p:nvSpPr>
        <p:spPr>
          <a:xfrm>
            <a:off x="2356920" y="4786200"/>
            <a:ext cx="6388200" cy="177192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00"/>
              </a:solidFill>
              <a:latin typeface="Constanti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1" name=""/>
          <p:cNvSpPr txBox="1"/>
          <p:nvPr/>
        </p:nvSpPr>
        <p:spPr>
          <a:xfrm>
            <a:off x="428760" y="1857240"/>
            <a:ext cx="8229600" cy="357192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00"/>
                </a:solidFill>
                <a:latin typeface="Calibri"/>
              </a:rPr>
              <a:t>Was ist ein Sprechakt?</a:t>
            </a:r>
            <a:endParaRPr b="0" lang="en-US" sz="6600" spc="-1" strike="noStrike">
              <a:solidFill>
                <a:srgbClr val="000000"/>
              </a:solidFill>
              <a:latin typeface="Calibri"/>
            </a:endParaRPr>
          </a:p>
          <a:p>
            <a:pPr marL="343080" indent="-343080">
              <a:spcBef>
                <a:spcPts val="16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357120" y="285840"/>
            <a:ext cx="850104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200" spc="-1" strike="noStrike">
                <a:solidFill>
                  <a:srgbClr val="ff0000"/>
                </a:solidFill>
                <a:latin typeface="Calibri"/>
              </a:rPr>
              <a:t>Theorie von Austin</a:t>
            </a:r>
            <a:r>
              <a:rPr b="1" lang="ru-RU" sz="7200" spc="-1" strike="noStrike">
                <a:solidFill>
                  <a:srgbClr val="ff0000"/>
                </a:solidFill>
                <a:latin typeface="Calibri"/>
              </a:rPr>
              <a:t>:</a:t>
            </a:r>
            <a:br>
              <a:rPr sz="4000"/>
            </a:br>
            <a:endParaRPr b="0" lang="en-US" sz="7200" spc="-1" strike="noStrike">
              <a:solidFill>
                <a:srgbClr val="000000"/>
              </a:solidFill>
              <a:latin typeface="Calibri"/>
            </a:endParaRPr>
          </a:p>
        </p:txBody>
      </p:sp>
      <p:sp>
        <p:nvSpPr>
          <p:cNvPr id="2083" name=""/>
          <p:cNvSpPr txBox="1"/>
          <p:nvPr/>
        </p:nvSpPr>
        <p:spPr>
          <a:xfrm>
            <a:off x="571680" y="1643040"/>
            <a:ext cx="8229600" cy="488304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600" spc="-1" strike="noStrike" u="sng">
                <a:solidFill>
                  <a:srgbClr val="00b050"/>
                </a:solidFill>
                <a:uFillTx/>
                <a:latin typeface="Calibri"/>
              </a:rPr>
              <a:t>1)</a:t>
            </a:r>
            <a:r>
              <a:rPr b="1" lang="en-US" sz="6600" spc="-1" strike="noStrike" u="sng">
                <a:solidFill>
                  <a:srgbClr val="00b050"/>
                </a:solidFill>
                <a:uFillTx/>
                <a:latin typeface="Calibri"/>
              </a:rPr>
              <a:t>d</a:t>
            </a:r>
            <a:r>
              <a:rPr b="1" lang="de-DE" sz="6600" spc="-1" strike="noStrike" u="sng">
                <a:solidFill>
                  <a:srgbClr val="00b050"/>
                </a:solidFill>
                <a:uFillTx/>
                <a:latin typeface="Calibri"/>
              </a:rPr>
              <a:t>er lokutionäre Akt</a:t>
            </a:r>
            <a:r>
              <a:rPr b="1" lang="uk-UA" sz="6600" spc="-1" strike="noStrike" u="sng">
                <a:solidFill>
                  <a:srgbClr val="00b050"/>
                </a:solidFill>
                <a:uFillTx/>
                <a:latin typeface="Calibri"/>
              </a:rPr>
              <a:t>;</a:t>
            </a:r>
            <a:endParaRPr b="0" lang="en-US" sz="6600" spc="-1" strike="noStrike">
              <a:solidFill>
                <a:srgbClr val="000000"/>
              </a:solidFill>
              <a:latin typeface="Calibri"/>
            </a:endParaRPr>
          </a:p>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u="sng">
                <a:solidFill>
                  <a:srgbClr val="00b050"/>
                </a:solidFill>
                <a:uFillTx/>
                <a:latin typeface="Calibri"/>
              </a:rPr>
              <a:t>2) illokutionärer Akt</a:t>
            </a:r>
            <a:r>
              <a:rPr b="1" lang="ru-RU" sz="6600" spc="-1" strike="noStrike" u="sng">
                <a:solidFill>
                  <a:srgbClr val="00b050"/>
                </a:solidFill>
                <a:uFillTx/>
                <a:latin typeface="Calibri"/>
              </a:rPr>
              <a:t>;</a:t>
            </a:r>
            <a:endParaRPr b="0" lang="en-US" sz="66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u="sng">
                <a:solidFill>
                  <a:srgbClr val="00b050"/>
                </a:solidFill>
                <a:uFillTx/>
                <a:latin typeface="Calibri"/>
              </a:rPr>
              <a:t>3)perlokutionärer </a:t>
            </a:r>
            <a:r>
              <a:rPr b="1" lang="de-DE" sz="6000" spc="-1" strike="noStrike" u="sng">
                <a:solidFill>
                  <a:srgbClr val="00b050"/>
                </a:solidFill>
                <a:uFillTx/>
                <a:latin typeface="Calibri"/>
              </a:rPr>
              <a:t>Akt</a:t>
            </a:r>
            <a:r>
              <a:rPr b="1" lang="ru-RU" sz="6000" spc="-1" strike="noStrike" u="sng">
                <a:solidFill>
                  <a:srgbClr val="00b050"/>
                </a:solidFill>
                <a:uFillTx/>
                <a:latin typeface="Calibri"/>
              </a:rPr>
              <a:t>.</a:t>
            </a:r>
            <a:endParaRPr b="0" lang="en-US" sz="6000" spc="-1" strike="noStrike">
              <a:solidFill>
                <a:srgbClr val="000000"/>
              </a:solidFill>
              <a:latin typeface="Calibri"/>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4" name="PlaceHolder 1"/>
          <p:cNvSpPr>
            <a:spLocks noGrp="1"/>
          </p:cNvSpPr>
          <p:nvPr>
            <p:ph type="title"/>
          </p:nvPr>
        </p:nvSpPr>
        <p:spPr>
          <a:xfrm>
            <a:off x="642960" y="285480"/>
            <a:ext cx="850104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0" spc="-1" strike="noStrike">
                <a:solidFill>
                  <a:srgbClr val="ffff00"/>
                </a:solidFill>
                <a:latin typeface="Calibri"/>
              </a:rPr>
              <a:t>Theorie von Searle</a:t>
            </a:r>
            <a:r>
              <a:rPr b="1" lang="ru-RU" sz="8000" spc="-1" strike="noStrike">
                <a:solidFill>
                  <a:srgbClr val="ffff00"/>
                </a:solidFill>
                <a:latin typeface="Calibri"/>
              </a:rPr>
              <a:t>:</a:t>
            </a:r>
            <a:br>
              <a:rPr sz="7200"/>
            </a:br>
            <a:endParaRPr b="0" lang="en-US" sz="8000" spc="-1" strike="noStrike">
              <a:solidFill>
                <a:srgbClr val="000000"/>
              </a:solidFill>
              <a:latin typeface="Calibri"/>
            </a:endParaRPr>
          </a:p>
        </p:txBody>
      </p:sp>
      <p:sp>
        <p:nvSpPr>
          <p:cNvPr id="2085" name=""/>
          <p:cNvSpPr txBox="1"/>
          <p:nvPr/>
        </p:nvSpPr>
        <p:spPr>
          <a:xfrm>
            <a:off x="428400" y="1785960"/>
            <a:ext cx="8001000" cy="4525920"/>
          </a:xfrm>
          <a:prstGeom prst="rect">
            <a:avLst/>
          </a:prstGeom>
          <a:noFill/>
          <a:ln w="0">
            <a:noFill/>
          </a:ln>
        </p:spPr>
        <p:txBody>
          <a:bodyPr anchor="t">
            <a:normAutofit/>
          </a:bodyPr>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Äußerungs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propositionalen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illokutionärer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perlokutionärer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6" name=""/>
          <p:cNvSpPr txBox="1"/>
          <p:nvPr/>
        </p:nvSpPr>
        <p:spPr>
          <a:xfrm>
            <a:off x="357120" y="928800"/>
            <a:ext cx="8229600" cy="364320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ff"/>
                </a:solidFill>
                <a:latin typeface="Calibri"/>
              </a:rPr>
              <a:t>Explizite und implizite, direkte sowie indirekte Sprechakte</a:t>
            </a:r>
            <a:endParaRPr b="0" lang="en-US" sz="6000" spc="-1" strike="noStrike">
              <a:solidFill>
                <a:srgbClr val="000000"/>
              </a:solidFill>
              <a:latin typeface="Calibri"/>
            </a:endParaRPr>
          </a:p>
          <a:p>
            <a:pPr marL="343080" indent="-343080" algn="ct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19:43:14Z</dcterms:created>
  <dc:creator>Zver</dc:creator>
  <dc:description/>
  <dc:language>en-US</dc:language>
  <cp:lastModifiedBy>Пользователь</cp:lastModifiedBy>
  <dcterms:modified xsi:type="dcterms:W3CDTF">2020-12-14T10:30:38Z</dcterms:modified>
  <cp:revision>8</cp:revision>
  <dc:subject/>
  <dc:title>Kommunikationsmodell nach Roman Jakobson </dc:title>
</cp:coreProperties>
</file>