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E3D8-E38A-439A-B64A-E178440EAB88}"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70F1-7B1B-40FF-9A2A-97F2069BFA5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29EE-C687-4362-BBAC-946949F53E3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AF5CF-51BF-48A7-9365-A3E5004C114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B536-59A5-4EE6-84DA-19D72C26E0B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6BAD-6491-4886-B841-350BF856357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A17D8-5923-4195-8AC9-4DEF510C6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8E708-9CC7-4F33-8307-052CF998B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2EF058-E00D-4AA6-867C-18FCD36E6F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DDFEF0-1B96-4849-99D6-C4C49E9858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7648E0-DB37-4786-BAD0-C5BDCD987D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E6B5C3-02FC-4CB5-AC12-084B8110E1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25A448-1F9A-4492-8198-E862B05BEA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AA9DCC-5E04-40C4-9A8C-D3ABFA7BE9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352CCA-32C8-45CD-BBFC-0CC1A53C85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9E3FE1-2642-4196-9982-736802AB27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0FBD09-D26C-44BA-9489-73875F99ED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F48499E-F530-47F6-9D83-FE906F3011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DEFC9-F150-4B98-8944-CF383B4E7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DA8410-1D50-439E-987B-1641EC9A91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795019-37DE-4B01-8783-EC2FEBA4D9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12C67B-CDD5-43F9-8125-9DFBFB138F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4D5305-112A-48F9-AB08-18FA30BD11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9498C1-6199-4DBE-96BA-099A0F2FE4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0FE136-8D1B-4764-8417-62EA604A70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6F5E7A-63EE-429D-AFEA-7CA5A9900E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63E5EC-D336-4805-ADAA-A7305D62D5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F2C0AB-8D1A-4ED2-865A-F7D0F51562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262B314-4340-4755-B311-397007C5838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3D26F-D291-476C-AF37-272F414C5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01C8EAA-B0DC-49FD-AF2D-3F4A525D3D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9BA29F-D313-483C-A1D4-40E789491E0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FB7352-7EA1-46AC-AD61-4A901A2CBE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32E8EA-E596-4445-9F7C-49C7DED1A0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B047CB-756E-4FB9-8A28-7C94D1FB92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EF27E1-E01D-4D20-A5E0-0DBE544994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56C2D6-0C3C-4F8F-81C1-3E87458BBF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03BC7B-4114-422C-83BC-8A8502A55E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EB07CF-FDA9-424E-9E87-A912D2BFCC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7D8211-C33A-4193-9100-BB0C8B98AF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F9C047-C51B-4BC7-8983-2FCA1EA2C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9B7E75-CB91-483B-A58F-4741260715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7BF305C-7399-4F00-B028-9DE88DA20C6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CE1A216-0804-423D-838B-CFB0692567B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6106295-E211-46F8-9391-5EC61D259A3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1224C1-D769-4D5E-9253-7819F51A1C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1EA9DA-E696-426D-8D72-6B23388D18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75969F-C6D5-4101-B8D7-1791CEA210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7A268D-9FBE-4C76-96AB-7AD9B619E7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C4CB5B-0B1E-43EE-85BD-2478099AF2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065B39-064A-4504-9234-6EA8DABA0C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F72D3-5F88-41B1-B1D3-D38ADAA6F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85EDE9-D973-4250-A986-AD6AEE133B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250BA8-86FF-4BCA-9AAC-DF8DFFEE48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B64C84-2943-4AB9-B5B9-860A0C6DA8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BC5D946-5461-477D-940F-6EEF3595FE9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F222C20-1FC0-4506-BBCF-F75D9133FD6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367082B-42C1-4BA9-A875-84738E5213E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9D8B14-4D7F-433A-8B95-EDF9F56435B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D6D3C0-B389-43CE-B419-5CD21940FB3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84FB105-B415-490F-A333-4C0B35AF2BC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BD6DAB0-2EFA-4D6D-8F97-5DB875D13A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8B63B-CF8C-40F7-8B43-02691FF3E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D048D9F-4A48-4C6D-9303-F96E9C0327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0DEA68-4223-4C96-96F1-434FE2FC09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41BE04-DC4F-45D6-8C6C-E86A07A694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547531-01AC-4764-8937-63F74CA47E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A8B9647-E0F3-44D5-87EE-88235EEEBE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E08D7B0-971A-40C6-9986-CFCE369FF0A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029D666-E45D-45A2-92F1-F95B584EE60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D0C1B0F-9F59-4DC3-854A-56D327528BD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7A4C3ED-3BA9-417F-954A-0215C054C5A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7A6981E-E949-4A60-BA65-1E7490F497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B299E-2436-4F31-8309-5944BA588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F07CEFB-F474-4B3F-A166-3317046E3FC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45BCC31-7C14-4E37-8288-403A3B9FE6B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925C135-DBAA-41B2-AAE3-E816C1A70BF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439F58-9330-4076-BDD2-4394D0AFAEB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6D787E-FBC0-4CF1-B7FB-5EEEDE8980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67A999C-3EAF-4221-8CC2-65E546E0D5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5CDF289-DAE1-4E10-B2A5-183861067F3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CB8341C-1D13-4A4F-954D-5E57CBE92A2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5CA3916-FC6C-43BF-AF4F-94C68A5CAE3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C1B23FC-ED51-4FF5-A760-2DEF8130D1A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BAA54-E1A8-4D58-AE55-B847CE73A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7594988-92CA-495A-ABA0-EC7F36B4A36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DE119C4-9890-415B-9227-9EE9DBF409C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268F3B3-EB1E-4365-8BFF-21326BD56DF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4D6F80D-EB3E-468F-9138-A8072323078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3D3B7D6-51C6-47CC-A65F-E3FD147FAD9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F2FEF09-ADB9-4E7E-BDD5-7474C9B168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C211BB0-18A5-4EFA-93A8-E786929F85F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EB0C4E-6EED-4C0C-8C97-84425170318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98E95C9-714A-4096-8671-B9A9D82FBBC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3856A54-78AA-416C-B7E0-C14FBEA692F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A8F69-A243-4A32-98BA-8C81D8287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0F4820C-E284-415F-B424-9D6CE153AC6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2D4EAD0-E8D6-4933-8769-8FFE9BE6C01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B2DDEAB-9C8C-42A8-9BEE-80C8B504406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FE584C0-24E0-44D4-BE92-D4B35DA415F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7A854A8-EB87-4780-9D8D-6AEDE202229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7E5AA20-C938-4731-A628-B226B5EDD55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D053704-8A15-4A7E-BE5D-C455E07D49F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410484B-2056-4E33-9C6F-B0394D42576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D2022BD-6413-47BA-980F-6976A8A8E4B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9A1302C-FC5E-4696-91A8-9EFD5B0EB96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BF6CB-D496-49AF-8E69-94F976CF1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6E9B2B6-5074-4616-874C-C16B4B973EA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87D43BF-82CF-47EA-A1A0-75D9221ED74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7FB218B-235C-453C-816E-6675BDA3D97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C0D6C2F-8F49-42BB-BBD0-1F9A378A6D5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0F749F1-990C-452C-86EC-FE5001AA4EB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51A6274-14F5-4DAD-BFEF-517FD1CB600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C5E60E4-1960-4AC2-917A-4EAB64520BD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160F962-B8EA-44AA-84C7-03812248AD2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10AF9B9-4843-48C7-94F9-A94E2F37CF3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4151793-D637-4FC5-85AB-BC1E055575A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A745D-0751-43F5-8AC3-65527C264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58159-B92A-44F9-8BBD-498830766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45A1C7C-5FA0-429F-9578-1C3A3BEC6CD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7415FA6-511B-4382-8ACA-30E1C148C0E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74D32A7-D954-4357-8F09-A8315E67BFE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911AE5B-9668-4471-B82B-F6E4F6F1F66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A9DE724-279C-4429-B0D4-C24D952F12F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9A84D23-B74F-4E65-940F-C23A861A95C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EB8519D-92BF-4526-9C08-227E518470E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F8005E4-4DF1-4FE1-ACD8-95A1A39016B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AD68C62-B246-40D9-AE83-94887A02DE5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F18CB20-69D0-4B90-86A2-5A94477FF4F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6907F-3450-4EA4-85C4-AF5AD4D72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E57B106-312D-492F-B2F8-D604D4A57C4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90B46DE-34D4-4691-B3A7-D26077CBFB8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2FDA81A-47EC-4A79-BA35-C3D0B84447E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7443C6D-4717-46B6-A125-5D82BAB5342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F61F9CB-8AC2-4C69-885C-DA43787022C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5010EE0-5FF1-4F2A-83C1-89C3082BB3E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316069F-8F08-4ED6-A4A4-2CA58F71D36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34561AC-A3FF-4B62-AB7B-719DCF83E14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40F180D-4A85-4C51-832D-6CEB24FBBC7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C1CEF37-B234-4C37-88BD-122EAFA9621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ACD68-A6D3-447F-9EC6-E91E9C403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4B33204-0C2A-4377-BA10-5B32370E621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BF5B5AF-4866-4AEE-AFDE-E75322BCD01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A624838-B05A-4D6C-8F2F-AFDC0135026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FB18631-6C5C-4C62-B2A1-AAE65A6D83C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6CDCA9C-25C6-4993-B6FA-56C847498CF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06DC759-7F98-41DD-A516-919C5F46482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23916B4-9DC8-48F1-BC6C-CB092595841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EE21904-43BC-47FA-B459-E1ABBBBB6F6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8DFABE4-A32F-4008-9728-3277BE52E55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EB0AFB7-7B11-466B-9610-A02C3206499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CFE676-A31A-44DB-B9FE-001F3945F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76E883A-DDB4-4194-9AE7-7694E76E1C9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D9FEFB7-3E9A-4DD2-841E-56CF6283BB0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5E008D7-6D85-4E93-9FEA-54E8B540A0D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E9BFDC4-44E9-4DFF-8D3D-5B7923EC032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037955C-3A4A-4A2F-BA10-538E214630C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DADAB22-7956-45D5-9D16-6D751E16F68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1E6F82C-9C28-4D2C-A575-BEF1B04DE3A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15C225B-3DBF-4E6A-AB0A-48A940A9685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0B4A63A-57C3-43FF-81A3-971BCCBF0AD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C687FC6-51F6-46D7-B7EB-03947EEE8E4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727578-1A72-4E4B-AEAB-B6E9F61631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836DB88-F02C-4809-B778-A577E62A227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8B356B0-4B3A-4682-B422-4D9C3167B37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37C388D-A0F3-4CEC-91C3-D6629459F34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BE23859-50F7-4765-8DA9-C8AEB373FF4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C3A0860-1B61-4475-89CA-C11429870CE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63F8D0E-B1B9-4C00-840A-DBA23CE2B10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109FC5D-9BE0-4444-A12F-3D5C4D81922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BC36FBB-D3E2-4506-B654-AA570DCA3B5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6DFBC19-BBDE-467E-BE4D-E53B67ADE94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2909272-8898-4BA4-B900-21AA5E3C05A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9FF3AB-492E-4873-A1C6-967F6377B0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49EFBD2-9F54-45F9-8F34-5E9C4C13108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64D7FC5-E5CF-419F-A579-F824CF4E5E4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0BA87C0-5754-4DEA-8DDE-939C4D73C7A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44F59E6-F7AD-4C92-BC75-E4C03EAEE5C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C4A46E2-6F5E-44A5-8196-3116A7D9986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8B60B4D-152D-4B4B-9CEA-478155EFD0F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EA3FC22-3692-41F6-B439-4BF34916E6B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CF34902-5313-450F-BCE7-B84A135AEA5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C260F52-FA05-43E0-B306-15F75FB3B59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4AAB237-6148-479E-BF4E-4E7665B9DC8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DE5D8F-2B85-4882-A0CA-5260F5DA37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E38E669-FC21-4932-91F9-79E52BAFF38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DC34142-2152-495E-9883-A887DC243DE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E455B4D-68EC-4F73-B8E9-6D3B5A16D2D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321EABE-CDE8-4666-8AC9-E380398B599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D122F2F-3E6A-41B4-B5F1-E00302F98FD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36F7547-E14B-4BD4-AB7C-D3609325F21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1A7DD4C-C138-426F-BE17-65FC7B2681E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FF987D3-6463-4522-9BC4-EC65E2E1E6A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03F35AB-2E0E-45AD-8325-EE3FCEAB9CF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E184930-7ADD-468A-824C-0440BB303E5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586186-B0BC-47F0-A43C-05ADDBE5D1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0549418-8961-4E79-A79E-04446CB04D4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4DD7349-6625-43D8-90CD-B646328E0C5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4FC6B3D-D31C-4123-872A-7793265A414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3B3B14F-7566-403D-8972-618B6F12581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985CA28-49D3-409B-95BE-8895EBBB07F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454B7D7-2988-4848-9136-6868575B15B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C511A7D-31C6-4512-B218-3EA1D45204B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C856578-DA6F-473D-B3A4-C06CC2CBE9A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0A1A973-F4E6-4C45-B2B7-40763FAF103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368DF21-B0E9-497E-A7CE-3B80B8EAEA1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C4BF40-1491-4D66-BBC6-16E0BC6EFF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9AA17F6-23AB-4FF7-8E4E-6D514992535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C848D99-6236-46DB-AF97-F474282A868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DB5586A-797D-4DEA-9AE0-B8421C8CDD1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CA32AB9-A6C6-44CA-A7C7-138B6437D36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A145A32-947C-4755-BAF8-02159232F9C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EF41EBC-8534-40F7-9FA8-4003FDD2B33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327FBEE-4CEA-4937-BEFE-740F7FFCAFD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7B7F950-5964-403B-9E5C-3591782456A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984E3D1-CA31-4CBF-A1D7-EA528191B51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B080F6A-B57A-475B-8CCC-A27DFA9E83C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F3FFDA-37B8-4D05-BA7E-B9CBBB71B5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A08E461-C82F-4120-896D-FF568D038B2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E10CD93-BC6D-4E2D-ABAD-63384E7B8C9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0D81D58-8CFA-4B4E-B8EF-884B22AD734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60D7CDC-0006-46B3-978C-0D79BCC0BB4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6D9DC0B-CEF8-4196-BA8B-1F1E9BB158D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7847584-8EE3-4362-8616-7E18D1BD7E4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86CFC8E-F84E-45F8-A051-87453268262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4BA2C59-3553-4AA0-92DF-A71D3BCA025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95372EA-6E48-44BF-A4F4-284BF0E3332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200D8F9-FCFB-4FC6-B344-9F672EBAEDF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495FF-9783-4BFC-8BCA-935F5F5CE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9A2766-A53C-4E8B-AA7A-12966D3A32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1E4D1C7-C726-47FA-9A30-6A846BFB855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1D44E7C-7146-4FF9-AA30-843D67711C3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A8AEF90-36E0-469D-B772-BB08E920F8D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055D4E2-4E56-4DE1-A326-80699991E67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08369A1-7F47-4176-9960-793E77681B6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293B1E0-24DD-4975-BC83-91C78F14E2C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DE31B41-0910-455D-A9FB-E51757C5452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9170E3E-67C7-4591-A89C-848744DBCAA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4BB448B-105E-4F95-87D3-2ED8E0073EF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7A54EA5-992A-46A1-B5A1-277F883C263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34BB70-184D-4B5A-87E5-53E85800F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F9540C7-1056-4455-9890-778F944E46C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64C455D-3324-4282-837E-44C1298CB9C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595E3CEC-D7B4-4170-98B6-FF65813BC2C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6FD4EC7-3B81-4FC2-810B-06866FDC678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96054C5-CDB3-4B0F-B213-3B7362D12FF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2B1D9D6-D7D3-41E0-A628-5C3126F5A69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278C980-E6E2-4BFE-A697-380C23CA050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F8A4F13-2D01-49DF-BEE4-CC0E8566B90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1D1A231-E6BD-4C88-91CF-84947E1F060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F9940F1-0CF4-403F-A9B8-B16B7B65D55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794F76-F22D-4E88-A9AA-054758370E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25699E2-29FA-4D83-AA30-9A9C7DAA3D5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A6340F1-A6EE-4698-89D6-7D118D7B5B7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6311245-1DC6-4B37-BB30-526ECFCCC9D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5EE1486C-25A6-4B57-B31F-F575EAFBCF0C}"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3FA6B3E0-0B18-4E22-90C0-AD5ABF9976D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5E4B9F40-EF41-4E0B-AF6B-583FB7DDE53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46DFA00-CCA6-4953-A590-97055B725BA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BA9D1F8-5F9E-4F18-B1E1-7E97CDEF127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3734C46-E504-445F-8D2D-8631F7FB900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BFEA24D-2101-4550-B937-456E814754D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B1CF06-A575-4B47-B4F0-25655F4B6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6111B57-E0DE-4C76-9DBD-C6D85CA5E10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17BA5C5-E986-487E-868C-C9A722471E2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57071B0-0FA7-4FB3-A7A2-5E6B8A35D45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04E9F6B-052A-42AC-B1A3-A631AC56809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5CE6F5B-BFFD-4B40-9B13-178F149EB9D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78D8BD2-E939-4195-A040-2AE7E1EAC91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538C35EF-F896-4FA4-9561-40EEA9B2AC6B}"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E072062D-F141-4B81-94DA-05DBD2888082}"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56CA809-74B7-495D-B2BA-2E38150C972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1401B9A-0095-4E82-841B-0476E90A724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63D007-5671-4146-BE67-5BCCCC86A6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1ED2178-68CB-4F47-8AD3-D7CB9FE31B2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503930A-6542-4106-9C6E-264CBF1BBB4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2004FBF-1286-447F-B60D-034B1C78234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C8DB3F1-1D7C-447B-B472-218823126EC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6FEC9D4-E762-49A7-A65F-0C5405D93F7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769697E-0D0D-4C8D-98E4-42B809C75EC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DF862F3-AA23-4BD7-A457-3A5791C9D62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29E9CF05-9135-4C27-98B9-9EB1F2EC8E3D}"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2FF82C95-779D-4AD5-9827-73B89B1181E0}"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0E24796F-99F6-40B0-8154-8BF19DF7FBF1}"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AF7831-AA6F-4509-865D-A68CB7023A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2D9C392-0F1B-4D30-9DF6-BE31D44148A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3F6D6EA-E278-40BB-898E-82FFEEB627F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0702E30-4925-463A-83D9-A0C04153896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3FAAD6E3-EB72-4B34-8431-CDF245D368D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EDDE0E9-18CF-4CCF-845E-CA311CA032A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E22CFC2-FEFB-4176-83C9-8E3260C4CDF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6BEA358-8930-4276-83E9-6CCCB89942B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3BE32F8-D94D-4EAC-9A4E-7855845B66C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D1AA726-0B09-4A0B-BB5B-8FFEE7B674F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0866B061-E99C-4AFC-A134-CC2F4CAC65F5}"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120CBF-82CF-44BA-A99B-9CBB579A70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1A2F6C66-413E-4B52-804B-AA82073107A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A88E9BEF-7041-4064-A7DF-F14E1434DE38}"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BDED004-D367-441F-BE35-4C474440A4C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2DAAD71-4733-4A67-9BEF-8A19A997805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7FA26F8-5901-4121-A2EF-24CADF3435B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BA762F2-2B02-4C0A-B8AD-E87A9B1151B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7010D3D-EC54-46B4-9AEB-B61FA2B45B8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622EBCD-0B78-4E79-AEAE-CD163ED0872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A87E172-5189-452A-99A5-DE8FF25B32B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29B0F43-355A-4577-9056-784AC36874A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DBBA82-55EE-4F4E-99AA-7AC4046A5C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A74E8A6-A338-4913-A87B-EAD7AF2AE81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1432231B-567F-4546-A563-A90BBA562377}"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8631E408-DBD7-4C9F-B880-D2B7646DFA1B}"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29011D74-61C5-45EB-8469-7225ACEF3481}"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510B56B-4EB8-45CD-B2A0-8DBB3E840FB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57910A2-2F01-42CC-AB1A-4633942EC3D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FBA01F7-695B-4B51-BA82-FFAAFBEC145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735BA9C-36E0-4182-8467-C40CD26BBE3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9E27ADA-4E91-4F65-AFAF-32095A185E3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0FB9AB1-0873-4C98-826C-43AEE56434F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B31786-98E7-47AC-AE22-6D1A8A8498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D99F28C-C2AA-4D2C-B687-E18A3A43EF6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85E9799-214D-4E42-A9AE-1BDE50B362C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B8DA234-CD30-4DD5-B1EE-E613BDEC917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C7D8D4AE-7A23-4F97-BD25-6FEFAD349A24}"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5BB2450A-E70F-47CB-870C-39F205CA1F59}"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4321F739-7424-4BE1-BF5E-34B60BB11185}"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6743559-3F83-40B6-A77D-8FAFC4C28E5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BD1DA6A-2D58-43AD-B30F-84C81B2021F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85D5CEC-1423-4356-B2C9-1794B34034F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0763D82-9915-48EA-BD51-5620AF36EE5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229C82-9F9F-452A-BD19-4FE8185DBB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ED436BF-A181-4683-9312-91DECBEB4A1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2E14278-F3ED-454F-A063-28C138A5FA6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5288FFC-1431-441D-ADD7-801BCA7BAE0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3434A6F-0A5B-4E1E-AC1B-1D3421B2F11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988882A-E628-4677-B3AE-75CB3C366B1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C30BE060-6ED0-4AD8-BBED-D9EA6CBB86FD}"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5AEC6912-AB5F-4337-9A5A-D48E934A54A5}"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FBB36B69-12B1-498C-80F3-4BE6A261D349}"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3ADFF8D6-91A6-4852-AE9D-3B3C1D9D4DD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8C68D99-46D2-46B8-A26C-3DA453CF82E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7E932-76C3-473B-9ACC-17EEC0014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6EB0B9-69FC-45FF-8757-404B89972E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BB8E97E-7570-4A71-BD2A-4766CAD2F34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99B33632-3124-4D18-8D53-983B2728EBD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A9A5E9F-48BE-4D69-BD0A-42BCF25B3E5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9148289-0E62-4426-9C78-87B3DC5BEE9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E51E28E-81E7-4C5B-938B-9D8591C5BCF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84E7994-C94B-49AA-ADCA-8895BB02400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574A9260-7530-4F1F-97DB-F716E15C50D7}"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B0898694-E115-4124-824D-E4B82E929799}"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6731B850-7F2A-432A-B53C-BEF2EAFDF15C}"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47314EB-3C1A-4EF2-94F6-E4F44F0598A6}"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D20782-CA58-4EB2-90BB-4F7784081A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00E1C75-0B83-4957-86F8-71AC8D2FC9D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63DFF98-56DB-4110-AE2C-6BC7A4D8293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11D0FD6-2603-4C33-8B3B-1B0B3E21F9F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F0BD170-9C89-4D3E-AC89-2EB56F164D0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866A064-F267-481D-BD9F-E2BFE5BE9D0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FA0E4A3-B8B3-40C7-B039-9CC3EA1D697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4BB01E2-AD58-4305-A445-C843F358704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3BEEE81-E0F8-4945-BF3D-A10A073731E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A7DDCA5-9CB5-4198-ABCB-B434D72E63F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05C67ECF-6C41-4D9D-8336-0162A95995A1}"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7C8689-8CE4-4130-B8CE-5CADB6AC80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FA6529A2-BB88-4C2F-A0DB-4742A26F4A4B}"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DCC16580-0452-47BB-85B3-195F7C0A89DE}"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0C1D5EF-14FD-4B96-BC1C-6664ECB07A9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09FA9F5-F161-476E-B0C3-1FC13FBA1B9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149D2E5-C0F2-4076-AB96-C855276C7425}"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67280F4-E5C3-415B-9D17-1E5535CE535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D724671-778D-4749-BC13-269E4C6886D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2576BAB-5710-494F-BD93-D315F6B79D3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A95B4FE-A006-49CA-BF6D-20B1CCE2608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E49A458-5DF3-4E1C-B951-8469F055BAD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D39E66-64A3-4BB0-9688-00D4F48F89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81CC6A8-2EC3-4255-8AC6-CFCED7E0074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65BBB885-294F-442C-90BE-CACFD1D5CDA0}"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F3AF974E-7E84-46DB-B0EC-913520ADB1A0}"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CB187DC3-6732-4F17-802D-0BF1F611FF00}"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8CA5AA5D-C188-4E9F-9138-5B06BE907AC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2E64BE78-CBA0-4615-9CC3-15BADDA5C09F}"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8A3F070D-8C24-4AFC-8C31-C04C86AA34AF}"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1D6AF42-E620-40AD-AC25-6D4865B8C146}"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01FC87C-1E3F-41C1-8AB3-6D6B947571FF}"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9E9214E-3DB0-4283-B474-CCFA435D53E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7CC036-D30A-4A47-A180-A708431D1B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2563DEB-4150-41E5-91AB-A346365319C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5499367-53AA-4BEB-A29D-BF2406DEC6B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452FD2FF-DAA0-4B02-864D-FED02325628F}"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0AF13AA0-EE84-4DFC-8C4B-97D62A73714A}"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17081C3D-1BC6-4DE3-B88F-2DE9B70B66C6}"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5C2F7D8E-73A9-4EA1-847E-FA2313FA3400}"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73DF482A-717E-4032-9DBF-A44C83102D66}"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88F82233-2548-4718-B256-7A0D353F59C8}"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3F0F38D-5B14-448D-8FFC-ACE0F1B1645C}"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165CA32-6503-4B70-809E-CD935C8ABF09}"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267925-B74B-4005-9E48-DCC2DB5E44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4FE5BA74-8E1C-4D0A-8534-4D7E7EE12C14}"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E44AD87-A068-4F80-9966-497AABE2813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76333471-2144-42B9-8896-25DD62764CC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CE08AB7-2F6A-4C65-BDBC-221C25DC00C2}"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FC5CCA10-1289-419A-8BA4-5D0C1BD01D5D}"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73321546-EE1E-43E4-898D-0944D31224AD}"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CBA3B23F-28F7-4CEC-AC13-2F51DF519025}"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6ABB97A6-9C10-4B0A-A8BF-87F5AD530357}"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D3D124B-5AAA-4452-89AE-F64907AF095F}"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065AC6F6-54F3-495C-B6B5-6854729EB40D}"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8656A7-95D7-401F-951D-673399D7D4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B411C10F-81EA-43A0-8FDA-ED62A44302E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E1EF97B3-5876-4D56-8815-862F639C82F8}"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2E6731A-5A71-4373-A3AA-3E1E95A5D26E}"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46057C6-4C45-4446-81B9-81E999E5AAE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2DC7E65-A7C7-4845-9EE3-ECA9A7D7F703}"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5FFCFFB-DDC8-4DAC-8D03-7F2F4C1161A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49E44BFE-92A7-4511-9436-D2837D0062DD}"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FD66EBD6-FAE5-433E-89FC-C204EE5A7D56}"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49E62E17-FC24-4492-9A84-9ACCB2561A98}"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91B2FA80-977C-4FB4-AD51-9CC5B6E382B0}"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3D8BAA-A099-464B-BB90-F724ECA090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3AE9E61C-929C-4DDB-9FE6-2135D9214BFC}"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AC7309F-E81B-4593-9CFE-F2181D040D9B}"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46EAC5C3-26F9-41A2-B543-231787E9B6F5}"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1E2C0B4D-C609-4666-87FA-14282ECF943E}"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E01A493D-AAA6-4E61-AFB0-6A7706E9AE2F}"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CB8BC175-2450-4872-A842-9944B774211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621A044-DC98-4C5C-A96B-D0A0D4340A8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8871AE2-0872-41A2-BE64-2BE535373E65}"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CA652E71-5C38-4A04-AB5C-272E640464C0}"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EF544762-90D4-406C-914F-5B982BBEE108}"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D60B10-5F53-499C-BA3F-F9717F7CC6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D47A135B-78CE-4184-8FEF-E1BF20A68A6A}"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6FF71374-6356-4E5F-A284-614B563EEBFC}"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45BE6D8-E2D8-4C09-8E0F-999AA6C46E64}"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6DF7C9F-BA35-427B-B7B2-4394F051189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C2C9A9A5-A5C4-43EB-9E8F-C843EC447BA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5E811B08-1DD4-49A0-A00F-2C499CB717E6}"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4CB1ED61-5F3B-4C67-8AC3-4A95A8DCBAFF}"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62DCB495-CEDE-4651-83F6-EE10A6B1504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B0E531D-2BC9-45B4-9A09-428D97769A9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A37B832-BC49-494C-897E-4B36461B6C0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2F1789-00FE-48DF-8EF7-E5F5346467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6012DF90-0CCB-4301-B3B8-7EE6EFBEF9D0}"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16BD0E3A-1C9B-4456-B550-074158EAEB57}"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30768C0B-3C83-402D-AC03-260290DAF221}"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FD50FEEA-FDAE-4E5C-865D-94DD8C7E0DB8}"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F063B2DD-05CD-428D-B660-83C9622CDD7F}"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E878AB56-F772-4D84-A55B-A89E4C30F8E4}"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202F1A91-5745-4C22-9FB6-C1E12A250BD9}"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63F6AC8A-0520-4B49-9E95-AC5F0528BF09}"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C1E6CAC3-471A-4875-A183-7D8CF9E1E77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51898E8-A339-4FBC-89BC-65C2D2D7F7C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4E821-1CC6-46BB-B1B7-11D478060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E1DB1F-126E-4E29-8258-5B08219B15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100B048-9A89-4325-BCBD-74CAF0226F3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ADE9502-1DE6-44B3-8556-5DD75D51BF8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9B22C6CF-499F-4B00-A2C8-0CD8D59B342B}"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24DEC8D0-9C77-45D9-B13F-8AD2CC2D7E0B}"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20F3E7CA-2EDA-4F4F-AF85-FD885BEDA3A8}"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EABF8CFC-D95D-4CAD-9488-D6B604A1DB3B}"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7FB509C5-81CB-47F5-BA23-58567F81674B}"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55791901-07F8-4827-B5A1-ACF930CAEFA2}"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01F79373-D4D2-4914-B60D-4E59CC6E8969}"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CC40D16B-8470-4D14-8CA0-655E7B305F67}"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FF25DE-712E-4B1F-A172-16D6EB2AFB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F90DFD41-E6BB-4F62-A2A8-4481B75DCF7F}"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3FC68A1-F607-4686-B794-7A65ACB8A23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F5140A77-AE86-40A8-94B8-68ADD8B51FF7}"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6E43A508-D6DF-449B-A4AC-6B02A546621E}"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4BA9B8C6-DD40-430F-A345-51CEFF1C128E}"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28B1D613-CB4A-4B9D-8DEB-168DE40B332C}"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506C41D0-9CC5-41F6-9472-B700542E1694}"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18FF38D9-9819-47B2-A4AC-30EBA7430277}"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BBF744D4-2805-44A4-AE16-C01793EE94A2}"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7C2B0C2-1B85-4A61-9F9F-45EFDE16EFFA}"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7DBACB-6F50-4F08-8725-9C7A62DEED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DE16D9A8-598E-4965-9B0A-AD0D772231FC}"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70FF41C2-D998-4AF8-B350-405BF6C2BCD9}"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0F5E716C-172F-4663-BDE5-7A1390AA4A16}"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77865314-1F96-4E50-BC53-6D174F3F7E9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1541E06C-90D7-4FB6-B385-2F91BA373833}"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1185A42-F3EB-418F-A273-68DE4E60EEC3}"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2B2ACD2A-65A8-4C9D-91BC-FB79BFE5FF7F}"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94FCD3EA-2C9E-4476-AFE7-DE8FC858AC48}"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06BBA4B3-0C28-4C53-8CF4-34D153A2BF77}"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02EC8540-E9EE-4E32-B3BB-F9457AA2F9AF}"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83C247-E10F-4178-855E-8798A64FC1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0B6ED43-3F83-4E7A-B4A8-072EEB69C374}"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50B085D7-A1A4-4943-B159-1015C45EDE75}"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F4AD09A7-455F-45B1-A4B5-831F1051A288}"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EED68BAA-E578-4D0B-A6A7-65DCDAA8D81A}"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9EDA7168-CB72-4204-81A8-240CE9B8B553}"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1D945A6-82D4-4442-8F71-56BD8F5C4E1D}"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6622793F-55C3-41F0-9581-2C7A915D5495}"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3C46CB0-148C-4E02-8406-75B2B27CF472}"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FE4EC040-E4D0-4DFF-B1E9-7BAA06C3C055}"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DD99397E-2BF6-44EB-946C-4B53B38551B9}"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F1DBEA-964E-4DA1-B719-8E0AF2ADF8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2B2C715D-52DE-4E48-8E7E-242B9B7FB135}"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38FE1805-AC2B-4D85-AA16-A33CC811C746}"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72F8B3F4-7EA1-4407-85C4-34D6306EA1CA}"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D854DAEE-7159-4829-95EF-9E66B1BA666F}"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E1A24FC3-DE28-4658-9F09-051490A43F3C}"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8D60AA4B-6046-4832-A77B-4CDB96A6FB8B}"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79C72925-86FA-4E8C-B28F-02FA857D5A7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67A2A5A5-80F3-4537-8D48-8441C6D60EA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69E3ADFC-C91E-49B4-96A4-E89E27FCB85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B959AE2-5209-46C9-BDB3-DBAAB785E2D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0EDDA9-CF88-49CF-A515-506E1276D3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C7BF422B-DBED-475E-A988-6E97F018DF0A}"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61923907-235E-4D5D-BFA1-977087E62C3F}"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BD34A442-BE4D-4AC5-B143-650BCBD0D092}"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534229EB-1B13-4190-B3CF-B2431E6AE6F9}"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D967E91F-7D0C-4A13-B771-25CF44963576}"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51719C8B-97BD-4F0A-AB8F-556A3FA59501}"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9D3AE31A-000E-4072-BC04-F1F83AFA5812}"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D48C058C-70CF-43B2-BFB3-E9B8269932A6}"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2E639ECF-2D03-495F-9FDA-2E2346900C78}"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642E334C-163A-49B6-8FCD-C2BB76F38DCA}"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510D6A-229B-43DF-9DED-8B9CB9477E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927E9A6D-3F4E-4C85-BFD5-4135479F281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2705B434-83A9-4450-AA32-FCBEEDD56D7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EB395012-FFA8-41B0-8005-D9385FA348FB}"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15110998-E0AB-4696-838F-BCB7AC4F1A91}"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2C51C433-0709-4AFE-B636-B68128098C63}"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39F50F0C-41A9-4D41-899F-27FC4CA61B01}"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071D20E2-3D5E-4F31-9635-E7B7890976F3}"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CAADC004-06A1-4F10-B012-E831B104F7EF}"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C67B71E3-9EDE-4F46-BD3D-C7E2D5660909}"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9288AC45-70E2-43D7-9E89-783EA9528C56}"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317E2-51A6-4E23-BAA8-B6B458225F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8550BCAA-8AFB-4DDF-88DF-4639A1C9DE30}"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1DEE8DD3-5432-4C43-BE25-12B97E69EFB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BF937861-F50A-4734-9FF0-BF25ED9EBF5C}"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39B4519F-9D1A-4A40-BD5F-055C6AEC4DE2}"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0A2E2640-052D-4C51-8D16-F807C6C4F081}"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C1B1BE71-4EF5-484F-BE35-8F7DC575167F}"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76B3963D-A5AC-46FC-A199-F0BD4CEC9BF0}"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182CAF-13B7-482E-890C-29AE0AC3BD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9185DC-52D9-42AD-A527-03EE51D51A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F60A1-C5A5-4973-B295-B3D2D11A4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7EB877-403B-4D64-87E3-59DE165101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D37FAE-F54A-4E30-B6CA-8B99DDB619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AE4DB7-3471-4013-8D1F-8C6ADEBD66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A4AA75-E44A-4BB1-8457-D3AEFA0137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B5E608-6F39-457B-B604-F2E33E53CE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56EFB8-789C-4E9B-90D5-86BC030399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84C251-6110-41E3-BC89-1398745F98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28B321-0805-4C5A-B543-33CCD150FA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626825-8AE8-4B69-8DEC-B4505B230E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742DB8-5DDA-4643-B670-8C325A589F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B64F7-AD76-4869-9FB5-5B8F48E17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69D26D-9857-44AC-9715-5B5B81EDC4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9D6808-E92F-41AB-9EBE-0ED669068E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ACB7A6-DD26-4961-867B-DE33EC46EC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11272B-6918-4282-A699-D5774204DA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2F69C2-D20C-4F35-B40A-A787F4B3BE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4E5F14-1385-438C-A410-D12DE57D76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154CC9-0CDA-4E44-844F-8745445F41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93BB5B-D147-4194-9363-E23F2F790D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593B9B-C081-40BB-92A9-F32C22F42B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BCA241-6B07-4736-B118-E55FEA0E24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EA1DC-A4CE-490D-947D-E9E4BFBC2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891AAE-8FC1-4A9D-8A20-97B1D4C902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E56D70-7405-42A8-9389-414B33D3DC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8898E4-0782-4DF7-9A8B-7CB020B997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A53616-D14E-4862-ADD4-BA7F89EA6E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537A99-4E04-43CA-948D-8D3A479E36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EF734A-96BA-400A-B8CC-E9491C8843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288556-3990-45A1-903B-B84BCF8B81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E23695-49F9-4968-8A0B-C11BFCA9C9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E87BB1-BE4F-4830-B38D-49921497D3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250671-319F-4082-AFFD-79B53748D0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E3DE2-015B-45B5-9751-623AB50CE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C9DC6D-6C6D-47AC-AAFD-49B2D47B7F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062A29-D7DE-4B9A-A383-3171274B60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1013AE-61AA-43FD-A712-4B28CB3139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8B18E4-A2A2-4BA8-812E-5D333B1AFA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03B66E-11FF-4902-B379-D260781442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8FB5EA-3DD6-45EA-94E6-EA7FCC8ED1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101ECA-B158-422D-BDE8-A684AA7142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E8F855-95E7-44B7-9432-2466D1C614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F5681C-CB67-4ECF-AEA1-C9BA408699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AEE060-4439-491D-ABB6-D1E0BCADA3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12710-1D0E-40FF-9B81-9911F797F31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3FE2-7F94-4DEE-BB3E-EC6584F1162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EB74-B355-48AA-8135-B1807732BB3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E9A7-53FE-437B-9542-856D87852E3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2FA5F-C67D-4978-A932-0F40FF82D66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270F-A3D6-4D05-8381-C8B010DAAB5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5403F-316E-4634-AC57-FA1991B57EB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56B9-0EE4-4CF8-83F4-DC8872C01B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A760-EF22-4B6A-B322-219EA4D2CA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6D77-C867-4716-9FDB-61DE300E18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5658-4AE3-4D81-85C6-5BDB252B1D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B155-16ED-4DC9-B431-14CDD670446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38BA-4AFD-4ED1-AA46-C475E85C7C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1770-1283-4B7D-BD82-EA8BA5B50A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2A31-CB21-4D5E-8D21-6A542837FC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3F63-C3A4-4A27-91AE-797DAF8C3E9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74A6D-454E-4039-92E5-67AB59A706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1DA8-0AE6-4D19-8510-7E9A480FDF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EF59-6E41-443F-98A2-2B33A7910B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E233A-C11C-4FE9-BCE9-9778A4CA7F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A26B-CCE8-431E-91FF-4F0AD3B533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9BA0-36CE-44AE-8FF4-7589C65FF4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3CB4-2A97-4CC2-8545-5718B2E5D8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0DFC-6D5C-48D9-86E5-2D1A8F076A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188A-B36E-4214-9776-B2FB42F5BB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F940B-6C8D-48A6-A07F-5F89F89598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E877-1CBA-4556-A122-8978AC5A24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0EC4-6549-4712-8EFE-FCD869CFC5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BC68B-0D2A-4B50-9131-63ABD8AB6A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2974-33FF-4385-A0AA-30260AAF05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13B20-82CC-4D3C-9005-D86705F988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73F1-6A3B-4FEE-8F17-615FF3BBAB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5F3F-3920-4CB4-8DDB-0BA31843A5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31A7-5D3A-49B7-A92D-C0B6178F9B5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741C-9D30-4530-83CE-1BF98A1776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7E12-C4A5-4D30-BFF2-D6A590E978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9843-E80F-401F-B4D5-F071A35323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40FCB-4929-4B8A-9C7F-11C210800C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CEC4-8A0E-430E-AC16-DE047CC1F7E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0318-2470-48BF-812A-7563965E53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0ADA-9314-4BBA-97E7-BBA0AB9A67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CF16-215C-43C4-B7FB-B71AD2E9C2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8914-B471-4DFE-A3A2-9F0F3AADB3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7C6C-9A9B-4F30-8A68-E6420CF757C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F4B4-6C1F-4F97-B0BE-DDD721F633E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450E-9FD1-46A9-9BA6-35DAE5F2DF0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C68E-CACF-4A92-A849-6A3357573CB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20121-62B9-4D41-88A5-2BE30C064FE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