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1093-05A7-4F6F-9DE5-BE2AEF96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8FE4-F589-49AF-AD5E-E272FA0D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5FE4-6807-4067-80D0-9B389F54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BBE3-F669-4FE8-A404-CC5D7D76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81F7-3661-4707-B4CB-4F68CDB7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1FE5-0A80-476B-B2D1-CCC1C707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938A-CCD9-4B92-8A87-6DAC6F49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5D4F-EDF4-4BA7-A0E6-1482724C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E3F1-127C-42F9-ABA3-3B3E98E8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B77F-75B7-4599-91F9-59B79DF1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2C5C-FB0C-4C01-BA3B-7B994E1C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F6B9-8CDE-4599-A202-1F8639B8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0548-A0CD-4549-99A8-060185E0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D964-9914-4C51-917A-FBD6A493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B9BB-898F-4456-847E-9F3E7BA3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571E-FD55-4938-86B0-ACEAC623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3239-A7DA-4E54-8C61-FBB5015E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CF613-8E57-4619-9AE8-2DA1E6CA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1ED11-9395-4688-97C1-602C5D47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CB430-94E5-4B48-A1DB-6C41FB00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DC86E-D406-4CD7-B056-024B17DB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B4937-4E11-458E-9285-9D5C51F9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FFC0-C7DF-4484-8509-5A89A55C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0B7F9-C580-44BD-BD8A-0A9A3950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A1A95-3ABD-42B3-8778-4668B25D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0EC12-8855-4CEB-B304-3B0C106B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42807-2827-4403-9062-E53F1B1A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C80DE-E1AB-495B-81E9-BD9A8B07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8F03A-4D77-48A7-BBAE-E98E18E1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2B714-1AA8-46E8-8709-0B87E526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2A207-C7C3-4F6D-9192-E67712CB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D1D0C-80BF-4757-BEAF-6D27164D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49DB7-FBCB-4134-970F-AB726D01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F66A-9DB7-4761-AD59-9FDCBBAB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47C63-5530-4636-813C-9F093BDC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19B89-9AF7-4011-BB0C-4BEBA334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6BC35-0C3D-4241-B1D0-C1D9E8ED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16031-4895-4D5E-B1A2-96CCEBD1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7F990-C9B3-4FD6-80A2-9CE2F49F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2467F-44A1-49F0-B511-6DBF3FAC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7F31D-9A68-4032-B7D9-569B7E4E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CCCA8-E7A2-428E-9F3D-1049070F6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0661F-95AF-46CF-924B-3789D45C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4D61-B309-4279-A89A-D34EFB71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0C7D-5E87-4FB6-A44D-81C99A22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BF45-098B-4157-994E-8B8D49F2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51E4-3E47-48CE-BA7C-C7443BB5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4BA4-B638-4DC8-B19A-51A41724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3C23-7A6A-434B-ADD6-2E120A212AF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3B2A-9515-4CC4-8D0D-ED018814AEA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ED9B-7EEC-4786-AE67-DE29F16E92A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13AE-B9F8-4446-8ACF-38C0FBD8158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187280" y="2276640"/>
            <a:ext cx="7056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піввідношення термінів бренд, товарна марка та товарний знак. Визначення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ваги використання бренду. Функції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иди бренді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Ідентичність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48512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971640" y="764640"/>
            <a:ext cx="7200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" descr="ÐÐ¾Ð³Ð¾ÑÐ¸Ð¿ Nestle"/>
          <p:cNvPicPr/>
          <p:nvPr/>
        </p:nvPicPr>
        <p:blipFill>
          <a:blip r:embed="rId2"/>
          <a:stretch/>
        </p:blipFill>
        <p:spPr>
          <a:xfrm>
            <a:off x="2050920" y="765000"/>
            <a:ext cx="511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42920" y="731520"/>
            <a:ext cx="7345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" descr="Ð¤Ð°Ð¹Ð»:Motor Sich logo.png"/>
          <p:cNvPicPr/>
          <p:nvPr/>
        </p:nvPicPr>
        <p:blipFill>
          <a:blip r:embed="rId2"/>
          <a:stretch/>
        </p:blipFill>
        <p:spPr>
          <a:xfrm>
            <a:off x="1979640" y="907920"/>
            <a:ext cx="51847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40328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691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71280" y="1483920"/>
            <a:ext cx="71737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691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7101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" descr="ÐÐ¾Ð»Ð¸Ð·ÐµÐ¹ Ð² Ð Ð¸Ð¼Ðµ"/>
          <p:cNvPicPr/>
          <p:nvPr/>
        </p:nvPicPr>
        <p:blipFill>
          <a:blip r:embed="rId2"/>
          <a:stretch/>
        </p:blipFill>
        <p:spPr>
          <a:xfrm>
            <a:off x="1476360" y="1268280"/>
            <a:ext cx="6624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47636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" descr="Image"/>
          <p:cNvPicPr/>
          <p:nvPr/>
        </p:nvPicPr>
        <p:blipFill>
          <a:blip r:embed="rId2"/>
          <a:stretch/>
        </p:blipFill>
        <p:spPr>
          <a:xfrm>
            <a:off x="1403280" y="1484280"/>
            <a:ext cx="6408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6669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" descr="Oscar statuette for Oscar records.jpg"/>
          <p:cNvPicPr/>
          <p:nvPr/>
        </p:nvPicPr>
        <p:blipFill>
          <a:blip r:embed="rId2"/>
          <a:stretch/>
        </p:blipFill>
        <p:spPr>
          <a:xfrm>
            <a:off x="2916360" y="765000"/>
            <a:ext cx="367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7101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612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2640" y="731520"/>
            <a:ext cx="68137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648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6912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24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43000" y="731880"/>
            <a:ext cx="6958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а марк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назва, поняття, знак, символ, дизайн або їх комбінація, які призначені для ідентифікації запропонованих продавцем товарів або послуг, а також для встановлення їх відмінностей від товарів і послуг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ний знак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зареєстрована торгова марка, яка забезпечена правовим захистом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86920" y="765000"/>
            <a:ext cx="7201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лежно від контролю та маркетингової підтримк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бренд виробни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власний бренд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label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торгівельна марка продавц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 географічною ознакою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яка характеризує ступінь поширення бренду, розрізняють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глоб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лок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націон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4901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иди брендингу у залежності від стратегії розширен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онобрендинг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рпоративний брен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єдиний бренд, під яким випускається продукція компан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уббрендинг (сімейний, дочірній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бренд, що представляє окремий товар (або лінію товарів), відмінний від материнського, але який зберігає безпосередній зв’язок з ни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-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або спільний бренд, від англійськ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rand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виникає тоді, коли два або більше бренда вирішують об’єднати свої зусилля та одержати від цього додаткову вигоду (спонсорство, виробниче співробітництво, спільні акції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расольков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оширюється на суміжні товарні категор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ульти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підтримка декількох самостійних (індивідуальних) брендів, які існують відокремлен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1" lang="ru-RU" sz="4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(brand identity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це унікальний набір пов’язаних з брендом ознак, що описує, для чого існує бренд, і несе в собі обіцянку споживачеві з боку виробни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истема характерних особливостей 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brand identity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є специфічною концепцією, яка має так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функці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фік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однозначне і точне розпізнавання бренду споживачами в реальному конкурентному середовищі на будь-якому ринку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диференці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істотні відмінності від конкурентних брендів і унікальність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плив на поведінку споживач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утримання існуючих та залучення потенційних споживачів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26920" y="731880"/>
            <a:ext cx="7490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and Identity System (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акер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сті бренду вивчаються на двох рівнях за 12 позиціями, згрупованими за чотирма напрямками: бренд як продукт, бренд як організація, бренд як особистість і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рижнев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ширен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Бренд як продук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 Меж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2. Властивост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3. Якість / цін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4. Сфери використа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5. Користувачі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6. Країна походже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Бренд як орган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 Атрибути організації (наприклад, інноваційність, орієнтація на покупця, забезпечення довіри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 Локалізація / глобал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Бренд як індивідуаль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 Індивідуальність (наприклад, щира, енергійна, прямодушному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2. Взаємини між брендом і покупцем (наприклад, «друг», «порадник»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1. Візуальні образи і метафор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2. Спадщина бренду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488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143000" y="731520"/>
            <a:ext cx="6958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ідентичності бренду Чернатоні 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 де Чернатоні, Великобританія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ор по бренд-маркетингу Л. де Чернатоні пропонує модель ідентичності бренду, яка складається з п’яти елементів; кожен попередній рівень створює основу для подальшого рів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трибути бренд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игод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емоційне винагород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цінності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собистісні якості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20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840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2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258560" y="691920"/>
            <a:ext cx="7102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BrandWorks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search Business International, Великобританія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танська дослідницька фірма Research Business International пропонує модель, що включає в себе шість гран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користувач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повідає уявленню про своїх потенційних споживачів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родукту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ображає те, як споживачі сприймають функціональні атрибути бренд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слуг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арактеризує те, як бренд взаємодіє зі споживачем: як він ставиться до клієнту і як він функціонує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дії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раховує контекст, в якому відбувається взаємодія споживача з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ість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яснює емоційні та раціональні цінності бренду і допомагає виразити зв’язок між споживачем і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бут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в’язує п’ять інших елементів системи характерних особливостей бренду як цілісний і емоційно близький образ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142640" y="731880"/>
            <a:ext cx="7101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відчутна сума властивостей продукту: його імені, упаковки і ціни, його історії, репутації і способу рекламування. Бренд також є поєднанням враження, яке він справляє на споживачів, і результатом їх досвіду у використанні бренду». (Д. Огилві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те, що споживачі відчувають по відношенню до продукту; це прихильність до нього; ті персональні якості, які вони приписують продукту, довіра і відданість, які вони відчувають до нього». (Рекламне агентство Ogilvy&amp;Math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7201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1403280" y="731880"/>
            <a:ext cx="6264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143000" y="731520"/>
            <a:ext cx="6958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Вrand Рyramid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ША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ентичність бренду складається з 7 елементів, причому кожен попередній рівень створює основу для подальшог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трибути бренду – зовнішні ознаки, за якими він ідентифікується споживач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іональні вигоди – раціональні вигоди від бренд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моційні переваги – емоції та почуття від використання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Цінності споживача, які підтримує бренд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Індивідуальність бренду описує його характер та відмітні якості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нікальна торговельна пропозиція (УТП) – головна причина для покупки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уть бренду – ключова ідея, змістовне ядро, яке виражене двома-трьома слов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912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26560" y="731880"/>
            <a:ext cx="7705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 річ, продукт, компанія або організація. Бренди не існують в реальному світі – це ментальні конструкції. Бренд найкраще описати як суму всього досвіду людини, його сприйняття речі, продукту, компанії або організації. Бренди існують у вигляді свідомості або конкретних людей, або суспільства» (цитата по книзі James R. Gregory «Leveraging the Corporate Brand»McGraw-Hill, 1997, USA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Переваги використання бренду. Функції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споживачів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витрат клієнтів на пошук товарів шляхом забезпечення їх швидкої і точної ідентифікації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сприйняття ризику, забезпечення гарантії якості та послідовності (в тому числі для нових товарів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абезпечення додаткової впевненості, психологічної винагороди від купівлі марк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підкреслення певного суспільного статусу та престижу.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99640" y="731880"/>
            <a:ext cx="7272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виробник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зволяє отримувати додатковий прибуток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хищає виробника в процесі роботи з партнера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процедуру вибору товару споживачем, оскільки саме брендові товари споживачі вважають найбільш якісни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фікує компанію-виробника та її товари серед товарів конкуре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вихід виробника з новими товарами на суміжні рин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ожливість робити інвестиції в майбутнє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безпечує емоційний зв’язок з покупце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6512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сновні функції бренда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41672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інформативна (захисна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саме бренд дає змогу споживачу чітко визначити основні цінності підприємства; донести до споживача інформацію про унікальність товару; матеріальну та нематеріальну користь, позиціонуючи таким чином товар на ринк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престижн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статус товару, гарантія якості, задоволення споживачів, імідж виробни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економічн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додаткова вартість підприємства та його акцій за рахунок бренда; додаткова вартість у ціні товару; потужний бренд є інструментом інвестицій у маркетинг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бар’єрн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захист від імітацій і копіювання; укріплення позицій щодо товарів субститутів; ускладнення процесу проникнення конкурентів на ринок; створення емоційних і раціональних передумов для повторних покупок лояльної аудиторії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68011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Види брендів</a:t>
            </a:r>
            <a:r>
              <a:rPr b="1" lang="ru-RU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85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) товарні бренди (Product Brands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) сервісні бренди (Service Brands)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) бренди організацій (корпоративні бренд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) бренд подій (Event В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) бренди осіб (Personal B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6) географічні бренди (Geographical Вrands).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9T15:45:33Z</dcterms:created>
  <dc:creator>Dvyhun</dc:creator>
  <dc:description/>
  <dc:language>en-US</dc:language>
  <cp:lastModifiedBy>Olya</cp:lastModifiedBy>
  <dcterms:modified xsi:type="dcterms:W3CDTF">2019-01-30T08:34:54Z</dcterms:modified>
  <cp:revision>47</cp:revision>
  <dc:subject/>
  <dc:title>Тема 1. Поняття і сутність бренду</dc:title>
</cp:coreProperties>
</file>