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5.png" ContentType="image/pn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D8F0-1975-432B-AC11-93F435642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138A-AFBF-44D3-AE76-A691AB5C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294C-9478-4487-AA14-073948E12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A559-2BEE-49CF-9DF9-60C6DC27B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515B-D4ED-4504-AEEB-8A78BB597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5B46-D3DB-4C9F-8BD1-FBC9D0B4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CE39-F8F5-433D-AABC-E0AEE389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60C6-9286-4FF9-B885-445D9660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6D77-844A-42B5-A4FE-CB17C3DD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5B13-421D-46E2-BD88-1F81806D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10B7-E970-4559-949E-DDE6B7E0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A64F-7F6B-4342-B334-AB608DC9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7228-3D7C-471D-A5EC-26761E2E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F379D-DC27-4BC2-9C05-F54FFA24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CD69E-B6C6-4D38-8036-9B616BE5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0F89-DA50-4A09-9B5B-5A419522B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BDBB-F07E-44B0-8DE4-40273228A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25FF6-97D8-4803-BF77-673DB065D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A2D90-ED68-43F7-953B-E0753A37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02834-744B-45A7-9F98-D344BF57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4653F-8756-4DB2-940F-71A297BF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8A342-3BE0-4B3E-BEB5-1B8A2A7F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9840-0826-48DE-AB25-69B7BE20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6A571-8914-4849-9B10-6A049504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FBF8E-ABFD-4A02-A968-64E61858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0BE50-B9F6-40E6-81D5-6E67DC8F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45A54-832E-4540-A62E-1CE62C31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67592-D1C6-4212-B8D3-050373BD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B0C8C-DFE6-4EF6-911A-F6C0670AB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95185-EFDD-4E07-B3A5-1839DF7D3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EB369-A4A2-460D-81A7-7C2C7156D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B7A14-D3A7-481D-A54A-8474A5CE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3FCFF-7A63-4970-A0ED-FC83319D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272F-0896-46EB-9800-B86F2CA3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4FFA1-8E57-4641-A2DA-DDF06D7C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4E2DF-5D12-4111-BFB2-128CC3A5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AD23E-8437-4C46-A49A-8340133E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697FB-67CF-4679-97D4-E4AC2E34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4F6CB-CFB3-4587-9CBA-E0CEC491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480CF-9C77-49A1-8C8A-39A9BA51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83AF5-895B-4874-91E2-7C1D45D2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11FA7-EBE5-4856-8FDF-5078E7418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52801-5E1E-40D9-9BD9-DDDEB9206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FC4D-D7EA-4BBE-8377-CAC1829B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E03D-0863-4A26-B895-D50D6740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D6D2-4464-4B32-8BD5-6BEA2256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6587-FE7B-41AA-9B83-ACA6A19D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23BA-D877-4185-A41B-4CD6CF46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7942-7912-4554-A52A-5F2B257BA93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41CE-82D0-44AC-BB75-103D2955BEB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AA5A-F1A2-4E7B-BE46-72DE560A7B4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3EF4-A077-4DED-BE7D-A9B0BF914DD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187280" y="2276640"/>
            <a:ext cx="70567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піввідношення термінів бренд, товарна марка та товарний знак. Визначення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ереваги використання бренду. Функції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иди брендів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Ідентичність бренд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485120" cy="18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971640" y="764640"/>
            <a:ext cx="720072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7" name="" descr="ÐÐ¾Ð³Ð¾ÑÐ¸Ð¿ Nestle"/>
          <p:cNvPicPr/>
          <p:nvPr/>
        </p:nvPicPr>
        <p:blipFill>
          <a:blip r:embed="rId2"/>
          <a:stretch/>
        </p:blipFill>
        <p:spPr>
          <a:xfrm>
            <a:off x="2050920" y="765000"/>
            <a:ext cx="5113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042920" y="731520"/>
            <a:ext cx="7345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" descr="Ð¤Ð°Ð¹Ð»:Motor Sich logo.png"/>
          <p:cNvPicPr/>
          <p:nvPr/>
        </p:nvPicPr>
        <p:blipFill>
          <a:blip r:embed="rId2"/>
          <a:stretch/>
        </p:blipFill>
        <p:spPr>
          <a:xfrm>
            <a:off x="1979640" y="907920"/>
            <a:ext cx="518472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403280" y="14839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116000" y="1989000"/>
            <a:ext cx="6912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971280" y="1483920"/>
            <a:ext cx="717372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116000" y="2133720"/>
            <a:ext cx="691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115640" y="980640"/>
            <a:ext cx="7101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5" name="" descr="ÐÐ¾Ð»Ð¸Ð·ÐµÐ¹ Ð² Ð Ð¸Ð¼Ðµ"/>
          <p:cNvPicPr/>
          <p:nvPr/>
        </p:nvPicPr>
        <p:blipFill>
          <a:blip r:embed="rId2"/>
          <a:stretch/>
        </p:blipFill>
        <p:spPr>
          <a:xfrm>
            <a:off x="1476360" y="1268280"/>
            <a:ext cx="66247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476360" y="14839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7" name="" descr="Image"/>
          <p:cNvPicPr/>
          <p:nvPr/>
        </p:nvPicPr>
        <p:blipFill>
          <a:blip r:embed="rId2"/>
          <a:stretch/>
        </p:blipFill>
        <p:spPr>
          <a:xfrm>
            <a:off x="1403280" y="1484280"/>
            <a:ext cx="6408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142640" y="731880"/>
            <a:ext cx="6669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9" name="" descr="Oscar statuette for Oscar records.jpg"/>
          <p:cNvPicPr/>
          <p:nvPr/>
        </p:nvPicPr>
        <p:blipFill>
          <a:blip r:embed="rId2"/>
          <a:stretch/>
        </p:blipFill>
        <p:spPr>
          <a:xfrm>
            <a:off x="2916360" y="765000"/>
            <a:ext cx="36716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142640" y="731880"/>
            <a:ext cx="7101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1476360" y="1916280"/>
            <a:ext cx="6120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142640" y="731520"/>
            <a:ext cx="681372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547640" y="1052640"/>
            <a:ext cx="6480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042920" y="764640"/>
            <a:ext cx="6912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2987640" y="981000"/>
            <a:ext cx="3240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143000" y="731880"/>
            <a:ext cx="69580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гова марка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це назва, поняття, знак, символ, дизайн або їх комбінація, які призначені для ідентифікації запропонованих продавцем товарів або послуг, а також для встановлення їх відмінностей від товарів і послуг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ент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ний знак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зареєстрована торгова марка, яка забезпечена правовим захистом.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186920" y="765000"/>
            <a:ext cx="7201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Залежно від контролю та маркетингової підтримк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бренд виробник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власний бренд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ivate label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торгівельна марка продавц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За географічною ознакою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яка характеризує ступінь поширення бренду, розрізняють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глоб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лок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національн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826920" y="691920"/>
            <a:ext cx="749016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 algn="ctr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иди брендингу у залежності від стратегії розширенн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монобрендинг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корпоративний бренд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єдиний бренд, під яким випускається продукція компанії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суббрендинг (сімейний, дочірній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бренд, що представляє окремий товар (або лінію товарів), відмінний від материнського, але який зберігає безпосередній зв’язок з ним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ко-брендинг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або спільний бренд, від англійськог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brand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) виникає тоді, коли два або більше бренда вирішують об’єднати свої зусилля та одержати від цього додаткову вигоду (спонсорство, виробниче співробітництво, спільні акції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арасольковий 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поширюється на суміжні товарні категорії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мультибрендинг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підтримка декількох самостійних (індивідуальних) брендів, які існують відокремлено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58560" y="404640"/>
            <a:ext cx="65120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дентичність бренду</a:t>
            </a:r>
            <a:r>
              <a:rPr b="1" lang="ru-RU" sz="4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58560" y="1268280"/>
            <a:ext cx="6985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Ідентичність бренд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(brand identity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це унікальний набір пов’язаних з брендом ознак, що описує, для чого існує бренд, і несе в собі обіцянку споживачеві з боку виробник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истема характерних особливостей (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brand identity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) є специфічною концепцією, яка має такі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функції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ідентифікаці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однозначне і точне розпізнавання бренду споживачами в реальному конкурентному середовищі на будь-якому ринку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диференціаці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істотні відмінності від конкурентних брендів і унікальність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плив на поведінку споживач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утримання існуючих та залучення потенційних споживачів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26920" y="731880"/>
            <a:ext cx="7490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rand Identity System (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акер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Ш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ливості бренду вивчаються на двох рівнях за 12 позиціями, згрупованими за чотирма напрямками: бренд як продукт, бренд як організація, бренд як особистість і бренд як символ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трижнева ідентичність бренд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озширена ідентичність бренд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 Бренд як продукт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1. Межі товар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2. Властивості товар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3. Якість / цінність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4. Сфери використанн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5. Користувачі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6. Країна походженн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 Бренд як організаці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1. Атрибути організації (наприклад, інноваційність, орієнтація на покупця, забезпечення довіри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2. Локалізація / глобалізаці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 Бренд як індивідуальність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1. Індивідуальність (наприклад, щира, енергійна, прямодушному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2. Взаємини між брендом і покупцем (наприклад, «друг», «порадник»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 Бренд як символ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1. Візуальні образи і метафори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2. Спадщина бренду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748800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143000" y="731520"/>
            <a:ext cx="69580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ідентичності бренду Чернатоні </a:t>
            </a:r>
            <a:br>
              <a:rPr sz="2800"/>
            </a:b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. де Чернатоні, Великобританія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ор по бренд-маркетингу Л. де Чернатоні пропонує модель ідентичності бренду, яка складається з п’яти елементів; кожен попередній рівень створює основу для подальшого рівн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атрибути бренд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вигод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емоційне винагорода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цінності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особистісні якості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7200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2"/>
          <a:stretch/>
        </p:blipFill>
        <p:spPr>
          <a:xfrm>
            <a:off x="1332000" y="907920"/>
            <a:ext cx="68403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2"/>
          <a:stretch/>
        </p:blipFill>
        <p:spPr>
          <a:xfrm>
            <a:off x="971640" y="981000"/>
            <a:ext cx="7200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1258560" y="691920"/>
            <a:ext cx="710244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BrandWorks 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search Business International, Великобританія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танська дослідницька фірма Research Business International пропонує модель, що включає в себе шість гране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користувача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ідповідає уявленню про своїх потенційних споживачів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родукту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ідображає те, як споживачі сприймають функціональні атрибути бренду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ослуги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характеризує те, як бренд взаємодіє зі споживачем: як він ставиться до клієнту і як він функціонує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 події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раховує контекст, в якому відбувається взаємодія споживача з брендом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стість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яснює емоційні та раціональні цінності бренду і допомагає виразити зв’язок між споживачем і брендом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бутність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ов’язує п’ять інших елементів системи характерних особливостей бренду як цілісний і емоційно близький образ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1142640" y="731880"/>
            <a:ext cx="71010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невідчутна сума властивостей продукту: його імені, упаковки і ціни, його історії, репутації і способу рекламування. Бренд також є поєднанням враження, яке він справляє на споживачів, і результатом їх досвіду у використанні бренду». (Д. Огилві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це те, що споживачі відчувають по відношенню до продукту; це прихильність до нього; ті персональні якості, які вони приписують продукту, довіра і відданість, які вони відчувають до нього». (Рекламне агентство Ogilvy&amp;Mather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1042920" y="981000"/>
            <a:ext cx="7201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"/>
          <p:cNvPicPr/>
          <p:nvPr/>
        </p:nvPicPr>
        <p:blipFill>
          <a:blip r:embed="rId2"/>
          <a:stretch/>
        </p:blipFill>
        <p:spPr>
          <a:xfrm>
            <a:off x="1403280" y="731880"/>
            <a:ext cx="626436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1143000" y="731520"/>
            <a:ext cx="6958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Вrand Рyramid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s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ША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дентичність бренду складається з 7 елементів, причому кожен попередній рівень створює основу для подальшог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трибути бренду – зовнішні ознаки, за якими він ідентифікується споживачам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Функціональні вигоди – раціональні вигоди від бренд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моційні переваги – емоції та почуття від використання бренду споживаче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Цінності споживача, які підтримує бренд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Індивідуальність бренду описує його характер та відмітні якості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Унікальна торговельна пропозиція (УТП) – головна причина для покупки бренду споживаче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Суть бренду – ключова ідея, змістовне ядро, яке виражене двома-трьома словам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1116000" y="620640"/>
            <a:ext cx="6912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26560" y="731880"/>
            <a:ext cx="7705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енд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не річ, продукт, компанія або організація. Бренди не існують в реальному світі – це ментальні конструкції. Бренд найкраще описати як суму всього досвіду людини, його сприйняття речі, продукту, компанії або організації. Бренди існують у вигляді свідомості або конкретних людей, або суспільства» (цитата по книзі James R. Gregory «Leveraging the Corporate Brand»McGraw-Hill, 1997, USA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115640" y="765000"/>
            <a:ext cx="7201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. Переваги використання бренду. Функції бренд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Переваги для споживачів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меншення витрат клієнтів на пошук товарів шляхом забезпечення їх швидкої і точної ідентифікації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меншення сприйняття ризику, забезпечення гарантії якості та послідовності (в тому числі для нових товарів)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забезпечення додаткової впевненості, психологічної винагороди від купівлі марки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підкреслення певного суспільного статусу та престижу.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99640" y="731880"/>
            <a:ext cx="7272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Переваги для виробника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дозволяє отримувати додатковий прибуток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ахищає виробника в процесі роботи з партнерам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олегшує процедуру вибору товару споживачем, оскільки саме брендові товари споживачі вважають найбільш якісним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дентифікує компанію-виробника та її товари серед товарів конкурентів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олегшує вихід виробника з новими товарами на суміжні ринк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можливість робити інвестиції в майбутнє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абезпечує емоційний зв’язок з покупцем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15640" y="692280"/>
            <a:ext cx="65120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Основні функції бренда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416720" cy="43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інформативна (захисна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– саме бренд дає змогу споживачу чітко визначити основні цінності підприємства; донести до споживача інформацію про унікальність товару; матеріальну та нематеріальну користь, позиціонуючи таким чином товар на ринку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престижна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статус товару, гарантія якості, задоволення споживачів, імідж виробник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економічна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– додаткова вартість підприємства та його акцій за рахунок бренда; додаткова вартість у ціні товару; потужний бренд є інструментом інвестицій у маркетинг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бар’єрна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захист від імітацій і копіювання; укріплення позицій щодо товарів субститутів; ускладнення процесу проникнення конкурентів на ринок; створення емоційних і раціональних передумов для повторних покупок лояльної аудиторії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7280" y="549360"/>
            <a:ext cx="68011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Times New Roman"/>
              </a:rPr>
              <a:t>Види брендів</a:t>
            </a:r>
            <a:r>
              <a:rPr b="1" lang="ru-RU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85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1) товарні бренди (Product Brands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2) сервісні бренди (Service Brands)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3) бренди організацій (корпоративні бренди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4) бренд подій (Event Вrands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5) бренди осіб (Personal Brands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6) географічні бренди (Geographical Вrands).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uk-UA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9T15:45:33Z</dcterms:created>
  <dc:creator>Dvyhun</dc:creator>
  <dc:description/>
  <dc:language>en-US</dc:language>
  <cp:lastModifiedBy>Olya</cp:lastModifiedBy>
  <dcterms:modified xsi:type="dcterms:W3CDTF">2019-01-30T08:34:54Z</dcterms:modified>
  <cp:revision>47</cp:revision>
  <dc:subject/>
  <dc:title>Тема 1. Поняття і сутність бренду</dc:title>
</cp:coreProperties>
</file>