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5.png" ContentType="image/pn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0722-8167-4F47-B65C-48F3AB635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8E35-261E-4AAE-AAF3-D19AEDBC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DE03-5D6A-46E5-A453-B990C1665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1EBB-7BCB-451C-8737-610595B8B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8476-2E1F-40A1-BA02-E2E96B008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6D62-99C3-4278-A026-1BE4E39E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D27D4-C286-49CF-AC57-84348E1B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BDD37-AC55-4014-A9F7-802E664E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B7D6-D9DF-4A71-B926-6EE7953A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4645-EFD7-4854-9ED3-7FC01547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8232-3965-492C-A3E5-53D7896C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7395-2B36-434E-B42E-5AF0CC74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1FEA-15C0-44B6-A8EF-5A0122D9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B341-DF92-4A0F-BFBA-20FEEAB4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5AD7-CFE5-4719-9944-56780987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F903-18C8-42BF-940B-95651527D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0E8D-9C6D-4D22-B831-79EB6067B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242FF-2C04-4BD0-A33A-E2B799C50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B3AF0-3C4A-434E-B8A5-D64F0696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8D3EF-777A-4CCB-8CA9-E0028F0B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C36C1-185A-4799-B8B4-63BCE4E6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0C62B-8DEF-4034-B938-70D4F21B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4D73-342C-4608-8835-27AD8F66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85BBE-56E3-4B6B-AE38-EA286AD9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7C346-C526-464B-869F-7D2D7AA4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30FB2-D667-48FC-A85F-A9757FB9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A61F2-858F-4B94-B351-88656BD8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2B599-8247-42B7-8A77-02871484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7BBA6-3089-455D-80A1-D50C9BDFF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48BDF-4CEE-4C0D-961D-5FD105BA6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80813-1373-4AC7-8DE8-6D4E684A3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46B7C-F5FA-4966-88E0-3FF1DCDD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C8D7D-AF93-41B6-8944-E9697DB0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7E84-64B6-413A-A0E1-4F2D51D8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25F35-97E6-4D27-9BE3-C50E46BE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CD6E1-5C05-45C8-990E-70CCF486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609AE-398F-4FA6-B7F6-3E872918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7F912-F419-4B18-A30A-F2DB41F2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BEEE4-3EBE-4072-AE0F-FED92490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039E3-EBB3-48B7-8768-FC996960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3E7EB-D00D-42F9-8B44-139E704C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6967E-3B09-429B-916D-B6C6A78FA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EF84E-5D97-4833-8BDE-E71D7360A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5F62-1DCF-4C4A-8172-86A789C9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AF27-732B-40AB-A191-E6316345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52EF-0874-47FE-A89B-572A5E13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553A-575A-46AB-A760-65AC05D5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8BD6-414C-44EA-9DA9-23F965B2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2621-D7FE-4A82-A2A9-A26803B19B7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1AC8-164C-4591-A376-6958256E37F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CE0C-DE64-49EE-A2B5-DDB98A8F0D0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3734-9E6D-47AE-8E91-E68B66621F8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187280" y="2276640"/>
            <a:ext cx="70567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піввідношення термінів бренд, товарна марка та товарний знак. Визначення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ереваги використання бренду. Функції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иди брендів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Ідентичність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485120" cy="18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971640" y="764640"/>
            <a:ext cx="720072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7" name="" descr="ÐÐ¾Ð³Ð¾ÑÐ¸Ð¿ Nestle"/>
          <p:cNvPicPr/>
          <p:nvPr/>
        </p:nvPicPr>
        <p:blipFill>
          <a:blip r:embed="rId2"/>
          <a:stretch/>
        </p:blipFill>
        <p:spPr>
          <a:xfrm>
            <a:off x="2050920" y="765000"/>
            <a:ext cx="5113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042920" y="731520"/>
            <a:ext cx="7345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" descr="Ð¤Ð°Ð¹Ð»:Motor Sich logo.png"/>
          <p:cNvPicPr/>
          <p:nvPr/>
        </p:nvPicPr>
        <p:blipFill>
          <a:blip r:embed="rId2"/>
          <a:stretch/>
        </p:blipFill>
        <p:spPr>
          <a:xfrm>
            <a:off x="1979640" y="907920"/>
            <a:ext cx="518472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403280" y="14839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116000" y="1989000"/>
            <a:ext cx="6912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971280" y="1483920"/>
            <a:ext cx="717372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116000" y="2133720"/>
            <a:ext cx="691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115640" y="980640"/>
            <a:ext cx="7101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5" name="" descr="ÐÐ¾Ð»Ð¸Ð·ÐµÐ¹ Ð² Ð Ð¸Ð¼Ðµ"/>
          <p:cNvPicPr/>
          <p:nvPr/>
        </p:nvPicPr>
        <p:blipFill>
          <a:blip r:embed="rId2"/>
          <a:stretch/>
        </p:blipFill>
        <p:spPr>
          <a:xfrm>
            <a:off x="1476360" y="1268280"/>
            <a:ext cx="66247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476360" y="14839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7" name="" descr="Image"/>
          <p:cNvPicPr/>
          <p:nvPr/>
        </p:nvPicPr>
        <p:blipFill>
          <a:blip r:embed="rId2"/>
          <a:stretch/>
        </p:blipFill>
        <p:spPr>
          <a:xfrm>
            <a:off x="1403280" y="1484280"/>
            <a:ext cx="6408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142640" y="731880"/>
            <a:ext cx="6669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9" name="" descr="Oscar statuette for Oscar records.jpg"/>
          <p:cNvPicPr/>
          <p:nvPr/>
        </p:nvPicPr>
        <p:blipFill>
          <a:blip r:embed="rId2"/>
          <a:stretch/>
        </p:blipFill>
        <p:spPr>
          <a:xfrm>
            <a:off x="2916360" y="765000"/>
            <a:ext cx="36716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142640" y="731880"/>
            <a:ext cx="7101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1476360" y="1916280"/>
            <a:ext cx="6120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142640" y="731520"/>
            <a:ext cx="681372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547640" y="1052640"/>
            <a:ext cx="6480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042920" y="764640"/>
            <a:ext cx="6912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2987640" y="981000"/>
            <a:ext cx="3240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143000" y="731880"/>
            <a:ext cx="69580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гова марка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це назва, поняття, знак, символ, дизайн або їх комбінація, які призначені для ідентифікації запропонованих продавцем товарів або послуг, а також для встановлення їх відмінностей від товарів і послуг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ент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ний знак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зареєстрована торгова марка, яка забезпечена правовим захистом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186920" y="765000"/>
            <a:ext cx="7201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Залежно від контролю та маркетингової підтримк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бренд виробник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власний бренд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ivate label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торгівельна марка продавц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За географічною ознакою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яка характеризує ступінь поширення бренду, розрізняють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глоб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лок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націон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826920" y="691920"/>
            <a:ext cx="749016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 algn="ctr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иди брендингу у залежності від стратегії розширенн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монобрендинг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корпоративний бренд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єдиний бренд, під яким випускається продукція компанії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суббрендинг (сімейний, дочірній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бренд, що представляє окремий товар (або лінію товарів), відмінний від материнського, але який зберігає безпосередній зв’язок з ним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ко-брендинг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або спільний бренд, від англійськог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brand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) виникає тоді, коли два або більше бренда вирішують об’єднати свої зусилля та одержати від цього додаткову вигоду (спонсорство, виробниче співробітництво, спільні акції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арасольков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поширюється на суміжні товарні категорії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мультибрендинг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підтримка декількох самостійних (індивідуальних) брендів, які існують відокремлено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58560" y="404640"/>
            <a:ext cx="65120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дентичність бренду</a:t>
            </a:r>
            <a:r>
              <a:rPr b="1" lang="ru-RU" sz="4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58560" y="1268280"/>
            <a:ext cx="698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Ідентичність бренд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(brand identity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це унікальний набір пов’язаних з брендом ознак, що описує, для чого існує бренд, і несе в собі обіцянку споживачеві з боку виробник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истема характерних особливостей (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brand identity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) є специфічною концепцією, яка має такі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функції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ідентифікаці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однозначне і точне розпізнавання бренду споживачами в реальному конкурентному середовищі на будь-якому ринку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диференціаці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істотні відмінності від конкурентних брендів і унікальність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плив на поведінку споживач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утримання існуючих та залучення потенційних споживачів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26920" y="731880"/>
            <a:ext cx="7490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rand Identity System (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акер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Ш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ливості бренду вивчаються на двох рівнях за 12 позиціями, згрупованими за чотирма напрямками: бренд як продукт, бренд як організація, бренд як особистість і бренд як символ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трижнева ідентичність бренд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озширена ідентичність бренд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 Бренд як продукт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1. Межі товар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2. Властивості товар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3. Якість / цінність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4. Сфери використанн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5. Користувачі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6. Країна походженн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 Бренд як організаці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1. Атрибути організації (наприклад, інноваційність, орієнтація на покупця, забезпечення довіри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2. Локалізація / глобалізаці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 Бренд як індивідуальність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1. Індивідуальність (наприклад, щира, енергійна, прямодушному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2. Взаємини між брендом і покупцем (наприклад, «друг», «порадник»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 Бренд як символ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1. Візуальні образи і метафори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2. Спадщина бренду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748800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143000" y="731520"/>
            <a:ext cx="69580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ідентичності бренду Чернатоні </a:t>
            </a:r>
            <a:br>
              <a:rPr sz="2800"/>
            </a:b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. де Чернатоні, Великобританія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ор по бренд-маркетингу Л. де Чернатоні пропонує модель ідентичності бренду, яка складається з п’яти елементів; кожен попередній рівень створює основу для подальшого рівн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атрибути бренд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вигод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емоційне винагорода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цінності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особистісні якості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7200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2"/>
          <a:stretch/>
        </p:blipFill>
        <p:spPr>
          <a:xfrm>
            <a:off x="1332000" y="907920"/>
            <a:ext cx="68403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2"/>
          <a:stretch/>
        </p:blipFill>
        <p:spPr>
          <a:xfrm>
            <a:off x="971640" y="981000"/>
            <a:ext cx="7200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1258560" y="691920"/>
            <a:ext cx="710244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BrandWorks 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search Business International, Великобританія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танська дослідницька фірма Research Business International пропонує модель, що включає в себе шість гране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користувача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ідповідає уявленню про своїх потенційних споживачів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родукту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ідображає те, як споживачі сприймають функціональні атрибути бренду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ослуги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характеризує те, як бренд взаємодіє зі споживачем: як він ставиться до клієнту і як він функціонує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одії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раховує контекст, в якому відбувається взаємодія споживача з брендом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стість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яснює емоційні та раціональні цінності бренду і допомагає виразити зв’язок між споживачем і брендом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бутність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ов’язує п’ять інших елементів системи характерних особливостей бренду як цілісний і емоційно близький образ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1142640" y="731880"/>
            <a:ext cx="71010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невідчутна сума властивостей продукту: його імені, упаковки і ціни, його історії, репутації і способу рекламування. Бренд також є поєднанням враження, яке він справляє на споживачів, і результатом їх досвіду у використанні бренду». (Д. Огилві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це те, що споживачі відчувають по відношенню до продукту; це прихильність до нього; ті персональні якості, які вони приписують продукту, довіра і відданість, які вони відчувають до нього». (Рекламне агентство Ogilvy&amp;Mather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1042920" y="981000"/>
            <a:ext cx="7201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"/>
          <p:cNvPicPr/>
          <p:nvPr/>
        </p:nvPicPr>
        <p:blipFill>
          <a:blip r:embed="rId2"/>
          <a:stretch/>
        </p:blipFill>
        <p:spPr>
          <a:xfrm>
            <a:off x="1403280" y="731880"/>
            <a:ext cx="626436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1143000" y="731520"/>
            <a:ext cx="6958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Вrand Рyramid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s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ША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дентичність бренду складається з 7 елементів, причому кожен попередній рівень створює основу для подальшог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трибути бренду – зовнішні ознаки, за якими він ідентифікується споживачам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Функціональні вигоди – раціональні вигоди від бренд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моційні переваги – емоції та почуття від використання бренду споживаче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Цінності споживача, які підтримує бренд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Індивідуальність бренду описує його характер та відмітні якості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Унікальна торговельна пропозиція (УТП) – головна причина для покупки бренду споживаче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Суть бренду – ключова ідея, змістовне ядро, яке виражене двома-трьома словам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1116000" y="620640"/>
            <a:ext cx="6912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26560" y="731880"/>
            <a:ext cx="7705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не річ, продукт, компанія або організація. Бренди не існують в реальному світі – це ментальні конструкції. Бренд найкраще описати як суму всього досвіду людини, його сприйняття речі, продукту, компанії або організації. Бренди існують у вигляді свідомості або конкретних людей, або суспільства» (цитата по книзі James R. Gregory «Leveraging the Corporate Brand»McGraw-Hill, 1997, USA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115640" y="765000"/>
            <a:ext cx="7201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. Переваги використання бренду. Функції бренд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Переваги для споживачів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меншення витрат клієнтів на пошук товарів шляхом забезпечення їх швидкої і точної ідентифікації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меншення сприйняття ризику, забезпечення гарантії якості та послідовності (в тому числі для нових товарів)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абезпечення додаткової впевненості, психологічної винагороди від купівлі марки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підкреслення певного суспільного статусу та престижу.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99640" y="731880"/>
            <a:ext cx="7272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Переваги для виробника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дозволяє отримувати додатковий прибуток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ахищає виробника в процесі роботи з партнерам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олегшує процедуру вибору товару споживачем, оскільки саме брендові товари споживачі вважають найбільш якісним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дентифікує компанію-виробника та її товари серед товарів конкурентів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олегшує вихід виробника з новими товарами на суміжні ринк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можливість робити інвестиції в майбутнє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абезпечує емоційний зв’язок з покупцем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15640" y="692280"/>
            <a:ext cx="65120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Основні функції бренда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416720" cy="43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інформативна (захисна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– саме бренд дає змогу споживачу чітко визначити основні цінності підприємства; донести до споживача інформацію про унікальність товару; матеріальну та нематеріальну користь, позиціонуючи таким чином товар на ринку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престижна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статус товару, гарантія якості, задоволення споживачів, імідж виробник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економічна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– додаткова вартість підприємства та його акцій за рахунок бренда; додаткова вартість у ціні товару; потужний бренд є інструментом інвестицій у маркетинг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бар’єрна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захист від імітацій і копіювання; укріплення позицій щодо товарів субститутів; ускладнення процесу проникнення конкурентів на ринок; створення емоційних і раціональних передумов для повторних покупок лояльної аудиторії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7280" y="549360"/>
            <a:ext cx="68011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Times New Roman"/>
              </a:rPr>
              <a:t>Види брендів</a:t>
            </a:r>
            <a:r>
              <a:rPr b="1" lang="ru-RU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85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) товарні бренди (Product Brands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) сервісні бренди (Service Brands)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3) бренди організацій (корпоративні бренди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4) бренд подій (Event Вrands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5) бренди осіб (Personal Brands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6) географічні бренди (Geographical Вrands).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uk-UA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9T15:45:33Z</dcterms:created>
  <dc:creator>Dvyhun</dc:creator>
  <dc:description/>
  <dc:language>en-US</dc:language>
  <cp:lastModifiedBy>Olya</cp:lastModifiedBy>
  <dcterms:modified xsi:type="dcterms:W3CDTF">2019-01-30T08:34:54Z</dcterms:modified>
  <cp:revision>47</cp:revision>
  <dc:subject/>
  <dc:title>Тема 1. Поняття і сутність бренду</dc:title>
</cp:coreProperties>
</file>