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4090-3EF8-4D94-A73C-8123AE21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63C2-8FEA-477F-BAFE-A12510CD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F394-2803-4705-8EF2-3B70D12C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0728-7AAA-4C41-A592-645DE8A1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922F-59CF-42E1-8991-B85BED61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1D93-6B3C-4A86-A354-03886033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A078-8164-42DA-A2DD-4A0BDED0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C6BF-D126-43E6-9865-95098528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6722-F45D-40DB-BEC7-10B6BB7C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CE32-D902-4853-849C-7E395AEF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D21F-B5CC-4702-9B3A-6CD3D4DF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997E-E7C0-4CBD-8EA5-63FBA4AB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B71E-C4D8-4798-AF9E-0BDE6FA3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4E69-A4CD-41CF-9578-F98205E9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B9AB-01B2-46A9-A961-C64C6504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88A6-7F64-4B9F-9948-141441D1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0C07-6BD7-4039-8287-18B9CC78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FF5B4-9655-4D38-AC54-6227DF91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31F20-D69D-4807-9F3D-48E83FC1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F8F99-8E41-4629-B266-0808636B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43EE8-13D7-43BD-B33E-C83FCBBC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AE894-048D-4043-878E-C7464A71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D34-79B0-48B5-A090-35BF27C2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4DC51-4A68-438C-B2DD-77FF243F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0020D-9EFA-46F0-B8B3-61E3B65F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C43DD-3CBE-412B-9247-B6282A3C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E61FE-7093-402E-B661-8EF687FD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A1B78-476A-461D-9C94-13277F34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2E3B7-4557-4360-8F41-EB4ACEF3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7CA93-BD46-47E7-BC4F-7901422F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4CE9D-9DBB-4A57-A78F-002EB2B5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EE992-CE73-4CE5-960B-A81601D7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ACA3C-E7EE-45BE-9D61-41AD4698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A37-A583-48F8-86D5-6E6A5A35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D05EB-2D36-48A2-BC12-62439234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25FDE-3A09-429B-9691-BFED0CEE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32DC6-C294-4682-9640-7931F3CE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279A6-CB26-4906-9841-ADE16677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57097-EDC6-4A4E-B643-1674796A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CEE1F-DB65-4101-AEE6-511B17A0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C8014-5401-46A4-9799-71A86038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A12F3-E934-4AF0-BBA1-25C26EC4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C79B4-47B4-42FF-9B14-09EC9AED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B775-4711-4A98-8E73-ACA7BE10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3D84-2386-4BFD-B1F9-75C67EF4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14E8-F3D4-4EF3-A775-25FED14F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787C-CA58-40FC-BC35-08E265CE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40EB-C320-41D4-8310-BBD3DA39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8EEE-62B4-4BAF-A078-46D321A4B43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15F0-385D-4063-B493-59343A01280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B3C4-C8D1-41E3-A6C2-9317567CC4E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ABDC-A1AC-4A30-B8F8-FADB5E9A8C0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705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іввідношення термінів бренд, товарна марка та товарний знак. Визначення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аги використання бренду. Функції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и бренді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Ідентичність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48512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200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" descr="ÐÐ¾Ð³Ð¾ÑÐ¸Ð¿ Nestle"/>
          <p:cNvPicPr/>
          <p:nvPr/>
        </p:nvPicPr>
        <p:blipFill>
          <a:blip r:embed="rId2"/>
          <a:stretch/>
        </p:blipFill>
        <p:spPr>
          <a:xfrm>
            <a:off x="2050920" y="765000"/>
            <a:ext cx="511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34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" descr="Ð¤Ð°Ð¹Ð»:Motor Sich logo.png"/>
          <p:cNvPicPr/>
          <p:nvPr/>
        </p:nvPicPr>
        <p:blipFill>
          <a:blip r:embed="rId2"/>
          <a:stretch/>
        </p:blipFill>
        <p:spPr>
          <a:xfrm>
            <a:off x="1979640" y="907920"/>
            <a:ext cx="5184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40328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91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71280" y="1483920"/>
            <a:ext cx="71737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691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7101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" descr="ÐÐ¾Ð»Ð¸Ð·ÐµÐ¹ Ð² Ð Ð¸Ð¼Ðµ"/>
          <p:cNvPicPr/>
          <p:nvPr/>
        </p:nvPicPr>
        <p:blipFill>
          <a:blip r:embed="rId2"/>
          <a:stretch/>
        </p:blipFill>
        <p:spPr>
          <a:xfrm>
            <a:off x="1476360" y="1268280"/>
            <a:ext cx="662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47636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" descr="Image"/>
          <p:cNvPicPr/>
          <p:nvPr/>
        </p:nvPicPr>
        <p:blipFill>
          <a:blip r:embed="rId2"/>
          <a:stretch/>
        </p:blipFill>
        <p:spPr>
          <a:xfrm>
            <a:off x="1403280" y="1484280"/>
            <a:ext cx="640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6669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" descr="Oscar statuette for Oscar records.jpg"/>
          <p:cNvPicPr/>
          <p:nvPr/>
        </p:nvPicPr>
        <p:blipFill>
          <a:blip r:embed="rId2"/>
          <a:stretch/>
        </p:blipFill>
        <p:spPr>
          <a:xfrm>
            <a:off x="2916360" y="765000"/>
            <a:ext cx="367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101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12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2640" y="731520"/>
            <a:ext cx="68137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48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6912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24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43000" y="731880"/>
            <a:ext cx="6958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а мар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назва, поняття, знак, символ, дизайн або їх комбінація, які призначені для ідентифікації запропонованих продавцем товарів або послуг, а також для встановлення їх відмінностей від товарів і послуг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ий знак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зареєстрована торгова марка, яка забезпечена правовим захистом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7201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лежно від контролю та маркетингової підтрим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бренд виробни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власний бренд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label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торгівельна марка продавц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 географічною ознако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а характеризує ступінь поширення бренду, розрізняють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глоб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лок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аціон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490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ди брендингу у залежності від стратегії розшире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онобрендинг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рпоративний брен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єдиний бренд, під яким випускається продукція компан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ббрендинг (сімейний, дочірній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бренд, що представляє окремий товар (або лінію товарів), відмінний від материнського, але який зберігає безпосередній зв’язок з 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-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або спільний бренд, від англійсь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виникає тоді, коли два або більше бренда вирішують об’єднати свої зусилля та одержати від цього додаткову вигоду (спонсорство, виробниче співробітництво, спільні акції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расольков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оширюється на суміжні товарні категор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ульти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підтримка декількох самостійних (індивідуальних) брендів, які існують відокремле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1" lang="ru-RU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(brand identity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унікальний набір пов’язаних з брендом ознак, що описує, для чого існує бренд, і несе в собі обіцянку споживачеві з боку вироб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а характерних особливостей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є специфічною концепцією, яка має так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унк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фік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однозначне і точне розпізнавання бренду споживачами в реальному конкурентному середовищі на будь-якому ринку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диференці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істотні відмінності від конкурентних брендів і унікальні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плив на поведінку споживач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утримання існуючих та залучення потенційних споживачів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26920" y="731880"/>
            <a:ext cx="7490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and Identity System 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аке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бренду вивчаються на двох рівнях за 12 позиціями, згрупованими за чотирма напрямками: бренд як продукт, бренд як організація, бренд як особистість і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ижнев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ширен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Бренд як продук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Меж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2. Властивост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 Якість / цін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 Сфери використа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5. Користувачі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6. Країна походже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Бренд як орган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Атрибути організації (наприклад, інноваційність, орієнтація на покупця, забезпечення довіри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Локалізація / глобал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Бренд як індивідуаль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 Індивідуальність (наприклад, щира, енергійна, прямодушному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 Взаємини між брендом і покупцем (наприклад, «друг», «порадник»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1. Візуальні образи і метафор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2. Спадщина бренду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488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520"/>
            <a:ext cx="6958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ідентичності бренду Чернатоні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 де Чернатоні, Великобританія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ор по бренд-маркетингу Л. де Чернатоні пропонує модель ідентичності бренду, яка складається з п’яти елементів; кожен попередній рівень створює основу для подальшого рів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трибути бренд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игод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емоційне винагород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цінності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собистісні як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0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84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58560" y="691920"/>
            <a:ext cx="7102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BrandWorks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earch Business International, Великобритані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ька дослідницька фірма Research Business International пропонує модель, що включає в себе шість гра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користувач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повідає уявленню про своїх потенційних споживачів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родукт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ображає те, як споживачі сприймають функціональні атрибути бренд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слуг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арактеризує те, як бренд взаємодіє зі споживачем: як він ставиться до клієнту і як він функціонує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дії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аховує контекст, в якому відбувається взаємодія споживача з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сть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яснює емоційні та раціональні цінності бренду і допомагає виразити зв’язок між споживачем і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бут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’язує п’ять інших елементів системи характерних особливостей бренду як цілісний і емоційно близький образ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142640" y="731880"/>
            <a:ext cx="7101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відчутна сума властивостей продукту: його імені, упаковки і ціни, його історії, репутації і способу рекламування. Бренд також є поєднанням враження, яке він справляє на споживачів, і результатом їх досвіду у використанні бренду». (Д. Огилві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те, що споживачі відчувають по відношенню до продукту; це прихильність до нього; ті персональні якості, які вони приписують продукту, довіра і відданість, які вони відчувають до нього». (Рекламне агентство Ogilvy&amp;Math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201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403280" y="731880"/>
            <a:ext cx="6264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43000" y="731520"/>
            <a:ext cx="69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Вrand Рyrami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Ш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нтичність бренду складається з 7 елементів, причому кожен попередній рівень створює основу для подальш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рибути бренду – зовнішні ознаки, за якими він ідентифікується споживач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іональні вигоди – раціональні вигоди від бренд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моційні переваги – емоції та почуття від використання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Цінності споживача, які підтримує брен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Індивідуальність бренду описує його характер та відмітні якості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нікальна торговельна пропозиція (УТП) – головна причина для покупки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уть бренду – ключова ідея, змістовне ядро, яке виражене двома-трьома слов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26560" y="731880"/>
            <a:ext cx="7705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 річ, продукт, компанія або організація. Бренди не існують в реальному світі – це ментальні конструкції. Бренд найкраще описати як суму всього досвіду людини, його сприйняття речі, продукту, компанії або організації. Бренди існують у вигляді свідомості або конкретних людей, або суспільства» (цитата по книзі James R. Gregory «Leveraging the Corporate Brand»McGraw-Hill, 1997, USA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Переваги використання бренду. Функції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споживачі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витрат клієнтів на пошук товарів шляхом забезпечення їх швидкої і точної ідентифікац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сприйняття ризику, забезпечення гарантії якості та послідовності (в тому числі для нових товарів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абезпечення додаткової впевненості, психологічної винагороди від купівл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підкреслення певного суспільного статусу та престижу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99640" y="731880"/>
            <a:ext cx="7272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виробник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зволяє отримувати додатковий прибуто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хищає виробника в процесі роботи з партнер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процедуру вибору товару споживачем, оскільки саме брендові товари споживачі вважають найбільш якісни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фікує компанію-виробника та її товари серед товарів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вихід виробника з новими товарами на суміжні рин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жливість робити інвестиції в майбутнє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безпечує емоційний зв’язок з покупц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6512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новні функції бренда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41672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інформативна (захисна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саме бренд дає змогу споживачу чітко визначити основні цінності підприємства; донести до споживача інформацію про унікальність товару; матеріальну та нематеріальну користь, позиціонуючи таким чином товар на ринк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естижн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статус товару, гарантія якості, задоволення споживачів, імідж вироб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економіч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додаткова вартість підприємства та його акцій за рахунок бренда; додаткова вартість у ціні товару; потужний бренд є інструментом інвестицій у маркетинг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бар’єрн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захист від імітацій і копіювання; укріплення позицій щодо товарів субститутів; ускладнення процесу проникнення конкурентів на ринок; створення емоційних і раціональних передумов для повторних покупок лояльної аудиторі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6801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Види брендів</a:t>
            </a: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85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) товарні бренди (Product Brands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) сервісні бренди (Service Brands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) бренди організацій (корпоративні бренд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) бренд подій (Event В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) бренди осіб (Personal B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) географічні бренди (Geographical Вrands).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5:45:33Z</dcterms:created>
  <dc:creator>Dvyhun</dc:creator>
  <dc:description/>
  <dc:language>en-US</dc:language>
  <cp:lastModifiedBy>Olya</cp:lastModifiedBy>
  <dcterms:modified xsi:type="dcterms:W3CDTF">2019-01-30T08:34:54Z</dcterms:modified>
  <cp:revision>47</cp:revision>
  <dc:subject/>
  <dc:title>Тема 1. Поняття і сутність бренду</dc:title>
</cp:coreProperties>
</file>