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5.png" ContentType="image/pn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47AA-936E-4F51-8628-BC16E8B78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2DEA-A5CF-4224-9589-344FD23F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7723-3339-4DE2-8D71-56BD22F61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3040-7BCE-4A4E-97D4-B4BE17F92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021F-A5E9-45A9-BA5A-A9446D61A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1FC1-7114-4854-BB7C-569C79B5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367A-FDDA-4CD8-96A2-329EB12D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D1C5-2E4B-415E-89B6-D506F0BC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995D-7871-4BDD-8DBF-C78205EB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98AC-8626-4173-8BB6-5F3987FB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5CB9-F881-4BC8-9498-65493B2B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A25D-3F9B-4286-9372-24163E35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0BCB-1140-4AB6-BC8F-AE7B8BBC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EBDE-6E62-44DB-91CF-4DF7F287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A861-DF73-4060-AD7B-D0E1037C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B775-A7A7-41EB-B827-56D1050DC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34F0-A5C7-47AF-AC68-2BF61F5BC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65FED-3B69-46A1-BB29-CB99E5D3A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14588-7A0A-4EDB-B0D6-4857E8AC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CE31E-F113-4808-BEFF-1C52D959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2FDAC-EF66-4B27-86B8-04B5D770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EE74F-E7DF-423B-8C4B-2AC1CEBE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2037-D104-4FF0-8358-1EB76EF1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7C3FA-47EA-44FB-A401-28AB7659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B9D93-CDCD-4699-A78E-4571C7C7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52F2A-E897-4768-8955-C419FC51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8625D-A087-47B3-AAE6-F5B35D18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BAB08-19A5-4768-A507-0C36E144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04E0B-DB74-456C-B95A-DD032EB15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ACB03-A6F9-452E-9F35-79875D136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CA66A-A92B-4CFF-83DA-7ACB8B362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3437C-C0ED-44B5-9327-D0B5853F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6EB72-369B-4B8C-8057-B4A926CA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6014-0332-4A91-910F-18257F35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2719F-8852-42CF-8BAE-7182E16D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B9FA1-F9C4-480D-886C-5CD4F93D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67393-2CF4-48FA-A93A-C6550463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B5853-3E3A-44F0-97FF-6DA717BA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B1897-EC64-4CD2-9268-D21BBCE0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1D48D-85BA-4F3D-B8A8-B9994717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4AC3D-7B45-4881-BA63-F6B403D0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32982-0C1F-4527-9CD5-1C96F5945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CEC32-E87C-4519-8182-1B4A8F7AA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C258-D398-4078-BC07-5C10BBB6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1FDE-A8EB-4203-85CE-06DE871F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956A-0825-4449-9C53-8179A0A8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DAA0-C724-4715-B437-62F4F03C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EF8F-D2CA-479A-9B27-0AB25AF1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1B7C-098A-47FB-B882-DCC13FD4F74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C10A-AF5D-4092-A6F2-3FB30CD9BF4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A1EA-0C05-4AE6-A967-81CE89CD9C6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B4E8-B27B-4D00-8CDA-CEC2B0C78DD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187280" y="2276640"/>
            <a:ext cx="70567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піввідношення термінів бренд, товарна марка та товарний знак. Визначення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реваги використання бренду. Функції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иди брендів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Ідентичність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48512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971640" y="764640"/>
            <a:ext cx="72007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" descr="ÐÐ¾Ð³Ð¾ÑÐ¸Ð¿ Nestle"/>
          <p:cNvPicPr/>
          <p:nvPr/>
        </p:nvPicPr>
        <p:blipFill>
          <a:blip r:embed="rId2"/>
          <a:stretch/>
        </p:blipFill>
        <p:spPr>
          <a:xfrm>
            <a:off x="2050920" y="765000"/>
            <a:ext cx="5113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042920" y="731520"/>
            <a:ext cx="7345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" descr="Ð¤Ð°Ð¹Ð»:Motor Sich logo.png"/>
          <p:cNvPicPr/>
          <p:nvPr/>
        </p:nvPicPr>
        <p:blipFill>
          <a:blip r:embed="rId2"/>
          <a:stretch/>
        </p:blipFill>
        <p:spPr>
          <a:xfrm>
            <a:off x="1979640" y="907920"/>
            <a:ext cx="51847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403280" y="1483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6912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971280" y="1483920"/>
            <a:ext cx="717372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116000" y="2133720"/>
            <a:ext cx="691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115640" y="980640"/>
            <a:ext cx="7101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5" name="" descr="ÐÐ¾Ð»Ð¸Ð·ÐµÐ¹ Ð² Ð Ð¸Ð¼Ðµ"/>
          <p:cNvPicPr/>
          <p:nvPr/>
        </p:nvPicPr>
        <p:blipFill>
          <a:blip r:embed="rId2"/>
          <a:stretch/>
        </p:blipFill>
        <p:spPr>
          <a:xfrm>
            <a:off x="1476360" y="1268280"/>
            <a:ext cx="6624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476360" y="1483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" descr="Image"/>
          <p:cNvPicPr/>
          <p:nvPr/>
        </p:nvPicPr>
        <p:blipFill>
          <a:blip r:embed="rId2"/>
          <a:stretch/>
        </p:blipFill>
        <p:spPr>
          <a:xfrm>
            <a:off x="1403280" y="1484280"/>
            <a:ext cx="6408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6669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" descr="Oscar statuette for Oscar records.jpg"/>
          <p:cNvPicPr/>
          <p:nvPr/>
        </p:nvPicPr>
        <p:blipFill>
          <a:blip r:embed="rId2"/>
          <a:stretch/>
        </p:blipFill>
        <p:spPr>
          <a:xfrm>
            <a:off x="2916360" y="765000"/>
            <a:ext cx="36716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7101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476360" y="1916280"/>
            <a:ext cx="6120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142640" y="731520"/>
            <a:ext cx="681372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547640" y="1052640"/>
            <a:ext cx="6480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042920" y="764640"/>
            <a:ext cx="6912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2987640" y="981000"/>
            <a:ext cx="3240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143000" y="731880"/>
            <a:ext cx="6958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гова марка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назва, поняття, знак, символ, дизайн або їх комбінація, які призначені для ідентифікації запропонованих продавцем товарів або послуг, а також для встановлення їх відмінностей від товарів і послуг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ент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ний знак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зареєстрована торгова марка, яка забезпечена правовим захистом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186920" y="765000"/>
            <a:ext cx="7201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лежно від контролю та маркетингової підтримк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бренд виробник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власний бренд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vate label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торгівельна марка продавц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 географічною ознакою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яка характеризує ступінь поширення бренду, розрізняють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глоб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лок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націон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826920" y="691920"/>
            <a:ext cx="74901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 algn="ctr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иди брендингу у залежності від стратегії розширен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онобрендинг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орпоративний бренд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єдиний бренд, під яким випускається продукція компанії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суббрендинг (сімейний, дочірній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бренд, що представляє окремий товар (або лінію товарів), відмінний від материнського, але який зберігає безпосередній зв’язок з ним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о-брендинг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або спільний бренд, від англійськог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rand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виникає тоді, коли два або більше бренда вирішують об’єднати свої зусилля та одержати від цього додаткову вигоду (спонсорство, виробниче співробітництво, спільні акції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арасольков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поширюється на суміжні товарні категорії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ультибрендинг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підтримка декількох самостійних (індивідуальних) брендів, які існують відокремлено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65120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дентичність бренду</a:t>
            </a:r>
            <a:r>
              <a:rPr b="1" lang="ru-RU" sz="4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58560" y="1268280"/>
            <a:ext cx="698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Ідентичність брен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(brand identity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це унікальний набір пов’язаних з брендом ознак, що описує, для чого існує бренд, і несе в собі обіцянку споживачеві з боку виробник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истема характерних особливостей (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brand identity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є специфічною концепцією, яка має такі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функції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ідентифік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однозначне і точне розпізнавання бренду споживачами в реальному конкурентному середовищі на будь-якому ринку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диференці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істотні відмінності від конкурентних брендів і унікальність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плив на поведінку споживач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утримання існуючих та залучення потенційних споживачів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26920" y="731880"/>
            <a:ext cx="7490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rand Identity System (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акер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Ш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ості бренду вивчаються на двох рівнях за 12 позиціями, згрупованими за чотирма напрямками: бренд як продукт, бренд як організація, бренд як особистість і бренд як симво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трижнева ідентичність бренд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озширена ідентичність бренд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 Бренд як продукт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1. Межі товар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2. Властивості товар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3. Якість / цінність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4. Сфери використанн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5. Користувачі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6. Країна походженн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 Бренд як організаці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1. Атрибути організації (наприклад, інноваційність, орієнтація на покупця, забезпечення довіри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2. Локалізація / глобалізаці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 Бренд як індивідуальність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1. Індивідуальність (наприклад, щира, енергійна, прямодушному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2. Взаємини між брендом і покупцем (наприклад, «друг», «порадник»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 Бренд як симво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1. Візуальні образи і метафори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2. Спадщина бренду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4880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143000" y="731520"/>
            <a:ext cx="6958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ідентичності бренду Чернатоні </a:t>
            </a:r>
            <a:br>
              <a:rPr sz="2800"/>
            </a:b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. де Чернатоні, Великобританія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ор по бренд-маркетингу Л. де Чернатоні пропонує модель ідентичності бренду, яка складається з п’яти елементів; кожен попередній рівень створює основу для подальшого рів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атрибути бренд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игод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емоційне винагорода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цінності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особистісні якості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20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1332000" y="907920"/>
            <a:ext cx="6840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7200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258560" y="691920"/>
            <a:ext cx="710244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BrandWorks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search Business International, Великобританія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танська дослідницька фірма Research Business International пропонує модель, що включає в себе шість гран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користувача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повідає уявленню про своїх потенційних споживачів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родукту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ображає те, як споживачі сприймають функціональні атрибути бренду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ослуги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характеризує те, як бренд взаємодіє зі споживачем: як він ставиться до клієнту і як він функціонує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одії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раховує контекст, в якому відбувається взаємодія споживача з брендом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стість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яснює емоційні та раціональні цінності бренду і допомагає виразити зв’язок між споживачем і брендом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бутність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в’язує п’ять інших елементів системи характерних особливостей бренду як цілісний і емоційно близький образ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142640" y="731880"/>
            <a:ext cx="7101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евідчутна сума властивостей продукту: його імені, упаковки і ціни, його історії, репутації і способу рекламування. Бренд також є поєднанням враження, яке він справляє на споживачів, і результатом їх досвіду у використанні бренду». (Д. Огилві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те, що споживачі відчувають по відношенню до продукту; це прихильність до нього; ті персональні якості, які вони приписують продукту, довіра і відданість, які вони відчувають до нього». (Рекламне агентство Ogilvy&amp;Math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1042920" y="981000"/>
            <a:ext cx="7201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1403280" y="731880"/>
            <a:ext cx="62643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143000" y="731520"/>
            <a:ext cx="6958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Вrand Рyramid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s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ША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дентичність бренду складається з 7 елементів, причому кожен попередній рівень створює основу для подальшог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трибути бренду – зовнішні ознаки, за якими він ідентифікується споживач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ункціональні вигоди – раціональні вигоди від бренд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моційні переваги – емоції та почуття від використання бренду споживаче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Цінності споживача, які підтримує бренд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Індивідуальність бренду описує його характер та відмітні якості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нікальна торговельна пропозиція (УТП) – головна причина для покупки бренду споживаче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Суть бренду – ключова ідея, змістовне ядро, яке виражене двома-трьома слов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6912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26560" y="731880"/>
            <a:ext cx="7705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е річ, продукт, компанія або організація. Бренди не існують в реальному світі – це ментальні конструкції. Бренд найкраще описати як суму всього досвіду людини, його сприйняття речі, продукту, компанії або організації. Бренди існують у вигляді свідомості або конкретних людей, або суспільства» (цитата по книзі James R. Gregory «Leveraging the Corporate Brand»McGraw-Hill, 1997, USA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115640" y="765000"/>
            <a:ext cx="7201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. Переваги використання бренду. Функції бренд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ереваги для споживачів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меншення витрат клієнтів на пошук товарів шляхом забезпечення їх швидкої і точної ідентифікації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меншення сприйняття ризику, забезпечення гарантії якості та послідовності (в тому числі для нових товарів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абезпечення додаткової впевненості, психологічної винагороди від купівлі марки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підкреслення певного суспільного статусу та престижу.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99640" y="731880"/>
            <a:ext cx="7272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ереваги для виробника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дозволяє отримувати додатковий прибуток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хищає виробника в процесі роботи з партнера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легшує процедуру вибору товару споживачем, оскільки саме брендові товари споживачі вважають найбільш якісни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дентифікує компанію-виробника та її товари серед товарів конкурент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легшує вихід виробника з новими товарами на суміжні ринк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ожливість робити інвестиції в майбутнє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безпечує емоційний зв’язок з покупцем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5640" y="692280"/>
            <a:ext cx="65120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сновні функції бренда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41672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інформативна (захисна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саме бренд дає змогу споживачу чітко визначити основні цінності підприємства; донести до споживача інформацію про унікальність товару; матеріальну та нематеріальну користь, позиціонуючи таким чином товар на ринк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престижна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статус товару, гарантія якості, задоволення споживачів, імідж виробник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економічн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додаткова вартість підприємства та його акцій за рахунок бренда; додаткова вартість у ціні товару; потужний бренд є інструментом інвестицій у маркетинг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бар’єрна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захист від імітацій і копіювання; укріплення позицій щодо товарів субститутів; ускладнення процесу проникнення конкурентів на ринок; створення емоційних і раціональних передумов для повторних покупок лояльної аудиторії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7280" y="549360"/>
            <a:ext cx="68011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Times New Roman"/>
              </a:rPr>
              <a:t>Види брендів</a:t>
            </a:r>
            <a:r>
              <a:rPr b="1" lang="ru-RU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85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) товарні бренди (Product Brands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) сервісні бренди (Service Brands)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3) бренди організацій (корпоративні бренди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4) бренд подій (Event Вran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5) бренди осіб (Personal Bran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6) географічні бренди (Geographical Вrands).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uk-UA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9T15:45:33Z</dcterms:created>
  <dc:creator>Dvyhun</dc:creator>
  <dc:description/>
  <dc:language>en-US</dc:language>
  <cp:lastModifiedBy>Olya</cp:lastModifiedBy>
  <dcterms:modified xsi:type="dcterms:W3CDTF">2019-01-30T08:34:54Z</dcterms:modified>
  <cp:revision>47</cp:revision>
  <dc:subject/>
  <dc:title>Тема 1. Поняття і сутність бренду</dc:title>
</cp:coreProperties>
</file>