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6D1A-DFD2-412C-B06B-00EAB15A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676-9A46-4431-AE72-1576F03E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853-A575-4FF5-8588-2DB5E2B8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D27-386E-4FB3-9B51-A9B8D57F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6E54-1AEC-4361-94C0-657A7964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99C2-A6D1-4431-9313-835B8885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B72E-7783-4906-A67C-930871DF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75C9-6D93-4693-B88C-C3170864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80ED-1E64-4AAB-8C21-C123BAC2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7E88-07E3-4985-9DAC-38CFC65D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B61F-2855-43F8-8376-AFD8770D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6DA-7A2E-43E9-A9C9-48B45949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37A1-9B02-4281-BD2F-63696817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0518-05E9-4224-A119-8DCD84E0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CCD7-4926-4FD2-984B-6F2BD043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1BB0-1FFF-4D54-A015-B135B1F1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B0FB-117C-4A69-A929-FF657FC2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F4C80-36B2-40C4-B120-2AF06CBF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2D802-4365-49B5-A571-A5C0365B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D22FE-C14F-44ED-B4AB-BE4BA304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7FAA4-A88B-4FD1-B068-62689A02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55056-1853-482C-8D1C-DB7C45F8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994F-DABA-4896-93E7-F33F17B1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AAE94-B35E-43EB-9E8C-482048CF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7556B-D571-403B-A2FE-51BA76ED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A0CE5-6100-4A55-BC69-E90E8DAC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6C87C-3980-4D87-8512-A4649345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D5EDF-9F70-4861-84B6-74707428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8EA64-90FB-4DCF-87CF-B68A5562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8FDE0-1C64-43DC-9E0E-EA9C678C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F61C5-1155-4B0E-B34F-2EE3919C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336C1-3925-408F-BBB6-07FF8045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FC498-4DC2-4673-83BF-5C1F1358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CAD-3232-4FFC-ACF4-BD913A19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C05F0-EAC2-4D4D-BFE2-089B791A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E9CE9-0BE8-4E1E-A577-53752297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61A02-9B68-49C1-892F-E79146DC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DDAC1-C63B-4149-9F00-9B74C1B3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B9D94-F1B0-4DE5-AE64-C8C9EB3D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285D2-26AF-46CA-A0E6-D37C5991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C52A0-1B5A-4956-B84C-D38F416C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ECEBB-696A-4412-91AE-01E4A648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6FC19-FEC1-4EAC-B1C2-C83B5786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8D3-5A8F-41A7-BA5F-E22CB8AD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C9C8-5C47-488F-944E-E5CC823A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F5AF-AB2D-411A-8734-88E6091D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640-F8E0-406D-870B-36D91B30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18A-0274-48ED-8682-EAFA3500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B86F-4850-4E49-AC94-5D5907A80F4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B2A5-221C-47AF-A952-60D0DE61285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6ACB-14D0-4EAD-B5DC-46554E2BACB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B459-CD9C-4694-99D5-548B0AB7ED3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920" y="2276640"/>
            <a:ext cx="70581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изначення позиціонування бренду. Основні задачі та правила позиціонуванн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цес позиціонування бренд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зиціонування на міжнародних ринках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1116000" y="822240"/>
            <a:ext cx="717408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2"/>
          <a:stretch/>
        </p:blipFill>
        <p:spPr>
          <a:xfrm>
            <a:off x="1042920" y="712800"/>
            <a:ext cx="7637400" cy="10126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826920" y="2133720"/>
            <a:ext cx="749016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цьому етапі відбираються не всі марки, присутні на ринку, а лише ті, які належать до певної цільової аудиторії за своїми об’єктивними даними, та такі, що розглядаються цільовими споживачами як марки-конкурент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6869160" cy="11761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971640" y="1628280"/>
            <a:ext cx="73454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ення позицій конкурентів – це один з найбільш критичних етапів, у ході якого необхідно виявити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співвідносяться між собою конкуруючі мар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з них є схожими, а які відрізняються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кільки для кожної з конкуруючих марок характерна наявність обраних раніше атрибутів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Результатом такого аналізу є побудова карт (схем) сприйняття. У найпростішому випадку карта сприйняття є двомірною системою координат, на якій точками позначені позиції конкуруючих марок залежно від того, як їх сприймає споживач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2"/>
          <a:stretch/>
        </p:blipFill>
        <p:spPr>
          <a:xfrm>
            <a:off x="1401840" y="701640"/>
            <a:ext cx="6516720" cy="7858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755640" y="148392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сля завершення процедури побудови схем позиціонування переходять до їх аналізу. Для цього опрацьовуються такі питання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існують відмінності між об’єктивним і суб’єктивним позиціонуванням товару на ринку? Залежно від цього обирається одна з можливих стратегій за матрицею Дж. Саймон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on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сприймає споживач відмінність між пропонованим товаром і товаром конкурентів, чи істотна вона?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і конкурентні переваги пропонованого товару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2"/>
          <a:stretch/>
        </p:blipFill>
        <p:spPr>
          <a:xfrm>
            <a:off x="1695600" y="633240"/>
            <a:ext cx="6692760" cy="75096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3" descr=""/>
          <p:cNvPicPr/>
          <p:nvPr/>
        </p:nvPicPr>
        <p:blipFill>
          <a:blip r:embed="rId3"/>
          <a:stretch/>
        </p:blipFill>
        <p:spPr>
          <a:xfrm>
            <a:off x="1322280" y="1274760"/>
            <a:ext cx="6926400" cy="44067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1332000" y="2619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2"/>
          <a:stretch/>
        </p:blipFill>
        <p:spPr>
          <a:xfrm>
            <a:off x="1116000" y="560520"/>
            <a:ext cx="7272360" cy="7808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1115640" y="1268280"/>
            <a:ext cx="72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ікація типів стратегій позиціонуванн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ипом властивостей товару, за якими відбувається позиціонування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ідмінними відчутними особливостями товару (позиціонування на основі раціональних критеріїв). У цьому випадку фірма шукає шляхи створення у свідомості споживача стійкого взаємозв’язку між продуктом, його визначальними характеристиками і вигодами від використання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евідчутними особливостями товару (імідж). (Категорія позиціонування на основі емоційних, суб’єктивних критеріїв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онкурентним положенням на ринку (передбачає чітке узгодження позиціонування з місцем, що займає компанія на ринку). Наприклад, «… - №1 в Україні», «Кожен другий споживач користується …», «Вибір року»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258920" y="764640"/>
            <a:ext cx="691344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озміщенням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нова відокремлена марк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х існуючої мар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ісцем щодо конкурентів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дер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он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шер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до існуючої позиції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позиціонуванн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2"/>
          <a:stretch/>
        </p:blipFill>
        <p:spPr>
          <a:xfrm>
            <a:off x="1042920" y="426960"/>
            <a:ext cx="7631280" cy="101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1116000" y="1413000"/>
          <a:ext cx="7416720" cy="4724280"/>
        </p:xfrm>
        <a:graphic>
          <a:graphicData uri="http://schemas.openxmlformats.org/drawingml/2006/table">
            <a:tbl>
              <a:tblPr/>
              <a:tblGrid>
                <a:gridCol w="1790640"/>
                <a:gridCol w="3740400"/>
                <a:gridCol w="1885680"/>
              </a:tblGrid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 стратег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т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безп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перниц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аймається місце біля ліде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идається виклик його позиції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ціна марки компанії порівнянна з ціною лідера ринк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уже високі витрати на рекла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ні витрати на рекламу і ризик контратаки з боку лідируючої мар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мін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зиціонується марка на основі відмінностей від марки-ліде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исокі витрати на реклам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ціна товару висо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творення образу високоякісного бренд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і витрати на рекламу і недостатня диференціаці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кова ви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фірм з обмеженими ресурса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зиціонується марка далеко від марки-ліде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ильний акцент на відмітні характеристи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изькі цін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мірна рекла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ія є ефективною лише у ніші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лід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фірм з обмеженими ресурса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арка позиціонується біля домінуючої мар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характеристики подібні з маркою-лідеро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изькі цін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мірна рекла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ідер рідко дозволяє захопити істотну частку рин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2"/>
          <a:stretch/>
        </p:blipFill>
        <p:spPr>
          <a:xfrm>
            <a:off x="1189080" y="573120"/>
            <a:ext cx="7412040" cy="6462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1042920" y="1196640"/>
            <a:ext cx="7416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а цьому етапі необхідно визначитися з типом позиціонування марки на ринку, тобто як фірма буде працювати зі свідомістю цільових споживачів, щоб формувати позитивне ставлення до неї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актичному рівні типи позиціонування торговельних марок на споживчому ринку можна класифікувати за такими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іям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кладовою впливу, що формує ставлення людини до торговельної марки та до якої апелюють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пособом подолання перешкод у свідомості споживача, які перешкоджають формуванню позиціонування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пособом маніпулювання свідомістю споживач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2"/>
          <a:stretch/>
        </p:blipFill>
        <p:spPr>
          <a:xfrm>
            <a:off x="1023840" y="500040"/>
            <a:ext cx="7309080" cy="64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1042920" y="1197000"/>
          <a:ext cx="7148520" cy="4675320"/>
        </p:xfrm>
        <a:graphic>
          <a:graphicData uri="http://schemas.openxmlformats.org/drawingml/2006/table">
            <a:tbl>
              <a:tblPr/>
              <a:tblGrid>
                <a:gridCol w="2108160"/>
                <a:gridCol w="2157480"/>
                <a:gridCol w="2882880"/>
              </a:tblGrid>
              <a:tr h="227160">
                <a:tc gridSpan="3"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іальні о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84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кладовою впливу, що формує ставлення людини до торговельної ма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пособом подолання перешкод у свідомості спожив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пособом маніпулювання свідомістю спожив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 gridSpan="3"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и позиціонува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1400"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іональ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рраціональ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атив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гестив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сив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між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ент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якістю товар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співвідношенням «ціна - якість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особливими властивостями товар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особливостями використання, зручністю використання, зручністю упаков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культурними традиція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новітніми технологія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ціонування за іміджем тощ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6993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2"/>
          <a:stretch/>
        </p:blipFill>
        <p:spPr>
          <a:xfrm>
            <a:off x="1116000" y="712800"/>
            <a:ext cx="7113600" cy="1012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899640" y="1699920"/>
            <a:ext cx="7417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 не те, що ви робите з товаром, а те, що ви робите зі свідомістю споживача. (Джек Траут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шук місця в свідомості цільової аудиторії і створення таких образів і атрибутів торгової марки, які найбільш вигідно відрізнялися б від марок конкурентів, були для цільового споживача значущими і відповідали його потребам або споживчим очікуванням найкращим чином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142640" y="1196640"/>
            <a:ext cx="7389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нітивна складова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є знання відносно товару на основі особистого досвіду або інформації, отриманої із зовнішніх джерел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ективна складов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ідповідає за емоційне сприйняття товару, вона пов’язана з асоціаціями та почуттями, що викликає товар у споживач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гестивна складов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’язана з упередженнями споживачам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ативна складова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ає за ймовірність здійснення купівлі товар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2"/>
          <a:stretch/>
        </p:blipFill>
        <p:spPr>
          <a:xfrm>
            <a:off x="1328760" y="353880"/>
            <a:ext cx="6986520" cy="646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971640" y="836640"/>
            <a:ext cx="7416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ціональни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д час позиціонування апеляція йде до раціональних мотивів і моделей споживчої поведінки. Під час реалізації стратегії ринкового позиціонування працюють із когнітивною складовою ставлення споживача до марк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Ірраціональни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й тип позиціонування передбачає формування у свідомості споживача позитивного ставлення до товару чи марки за рахунок роботи з афективною (емоційною) складовою. Цей тип позиціонування доцільно передусім використовувати, якщо обрано стратегію позиціонування за імідже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26920" y="475920"/>
            <a:ext cx="7561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нативни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поживач до кінця не усвідомлює власну потребу або вольовий компонент, відповідальний за трансформацію потреби у попит, слабкий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ий тип позиціонування передбачає, зокрема, посилення тривоги, використовуючи у тому числі доробки психоаналізу, задля усвідомлення проблеми, її важливості для споживача з метою підштовхування до покупки чи іншої запрограмованої поведінк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угестивний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мов, якщо потрібно подолати певні негативні стереотипи або, навпаки, сформувати стереотип, який базується переважно на ірраціональних мотивах, використовують даний тип позиціонування. Метою рекламних кампаній, спрямованих на реалізацію даного типу позиціонування, є формування, посилення або ослаблення певних позицій (ставлення) споживача, які ґрунтуються на його упередженнях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042920" y="731520"/>
            <a:ext cx="7416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ізація позиціонування вимагає подолання трьох бар’єрів у свідомості споживача: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ірковості уваг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ийнятт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м’ятовуванн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1. Агресивний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ий тип характеризується агресивністю у подоланні захисних бар’єрів свідомості спожива, масованою рекламою, як правило, порівняльного характеру. Для реалізації використовуються ATL та BTL–кампанії просування, в тому числі, інтерактивного типу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2. Допоміжний.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випадку, коли споживач не до кінця усвідомлює власні потреби та/або переваги товару чи марки, що позиціонуються на ринку, доцільно використовувати даний тип позиціонування. Головна ідея – ненав’язливо допомогти споживачу усвідомити потреби та, як наслідок переваги товару чи марки, важливість яких він не до кінця усвідомлює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кцентуація в даному випадку йде не на товарі, а на проблемі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43000" y="731880"/>
            <a:ext cx="72453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Латентний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значений тип позиціонування передбачає, що під час реалізації акцент має робитися не на рекламованому товарі або безпосередньо проблемі споживача, а на фоновому переліку недоліків товарів чи марок-конкурентів. Це дозволяє сформувати у споживача відчуття безальтернативності та у латентний спосіб підштовхнути до усвідомлення переваг нашого товару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2"/>
          <a:stretch/>
        </p:blipFill>
        <p:spPr>
          <a:xfrm>
            <a:off x="950760" y="646200"/>
            <a:ext cx="7388280" cy="1011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971640" y="1557000"/>
            <a:ext cx="7416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якістю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співвідношенням «ціна - якість»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особливими властивостями товару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особливостями використання, зручністю використання, зручністю упаковк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культурними традиція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новітніми технологія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іонування за іміджем тощ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143000" y="731520"/>
            <a:ext cx="73166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ізація позиціонування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цьому етапі компанія з метою реалізації розробленого позиціонування має запровадити комплекс організаційно-правових, виробничо-збутових та науково-дослідних заходів, а також заходів із просуванн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та аналіз, аудит позиціонування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часом під впливом некерованих факторів ринкового середовища та дій фірм-конкурентів відбуваються зміни у поведінці споживачів, компанія може почати втрачати ринкову позицію. Це вимагає від підприємства постійного моніторингу ринкового середовища, контролю та аналізу власного позиціонування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6912000" cy="646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826920" y="1052280"/>
            <a:ext cx="7777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Цінність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к цільовий ринок сприймає позицію бренда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звернена позиція до ключових потреб цільових споживачів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допомагає вона тривалий час зберігати лояльність споживачів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у цінову премію дозволяє встановити позиція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нікальність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кільки позиція виділяє марку серед конкурентів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сприймає ринок позицію як таку, що належить саме цій марці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існують чіткі відмінності позиції марки від конкуруючих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 ми пояснюємо свою позицію цільовим споживачам, чи виникає у них думка про конкуруючі марки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овіра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 розглядає цільовий ринок позицію марки як таку, що відповідає її характеристикам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варта позиція планованих інвестицій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здатні ми виконувати марочні обіцянки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вважають споживачі, що позиції інших марок більш відповідають їх реальним властивостям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99640" y="76464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тійкість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 збережемо ми зайняті позиції протягом тривалого часу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доцільним буде збереження поточної позиції через 3-5 років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зможуть цю позицію зайняти конкуренти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ідповідність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 відповідає позиція нашої марки нашій компанії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відповідають зайняті позиції корпоративним цілям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будуть вони сприяти підвищенню рентабельності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 допоможе позиціонування сфокусувати планування і поточну діяльність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2"/>
          <a:stretch/>
        </p:blipFill>
        <p:spPr>
          <a:xfrm>
            <a:off x="1547640" y="646200"/>
            <a:ext cx="6480360" cy="695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1115640" y="1268280"/>
            <a:ext cx="72010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озиціонування.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 ситуація виникає тоді, коли споживачі не мають чіткого уявлення про марку, переваги, які б виділяли її із загального ряду. Це може спричинятися недоліками самого товару, поганою реалізацією рекламного звернення через непрофесіоналізм рекламного агентства тощо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мірне позиціонуванн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ія, коли покупці мають дуже вузьке уявлення про марку. У цьому разі марка товару занадто асоціюється з однією зі своїх властивосте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99640" y="731520"/>
            <a:ext cx="74883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 мета позиціонува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омогтися сталого уявлення в свідомості покупців про бренд як про кращий товар для конкретних умо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і завдання позиціонування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диференціюватися від конкурентів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творити бренд на основі раціональних і / або емоційних вигод, які є значущими для цільової аудитор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творити напрямок для розробки атрибутів бренду – імені та дизайну, які покликані доносити позиціонування до цільової аудиторії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творити додатковий захисний бар’єр від атак конкурентів на позиції бренду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«заточувати» і створювати маркетингові комунікації на основі обраної стратегії позиціонуванн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115640" y="1052280"/>
            <a:ext cx="7101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пливчате позиціонуванн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ія, коли компанія робить дуже багато різних заяв про властивості марки або часто змінює позиціонування, що призводить до втрати фокусуванн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нівне позиціонуванн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ія, коли компанії у своїх зверненнях роблять заяви, в які споживачам важко повірити. Невиправдані очікування в цьому випадку викликають протилежну реакцію з боку споживачів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912000" cy="6462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899640" y="1341000"/>
            <a:ext cx="7417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56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жкультурне позиціонува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тосовують тоді, коли між споживачами різних країн не виявлено значних розбіжностей щодо сприйняття ними певних товарів чи послуг підприємства, немає суттєвих розбіжностей у поведінці споживачів та специфіці функціонування ринку. Така стратегія позиціонування є ідентичною на усіх ринках, в тому числі й національному. Міжкультурне позиціонування зазвичай спрямоване на формування єдиного іміджу товару на зовнішніх ринках, на пропагування якоїсь спільної ідеї чи певного способу житт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142640" y="764640"/>
            <a:ext cx="71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репозиціонування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тосовується тоді, коли між країнами є певні відмінності у поведінці покупців, але, як правило, незначні. В цьому випадку сама стратегія залишається незмінною, проте може відрізнятися творча концепція реалізації стратегії, може змінюватися назва товару на певному ринку, його упаковка чи її певні атрибути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я унікального позиціонування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ожному ринку застосовується тоді, коли товар не може бути адаптований одночасно під потреби споживачів у кожній країні або коли ринки таких країн дуже відрізняються між собою. Така стратегія буде абсолютно різною в межах певних країн; на різних ринках товар може позиціонуватися за різними критеріями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2"/>
          <a:stretch/>
        </p:blipFill>
        <p:spPr>
          <a:xfrm>
            <a:off x="1189080" y="712800"/>
            <a:ext cx="6985080" cy="646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27"/>
          <p:cNvPicPr/>
          <p:nvPr/>
        </p:nvPicPr>
        <p:blipFill>
          <a:blip r:embed="rId3"/>
          <a:stretch/>
        </p:blipFill>
        <p:spPr>
          <a:xfrm>
            <a:off x="1403280" y="1608120"/>
            <a:ext cx="63374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28"/>
          <p:cNvPicPr/>
          <p:nvPr/>
        </p:nvPicPr>
        <p:blipFill>
          <a:blip r:embed="rId2"/>
          <a:stretch/>
        </p:blipFill>
        <p:spPr>
          <a:xfrm>
            <a:off x="826920" y="404640"/>
            <a:ext cx="4681800" cy="2953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&amp;Mcy;&amp;ocy;&amp;lcy;&amp;ocy;&amp;dcy;&amp;ocy;&amp;jcy; &amp;dcy;&amp;icy;&amp;zcy;&amp;acy;&amp;jcy;&amp;ncy;&amp;iecy;&amp;rcy; Christian Louboutin"/>
          <p:cNvPicPr/>
          <p:nvPr/>
        </p:nvPicPr>
        <p:blipFill>
          <a:blip r:embed="rId3"/>
          <a:stretch/>
        </p:blipFill>
        <p:spPr>
          <a:xfrm>
            <a:off x="4140360" y="3357720"/>
            <a:ext cx="4679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img_384979887" descr="384979887"/>
          <p:cNvPicPr/>
          <p:nvPr/>
        </p:nvPicPr>
        <p:blipFill>
          <a:blip r:embed="rId2"/>
          <a:stretch/>
        </p:blipFill>
        <p:spPr>
          <a:xfrm>
            <a:off x="1258920" y="1052640"/>
            <a:ext cx="3313080" cy="2160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Obuv-Kristian-Labuten2"/>
          <p:cNvPicPr/>
          <p:nvPr/>
        </p:nvPicPr>
        <p:blipFill>
          <a:blip r:embed="rId3"/>
          <a:stretch/>
        </p:blipFill>
        <p:spPr>
          <a:xfrm>
            <a:off x="4859280" y="1268280"/>
            <a:ext cx="3772080" cy="4572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http://ymadam.ru/wp-content/uploads/2012/09/Christian-Louboutin1.jpg"/>
          <p:cNvPicPr/>
          <p:nvPr/>
        </p:nvPicPr>
        <p:blipFill>
          <a:blip r:embed="rId4"/>
          <a:stretch/>
        </p:blipFill>
        <p:spPr>
          <a:xfrm>
            <a:off x="611280" y="3141720"/>
            <a:ext cx="405756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684360" y="731880"/>
            <a:ext cx="770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фли Christian Louboutin это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ящные лодочки, подчеркивающие всю красоту женских ног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изменно красная подошва, ставшая визитной карточкой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очные лекала и очень комфортная колодка, благодаря которой походка на самых высоких каблуках не доставляет ни малейшего дискомфорта. Самое пристальное внимание направленно именно на удобство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6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ые роскошные натуральные материалы: кожа буйвола, ската, питона, ящерицы, замша, бархат, шифон, атлас и т.д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116000" y="765000"/>
            <a:ext cx="724536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Geox – бренд, подаривший миру дышащую обувь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мпания Geox является одним из ведущих мировых брендов в категории International Lifestyle Casual Footwear Market (Shoe Intelligence, 2014)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увь, которая дышит» – это идея, особый подход и обещание хорошего самочувствия и абсолютного комфорта, ставшие миссией Geox со дня его основания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мя бренда отражает его связь с природой и жизнью. Название Geox образовано из древнегреческого слова Geo («земля») и буквы «x», которая символизирует собой современные технологии, разработанные в итальянских лабораториях и защищённые международными патентами. 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143000" y="731520"/>
            <a:ext cx="7174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олоті правила» позиціонування бренду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озиціонування має бути унікальним і впізнавани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озиціонування має відповідати явним і прихованим потребам цільових споживач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озиціонування має бути підкріплено реальними фактам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озиціонування має бути незмінним у всіх елементах marketing mix і проходити через нього червоною ниткою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позиціонування має бут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39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99640" y="907920"/>
            <a:ext cx="748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складена концепція позиціонування бренду може бути сформульована у вигляді одного речення: «[Товарна категорія] [назва бренду], призначена для [функціональне призначення], найкраще підходить для [цільова група споживачів], тому що він [основна перевага] у порівнянні з [конкурентний товар / усереднений товар / товар-замінник / штучне порівняння]»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2"/>
          <a:stretch/>
        </p:blipFill>
        <p:spPr>
          <a:xfrm>
            <a:off x="1042920" y="712800"/>
            <a:ext cx="7272360" cy="646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899640" y="1483920"/>
            <a:ext cx="7488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иявлення основи позиціонування конкретного бренду в свідомості споживачів необхідно відповісти на наступні питання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ля кого призначений даний продукт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шими словами, мова йде про визначення цільової групи, що включає в себе не тільки соціально-демографічні характеристики споживачів, але й уявлення про їхній стиль життя, мотиваційні уподобання, значущі атрибутивні складові побуту, що визначають стилістику сприйнятт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ому і навіщо він був створений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ь на це питання вказує мета створення конкретного бренду: в чому полягає його унікальність і привабливість для представників конкретної цільової груп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ли і як він може бути використаний споживачами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мова йде про виявлення особливостей споживчої поведінки і типових ситуацій використання продукту і його аналогі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 яку нішу може претендувати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учасному контексті це питання вказує, як правило, на основних конкурентів, на ті бренди, чию клієнтуру дуже хотілося б перемани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1189080" y="560520"/>
            <a:ext cx="6838920" cy="75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971640" y="1268280"/>
          <a:ext cx="7415280" cy="4394160"/>
        </p:xfrm>
        <a:graphic>
          <a:graphicData uri="http://schemas.openxmlformats.org/drawingml/2006/table">
            <a:tbl>
              <a:tblPr/>
              <a:tblGrid>
                <a:gridCol w="2846160"/>
                <a:gridCol w="4569120"/>
              </a:tblGrid>
              <a:tr h="43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івні позиціону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оби та інструмен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іально-демографіч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бір ніші за рахунок акценту на соціально-демографічних характеристиках споживача: стать, вік, дохід, освіта, соціальний стан і т. 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іональ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ент на якості продукту, особливостях смаку, складу, технологій і т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іональ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ент на перевагах зручності використання продукту, в тому числі на функціональних особливостях упаков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моцій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орення емоційної атмосфери навколо марки за рахунок використання асоціацій з продуктом і ситуацією його спожи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нніс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тинання цінностей, що стоять за образом продукту, зі значущими цінностями його споживач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1262160" y="701640"/>
            <a:ext cx="6912000" cy="7491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899640" y="1412640"/>
            <a:ext cx="7559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наліз поведінки споживачів та визначення параметрів, за якими буде проводитися позиціонуванн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значення релевантних фірм, їх товарів і марок, які належать до даного сегмента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будова схем позиціонування та карти сприйнятт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Аналіз схем позиціонуванн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изначення стратегії позиціонуванн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изначення тактики позиціонування марки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еалізація позиціонуванн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онтроль та аналіз, аудит позиціонування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2"/>
          <a:stretch/>
        </p:blipFill>
        <p:spPr>
          <a:xfrm>
            <a:off x="1042920" y="646200"/>
            <a:ext cx="7418520" cy="137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899640" y="1989000"/>
            <a:ext cx="75596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живачі, виходячи з власних мотивів, мають свій погляд на відмітні характеристики (характерні риси) товару, на основі яких вони вибирають ту чи іншу марку. Відповідно процес позиціонування включає в себе визначення потенційно важливих атрибутів і вибір серед них найбільш значущих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ливо пам’ятати, що перелік характеристик, якими керуються споживачі та виробники товарів, відрізняються між собо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2T12:41:55Z</dcterms:created>
  <dc:creator>Dvyhun</dc:creator>
  <dc:description/>
  <dc:language>en-US</dc:language>
  <cp:lastModifiedBy>Olya</cp:lastModifiedBy>
  <dcterms:modified xsi:type="dcterms:W3CDTF">2019-02-13T08:43:48Z</dcterms:modified>
  <cp:revision>34</cp:revision>
  <dc:subject/>
  <dc:title>Тема 3. Позиціонування бренду</dc:title>
</cp:coreProperties>
</file>