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B75-7682-453D-A1B9-70853A8D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9A8-A01D-4EBA-981B-EF6ECDB8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9EB-B21D-438E-BA71-42B2B67E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61DF-FB45-4690-9381-7E02CD31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E731-E070-4B42-9A4E-25F163AE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40DA-D176-41F0-9EE3-E5CDC7CD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A672-52E7-45D5-8587-FBDC092D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6EBD-06C8-41B6-859B-A0783540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283E-AA69-4D91-843E-B7FF8B62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FDF7-0B26-49BA-A879-536F1226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14C7-5BA6-4317-B96D-F89E4722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C49A-056D-4671-B04D-7E46E4DD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7D43-C6F7-4655-8862-08BC88F7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3487-5C25-4BF9-B67D-2FC4D361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9E85-02C5-47A3-B4CD-5720AC35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44B0-2D0D-44DE-9912-B5692332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B7EF-CD82-4472-8440-433E1AB6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5CCE1-72D2-4E19-BB5E-7CB8D39A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4449C-75DE-4B1D-95DF-A201A9C7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C8907-DDBF-4D83-8A69-ED0A8492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1EB24-F53C-41E4-ADFD-1AE04E84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5221F-9F2F-4202-836E-1BF953D1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5107-121C-4DBE-B659-850C7A94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FC9DD-0680-4C33-B0DA-0E6DBFC1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03F74-416B-4351-BFC4-DAC14C04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58158-D1EC-432C-8DC1-8966F797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B780F-0A0D-4609-BEE0-BA6BA018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19416-D204-44B1-890B-461105E2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D6B07-DB8C-46A7-8AB2-9A97D9A1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984D7-B25F-46E4-A799-EA3A3F36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DAAE7-8AED-483A-87E1-7865A5E6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C2D2B-5013-4FA9-A97E-F959C38E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3F6B6-C8C4-4B45-A6D2-25DC9B0C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6C8-796F-4CA6-833C-5972A82A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E882A-9735-402F-8055-C3657634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43E51-6B65-44D0-8B7F-37FC356F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DA735-E4ED-49B0-A93D-973CD1A1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FBF3A-9E3B-4E5E-AF46-56ECBA64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67BB9-AE58-4A58-8330-10DCE0EA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667DC-848C-48B3-8648-32C42EC7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D68D4-3DE0-4E20-9147-938B5770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D8363-75AE-4296-A93E-328E468C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B291A-D3B7-4E83-9784-74FCA595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42EE-625F-4BCC-B3A8-1AAF2A2A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452D-6260-42E4-91E7-7F693A47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6B0-5FE6-422C-97A9-65C1D904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FC7-C3DF-4D89-AC10-89976089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EC79-9CD8-4DF2-9882-4D88991C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9578-7433-4180-8176-3D8EB22405B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2F2A-395A-435F-A00D-8A7A4F7AB01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C45F-3081-4855-B555-7FF92D2D4DB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D0C1-1ACE-4B5A-8D3B-5D34ED77F75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920" y="2276640"/>
            <a:ext cx="70581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изначення позиціонування бренду. Основні задачі та правила позиціонуванн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цес позиціонування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зиціонування на міжнародних ринках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116000" y="822240"/>
            <a:ext cx="717408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2"/>
          <a:stretch/>
        </p:blipFill>
        <p:spPr>
          <a:xfrm>
            <a:off x="1042920" y="712800"/>
            <a:ext cx="7637400" cy="10126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826920" y="2133720"/>
            <a:ext cx="74901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цьому етапі відбираються не всі марки, присутні на ринку, а лише ті, які належать до певної цільової аудиторії за своїми об’єктивними даними, та такі, що розглядаються цільовими споживачами як марки-конкурент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869160" cy="1176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971640" y="1628280"/>
            <a:ext cx="73454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позицій конкурентів – це один з найбільш критичних етапів, у ході якого необхідно виявити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співвідносяться між собою конкуруюч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з них є схожими, а які відрізняються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кільки для кожної з конкуруючих марок характерна наявність обраних раніше атрибуті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Результатом такого аналізу є побудова карт (схем) сприйняття. У найпростішому випадку карта сприйняття є двомірною системою координат, на якій точками позначені позиції конкуруючих марок залежно від того, як їх сприймає споживач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2"/>
          <a:stretch/>
        </p:blipFill>
        <p:spPr>
          <a:xfrm>
            <a:off x="1401840" y="701640"/>
            <a:ext cx="6516720" cy="7858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755640" y="1483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сля завершення процедури побудови схем позиціонування переходять до їх аналізу. Для цього опрацьовуються такі пита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існують відмінності між об’єктивним і суб’єктивним позиціонуванням товару на ринку? Залежно від цього обирається одна з можливих стратегій за матрицею Дж. Саймон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сприймає споживач відмінність між пропонованим товаром і товаром конкурентів, чи істотна вона?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конкурентні переваги пропонованого товару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2"/>
          <a:stretch/>
        </p:blipFill>
        <p:spPr>
          <a:xfrm>
            <a:off x="1695600" y="633240"/>
            <a:ext cx="6692760" cy="75096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3" descr=""/>
          <p:cNvPicPr/>
          <p:nvPr/>
        </p:nvPicPr>
        <p:blipFill>
          <a:blip r:embed="rId3"/>
          <a:stretch/>
        </p:blipFill>
        <p:spPr>
          <a:xfrm>
            <a:off x="1322280" y="1274760"/>
            <a:ext cx="6926400" cy="44067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1332000" y="2619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7272360" cy="7808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1115640" y="1268280"/>
            <a:ext cx="72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ікація типів стратегій позиціонуванн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ипом властивостей товару, за якими відбувається позиціонування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ідмінними відчутними особливостями товару (позиціонування на основі раціональних критеріїв). У цьому випадку фірма шукає шляхи створення у свідомості споживача стійкого взаємозв’язку між продуктом, його визначальними характеристиками і вигодами від використання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евідчутними особливостями товару (імідж). (Категорія позиціонування на основі емоційних, суб’єктивних критеріїв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онкурентним положенням на ринку (передбачає чітке узгодження позиціонування з місцем, що займає компанія на ринку). Наприклад, «… - №1 в Україні», «Кожен другий споживач користується …», «Вибір року»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258920" y="764640"/>
            <a:ext cx="691344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озміщенням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нова відокремлена марк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х існуючої мар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ісцем щодо конкурентів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дер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он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шер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снуючої позиції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озиціонуванн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2"/>
          <a:stretch/>
        </p:blipFill>
        <p:spPr>
          <a:xfrm>
            <a:off x="1042920" y="426960"/>
            <a:ext cx="7631280" cy="101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1116000" y="1413000"/>
          <a:ext cx="7416720" cy="4724280"/>
        </p:xfrm>
        <a:graphic>
          <a:graphicData uri="http://schemas.openxmlformats.org/drawingml/2006/table">
            <a:tbl>
              <a:tblPr/>
              <a:tblGrid>
                <a:gridCol w="1790640"/>
                <a:gridCol w="3740400"/>
                <a:gridCol w="1885680"/>
              </a:tblGrid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 стратег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езп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перниц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ймається місце біля ліде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идається виклик його позиції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ціна марки компанії порівнянна з ціною лідера ринк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уже високі витрати на рекла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ні витрати на рекламу і ризик контратаки з боку лідируючої мар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мін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зиціонується марка на основі відмінностей від марки-ліде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исокі витрати на реклам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ціна товару висо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творення образу високоякісного бренд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і витрати на рекламу і недостатня диференціаці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кова ви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фірм з обмеженими ресурса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зиціонується марка далеко від марки-ліде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ильний акцент на відмітні характеристи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изькі цін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мірна рекла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я є ефективною лише у ніші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лід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фірм з обмеженими ресурса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арка позиціонується біля домінуючої мар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характеристики подібні з маркою-лідеро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изькі цін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мірна рекла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рідко дозволяє захопити істотну частку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2"/>
          <a:stretch/>
        </p:blipFill>
        <p:spPr>
          <a:xfrm>
            <a:off x="1189080" y="573120"/>
            <a:ext cx="7412040" cy="6462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1042920" y="1196640"/>
            <a:ext cx="741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а цьому етапі необхідно визначитися з типом позиціонування марки на ринку, тобто як фірма буде працювати зі свідомістю цільових споживачів, щоб формувати позитивне ставлення до не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актичному рівні типи позиціонування торговельних марок на споживчому ринку можна класифікувати за такими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ям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кладовою впливу, що формує ставлення людини до торговельної марки та до якої апелюють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пособом подолання перешкод у свідомості споживача, які перешкоджають формуванню позиціонування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пособом маніпулювання свідомістю споживач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2"/>
          <a:stretch/>
        </p:blipFill>
        <p:spPr>
          <a:xfrm>
            <a:off x="1023840" y="500040"/>
            <a:ext cx="7309080" cy="64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1042920" y="1197000"/>
          <a:ext cx="7148520" cy="4675320"/>
        </p:xfrm>
        <a:graphic>
          <a:graphicData uri="http://schemas.openxmlformats.org/drawingml/2006/table">
            <a:tbl>
              <a:tblPr/>
              <a:tblGrid>
                <a:gridCol w="2108160"/>
                <a:gridCol w="2157480"/>
                <a:gridCol w="2882880"/>
              </a:tblGrid>
              <a:tr h="227160">
                <a:tc gridSpan="3"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іальні 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84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кладовою впливу, що формує ставлення людини до торговельної ма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пособом подолання перешкод у свідомості спожив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пособом маніпулювання свідомістю спожив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 gridSpan="3"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и позиціон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140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іональ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рраціональ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атив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гестив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сив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між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ент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якістю товар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співвідношенням «ціна - якість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особливими властивостями товар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особливостями використання, зручністю використання, зручністю упаков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культурними традиція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новітніми технологія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іміджем тощ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699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712800"/>
            <a:ext cx="7113600" cy="1012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899640" y="1699920"/>
            <a:ext cx="7417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не те, що ви робите з товаром, а те, що ви робите зі свідомістю споживача. (Джек Траут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шук місця в свідомості цільової аудиторії і створення таких образів і атрибутів торгової марки, які найбільш вигідно відрізнялися б від марок конкурентів, були для цільового споживача значущими і відповідали його потребам або споживчим очікуванням найкращим чином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142640" y="1196640"/>
            <a:ext cx="7389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нітивна складова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є знання відносно товару на основі особистого досвіду або інформації, отриманої із зовнішніх джерел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ективна складов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ідповідає за емоційне сприйняття товару, вона пов’язана з асоціаціями та почуттями, що викликає товар у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гестивна складов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’язана з упередженнями споживачам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ативна складова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ає за ймовірність здійснення купівлі товар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2"/>
          <a:stretch/>
        </p:blipFill>
        <p:spPr>
          <a:xfrm>
            <a:off x="1328760" y="353880"/>
            <a:ext cx="6986520" cy="646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971640" y="836640"/>
            <a:ext cx="741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ціональни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 час позиціонування апеляція йде до раціональних мотивів і моделей споживчої поведінки. Під час реалізації стратегії ринкового позиціонування працюють із когнітивною складовою ставлення споживача до марк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Ірраціональни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й тип позиціонування передбачає формування у свідомості споживача позитивного ставлення до товару чи марки за рахунок роботи з афективною (емоційною) складовою. Цей тип позиціонування доцільно передусім використовувати, якщо обрано стратегію позиціонування за імідж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26920" y="475920"/>
            <a:ext cx="7561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нативни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поживач до кінця не усвідомлює власну потребу або вольовий компонент, відповідальний за трансформацію потреби у попит, слабкий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ий тип позиціонування передбачає, зокрема, посилення тривоги, використовуючи у тому числі доробки психоаналізу, задля усвідомлення проблеми, її важливості для споживача з метою підштовхування до покупки чи іншої запрограмованої поведінк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угестивний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мов, якщо потрібно подолати певні негативні стереотипи або, навпаки, сформувати стереотип, який базується переважно на ірраціональних мотивах, використовують даний тип позиціонування. Метою рекламних кампаній, спрямованих на реалізацію даного типу позиціонування, є формування, посилення або ослаблення певних позицій (ставлення) споживача, які ґрунтуються на його упередженнях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042920" y="731520"/>
            <a:ext cx="7416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ізація позиціонування вимагає подолання трьох бар’єрів у свідомості споживача: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ірковості уваг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йнятт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м’ятовуванн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1. Агресивний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ий тип характеризується агресивністю у подоланні захисних бар’єрів свідомості спожива, масованою рекламою, як правило, порівняльного характеру. Для реалізації використовуються ATL та BTL–кампанії просування, в тому числі, інтерактивного тип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2. Допоміжний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випадку, коли споживач не до кінця усвідомлює власні потреби та/або переваги товару чи марки, що позиціонуються на ринку, доцільно використовувати даний тип позиціонування. Головна ідея – ненав’язливо допомогти споживачу усвідомити потреби та, як наслідок переваги товару чи марки, важливість яких він не до кінця усвідомлює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кцентуація в даному випадку йде не на товарі, а на проблемі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880"/>
            <a:ext cx="72453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Латентний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значений тип позиціонування передбачає, що під час реалізації акцент має робитися не на рекламованому товарі або безпосередньо проблемі споживача, а на фоновому переліку недоліків товарів чи марок-конкурентів. Це дозволяє сформувати у споживача відчуття безальтернативності та у латентний спосіб підштовхнути до усвідомлення переваг нашого товару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2"/>
          <a:stretch/>
        </p:blipFill>
        <p:spPr>
          <a:xfrm>
            <a:off x="950760" y="646200"/>
            <a:ext cx="7388280" cy="1011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971640" y="1557000"/>
            <a:ext cx="7416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якістю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співвідношенням «ціна - якість»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особливими властивостями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особливостями використання, зручністю використання, зручністю упаков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культурними традиція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новітніми технологія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іміджем тощ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73166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ізація позиціонування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цьому етапі компанія з метою реалізації розробленого позиціонування має запровадити комплекс організаційно-правових, виробничо-збутових та науково-дослідних заходів, а також заходів із просуванн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та аналіз, аудит позиціонування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часом під впливом некерованих факторів ринкового середовища та дій фірм-конкурентів відбуваються зміни у поведінці споживачів, компанія може почати втрачати ринкову позицію. Це вимагає від підприємства постійного моніторингу ринкового середовища, контролю та аналізу власного позиціонування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6912000" cy="646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826920" y="1052280"/>
            <a:ext cx="7777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Цінність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к цільовий ринок сприймає позицію бренда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звернена позиція до ключових потреб цільових споживачів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допомагає вона тривалий час зберігати лояльність споживачів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у цінову премію дозволяє встановити позиція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нікальність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кільки позиція виділяє марку серед конкурентів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сприймає ринок позицію як таку, що належить саме цій марці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існують чіткі відмінності позиції марки від конкуруючих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ми пояснюємо свою позицію цільовим споживачам, чи виникає у них думка про конкуруючі марки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овіра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 розглядає цільовий ринок позицію марки як таку, що відповідає її характеристикам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варта позиція планованих інвестицій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здатні ми виконувати марочні обіцянки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вважають споживачі, що позиції інших марок більш відповідають їх реальним властивостям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99640" y="76464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тійкість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 збережемо ми зайняті позиції протягом тривалого часу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доцільним буде збереження поточної позиції через 3-5 років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зможуть цю позицію зайняти конкуренти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ідповідність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 відповідає позиція нашої марки нашій компанії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відповідають зайняті позиції корпоративним цілям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будуть вони сприяти підвищенню рентабельності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допоможе позиціонування сфокусувати планування і поточну діяльність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2"/>
          <a:stretch/>
        </p:blipFill>
        <p:spPr>
          <a:xfrm>
            <a:off x="1547640" y="646200"/>
            <a:ext cx="6480360" cy="695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1115640" y="1268280"/>
            <a:ext cx="72010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озиціонування.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 ситуація виникає тоді, коли споживачі не мають чіткого уявлення про марку, переваги, які б виділяли її із загального ряду. Це може спричинятися недоліками самого товару, поганою реалізацією рекламного звернення через непрофесіоналізм рекламного агентства тощ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мірне позиціонуванн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ія, коли покупці мають дуже вузьке уявлення про марку. У цьому разі марка товару занадто асоціюється з однією зі своїх властивосте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99640" y="731520"/>
            <a:ext cx="74883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 мета позиціонува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омогтися сталого уявлення в свідомості покупців про бренд як про кращий товар для конкретних ум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завдання позиціонування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диференціюватися від конкурентів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творити бренд на основі раціональних і / або емоційних вигод, які є значущими для цільової аудитор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творити напрямок для розробки атрибутів бренду – імені та дизайну, які покликані доносити позиціонування до цільової аудитор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творити додатковий захисний бар’єр від атак конкурентів на позиції бренду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«заточувати» і створювати маркетингові комунікації на основі обраної стратегії позиціонуванн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15640" y="1052280"/>
            <a:ext cx="7101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пливчате позиціонуванн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ія, коли компанія робить дуже багато різних заяв про властивості марки або часто змінює позиціонування, що призводить до втрати фокусуванн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нівне позиціонуванн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ія, коли компанії у своїх зверненнях роблять заяви, в які споживачам важко повірити. Невиправдані очікування в цьому випадку викликають протилежну реакцію з боку споживачі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6462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899640" y="1341000"/>
            <a:ext cx="7417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56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жкультурне позиціонува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тосовують тоді, коли між споживачами різних країн не виявлено значних розбіжностей щодо сприйняття ними певних товарів чи послуг підприємства, немає суттєвих розбіжностей у поведінці споживачів та специфіці функціонування ринку. Така стратегія позиціонування є ідентичною на усіх ринках, в тому числі й національному. Міжкультурне позиціонування зазвичай спрямоване на формування єдиного іміджу товару на зовнішніх ринках, на пропагування якоїсь спільної ідеї чи певного способу житт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142640" y="764640"/>
            <a:ext cx="71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репозиціонування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тосовується тоді, коли між країнами є певні відмінності у поведінці покупців, але, як правило, незначні. В цьому випадку сама стратегія залишається незмінною, проте може відрізнятися творча концепція реалізації стратегії, може змінюватися назва товару на певному ринку, його упаковка чи її певні атрибути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унікального позиціонування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ожному ринку застосовується тоді, коли товар не може бути адаптований одночасно під потреби споживачів у кожній країні або коли ринки таких країн дуже відрізняються між собою. Така стратегія буде абсолютно різною в межах певних країн; на різних ринках товар може позиціонуватися за різними критеріями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2"/>
          <a:stretch/>
        </p:blipFill>
        <p:spPr>
          <a:xfrm>
            <a:off x="1189080" y="712800"/>
            <a:ext cx="6985080" cy="646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27"/>
          <p:cNvPicPr/>
          <p:nvPr/>
        </p:nvPicPr>
        <p:blipFill>
          <a:blip r:embed="rId3"/>
          <a:stretch/>
        </p:blipFill>
        <p:spPr>
          <a:xfrm>
            <a:off x="1403280" y="1608120"/>
            <a:ext cx="63374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28"/>
          <p:cNvPicPr/>
          <p:nvPr/>
        </p:nvPicPr>
        <p:blipFill>
          <a:blip r:embed="rId2"/>
          <a:stretch/>
        </p:blipFill>
        <p:spPr>
          <a:xfrm>
            <a:off x="826920" y="404640"/>
            <a:ext cx="4681800" cy="2953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&amp;Mcy;&amp;ocy;&amp;lcy;&amp;ocy;&amp;dcy;&amp;ocy;&amp;jcy; &amp;dcy;&amp;icy;&amp;zcy;&amp;acy;&amp;jcy;&amp;ncy;&amp;iecy;&amp;rcy; Christian Louboutin"/>
          <p:cNvPicPr/>
          <p:nvPr/>
        </p:nvPicPr>
        <p:blipFill>
          <a:blip r:embed="rId3"/>
          <a:stretch/>
        </p:blipFill>
        <p:spPr>
          <a:xfrm>
            <a:off x="4140360" y="3357720"/>
            <a:ext cx="4679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img_384979887" descr="384979887"/>
          <p:cNvPicPr/>
          <p:nvPr/>
        </p:nvPicPr>
        <p:blipFill>
          <a:blip r:embed="rId2"/>
          <a:stretch/>
        </p:blipFill>
        <p:spPr>
          <a:xfrm>
            <a:off x="1258920" y="1052640"/>
            <a:ext cx="3313080" cy="2160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Obuv-Kristian-Labuten2"/>
          <p:cNvPicPr/>
          <p:nvPr/>
        </p:nvPicPr>
        <p:blipFill>
          <a:blip r:embed="rId3"/>
          <a:stretch/>
        </p:blipFill>
        <p:spPr>
          <a:xfrm>
            <a:off x="4859280" y="1268280"/>
            <a:ext cx="3772080" cy="4572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http://ymadam.ru/wp-content/uploads/2012/09/Christian-Louboutin1.jpg"/>
          <p:cNvPicPr/>
          <p:nvPr/>
        </p:nvPicPr>
        <p:blipFill>
          <a:blip r:embed="rId4"/>
          <a:stretch/>
        </p:blipFill>
        <p:spPr>
          <a:xfrm>
            <a:off x="611280" y="3141720"/>
            <a:ext cx="405756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684360" y="731880"/>
            <a:ext cx="770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фли Christian Louboutin это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ящные лодочки, подчеркивающие всю красоту женских ног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изменно красная подошва, ставшая визитной карточкой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очные лекала и очень комфортная колодка, благодаря которой походка на самых высоких каблуках не доставляет ни малейшего дискомфорта. Самое пристальное внимание направленно именно на удобство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ые роскошные натуральные материалы: кожа буйвола, ската, питона, ящерицы, замша, бархат, шифон, атлас и т.д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116000" y="765000"/>
            <a:ext cx="724536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Geox – бренд, подаривший миру дышащую обувь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мпания Geox является одним из ведущих мировых брендов в категории International Lifestyle Casual Footwear Market (Shoe Intelligence, 2014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увь, которая дышит» – это идея, особый подход и обещание хорошего самочувствия и абсолютного комфорта, ставшие миссией Geox со дня его основани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мя бренда отражает его связь с природой и жизнью. Название Geox образовано из древнегреческого слова Geo («земля») и буквы «x», которая символизирует собой современные технологии, разработанные в итальянских лабораториях и защищённые международными патентами. 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143000" y="731520"/>
            <a:ext cx="7174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олоті правила» позиціонування бренду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озиціонування має бути унікальним і впізнава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озиціонування має відповідати явним і прихованим потребам цільових споживач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озиціонування має бути підкріплено реальними факт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озиціонування має бути незмінним у всіх елементах marketing mix і проходити через нього червоною ниткою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позиціонування має бут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99640" y="907920"/>
            <a:ext cx="748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складена концепція позиціонування бренду може бути сформульована у вигляді одного речення: «[Товарна категорія] [назва бренду], призначена для [функціональне призначення], найкраще підходить для [цільова група споживачів], тому що він [основна перевага] у порівнянні з [конкурентний товар / усереднений товар / товар-замінник / штучне порівняння]»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2"/>
          <a:stretch/>
        </p:blipFill>
        <p:spPr>
          <a:xfrm>
            <a:off x="1042920" y="712800"/>
            <a:ext cx="7272360" cy="646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899640" y="1483920"/>
            <a:ext cx="7488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иявлення основи позиціонування конкретного бренду в свідомості споживачів необхідно відповісти на наступні питання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ля кого призначений даний продукт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ими словами, мова йде про визначення цільової групи, що включає в себе не тільки соціально-демографічні характеристики споживачів, але й уявлення про їхній стиль життя, мотиваційні уподобання, значущі атрибутивні складові побуту, що визначають стилістику сприйнятт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ому і навіщо він був створений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ь на це питання вказує мета створення конкретного бренду: в чому полягає його унікальність і привабливість для представників конкретної цільової груп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ли і як він може бути використаний споживачами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мова йде про виявлення особливостей споживчої поведінки і типових ситуацій використання продукту і його аналогі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 яку нішу може претендувати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учасному контексті це питання вказує, як правило, на основних конкурентів, на ті бренди, чию клієнтуру дуже хотілося б переман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1189080" y="560520"/>
            <a:ext cx="6838920" cy="75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971640" y="1268280"/>
          <a:ext cx="7415280" cy="4394160"/>
        </p:xfrm>
        <a:graphic>
          <a:graphicData uri="http://schemas.openxmlformats.org/drawingml/2006/table">
            <a:tbl>
              <a:tblPr/>
              <a:tblGrid>
                <a:gridCol w="2846160"/>
                <a:gridCol w="4569120"/>
              </a:tblGrid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вні позиціон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оби та інструмен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іально-демографіч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бір ніші за рахунок акценту на соціально-демографічних характеристиках споживача: стать, вік, дохід, освіта, соціальний стан і т. 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іональ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ент на якості продукту, особливостях смаку, складу, технологій і т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іональ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ент на перевагах зручності використання продукту, в тому числі на функціональних особливостях упаков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моцій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орення емоційної атмосфери навколо марки за рахунок використання асоціацій з продуктом і ситуацією його спожи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нніс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тинання цінностей, що стоять за образом продукту, зі значущими цінностями його споживач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1262160" y="701640"/>
            <a:ext cx="6912000" cy="7491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899640" y="1412640"/>
            <a:ext cx="7559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наліз поведінки споживачів та визначення параметрів, за якими буде проводитися позиціонуванн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значення релевантних фірм, їх товарів і марок, які належать до даного сегмента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будова схем позиціонування та карти сприйнятт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Аналіз схем позиціонуванн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изначення стратегії позиціонуванн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изначення тактики позиціонування марки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еалізація позиціонуванн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онтроль та аналіз, аудит позиціонуванн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2"/>
          <a:stretch/>
        </p:blipFill>
        <p:spPr>
          <a:xfrm>
            <a:off x="1042920" y="646200"/>
            <a:ext cx="7418520" cy="137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899640" y="1989000"/>
            <a:ext cx="75596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живачі, виходячи з власних мотивів, мають свій погляд на відмітні характеристики (характерні риси) товару, на основі яких вони вибирають ту чи іншу марку. Відповідно процес позиціонування включає в себе визначення потенційно важливих атрибутів і вибір серед них найбільш значущих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ливо пам’ятати, що перелік характеристик, якими керуються споживачі та виробники товарів, відрізняються між соб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2T12:41:55Z</dcterms:created>
  <dc:creator>Dvyhun</dc:creator>
  <dc:description/>
  <dc:language>en-US</dc:language>
  <cp:lastModifiedBy>Olya</cp:lastModifiedBy>
  <dcterms:modified xsi:type="dcterms:W3CDTF">2019-02-13T08:43:48Z</dcterms:modified>
  <cp:revision>34</cp:revision>
  <dc:subject/>
  <dc:title>Тема 3. Позиціонування бренду</dc:title>
</cp:coreProperties>
</file>