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3778-BB2E-4312-981A-A7627796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BA9-4AC3-44D0-BF9A-0CB15672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B75-1FC4-4C2E-8554-B067F841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B3D-00F9-49AE-AB60-557A032A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682A-35A3-4C6E-9B4F-145395D9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8F0-1227-40B8-A241-9A94F0E5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BA91-D76E-481A-8347-EB3D8E28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2FD-AB2C-46F1-B5F9-A0C40DF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9842-5FCA-4B77-A3CB-DB5B2B7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7514-9AEC-426D-81FF-66638B27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C3FA-B965-48D1-AE4D-FE67CF98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832-781D-48CD-8C67-8932B7F0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D062-E78B-49C9-AA72-AE18F0EA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E2C-503E-4CEE-A5E9-83BFEC5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748F-B6F0-4113-866E-D5D9E5F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B5FA-B8C7-4E99-B084-E282C805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DA0-F38F-4D3C-8299-C2ECD65A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9436A-7A40-4669-95C0-9F3F4CD3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7169-9D7E-495A-A302-EAB060B5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2600-777D-4818-A127-0EE8DEA6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89A8D-CD90-4E88-A735-BB322EC7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3134-7C8A-4C7B-BB10-287DAA82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138-9128-4734-98C9-2C9D94A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9074-0137-40D9-BB70-1C86B3D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A0FC-7ECA-4D19-9920-605F9FF1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D2B3-1FAD-4220-B8DA-C3B1EE2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05460-ED84-4518-8419-9EA4127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FDDA-D633-41AF-9C11-4C1F6518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F0A9-A838-4650-ADF9-6D27FA72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FA6E-A687-4F58-B390-29BB4602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8D62A-C1D0-46CA-A5A0-7656B95F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7F21-D0BD-43B9-BA3B-939994E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45C6-51EA-4001-A072-A2B67784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D73-3E0C-42F3-A16C-5D417ABC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09283-7695-44E7-B626-09510EA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3CB9D-2747-465C-B1CF-3E3A4C70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DDC26-E4C3-4DF1-B784-35DD87D9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AD3F-26D5-4B51-9F67-9D3BD71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AB74-D2F8-46C8-B5E9-1D251910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050A-5D46-4CBA-BB86-08DDEFB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FB3BE-93D1-4D30-ADE6-BE6EF127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7360A-12A4-4A93-9D8C-5F525314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565E-144D-4262-9241-F5F3428F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357-3B5F-4995-9479-EBA3F6B9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648-226E-4776-AB46-6422AAC8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F0E-EB7D-4D30-8479-3DBBE3C2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095-C4C8-41BF-854B-31A600B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2C7-03CD-4C0D-859F-3BF6156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04E-98D3-48A5-B98E-456E8E1290E2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670E-54A1-49D8-B3C0-27953A7BE9D8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672-E7EA-4B45-B72D-8CCEF6C915FA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E0D-2BC9-42FB-B9D0-0E370E4417F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42920" y="1989000"/>
            <a:ext cx="7129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утність бренд-менеджмент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ртфель брендів. Архітектура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тратегії розвитку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384120"/>
            <a:ext cx="727236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868320" y="70632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ці для характеристики портфеля брендів найчастіше застосовують варіанти архітектури марок (брендів), запропоновані видатним американським експертом Девідом Аакером, такі як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 брендів) 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удинок-бренд, або брендований будинок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м рішенням в рамках стратегії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є випуск всієї продукції підприємства під одним корпоративним брендом, 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паки, використовує групу автономних брендів (мультибрендінг), які існують незалежно й орієнтовані на збільшення ринкової частки та максимізацію прибутк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00000" y="731880"/>
            <a:ext cx="73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ереваг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ded House</a:t>
            </a: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ять: перенесення знання і сприйняття бренду на нові товари, фокус маркетингових бюджетів на одному бренді, концентрація зусиль компаній в одному напрямку. Недоліки: загроза розмивання іміджу і сприйняття бренду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агами моделі </a:t>
            </a:r>
            <a:r>
              <a:rPr b="1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 of Brands</a:t>
            </a:r>
            <a:r>
              <a:rPr b="0" i="1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: індивідуалізація кожного бренду і концентрація іміджу, відсутність залежності брендів один від одного (зниження ризику кризових ситуацій), можливість максимального використання потенціалу ринку шляхом охоплення великої кількості споживчих сегментів. Недоліки або загрози: збільшення маркетингового бюджету прямо пропорційно збільшенню кількості брендів, велика ймовірність перетинання цільових сегментів і, як наслідок, канібалізму брендів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нібалізм» бренд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й бренд переманює споживачів старого бренду того ж підприємства, а не конкуруючих (перерозподіл споживачів). Це призводить до ослаблення позицій одного з бренді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920" y="731520"/>
            <a:ext cx="7561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ратегії розвитку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виток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це збільшення сукупного марочного капіталу за допомогою охоплення більш широких груп споживачів, експансії в нові продукти і поширення впливу на нові ринки і/або категорії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рендингу прийнято виділяти дві основні стратегії розвитку бренд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te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тягнення бренду, якщо при появі нового товару під тим же ім’ям залишаються незмінними товарна категорія, призначення, цільова аудиторія, ідентичність бренду, а змінюється лише вигода для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15640" y="1267920"/>
            <a:ext cx="717228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ими видами розтягування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кількість товару (розфасовка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більшої кількості за колишню ціну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вар в новій упаковці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ий смак, склад, технологія виготовленн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і вигоди і переваги для тих же споживач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920" y="731520"/>
            <a:ext cx="7490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and expansi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розширення бренду, коли марка поширюється на новий сегмент споживачів або суміжну товарну категорію і ідентичність бренду при цьому залишається незмінн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ширення бренду включає в себе наступні різновид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пуск товарів, що доповнюють базову марку (наприклад, зубні щітки на додаток до зубної паст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а цільова аудиторія споживачів (наприклад, крем Nivea для чоловіків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е призначення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несення іміджу бренду на суміжну товарну категорі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Объект 3" descr=""/>
          <p:cNvPicPr/>
          <p:nvPr/>
        </p:nvPicPr>
        <p:blipFill>
          <a:blip r:embed="rId2"/>
          <a:stretch/>
        </p:blipFill>
        <p:spPr>
          <a:xfrm>
            <a:off x="1182600" y="731880"/>
            <a:ext cx="7139160" cy="4297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18728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3 Стратегічний розвиток портфеля бренді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84000" y="731880"/>
            <a:ext cx="7848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тягування і розширення бренду мають ряд переваг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що бренд має сильні позиції, у нього створені відносини довіри і лояльності, то ці якості бренду споживач переносить на нові товари під колишньою маркою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ування ряду товарів під однією маркою дозволяє заощадити кошти, використовуючи загальні канали дистрибуції і просування товару (реклама в ЗМІ, виставки і спеціальні заходи, BTL-реклама, заходи щодо стимулювання збуту і т.п.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ведення нового товару під старою маркою займає істотно менше часу і зберігає кошти на його розробк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 недоліків або обмежень застосування даної стратегії відносять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змивання бренду в свідомості споживачів, спочатку сфокусованого на одній товарній категорії, одному призначенні, одній пропозиції покупцям, одній вигоді і конкретних перевагах по відношенню до конкурентних брендів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рачена репутація, повага і підірвана довіра до одного виду товару автоматично пошириться на все марочне сімей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11280" y="731880"/>
            <a:ext cx="7921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ови застосування стратегії розвитку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Розширення бренду не повинно змінювати його ідентичність, інакше споживачі можуть не впізнати марку в той момент, коли треба робити вибір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е можна розширювати бренд на більш низькі цінові ніші. Споживачі сприймають це як «демарш батьківського бренду в напрямку погіршення якості»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Master-brand (марка, яка занадто міцно асоціюється з будь-якою товарною категорією) не може бути розширена на інші категорії: споживачі просто не сприймають подібні розширенн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Розширення життєздатне лише в тому випадку, якщо воно посилює марку або, як мінімум, не шкодить ї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Якщо на ринку занадто високий рівень конкуренції, то виграє дуже чітко сфокусований новий бренд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ішення про розширення бренду має прийматися, коли він уже зайняв гідну частку ринку і придбав лояльних покупців. Мінімальний показник популярності марки серед цільової аудиторії, за оцінками експертів, має становити не менше 50%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912000" cy="7506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15640" y="1341360"/>
            <a:ext cx="720108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управління, управлінська діяльність, предметом якої в умовах маркетингової орієнтації виступає бренд підприємства, який складається з бренду товару та іміджу підприємства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-менеджмент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іяльність з управління брендами відповідно до поставлених цілей (зокрема, збільшення довгострокового споживчого капіталу бренду, вартості бренду, захисту позицій інших брендів тощо)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2"/>
          <a:stretch/>
        </p:blipFill>
        <p:spPr>
          <a:xfrm>
            <a:off x="1116000" y="414360"/>
            <a:ext cx="727236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900000" y="1052640"/>
          <a:ext cx="7632720" cy="4962240"/>
        </p:xfrm>
        <a:graphic>
          <a:graphicData uri="http://schemas.openxmlformats.org/drawingml/2006/table">
            <a:tbl>
              <a:tblPr/>
              <a:tblGrid>
                <a:gridCol w="1843200"/>
                <a:gridCol w="2846520"/>
                <a:gridCol w="2943000"/>
              </a:tblGrid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ична концепц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ція бренд-лід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тактичного бренд-менеджменту до стратегіч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чна і реагую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а та про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коротк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сть за довгострокові прог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 мод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італ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гострокові фінансові показ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 обмеженого фокусу до широкого фокусу використання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продукт і р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а кількість продуктів і ринк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одному бренд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кусування на великій кількості бренд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ічні границ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краї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ьна персп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а роль бренд-менедж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тор з обмеженими можливост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команди із великою кількістю комунікативних можлив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нікативний фо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ій (споживач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зовнішній (споживачі) так і внутрішній (організаці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 – від продажу до ідентичності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ча страте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ажі і частка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дентичність бре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999"/>
          <p:cNvPicPr/>
          <p:nvPr/>
        </p:nvPicPr>
        <p:blipFill>
          <a:blip r:embed="rId2"/>
          <a:stretch/>
        </p:blipFill>
        <p:spPr>
          <a:xfrm>
            <a:off x="1619280" y="404640"/>
            <a:ext cx="5905440" cy="56883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3"/>
          <p:cNvSpPr/>
          <p:nvPr/>
        </p:nvSpPr>
        <p:spPr>
          <a:xfrm>
            <a:off x="1763640" y="6093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1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дель бренд-менеджменту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454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826920" y="1793880"/>
          <a:ext cx="7705800" cy="4083120"/>
        </p:xfrm>
        <a:graphic>
          <a:graphicData uri="http://schemas.openxmlformats.org/drawingml/2006/table">
            <a:tbl>
              <a:tblPr/>
              <a:tblGrid>
                <a:gridCol w="2135520"/>
                <a:gridCol w="5570280"/>
              </a:tblGrid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значення поняття «портфель бренді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Аа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бренди або суббренди, приєднані до ринково-орієнтованих пропозицій продукту, враховуючи спільні бренди з іншими фірм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-Н. Капфер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інації міжнародних та локальних, слабких та сильних, нових та зрілих брендів; відповідь на особливі цілі домінування у товарній категорії, створення бар’єрів на шляху проникнення конкурентів у мережу розподілення, привертання уваги та формування лояльності споживач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становища всіх «виробництв», котрі входять до складу фірми (під «виробництвом» можна розуміти товарний асортимент, бренди, відділ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анек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брендів та суббрендів, які належать одній організац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. Зозуль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купність усіх торгових марок та марочних ліній, котрі пропонує підприємство в рамках певної товарної категор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"/>
          <p:cNvSpPr/>
          <p:nvPr/>
        </p:nvSpPr>
        <p:spPr>
          <a:xfrm>
            <a:off x="971640" y="11282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із літературних джерел щодо визначення поняття «портфель брендів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3"/>
          <p:cNvSpPr/>
          <p:nvPr/>
        </p:nvSpPr>
        <p:spPr>
          <a:xfrm>
            <a:off x="826920" y="765000"/>
            <a:ext cx="763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ель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поєднання брендів або суббрендів у портфелі підприємства, які структуровані за певною ознакою, орієнтовані на різні цільові групи і цінові сегменти та здатні адаптуватися під ринкову ситуацію з метою забезпечення конкурентної стійкості на ринку, привернення уваги та формування позитивного імідж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система організації та управління торговими марками компанії, з якими вона вийшла на ринок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ітектура брендів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а і системи відношень між брендами в рамках портфеля однієї компанії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1042920" y="981000"/>
            <a:ext cx="756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архітектури брендів складається з чотирьох основних етапів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середині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ролі кожного бренду в контексті «продукт-ринок»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ортфеля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чне і вербальне втілення архітектури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3"/>
          <p:cNvSpPr/>
          <p:nvPr/>
        </p:nvSpPr>
        <p:spPr>
          <a:xfrm>
            <a:off x="826920" y="692280"/>
            <a:ext cx="763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на ліквідацію» (divestment candidate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 зі слабким позиціонуванням на непривабливому ринку або розходиться зі стратегічним напрямком розвитку фірми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ійна корова» (milker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бренд, що володіє, незважаючи на «втому», досить реальною силою. В зв’язку з тим, що на підтримку такого бренду витрачатися мінімум коштів, він може стати стабільним джерелом фінансування інших бренді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тегічний бренд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очний товар, важливий для вирішення майбутніх завдань організації. По-перше, якщо він здатний забезпечити вагомий обсяг майбутніх продажів і прибутків. Ймовірно, це вже зараз потужний домінуючий бренд, для якого плануються утримання і розширення позицій; або це другорядний бренд, який слід вивести на роль головного. По-друге, коли це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енд-опора» (lincpin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датний стати елементом, на якому тримається вся структура бізнесу або ґрунтується майбутній напрямок розвитку фір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042920" y="965160"/>
          <a:ext cx="7404120" cy="4489560"/>
        </p:xfrm>
        <a:graphic>
          <a:graphicData uri="http://schemas.openxmlformats.org/drawingml/2006/table">
            <a:tbl>
              <a:tblPr/>
              <a:tblGrid>
                <a:gridCol w="2468520"/>
                <a:gridCol w="2467080"/>
                <a:gridCol w="2468520"/>
              </a:tblGrid>
              <a:tr h="119700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низь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чна віддача вис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ий (високий потенціал майбутнього прибутк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опора (lincp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чний бре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трокова або низька перспектива зрост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дидат на ліквідацію (divestment candidat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нд-дійна корова (mil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"/>
          <p:cNvSpPr/>
          <p:nvPr/>
        </p:nvSpPr>
        <p:spPr>
          <a:xfrm>
            <a:off x="922320" y="544608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4.2 Ролі провідних брендів в портфелі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15:45:23Z</dcterms:created>
  <dc:creator>Dvyhun</dc:creator>
  <dc:description/>
  <dc:language>en-US</dc:language>
  <cp:lastModifiedBy>Olya</cp:lastModifiedBy>
  <dcterms:modified xsi:type="dcterms:W3CDTF">2019-02-26T06:45:09Z</dcterms:modified>
  <cp:revision>10</cp:revision>
  <dc:subject/>
  <dc:title>Тема 4. Бренд-менеджмент</dc:title>
</cp:coreProperties>
</file>