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C3A4-AF8E-4865-AB43-9CD1C89F1A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3AB-6F74-407D-9D0D-5E15E32425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4CF-3F9D-4949-BE04-6DD81AAC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840-BBAE-4089-968E-D5E7C96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736-0934-44A9-9D89-44A0B4AE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E02E-C3B4-4839-9C95-48E6489F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EBDB-CE8F-4EA8-8F64-0B924CD8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CE4E-5DE1-4666-8E8E-92CE644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10B3-7708-4139-9832-459A76D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176D-BD4B-4A05-ABC6-40AE0FA2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4A3A-2655-48BB-A768-1A28CB60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F75E-DF47-4ED8-811C-00932597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D36B-C51A-4DB6-8A73-07234FD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DF2-4BAC-4C2A-83F3-F1784A64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4657-1E25-4885-B494-70DFA1A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F129-E0BE-403B-9E80-EA6FBE8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5270-CAFD-4851-830F-D77B7733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FEF9-329E-4E4D-BFE2-68BF65AF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0388-D763-46A6-B54B-4EA17AB6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3B78-D8D3-4BAC-A39D-DD25BCA4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610F-13F3-4C15-9593-F820C20F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443F-9872-4F34-B4CD-FC425EC4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FDDB-EFC1-45B0-8CCF-6D36229E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79D8-CCB1-4F58-95EB-4159BB5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8EB-5393-4263-8859-F496FBB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0BCB-A04C-4FD2-98B8-D60A6120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F067-D1BD-4F78-A2D5-08BDD533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59F47-2279-45CF-B78C-BBFE43DB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35E9-3DDE-4DF5-A5CD-5745F5E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10BCE-7780-43FC-9A4F-1CD695C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B986-83B3-4A06-9B73-6693C8F0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06C1-5833-48AC-9FD5-CCC5078B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6B69-A718-4803-ADCA-E1C55D87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EC09-7324-406F-A1A3-F6E56E7F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3FEC-9074-44DD-9BA3-22717731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E7E-2589-4967-A897-B96154B7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0077-2550-4004-B3DE-EA78542C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A1732-75C7-4265-8B32-67C5ED09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A8DE-B290-4E86-B1FF-DE366B6D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A1C1-20C0-4928-9DF2-56873FC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8418-2676-4961-B7BB-6DDC5C0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394E-989C-41AE-8B51-EA33B6FB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D77B-CA0B-4177-B437-11DA23CD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0977-6176-4FFF-89DA-541994E1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6142-D743-4588-853D-1CC0847E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BE59-0AFE-4232-BA9D-8AAC8DB7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B06-CD4F-42DE-A2FB-19084C57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7D7F-65A3-40A6-9F90-156F052E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6D5C-F920-4829-810D-9B949C18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E14FF-5EA6-4BC0-B406-E80A2D1D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AEE09-4A18-458C-90B0-9D2A0085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55C42-FC7E-48E2-A9E9-D103340F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139C-78BC-4D47-92D3-1041BE4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0013E-31D2-49E3-85F4-20F6EC96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0D57-04DA-4778-B6D0-1DBA524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B5A73-2B1C-48D2-BD52-A846C41C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7082-9C80-458A-8A72-6919D433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952-34FA-4BB4-A798-0A04271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7880-2655-4E2C-9E1F-3163E1B0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AE5-DB89-4D4E-812F-62BA9120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4B2-685C-4C52-8EC3-4C58003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5C9-0C91-4F31-A8ED-A4E1770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FCF1-380A-4506-9C84-0E25934A64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91A-F7BB-4C8B-9103-E4660F1FF8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1E9D-F5AA-42FA-B001-4907349DFC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9A50-CE6B-4346-A221-F7FE9CDA4C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0FD-E782-47F2-ACA4-999B37308D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іння організаційною поведінкою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ібернетич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292720" y="981000"/>
            <a:ext cx="3095640" cy="2016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. Бір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С. Янг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. Форрестер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468360" y="2565360"/>
            <a:ext cx="8064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ід час побудови математичної моделі структури організації слід враховувати численні зворотні зв'язк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Інституціональ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. Нор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395280" y="314172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Форми і типи поведінки організації зумовлені звичаями, традиціями, нормам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244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онфлікт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Р. Холл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468360" y="2565360"/>
            <a:ext cx="8280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рганізація має безліч суперечливих цілей і діє в умовах суперечливих інтересів різних членів організації або їх груп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рганіч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Т. Берне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Д. Сталкер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468360" y="2852640"/>
            <a:ext cx="820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успільство є живим організмом, усі частини якого залежні одна від одної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цесуаль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О.О. Богданов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395280" y="2565360"/>
            <a:ext cx="8064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Суспільство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це безперервний процес поєднань асоціацій і роз'єднань дисоціацій. Суспільство не мас стійкої структур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роблем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Прямоугольник 3"/>
          <p:cNvSpPr/>
          <p:nvPr/>
        </p:nvSpPr>
        <p:spPr>
          <a:xfrm>
            <a:off x="5580000" y="981000"/>
            <a:ext cx="2879640" cy="172728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В І. Франчук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Прямоугольник 5"/>
          <p:cNvSpPr/>
          <p:nvPr/>
        </p:nvSpPr>
        <p:spPr>
          <a:xfrm>
            <a:off x="468360" y="2637000"/>
            <a:ext cx="8136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блеми організації слід розглядати не як перешкоди для її розвитку, а як вираження природних потреб і можливостей їх задоволення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574560" y="549360"/>
            <a:ext cx="856944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До основних моделей організації традиційно відносять 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1) класичну або механістичну та її різновид – бюрократичн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) неокласичну або органічн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3) інституційн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4) системну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3"/>
          <p:cNvSpPr/>
          <p:nvPr/>
        </p:nvSpPr>
        <p:spPr>
          <a:xfrm>
            <a:off x="250920" y="1197000"/>
            <a:ext cx="8642160" cy="563976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ю класичної моделі є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явлення про те, що організація – лише результат дій керівників, які її повністю конструюють і володіють нею; її серцевина – процес праці. Організація розглядається як безособовий механізм, адміністративна піраміда з різними рівнями управління, пронизаними формальними зв'язкам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Головне в цій моделі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єдність командування і чіткий розподіл обов'язків. Основні засоби – планування, координація, контроль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мперед, організація – це інструмент для вирішення завдань, а його "гвинтик" ~ людина – нікого не цікавить як особистість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Прямоугольник 4"/>
          <p:cNvSpPr/>
          <p:nvPr/>
        </p:nvSpPr>
        <p:spPr>
          <a:xfrm>
            <a:off x="1304280" y="33336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ласична модел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Бюрократична модель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468360" y="83664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ними рисами моделі ідеальної бюрократичної організації, запропонованої М. Вебером, с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озподіл праці на основі функціональної спеціалізації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ітка ієрархія влад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стема правил, що визначають права і обов'язки кожного члена організації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стема процедур, що визначають порядок дії в усіх ситуаціях, які виникають у процесі функціонування організації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ідбір і висунення працівників відповідно до їх кваліфікації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539640" y="260280"/>
            <a:ext cx="8064720" cy="691956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оделі традиційного, раціоналістичного напряму (класична, бюрократична)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розглядають організацію як чисто формальну структуру, в якій внутрішнє життя відбувається за суворо визначеною системою правил, розпоряджень і рекомендацій, обов'язкових для всіх членів організації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стема має примусовий характер, а структурні елементи повинні працювати, як добре відремонтований, позбавлений індивідуальності, механізм. Особа є ізольованою від інших і повинна бути пристосована до потреб організації за допомогою формальних економічних важелів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4"/>
          <p:cNvSpPr/>
          <p:nvPr/>
        </p:nvSpPr>
        <p:spPr>
          <a:xfrm>
            <a:off x="755640" y="1989000"/>
            <a:ext cx="770400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авданням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теорії організації є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розробка принципів, правил, рекомендацій, процедур управлінської діяльності в кожен конкретний момент часу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Calibri"/>
              </a:rPr>
              <a:t>Неокласична (органічна) модел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539640" y="1413000"/>
            <a:ext cx="8209080" cy="521460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Іншим напрямом теорії організації слід вважати поведінковий напрям. Моделі цього напряму будуються з урахуванням можливостей людини, яка розглядається не тільки як оператор, що виконує деяку роботу, але і як особа, що володіє певними соціальними інтересам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 лише адміністративна влада, але і взаємна довіра служать об'єднуючою силою організації. Керівник – це, швидше, посередник для забезпечення взаємозв'язків всередині групи, а не представник вищої влади. Необхідним є підвищення відповідальності членів організації, а не встановлення зовнішнього контролю за результатами їх робо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Інституційна модел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324000" y="907920"/>
            <a:ext cx="8351640" cy="594612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ідповідно до інституційної моделі нормальне функціонування організації обумовлюється не лише раціональністю структури, соціально-психологічними запитами її членів як індивідів, але і врахуванням запитів соціальних груп, що діють як всередині, так і за межами організації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им із принципів реалізації інституційної моделі є участь працівників в управлінні організацією, зокрема "партисипативне управління", що грунтується на залученні членів організації до ухвалення управлінських рішень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Іншим принципом є створення керівником відповідного клімату для зростання або психологічної підтримки працівників під час роботи, що стимулює їх брати на себе відповідальність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стемна модел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Прямоугольник 3"/>
          <p:cNvSpPr/>
          <p:nvPr/>
        </p:nvSpPr>
        <p:spPr>
          <a:xfrm>
            <a:off x="324000" y="119700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стемна модель прагне представити організацію як систему, що складається із взаємопов'язаних частин і змінних, і вважає будь- яку організацію соціальною системою, що входить до складу ширшої системи суспільств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стемна модель організації грунтується на концепціях відкритих систем з урахуванням вивчення відносин організації та зовнішнього середовища і соціальних систем, тобто включає також інструментальні (технічні, економічні, організаційні), й поведінкові змінні. Системна модель має міждисциплінарний характер і залучає до дослідження і створення організацій такі галузі знань як кібернетика, економічна наука, математичне моделювання, соціологія, психологія та ін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3860280"/>
            <a:ext cx="7772400" cy="1157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34817"/>
                </a:solidFill>
                <a:latin typeface="Calibri"/>
              </a:rPr>
              <a:t>Еволюція теорій організації</a:t>
            </a:r>
            <a:br>
              <a:rPr sz="5400"/>
            </a:b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ласична організаційна теорія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611280" y="836640"/>
            <a:ext cx="813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ни об'єктивних умов функціонування організацій, що були характерні дл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, внесли багато нового в розвиток поглядів, наукових концепцій та управлінської практики. Зростання великих організацій, відокремлення управління від володіння, розвиток точних і гуманітарних наук стали основою для розробки наукових підходів до організації, принципів і методів управління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а теорія організації сформована ідеями та концепціями багатьох учених і практиків, погляди яких можна поділити на три основні течії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е управління; власне теорія організації; бюрократична теорія 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395280" y="260280"/>
          <a:ext cx="8209080" cy="6166080"/>
        </p:xfrm>
        <a:graphic>
          <a:graphicData uri="http://schemas.openxmlformats.org/drawingml/2006/table">
            <a:tbl>
              <a:tblPr/>
              <a:tblGrid>
                <a:gridCol w="2448000"/>
                <a:gridCol w="5761080"/>
              </a:tblGrid>
              <a:tr h="6166080">
                <a:tc>
                  <a:txBody>
                    <a:bodyPr lIns="44640" rIns="44640" tIns="44640" bIns="44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кове управління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 Тейлор, Ф. Ґілберт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4640" marR="4464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640" rIns="44640" tIns="44640" bIns="4464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цю виконавців можна та потрібно вивчати за допомогою наукових методів. Об'єктивний аналіз фактів і даних, зібраних на робочому місці, служить основою визначення способу організації роботи, що й становить обов'язок керівни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4640" marR="4464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3"/>
          <p:cNvSpPr/>
          <p:nvPr/>
        </p:nvSpPr>
        <p:spPr>
          <a:xfrm>
            <a:off x="539640" y="404640"/>
            <a:ext cx="820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ія Ф. Тейлора включає чотири положення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ість прийняття вольових рішень, – науково обґрунтовувати кожний елемент робот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помогою певних критеріїв відбирати робочу силу з метою подальшої перепідготовки, навчання та професійного розвитк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існо співпрацювати з персоналом, оскільки саме цс забезпечить виконання роботи відповідно до розроблених принципів наук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зпечувати обґрунтування поділу праці й відповідної субординації між керівниками та працівникам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24000" y="333360"/>
          <a:ext cx="8496000" cy="6120000"/>
        </p:xfrm>
        <a:graphic>
          <a:graphicData uri="http://schemas.openxmlformats.org/drawingml/2006/table">
            <a:tbl>
              <a:tblPr/>
              <a:tblGrid>
                <a:gridCol w="2087280"/>
                <a:gridCol w="6408720"/>
              </a:tblGrid>
              <a:tr h="61200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ія орлан нації (К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Файоль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7520" marR="4752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a9a9a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lvl="1" marL="457200" indent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ідно аналізувати процес формування і будову організації в цілому й чітко формулювати принципи її функціонування. Мистецтво управління є вибором відповідних принципів, які можна застосувати в конкретній ситуації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47520" marR="4752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a9a9a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503280" y="476280"/>
            <a:ext cx="864072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Організаційні принципи А. Файоля такі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структурні принципи: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поділ праці; єдність мети й управління; співвідношення централізації і децентралізації; влада і відповідальність; примат мети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 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ринципи процесу: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справедливість; дисципліна; винагорода персоналу; єдність команди; підпорядкування головному інтерес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 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ринципи кінцевого результату: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порядок; стабільність; ініціатив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324000" y="260280"/>
          <a:ext cx="8569080" cy="6264360"/>
        </p:xfrm>
        <a:graphic>
          <a:graphicData uri="http://schemas.openxmlformats.org/drawingml/2006/table">
            <a:tbl>
              <a:tblPr/>
              <a:tblGrid>
                <a:gridCol w="2305080"/>
                <a:gridCol w="6264000"/>
              </a:tblGrid>
              <a:tr h="6264360">
                <a:tc>
                  <a:txBody>
                    <a:bodyPr lIns="25200" rIns="25200" tIns="25200" bIns="25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Бюрократична теор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М. Вебе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25200" marR="252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5200" rIns="25200" tIns="25200" bIns="25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уть позиції М. Вебера щодо прийняття стратегії розвитку бюрократичної організації ідеального типу полягала в такому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. Усі завдання, необхідні для досягнення цілей, слід поділяти на високоспеціалізовані види робіт. Виконавці мають стати експертами у своїй роботі й нести відповідальність за ефективне виконання своїх обов'язкі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. Кожне завдання треба виконувати відповідно до постійної системи абстрактних правил із метою гарантування однорідності та координованості різних завдан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25200" marR="252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17120" cy="229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Times New Roman"/>
                <a:ea typeface="Times New Roman"/>
              </a:rPr>
              <a:t>Моделі організацій, що становлять основу відповідних теоретичних концепці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324000" y="487440"/>
            <a:ext cx="849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Кожен працівник або персонал організації в цілому повинен відповідати перед керівником за свої дії або дії своїх підлеглих, утворюючи ланцюжок команд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Кожна офіційна особа в організації має вести справи свого офісу безособно й формально. Вона повніша підгримувати соціальну дистанцію між собою і підлеглими, а також клієнтами. Основна мета – гарантія невтручання окремих осіб у продуктивне виконання завдань офісу, відсутність фаворитизму, службових відносин, побудованих на дружбі або знайомстві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5. Найм на роботу в бюрократичну організацію має ґрунтуватися на технічній кваліфікації працівника й передбачати захист від безпідставного звільнення. Просування по службі повинне залежати від трудового стажу та особистих досягнень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еорія організаційної поведінки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Прямоугольник 5"/>
          <p:cNvSpPr/>
          <p:nvPr/>
        </p:nvSpPr>
        <p:spPr>
          <a:xfrm>
            <a:off x="684360" y="112536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ауреат Нобелівської премії Герберт Саймон (1916-2001) вивчав процеси впливу встановлених цілей на раціональну поведінку в організаціях. На думку Г. Саймона, організації можуть спростити процес прийняття рішень шляхом обмеження цілей, на які спрямована їх діяльність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ілі впливають на поведінку лише тоді, коли вони становлять частину рішення стосовно обрання моделі поведінки. В основі цілей лежать ціннісні передумови рішень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іннісні передумови – це припущення про те, які цілі є домінуючі й найбільш бажані.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Чітко встановлені цілі дозволяють однозначно розрізняти прийнятні та неприйнятні варіанти рішень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еорія інститутів та інституціональних змін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684360" y="1628640"/>
            <a:ext cx="81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прикінці 1980-х – на початку 1990-х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p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мериканський учений Дуглас Норі (1920 р.н.) опублікував серію праць, що безпосередньо стосувалися обгрунтування ролі й принципів функціонування організацій. Згідно з підходом Д. Норта, ринок є складним і неоднозначним явищем. Ринок – це певна структура, що охоплює так звані інститути: закони, правила, кодекси поведінки, формальні та неформальні відносини і зв'язк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Інституціональний розвиток економіки відбувається під впливом взаємодії між інститутами та організаціями, коли перші визначають правила гри, а інші виступають гравцями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3"/>
          <p:cNvSpPr/>
          <p:nvPr/>
        </p:nvSpPr>
        <p:spPr>
          <a:xfrm>
            <a:off x="755640" y="765000"/>
            <a:ext cx="7848720" cy="594324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ові інститути, за Д. Нортом, з'являються,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коли суспільство бачить можливість отримання доходу, який не може бути отриманий в умовах існуючої інституціональної системи.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обто якщо виробничі чинники створюють можливість збільшення доходу, а інституціональні перешкоджають цьому, то ймовірність виникнення нових інститутів зростає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пуляційно-екологічна теорія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611280" y="1413000"/>
            <a:ext cx="8208720" cy="448092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ічники популяційно-екологічної теорії стверджують, що зовнішнє середовище зумовлює ті ознаки організації, які найбільше підходять для неї, тобто організація розвивається так, щоб якнайкраще відповідати зовнішньому середовищу Саме тому популяційно-еволюційну теорію ще називають теорією еволюції або природного добору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Тектологія О. О. Богданов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395280" y="836640"/>
            <a:ext cx="8424720" cy="606636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нови науки про універсальні типи й закономірності структурного перетворення будь-яких систем – теорії організації – заклав Олександр Олександрович Богданов (справжнє прізвище Маліновський) (1873-1928), якого можна вважати основоположником сучасної теорії систем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 1911-1925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p.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. Богданов опублікував свою працю під назвою "Загальна організаційна наука тектологія", у якій зазначив, що рівень організації тим вищий, чим більше властивості цілого відрізняються від звичайної суми властивостей його складових частин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оосфера Вернадського В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I.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Прямоугольник 3"/>
          <p:cNvSpPr/>
          <p:nvPr/>
        </p:nvSpPr>
        <p:spPr>
          <a:xfrm>
            <a:off x="395280" y="85572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міст учення Вернадського Володимира Івановича (1863-1945) полягає в тому, що поява на Землі людини започаткувала якісно новий етап в еволюції планети. Активність людини багаторазово прискорює всі еволюційні процеси, темпи яких швидко зростають з розвитком продуктивних сил, зростанням технічної озброєності цивілізації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дальший неконтрольований, некерований розвиток людської діяльності приховує у собі небезпеки, які нам важко передбачити. Саме тому незабаром повинен наступити час, коли подальшу еволюцію планети, а отже, і людського суспільства, повинен буде спрямовувати Розум. Біосфера поступово перетворюватиметься на сферу Розуму – так звану "ноосферу" ("noos" в перекладі з грецької – розум, дух), в якій людина стане основною геологічною силою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4"/>
          <p:cNvSpPr/>
          <p:nvPr/>
        </p:nvSpPr>
        <p:spPr>
          <a:xfrm>
            <a:off x="1908000" y="278136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34817"/>
                </a:solidFill>
                <a:latin typeface="Cambria"/>
              </a:rPr>
              <a:t>Дякую за увагу! </a:t>
            </a: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24000" y="260280"/>
            <a:ext cx="8424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"/>
              </a:rPr>
              <a:t>Моделювання </a:t>
            </a: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е наукова теорія побудови і реалізації моделей, за допомогою яких досліджуються явища і процеси в природі і суспільному житті. Досліджуючи будь-яке явище (процес, об'єкт), ми подумки створюємо у свідомості їх моделі. Ось чому за своєю сутністю кожна наукова робота – це, переважно, моделювання: створення моделей в лабораторних умовах, створення графічних моделей у вигляді схем і креслень, побудова математичних моделей тощо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Модель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повинна відображати найбільш істотні, найбільш характерні риси, основні властивості, умови реального життя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еханістична модел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5148360" y="1413000"/>
            <a:ext cx="3095640" cy="20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Ф. Тейлор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. Файоль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М. Вебер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324000" y="2852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гарантує передбачуваність поведінки найманих працівників і забезпечує високий рівень урахування результатів їх діяльності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96464"/>
                </a:solidFill>
                <a:uFillTx/>
                <a:latin typeface="Calibri"/>
              </a:rPr>
              <a:t>Модель природної організації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5148360" y="1413000"/>
            <a:ext cx="3095640" cy="201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Т. Парсонс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Р Мертон,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. Етціоні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324000" y="2565360"/>
            <a:ext cx="84247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ункціональні організації слід розглядати як об'єктивний процес, здатний самостійно вдосконалюватися, у якому присутнє суб'єктивне начало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Мета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лише одна з основ функціонування організації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рганізація-товариство</a:t>
            </a:r>
            <a:br>
              <a:rPr sz="36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5651640" y="981000"/>
            <a:ext cx="2736720" cy="165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Е. Мсйо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324000" y="292428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Головний регулятор функціонування – прийняті в організації норми поведінк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оціотехнічн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5292720" y="981000"/>
            <a:ext cx="3095640" cy="201636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А. Райє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Е. Тріс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539640" y="2421000"/>
            <a:ext cx="78487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рганізація ґрунтується на залежності зв'язків усередині групи від технології виробництва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Інтеракціоністсь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5292720" y="981000"/>
            <a:ext cx="2735280" cy="1656000"/>
          </a:xfrm>
          <a:prstGeom prst="rect">
            <a:avLst/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Ч. Бернард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324000" y="2997360"/>
            <a:ext cx="83516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тність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Організація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це система тривалих взаємовідносин між її членами, які вносять до неї власні очікування та цінності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6:02:01Z</dcterms:created>
  <dc:creator>ASUS</dc:creator>
  <dc:description/>
  <dc:language>en-US</dc:language>
  <cp:lastModifiedBy>Karim</cp:lastModifiedBy>
  <dcterms:modified xsi:type="dcterms:W3CDTF">2021-01-21T21:40:38Z</dcterms:modified>
  <cp:revision>18</cp:revision>
  <dc:subject/>
  <dc:title>Основні теорії та моделі організації</dc:title>
</cp:coreProperties>
</file>