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move the slide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912A6-2354-42E7-A56F-DA23DA00563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CF012-CBBF-4823-8440-13FE06AA08F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FE1E-DD91-4A67-916C-39FDA356F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C1A9-326A-4153-B71E-421BD598D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B88C-4414-4BF9-A7EB-46A999BBA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7E83-A740-43DA-9EED-AC349F803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40B47-664B-4C33-BAF2-2F002F7F0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9EE99-37D9-4D62-8053-EA896430E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FFE7B-910F-4493-90DE-C913B4F73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B678F-2962-48DF-861E-AC47EEBB7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A71DF-328B-406D-B4F1-850EBAD19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84FC6-4ABD-4658-B718-1AF9CC395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4F769-02F6-46D9-95A8-4B2ED4142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D2F6-7058-43C4-9FE7-B5046F2B4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613C3-79EB-4D39-9557-5B99E6C0F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A87C3-91FF-4556-9F27-A8DACBDDD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E2FC4-3149-4D9A-AEEA-5F2E9758D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10D34-C5CE-4828-96DB-92D79636F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BE15A-67CA-499F-9384-922FE3B47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F73F4B-9BF9-47C9-BFA2-4ED8FD878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23B6D5-302B-42D2-9016-B28ED9FA4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5674D4-F432-41CB-A529-E762C24BF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B93849-E24B-49C6-A224-2744AA888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BC4F01-9157-44F6-A791-74D7CD6C0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DF02-2909-4093-90E0-25C144A77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5F5A7C-5328-4E76-AB0D-E08E4BA68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A5E6C3-8364-4DB9-9AC3-B95CB00AE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AB3524-F961-457B-B9BC-220FDD0A9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BE2AA1-F285-4DBC-A0CD-AAAA6C89B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7CFAB1-A4D1-40B7-8169-2C40F19C9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CC2D9F-E0EB-4769-AD92-4BDE33C59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D2EE3A-4189-4616-AA1A-B9AA7C8FF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9F979B-025D-4E27-B561-AFBBEA050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E81D54-94C6-4A0E-ACCA-80C75414E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EB92E2-FED8-4F71-B920-7C7D75599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CA87-8A30-45DF-B564-AA79F3060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1CDC50-1745-45FA-96BD-11908AE1E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A26986-241B-4F70-B6B1-AB4593CEA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119FBF-CE09-4190-817A-E392092EC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A4CD92-D2A9-4E0A-828F-A4EAB9DB4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054B66-94A6-4F43-B4A2-A8BF4915E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5B2B83-0895-4EEA-A4DA-7146A659D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FD29E3-8CBB-4D5A-B9D9-FD6D7EB52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2AF274-E0E5-431D-8D12-78F9B4A01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B203D2-3D8C-4EB5-A184-8B93569C2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720A47-9B5D-4F67-8EA6-F85FB4745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DFF3-49C2-4E7B-8577-9AAD886A3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47B540-D2AF-412A-BEE0-BF494788F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BF214D-3EF8-4C61-A61A-D3AB92147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20FB68-E0BC-401A-95DF-48E9F87E9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C2F74E-4D36-4F2D-96C0-28B67F4E3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DC4168-EB3C-4C59-BD37-CBB0B0FA8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C88A27-9727-4E9B-8D1B-1F0991213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1E3968-9BDB-48A6-97AE-194154F7A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801441-6A10-46F9-AA15-1853190B3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8D1252-80F5-485E-80FD-299E53590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91FE5B-90C2-4616-A14B-AB2C535F9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8085-8024-43AA-80F2-026C16CF4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B01365-9AAF-40D2-AB9C-1E13D739A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579B-C6F3-4C6D-8269-60DE5C803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5213-6B8A-448B-87D8-EC580B4A4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9A17-BBE6-4E0C-BC78-85353257D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44F67-221E-4B75-A013-75FA0AB833A7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" name="Скругленный прямоугольник 12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" name="Прямоугольник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" name="Прямоугольник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1D0EA-D3BA-4476-B79F-75A70F84F741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grpSp>
        <p:nvGrpSpPr>
          <p:cNvPr id="90" name="Скругленный прямоугольник 9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91" name="Скругленный прямоугольник 9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</p:grpSp>
      <p:sp>
        <p:nvSpPr>
          <p:cNvPr id="93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4" name="Прямоугольник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5" name="Прямоугольник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50A27-ACE1-47A6-8555-D897054F44FA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0" name="Скругленный прямоугольник 8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E7218-681B-4BE1-90DF-40A42157871C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3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4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5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6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AFE8B-A8C9-458C-A2C7-392429839564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правління організаційною поведінкою</a:t>
            </a:r>
            <a:endParaRPr b="0" lang="en-US" sz="44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9414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Calibri"/>
              </a:rPr>
              <a:t>Кібернетична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5" name="Прямоугольник 3"/>
          <p:cNvSpPr/>
          <p:nvPr/>
        </p:nvSpPr>
        <p:spPr>
          <a:xfrm>
            <a:off x="5292720" y="981000"/>
            <a:ext cx="3095640" cy="2016360"/>
          </a:xfrm>
          <a:prstGeom prst="rect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mbria"/>
              </a:rPr>
              <a:t>С. Бір, 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mbria"/>
              </a:rPr>
              <a:t>С. Янг, 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mbria"/>
              </a:rPr>
              <a:t>Д. Форрестер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6" name="Прямоугольник 4"/>
          <p:cNvSpPr/>
          <p:nvPr/>
        </p:nvSpPr>
        <p:spPr>
          <a:xfrm>
            <a:off x="468360" y="2565360"/>
            <a:ext cx="8064360" cy="30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утність: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Під час побудови математичної моделі структури організації слід враховувати численні зворотні зв'язки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8701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Calibri"/>
              </a:rPr>
              <a:t>Інституціональна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8" name="Прямоугольник 3"/>
          <p:cNvSpPr/>
          <p:nvPr/>
        </p:nvSpPr>
        <p:spPr>
          <a:xfrm>
            <a:off x="5580000" y="981000"/>
            <a:ext cx="2879640" cy="1727280"/>
          </a:xfrm>
          <a:prstGeom prst="rect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mbria"/>
              </a:rPr>
              <a:t>Д. Норт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9" name="Прямоугольник 5"/>
          <p:cNvSpPr/>
          <p:nvPr/>
        </p:nvSpPr>
        <p:spPr>
          <a:xfrm>
            <a:off x="395280" y="3141720"/>
            <a:ext cx="828036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утність: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Форми і типи поведінки організації зумовлені звичаями, традиціями, нормами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4000" y="333360"/>
            <a:ext cx="8002440" cy="8683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Calibri"/>
              </a:rPr>
              <a:t>Конфліктна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61" name="Прямоугольник 3"/>
          <p:cNvSpPr/>
          <p:nvPr/>
        </p:nvSpPr>
        <p:spPr>
          <a:xfrm>
            <a:off x="5580000" y="981000"/>
            <a:ext cx="2879640" cy="1727280"/>
          </a:xfrm>
          <a:prstGeom prst="rect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mbria"/>
              </a:rPr>
              <a:t>Р. Холл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2" name="Прямоугольник 4"/>
          <p:cNvSpPr/>
          <p:nvPr/>
        </p:nvSpPr>
        <p:spPr>
          <a:xfrm>
            <a:off x="468360" y="2565360"/>
            <a:ext cx="828036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утність: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Організація має безліч суперечливих цілей і діє в умовах суперечливих інтересів різних членів організації або їх груп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9414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Calibri"/>
              </a:rPr>
              <a:t>Органічна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64" name="Прямоугольник 3"/>
          <p:cNvSpPr/>
          <p:nvPr/>
        </p:nvSpPr>
        <p:spPr>
          <a:xfrm>
            <a:off x="5580000" y="981000"/>
            <a:ext cx="2879640" cy="1727280"/>
          </a:xfrm>
          <a:prstGeom prst="rect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mbria"/>
              </a:rPr>
              <a:t>Т. Берне, 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mbria"/>
              </a:rPr>
              <a:t>Д. Сталкер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5" name="Прямоугольник 4"/>
          <p:cNvSpPr/>
          <p:nvPr/>
        </p:nvSpPr>
        <p:spPr>
          <a:xfrm>
            <a:off x="468360" y="2852640"/>
            <a:ext cx="820728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утність: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Суспільство є живим організмом, усі частини якого залежні одна від одної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pull dir="l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Calibri"/>
              </a:rPr>
              <a:t>Процесуальна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67" name="Прямоугольник 3"/>
          <p:cNvSpPr/>
          <p:nvPr/>
        </p:nvSpPr>
        <p:spPr>
          <a:xfrm>
            <a:off x="5580000" y="981000"/>
            <a:ext cx="2879640" cy="1727280"/>
          </a:xfrm>
          <a:prstGeom prst="rect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mbria"/>
              </a:rPr>
              <a:t>О.О. Богданов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8" name="Прямоугольник 4"/>
          <p:cNvSpPr/>
          <p:nvPr/>
        </p:nvSpPr>
        <p:spPr>
          <a:xfrm>
            <a:off x="395280" y="2565360"/>
            <a:ext cx="806436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утність: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mbria"/>
              </a:rPr>
              <a:t>Суспільство</a:t>
            </a: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 – це безперервний процес поєднань асоціацій і роз'єднань дисоціацій. Суспільство не мас стійкої структури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7772400" cy="9399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Calibri"/>
              </a:rPr>
              <a:t>Проблемна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70" name="Прямоугольник 3"/>
          <p:cNvSpPr/>
          <p:nvPr/>
        </p:nvSpPr>
        <p:spPr>
          <a:xfrm>
            <a:off x="5580000" y="981000"/>
            <a:ext cx="2879640" cy="1727280"/>
          </a:xfrm>
          <a:prstGeom prst="rect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mbria"/>
              </a:rPr>
              <a:t>В І. Франчук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1" name="Прямоугольник 5"/>
          <p:cNvSpPr/>
          <p:nvPr/>
        </p:nvSpPr>
        <p:spPr>
          <a:xfrm>
            <a:off x="468360" y="2637000"/>
            <a:ext cx="8136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утність: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Проблеми організації слід розглядати не як перешкоди для її розвитку, а як вираження природних потреб і можливостей їх задоволення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Прямоугольник 3"/>
          <p:cNvSpPr/>
          <p:nvPr/>
        </p:nvSpPr>
        <p:spPr>
          <a:xfrm>
            <a:off x="574560" y="549360"/>
            <a:ext cx="8569440" cy="38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mbria"/>
              </a:rPr>
              <a:t>До основних моделей організації традиційно відносять :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1) класичну або механістичну та її різновид – бюрократичну;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2) неокласичну або органічну;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3) інституційну;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4) системну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split dir="in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Прямоугольник 3"/>
          <p:cNvSpPr/>
          <p:nvPr/>
        </p:nvSpPr>
        <p:spPr>
          <a:xfrm>
            <a:off x="250920" y="1197000"/>
            <a:ext cx="8642160" cy="5639760"/>
          </a:xfrm>
          <a:prstGeom prst="rect">
            <a:avLst/>
          </a:prstGeom>
          <a:solidFill>
            <a:srgbClr val="ebdf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ою класичної моделі є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явлення про те, що організація – лише результат дій керівників, які її повністю конструюють і володіють нею; її серцевина – процес праці. Організація розглядається як безособовий механізм, адміністративна піраміда з різними рівнями управління, пронизаними формальними зв'язками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34817"/>
                </a:solidFill>
                <a:latin typeface="Times New Roman"/>
                <a:ea typeface="Times New Roman"/>
              </a:rPr>
              <a:t>Головне в цій моделі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єдність командування і чіткий розподіл обов'язків. Основні засоби – планування, координація, контроль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амперед, організація – це інструмент для вирішення завдань, а його "гвинтик" ~ людина – нікого не цікавить як особистість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4" name="Прямоугольник 4"/>
          <p:cNvSpPr/>
          <p:nvPr/>
        </p:nvSpPr>
        <p:spPr>
          <a:xfrm>
            <a:off x="1304280" y="333360"/>
            <a:ext cx="406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mbria"/>
              </a:rPr>
              <a:t>Класична модель 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wheel spokes="8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b2d1f"/>
                </a:solidFill>
                <a:latin typeface="Calibri"/>
              </a:rPr>
              <a:t>Бюрократична модель</a:t>
            </a:r>
            <a:br>
              <a:rPr sz="3600"/>
            </a:b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76" name="Прямоугольник 3"/>
          <p:cNvSpPr/>
          <p:nvPr/>
        </p:nvSpPr>
        <p:spPr>
          <a:xfrm>
            <a:off x="468360" y="836640"/>
            <a:ext cx="828036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Основними рисами моделі ідеальної бюрократичної організації, запропонованої М. Вебером, с: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• 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розподіл праці на основі функціональної спеціалізації;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• 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чітка ієрархія влади;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• 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система правил, що визначають права і обов'язки кожного члена організації;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• 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система процедур, що визначають порядок дії в усіх ситуаціях, які виникають у процесі функціонування організації;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• 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відбір і висунення працівників відповідно до їх кваліфікації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Прямоугольник 3"/>
          <p:cNvSpPr/>
          <p:nvPr/>
        </p:nvSpPr>
        <p:spPr>
          <a:xfrm>
            <a:off x="539640" y="260280"/>
            <a:ext cx="8064720" cy="6919560"/>
          </a:xfrm>
          <a:prstGeom prst="rect">
            <a:avLst/>
          </a:prstGeom>
          <a:solidFill>
            <a:srgbClr val="ebdf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Моделі традиційного, раціоналістичного напряму (класична, бюрократична) </a:t>
            </a:r>
            <a:r>
              <a:rPr b="1" i="1" lang="ru-RU" sz="2800" spc="-1" strike="noStrike">
                <a:solidFill>
                  <a:srgbClr val="000000"/>
                </a:solidFill>
                <a:latin typeface="Cambria"/>
              </a:rPr>
              <a:t>розглядають організацію як чисто формальну структуру, в якій внутрішнє життя відбувається за суворо визначеною системою правил, розпоряджень і рекомендацій, обов'язкових для всіх членів організації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Система має примусовий характер, а структурні елементи повинні працювати, як добре відремонтований, позбавлений індивідуальності, механізм. Особа є ізольованою від інших і повинна бути пристосована до потреб організації за допомогою формальних економічних важелів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split dir="in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Прямоугольник 4"/>
          <p:cNvSpPr/>
          <p:nvPr/>
        </p:nvSpPr>
        <p:spPr>
          <a:xfrm>
            <a:off x="755640" y="1989000"/>
            <a:ext cx="7704000" cy="34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Cambria"/>
              </a:rPr>
              <a:t>Завданням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 теорії організації є </a:t>
            </a:r>
            <a:r>
              <a:rPr b="0" i="1" lang="ru-RU" sz="2800" spc="-1" strike="noStrike">
                <a:solidFill>
                  <a:srgbClr val="000000"/>
                </a:solidFill>
                <a:latin typeface="Cambria"/>
              </a:rPr>
              <a:t>розробка принципів, правил, рекомендацій, процедур управлінської діяльності в кожен конкретний момент часу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pull dir="l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b2d1f"/>
                </a:solidFill>
                <a:latin typeface="Calibri"/>
              </a:rPr>
              <a:t>Неокласична (органічна) модель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79" name="Прямоугольник 3"/>
          <p:cNvSpPr/>
          <p:nvPr/>
        </p:nvSpPr>
        <p:spPr>
          <a:xfrm>
            <a:off x="539640" y="1413000"/>
            <a:ext cx="8209080" cy="5214600"/>
          </a:xfrm>
          <a:prstGeom prst="rect">
            <a:avLst/>
          </a:prstGeom>
          <a:solidFill>
            <a:srgbClr val="ebdf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Іншим напрямом теорії організації слід вважати поведінковий напрям. Моделі цього напряму будуються з урахуванням можливостей людини, яка розглядається не тільки як оператор, що виконує деяку роботу, але і як особа, що володіє певними соціальними інтересами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Не лише адміністративна влада, але і взаємна довіра служать об'єднуючою силою організації. Керівник – це, швидше, посередник для забезпечення взаємозв'язків всередині групи, а не представник вищої влади. Необхідним є підвищення відповідальності членів організації, а не встановлення зовнішнього контролю за результатами їх роботи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wheel spokes="3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Інституційна модель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81" name="Прямоугольник 3"/>
          <p:cNvSpPr/>
          <p:nvPr/>
        </p:nvSpPr>
        <p:spPr>
          <a:xfrm>
            <a:off x="324000" y="907920"/>
            <a:ext cx="8351640" cy="5946120"/>
          </a:xfrm>
          <a:prstGeom prst="rect">
            <a:avLst/>
          </a:prstGeom>
          <a:solidFill>
            <a:srgbClr val="ebdf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Відповідно до інституційної моделі нормальне функціонування організації обумовлюється не лише раціональністю структури, соціально-психологічними запитами її членів як індивідів, але і врахуванням запитів соціальних груп, що діють як всередині, так і за межами організації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Одним із принципів реалізації інституційної моделі є участь працівників в управлінні організацією, зокрема "партисипативне управління", що грунтується на залученні членів організації до ухвалення управлінських рішень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Іншим принципом є створення керівником відповідного клімату для зростання або психологічної підтримки працівників під час роботи, що стимулює їх брати на себе відповідальність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Системна модель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83" name="Прямоугольник 3"/>
          <p:cNvSpPr/>
          <p:nvPr/>
        </p:nvSpPr>
        <p:spPr>
          <a:xfrm>
            <a:off x="324000" y="1197000"/>
            <a:ext cx="83516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Системна модель прагне представити організацію як систему, що складається із взаємопов'язаних частин і змінних, і вважає будь- яку організацію соціальною системою, що входить до складу ширшої системи суспільства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Системна модель організації грунтується на концепціях відкритих систем з урахуванням вивчення відносин організації та зовнішнього середовища і соціальних систем, тобто включає також інструментальні (технічні, економічні, організаційні), й поведінкові змінні. Системна модель має міждисциплінарний характер і залучає до дослідження і створення організацій такі галузі знань як кібернетика, економічна наука, математичне моделювання, соціологія, психологія та ін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wheel spokes="1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042920" y="3860280"/>
            <a:ext cx="7772400" cy="11574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d34817"/>
                </a:solidFill>
                <a:latin typeface="Calibri"/>
              </a:rPr>
              <a:t>Еволюція теорій організації</a:t>
            </a:r>
            <a:br>
              <a:rPr sz="5400"/>
            </a:br>
            <a:endParaRPr b="0" lang="en-US" sz="66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p:transition>
    <p:pull dir="l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Класична організаційна теорія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86" name="Прямоугольник 3"/>
          <p:cNvSpPr/>
          <p:nvPr/>
        </p:nvSpPr>
        <p:spPr>
          <a:xfrm>
            <a:off x="611280" y="836640"/>
            <a:ext cx="813744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міни об'єктивних умов функціонування організацій, що були характерні для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X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, внесли багато нового в розвиток поглядів, наукових концепцій та управлінської практики. Зростання великих організацій, відокремлення управління від володіння, розвиток точних і гуманітарних наук стали основою для розробки наукових підходів до організації, принципів і методів управління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ична теорія організації сформована ідеями та концепціями багатьох учених і практиків, погляди яких можна поділити на три основні течії: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кове управління; власне теорія організації; бюрократична теорія 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split dir="out" orient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7" name=""/>
          <p:cNvGraphicFramePr/>
          <p:nvPr/>
        </p:nvGraphicFramePr>
        <p:xfrm>
          <a:off x="395280" y="260280"/>
          <a:ext cx="8209080" cy="6166080"/>
        </p:xfrm>
        <a:graphic>
          <a:graphicData uri="http://schemas.openxmlformats.org/drawingml/2006/table">
            <a:tbl>
              <a:tblPr/>
              <a:tblGrid>
                <a:gridCol w="2448000"/>
                <a:gridCol w="5761080"/>
              </a:tblGrid>
              <a:tr h="6166080">
                <a:tc>
                  <a:txBody>
                    <a:bodyPr lIns="44640" rIns="44640" tIns="44640" bIns="44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укове управління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Ф. Тейлор, Ф. Ґілберт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 marL="44640" marR="44640">
                    <a:lnL w="4320">
                      <a:solidFill>
                        <a:srgbClr val="cccccc"/>
                      </a:solidFill>
                    </a:lnL>
                    <a:lnR w="4320">
                      <a:solidFill>
                        <a:srgbClr val="cccccc"/>
                      </a:solidFill>
                    </a:lnR>
                    <a:lnT w="4320">
                      <a:solidFill>
                        <a:srgbClr val="cccccc"/>
                      </a:solidFill>
                    </a:lnT>
                    <a:lnB w="4320">
                      <a:solidFill>
                        <a:srgbClr val="cccccc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4640" rIns="44640" tIns="44640" bIns="44640" anchor="ctr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цю виконавців можна та потрібно вивчати за допомогою наукових методів. Об'єктивний аналіз фактів і даних, зібраних на робочому місці, служить основою визначення способу організації роботи, що й становить обов'язок керівника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 marL="44640" marR="44640">
                    <a:lnL w="4320">
                      <a:solidFill>
                        <a:srgbClr val="cccccc"/>
                      </a:solidFill>
                    </a:lnL>
                    <a:lnR w="4320">
                      <a:solidFill>
                        <a:srgbClr val="cccccc"/>
                      </a:solidFill>
                    </a:lnR>
                    <a:lnT w="4320">
                      <a:solidFill>
                        <a:srgbClr val="cccccc"/>
                      </a:solidFill>
                    </a:lnT>
                    <a:lnB w="4320">
                      <a:solidFill>
                        <a:srgbClr val="cccccc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Прямоугольник 3"/>
          <p:cNvSpPr/>
          <p:nvPr/>
        </p:nvSpPr>
        <p:spPr>
          <a:xfrm>
            <a:off x="539640" y="404640"/>
            <a:ext cx="82090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цепція Ф. Тейлора включає чотири положення: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мість прийняття вольових рішень, – науково обґрунтовувати кожний елемент роботи;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допомогою певних критеріїв відбирати робочу силу з метою подальшої перепідготовки, навчання та професійного розвитку;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існо співпрацювати з персоналом, оскільки саме цс забезпечить виконання роботи відповідно до розроблених принципів науки;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безпечувати обґрунтування поділу праці й відповідної субординації між керівниками та працівниками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9" name=""/>
          <p:cNvGraphicFramePr/>
          <p:nvPr/>
        </p:nvGraphicFramePr>
        <p:xfrm>
          <a:off x="324000" y="333360"/>
          <a:ext cx="8496000" cy="6120000"/>
        </p:xfrm>
        <a:graphic>
          <a:graphicData uri="http://schemas.openxmlformats.org/drawingml/2006/table">
            <a:tbl>
              <a:tblPr/>
              <a:tblGrid>
                <a:gridCol w="2087280"/>
                <a:gridCol w="6408720"/>
              </a:tblGrid>
              <a:tr h="6120000"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орія орлан нації (К.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Файоль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 marL="47520" marR="47520">
                    <a:lnL w="4320">
                      <a:solidFill>
                        <a:srgbClr val="cccccc"/>
                      </a:solidFill>
                    </a:lnL>
                    <a:lnR w="4320">
                      <a:solidFill>
                        <a:srgbClr val="cccccc"/>
                      </a:solidFill>
                    </a:lnR>
                    <a:lnT w="4320">
                      <a:solidFill>
                        <a:srgbClr val="cccccc"/>
                      </a:solidFill>
                    </a:lnT>
                    <a:lnB w="4320">
                      <a:solidFill>
                        <a:srgbClr val="cccccc"/>
                      </a:solidFill>
                    </a:lnB>
                    <a:solidFill>
                      <a:srgbClr val="a9a9a9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lvl="1" marL="457200" indent="4572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обхідно аналізувати процес формування і будову організації в цілому й чітко формулювати принципи її функціонування. Мистецтво управління є вибором відповідних принципів, які можна застосувати в конкретній ситуації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 marL="47520" marR="47520">
                    <a:lnL w="4320">
                      <a:solidFill>
                        <a:srgbClr val="cccccc"/>
                      </a:solidFill>
                    </a:lnL>
                    <a:lnR w="4320">
                      <a:solidFill>
                        <a:srgbClr val="cccccc"/>
                      </a:solidFill>
                    </a:lnR>
                    <a:lnT w="4320">
                      <a:solidFill>
                        <a:srgbClr val="cccccc"/>
                      </a:solidFill>
                    </a:lnT>
                    <a:lnB w="4320">
                      <a:solidFill>
                        <a:srgbClr val="cccccc"/>
                      </a:solidFill>
                    </a:lnB>
                    <a:solidFill>
                      <a:srgbClr val="a9a9a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Прямоугольник 3"/>
          <p:cNvSpPr/>
          <p:nvPr/>
        </p:nvSpPr>
        <p:spPr>
          <a:xfrm>
            <a:off x="503280" y="476280"/>
            <a:ext cx="8640720" cy="63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mbria"/>
              </a:rPr>
              <a:t>Організаційні принципи А. Файоля такі: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–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 </a:t>
            </a:r>
            <a:r>
              <a:rPr b="1" i="1" lang="ru-RU" sz="2800" spc="-1" strike="noStrike">
                <a:solidFill>
                  <a:srgbClr val="000000"/>
                </a:solidFill>
                <a:latin typeface="Cambria"/>
              </a:rPr>
              <a:t>структурні принципи: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 поділ праці; єдність мети й управління; співвідношення централізації і децентралізації; влада і відповідальність; примат мети;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– </a:t>
            </a:r>
            <a:r>
              <a:rPr b="1" i="1" lang="ru-RU" sz="2800" spc="-1" strike="noStrike">
                <a:solidFill>
                  <a:srgbClr val="000000"/>
                </a:solidFill>
                <a:latin typeface="Cambria"/>
              </a:rPr>
              <a:t>принципи процесу: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 справедливість; дисципліна; винагорода персоналу; єдність команди; підпорядкування головному інтересу;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– </a:t>
            </a:r>
            <a:r>
              <a:rPr b="1" i="1" lang="ru-RU" sz="2800" spc="-1" strike="noStrike">
                <a:solidFill>
                  <a:srgbClr val="000000"/>
                </a:solidFill>
                <a:latin typeface="Cambria"/>
              </a:rPr>
              <a:t>принципи кінцевого результату: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 порядок; стабільність; ініціатива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1" name=""/>
          <p:cNvGraphicFramePr/>
          <p:nvPr/>
        </p:nvGraphicFramePr>
        <p:xfrm>
          <a:off x="324000" y="260280"/>
          <a:ext cx="8569080" cy="6264360"/>
        </p:xfrm>
        <a:graphic>
          <a:graphicData uri="http://schemas.openxmlformats.org/drawingml/2006/table">
            <a:tbl>
              <a:tblPr/>
              <a:tblGrid>
                <a:gridCol w="2305080"/>
                <a:gridCol w="6264000"/>
              </a:tblGrid>
              <a:tr h="6264360">
                <a:tc>
                  <a:txBody>
                    <a:bodyPr lIns="25200" rIns="25200" tIns="25200" bIns="25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Бюрократична теорі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(М. Вебер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 marL="25200" marR="25200">
                    <a:lnL w="4320">
                      <a:solidFill>
                        <a:srgbClr val="cccccc"/>
                      </a:solidFill>
                    </a:lnL>
                    <a:lnR w="4320">
                      <a:solidFill>
                        <a:srgbClr val="cccccc"/>
                      </a:solidFill>
                    </a:lnR>
                    <a:lnT w="4320">
                      <a:solidFill>
                        <a:srgbClr val="cccccc"/>
                      </a:solidFill>
                    </a:lnT>
                    <a:lnB w="4320">
                      <a:solidFill>
                        <a:srgbClr val="cccccc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25200" rIns="25200" tIns="25200" bIns="25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Суть позиції М. Вебера щодо прийняття стратегії розвитку бюрократичної організації ідеального типу полягала в такому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1. Усі завдання, необхідні для досягнення цілей, слід поділяти на високоспеціалізовані види робіт. Виконавці мають стати експертами у своїй роботі й нести відповідальність за ефективне виконання своїх обов'язків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2. Кожне завдання треба виконувати відповідно до постійної системи абстрактних правил із метою гарантування однорідності та координованості різних завдань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 marL="25200" marR="25200">
                    <a:lnL w="4320">
                      <a:solidFill>
                        <a:srgbClr val="cccccc"/>
                      </a:solidFill>
                    </a:lnL>
                    <a:lnR w="4320">
                      <a:solidFill>
                        <a:srgbClr val="cccccc"/>
                      </a:solidFill>
                    </a:lnR>
                    <a:lnT w="4320">
                      <a:solidFill>
                        <a:srgbClr val="cccccc"/>
                      </a:solidFill>
                    </a:lnT>
                    <a:lnB w="4320">
                      <a:solidFill>
                        <a:srgbClr val="cccccc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</p:spTree>
  </p:cSld>
  <p:transition>
    <p:wheel spokes="1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9640" y="1125000"/>
            <a:ext cx="7917120" cy="22942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e3611"/>
                </a:solidFill>
                <a:latin typeface="Times New Roman"/>
                <a:ea typeface="Times New Roman"/>
              </a:rPr>
              <a:t>Моделі організацій, що становлять основу відповідних теоретичних концепцій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p:transition>
    <p:wedg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Прямоугольник 3"/>
          <p:cNvSpPr/>
          <p:nvPr/>
        </p:nvSpPr>
        <p:spPr>
          <a:xfrm>
            <a:off x="324000" y="487440"/>
            <a:ext cx="8496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3. Кожен працівник або персонал організації в цілому повинен відповідати перед керівником за свої дії або дії своїх підлеглих, утворюючи ланцюжок команд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4. Кожна офіційна особа в організації має вести справи свого офісу безособно й формально. Вона повніша підгримувати соціальну дистанцію між собою і підлеглими, а також клієнтами. Основна мета – гарантія невтручання окремих осіб у продуктивне виконання завдань офісу, відсутність фаворитизму, службових відносин, побудованих на дружбі або знайомстві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5. Найм на роботу в бюрократичну організацію має ґрунтуватися на технічній кваліфікації працівника й передбачати захист від безпідставного звільнення. Просування по службі повинне залежати від трудового стажу та особистих досягнень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Теорія організаційної поведінки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4" name="Прямоугольник 5"/>
          <p:cNvSpPr/>
          <p:nvPr/>
        </p:nvSpPr>
        <p:spPr>
          <a:xfrm>
            <a:off x="684360" y="1125360"/>
            <a:ext cx="8064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Лауреат Нобелівської премії Герберт Саймон (1916-2001) вивчав процеси впливу встановлених цілей на раціональну поведінку в організаціях. На думку Г. Саймона, організації можуть спростити процес прийняття рішень шляхом обмеження цілей, на які спрямована їх діяльність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Цілі впливають на поведінку лише тоді, коли вони становлять частину рішення стосовно обрання моделі поведінки. В основі цілей лежать ціннісні передумови рішень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Ціннісні передумови – це припущення про те, які цілі є домінуючі й найбільш бажані. </a:t>
            </a:r>
            <a:r>
              <a:rPr b="1" i="1" lang="ru-RU" sz="2400" spc="-1" strike="noStrike">
                <a:solidFill>
                  <a:srgbClr val="000000"/>
                </a:solidFill>
                <a:latin typeface="Cambria"/>
              </a:rPr>
              <a:t>Чітко встановлені цілі дозволяють однозначно розрізняти прийнятні та неприйнятні варіанти рішень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pull dir="l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Теорія інститутів та інституціональних змін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6" name="Прямоугольник 3"/>
          <p:cNvSpPr/>
          <p:nvPr/>
        </p:nvSpPr>
        <p:spPr>
          <a:xfrm>
            <a:off x="684360" y="1628640"/>
            <a:ext cx="81356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Наприкінці 1980-х – на початку 1990-х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pp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американський учений Дуглас Норі (1920 р.н.) опублікував серію праць, що безпосередньо стосувалися обгрунтування ролі й принципів функціонування організацій. Згідно з підходом Д. Норта, ринок є складним і неоднозначним явищем. Ринок – це певна структура, що охоплює так звані інститути: закони, правила, кодекси поведінки, формальні та неформальні відносини і зв'язки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Інституціональний розвиток економіки відбувається під впливом взаємодії між інститутами та організаціями, коли перші визначають правила гри, а інші виступають гравцями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pull dir="l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Прямоугольник 3"/>
          <p:cNvSpPr/>
          <p:nvPr/>
        </p:nvSpPr>
        <p:spPr>
          <a:xfrm>
            <a:off x="755640" y="765000"/>
            <a:ext cx="7848720" cy="5943240"/>
          </a:xfrm>
          <a:prstGeom prst="rect">
            <a:avLst/>
          </a:prstGeom>
          <a:solidFill>
            <a:srgbClr val="ebdf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Нові інститути, за Д. Нортом, з'являються, </a:t>
            </a:r>
            <a:r>
              <a:rPr b="1" i="1" lang="ru-RU" sz="3200" spc="-1" strike="noStrike">
                <a:solidFill>
                  <a:srgbClr val="000000"/>
                </a:solidFill>
                <a:latin typeface="Cambria"/>
              </a:rPr>
              <a:t>коли суспільство бачить можливість отримання доходу, який не може бути отриманий в умовах існуючої інституціональної системи. </a:t>
            </a: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Тобто якщо виробничі чинники створюють можливість збільшення доходу, а інституціональні перешкоджають цьому, то ймовірність виникнення нових інститутів зростає.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pull dir="r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Популяційно-екологічна теорія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9" name="Прямоугольник 3"/>
          <p:cNvSpPr/>
          <p:nvPr/>
        </p:nvSpPr>
        <p:spPr>
          <a:xfrm>
            <a:off x="611280" y="1413000"/>
            <a:ext cx="8208720" cy="4480920"/>
          </a:xfrm>
          <a:prstGeom prst="rect">
            <a:avLst/>
          </a:prstGeom>
          <a:solidFill>
            <a:srgbClr val="ebdf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бічники популяційно-екологічної теорії стверджують, що зовнішнє середовище зумовлює ті ознаки організації, які найбільше підходять для неї, тобто організація розвивається так, щоб якнайкраще відповідати зовнішньому середовищу Саме тому популяційно-еволюційну теорію ще називають теорією еволюції або природного добору.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Тектологія О. О. Богданова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01" name="Прямоугольник 3"/>
          <p:cNvSpPr/>
          <p:nvPr/>
        </p:nvSpPr>
        <p:spPr>
          <a:xfrm>
            <a:off x="395280" y="836640"/>
            <a:ext cx="8424720" cy="6066360"/>
          </a:xfrm>
          <a:prstGeom prst="rect">
            <a:avLst/>
          </a:prstGeom>
          <a:solidFill>
            <a:srgbClr val="ebdf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Основи науки про універсальні типи й закономірності структурного перетворення будь-яких систем – теорії організації – заклав Олександр Олександрович Богданов (справжнє прізвище Маліновський) (1873-1928), якого можна вважати основоположником сучасної теорії систем.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У 1911-1925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pp. 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О. Богданов опублікував свою працю під назвою "Загальна організаційна наука тектологія", у якій зазначив, що рівень організації тим вищий, чим більше властивості цілого відрізняються від звичайної суми властивостей його складових частин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dissolv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2692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Ноосфера Вернадського В.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Franklin Gothic Book"/>
              </a:rPr>
              <a:t>I.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03" name="Прямоугольник 3"/>
          <p:cNvSpPr/>
          <p:nvPr/>
        </p:nvSpPr>
        <p:spPr>
          <a:xfrm>
            <a:off x="395280" y="855720"/>
            <a:ext cx="835344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Зміст учення Вернадського Володимира Івановича (1863-1945) полягає в тому, що поява на Землі людини започаткувала якісно новий етап в еволюції планети. Активність людини багаторазово прискорює всі еволюційні процеси, темпи яких швидко зростають з розвитком продуктивних сил, зростанням технічної озброєності цивілізації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Подальший неконтрольований, некерований розвиток людської діяльності приховує у собі небезпеки, які нам важко передбачити. Саме тому незабаром повинен наступити час, коли подальшу еволюцію планети, а отже, і людського суспільства, повинен буде спрямовувати Розум. Біосфера поступово перетворюватиметься на сферу Розуму – так звану "ноосферу" ("noos" в перекладі з грецької – розум, дух), в якій людина стане основною геологічною силою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wheel spokes="2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Прямоугольник 4"/>
          <p:cNvSpPr/>
          <p:nvPr/>
        </p:nvSpPr>
        <p:spPr>
          <a:xfrm>
            <a:off x="1908000" y="2781360"/>
            <a:ext cx="604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d34817"/>
                </a:solidFill>
                <a:latin typeface="Cambria"/>
              </a:rPr>
              <a:t>Дякую за увагу! </a:t>
            </a:r>
            <a:endParaRPr b="0" lang="en-US" sz="5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Прямоугольник 3"/>
          <p:cNvSpPr/>
          <p:nvPr/>
        </p:nvSpPr>
        <p:spPr>
          <a:xfrm>
            <a:off x="324000" y="260280"/>
            <a:ext cx="8424720" cy="618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mbria"/>
              </a:rPr>
              <a:t>Моделювання </a:t>
            </a:r>
            <a:r>
              <a:rPr b="1" i="1" lang="ru-RU" sz="3200" spc="-1" strike="noStrike">
                <a:solidFill>
                  <a:srgbClr val="000000"/>
                </a:solidFill>
                <a:latin typeface="Cambria"/>
              </a:rPr>
              <a:t>–</a:t>
            </a: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 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це наукова теорія побудови і реалізації моделей, за допомогою яких досліджуються явища і процеси в природі і суспільному житті. Досліджуючи будь-яке явище (процес, об'єкт), ми подумки створюємо у свідомості їх моделі. Ось чому за своєю сутністю кожна наукова робота – це, переважно, моделювання: створення моделей в лабораторних умовах, створення графічних моделей у вигляді схем і креслень, побудова математичних моделей тощо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mbria"/>
              </a:rPr>
              <a:t>Модель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 повинна відображати найбільш істотні, найбільш характерні риси, основні властивості, умови реального життя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pull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Calibri"/>
              </a:rPr>
              <a:t>Механістична модель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0" name="Прямоугольник 3"/>
          <p:cNvSpPr/>
          <p:nvPr/>
        </p:nvSpPr>
        <p:spPr>
          <a:xfrm>
            <a:off x="5148360" y="1413000"/>
            <a:ext cx="3095640" cy="2016000"/>
          </a:xfrm>
          <a:prstGeom prst="rect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mbria"/>
              </a:rPr>
              <a:t>Ф. Тейлор, 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mbria"/>
              </a:rPr>
              <a:t>А. Файоль,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mbria"/>
              </a:rPr>
              <a:t>М. Вебер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1" name="Прямоугольник 4"/>
          <p:cNvSpPr/>
          <p:nvPr/>
        </p:nvSpPr>
        <p:spPr>
          <a:xfrm>
            <a:off x="324000" y="2852640"/>
            <a:ext cx="8424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утність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ізація гарантує передбачуваність поведінки найманих працівників і забезпечує високий рівень урахування результатів їх діяльності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7772400" cy="8096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696464"/>
                </a:solidFill>
                <a:uFillTx/>
                <a:latin typeface="Calibri"/>
              </a:rPr>
              <a:t>Модель природної організації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3" name="Прямоугольник 3"/>
          <p:cNvSpPr/>
          <p:nvPr/>
        </p:nvSpPr>
        <p:spPr>
          <a:xfrm>
            <a:off x="5148360" y="1413000"/>
            <a:ext cx="3095640" cy="2016000"/>
          </a:xfrm>
          <a:prstGeom prst="rect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mbria"/>
              </a:rPr>
              <a:t>Т. Парсонс,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Cambria"/>
              </a:rPr>
              <a:t>Р Мертон,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Cambria"/>
              </a:rPr>
              <a:t>А. Етціоні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4" name="Прямоугольник 4"/>
          <p:cNvSpPr/>
          <p:nvPr/>
        </p:nvSpPr>
        <p:spPr>
          <a:xfrm>
            <a:off x="324000" y="2565360"/>
            <a:ext cx="8424720" cy="40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утність: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Функціональні організації слід розглядати як об'єктивний процес, здатний самостійно вдосконалюватися, у якому присутнє суб'єктивне начало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ambria"/>
              </a:rPr>
              <a:t>Мета 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– </a:t>
            </a:r>
            <a:r>
              <a:rPr b="0" i="1" lang="ru-RU" sz="2800" spc="-1" strike="noStrike">
                <a:solidFill>
                  <a:srgbClr val="000000"/>
                </a:solidFill>
                <a:latin typeface="Cambria"/>
              </a:rPr>
              <a:t>лише одна з основ функціонування організації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Calibri"/>
              </a:rPr>
              <a:t>Організація-товариство</a:t>
            </a:r>
            <a:br>
              <a:rPr sz="3600"/>
            </a:b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6" name="Прямоугольник 3"/>
          <p:cNvSpPr/>
          <p:nvPr/>
        </p:nvSpPr>
        <p:spPr>
          <a:xfrm>
            <a:off x="5651640" y="981000"/>
            <a:ext cx="2736720" cy="1656000"/>
          </a:xfrm>
          <a:prstGeom prst="rect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mbria"/>
              </a:rPr>
              <a:t>Е. Мсйо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7" name="Прямоугольник 4"/>
          <p:cNvSpPr/>
          <p:nvPr/>
        </p:nvSpPr>
        <p:spPr>
          <a:xfrm>
            <a:off x="324000" y="2924280"/>
            <a:ext cx="8208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утність: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Головний регулятор функціонування – прийняті в організації норми поведінки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Calibri"/>
              </a:rPr>
              <a:t>Соціотехнічна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9" name="Прямоугольник 3"/>
          <p:cNvSpPr/>
          <p:nvPr/>
        </p:nvSpPr>
        <p:spPr>
          <a:xfrm>
            <a:off x="5292720" y="981000"/>
            <a:ext cx="3095640" cy="2016360"/>
          </a:xfrm>
          <a:prstGeom prst="rect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mbria"/>
              </a:rPr>
              <a:t>А. Райє, 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mbria"/>
              </a:rPr>
              <a:t>Е. Тріст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0" name="Прямоугольник 4"/>
          <p:cNvSpPr/>
          <p:nvPr/>
        </p:nvSpPr>
        <p:spPr>
          <a:xfrm>
            <a:off x="539640" y="2421000"/>
            <a:ext cx="7848720" cy="30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утність: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Організація ґрунтується на залежності зв'язків усередині групи від технології виробництва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7772400" cy="7970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Calibri"/>
              </a:rPr>
              <a:t>Інтеракціоністська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2" name="Прямоугольник 3"/>
          <p:cNvSpPr/>
          <p:nvPr/>
        </p:nvSpPr>
        <p:spPr>
          <a:xfrm>
            <a:off x="5292720" y="981000"/>
            <a:ext cx="2735280" cy="1656000"/>
          </a:xfrm>
          <a:prstGeom prst="rect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mbria"/>
              </a:rPr>
              <a:t>Ч. Бернард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3" name="Прямоугольник 4"/>
          <p:cNvSpPr/>
          <p:nvPr/>
        </p:nvSpPr>
        <p:spPr>
          <a:xfrm>
            <a:off x="324000" y="2997360"/>
            <a:ext cx="8351640" cy="30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утність: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mbria"/>
              </a:rPr>
              <a:t>Організація</a:t>
            </a: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 – це система тривалих взаємовідносин між її членами, які вносять до неї власні очікування та цінності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pull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17T16:02:01Z</dcterms:created>
  <dc:creator>ASUS</dc:creator>
  <dc:description/>
  <dc:language>en-US</dc:language>
  <cp:lastModifiedBy>Karim</cp:lastModifiedBy>
  <dcterms:modified xsi:type="dcterms:W3CDTF">2021-01-21T21:40:38Z</dcterms:modified>
  <cp:revision>18</cp:revision>
  <dc:subject/>
  <dc:title>Основні теорії та моделі організації</dc:title>
</cp:coreProperties>
</file>