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24185-7E6C-486F-BD6C-AE60F96A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07CBC-762D-499E-853B-A4E34D94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FD70D-1539-4387-9F61-D4B54BE6B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5B103-26A9-4CF1-8A54-C202CCBC0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DC805-360D-4594-8F55-DC09B1251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D588-4D8D-47AD-8BC5-C7F4AD852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0FEFB-2A4B-4F1D-93ED-9BA6A810E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1EEBA-BD3E-4D5C-88B7-96B3CA02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29DE8-33D3-43B1-AA8B-787D1EB8C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60A6-5484-4D1A-84D3-9CEDCA2B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528C1-2229-48C7-935D-87EA018C1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5C218-91BE-4317-A67F-83CB57404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7649-6183-46FB-885E-090E412756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987480"/>
            <a:ext cx="9144000" cy="122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екція №:12</a:t>
            </a:r>
            <a:br>
              <a:rPr sz="2800"/>
            </a:br>
            <a:r>
              <a:rPr b="1" lang="ru-RU" sz="2800" spc="-1" strike="noStrike">
                <a:solidFill>
                  <a:srgbClr val="000000"/>
                </a:solidFill>
                <a:latin typeface="Times New Roman"/>
                <a:ea typeface="Times New Roman"/>
              </a:rPr>
              <a:t>Тема: </a:t>
            </a:r>
            <a:r>
              <a:rPr b="1" lang="uk-UA" sz="2800" spc="-1" strike="noStrike">
                <a:solidFill>
                  <a:srgbClr val="000000"/>
                </a:solidFill>
                <a:latin typeface="Times New Roman"/>
                <a:ea typeface="Calibri"/>
              </a:rPr>
              <a:t>Поведінковий аспект прийняття управлінських рішень</a:t>
            </a:r>
            <a:br>
              <a:rPr sz="4300"/>
            </a:b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283680" y="1528920"/>
            <a:ext cx="11539800" cy="5045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лан</a:t>
            </a:r>
            <a:endParaRPr b="0" lang="en-US" sz="3200" spc="-1" strike="noStrike">
              <a:solidFill>
                <a:srgbClr val="000000"/>
              </a:solidFill>
              <a:latin typeface="Calibri"/>
            </a:endParaRPr>
          </a:p>
          <a:p>
            <a:pPr indent="0">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1. </a:t>
            </a:r>
            <a:r>
              <a:rPr b="0" lang="uk-UA" sz="2800" spc="-1" strike="noStrike">
                <a:solidFill>
                  <a:srgbClr val="000000"/>
                </a:solidFill>
                <a:latin typeface="Times New Roman"/>
                <a:ea typeface="Calibri"/>
              </a:rPr>
              <a:t>Сутність прийняття управлінських рішень</a:t>
            </a:r>
            <a:endParaRPr b="0" lang="en-US" sz="2800" spc="-1" strike="noStrike">
              <a:solidFill>
                <a:srgbClr val="000000"/>
              </a:solidFill>
              <a:latin typeface="Calibri"/>
            </a:endParaRPr>
          </a:p>
          <a:p>
            <a:pPr indent="0">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2. Умови прийняття управлінських рішень</a:t>
            </a:r>
            <a:endParaRPr b="0" lang="en-US" sz="2800" spc="-1" strike="noStrike">
              <a:solidFill>
                <a:srgbClr val="000000"/>
              </a:solidFill>
              <a:latin typeface="Calibri"/>
            </a:endParaRPr>
          </a:p>
          <a:p>
            <a:pPr indent="0">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3. </a:t>
            </a:r>
            <a:r>
              <a:rPr b="0" lang="en-US" sz="2800" spc="-1" strike="noStrike">
                <a:solidFill>
                  <a:srgbClr val="000000"/>
                </a:solidFill>
                <a:latin typeface="Times New Roman"/>
                <a:ea typeface="Calibri"/>
              </a:rPr>
              <a:t>Класифікація управлінських рішень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6960" y="189000"/>
            <a:ext cx="11714040" cy="640080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Вибір найкращої альтернативи — одне з основних завдань у процесі прийняття рішення. Взагалі про прийняття рішення можна говорити лише в тому випадку, якщо, по-перше, для досягнення мети наявні різні шляхи та засоби, і, по-друге, керівник може вибирати між ними.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Таким чином, альтернативи потрібно визначати з урахуванням конкретного місця (рівня управління) та часу (тривалості періоду реалізації рішення).</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До них належать:</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вивчення проблем, з яких слід прийняти рішення;</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оцінка критеріїв, у межах яких слід прийняти рішення; </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розроблення, уточнення і конкретизація альтернатив, вибір з-поміж них найкращої;</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прийняття (ствердження) рішення;</a:t>
            </a:r>
            <a:endParaRPr b="0" lang="en-US" sz="26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організація діяльності із запровадження наміченого в реальність.</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66200"/>
            <a:ext cx="10515600" cy="42876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2. Умови прийняття управлінських рішень</a:t>
            </a:r>
            <a:br>
              <a:rPr sz="3200"/>
            </a:br>
            <a:endParaRPr b="0" lang="en-US" sz="2800" spc="-1" strike="noStrike">
              <a:solidFill>
                <a:srgbClr val="000000"/>
              </a:solidFill>
              <a:latin typeface="Calibri Light"/>
            </a:endParaRPr>
          </a:p>
        </p:txBody>
      </p:sp>
      <p:sp>
        <p:nvSpPr>
          <p:cNvPr id="55" name=""/>
          <p:cNvSpPr txBox="1"/>
          <p:nvPr/>
        </p:nvSpPr>
        <p:spPr>
          <a:xfrm>
            <a:off x="188640" y="709560"/>
            <a:ext cx="11666520" cy="586440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Існують три </a:t>
            </a:r>
            <a:r>
              <a:rPr b="1" lang="en-US" sz="2600" spc="-1" strike="noStrike">
                <a:solidFill>
                  <a:srgbClr val="000000"/>
                </a:solidFill>
                <a:latin typeface="Times New Roman"/>
                <a:ea typeface="Calibri"/>
              </a:rPr>
              <a:t>правила прийняття рішень</a:t>
            </a:r>
            <a:r>
              <a:rPr b="0" lang="en-US" sz="2600" spc="-1" strike="noStrike">
                <a:solidFill>
                  <a:srgbClr val="000000"/>
                </a:solidFill>
                <a:latin typeface="Times New Roman"/>
                <a:ea typeface="Calibri"/>
              </a:rPr>
              <a:t>, перевірені практикою менеджменту.</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Не приймайте на більш високому рівні рішення, яке можна прийняти на нижчому рівні.</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остір рішень має бути обмеженим. Це поліпшить керівництво і якість рішень.</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Рішення, прийняте на більш високому рівні – усереднене і не обов'язково краще рішення.</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процес прийняття управлінських рішень впливає безліч різноманітних факторів. </a:t>
            </a:r>
            <a:r>
              <a:rPr b="1" lang="en-US" sz="2600" spc="-1" strike="noStrike">
                <a:solidFill>
                  <a:srgbClr val="000000"/>
                </a:solidFill>
                <a:latin typeface="Times New Roman"/>
                <a:ea typeface="Calibri"/>
              </a:rPr>
              <a:t>До найважливіших з поміж них належать такі:</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1) </a:t>
            </a:r>
            <a:r>
              <a:rPr b="1" i="1" lang="en-US" sz="2600" spc="-1" strike="noStrike">
                <a:solidFill>
                  <a:srgbClr val="000000"/>
                </a:solidFill>
                <a:latin typeface="Times New Roman"/>
                <a:ea typeface="Calibri"/>
              </a:rPr>
              <a:t>Ступінь ризику</a:t>
            </a:r>
            <a:r>
              <a:rPr b="0" lang="en-US" sz="2600" spc="-1" strike="noStrike">
                <a:solidFill>
                  <a:srgbClr val="000000"/>
                </a:solidFill>
                <a:latin typeface="Times New Roman"/>
                <a:ea typeface="Calibri"/>
              </a:rPr>
              <a:t> – розуміється, що завжди існує імовірність прийняття неправильного рішення, яке може несприятливо впливати на організацію. Ризик – фактор, який менеджери враховують свідомо, або підсвідомо, при прийнятті рішення, оскільки він пов'язаний із зростанням відповідальності.</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4480" y="331560"/>
            <a:ext cx="11761560" cy="6352920"/>
          </a:xfrm>
          <a:prstGeom prst="rect">
            <a:avLst/>
          </a:prstGeom>
          <a:noFill/>
          <a:ln w="0">
            <a:noFill/>
          </a:ln>
        </p:spPr>
        <p:txBody>
          <a:bodyPr anchor="t">
            <a:normAutofit/>
          </a:bodyPr>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2) </a:t>
            </a:r>
            <a:r>
              <a:rPr b="1" i="1" lang="en-US" sz="2600" spc="-1" strike="noStrike">
                <a:solidFill>
                  <a:srgbClr val="000000"/>
                </a:solidFill>
                <a:latin typeface="Times New Roman"/>
                <a:ea typeface="Calibri"/>
              </a:rPr>
              <a:t>Час</a:t>
            </a:r>
            <a:r>
              <a:rPr b="0" i="1" lang="en-US" sz="2600" spc="-1" strike="noStrike">
                <a:solidFill>
                  <a:srgbClr val="000000"/>
                </a:solidFill>
                <a:latin typeface="Times New Roman"/>
                <a:ea typeface="Calibri"/>
              </a:rPr>
              <a:t>,</a:t>
            </a:r>
            <a:r>
              <a:rPr b="0" lang="en-US" sz="2600" spc="-1" strike="noStrike">
                <a:solidFill>
                  <a:srgbClr val="000000"/>
                </a:solidFill>
                <a:latin typeface="Times New Roman"/>
                <a:ea typeface="Calibri"/>
              </a:rPr>
              <a:t> який відводиться менеджерові для прийняття рішення. На практиці більшість керівників не мають можливості проаналізувати усі можливі альтернативи, відчуваючи дефіцит часу.</a:t>
            </a:r>
            <a:endParaRPr b="0" lang="en-US" sz="2600" spc="-1" strike="noStrike">
              <a:solidFill>
                <a:srgbClr val="000000"/>
              </a:solidFill>
              <a:latin typeface="Calibri"/>
            </a:endParaRPr>
          </a:p>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3) </a:t>
            </a:r>
            <a:r>
              <a:rPr b="1" i="1" lang="en-US" sz="2600" spc="-1" strike="noStrike">
                <a:solidFill>
                  <a:srgbClr val="000000"/>
                </a:solidFill>
                <a:latin typeface="Times New Roman"/>
                <a:ea typeface="Calibri"/>
              </a:rPr>
              <a:t>Ступінь підтримки менеджера колективом</a:t>
            </a:r>
            <a:r>
              <a:rPr b="0" i="1"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 цей фактор враховує те, що нових менеджерів сприймають не відразу. Якщо порозуміння і підтримки інших менеджерів і підлеглих не вистачає, то проблему слід усувати за рахунок своїх особистих рис, які повинні сприяти виконанню прийнятих рішень.</a:t>
            </a:r>
            <a:endParaRPr b="0" lang="en-US" sz="2600" spc="-1" strike="noStrike">
              <a:solidFill>
                <a:srgbClr val="000000"/>
              </a:solidFill>
              <a:latin typeface="Calibri"/>
            </a:endParaRPr>
          </a:p>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4) </a:t>
            </a:r>
            <a:r>
              <a:rPr b="1" i="1" lang="en-US" sz="2600" spc="-1" strike="noStrike">
                <a:solidFill>
                  <a:srgbClr val="000000"/>
                </a:solidFill>
                <a:latin typeface="Times New Roman"/>
                <a:ea typeface="Calibri"/>
              </a:rPr>
              <a:t>Особисті якості менеджера</a:t>
            </a:r>
            <a:r>
              <a:rPr b="0" lang="en-US" sz="2600" spc="-1" strike="noStrike">
                <a:solidFill>
                  <a:srgbClr val="000000"/>
                </a:solidFill>
                <a:latin typeface="Times New Roman"/>
                <a:ea typeface="Calibri"/>
              </a:rPr>
              <a:t> – один з найбільш важливих факторів. Незалежно від того, як менеджери приймають рішення і відповідають за них, вони повинні мати здібності до того, щоб приймати вірні рішення.</a:t>
            </a:r>
            <a:endParaRPr b="0" lang="en-US" sz="2600" spc="-1" strike="noStrike">
              <a:solidFill>
                <a:srgbClr val="000000"/>
              </a:solidFill>
              <a:latin typeface="Calibri"/>
            </a:endParaRPr>
          </a:p>
          <a:p>
            <a:pPr algn="just">
              <a:lnSpc>
                <a:spcPct val="97000"/>
              </a:lnSpc>
              <a:spcBef>
                <a:spcPts val="1001"/>
              </a:spcBef>
              <a:spcAft>
                <a:spcPts val="7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5) </a:t>
            </a:r>
            <a:r>
              <a:rPr b="0" i="1" lang="en-US" sz="2600" spc="-1" strike="noStrike">
                <a:solidFill>
                  <a:srgbClr val="000000"/>
                </a:solidFill>
                <a:latin typeface="Times New Roman"/>
                <a:ea typeface="Calibri"/>
              </a:rPr>
              <a:t>Політика організації</a:t>
            </a:r>
            <a:r>
              <a:rPr b="0" lang="en-US" sz="2600" spc="-1" strike="noStrike">
                <a:solidFill>
                  <a:srgbClr val="000000"/>
                </a:solidFill>
                <a:latin typeface="Times New Roman"/>
                <a:ea typeface="Calibri"/>
              </a:rPr>
              <a:t> – у даному випадку враховується суб'єктивний фактор при прийнятті рішення. Статус, влада, престиж, легкість виконання – усе це може вплинути на прийняття того, чи іншого рішення.</a:t>
            </a: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480" y="236520"/>
            <a:ext cx="11729880" cy="641664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інцевим результатом прийняття рішення є саме </a:t>
            </a:r>
            <a:r>
              <a:rPr b="0" lang="en-US" sz="2800" spc="-1" strike="noStrike" u="sng">
                <a:solidFill>
                  <a:srgbClr val="000000"/>
                </a:solidFill>
                <a:uFillTx/>
                <a:latin typeface="Times New Roman"/>
                <a:ea typeface="Calibri"/>
              </a:rPr>
              <a:t>управлінське рішення</a:t>
            </a:r>
            <a:r>
              <a:rPr b="0" lang="en-US" sz="2800" spc="-1" strike="noStrike">
                <a:solidFill>
                  <a:srgbClr val="000000"/>
                </a:solidFill>
                <a:latin typeface="Times New Roman"/>
                <a:ea typeface="Calibri"/>
              </a:rPr>
              <a:t>, яке постає, як первісний, базовий елемент процесу управління, що забезпечує функціонування господарської організації за рахунок взаємозв'язку формальних та неформальних, інтелектуальних та організаційно-практичних аспектів менеджменту.</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Calibri"/>
              </a:rPr>
              <a:t>Управлінське рішення</a:t>
            </a:r>
            <a:r>
              <a:rPr b="0" lang="en-US" sz="2800" spc="-1" strike="noStrike">
                <a:solidFill>
                  <a:srgbClr val="000000"/>
                </a:solidFill>
                <a:latin typeface="Times New Roman"/>
                <a:ea typeface="Calibri"/>
              </a:rPr>
              <a:t> є інструментом впливу на об'єкт управління та окремі його підсистеми, важливою ланкою формування та реалізації відношень управління в організації; складає основу реалізації кожної функції менеджмент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67840" y="345960"/>
            <a:ext cx="11698200" cy="6228000"/>
          </a:xfrm>
          <a:prstGeom prst="rect">
            <a:avLst/>
          </a:prstGeom>
          <a:noFill/>
          <a:ln w="0">
            <a:noFill/>
          </a:ln>
        </p:spPr>
        <p:txBody>
          <a:bodyPr anchor="t">
            <a:normAutofit/>
          </a:bodyPr>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Класифікація управлінських рішень</a:t>
            </a:r>
            <a:r>
              <a:rPr b="0" lang="en-US" sz="2400" spc="-1" strike="noStrike">
                <a:solidFill>
                  <a:srgbClr val="000000"/>
                </a:solidFill>
                <a:latin typeface="Times New Roman"/>
                <a:ea typeface="Calibri"/>
              </a:rPr>
              <a:t> </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alibri"/>
              </a:rPr>
              <a:t>За сферою охоплення:</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загальні (стосуються всієї організації);</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часткові (стосуються конкретних підрозділів, служб, проблем).</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Calibri"/>
              </a:rPr>
              <a:t>За часом дії:</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стратегіч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тактич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оператив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а характером дій :</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директив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норматив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методич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рекомендаційні;</a:t>
            </a:r>
            <a:endParaRPr b="0" lang="en-US" sz="24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дозволяючі.</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49320" y="456840"/>
            <a:ext cx="10515600" cy="855720"/>
          </a:xfrm>
          <a:prstGeom prst="rect">
            <a:avLst/>
          </a:prstGeom>
          <a:noFill/>
          <a:ln w="0">
            <a:noFill/>
          </a:ln>
        </p:spPr>
        <p:txBody>
          <a:bodyPr anchor="ctr">
            <a:noAutofit/>
          </a:bodyPr>
          <a:p>
            <a:pPr indent="0" algn="ctr">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Calibri"/>
              </a:rPr>
              <a:t>3. </a:t>
            </a:r>
            <a:r>
              <a:rPr b="1" lang="en-US" sz="2500" spc="-1" strike="noStrike">
                <a:solidFill>
                  <a:srgbClr val="000000"/>
                </a:solidFill>
                <a:latin typeface="Times New Roman"/>
                <a:ea typeface="Calibri"/>
              </a:rPr>
              <a:t>Класифікація управлінських рішень </a:t>
            </a:r>
            <a:br>
              <a:rPr sz="2500"/>
            </a:br>
            <a:endParaRPr b="0" lang="en-US" sz="2500" spc="-1" strike="noStrike">
              <a:solidFill>
                <a:srgbClr val="000000"/>
              </a:solidFill>
              <a:latin typeface="Calibri Light"/>
            </a:endParaRPr>
          </a:p>
        </p:txBody>
      </p:sp>
      <p:sp>
        <p:nvSpPr>
          <p:cNvPr id="60" name=""/>
          <p:cNvSpPr txBox="1"/>
          <p:nvPr/>
        </p:nvSpPr>
        <p:spPr>
          <a:xfrm>
            <a:off x="331920" y="977400"/>
            <a:ext cx="11555280" cy="55803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Управлінські рішення поділяють на дві великі групи: </a:t>
            </a:r>
            <a:r>
              <a:rPr b="1" lang="en-US" sz="2600" spc="-1" strike="noStrike">
                <a:solidFill>
                  <a:srgbClr val="000000"/>
                </a:solidFill>
                <a:latin typeface="Times New Roman"/>
                <a:ea typeface="Calibri"/>
              </a:rPr>
              <a:t>запрограмовані рішення і незапрограмовані</a:t>
            </a:r>
            <a:r>
              <a:rPr b="0" lang="en-US" sz="2600" spc="-1" strike="noStrike">
                <a:solidFill>
                  <a:srgbClr val="000000"/>
                </a:solidFill>
                <a:latin typeface="Times New Roman"/>
                <a:ea typeface="Calibri"/>
              </a:rPr>
              <a:t>.</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Це поділ грунтується на тому, що одне і те ж рішення приймається за одних і тих же обставин або ж різка зміна обставин змушує затвердити нове рішення.</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Запрограмовані рішення</a:t>
            </a:r>
            <a:r>
              <a:rPr b="0" lang="en-US" sz="2600" spc="-1" strike="noStrike">
                <a:solidFill>
                  <a:srgbClr val="000000"/>
                </a:solidFill>
                <a:latin typeface="Times New Roman"/>
                <a:ea typeface="Calibri"/>
              </a:rPr>
              <a:t> базуються на звичці, заведеному порядку або процедурній політиці і затверджуються за типовими обставинами. Програмні рішення краще впроваджуються в бюрократичних організаціях, враховуючи раціональність та ефективність Їхньої діяльності.</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1" lang="en-US" sz="2600" spc="-1" strike="noStrike">
                <a:solidFill>
                  <a:srgbClr val="000000"/>
                </a:solidFill>
                <a:latin typeface="Times New Roman"/>
                <a:ea typeface="Calibri"/>
              </a:rPr>
              <a:t>Запрограмовані рішення</a:t>
            </a:r>
            <a:r>
              <a:rPr b="0" lang="en-US" sz="2600" spc="-1" strike="noStrike">
                <a:solidFill>
                  <a:srgbClr val="000000"/>
                </a:solidFill>
                <a:latin typeface="Times New Roman"/>
                <a:ea typeface="Calibri"/>
              </a:rPr>
              <a:t> – це результат послідовних кроків (заходів чи дій), які сприяють вирішенню проблеми. Як правило, в цих випадках число альтернатив обмежене і вибір повинен бути зроблений в межах напрямків розвитку організації.</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36160" y="268200"/>
            <a:ext cx="11775960" cy="63691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Наприклад,</a:t>
            </a:r>
            <a:r>
              <a:rPr b="0" lang="en-US" sz="2800" spc="-1" strike="noStrike">
                <a:solidFill>
                  <a:srgbClr val="000000"/>
                </a:solidFill>
                <a:latin typeface="Times New Roman"/>
                <a:ea typeface="Calibri"/>
              </a:rPr>
              <a:t> якщо начальнику фінансового відділу запропоновано вкласти частину готівки в депозитні сертифікати, облігації або звичайні акції, в залежності від того, наскільки в даний час це забезпечить максимальний прибуток на інвестиційний капітал, то вибір буде здійснюватися шляхом елементарного розрахунку по кожному варіанту і визначенням найбільш вигідного.</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изначивши, яким в принципі має бути рішення, керівництво знижує ймовірність помилки. Цим також економиться час, оскільки підлеглим не доводиться розробляти нову процедуру кожного разу, коли виникає подібна ситуація. Тому керівництво компанії часто програмує рішення під ситуації, що повторюються з певною регулярністю.</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Якщо запрограмована процедура стає невірною, то зазвичай шукають нетрадиційні метод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99880" y="252360"/>
            <a:ext cx="11698560" cy="635328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Незапрограмовані рішення</a:t>
            </a:r>
            <a:r>
              <a:rPr b="0" lang="en-US" sz="2400" spc="-1" strike="noStrike">
                <a:solidFill>
                  <a:srgbClr val="000000"/>
                </a:solidFill>
                <a:latin typeface="Times New Roman"/>
                <a:ea typeface="Calibri"/>
              </a:rPr>
              <a:t> – рішення, які потрібні в ситуаціях, шо мають характер новизни чи пов'язані з невідомими чинниками. Характеристики незапрограмованих рішень передбачають слабку структуру, яка обумовлена браком інформації, вільну, незатверджену процедуру і відсутність цілей або завдань.</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Незапрограмовані рішення приймаються у ситуаціях, які внутрішньо не структуровані, відносно нові або ж зустрічаються вперше. Такі ситуації </a:t>
            </a:r>
            <a:r>
              <a:rPr b="0" i="1" lang="en-US" sz="2400" spc="-1" strike="noStrike">
                <a:solidFill>
                  <a:srgbClr val="000000"/>
                </a:solidFill>
                <a:latin typeface="Times New Roman"/>
                <a:ea typeface="Calibri"/>
              </a:rPr>
              <a:t>і</a:t>
            </a:r>
            <a:r>
              <a:rPr b="0" lang="en-US" sz="2400" spc="-1" strike="noStrike">
                <a:solidFill>
                  <a:srgbClr val="000000"/>
                </a:solidFill>
                <a:latin typeface="Times New Roman"/>
                <a:ea typeface="Calibri"/>
              </a:rPr>
              <a:t> залежать від невизначених обставин, від впливу непередбачених чинників.</a:t>
            </a:r>
            <a:endParaRPr b="0" lang="en-US" sz="2400" spc="-1" strike="noStrike">
              <a:solidFill>
                <a:srgbClr val="000000"/>
              </a:solidFill>
              <a:latin typeface="Calibri"/>
            </a:endParaRPr>
          </a:p>
          <a:p>
            <a:pPr marL="228600" indent="-228600">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Методи</a:t>
            </a:r>
            <a:r>
              <a:rPr b="0" lang="en-US" sz="2000" spc="-1" strike="noStrike">
                <a:solidFill>
                  <a:srgbClr val="000000"/>
                </a:solidFill>
                <a:latin typeface="Palatino Linotype"/>
                <a:ea typeface="Times New Roman"/>
              </a:rPr>
              <a:t> </a:t>
            </a:r>
            <a:r>
              <a:rPr b="0" lang="en-US" sz="2400" spc="-1" strike="noStrike">
                <a:solidFill>
                  <a:srgbClr val="000000"/>
                </a:solidFill>
                <a:latin typeface="Times New Roman"/>
                <a:ea typeface="Calibri"/>
              </a:rPr>
              <a:t>Підвищенню ефективності міжособистісних комунікацій сприяють:</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ретельний аналіз переданої інформації, використання точних формулювань цілей, критеріїв оцінки дій, наявних обмежень;</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правильне використання жестів, інтонацій;</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увага до проблем інших, відкритість.</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Встановлення ефективного зворотного зв'язку, зокрема, шляхом контролю розуміння отриманої інформації або перших результатів.</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41120" y="268200"/>
            <a:ext cx="11793600" cy="640080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Ефективність міжособистісних комунікацій значною мірою визначається комунікаційним стилем, тобто способом взаємодії індивіда з іншими індивідами. Важливими характеристиками цього стилю є:1) відкритість індивіда до інших членів організації;</a:t>
            </a:r>
            <a:r>
              <a:rPr b="0" lang="ru-RU" sz="1700" spc="-1" strike="noStrike">
                <a:solidFill>
                  <a:srgbClr val="000000"/>
                </a:solidFill>
                <a:latin typeface="Calibri"/>
                <a:ea typeface="Calibri"/>
              </a:rPr>
              <a:t> </a:t>
            </a:r>
            <a:r>
              <a:rPr b="0" lang="en-US" sz="2400" spc="-1" strike="noStrike">
                <a:solidFill>
                  <a:srgbClr val="000000"/>
                </a:solidFill>
                <a:latin typeface="Times New Roman"/>
                <a:ea typeface="Calibri"/>
              </a:rPr>
              <a:t>2) адекватність зворотного зв'язку, тобто наскільки часто і відкрито індивід висловлює свою оцінку поведінки і дій колег. </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4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Якісна двобальна оцінка цих характеристик дає наступні можливі комунікаційні стил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1. При низькій оцінці обох характеристик стиль може бути визначений як "замикання в соб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2. Стиль "відкриття себе" має місце при високій відкритості та низькому ступені адекватності зворотного зв'язку.</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3. Стилю "реалізація себе" відповідають високі оцінки обох характеристик. Ясно, що даний стиль найбільш кращий в спілкуванні, однак і він досить обмежений.</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4. Стиль "захист себе" припускає, що індивід часто й охоче висловлює іншим свою думку про них і їхні дії, поведінку. Однак сам він залишається досить закритим.</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5. Компромісним є стиль, коли індивід виявляє відкритість лише в тому випадку і в тій мірі, в якій це роблять інші члени організації.</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24920" y="284040"/>
            <a:ext cx="11857320" cy="627408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Міжособистісна комунікація</a:t>
            </a:r>
            <a:r>
              <a:rPr b="0" lang="en-US" sz="2600" spc="-1" strike="noStrike">
                <a:solidFill>
                  <a:srgbClr val="000000"/>
                </a:solidFill>
                <a:latin typeface="Times New Roman"/>
                <a:ea typeface="Calibri"/>
              </a:rPr>
              <a:t> – це процес обміну повідомленнями та їх інтерпретація двома або кількома індивідами, які вступили в контакт один з одним.</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Звернемо увагу на наступні принципові моменти цього визначення.</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По-перше,</a:t>
            </a:r>
            <a:r>
              <a:rPr b="0" lang="en-US" sz="2600" spc="-1" strike="noStrike">
                <a:solidFill>
                  <a:srgbClr val="000000"/>
                </a:solidFill>
                <a:latin typeface="Times New Roman"/>
                <a:ea typeface="Calibri"/>
              </a:rPr>
              <a:t> як і будь-який інший вид соціальної комунікації, міжособистісна комунікація постає як процес обміну повідомленнями, що припускає тлумачення і розуміння цих повідомлень людьми.</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По-друге</a:t>
            </a:r>
            <a:r>
              <a:rPr b="0" lang="en-US" sz="2600" spc="-1" strike="noStrike">
                <a:solidFill>
                  <a:srgbClr val="000000"/>
                </a:solidFill>
                <a:latin typeface="Times New Roman"/>
                <a:ea typeface="Calibri"/>
              </a:rPr>
              <a:t>, міжособистісний характер комунікації припускає, що має місце обмін повідомленнями між невеликим числом людей; це безпосередня взаємодія, коли його учасники знаходяться в просторовій близькості, мають можливість легко здійснювати зворотний зв'язок; це взаємодія особистісно орієнтована, тобто передбачається, що кожен з його учасників визнає незамінність, унікальність свого партнера, бере до уваги особливості його емоційного стану, самооцінки, особистісних характеристик.</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63720" y="371520"/>
            <a:ext cx="10515600" cy="619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РЕКОМЕНДОВАНА ЛІТЕРАТУРА</a:t>
            </a:r>
            <a:endParaRPr b="0" lang="en-US" sz="2800" spc="-1" strike="noStrike">
              <a:solidFill>
                <a:srgbClr val="000000"/>
              </a:solidFill>
              <a:latin typeface="Calibri Light"/>
            </a:endParaRPr>
          </a:p>
        </p:txBody>
      </p:sp>
      <p:sp>
        <p:nvSpPr>
          <p:cNvPr id="44" name=""/>
          <p:cNvSpPr txBox="1"/>
          <p:nvPr/>
        </p:nvSpPr>
        <p:spPr>
          <a:xfrm>
            <a:off x="473040" y="990360"/>
            <a:ext cx="11382480" cy="5662440"/>
          </a:xfrm>
          <a:prstGeom prst="rect">
            <a:avLst/>
          </a:prstGeom>
          <a:noFill/>
          <a:ln w="0">
            <a:noFill/>
          </a:ln>
        </p:spPr>
        <p:txBody>
          <a:bodyPr anchor="t">
            <a:normAutofit/>
          </a:bodyPr>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Герасимчук А.А., Тимошенко О.І., Шашкевич Я. «Етика й етикет сучасного бізнесу – запорука економічної безпеки підприємств»: Навч. посібник / За заг. ред.. З.І. Тимошенко. – К. Вид-во Європ. ун-ту, 20</a:t>
            </a:r>
            <a:r>
              <a:rPr b="0" lang="ru-RU" sz="2800" spc="-1" strike="noStrike">
                <a:solidFill>
                  <a:srgbClr val="000000"/>
                </a:solidFill>
                <a:latin typeface="Times New Roman"/>
                <a:ea typeface="Times New Roman"/>
              </a:rPr>
              <a:t>15</a:t>
            </a:r>
            <a:r>
              <a:rPr b="0" lang="uk-UA" sz="2800" spc="-1" strike="noStrike">
                <a:solidFill>
                  <a:srgbClr val="000000"/>
                </a:solidFill>
                <a:latin typeface="Times New Roman"/>
                <a:ea typeface="Times New Roman"/>
              </a:rPr>
              <a:t>. – 285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Ділове спілкування. за ред. О.З. Лебедева-Гулей, навч. пос., К: «Академвидав»,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Статінова Н.П., Радченко С.Г. Етика бізнесу: Навч. посіб. - К.: КНТЕУ,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1.-280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Тимошенко Н.Л. «Корпоративна культура: діловий етикет»: Навч. посіб. – К.: Знання,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6. – 391 с.</a:t>
            </a:r>
            <a:endParaRPr b="0" lang="en-US" sz="2800" spc="-1" strike="noStrike">
              <a:solidFill>
                <a:srgbClr val="000000"/>
              </a:solidFill>
              <a:latin typeface="Calibri"/>
            </a:endParaRPr>
          </a:p>
          <a:p>
            <a:pPr marL="343080" indent="-343080" algn="just">
              <a:lnSpc>
                <a:spcPct val="97000"/>
              </a:lnSpc>
              <a:spcBef>
                <a:spcPts val="1001"/>
              </a:spcBef>
              <a:buClr>
                <a:srgbClr val="000000"/>
              </a:buClr>
              <a:buFont typeface="Times New Roman"/>
              <a:buAutoNum type="arabicPeriod"/>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Навч. посіб.- К.: «Академвидав», 20</a:t>
            </a:r>
            <a:r>
              <a:rPr b="0" lang="en-US"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 – 278 с.</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53964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2800" y="331560"/>
            <a:ext cx="11714040" cy="62420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ефективність міжособистісних комунікацій впливають такі фактори, 0 сприйняття інформації, семантика, невербальна комунікація, уміння слухати, якість каналів комунікації.</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Сприйняття – це процес відбору, організації та інтерпретації чуттєвих даних. Серед загальних закономірностей сприйняття як одного з найважливіших психічних процесів зазвичай відзначають:</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инцип вибірковості: у кожній конкретній ситуації людина звертає увагу лише на порівняно малу частину впливів, але при цьому створює хоч і обмежену, але більш зв'язну і осмислену картину світу;</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инцип цілісності: люди сприймають об'єкти і ситуації не дискретно, а як динамічне ціле;</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принцип константності (стійкості): має місце стабільна стійкість нашого сприйняття навіть у змінних умовах.</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5280" y="220680"/>
            <a:ext cx="10515600" cy="920880"/>
          </a:xfrm>
          <a:prstGeom prst="rect">
            <a:avLst/>
          </a:prstGeom>
          <a:noFill/>
          <a:ln w="0">
            <a:noFill/>
          </a:ln>
        </p:spPr>
        <p:txBody>
          <a:bodyPr anchor="ctr">
            <a:noAutofit/>
          </a:bodyPr>
          <a:p>
            <a:pPr indent="0" algn="ctr">
              <a:lnSpc>
                <a:spcPct val="107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Calibri"/>
              </a:rPr>
              <a:t>1. </a:t>
            </a:r>
            <a:r>
              <a:rPr b="1" lang="uk-UA" sz="2500" spc="-1" strike="noStrike">
                <a:solidFill>
                  <a:srgbClr val="000000"/>
                </a:solidFill>
                <a:latin typeface="Times New Roman"/>
                <a:ea typeface="Calibri"/>
              </a:rPr>
              <a:t>Сутність прийняття управлінських рішень</a:t>
            </a:r>
            <a:br>
              <a:rPr sz="2500"/>
            </a:br>
            <a:endParaRPr b="0" lang="en-US" sz="2500" spc="-1" strike="noStrike">
              <a:solidFill>
                <a:srgbClr val="000000"/>
              </a:solidFill>
              <a:latin typeface="Calibri Light"/>
            </a:endParaRPr>
          </a:p>
        </p:txBody>
      </p:sp>
      <p:sp>
        <p:nvSpPr>
          <p:cNvPr id="46" name=""/>
          <p:cNvSpPr txBox="1"/>
          <p:nvPr/>
        </p:nvSpPr>
        <p:spPr>
          <a:xfrm>
            <a:off x="284040" y="645840"/>
            <a:ext cx="11760480" cy="587988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Фахівці в галузі державного управління і управління взагалі пропонують різноманітні варіанти розроблення та механізму прийняття рішень. Зокрема, Л. Євланов вважає, що визначення категорії "прийняття рішень" певним чином дає можливість розподілити основні етапи цього процесу. Він пропонує таке формулювання: </a:t>
            </a:r>
            <a:r>
              <a:rPr b="1" i="1" lang="uk-UA" sz="2800" spc="-1" strike="noStrike">
                <a:solidFill>
                  <a:srgbClr val="000000"/>
                </a:solidFill>
                <a:latin typeface="Times New Roman"/>
                <a:ea typeface="Calibri"/>
              </a:rPr>
              <a:t>прийняття рішень</a:t>
            </a:r>
            <a:r>
              <a:rPr b="0" lang="uk-UA" sz="2800" spc="-1" strike="noStrike">
                <a:solidFill>
                  <a:srgbClr val="000000"/>
                </a:solidFill>
                <a:latin typeface="Times New Roman"/>
                <a:ea typeface="Calibri"/>
              </a:rPr>
              <a:t> — процес, який починається з виникненням проблемної ситуації та завершується вибором рішення — дії з усунення проблемної ситуації.</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иділення окремих етапів у процесі прийняття рішення та їх зміст нерідко багато в чому залежать від характеру проблеми, що вирішується.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16080" y="331560"/>
            <a:ext cx="11650320" cy="632124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Наприклад, градацію рішень, які приймаються, можна здійснити:</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за кількістю альтернатив (вибір між "так" чи "ні"; вибір з малої кількості альтернатив; велика, але кінцева кількість альтернатив; безперервні рішення з постійно змінюваних альтернатив);</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за чисельністю та визначеністю станів навколишнього середовищ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щодо закономірностей та ймовірностей зміни окремих параметрів навколишнього середовища;</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за чисельністю та пов'язаністю цілей діяльності, реалізацією рішень, що приймаються;</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за ступенем ризику в процесі прийняття рішен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04480" y="220680"/>
            <a:ext cx="11729880" cy="636912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Процес прийняття державних рішень має різні етапи та функціональні фази. Існують різноманітні точки зору на визначення кількості основних етапів прийняття управлінських рішень. </a:t>
            </a:r>
            <a:r>
              <a:rPr b="1" lang="uk-UA" sz="2800" spc="-1" strike="noStrike">
                <a:solidFill>
                  <a:srgbClr val="000000"/>
                </a:solidFill>
                <a:latin typeface="Times New Roman"/>
                <a:ea typeface="Calibri"/>
              </a:rPr>
              <a:t>Загалом Можна виокремити такі-етапи в цілісному процесі прийняття державних рішень:</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1) визначення пріоритетних проблем. На цьому етапі збирають, відбирають та аналізують інформацію, необхідну для прийняття рішення. На підставі цієї інформації створюється "порядок денний" для очікуваних дій від держави та інших органів;</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2) розроблення та розгляд альтернативних варіантів рішення. Вироблення інваріантів рішення пов'язане як з об'єктивною потребою в оптимізації вибору найкращого рішення з кількох альтернатив, так і з суб'єктивними прагненнями та тиском на процес прийняття рішення різноманітних сил, які прагнуть надати свій варіант проекту ріше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88640" y="284040"/>
            <a:ext cx="11714040" cy="633744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3) остаточний вибір, формулювання та легітимізація державного рішення. Це, по суті, основний етап у процесі прийняття рішення, який технологічно реалізується суб'єктами державного впливу в демократичних країнах шляхом голосування або досягнення консенсусу. Тут рішення набуває загальнообов'язкової форми для всіх громадян, які входять у сферу його компетенції;</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4) реалізація і впровадження в політичну практику прийнятих державних рішень. На цьому етапі управлінське рішення практично втілюється в життя. Державна адміністрація залежно від політичного режиму певної країни використовує комбінацію засобів (примусу і переконання) та окремих соці технічних засобів (маніпулювання, маневрування тощо) для здійснення прийнятих стратегічних рішень;</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83680" y="284040"/>
            <a:ext cx="11666520" cy="627408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5) контроль за здійсненням рішення та "зворотний зв'язок" з його результатами. Це завершальний етап прийняття рішення. Відсутність контролю та "зворотного зв'язку" нерідко призводить до того, що державне рішення або "спотворюється", або просто перестає виконуватися, або ж дає результати, протилежні очікуваним. Зміст контролю за реалізацією певних державних рішень полягає в постійному зіставленні практичних заходів, технологічних операцій з вихідною моделлю рішення, планами і програмами.</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1" lang="uk-UA" sz="2800" spc="-1" strike="noStrike">
                <a:solidFill>
                  <a:srgbClr val="000000"/>
                </a:solidFill>
                <a:latin typeface="Times New Roman"/>
                <a:ea typeface="Calibri"/>
              </a:rPr>
              <a:t>Щодо найраціональніших підходів до підготовки та оптимізації управлінського рішення можна запропонувати такі конкретні етапи:</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уточнення та вибір мети і завдань;</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виявлення та аналіз наявних альтернатив і ресурсів для вирішення цього завда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9520" y="220680"/>
            <a:ext cx="11619000" cy="63691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формулювання математичної чи логічної моделі, яка визначає залежність між поставленими завданнями та альтернативними ресурсами їх вирішення;</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a:t>
            </a:r>
            <a:r>
              <a:rPr b="0" lang="uk-UA" sz="2800" spc="-1" strike="noStrike">
                <a:solidFill>
                  <a:srgbClr val="000000"/>
                </a:solidFill>
                <a:latin typeface="Times New Roman"/>
                <a:ea typeface="Calibri"/>
              </a:rPr>
              <a:t>уточнення критерію виявлення бажаної альтернативи;</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визначення оптимального рішення;</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реалізація рішення;</a:t>
            </a:r>
            <a:endParaRPr b="0" lang="en-US" sz="28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 •  </a:t>
            </a:r>
            <a:r>
              <a:rPr b="0" lang="uk-UA" sz="2800" spc="-1" strike="noStrike">
                <a:solidFill>
                  <a:srgbClr val="000000"/>
                </a:solidFill>
                <a:latin typeface="Times New Roman"/>
                <a:ea typeface="Calibri"/>
              </a:rPr>
              <a:t>оцінка отриманого результату.</a:t>
            </a:r>
            <a:endParaRPr b="0" lang="en-US" sz="2800" spc="-1" strike="noStrike">
              <a:solidFill>
                <a:srgbClr val="000000"/>
              </a:solidFill>
              <a:latin typeface="Calibri"/>
            </a:endParaRPr>
          </a:p>
          <a:p>
            <a:pPr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Слід зазначити, що на сьогодні система державного управління в Україні перебуває у критичному стані. Однією з причин цього є те, що одна з найважливіших функцій держави — цілепокладання — практично відсутня, а на проблему організації управління взагалі не звертається увага. Фахівець у галузі політичного прогнозування І. Бестужев-Лада вважає цілепокладання визначенням ідеально допустимого результату діяльності. Це означає, що за відсутності цілепокладання серед функцій держави будь-які державно-управлінські рішення є безглуздими.</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0320" y="173160"/>
            <a:ext cx="11791800" cy="651168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Цілепокладання — лише один з елементів широкого поняття "управління". До нього належать також:</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планування — проекція в майбутнє людської діяльності для досягнення наперед поставленої мети, перетворення інформації про майбутнє на директиви для цілеспрямованої діяльності;</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програмування — визначення основних положень, які потім розгортаються в планування, або послідовності конкретних заходів з реалізації планів;</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  </a:t>
            </a:r>
            <a:r>
              <a:rPr b="0" lang="uk-UA" sz="2600" spc="-1" strike="noStrike">
                <a:solidFill>
                  <a:srgbClr val="000000"/>
                </a:solidFill>
                <a:latin typeface="Times New Roman"/>
                <a:ea typeface="Calibri"/>
              </a:rPr>
              <a:t>проектування — створення конкретних образів майбутнього, конкретних деталей розроблених програм.</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Отже, управління інтегрує ці чотири поняття, але в основі кожного з них — однаковий елемент — рішення. На етапі підготовки завдання необхідно визначити, яку проблему і в яких умовах потрібно вирішити, коли, якими силами і засобами вона вирішуватиметься. Також слід підкреслити, що цілі повинні виходити із аналізу реальної дійсності, а не з формальних побудов теорії.</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11T20:16:44Z</dcterms:created>
  <dc:creator>Karim</dc:creator>
  <dc:description/>
  <dc:language>en-US</dc:language>
  <cp:lastModifiedBy>Karim</cp:lastModifiedBy>
  <dcterms:modified xsi:type="dcterms:W3CDTF">2020-04-11T20:55:40Z</dcterms:modified>
  <cp:revision>6</cp:revision>
  <dc:subject/>
  <dc:title>Лекція №:12 Тема: Поведінковий аспект прийняття управлінських рішень</dc:title>
</cp:coreProperties>
</file>