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45F-E66E-407C-8456-C3D7661F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094-6036-4A3D-AA06-86C5B3C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8C3-AC4F-4594-9011-BC2FC68D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698-7B44-4DB9-A428-D7F73A50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F62-5B22-4801-84F3-E12F1996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A56-AE93-486F-A091-6088BFB0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205-B572-4F60-97FB-B346D3FE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3D2-C027-47B2-8D39-CD7C3E68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62B-A456-4BD3-92FF-61FF7DCF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34F-E74A-4932-8630-BB96952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98C-E9C2-439C-9CC6-D710006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B34-DF55-4496-B3D0-1FB7F5B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A062-6258-4DAA-ACFE-5DD6E1948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080720"/>
            <a:ext cx="9144000" cy="6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ія № : 1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Коригування організаційної поведінки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320" y="1292400"/>
            <a:ext cx="11729880" cy="52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Поняття, ознаки і види правов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 в суспільств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Склад і види правомірної поведі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442440"/>
            <a:ext cx="10515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03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 в суспільстві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7840" y="919080"/>
            <a:ext cx="116190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іч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руйнування старого господарського організм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життєздатного, але все-таки цілісного) значно випереджає становленн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ської економіки як саморегульованої системи виробничих зв'язків і матеріальних можливостей виробництва — на основі економічної волі. Громадяни позбавилися звичних умов трудової діяльності і через неможливість і нездатність (економічна неграмотність і небажання брати на себе яку-небудь відповідальність) не можуть швидко адаптуватися до нової економічної обстановки, виникли невдоволення, апатія, агресивність, невпевненість у завтрашньому дні, балансування поведінки на межі між правомірною і неправомірно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72800" y="345960"/>
            <a:ext cx="11729880" cy="63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а напруженість як результат ослаблення соціально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ості держави і неврівноваженості соціальної політики. Нерегулярною оплатою праці, підвищенням плати за комунальні послуги, низьким рівнем соціального забезпечення (за наявності інфляції) держава вільно або мимоволі провокує (незалежно від соціально-психологічної нестійкості особи) нестабільність правомірної поведі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тичні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ад СРСР, скасування однопартійної системи, утвердженн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ологічного і політичного плюралізму, труднощі формування політичної системи українського суспільства виявили непідготовленість демократичних громадських сил до швидких історичних перетворень, відсутність прагматичної демократичної ідеології і політики для перехідного періоду. Це привело до політичної хиткості суспільства, яка спричинила й нестабільність правомірної поведінки громадя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33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3680" y="268200"/>
            <a:ext cx="116190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9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ологічні —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іння колишніх ідеалів, низький рівень правосвідомості як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ідок руйнування системи правового виховання, що існувала раніше, і лише започатковане формування нової. Правосвідомість громадянина виявилася непідготовленою до зняття криміналу з багатьох діянь, що вважалися раніше зло-чинними (спекуляція товарами, приватнопідприємницька діяльність, комерційне посередництво та ін.), і одночасного вступу в дію принципу «дозволено все, що не заборонено законом». Свободу вибору громадянин сприйняв як вседозволеність. Межа між правомірною і неправомірною поведінкою була стер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8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8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і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алузі правотворчості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сутність послідовності, логічності в прийнятих законах і підзаконних актах, їх суперечливість підривають віру в якість законів, служать підставою для правового нігілізму (наприклад, нормативні акти про податки є неконкретними, неповними, казуїстичними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алузі правоохоронної діяльності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абке розкриття злочинності, корумпованість створюють умови для можливості обійти закон, породжують хиткість правомірної поведі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02840"/>
            <a:ext cx="10515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і види правомірної поведінки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99520" y="741240"/>
            <a:ext cx="1158732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мірної поведін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истема ознак поведінки, яка відповіда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рядженням пр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725400" y="2209680"/>
            <a:ext cx="10845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39760" y="409680"/>
            <a:ext cx="1167912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8760"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ежно від характеру правових розпоряджень розрізняють такі види правомірної поведін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8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662040" y="1903320"/>
            <a:ext cx="1114596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2800" y="345960"/>
            <a:ext cx="11698200" cy="62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'єктивною стороною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виражається в: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9000"/>
              </a:lnSpc>
              <a:spcBef>
                <a:spcPts val="10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іяльності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ідмова обвинуваченого від дачі показань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собливостями суб'єктивної сторон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ізняють такі види правомірної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ослухняної) поведі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вичну)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формістську — її різновид)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інальн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10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равомірної поведінки, яки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гає в цілеспрямованій діяльності громадян, посадових осіб, пов'язаній з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єю своїх прав, обов'язків, компетенції в рамках правових норм і пов'язаний з додатковими витратами часу, енергії, а іноді й матеріальних кошті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68200" y="220320"/>
            <a:ext cx="11714400" cy="64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ичайна (звична)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законослухняної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и, що являє собою повсякденну службову, побутову та іншу діяльність людини, яка відповідає розпорядженням правових норм, стала звичкою і не потребує додаткових витрат і зусиль. Необхідність здійснення поведінки лише правомірним чином стала для такої людини звичною, навіть неусвідомленою в усіх аспект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ивна правомір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равомірної поведінки, яки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являється в бездіяльності, умисному невикористанні суб'єктом належних йому прав і обов'язків: неучасті у виборах тощо. Пасивна позиція призводить д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істської поведінки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пасивно-пристосовницької, яка не відрізняється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поведінки інших (принцип: «роби так, як роблять інші») — до підпорядкування суб'єкта груповим стандартам і вимог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гінальн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вид поведінки, який характеризуєтьс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міжним» (прикордонним) між правомірним і протиправним станом особи. Маргінальна поведінка особи виражається в готовності до протиправних дій у разі зменшення нагляду за її поведінкою, але не стає антисуспільною, не призводить до правопорушення через страх юридичної відповідальності (наприклад, пасажир оплатив проїзд в автобусі лише тому, що в нього зайшов контролер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66400"/>
            <a:ext cx="10515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 і ознаки правопорушення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3680" y="850680"/>
            <a:ext cx="1160316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я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успільне» небезпечне або шкідливо неправомірне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правне) винне діяння (дія або бездіяльність) деліктоздатної особи, яке спричиняє юридичну відповідальн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8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ю властиві такі озна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равний, неправомірний, характер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суперечить нормам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, чиниться всупереч праву, є свавіллям суб'єкта; являє собою порушення заборон, зазначених у законах і підзаконних актах, невиконання обов'язків, що випливають із нормативно-правового акта, акта застосування норм права або договору, укладеного на основі закону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ільна шкідливи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приклад, прогул,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суспільна небезпечни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сягання на життя людини). Суспільна шкідливі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тупок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суспільна небезпечність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лочин) —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 об'єктивна ознака, що відрізняє правомірну поведінку від неправомірної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ий аспект шкідлив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ражається в по-рушенні суб'єктивних юридичних прав і обов'язків або перешкоді їх виконанню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іальний —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діянні учаснику правовідносин матеріальних або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льних збиткі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84040" y="236520"/>
            <a:ext cx="1176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9000"/>
              </a:lnSpc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жається в поведінці —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правні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діжка, розбій, наклеп, образа)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бездіяльності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дбалість, прогул, залишення особи в безпомічному стані). Думки, наміри, переконання, які зовні не виявилися, не визнаються чинним законодавством об'єктом переслідування. Практика переслідування за інакомислення є виявом репресивної суті тоталітарного режиму в державі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6000"/>
              </a:lnSpc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 вольовий характер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бто в момент вчинення правопорушення залежить від волі і свідомості учасників, перебуває під контролем їх волі і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сті, здійснюється ними усвідомлено і добровільно. Відсутність свободної волі є юридичною умовою, за якою діяння не визнається правопорушенням, навіть якщо воно і мало шкідливі наслідки. Правопорушенням визнається лише неправомірне діяння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іктоздатної особ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лолітні і душевнохворі деліктоздатними не вважаються)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ним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ушенням визнається лише винне діяння, тобто дія, як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ажає негативне внутрішнє ставлення правопорушника до інтересів людей, завдає своєю дією (чи бездіяльністю) збитки суспільству і державі, містить вину.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 — це психічне ставлення особи до свого діяння і його наслідків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і сумніви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доведеності вини особи тлумачаться на її користь (ст. 62 Конституції України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04480" y="361800"/>
            <a:ext cx="11650680" cy="619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інальним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спричиняє застосування до правопорушника заході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го примусу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одів юридичної відповідальност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гляді позбавлень особистого, організаційного і матеріального характеру. Застосування державного примусу до правопорушника має на меті захистити правопорядок, права і свободи громадян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сутність зазначених ознак не дозволяє розглядати діяння як правопоруше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12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49320" y="188640"/>
            <a:ext cx="105156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А ЛІТЕРАТУР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7840" y="680760"/>
            <a:ext cx="116190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чук А.А., Тимошенко О.І., Шашкевич Я. «Етика й етикет сучасного бізнесу – запорука економічної безпеки підприємств»: Навч. посібник / За заг. ред.. З.І. Тимошенко. – К. Вид-во Європ. ун-т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285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лове спілкування. за ред. О.З. Лебедева-Гулей, навч. пос., К: «Академвидав»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інова Н.П., Радченко С.Г. Етика бізнесу: Навч. посіб. - К.: КНТЕУ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280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шенко Н.Л. «Корпоративна культура: діловий етикет»: Навч. посіб. – К.: Знання, 2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– 391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міль Ф.І. «Ділове спілкування»: Навч. посіб.- К.: «Академвидав»,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– 278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29760"/>
            <a:ext cx="10515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порушенн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6080" y="680760"/>
            <a:ext cx="1158696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равопорушення — це система ознак протиправної поведінки, необхідних і достатніх для притягнення до юридичної відповідальност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як суб'єкти правопорушення повинні володіти деліктоздатністю, тобто здатністю нести юридичну відповідальність. Вік настання юридичної відповідальності фізичної особи є різним, що визначено в окремих галузях законодав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ами кримінального, дисциплінарного, матеріального правопорушення виступають лише фізичні особи, цивільного — фізичні і юридичні особи, адміністративного — переважно фізичні особи, а в окремих випадках, встановлених у законодавстві, й юридичні особи (порушення правил пожежної безпеки, невиконання вимог щодо охорони праці, порушення законодавства про захист прав споживачів та ін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а особа не може бути суб'єктом кримінального злочину. Ним може бути посадова особа підприємства, організації, установи або особа, яка виконує функції керівника організації, капітана морських, річкових і повітряних суден та ін. Така особа іменується в юридичній літературі спеціальним суб'єктом пра-вопорушення. Вона може виступати суб'єктом матеріального і адміністративного правопорушенн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04840" y="1476360"/>
          <a:ext cx="8182080" cy="1014480"/>
        </p:xfrm>
        <a:graphic>
          <a:graphicData uri="http://schemas.openxmlformats.org/drawingml/2006/table">
            <a:tbl>
              <a:tblPr/>
              <a:tblGrid>
                <a:gridCol w="1148040"/>
                <a:gridCol w="3006720"/>
                <a:gridCol w="1549440"/>
                <a:gridCol w="2477880"/>
              </a:tblGrid>
              <a:tr h="50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marL="100332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лад правопорушенн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1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'є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16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'єктивна ст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'є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'єктивна ст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83680" y="268200"/>
            <a:ext cx="1168236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201600" algn="just">
              <a:lnSpc>
                <a:spcPct val="102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вна сторона правопорушенн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укупність ознак, як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ь суб'єктивне (психічне) ставлення особи до вчиненого нею протиправного діяння і його негативних наслідків, а саме —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, мотив, ме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порушення. Обов'язковою серед них є вина — безпосередній вияв психічного ставлення до вчиненої шкідливої дії (або бездіяльності) та її негативних наслідк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 виражається у формі умислу чи необережності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3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457200" y="2711520"/>
            <a:ext cx="114505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04840" y="284040"/>
            <a:ext cx="1179360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бивство з корисливих і хуліганських мотивів) і ме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клад, вбивство з метою приховання іншого злочину) враховуються при кваліфікації правопорушення, визначенні міри покар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'єкт правопоруше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шене матеріальне чи нематеріальне благо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ість, життя, здоров'я громадян, суспільний порядок, суспільні відносини, що захищаються нормами пр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1240" y="37944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 </a:t>
            </a:r>
            <a:br>
              <a:rPr sz="25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ook Antiqua"/>
              </a:rPr>
              <a:t>Поняття, ознаки і види правової поведінки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6160" y="982800"/>
            <a:ext cx="117298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16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оціальна поведінка особи (дія або бездіяльність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домо вольового характеру, яка є врегульованою нормами права і спричиняє юридичні наслід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е нейтральна поведінка не є правовою. Правова поведінка — форма вияву свободи особ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ій поведінці властиві такі озна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89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е значенн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соціальне корисна (правомірна поведінка) або як соціальне шкідлива (правопорушення), що позначається на стані суспільних відносин у ході соціального розвитку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 виражений характер у вигляді дії або бездіяльності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я безпосередньо впливає на відносини між суб'єктами. Бездіяльність, як правило, є вербальною (словесною), складається із різних висловлень, суджень і оцінок, які виражають внутрішній стан суб'єк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67840" y="268200"/>
            <a:ext cx="1169820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свідомо вольовий характер, тобто припускає усвідомлення обставин і можливість здійснювати волю: спрямовувати свою поведінку і керувати своїми вчинк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юється правовими нормами, що містяться в текстах правових актів, які або прямо описують умови і ознаки правових вчинків, або передбачають будь-які заходи моделювання правової поведінки. Це відрізняє правову поведінку від інших типів соціальної поведін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властивість спричиняти юридичні наслідки, оскільки пов'язана 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еалізацією суб'єктом своїх інтересів (досягнення особистих цілей, задоволення потреб, за знання певних втрат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еакцією держави на результати правової поведінки (стимулювання, охорона соціальне корисних дій або вжиття заходів юридичної відповідальності за соціальне шкідливі дії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Объект 4" descr=""/>
          <p:cNvPicPr/>
          <p:nvPr/>
        </p:nvPicPr>
        <p:blipFill>
          <a:blip r:embed="rId1"/>
          <a:stretch/>
        </p:blipFill>
        <p:spPr>
          <a:xfrm>
            <a:off x="378000" y="662040"/>
            <a:ext cx="1132020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6960" y="220680"/>
            <a:ext cx="11777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160" indent="201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і інші дії можна назвати юридичне байдужими, індиферентними до права, такими, що не потребують якого-небудь правового виправд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ts val="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складається з елементів — правових вчинкі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и правового вчинку (суб'єкт, суб'єктивна сторона, об'єкт, об'єктивна сторона) називают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ом правової поведін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ою зовнішнього вияв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 поведінка може бу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ts val="23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ою (діяльність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ною (вербальною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вою (документальною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160" indent="201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 нестабільності правомірної поведінки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840" y="966960"/>
            <a:ext cx="115408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це суспільно корисна правова поведінка особи (дія або бездіяльність), яка відповідає розпорядженням юридичних норм і охороняється держа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и правомірної поведі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суспільне корисною соціальною поведінкою, забезпечує організованість і гармонійність громадського життя, стійкий правопорядок, є найважливішим чинником вирішення завдань і функцій держави і суспільства, задоволення інтересів суб'єктів пра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ілена в юридичну форму — відповідає нормам і принципам прав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є свідомо вольовий характер, який виражається зовні у вигляді дії або бездіяльності, здійснюється у формах реалізації норм права — додержання, виконання, використання (громадянами), правозастосування (посадовими особами), спричиняє юридичні наслідки — юридичні акти, юридичні вчин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ується, охороняється державо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4480" y="173160"/>
            <a:ext cx="11698200" cy="65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just">
              <a:lnSpc>
                <a:spcPct val="98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завжди містить два моменти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ормаційний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поінформованість громадянина про свої юридичн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і обов'язки. Важливою є не тільки наявність розвинутого юридичного механізму захисту права на доступ до правової інформації, а й активне практичне використання його громадянами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інковий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уявлення про законні способи здійснення свої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них прав і обов'язків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ід зважити на те, щ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а поведінка складається із елементів 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ірних вчинків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 таких, що мають суспільне корисни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і правомірної поведінки лежить розуміння справедливості і корисності розпоряджень правових норм, відповідальності перед суспільством і державою за вчинки, що є показником соціальної зрілості і юридичної грамотності осо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0320" y="345960"/>
            <a:ext cx="11729880" cy="63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201600" algn="just">
              <a:lnSpc>
                <a:spcPct val="99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авомірну поведінку право діє, поза неї воно мертве. Вид і міра правомірної поведінки встановлені диспозиціями норм права. Правомірна поведінка виступає як загальна форма реалізації суб'єктивних юридичних прав і суб'єктивних юридичних обов'язків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 algn="just">
              <a:lnSpc>
                <a:spcPct val="104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 правомірна поведінка становить сутність правопорядку. Через правомірну поведінку здійснюється управління суспільством, його життєдіяльність. Основна маса виникаючих і діючих у суспільстві правовідносин має у своєму підґрунті правомірну поведі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20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20:36:58Z</dcterms:created>
  <dc:creator>Karim</dc:creator>
  <dc:description/>
  <dc:language>en-US</dc:language>
  <cp:lastModifiedBy>Karim</cp:lastModifiedBy>
  <dcterms:modified xsi:type="dcterms:W3CDTF">2020-04-19T18:14:30Z</dcterms:modified>
  <cp:revision>6</cp:revision>
  <dc:subject/>
  <dc:title>Лекція № : 8 Тема: Коригування організаційної поведінки</dc:title>
</cp:coreProperties>
</file>