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D67-9282-4678-9C68-9F22824D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3BE-1DB9-4E1A-BE2D-54D830FB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93C-A778-4BC3-9CA4-B7E59C1A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40D-06D9-413C-8502-0B55BE50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98A-C646-41BA-AC1A-BF810CE7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27A1-E83B-4E78-A48A-60548E7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911-8CD8-43D0-B35F-4F88E0C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9365-18D9-4EDD-84CC-F79CDF55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A0E3-0438-4AA1-A8F2-DBC9DDD8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CA26-B4D0-4051-944E-02EBFD28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158B-233C-404D-9041-F542576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00F-E037-4482-AFF7-480BECE1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BE44-A753-4D36-B604-225D0BE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3C56-432A-4D2B-8045-3F3A1F8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BDE-9763-476B-885A-B79D1E94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070-2AE4-4A0D-ADF0-4D468B8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EF08-B5DD-4DA4-A044-AA8501E4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7A52-63C8-43B9-96FD-566132A6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6CCF-3BA1-4F8C-BB99-C62EA1A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C41B-00BA-4E63-B52F-DC428303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E4D9-7CE3-4D41-B201-5962E185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D94D-1015-4B79-8A54-832F831C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BE0-1986-4BCE-939B-7C28CDC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C62B-7451-4EDC-8C60-8A66DCC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9C605-ECE5-4959-B511-5C74C027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C930B-00A8-4FD9-895C-86A2D10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243BB-FA22-4DF2-9904-9D0B9436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B41A-7082-41F2-B471-390256DF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85EC-345B-4275-8E29-F40F60B9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2FB0-C072-4789-8C6E-FE1DDCEE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E7E8-1222-4A24-8895-D8197FFF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CA05-84D6-4A9D-8BAD-72400A58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9EAD-57AB-4AE3-992E-DB3D4863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54E-8F2F-4B82-BDFD-7B1B5EA5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3F08-E7A7-4933-A9C4-7A4FD187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478C5-BDC2-4D22-8DAE-3AC9D3AA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BBA8-77B0-4D24-9A4C-47AB0CAA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9076-EB60-42F8-A8EA-AEC7F17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B658-6605-42B9-8A9E-07D23BD0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E766-C92D-4097-B644-AB0E1A4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C3A3-F087-400A-86D2-236DD2F9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D1B9F-C2DE-402D-BF6C-F04FF5A3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A0FB-82A6-41B6-922B-C4777D3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082-17B5-4CE1-94EC-42CF19A8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AEA-86F8-4C4B-BA4D-64371B8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34F-A6F7-44F4-8AE4-94E09E3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2FEB-FD22-46A8-B69A-D9E2E00C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E98-B8E5-4040-945B-D98B783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1E3D-F8A2-4809-BA92-24EB29F946E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D5CF-FE2A-4C60-AB37-15E5087DDB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599-95C9-401B-A4BE-B7B30CFB067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EBE1-6B20-42B8-B009-DB3EF29676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16000" y="2349360"/>
            <a:ext cx="74167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няття та сутність марочного капітала, фактори його оцінк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удит бренд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інка вартості бренді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901800" y="676440"/>
            <a:ext cx="784548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16000" y="764640"/>
            <a:ext cx="7128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ь Brand Equity Ten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розроблена професором Девідом Аакером), являє собою мультикритеріальний метод оцінки поточної вартості бренда, що враховує багатофакторність капіталу бренд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. Аакер виділяє п’ять груп факторів, що беруть участь у формуванні цінності брен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лояльність, популярність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(поінформованість про бренд)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соціації,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прийнята (очікувана) якість, інші індивідуальні складов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патенти, торгові марки і т.п.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187280" y="1123920"/>
          <a:ext cx="7272360" cy="4633920"/>
        </p:xfrm>
        <a:graphic>
          <a:graphicData uri="http://schemas.openxmlformats.org/drawingml/2006/table">
            <a:tbl>
              <a:tblPr/>
              <a:tblGrid>
                <a:gridCol w="2671920"/>
                <a:gridCol w="4600440"/>
              </a:tblGrid>
              <a:tr h="244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капітала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фактор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інформованість про бре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ється спонтанною і наведеною популярніст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ийнята як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удується на суб’єктивно оцінюваних споживачами вигоді та перевага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рівень сприйманої якості співвідноситься з фінансовими показниками повернення інвестицій і доходніст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оціації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ютьс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дивідуальністю бренд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міджем споживач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екстом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яльність до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юється як число споживачів і ступінь лояльності в різних сегмент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менти бре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ають всі зареєстровані і запатентовані активи бренду, в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ен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варні знак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ак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1"/>
          <p:cNvSpPr/>
          <p:nvPr/>
        </p:nvSpPr>
        <p:spPr>
          <a:xfrm>
            <a:off x="1332000" y="42624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цінності бренд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одель Brand Assets Valuator (BAV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розроблена компанією Young &amp; Rubican, заснована на мультикритеріальній оцінці стратегічного розвитку бренду. Дана модель описує розміщення на ринку будь-якого бренда, незалежно від товарної категорії, країни виробника і «віку», на основі чотирьох основних критеріїв, які тісно пов’язані з можливістю забезпечити зростання прибутку компанії і, відповідно, підвищити цінність продукту для власни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результаті багаторічних досліджень фахівці компанії виявили понад тридцять факторів, що формують вартість брендів, і систематизували їх в чотири базові категорії: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мінність, значущість (актуальність), повага, знан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727236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042920" y="1125360"/>
          <a:ext cx="7201080" cy="4824720"/>
        </p:xfrm>
        <a:graphic>
          <a:graphicData uri="http://schemas.openxmlformats.org/drawingml/2006/table">
            <a:tbl>
              <a:tblPr/>
              <a:tblGrid>
                <a:gridCol w="1949400"/>
                <a:gridCol w="5251680"/>
              </a:tblGrid>
              <a:tr h="266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 факто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фактор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ренціація бренда – це його здатність проявляти індивідуальність і зберігати свої позиції в свідомості споживачі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еренціація бренда принципово виділяє його серед конкурентних аналогів і лежить в основі вибору споживачі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ущість (Актуальність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ущість бренда означає його відповідність життєвим цінностям споживач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 повагою розуміється сприймана якість і споживчі сприйняття щодо популярності бренда, яка зростає або знижуєтьс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ага означає перевагу бренда над іншими конкуруючими аналог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ід знанням розуміється рівень обізнаності споживача про бренд і розуміння його «особистості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ня є результатом маркетингових і рекламних дій рекламодавців, які формують знання про брен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метою виявлення споживчих переваг щодо критеріїв, представлених в таблиці, будується матриця, по осях якої відкладаються агреговані показник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ила бренда (brand strength)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формується відмінністю і актуальністю, які характеризують життєздатність і потенціал зростання бренд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ложення бренда (brand stature)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що формується популярністю і поваго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ила вимірюється по вертикальній осі, а статус – по горизонтальні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695600" y="5108400"/>
            <a:ext cx="6510240" cy="64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1187280" y="731880"/>
            <a:ext cx="741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Нові бренди, які ще не встигли сформуватися, будуть розташовуватися в нижньому лівому секторі з низьким рівнем сили і статусу. З ростом бренда він буде переміщатися спочатку в лівий верхній сектор, де сила набагато більше статусу. Тут розташовуються бренди з ще нереалізованим потенціалом зростання, яким ще тільки належить стати широко відомими. Для максимізації їх вартості для акціонерів бренди повинні пересуватися в сторону правого верхнього квадранта, де знаходяться бренди-лідер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оли бренд починає слабшати, перше, що знижується, – це показник унікальності, що веде до втрати лідируючих позицій. Починається старіння бренда: він все ще популярний і широко відомий, але з втратою унікальності слабшає здатність бренда до розширення серед покупців і ринкових сегментів. Старіння поступово змінюється фазою розмивання, коли бренд все ще знаходиться у вигідному становищі, але вже почав виходити з кола переваг споживача. Найнебезпечніша фаза – це розфокусованість, коли бренд не наділений силою і у нього низький стату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тратегія управління брендом полягає в тому, щоб перевести бренд в правий верхній сектор лідера, намагаючись уникнути фаз розмивання і розфокусованості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ь Brand Dynamics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дозволяє відслідковувати показники розвитку бренда протягом життєвого циклу і прогнозувати зміну ринкової частк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сновними елементами моделі є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Brand Dynamics Pyramid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піраміда бренда»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Brand Signature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підпис бренда»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«енергія бренда»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042560" y="907920"/>
            <a:ext cx="7489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Конверсійна модель компанії (conversion model) компанії Taylor Nelson Sofres (TN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заснована на виявленні споживчих переваг за чотирма параметрам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1) відповідність бренда потребам, або ступінь задоволеності брендом (Needs Fit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2) залучення споживача до ухвалення рішення про покупку, або наскільки важливим є вибір марки (Involvement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3) ставлення до альтернатив, або наскільки привабливі для споживача конкуруючі бренди (Disposition to Alternatives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4) суперечливість вибору, або наскільки споживачі «розриваються» між привабливістю аналогічних брендів в категорії (Ambivalence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99640" y="731520"/>
            <a:ext cx="74883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BrandZ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розроблений фахівцями групи компанії WPP Group і також служить для вимірювання сили і потенціалу бренда. Він заснований на глибинних інтерв’ю з респондентами, вивчення відповідей яких дозволяє визначити основні причини лояльності до бренда, а також відмовлення від його придбання. Отримані дані використовуються для коригування стратегій брендів в портфелі компанії, в тому числі комунікаційних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Brand Capital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також заснований на глибинних інтерв’ю з респондентами, на основі яких оцінюється відношення споживачів до бренду і його здатність посилювати взаємини між споживчими аудиторіями, своєрідне «тяжіння» бренду (brand magnetism). Метод дозволяє виявити ставлення споживачів до бренда як лідеру категорії, зростання його популярності та ступінь унікальності в категорії і служить основою для прийняття стратегічних рішень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д Imager Power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запропонований компанією Landor Associates, дозволяє виявити параметри, що визначають силу бренда, зокрема такі, як функціональність бренда, культура бренда, позиціонування бренда, атрибути брен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42920" y="981000"/>
            <a:ext cx="7416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арочний капітал (brand equity)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являє собою набір активів, що беруть участь у формуванні цінності бренду для споживачі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Аудит бренда (brand audit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передбачає вивчення розвитку бренда в поточному періоді з метою оцінки стратегічного потенціалу та прогнозування його майбутнього стану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86920" y="731520"/>
            <a:ext cx="74170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тратний метод, або метод сумарних витрат на розвиток (Activity Based Costing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передбачає підсумовування всіх можливих витрат, пов’язаних зі створенням та просуванням бренда протягом всього життєвого циклу. Як правило, більша частина таких витрат є витрати на рекламу та інші комунікації бренда. Поточна вартість всіх інвестицій в розвиток бренда розраховується за формулою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…+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вартість заходів по розробці та просуванню бренд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632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Метод майбутніх доходів (Future Earning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навпаки дозволяє розрахувати приблизний прибуток, який принесе бренд в майбутньому періоді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Метод доходу по акціях (Earnings Basis)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заснований на співвіднесенні ринкової ціни акцій компанії з динамікою доходів компанії. На фондових ринках для оцінки майбутніх доходів застосовується розрахунковий коефіцієнт «Р / Е», що відображає взаємозв’язок між капіталізацією фірми (ціною акції, Р) і доходами компанії (доходом акції, Е). Відповідно, чим вище співвідношення Р / Е (ціна акцій / доходи по акціях), тим більший прибуток очікує отримати інвестор. У різних галузях і товарних категоріях існують певні діапазони очікуваних значень коефіцієнта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4000" y="731520"/>
            <a:ext cx="755964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рівняльний метод, або метод додаткового доходу (Premium Profit, Economic Value Added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ґрунтується на виявленні цінової премії, тобто різниці в ціні реалізації брендованого продукту і аналогічного типового продук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 algn="ctr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)*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76464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іна марочного товару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ціна стандартного товар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обсяг продажів марочного товару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іод життєвого циклу брен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640" y="731520"/>
            <a:ext cx="77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 капіталізації прибутків компанії Interbrand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стосовується відносно брендів, які відповідають таким критеріям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артість бренда повинна перевищувати 1 млрд дол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ренд повинен бути глобальним (1/3 продажів повинна здійснюватися поза ринком країни виробництва)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аявність публічної фінансової звітності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тод розрахунку вартості бренда заснований на обчисленні чистої поточної вартості прибутків, які принесе бренд в майбутньому. Зокрема, оцінюються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інансові прогнози, роль брендингу, сила бренда, вартість брен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71280" y="731880"/>
            <a:ext cx="75610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Фінансовий прогно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розробляється на основі відкритої інформації. Виходячи з прибутків компанії за останні три роки, розраховується майбутній річний дохід. Фінансовий прогноз будується з урахуванням динаміки ринкової вартості акцій і дивідендів по акціях за останній рік. Потім з цієї суми віднімаються всі операційні витрати, податки і витрати на залучений капітал. Таким чином, обчислюється дохід, створюваний нематеріальними активами (intangible earnings). Спеціальні методики дозволяють на його основі розрахувати вартість інтелектуального капітал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ль брендин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представляється основою для визначення частки нематеріальних активів в загальному доході, яка формується безпосередньо брендом. На цій стадії обчислюються і оцінюються ключові фактори, що формують споживчий попит і ступінь їх залежності від брен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ила брен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оцінюється як сума можливих ризиків бренда, за якими прогнозований дохід дисконтується до чистої теперішньої вартості. Сила бренда розраховується за сьома ключовими параметрами (табл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325520" y="1484280"/>
          <a:ext cx="7062840" cy="4519800"/>
        </p:xfrm>
        <a:graphic>
          <a:graphicData uri="http://schemas.openxmlformats.org/drawingml/2006/table">
            <a:tbl>
              <a:tblPr/>
              <a:tblGrid>
                <a:gridCol w="4689360"/>
                <a:gridCol w="2373480"/>
              </a:tblGrid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 критерію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ство в товарній категор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нтернаціоналізація (міжнародна присутні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більність обсягів продаж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ка на основних рин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енції у розвитку ринка і товарної категорі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кетингова підтри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ий захи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3"/>
          <p:cNvSpPr/>
          <p:nvPr/>
        </p:nvSpPr>
        <p:spPr>
          <a:xfrm>
            <a:off x="1533600" y="6883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ї оцінки сили бренд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71640" y="731880"/>
            <a:ext cx="74167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артість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обчислюється як чиста теперішня вартість планованого чистого прибутку від використання торгової марки. Метод компанії Interbrand визначає вартість бренда на основі фінансових показників з урахуванням сили позицій бренда на ринку. Для розрахунку вартості бренда використовується формул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 =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розмір марочного капіта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коефіцієнт, граничні значення якого визначають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чистий прибуток підприєм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258560" y="731520"/>
            <a:ext cx="748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066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ідмін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арактеризує ступінь диференціації бренда від конкуруючих на ринку аналогів і зумовлює розуміння його позиції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зуміння позиції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або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усвідомлення його су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абезпечується налагодженням ефективних комунікацій з цільовою аудиторією. Цей критерій показує, наскільки міцно рекламна ідея закріпилася в свідомості споживачі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ізнаваність іміджу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характеризує, наскільки правильно споживачі сприймають індивідуальність бренда і в якій мірі реалізують його вигоди і переваг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Виконання обіцян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оказує, наскільки заявлена брендом позиція, його вигоди і переваги відповідають очікуванням споживачів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731520"/>
            <a:ext cx="806472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алучення покупц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ередбачає фактичне збільшення числа покупців внаслідок ефективного брендингу. До числа залучених можуть відноситися як вперше залучені до товарної категорії споживачі, так і ті, які перейшли від брендів-конкурент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Посилення лояльності споживачів до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як фактор управління, передбачає виявлення його здатності підтримувати стабільний рівень продажів в результаті безумовної споживчої переваги на користь бренда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Розширення ринку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безпечується в результаті зростання споживчих уподобань бренда в нових ринкових сегмента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Фінансова оцінка брен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передбачає виявлення або розрахунок цінової премії, яка встановлюється на марочні продукти у порівнянні з брендами конкурентів тієї ж товарної груп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вчення розвитку бренда контролюється і координується на основі постійного маркетингового моніторингу –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бренд-трекінгу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який передбачає збір і обробку даних за певні інтервали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 практиці компаній всі складові моніторингу бренда акумулюються в трьох напрямках, які визначають модель споживчої поведінки: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присутність бренда в роздрібній торгівлі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ефекти комунікацій і ефекти марки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10920" y="731880"/>
            <a:ext cx="79930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Присутність на ринку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значається фізичною наявністю брендованого товару в роздрібній торгівлі, його представленістю в торговому залі, особливостями організації його простору в точці продажу, характерною викладкою та іншими складовими системи мерчендайзингу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 марк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являють рівень знання і споживання товару, а також сприйняття якості бренду і його імідж. Поінформованість про марку показує ступінь популярності бренда, яка вимірюється числом респондентів, здатних назвати бренд, а також здатністю споживачів згадати бренд з підказкою, наприклад, при згадці товарної категорії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Ефекти комунікацій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визначають якість знання про бренд, яке формується комунікативними заходами фірми. Вивчаючи ефекти комунікацій, можна виявити активність виробника в створенні іміджу бренда, включаючи ступінь впливу комунікацій на розвиток капіталу бренд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764640"/>
            <a:ext cx="6512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raditional Arabic"/>
              </a:rPr>
              <a:t>Оцінка вартості брендів</a:t>
            </a:r>
            <a:r>
              <a:rPr b="1" lang="ru-RU" sz="4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7774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оделі і методи оцінки вартості бренда, що застосовуються в зарубіжній практиці, можуть бути систематизовані на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ві груп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и економічного прогнозування і методи безпосередньої оцінки вартості бренд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Методи економічного прогноз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сновані на використанні наступних основних інструментів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) багатофакторний аналіз розвитку бренда на різних етапах життєвого цикл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спеціальні програми комп’ютерного моделю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731520"/>
            <a:ext cx="770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Найбільший розвиток отримали наступні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моделі економічного прогнозування цінності бренда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Equity Ten Девіда Ааке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Dynamics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дель Brand Assets Valuator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нверсійна модель компанії Taylor Nelson Sofres (TNS)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BrandZ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Brand Capital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 Imager Power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15:50:55Z</dcterms:created>
  <dc:creator>Dvyhun</dc:creator>
  <dc:description/>
  <dc:language>en-US</dc:language>
  <cp:lastModifiedBy>Olya</cp:lastModifiedBy>
  <dcterms:modified xsi:type="dcterms:W3CDTF">2019-04-03T08:14:40Z</dcterms:modified>
  <cp:revision>25</cp:revision>
  <dc:subject/>
  <dc:title>Тема 5. Вимірювання марочного капітала. Аудит бренда</dc:title>
</cp:coreProperties>
</file>