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587-B777-46D4-9995-43B49CF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C80-C1AE-4E69-AF5B-166E207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97D-B26F-47E9-B693-35A0EE55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DBB-8063-4AB0-8DFD-6CD58063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3637-3CF9-404C-8BB1-43E1E930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A09-613A-4E90-AB62-DB1DA20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C80-5743-43FF-BBE5-9ED9540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02E9-0A65-49FC-BD7B-AEA05F21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79BD-F175-4B24-9073-FE6BB35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95C0-51EC-48F1-82C2-1E490797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4295-915B-43CC-B32F-A8F57A6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072-B5B8-4888-85A0-81A70077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66E6-D299-40E7-808F-9727FF0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7907-C92F-415E-A0B4-F913B55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3D0-85C4-46B7-BCCA-03CDCFC6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464-16B3-44A1-9CE3-3C384853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D16A-FB69-4A07-B820-6D128F6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0E65-7980-4367-983B-B69981F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7D81-6D72-4857-955D-A49AD228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BF37-B3C5-40AA-96CD-7E8247B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9D9D-0C13-48A9-9EBB-6B942CC6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ECD6-7031-47C1-AD0E-764B8C9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580-2059-4242-968D-29F2F338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0833-968C-46E8-BD42-1195F591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7D7A-45AE-4CE8-B997-A9A42D7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ED65-02FF-4289-BC91-C32A36C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4EF4-C1E5-446A-A72C-D8AD13D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8CCB-F114-4CEC-B76C-0F05F30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3AEF-8ECA-45C5-A9EB-D6D876C9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BF2F-913C-469E-B453-0CC33DF5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EC346-95C8-4EE1-853E-9155F06C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1D37-0435-4E83-A85B-4981B72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269F-8C81-4DE1-817E-16DFFE5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749-B712-4E5C-90F9-8485A64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F04C-FB00-428D-8269-D34B60B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CCE2-7BF0-4127-8DDD-3F865AE2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24B7-DB92-4DA8-848A-F2AD864F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6ED4-CFA0-42AB-B4E0-181C65D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BA43-DA63-4129-A5F0-9B8D826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90AA-CF50-4ECB-8035-5206289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7DCF-0BD3-4927-891E-DFE8CF85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D36A-D2F9-427F-8991-D843683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DC0F-461C-432A-A3C7-C2540367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DD4-361E-4468-A27C-AC1B67D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012-5CD5-4308-9E4E-77F693F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B05-53E9-493A-A54A-428F546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EAD-0959-41AB-A5B1-EDC6751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249-D6D6-4F80-B921-CF8260D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6140-3005-49AC-B10E-B29FCFE32A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135-E3F3-432F-B572-B8ECD4B28F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EEA-8869-43C3-8BFB-620A6D3A6D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1D6-8CDD-42FC-A612-E6857ED003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16000" y="2349360"/>
            <a:ext cx="7416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та сутність марочного капітала, фактори його оцінк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удит бренд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інка вартості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901800" y="676440"/>
            <a:ext cx="784548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12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ь Brand Equity Ten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розроблена професором Девідом Аакером), являє собою мультикритеріальний метод оцінки поточної вартості бренда, що враховує багатофакторність капіталу бренд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. Аакер виділяє п’ять груп факторів, що беруть участь у формуванні цінності брен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лояльність, популярні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(поінформованість про бренд)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соціації,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прийнята (очікувана) якість, інші індивідуальні складов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патенти, торгові марки і т.п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187280" y="1123920"/>
          <a:ext cx="7272360" cy="4633920"/>
        </p:xfrm>
        <a:graphic>
          <a:graphicData uri="http://schemas.openxmlformats.org/drawingml/2006/table">
            <a:tbl>
              <a:tblPr/>
              <a:tblGrid>
                <a:gridCol w="2671920"/>
                <a:gridCol w="4600440"/>
              </a:tblGrid>
              <a:tr h="244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капітала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фактор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інформованість про бре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ється спонтанною і наведеною популярніст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йнята як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удується на суб’єктивно оцінюваних споживачами вигоді та переваг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рівень сприйманої якості співвідноситься з фінансовими показниками повернення інвестицій і доходніст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оціації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ють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дивідуальністю брен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ем споживач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кстом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яльність до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юється як число споживачів і ступінь лояльності в різних сег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менти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ють всі зареєстровані і запатентовані активи бренду, в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ен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ні зна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1"/>
          <p:cNvSpPr/>
          <p:nvPr/>
        </p:nvSpPr>
        <p:spPr>
          <a:xfrm>
            <a:off x="1332000" y="4262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цінності бренд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дель Brand Assets Valuator (BAV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розроблена компанією Young &amp; Rubican, заснована на мультикритеріальній оцінці стратегічного розвитку бренду. Дана модель описує розміщення на ринку будь-якого бренда, незалежно від товарної категорії, країни виробника і «віку», на основі чотирьох основних критеріїв, які тісно пов’язані з можливістю забезпечити зростання прибутку компанії і, відповідно, підвищити цінність продукту для влас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результаті багаторічних досліджень фахівці компанії виявили понад тридцять факторів, що формують вартість брендів, і систематизували їх в чотири базові категорії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мінність, значущість (актуальність), повага, зн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727236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042920" y="1125360"/>
          <a:ext cx="7201080" cy="4824720"/>
        </p:xfrm>
        <a:graphic>
          <a:graphicData uri="http://schemas.openxmlformats.org/drawingml/2006/table">
            <a:tbl>
              <a:tblPr/>
              <a:tblGrid>
                <a:gridCol w="1949400"/>
                <a:gridCol w="5251680"/>
              </a:tblGrid>
              <a:tr h="266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 факто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факто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ренціація бренда – це його здатність проявляти індивідуальність і зберігати свої позиції в свідомості споживачі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ренціація бренда принципово виділяє його серед конкурентних аналогів і лежить в основі вибору споживач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ущість (Актуальність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ущість бренда означає його відповідність життєвим цінностям споживач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 повагою розуміється сприймана якість і споживчі сприйняття щодо популярності бренда, яка зростає або знижує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га означає перевагу бренда над іншими конкуруючими аналог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 знанням розуміється рівень обізнаності споживача про бренд і розуміння його «особистості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ня є результатом маркетингових і рекламних дій рекламодавців, які формують знання про бре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метою виявлення споживчих переваг щодо критеріїв, представлених в таблиці, будується матриця, по осях якої відкладаються агреговані показни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ла бренда (brand strength)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формується відмінністю і актуальністю, які характеризують життєздатність і потенціал зростання брен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ложення бренда (brand stature)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формується популярністю і поваго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ла вимірюється по вертикальній осі, а статус – по горизонтальні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695600" y="5108400"/>
            <a:ext cx="6510240" cy="64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1187280" y="731880"/>
            <a:ext cx="741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ові бренди, які ще не встигли сформуватися, будуть розташовуватися в нижньому лівому секторі з низьким рівнем сили і статусу. З ростом бренда він буде переміщатися спочатку в лівий верхній сектор, де сила набагато більше статусу. Тут розташовуються бренди з ще нереалізованим потенціалом зростання, яким ще тільки належить стати широко відомими. Для максимізації їх вартості для акціонерів бренди повинні пересуватися в сторону правого верхнього квадранта, де знаходяться бренди-лідер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ли бренд починає слабшати, перше, що знижується, – це показник унікальності, що веде до втрати лідируючих позицій. Починається старіння бренда: він все ще популярний і широко відомий, але з втратою унікальності слабшає здатність бренда до розширення серед покупців і ринкових сегментів. Старіння поступово змінюється фазою розмивання, коли бренд все ще знаходиться у вигідному становищі, але вже почав виходити з кола переваг споживача. Найнебезпечніша фаза – це розфокусованість, коли бренд не наділений силою і у нього низький стату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ратегія управління брендом полягає в тому, щоб перевести бренд в правий верхній сектор лідера, намагаючись уникнути фаз розмивання і розфокусованості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ь Brand Dynamics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дозволяє відслідковувати показники розвитку бренда протягом життєвого циклу і прогнозувати зміну ринкової частк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новними елементами моделі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Brand Dynamics Pyramid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піраміда бренда»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Brand Signature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підпис бренда»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енергія бренда»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748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Конверсійна модель компанії (conversion model) компанії Taylor Nelson Sofres (TN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заснована на виявленні споживчих переваг за чотирма параметрам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1) відповідність бренда потребам, або ступінь задоволеності брендом (Needs Fit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2) залучення споживача до ухвалення рішення про покупку, або наскільки важливим є вибір марки (Involvement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3) ставлення до альтернатив, або наскільки привабливі для споживача конкуруючі бренди (Disposition to Alternatives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4) суперечливість вибору, або наскільки споживачі «розриваються» між привабливістю аналогічних брендів в категорії (Ambivalence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99640" y="731520"/>
            <a:ext cx="74883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BrandZ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розроблений фахівцями групи компанії WPP Group і також служить для вимірювання сили і потенціалу бренда. Він заснований на глибинних інтерв’ю з респондентами, вивчення відповідей яких дозволяє визначити основні причини лояльності до бренда, а також відмовлення від його придбання. Отримані дані використовуються для коригування стратегій брендів в портфелі компанії, в тому числі комунікаційн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Brand Capita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також заснований на глибинних інтерв’ю з респондентами, на основі яких оцінюється відношення споживачів до бренду і його здатність посилювати взаємини між споживчими аудиторіями, своєрідне «тяжіння» бренду (brand magnetism). Метод дозволяє виявити ставлення споживачів до бренда як лідеру категорії, зростання його популярності та ступінь унікальності в категорії і служить основою для прийняття стратегічних рішен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Imager Power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запропонований компанією Landor Associates, дозволяє виявити параметри, що визначають силу бренда, зокрема такі, як функціональність бренда, культура бренда, позиціонування бренда, атрибути брен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42920" y="981000"/>
            <a:ext cx="7416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арочний капітал (brand equity)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вляє собою набір активів, що беруть участь у формуванні цінності бренду для споживач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Аудит бренда (brand audit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передбачає вивчення розвитку бренда в поточному періоді з метою оцінки стратегічного потенціалу та прогнозування його майбутнього стан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86920" y="731520"/>
            <a:ext cx="74170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тратний метод, або метод сумарних витрат на розвиток (Activity Based Costing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передбачає підсумовування всіх можливих витрат, пов’язаних зі створенням та просуванням бренда протягом всього життєвого циклу. Як правило, більша частина таких витрат є витрати на рекламу та інші комунікації бренда. Поточна вартість всіх інвестицій в розвиток бренда розраховується за формуло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…+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вартість заходів по розробці та просуванню бренд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632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Метод майбутніх доходів (Future Earning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навпаки дозволяє розрахувати приблизний прибуток, який принесе бренд в майбутньому періоді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Метод доходу по акціях (Earnings Basi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заснований на співвіднесенні ринкової ціни акцій компанії з динамікою доходів компанії. На фондових ринках для оцінки майбутніх доходів застосовується розрахунковий коефіцієнт «Р / Е», що відображає взаємозв’язок між капіталізацією фірми (ціною акції, Р) і доходами компанії (доходом акції, Е). Відповідно, чим вище співвідношення Р / Е (ціна акцій / доходи по акціях), тим більший прибуток очікує отримати інвестор. У різних галузях і товарних категоріях існують певні діапазони очікуваних значень коефіцієнт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4000" y="731520"/>
            <a:ext cx="755964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рівняльний метод, або метод додаткового доходу (Premium Profit, Economic Value Added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ґрунтується на виявленні цінової премії, тобто різниці в ціні реалізації брендованого продукту і аналогічного типового продук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)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646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іна марочного товару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іна стандартного товар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обсяг продажів марочного товару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іод життєвого циклу брен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640" y="731520"/>
            <a:ext cx="77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 капіталізації прибутків компанії Inter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стосовується відносно брендів, які відповідають таким критеріям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артість бренда повинна перевищувати 1 млрд дол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ренд повинен бути глобальним (1/3 продажів повинна здійснюватися поза ринком країни виробництва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явність публічної фінансової звітності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тод розрахунку вартості бренда заснований на обчисленні чистої поточної вартості прибутків, які принесе бренд в майбутньому. Зокрема, оцінюються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інансові прогнози, роль брендингу, сила бренда, вартість брен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71280" y="731880"/>
            <a:ext cx="7561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Фінансовий прогно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розробляється на основі відкритої інформації. Виходячи з прибутків компанії за останні три роки, розраховується майбутній річний дохід. Фінансовий прогноз будується з урахуванням динаміки ринкової вартості акцій і дивідендів по акціях за останній рік. Потім з цієї суми віднімаються всі операційні витрати, податки і витрати на залучений капітал. Таким чином, обчислюється дохід, створюваний нематеріальними активами (intangible earnings). Спеціальні методики дозволяють на його основі розрахувати вартість інтелектуального капітал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ль брендин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представляється основою для визначення частки нематеріальних активів в загальному доході, яка формується безпосередньо брендом. На цій стадії обчислюються і оцінюються ключові фактори, що формують споживчий попит і ступінь їх залежності від брен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ила брен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оцінюється як сума можливих ризиків бренда, за якими прогнозований дохід дисконтується до чистої теперішньої вартості. Сила бренда розраховується за сьома ключовими параметрами (табл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325520" y="1484280"/>
          <a:ext cx="7062840" cy="4519800"/>
        </p:xfrm>
        <a:graphic>
          <a:graphicData uri="http://schemas.openxmlformats.org/drawingml/2006/table">
            <a:tbl>
              <a:tblPr/>
              <a:tblGrid>
                <a:gridCol w="4689360"/>
                <a:gridCol w="237348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 критерію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ство в товарній категор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рнаціоналізація (міжнародна присутні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ільність обсягів прод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а на основних рин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енції у розвитку ринка і товарної категор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ова підтри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ий зах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3"/>
          <p:cNvSpPr/>
          <p:nvPr/>
        </p:nvSpPr>
        <p:spPr>
          <a:xfrm>
            <a:off x="1533600" y="6883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ї оцінки сили брен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71640" y="731880"/>
            <a:ext cx="7416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артість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обчислюється як чиста теперішня вартість планованого чистого прибутку від використання торгової марки. Метод компанії Interbrand визначає вартість бренда на основі фінансових показників з урахуванням сили позицій бренда на ринку. Для розрахунку вартості бренда використовується форму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 =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коефіцієнт, граничні значення якого визначають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чистий прибуток підприєм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258560" y="731520"/>
            <a:ext cx="748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066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мін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арактеризує ступінь диференціації бренда від конкуруючих на ринку аналогів і зумовлює розуміння його позиції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зуміння позиції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або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свідомлення його су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абезпечується налагодженням ефективних комунікацій з цільовою аудиторією. Цей критерій показує, наскільки міцно рекламна ідея закріпилася в свідомості споживачі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ізнаваність іміджу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арактеризує, наскільки правильно споживачі сприймають індивідуальність бренда і в якій мірі реалізують його вигоди і переваг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конання обіцян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казує, наскільки заявлена брендом позиція, його вигоди і переваги відповідають очікуванням споживачі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учення покупц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ередбачає фактичне збільшення числа покупців внаслідок ефективного брендингу. До числа залучених можуть відноситися як вперше залучені до товарної категорії споживачі, так і ті, які перейшли від брендів-конкурент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силення лояльності споживачів до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 фактор управління, передбачає виявлення його здатності підтримувати стабільний рівень продажів в результаті безумовної споживчої переваги на користь бренда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зширення рин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безпечується в результаті зростання споживчих уподобань бренда в нових ринкових сегмента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інансова оцінка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ередбачає виявлення або розрахунок цінової премії, яка встановлюється на марочні продукти у порівнянні з брендами конкурентів тієї ж товарної груп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вчення розвитку бренда контролюється і координується на основі постійного маркетингового моніторингу 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бренд-трекінг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який передбачає збір і обробку даних за певні інтервал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практиці компаній всі складові моніторингу бренда акумулюються в трьох напрямках, які визначають модель споживчої поведінки: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рисутність бренда в роздрібній торгівл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ефекти комунікацій і ефекти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0920" y="731880"/>
            <a:ext cx="79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рисутність на рин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значається фізичною наявністю брендованого товару в роздрібній торгівлі, його представленістю в торговому залі, особливостями організації його простору в точці продажу, характерною викладкою та іншими складовими системи мерчендайзинг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 марк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являють рівень знання і споживання товару, а також сприйняття якості бренду і його імідж. Поінформованість про марку показує ступінь популярності бренда, яка вимірюється числом респондентів, здатних назвати бренд, а також здатністю споживачів згадати бренд з підказкою, наприклад, при згадці товарної категорії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 комунікацій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значають якість знання про бренд, яке формується комунікативними заходами фірми. Вивчаючи ефекти комунікацій, можна виявити активність виробника в створенні іміджу бренда, включаючи ступінь впливу комунікацій на розвиток капіталу бренд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6512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raditional Arabic"/>
              </a:rPr>
              <a:t>Оцінка вартості брендів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делі і методи оцінки вартості бренда, що застосовуються в зарубіжній практиці, можуть бути систематизовані на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ві груп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и економічного прогнозування і методи безпосередньої оцінки вартості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и економічного прогноз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сновані на використанні наступних основних інструмент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багатофакторний аналіз розвитку бренда на різних етапах життєвого цик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спеціальні програми комп’ютерного моделю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йбільший розвиток отримали наступні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і економічного прогнозування цінності бренд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Equity Ten Девіда Ааке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Dynamics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Assets Valuator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нверсійна модель компанії Taylor Nelson Sofres (TNS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BrandZ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Brand Capital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Imager Pow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15:50:55Z</dcterms:created>
  <dc:creator>Dvyhun</dc:creator>
  <dc:description/>
  <dc:language>en-US</dc:language>
  <cp:lastModifiedBy>Olya</cp:lastModifiedBy>
  <dcterms:modified xsi:type="dcterms:W3CDTF">2019-04-03T08:14:40Z</dcterms:modified>
  <cp:revision>25</cp:revision>
  <dc:subject/>
  <dc:title>Тема 5. Вимірювання марочного капітала. Аудит бренда</dc:title>
</cp:coreProperties>
</file>