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512B75-6591-4686-B49A-900DF000D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B7538-BE09-4DB9-9EDE-9BE92F8EE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FD82-848F-49A7-AF02-2767FDAE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34BC-8991-4399-8604-415B4B2D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D4476-2600-426A-8A50-96F0CB62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C9334-39F4-461E-97AC-573A2439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1C06F-F1FE-4843-8B95-F4021917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82A41-89A0-4274-BC2E-40438A2D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E3FE8-0A49-4B79-9639-2F8D6B00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86349-66E3-41E2-8E14-EEEDAA15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61DE2-AA51-4DC4-A3C3-0EF93368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CD0A4-2C64-43E7-818F-62329889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5874E-9523-4FA8-8F9D-66D0123A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6F0FE-243C-48C4-9ACB-27210A5D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B720-D5EB-4744-9A6A-A64B30C1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CD76E-39E0-44B6-AB65-5C1CB14F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BFDA6-6BCB-4A6C-A76A-5E13A7D0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460D2-9960-4EAC-85A6-7881C0F4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AFD2B-8E5A-47A9-AC13-5638E586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60D2B-B7EE-4977-A79E-A15EBD2A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E1957-706B-4EA5-AFA6-7FDB11C7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FC912-1CCB-45CD-B968-F958BAF5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44A63-2864-4939-98FE-A5F1DE7D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47077-97C4-45AE-BA7D-A875523D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FF089-AEDF-4838-9CD3-64646E80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623F-F1EE-44B9-AC4A-0A1A1300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0CCBA-E301-4740-B0E9-5B477239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DC766-6432-48D9-BEE1-BBE71283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37A60-3CB9-410A-837A-F7D2266E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72FDE-DF84-430F-8DA1-86CA219E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2184A-1F52-4A80-8AF6-7E54E37C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FCB5C-D828-440F-AE4F-6FFD6B41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4A57A-2D8B-4FEE-9340-23318D89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3D838-FCD0-4A08-AC56-A0BF4BE1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4EED9-EBD4-466A-BD8B-006CA2C8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B1A2D-24DC-4794-9D5C-320BD500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3579-0E05-4D8E-B02B-A5C8AF76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84C70-8E0D-43BC-ACF3-4FCD37C9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CDC51-6FE8-4B98-83C8-C84DCFC8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9D5F5-A92A-4383-94D6-D6CF4B01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1F3C-8083-413A-B2C2-876B780D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F985-5EB6-4645-BDD8-D4B60B2E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506E-324B-4A66-959D-8B263408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1F60-C929-4202-9BEF-3113ACA1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0A8C-B51C-4B6E-8672-9EC6A7DA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7A3B-B825-4DD1-829A-3BBA3530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89F-B8F9-499D-8802-BA2C0976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7A7A-24B0-4DCD-BDBA-26C4676C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A149-9CCC-46C1-A07A-902D16CE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062B-4C3B-4CD3-BD90-3E8799BE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E6BC-C565-4987-9468-D6481D50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B47A-6F1A-4A43-9082-22E5DB3B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94C1E-9CF4-4F21-95C6-DBF50D7B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F936B-1E6F-46E5-950F-D4958897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9F8C0-6097-44A0-9E36-EDD2BD1E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AC665-1B8A-4007-8B30-59D1AE2E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D91C7-5D37-48AB-93D4-90A8F8C9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EDB9-D2D7-417B-81A3-3A02D730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2E996-2E96-4972-9C2A-E0DEA8FE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C69FF-0E5B-4207-B759-0649C246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F6008-752B-404B-B475-BEDDB058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CB83A-E8A4-402D-8932-5FF7010F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B752E-6C04-44B0-9401-6DC16986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97C4D-97AC-4D69-83D3-803B901F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144AD-4AFF-4AD3-85CF-52E1F77F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95FC6-34C0-431A-983B-53A3278C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09BAC-442E-4E4B-B15F-8F681D8E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29072-CA5D-4309-9B83-5EF40C12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8D63-FAB3-46AD-9C6C-A8A8F37F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4E47E-B0B7-4BBA-816C-B6C908CB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1ECF0-2ED4-4E42-A1F1-41BA67C2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218E8-BE0F-4108-92AA-8F4F9409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DC04B-9160-4545-A840-7ECCFA9E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38F24-0CCB-4E99-8D14-85E1F285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0CF4F-9003-45EC-B454-DD847A66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F2B21-EAA8-4FE7-AADB-F262EF58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9ADB2-29FC-49DC-B733-FF3BE9FA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69172-6B3C-40CF-BE08-75130974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F86A5-982F-477B-A4E8-85490829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06B4-3AF8-4C2D-AFE0-A0BD593F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D6FB9-863C-451B-B492-55ABCF7B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EDB57-BDE8-4CFC-B357-FFBDB0C5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0FE2B-1192-475F-AA31-68EFFF79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3EFDA-01FE-4038-95E4-586A20E7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F5AA3-FE2A-4E62-8C4A-4F8369BC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A1E76-07EB-4DE4-AC6F-35FAC894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ABC1F-ABE8-4E4D-8FD3-CD8E00A7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2EF31-99EC-43E3-94B5-51653B57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60165-6BCF-4418-823C-31490304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371D2-5DDA-4195-AC7A-A7587D75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ADEC-9663-4B18-A051-B063DFAE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F3D9C-ECD5-4980-BA93-13443158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46914-136D-44D0-AC78-3EEDF56B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9FD87-5981-4039-B9F9-EEC67F20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7094E-005F-4676-B322-0301F5F7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34D30-AB3F-4DE4-B78E-F742C613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EA634-FD75-44E2-AF9E-A065D594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22DAF-EB23-48A6-A952-A85DDC4D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25C99-6AB7-485B-B280-F7389718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FE8CC-5696-4C1F-A265-104CE875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80BAB-241E-4E97-BADC-A850D7EF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2D65-CAAA-4140-95BD-B1C0AC6E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939BC-6A96-4639-BD45-3716161F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AF64E-34FD-485E-A290-D35AED7D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427F5-6DDA-4D2E-BC75-0AE159B8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19667-ACE1-4DB7-87CF-6AA5D173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1302B-0DB3-4FB2-84C4-9996A55A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B021D-B407-4E48-B268-3F5636F8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93D2D-A2AF-44D6-AA7B-BED41482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55F78-AC9C-49E8-9AF2-B98639BC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6E626-14E8-4D85-A742-96A31642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62B8B-88A4-4906-A9FE-69136E87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F437-859D-42E7-8F51-C1C5A6FD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EA246-7C2C-4435-BACB-72D1C9C5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D9A14-81F1-4E68-9D74-699A8F34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9D271-6112-432B-86B6-11EC3625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4C9A8-9EB4-4D26-8B51-BB6F5EF0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1CF0A-BC2E-4E01-8683-7A65B3C0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E7683-21FC-470D-9ED3-1038DA93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13155-E7B9-438B-8BF7-A0A28EF2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29D13-4C56-4241-9400-37334195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6AE45-11B5-4DAE-96E4-F0BDE435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20674-F641-4C0F-8AC0-6E09F5A3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4842-3E6D-4E2A-9BC1-E167D132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30D80-5A77-460B-932D-06B03853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82F1A-D712-4BD1-BEA3-11471FD7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CA5AF-E2EC-4C49-B460-1238290B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45D8C-357D-4DD5-936B-E68C7727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51095-19A9-415D-B85B-46DA61B6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894BD-C43D-4052-A00D-3B7E8CFD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C5770-DA93-4255-86A6-897FC45B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6238E-7EE5-4C36-B48A-158EBFF1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7F60F-EF7E-4C25-9D5F-2F9F3246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4502F-834D-4FEA-AFFD-AF782FFC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12B48-E71C-45BD-8CA0-DC47EA0D9E9E}" type="slidenum">
              <a:rPr b="0" lang="ru-RU" sz="2800" spc="-1" strike="noStrike">
                <a:solidFill>
                  <a:srgbClr val="f0a22e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25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3486B-3DBD-4C33-9408-117E7F90D4FF}" type="slidenum">
              <a:rPr b="0" lang="ru-RU" sz="2800" spc="-1" strike="noStrike">
                <a:solidFill>
                  <a:srgbClr val="f0a22e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9439200" y="798480"/>
            <a:ext cx="0" cy="466092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F1479-D480-44AC-9F25-C87037F961B3}" type="slidenum">
              <a:rPr b="0" lang="ru-RU" sz="2800" spc="-1" strike="noStrike">
                <a:solidFill>
                  <a:srgbClr val="f0a22e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417760" y="3529080"/>
            <a:ext cx="86374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415960" y="328680"/>
            <a:ext cx="4973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7840" y="798480"/>
            <a:ext cx="80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0B6E2-AB15-490C-8EAD-B4AB7370D6F9}" type="slidenum">
              <a:rPr b="0" lang="ru-RU" sz="2800" spc="-1" strike="noStrike">
                <a:solidFill>
                  <a:srgbClr val="f0a22e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C23443-5DA2-4FF9-821F-F73A92A5E6F8}" type="slidenum">
              <a:rPr b="0" lang="ru-RU" sz="2800" spc="-1" strike="noStrike">
                <a:solidFill>
                  <a:srgbClr val="f0a22e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54040" y="3805200"/>
            <a:ext cx="863136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99B57F-A6DC-4729-9F33-0239363E273A}" type="slidenum">
              <a:rPr b="0" lang="ru-RU" sz="2800" spc="-1" strike="noStrike">
                <a:solidFill>
                  <a:srgbClr val="f0a22e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4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DB41C-E0A2-4E07-84D1-A850F1B16029}" type="slidenum">
              <a:rPr b="0" lang="ru-RU" sz="2800" spc="-1" strike="noStrike">
                <a:solidFill>
                  <a:srgbClr val="f0a22e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28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DEDD0-8C26-4827-9863-4BC4E3FEFDC4}" type="slidenum">
              <a:rPr b="0" lang="ru-RU" sz="2800" spc="-1" strike="noStrike">
                <a:solidFill>
                  <a:srgbClr val="f0a22e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24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6B810-F2F4-4EE1-ADCC-118DE498D0A8}" type="slidenum">
              <a:rPr b="0" lang="ru-RU" sz="2800" spc="-1" strike="noStrike">
                <a:solidFill>
                  <a:srgbClr val="f0a22e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7920" y="3205080"/>
            <a:ext cx="327024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FA9115-4844-42CE-8706-EA62E6C01D4E}" type="slidenum">
              <a:rPr b="0" lang="ru-RU" sz="2800" spc="-1" strike="noStrike">
                <a:solidFill>
                  <a:srgbClr val="f0a22e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7"/>
          <p:cNvGrpSpPr/>
          <p:nvPr/>
        </p:nvGrpSpPr>
        <p:grpSpPr>
          <a:xfrm>
            <a:off x="7477200" y="482760"/>
            <a:ext cx="4075200" cy="5148000"/>
            <a:chOff x="7477200" y="482760"/>
            <a:chExt cx="4075200" cy="5148000"/>
          </a:xfrm>
        </p:grpSpPr>
        <p:grpSp>
          <p:nvGrpSpPr>
            <p:cNvPr id="363" name="Rectangle 17"/>
            <p:cNvGrpSpPr/>
            <p:nvPr/>
          </p:nvGrpSpPr>
          <p:grpSpPr>
            <a:xfrm>
              <a:off x="7477200" y="482760"/>
              <a:ext cx="4075200" cy="5148000"/>
              <a:chOff x="7477200" y="482760"/>
              <a:chExt cx="4075200" cy="5148000"/>
            </a:xfrm>
          </p:grpSpPr>
          <p:pic>
            <p:nvPicPr>
              <p:cNvPr id="364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477200" y="482760"/>
                <a:ext cx="40752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7573320" y="500400"/>
                <a:ext cx="3880440" cy="48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8"/>
            <p:cNvGrpSpPr/>
            <p:nvPr/>
          </p:nvGrpSpPr>
          <p:grpSpPr>
            <a:xfrm>
              <a:off x="7831080" y="771480"/>
              <a:ext cx="3361320" cy="4310280"/>
              <a:chOff x="7831080" y="771480"/>
              <a:chExt cx="3361320" cy="4310280"/>
            </a:xfrm>
          </p:grpSpPr>
          <p:pic>
            <p:nvPicPr>
              <p:cNvPr id="367" name="Rectangl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7831080" y="771480"/>
                <a:ext cx="3361320" cy="43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7871400" y="813240"/>
                <a:ext cx="3286080" cy="42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7920" y="3143160"/>
            <a:ext cx="552744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47920" y="5470560"/>
            <a:ext cx="552744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47920" y="318600"/>
            <a:ext cx="5540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958DAB-E208-4BFA-A5C2-9FFD29FCA5EE}" type="slidenum">
              <a:rPr b="0" lang="ru-RU" sz="2800" spc="-1" strike="noStrike">
                <a:solidFill>
                  <a:srgbClr val="f0a22e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krstat.gov.ua/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af5"/>
            </a:gs>
            <a:gs pos="100000">
              <a:srgbClr val="fae3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Заголовок 1"/>
          <p:cNvGrpSpPr/>
          <p:nvPr/>
        </p:nvGrpSpPr>
        <p:grpSpPr>
          <a:xfrm>
            <a:off x="227160" y="203040"/>
            <a:ext cx="6825960" cy="2523960"/>
            <a:chOff x="227160" y="203040"/>
            <a:chExt cx="6825960" cy="2523960"/>
          </a:xfrm>
        </p:grpSpPr>
        <p:pic>
          <p:nvPicPr>
            <p:cNvPr id="50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27160" y="203040"/>
              <a:ext cx="682596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231840" y="210960"/>
              <a:ext cx="6818400" cy="25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a5644e"/>
                  </a:solidFill>
                  <a:latin typeface="Cambria"/>
                </a:rPr>
                <a:t>ДИСЦИПЛІНА ЗА ВИБОРОМ СТУДЕНТА: </a:t>
              </a:r>
              <a:br>
                <a:rPr sz="3200"/>
              </a:br>
              <a:r>
                <a:rPr b="1" i="1" lang="ru-RU" sz="3200" spc="-1" strike="noStrike">
                  <a:solidFill>
                    <a:srgbClr val="ff0000"/>
                  </a:solidFill>
                  <a:latin typeface="Cambria"/>
                </a:rPr>
                <a:t>Управління потенціалом регіону</a:t>
              </a:r>
              <a:endParaRPr b="0" lang="en-US" sz="3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380520" y="3730320"/>
            <a:ext cx="8001000" cy="289548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tIns="91440" bIns="9144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Cambria"/>
              </a:rPr>
              <a:t>РОЗРОБНИК ДИСЦИПЛІНИ, ЛЕКТОР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c00000"/>
                </a:solidFill>
                <a:latin typeface="Cambria"/>
              </a:rPr>
              <a:t>Яришко Олена Володимирівн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К.Е.Н., ДОЦЕНТ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ДОЦЕНТ КАФЕДРИ ІНФОРМАЦІЙНОЇ ЕКОНОМІКИ, ПІДПРИЄМНИЦТВА ТА ФІНАНСІВ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ІНЖЕНЕРНИЙ НАВЧАЛЬНО-НАУКОВИЙ ІНСТИТУ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ЗАПОРІЗЬКОГО НАЦІОНАЛЬНОГО УНІВЕРСИТЕТУ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77520" y="434880"/>
            <a:ext cx="9504360" cy="106992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Gill Sans MT"/>
              </a:rPr>
              <a:t>7. Бюджетний потенціал  регіону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245880" y="1815840"/>
            <a:ext cx="10413720" cy="367164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Поняття бюджетного потенціалу регіону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Особливості формування бюджетного потенціалу регіону: український досвід та зарубіжна практик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Оцінювання механізму формування бюджетного потенціалу регіону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Механізм формування бюджетного потенціалу регіону на основі таксономічного аналізу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Gill Sans MT"/>
              </a:rPr>
              <a:t>8. Інноваційний потенціал регіону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Поняття інноваційного потенціалу регіону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Основні компоненти інноваційного потенціалу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Методики оцінки інноваційного потенціалу регіону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Інноваційний потенціал регіонів Україн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Gill Sans MT"/>
              </a:rPr>
              <a:t>9. Особливості європейського регіоналізму</a:t>
            </a:r>
            <a:r>
              <a:rPr b="0" lang="uk-UA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72840" y="2015640"/>
            <a:ext cx="1103796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700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Gill Sans MT"/>
              </a:rPr>
              <a:t>Поняття Єврорегіон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19240" indent="-219240">
              <a:lnSpc>
                <a:spcPct val="120000"/>
              </a:lnSpc>
              <a:spcBef>
                <a:spcPts val="700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uk-UA" sz="1400" spc="-1" strike="noStrike">
                <a:solidFill>
                  <a:srgbClr val="000000"/>
                </a:solidFill>
                <a:latin typeface="Gill Sans MT"/>
              </a:rPr>
              <a:t>Пріоритети регіональної політики ЄС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19240" indent="-219240">
              <a:lnSpc>
                <a:spcPct val="120000"/>
              </a:lnSpc>
              <a:spcBef>
                <a:spcPts val="700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uk-UA" sz="1400" spc="-1" strike="noStrike">
                <a:solidFill>
                  <a:srgbClr val="000000"/>
                </a:solidFill>
                <a:latin typeface="Gill Sans MT"/>
              </a:rPr>
              <a:t>Інститути, що забезпечують регіональний розвиток. Асамблея Європейських Регіонів (АЄР); Асоціація Європейських Прикордонних Регіонів; Асоціація Європейських Регіонів; Економічна комісія ООН для Європи (ЕКЄ); Європейська економічна комісія; Європейська асоціація агентств регіонального розвитку (EURADA); Європейський фонд регіонального розвитку (ЄФРР, European Regional Fund); Європейські співтовариства; Комітет регіонів ЄС; Конгрес місцевих та регіональних влад Європи (КМРВЄ); Міжрегіональне економічне співробітництво країн ЄС; Наднаціональна регіональна політика Європейського союзу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19240" indent="-219240">
              <a:lnSpc>
                <a:spcPct val="120000"/>
              </a:lnSpc>
              <a:spcBef>
                <a:spcPts val="700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Gill Sans MT"/>
              </a:rPr>
              <a:t>Нормативна база. Декларація щодо регіоналізму в Європі; Європейська декларація прав міст; Європейська рамкова конвенція про транскордонне співробітництво між територіальними громадами та владами; Європейська хартія міст; Європейська хартія про місцеве самоврядування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19240" indent="-219240">
              <a:lnSpc>
                <a:spcPct val="120000"/>
              </a:lnSpc>
              <a:spcBef>
                <a:spcPts val="700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uk-UA" sz="1400" spc="-1" strike="noStrike">
                <a:solidFill>
                  <a:srgbClr val="000000"/>
                </a:solidFill>
                <a:latin typeface="Gill Sans MT"/>
              </a:rPr>
              <a:t>Програми розвитку регіону. Ініціативні регіональні програми ЄС; Програми регіонального розвитку INTERREG; Програми транскордонного співробітництва PHARE CBC, TACIS CBC, CREDO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56720" y="728640"/>
            <a:ext cx="8596440" cy="70632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mbria"/>
              </a:rPr>
              <a:t>БАЗОВІ ІНФОРМАЦІЙНІ РЕСУРС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77520" y="1982520"/>
            <a:ext cx="10099800" cy="401004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1.Державна служба статистики України. URL: </a:t>
            </a:r>
            <a:r>
              <a:rPr b="0" lang="uk-UA" sz="2000" spc="-1" strike="noStrike" u="sng">
                <a:solidFill>
                  <a:srgbClr val="ad1f1f"/>
                </a:solidFill>
                <a:uFillTx/>
                <a:latin typeface="Gill Sans MT"/>
                <a:hlinkClick r:id="rId2"/>
              </a:rPr>
              <a:t>http://www.ukrstat.gov.ua</a:t>
            </a: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2.Офіційний сайт Законодавство України URL: http://zakon.rada.gov.u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87160" y="297000"/>
            <a:ext cx="10342440" cy="78552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Cambria"/>
              </a:rPr>
              <a:t>ЯРИШКО ОЛЕНА ВОЛОДИМИРІВНА </a:t>
            </a: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Cambria"/>
              </a:rPr>
              <a:t>НАУКОВІ НАПРЯМИ ДОСЛІДЖЕНЬ, ПРАКТИЧНИЙ ДОСВІД, ДОСВІД НАУКОВО – ПЕДАГОГІЧНОЇ ДІЯЛЬНОСТІ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64680" y="1279440"/>
            <a:ext cx="11241000" cy="541656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0000"/>
                </a:solidFill>
                <a:latin typeface="Cambria"/>
              </a:rPr>
              <a:t>Наукові напрями досліджень: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фінанси промислових підприємств (галузі машинобудування, металургія); дослідження фінансового механізму підприємств промисловості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фінанси підприємств бюджетної сфери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міжнародні фінанси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моніторинг фінансового стану комерційних і некомерційних підприємств 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управління державними та місцевими фінансами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формування місцевих бюджетів громад в сучасних умовах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Cambria"/>
              </a:rPr>
              <a:t>Практичний досвід роботи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Досвід роботи економістом в бюджетній установі, виконання обов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’</a:t>
            </a: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язків секретаря тендерного комітету 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Плідна співпраця з комерційними і некомерційними підприємствами з питань фінансового управління 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77520" y="263520"/>
            <a:ext cx="9163080" cy="61920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НАУКОВО – ПЕДАГОГІЧНА ДІЯЛЬНІСТЬ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2760" y="1012680"/>
            <a:ext cx="10837800" cy="531504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mbria"/>
              </a:rPr>
              <a:t>Стаж роботи у закладах вищої освіти України 20 рік (Запорізький електротехнічний коледж, Запорізька державна інженерна академія, Запорізький національний університет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mbria"/>
              </a:rPr>
              <a:t>Підготовка магістерських робіт з впровадженням результатів досліджень у практичну діяльність комерційних і некомерційних  підприємств регіону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mbria"/>
              </a:rPr>
              <a:t>Викладання дисциплін: фінанси, ринок фінансових послуг,  фінанси підприємств, фінансовий ринок, бюджетна система, державні фінанси, місцеві фінанси, економіка нерухомості та ін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77520" y="434880"/>
            <a:ext cx="9504360" cy="126864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1. </a:t>
            </a:r>
            <a:r>
              <a:rPr b="1" lang="uk-UA" sz="3200" spc="-1" strike="noStrike">
                <a:solidFill>
                  <a:srgbClr val="000000"/>
                </a:solidFill>
                <a:latin typeface="Gill Sans MT"/>
              </a:rPr>
              <a:t>Управління потенціалом регіону: основні поняття, мета та завдання</a:t>
            </a:r>
            <a:r>
              <a:rPr b="0" lang="uk-UA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52440" y="2180880"/>
            <a:ext cx="10414080" cy="338940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Потенціал регіону та його складові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Визначення регіону як одиниці соціально-економічного простору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Нові парадигми та концепції регіону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Класифікація регіонів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Поняття про адміністративно-територіальну одиницю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Об’єкти і суб’єкти регіонального управління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Закономірності розміщення виробничих сил</a:t>
            </a: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Gill Sans MT"/>
              </a:rPr>
              <a:t>2. Регіональна політика й особливості регіонального розвитку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Різновиди регіональної політики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Концепція державної регіональної політики в Україні та її реалізація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Механізм реалізації державної регіональної політики і його основні елементи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Організаційно-правова база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Бюджетно-фінансові важелі реалізації регіональної політики та ключові елементи механізму реалізації регіональної економічної політики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Міжрегіональне і прикордонне співробітництво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77520" y="434880"/>
            <a:ext cx="9504360" cy="106992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mbria"/>
              </a:rPr>
              <a:t>3. </a:t>
            </a:r>
            <a:r>
              <a:rPr b="1" i="1" lang="uk-UA" sz="3200" spc="-1" strike="noStrike">
                <a:solidFill>
                  <a:srgbClr val="000000"/>
                </a:solidFill>
                <a:latin typeface="Gill Sans MT"/>
              </a:rPr>
              <a:t>Регіональні органи державного управління в Україні</a:t>
            </a:r>
            <a:r>
              <a:rPr b="0" lang="uk-UA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155520" y="1968480"/>
            <a:ext cx="10414080" cy="315288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78000"/>
          </a:bodyPr>
          <a:p>
            <a:pPr marL="178200" indent="-178200">
              <a:lnSpc>
                <a:spcPct val="11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Структура органів регіонального управління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78200" indent="-178200">
              <a:lnSpc>
                <a:spcPct val="11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Організація і порядок роботи місцевих державних адміністрацій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78200" indent="-178200">
              <a:lnSpc>
                <a:spcPct val="11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Діяльність місцевих державних адміністрацій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78200" indent="-178200">
              <a:lnSpc>
                <a:spcPct val="11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Компетенція місцевих державних адміністрацій в економічній сфері; соціально-економічного розвитку; бюджету і фінансів; управління майном, приватизації і підприємництва; містобудування, житлово-комунального господарства, побутового, торгового обслуговування, транспорту і зв’язку; міжнародних і зовнішньоекономічних відносин; науки, освіти, охорони здоров’я, культури, фі- зичної культури та спорту, материнства і дитинства, сім’ї та молоді; соціального забезпечення і соціального захисту населення; зайнятості населення, праці і заробітної плати; використання і охорони земель, природних ресурсів і охорони навколишнього середовища; забезпечення законності, правопорядку, прав і свобод громадян; оборонної роботи; відносини місцевих державних адміністрацій з іншими суб’єктами держави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77520" y="434520"/>
            <a:ext cx="9504360" cy="119700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0000"/>
                </a:solidFill>
                <a:latin typeface="Cambria"/>
                <a:ea typeface="Calibri"/>
              </a:rPr>
              <a:t>4. </a:t>
            </a:r>
            <a:r>
              <a:rPr b="1" i="1" lang="uk-UA" sz="2500" spc="-1" strike="noStrike">
                <a:solidFill>
                  <a:srgbClr val="000000"/>
                </a:solidFill>
                <a:latin typeface="Cambria"/>
                <a:ea typeface="Times New Roman"/>
              </a:rPr>
              <a:t>Природно-ресурсний потенціал регіону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55520" y="1968120"/>
            <a:ext cx="10414080" cy="379908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Економіко-географічне положення і природно-ресурсний потенціал регіону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Оцінювання економіко-географічного положення регіону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Особливості економіко-географічного положення адміністративних областей України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Природно-ресурсний потенціал регіону та критерії його оцінювання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Відмінність природно-ресурсного забезпечення регіонів України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77520" y="434880"/>
            <a:ext cx="9504360" cy="106992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Gill Sans MT"/>
              </a:rPr>
              <a:t>5. Економічний потенціал регіону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45880" y="1815840"/>
            <a:ext cx="10413720" cy="367164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Економічний потенціал та його складові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Основні види показників потенціалу регіональної економіки та їх значення при аналізі потенціалу регіону в цілому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Показники обсягу регіонального виробництва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Показники динаміки та пропорцій регіонального виробництва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Основні показники ефективності діяльності суб’єктів регіонального регулювання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 algn="just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ill Sans MT"/>
              </a:rPr>
              <a:t>Показники економічного зростання та розвитку потенціалу регіональних потужностей та можливостей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77520" y="434880"/>
            <a:ext cx="9504360" cy="126864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Gill Sans MT"/>
              </a:rPr>
              <a:t>6. Трудовий потенціал регіону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585720" y="1901520"/>
            <a:ext cx="10414080" cy="385596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ae3c0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Регіональна система розселення та показники якості життя населення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Система регіонального розселення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Міська агломерація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Поняття про соціальну інфраструктуру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Соціально-побутова інфраструктура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Торгівля і громадське харчування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Житлово-комунальне господарство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Складові житлово-комунального господарства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Пасажирський транспорт і засоби зв’язку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Соціально-духовна інфраструктура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Народна освіта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Система охорони здоров’я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Оцінювання трудового потенціалу регіону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Кількісна оцінка трудового потенціалу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</a:rPr>
              <a:t>Якість трудового потенціалу.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02T14:16:53Z</dcterms:created>
  <dc:creator>Buh</dc:creator>
  <dc:description/>
  <dc:language>en-US</dc:language>
  <cp:lastModifiedBy>i</cp:lastModifiedBy>
  <dcterms:modified xsi:type="dcterms:W3CDTF">2021-01-30T17:46:23Z</dcterms:modified>
  <cp:revision>135</cp:revision>
  <dc:subject/>
  <dc:title>ПІДПРИЄМНИЦЬКІ РИЗИКИ ВТРАТИ ФІНАНСОВОЇ БЕЗПЕКИ ПРОМИСЛОВИМИ ПІДПРИЄМСТВАМИ УКРАЇНИ </dc:title>
</cp:coreProperties>
</file>