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2A94B-DBE1-42B5-BBA8-3B97C999D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7B077-FA72-4F85-B44F-FAB2F6FFB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685-FA32-4824-A16E-7AF60340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0D2-5000-44FD-A5B7-59D21C3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FF67C-1E7D-41B6-81B7-F40591DA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5F29-7ECA-49A3-9081-6ADE383E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2D303-3731-4AB3-B947-938FAC1C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E0AC3-6DAC-417C-B469-8A904D6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F0FEB-68E1-4F7D-87CA-54530D9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A5781-2BFE-4939-8125-E867170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17D77-3371-46E5-8E91-338CBCB3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F6724-86D7-4031-B78D-54E95D56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EC2A-051F-4F66-8C3F-485C44B2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2790F-D35A-4F1B-8F22-0CDDAA0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482-5CF6-460E-A1CD-FE02C81C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5959F-10AE-4F75-B5CB-32B1B34B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61B16-8256-4192-BADC-77EC20B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EFC49-3000-4120-99E7-5D73818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86AF1-2081-4839-ABA4-4C11AE1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07B8F-3038-4E30-AEEA-8F0780D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99947-BFBE-471A-9182-2110122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BA093-A9C5-4D59-AF0B-389EA82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4D800-E690-45F8-950E-BD41AC2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32AC-51DF-4B1B-A29B-5BE3F8D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994A1-7926-4773-8904-6AE55B86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2F9-42F9-4CAF-8046-53DFB486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AF13-A38E-4A66-B6BF-499B6DE7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B40AE-F5E9-4162-9223-4CE8CE53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38FE7-97FC-4B5C-AD54-21DCB3BD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24E06-4148-45E5-97CD-32BEBED3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9176-CBFA-43C6-B40F-3513FDC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7A78-D5AB-42A8-9489-3A3F541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8029-B033-47BC-92AA-F0D11F6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AF777-EB59-49A4-B0AF-29CF894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CF782-9755-4E2D-925E-0E29FD8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35FE1-4554-4F75-80F5-1D12B72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8C0-10CF-4A60-9CD3-8D3765D1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6764-3070-4D5A-84F7-4DDF5565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1CE9F-921F-4552-97AE-0B0C1B8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0723-0AF9-4FB1-B99E-6905C0D4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2B72-BCAF-4510-9FCC-B8E65C6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88AB-53DD-4B37-8D77-E14A15DE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437E-D9E3-49B1-9CB1-44C5A6DB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6FE3-7A80-4609-B4C6-5610F89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D2C-6554-4471-87EF-D6E982E4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0EC-4547-434E-87CC-26327E5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40D-83E3-4B11-A3B6-786A426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1A9-DE9A-4F44-849F-DDC0DD0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8E8-6CAA-49A5-AE5B-A94E607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92E0-DCB6-4A0D-B61D-1913441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F152-F23F-4A71-8722-B22AA3D3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482-9BBA-4F09-851F-389BA8C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4D98-D12E-400A-88BC-D9676313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C27A4-F2C4-4B1D-85CC-57E13D9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263C-4D70-43D5-B519-272EBC1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9CE7-AFCF-4CBA-84AA-B3EB7E1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CDB6-A055-4F59-BEE3-58E0467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F9E-F91F-4099-AF2A-E9755C9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5FDA-AECD-4829-9156-9CFB7A1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F118-6B81-415B-8950-98DBDED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FEE5-1602-46D3-9352-17FB425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3212-0C69-4A7E-A42B-7A1F8D0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CFB1-EFBE-4D59-8B35-28504EC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3AC7-C30F-41F2-A847-A66BAEE9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3089-7150-49AF-BAA3-2AE4EE14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206C-B95C-4D13-86B6-FA274F7A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D734-8821-428D-B96F-F6B715E1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0E25-9F3E-411F-967D-803227CE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E20-9A4D-4CF4-B56A-B457044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8519-B718-420F-9E62-F221FAE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282A-CB5E-4AF8-A009-37B4856F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8227-1BF9-4FFF-A72C-8AD78AD7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FE65-C5AD-4892-97B8-1E76FA21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5599-EB31-4767-BF6C-B4C2B60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B4A7-21CE-442C-A324-993255F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ECB5-0CBB-4861-901E-061867B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A535-1B90-4596-A2B8-E9A251CA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B917-2B79-489F-BAAD-7395795F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36E7-735A-4545-A9DD-87B35AB7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DC7-EE63-4A2F-9EB6-0AB5C83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866E-CBE9-4A5F-8C31-BFB35B2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B0D2-6971-4A1A-889C-94823BB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8663-1DB7-4592-A872-F2D801E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5001A-E0AD-4666-B30C-D2CF4451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CA8D-F2CB-4ABE-A96E-ADEA92EE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A82D-2BDF-449B-B68F-0EC5BB3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43B06-62AD-47A0-9108-15DABC0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0EC9-C272-4906-9A4A-B891381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7927-8229-4DA3-B8D6-26C3FB0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E3AC-FE60-4656-A82C-D08C5D61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9B1-AB10-471B-9614-04871EA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EF35-EA2E-4973-BC01-68574D7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3AF4-7EF7-4559-91A8-95FC6FB2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7CE4-398A-47F1-9833-5FB8C05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E4A9-D59B-43C3-A970-01C25284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7ACD-AEEB-4F96-9E3F-59DCFED9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D697-831B-4454-8649-14678F0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2E1F-D79E-4C54-97CA-DA8AFA18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52E8-09F8-42A1-862E-7E6FD55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4C498-ECBE-4A89-AE1D-5DC513B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39FD-5443-47AC-8EA1-13752AE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001-B6C9-42AD-9878-2C83FC5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D14A-29DA-4755-8684-AE4AA57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DE3B-391A-482B-986E-1C358037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3C2A-5FC6-4264-879F-465A2A93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2546-E9EA-418D-B7E3-DC982A9F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5388-90D4-47D0-858E-F830F943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5270-57F9-4D76-B69B-47D1D0B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AB0E-0A4C-4C8F-AF72-D45127FF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5638-2BF0-4905-9C4C-F128D776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1941-F0AC-4F65-99F2-445C4C9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901FD-C4A5-44A0-BC59-E2AD9F7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89E-8BD0-42AE-9823-B2D0F2A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2BF8-7A11-413E-8B82-28C83FD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6A2F-34EF-4ECE-ADBA-4BAE5A70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D3575-BBC2-4849-8E14-41D75C0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7C44-9BEE-42CA-8D10-B6B9946F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AE75-6F07-4305-B361-72C36BAB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B542-5350-4EB8-A0C9-6C4599AA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E449-D080-4CE7-867D-4DEDDC2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F898C-7F4B-4A37-8FA0-A1D99A2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5877F-1DE4-4E42-A9B1-31DA4A46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833E5-2613-4727-A745-75A7917D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B8D-6570-4D38-AB0B-00F2951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E80CA-465F-4800-A0B7-3551D9B7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DE38E-A0A3-48BB-A64E-DD4DEB84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A4A0-6B64-4416-9277-B1C791D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E5209-78DA-49B2-AA08-34A4296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D1CD-2EFC-458F-85D4-C75BBC46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73F2-4A35-40F5-9DFD-6225EDDE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1B8F-014D-4C13-8D87-E5032EF7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56A9-2ED2-45D6-81C5-BCA8A12C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0D41-9F5D-415B-8AF1-BA1FBF4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418D9-E35A-4997-95B0-159E4F5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2A2DF-5F11-48A5-9747-1C2AD8C873AB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2CA69-F7BF-4239-8FD5-DDF042F49994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478D3-D77C-4F36-B8B5-4C7D2FB08DB3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371A7-D909-48E4-B26C-54606579C501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B1A92-A176-4708-BEF8-63E6B98F98EF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CE59F-D456-4488-9852-403D54D30304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1CFB9-8F27-47B3-B2CE-30B4723B212D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80319-154D-43FC-B5CE-92BE91C5670C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CECB8-EE24-42CB-B819-5C8FAA43BA14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F11BF-FED9-4BD1-A221-281AABF8AE27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3320" y="500400"/>
                <a:ext cx="3880440" cy="48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31080" y="771480"/>
              <a:ext cx="3361320" cy="4310280"/>
              <a:chOff x="7831080" y="771480"/>
              <a:chExt cx="3361320" cy="4310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31080" y="771480"/>
                <a:ext cx="3361320" cy="43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71400" y="813240"/>
                <a:ext cx="3286080" cy="42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90C1F-CAC2-4E2F-A417-AA204CD9110C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stat.gov.ua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27160" y="203040"/>
            <a:ext cx="6825960" cy="2523960"/>
            <a:chOff x="227160" y="203040"/>
            <a:chExt cx="6825960" cy="252396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27160" y="203040"/>
              <a:ext cx="682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840" y="210960"/>
              <a:ext cx="6818400" cy="25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a5644e"/>
                  </a:solidFill>
                  <a:latin typeface="Cambria"/>
                </a:rPr>
                <a:t>ДИСЦИПЛІНА ЗА ВИБОРОМ СТУДЕНТА: </a:t>
              </a:r>
              <a:br>
                <a:rPr sz="3200"/>
              </a:br>
              <a:r>
                <a:rPr b="1" i="1" lang="ru-RU" sz="3200" spc="-1" strike="noStrike">
                  <a:solidFill>
                    <a:srgbClr val="ff0000"/>
                  </a:solidFill>
                  <a:latin typeface="Cambria"/>
                </a:rPr>
                <a:t>Управління потенціалом регіону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800100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7. Бюджетний потенціал  регіон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45880" y="1815840"/>
            <a:ext cx="10413720" cy="3671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бюджет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обливості формування бюджетного потенціалу регіону: український досвід та зарубіжна практик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цінювання механізму формування бюджет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ханізм формування бюджетного потенціалу регіону на основі таксономічного аналізу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8. Інноваційний потенціал регіон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інновацій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компоненти інноваційного потенціал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тодики оцінки інновацій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Інноваційний потенціал регіонів Украї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9. Особливості європейського регіоналізму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72840" y="2015640"/>
            <a:ext cx="110379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оняття Єврорегіон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ріоритети регіональної політики ЄС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Інститути, що забезпечують регіональний розвиток. Асамблея Європейських Регіонів (АЄР); Асоціація Європейських Прикордонних Регіонів; Асоціація Європейських Регіонів; Економічна комісія ООН для Європи (ЕКЄ); Європейська економічна комісія; Європейська асоціація агентств регіонального розвитку (EURADA); Європейський фонд регіонального розвитку (ЄФРР, European Regional Fund); Європейські співтовариства; Комітет регіонів ЄС; Конгрес місцевих та регіональних влад Європи (КМРВЄ); Міжрегіональне економічне співробітництво країн ЄС; Наднаціональна регіональна політика Європейського союз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Нормативна база. Декларація щодо регіоналізму в Європі; Європейська декларація прав міст; Європейська рамкова конвенція про транскордонне співробітництво між територіальними громадами та владами; Європейська хартія міст; Європейська хартія про місцеве самоврядування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рограми розвитку регіону. Ініціативні регіональні програми ЄС; Програми регіонального розвитку INTERREG; Програми транскордонного співробітництва PHARE CBC, TACIS CBC, CREDO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720" y="728640"/>
            <a:ext cx="8596440" cy="7063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БАЗОВІ ІНФОРМАЦІЙНІ РЕСУРС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77520" y="1982520"/>
            <a:ext cx="10099800" cy="4010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1.Державна служба статистики України.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2"/>
              </a:rPr>
              <a:t>http://www.ukrstat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2.Офіційний сайт Законодавство України URL: http://zakon.rada.gov.u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20 рік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268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Управління потенціалом регіону: основні поняття, мета та завдання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52440" y="2180880"/>
            <a:ext cx="10414080" cy="33894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тенціал регіону та його складові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Визначення регіону як одиниці соціально-економічного простор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Нові парадигми та концепції регіон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ласифікація регіонів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про адміністративно-територіальну одиницю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б’єкти і суб’єкти регіонального управлі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Закономірності розміщення виробничих сил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2. Регіональна політика й особливості регіонального розвитк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Різновиди регіональної політик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онцепція державної регіональної політики в Україні та її реалізаці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ханізм реалізації державної регіональної політики і його основні елемент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рганізаційно-правова баз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Бюджетно-фінансові важелі реалізації регіональної політики та ключові елементи механізму реалізації регіональної економічної політик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іжрегіональне і прикордонне співробітництв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Регіональні органи державного управління в Україні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55520" y="1968480"/>
            <a:ext cx="10414080" cy="31528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78000"/>
          </a:bodyPr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Структура органів регіонального управлі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рганізація і порядок роботи місцевих державних адміністраці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Діяльність місцевих державних адміністраці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омпетенція місцевих державних адміністрацій в економічній сфері; соціально-економічного розвитку; бюджету і фінансів; управління майном, приватизації і підприємництва; містобудування, житлово-комунального господарства, побутового, торгового обслуговування, транспорту і зв’язку; міжнародних і зовнішньоекономічних відносин; науки, освіти, охорони здоров’я, культури, фі- зичної культури та спорту, материнства і дитинства, сім’ї та молоді; соціального забезпечення і соціального захисту населення; зайнятості населення, праці і заробітної плати; використання і охорони земель, природних ресурсів і охорони навколишнього середовища; забезпечення законності, правопорядку, прав і свобод громадян; оборонної роботи; відносини місцевих державних адміністрацій з іншими суб’єктами держав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77520" y="434520"/>
            <a:ext cx="9504360" cy="11970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mbria"/>
                <a:ea typeface="Calibri"/>
              </a:rPr>
              <a:t>4. </a:t>
            </a:r>
            <a:r>
              <a:rPr b="1" i="1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родно-ресурсний потенціал регіону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55520" y="1968120"/>
            <a:ext cx="10414080" cy="37990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Економіко-географічне положення і природно-ресурсний потенціал регіон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цінювання економіко-географічного положення регіон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обливості економіко-географічного положення адміністративних областей Україн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риродно-ресурсний потенціал регіону та критерії його оцінюва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Відмінність природно-ресурсного забезпечення регіонів Україн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5. Економічний потенціал регіон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45880" y="1815840"/>
            <a:ext cx="10413720" cy="3671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Економічний потенціал та його складові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види показників потенціалу регіональної економіки та їх значення при аналізі потенціалу регіону в цілом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обсягу регіонального виробниц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динаміки та пропорцій регіонального виробниц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показники ефективності діяльності суб’єктів регіонального регулюва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економічного зростання та розвитку потенціалу регіональних потужностей та можливосте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268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6. Трудовий потенціал регіон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85720" y="1901520"/>
            <a:ext cx="10414080" cy="38559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Регіональна система розселення та показники якості життя населення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истема регіонального розселенн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Міська агломераці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Поняття про соціальну інфраструктур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оціально-побутова інфраструктур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Торгівля і громадське харчуванн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Житлово-комунальне господарство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кладові житлово-комунального господарств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Пасажирський транспорт і засоби зв’язку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оціально-духовна інфраструктур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Народна освіт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истема охорони здоров’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Оцінювання трудового потенціалу регіон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Кількісна оцінка трудового потенціал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Якість трудового потенціалу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i</cp:lastModifiedBy>
  <dcterms:modified xsi:type="dcterms:W3CDTF">2021-01-30T17:46:23Z</dcterms:modified>
  <cp:revision>135</cp:revision>
  <dc:subject/>
  <dc:title>ПІДПРИЄМНИЦЬКІ РИЗИКИ ВТРАТИ ФІНАНСОВОЇ БЕЗПЕКИ ПРОМИСЛОВИМИ ПІДПРИЄМСТВАМИ УКРАЇНИ </dc:title>
</cp:coreProperties>
</file>