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025-8973-4942-A478-0EF608A5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8A9-C0DC-4C7E-BD2F-0FEC1B24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26E-8BAC-4B1E-B219-2DF407EF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AAF-0C58-403C-B5DC-FCD0F233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D1F-C18D-41D7-BC81-BCB1E2D4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345-8806-4F84-9282-213ADF5C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748-4BD5-43DD-8829-3BC53BA0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CB6-4397-4CB6-A0B1-152803D8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818-52A3-4E21-99C0-A0C5C22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577-3BE4-4A1D-A8F7-BFC6A63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159-0462-4AE4-8D21-8F50061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3AC-5EC7-46E3-8FD4-1D0832B4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4BAB-3467-42AD-8E04-9479BFFBEC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819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99"/>
                </a:solidFill>
                <a:latin typeface="Arial"/>
              </a:rPr>
              <a:t>ПРОМИСЛОВА БІОТЕХНОЛОГІЯ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Рисунок 3" descr="medicina-biotehnologiya-02.jpeg"/>
          <p:cNvPicPr/>
          <p:nvPr/>
        </p:nvPicPr>
        <p:blipFill>
          <a:blip r:embed="rId1"/>
          <a:stretch/>
        </p:blipFill>
        <p:spPr>
          <a:xfrm>
            <a:off x="4343400" y="685800"/>
            <a:ext cx="3886200" cy="18399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tehnol.jpg"/>
          <p:cNvPicPr/>
          <p:nvPr/>
        </p:nvPicPr>
        <p:blipFill>
          <a:blip r:embed="rId2"/>
          <a:stretch/>
        </p:blipFill>
        <p:spPr>
          <a:xfrm>
            <a:off x="5029200" y="4038480"/>
            <a:ext cx="3505320" cy="2475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&amp;Kcy;&amp;acy;&amp;rcy;&amp;tcy;&amp;icy;&amp;ncy;&amp;kcy;&amp;icy; &amp;pcy;&amp;ocy; &amp;zcy;&amp;acy;&amp;pcy;&amp;rcy;&amp;ocy;&amp;scy;&amp;ucy; &amp;vcy;&amp;icy;&amp;rcy;&amp;ocy;&amp;bcy;&amp;ncy;&amp;icy;&amp;tscy;&amp;tcy;&amp;vcy;&amp;acy; &amp;acy;&amp;ncy;&amp;tcy;&amp;icy;&amp;bcy;&amp;iukcy;&amp;ocy;&amp;tcy;&amp;icy;&amp;kcy;&amp;iukcy;&amp;vcy;"/>
          <p:cNvPicPr/>
          <p:nvPr/>
        </p:nvPicPr>
        <p:blipFill>
          <a:blip r:embed="rId4"/>
          <a:stretch/>
        </p:blipFill>
        <p:spPr>
          <a:xfrm>
            <a:off x="838080" y="4038480"/>
            <a:ext cx="335304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99"/>
                </a:solidFill>
                <a:latin typeface="Arial"/>
              </a:rPr>
              <a:t>Про що цей курс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іотехнологія – це наука про використання хіміко-біологічних процесів і біологічних об'єктів у промисловому виробництві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іотехнологія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 – це комплексна багатопрофільна галузь науково-технічного прогресу, що включає мікробіологічний синтез у його широкому розумінні, генетичну, білкову і клітинну інженерію, ензимологі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Сучасна промислова мікробіологія знаходить застосування в різних галузях господарства, наукових дослідженнях, медицині, побуті, тощо, а також у вирішенні екологічних проблем і оптимізації довкілля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Новітні технології, засновані на використанні різноманітних, високо специфічних властивостей біологічних систем, дозволять комплексно вирішити глобальні завдання, що стають перед людств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Мікроорганізми, маючи широкий набір ферментних систем, здатні утворювати в процесі життєдіяльності різні продукти обміну, які є цінними для людини. Мікроорганізми здатні модифікувати природні та хімічно синтезовані сполуки у речовини, які потребує люди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Особливого розвитку набули мікробіологічні виробництва в останні роки завдяки детальному вивченню фізіолого-біохімічних і генетичних властивостей мікроорганізмів. Серед бактерій промислове застосування мають прокаріоти різних таксономічних груп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99"/>
                </a:solidFill>
                <a:latin typeface="Arial"/>
              </a:rPr>
              <a:t>Біотехнологічні виробництва, засновані на використанні промислових штамів мікроорганізмі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2247840" cy="1258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AzotobGrup207.jpg"/>
          <p:cNvPicPr/>
          <p:nvPr/>
        </p:nvPicPr>
        <p:blipFill>
          <a:blip r:embed="rId2"/>
          <a:stretch/>
        </p:blipFill>
        <p:spPr>
          <a:xfrm>
            <a:off x="152280" y="2666880"/>
            <a:ext cx="1600200" cy="12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Рисунок 3" descr="1187024.jpeg"/>
          <p:cNvPicPr/>
          <p:nvPr/>
        </p:nvPicPr>
        <p:blipFill>
          <a:blip r:embed="rId3"/>
          <a:stretch/>
        </p:blipFill>
        <p:spPr>
          <a:xfrm>
            <a:off x="914400" y="3657600"/>
            <a:ext cx="1752480" cy="1192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Рисунок 3" descr="tehnol.jpg"/>
          <p:cNvPicPr/>
          <p:nvPr/>
        </p:nvPicPr>
        <p:blipFill>
          <a:blip r:embed="rId4"/>
          <a:stretch/>
        </p:blipFill>
        <p:spPr>
          <a:xfrm>
            <a:off x="4343400" y="4038480"/>
            <a:ext cx="259092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"/>
          <p:cNvPicPr/>
          <p:nvPr/>
        </p:nvPicPr>
        <p:blipFill>
          <a:blip r:embed="rId5"/>
          <a:stretch/>
        </p:blipFill>
        <p:spPr>
          <a:xfrm>
            <a:off x="6705720" y="2895480"/>
            <a:ext cx="2209680" cy="1471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big.photo.jpg"/>
          <p:cNvPicPr/>
          <p:nvPr/>
        </p:nvPicPr>
        <p:blipFill>
          <a:blip r:embed="rId6"/>
          <a:stretch/>
        </p:blipFill>
        <p:spPr>
          <a:xfrm>
            <a:off x="2286000" y="2895480"/>
            <a:ext cx="2084400" cy="1509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7"/>
          <a:stretch/>
        </p:blipFill>
        <p:spPr>
          <a:xfrm>
            <a:off x="2209680" y="5029200"/>
            <a:ext cx="2210040" cy="1378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8"/>
          <a:stretch/>
        </p:blipFill>
        <p:spPr>
          <a:xfrm>
            <a:off x="4648320" y="2514600"/>
            <a:ext cx="1714320" cy="1279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9"/>
          <a:stretch/>
        </p:blipFill>
        <p:spPr>
          <a:xfrm>
            <a:off x="457200" y="4495680"/>
            <a:ext cx="1273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Мета і завдання курсу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тою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викладання навчальної дисципліни «Промислова біотехнологія» є формування у студентів-хіміків теоретичних знань про наукові основи і технологію біотехнологічних процесів, що відбуваються за допомогою промислових мікроорганізмів, про перспективи їх застосування для раціонального використання природних ресурсів і вирішення екологічних проблем навколишнього природного середовищ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сновними завданням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исципліни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«Промислова біотехнологія» є: ознайомитися з основними етапами і схемами різних біотехнологічних процесів; набути вмінь користуватися вивченими схемами при виборі необхідних біотехнологій на практиці; для самостійного розв’язання науково-дослідних проблем, що постають перед хіміком як фахівцем в різних галузях народного господар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ОЧІКУВАНІ РЕЗУЛЬТАТИ НАВЧАННЯ 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разі успішного завершення курсу студент змож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ивати основні об’єкти біотехнології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ивати основні галузі застосування біотехнологічних досягнен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ифікувати методи біотехнології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зрізняти етапи біотехнологічного виробниц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истуватися вивченими схемами при виборі необхідних біотехнологій на практиці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користовувати свої знання, розуміння, компетенції та базові інженерно-технологічні навички на практиці для вирішення задач та проблем відомої природ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ізувати та оцінювати дані, синтезувати нові ідеї, що стосуються хімії та її прикладних застосуван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інювати та мінімізувати ризики біотехнологічних процесів для навколишнього середовищ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0T14:57:32Z</dcterms:created>
  <dc:creator>Natali</dc:creator>
  <dc:description/>
  <dc:language>en-US</dc:language>
  <cp:lastModifiedBy>Natali</cp:lastModifiedBy>
  <dcterms:modified xsi:type="dcterms:W3CDTF">2021-02-03T19:38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