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E35-7F44-43B0-A018-2B1C3FD8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5B6-2DF2-4AEE-998F-41CFAA01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FD7-834A-49FC-A44D-8A70120D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57E-5B0A-444B-80EB-726E3DD1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EA3-E77C-45E2-B8D1-36D1DC00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F2E-06E0-4DF2-A706-EA2ECED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2CE-007F-42D7-B76E-18D3CF42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480-0895-4722-90F2-851F07D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BF6-D683-4D1D-826E-C4025CE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C8D-7D19-4B6D-9B96-AC39FF7B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15B-FCA1-468F-8BD0-D92C3776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09E-9399-4A0D-A701-2F3E83E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875-DC2C-4FAF-A035-3D9439D6F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819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99"/>
                </a:solidFill>
                <a:latin typeface="Arial"/>
              </a:rPr>
              <a:t>ПРОМИСЛОВА БІОТЕХНОЛОГІ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Рисунок 3" descr="medicina-biotehnologiya-02.jpeg"/>
          <p:cNvPicPr/>
          <p:nvPr/>
        </p:nvPicPr>
        <p:blipFill>
          <a:blip r:embed="rId1"/>
          <a:stretch/>
        </p:blipFill>
        <p:spPr>
          <a:xfrm>
            <a:off x="4343400" y="685800"/>
            <a:ext cx="3886200" cy="1839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tehnol.jpg"/>
          <p:cNvPicPr/>
          <p:nvPr/>
        </p:nvPicPr>
        <p:blipFill>
          <a:blip r:embed="rId2"/>
          <a:stretch/>
        </p:blipFill>
        <p:spPr>
          <a:xfrm>
            <a:off x="5029200" y="4038480"/>
            <a:ext cx="350532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&amp;Kcy;&amp;acy;&amp;rcy;&amp;tcy;&amp;icy;&amp;ncy;&amp;kcy;&amp;icy; &amp;pcy;&amp;ocy; &amp;zcy;&amp;acy;&amp;pcy;&amp;rcy;&amp;ocy;&amp;scy;&amp;ucy; &amp;vcy;&amp;icy;&amp;rcy;&amp;ocy;&amp;bcy;&amp;ncy;&amp;icy;&amp;tscy;&amp;tcy;&amp;vcy;&amp;acy; &amp;acy;&amp;ncy;&amp;tcy;&amp;icy;&amp;bcy;&amp;iukcy;&amp;ocy;&amp;tcy;&amp;icy;&amp;kcy;&amp;iukcy;&amp;vcy;"/>
          <p:cNvPicPr/>
          <p:nvPr/>
        </p:nvPicPr>
        <p:blipFill>
          <a:blip r:embed="rId4"/>
          <a:stretch/>
        </p:blipFill>
        <p:spPr>
          <a:xfrm>
            <a:off x="838080" y="4038480"/>
            <a:ext cx="33530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Про що цей кур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отехнологія – це наука про використання хіміко-біологічних процесів і біологічних об'єктів у промисловому виробництв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отехнологія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– це комплексна багатопрофільна галузь науково-технічного прогресу, що включає мікробіологічний синтез у його широкому розумінні, генетичну, білкову і клітинну інженерію, ензимологі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учасна промислова мікробіологія знаходить застосування в різних галузях господарства, наукових дослідженнях, медицині, побуті, тощо, а також у вирішенні екологічних проблем і оптимізації довкілл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Новітні технології, засновані на використанні різноманітних, високо специфічних властивостей біологічних систем, дозволять комплексно вирішити глобальні завдання, що стають перед людств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Мікроорганізми, маючи широкий набір ферментних систем, здатні утворювати в процесі життєдіяльності різні продукти обміну, які є цінними для людини. Мікроорганізми здатні модифікувати природні та хімічно синтезовані сполуки у речовини, які потребує люди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собливого розвитку набули мікробіологічні виробництва в останні роки завдяки детальному вивченню фізіолого-біохімічних і генетичних властивостей мікроорганізмів. Серед бактерій промислове застосування мають прокаріоти різних таксономічних груп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99"/>
                </a:solidFill>
                <a:latin typeface="Arial"/>
              </a:rPr>
              <a:t>Біотехнологічні виробництва, засновані на використанні промислових штамів мікроорганізмі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2247840" cy="1258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AzotobGrup207.jpg"/>
          <p:cNvPicPr/>
          <p:nvPr/>
        </p:nvPicPr>
        <p:blipFill>
          <a:blip r:embed="rId2"/>
          <a:stretch/>
        </p:blipFill>
        <p:spPr>
          <a:xfrm>
            <a:off x="152280" y="2666880"/>
            <a:ext cx="1600200" cy="12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Рисунок 3" descr="1187024.jpeg"/>
          <p:cNvPicPr/>
          <p:nvPr/>
        </p:nvPicPr>
        <p:blipFill>
          <a:blip r:embed="rId3"/>
          <a:stretch/>
        </p:blipFill>
        <p:spPr>
          <a:xfrm>
            <a:off x="914400" y="3657600"/>
            <a:ext cx="1752480" cy="119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Рисунок 3" descr="tehnol.jpg"/>
          <p:cNvPicPr/>
          <p:nvPr/>
        </p:nvPicPr>
        <p:blipFill>
          <a:blip r:embed="rId4"/>
          <a:stretch/>
        </p:blipFill>
        <p:spPr>
          <a:xfrm>
            <a:off x="4343400" y="403848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5"/>
          <a:stretch/>
        </p:blipFill>
        <p:spPr>
          <a:xfrm>
            <a:off x="6705720" y="289548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big.photo.jpg"/>
          <p:cNvPicPr/>
          <p:nvPr/>
        </p:nvPicPr>
        <p:blipFill>
          <a:blip r:embed="rId6"/>
          <a:stretch/>
        </p:blipFill>
        <p:spPr>
          <a:xfrm>
            <a:off x="2286000" y="2895480"/>
            <a:ext cx="2084400" cy="1509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7"/>
          <a:stretch/>
        </p:blipFill>
        <p:spPr>
          <a:xfrm>
            <a:off x="2209680" y="5029200"/>
            <a:ext cx="2210040" cy="1378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8"/>
          <a:stretch/>
        </p:blipFill>
        <p:spPr>
          <a:xfrm>
            <a:off x="4648320" y="2514600"/>
            <a:ext cx="171432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9"/>
          <a:stretch/>
        </p:blipFill>
        <p:spPr>
          <a:xfrm>
            <a:off x="457200" y="4495680"/>
            <a:ext cx="127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Мета і завдання курс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то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викладання навчальної дисципліни «Промислова біотехнологія» є формування у студентів-хіміків теоретичних знань про наукові основи і технологію біотехнологічних процесів, що відбуваються за допомогою промислових мікроорганізмів, про перспективи їх застосування для раціонального використання природних ресурсів і вирішення екологічних проблем навколишнього природного середовищ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сновними завдання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исципліни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«Промислова біотехнологія» є: ознайомитися з основними етапами і схемами різних біотехнологічних процесів; набути вмінь користуватися вивченими схемами при виборі необхідних біотехнологій на практиці; для самостійного розв’язання науково-дослідних проблем, що постають перед хіміком як фахівцем в різних галузях народного господар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ОЧІКУВАНІ РЕЗУЛЬТАТИ НАВЧАННЯ 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разі успішного завершення курсу студент змож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ивати основні об’єкти біотехнології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ивати основні галузі застосування біотехнологічних досягне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ифікувати методи біотехнології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різняти етапи біотехнологічного виробниц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истуватися вивченими схемами при виборі необхідних біотехнологій на практиц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овувати свої знання, розуміння, компетенції та базові інженерно-технологічні навички на практиці для вирішення задач та проблем відомої приро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ізувати та оцінювати дані, синтезувати нові ідеї, що стосуються хімії та її прикладних застосува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інювати та мінімізувати ризики біотехнологічних процесів для навколишнього середовищ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0T14:57:32Z</dcterms:created>
  <dc:creator>Natali</dc:creator>
  <dc:description/>
  <dc:language>en-US</dc:language>
  <cp:lastModifiedBy>Natali</cp:lastModifiedBy>
  <dcterms:modified xsi:type="dcterms:W3CDTF">2021-02-03T19:38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