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4.png" ContentType="image/png"/>
  <Override PartName="/ppt/media/image1.jpeg" ContentType="image/jpeg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7889-9A23-4731-85D5-6D26DD9CC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CA88-6D45-4807-A9BD-978936A7D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23D1-58BB-4BE7-B4F8-72D3536DE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BAC8-F93B-4B61-8EAC-1BB849205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77099-7648-46A6-A53D-C6B264179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E3C49-A03D-434A-B56B-3B00CF20E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2DF1B-0898-46D8-8983-B21071933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A3B3E-A48E-49A5-AA92-FF8603278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8770B-A51B-4DDF-8D72-8125B444B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AB4EF-3C28-43B0-9C3A-5438C4580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E216D-86C0-4CE3-8B77-227560EDF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2046-D09B-44D6-8A02-10EABF117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048CF-EB30-42EC-A14D-015C3D511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AA021-B785-40B2-B347-C04CC12B9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24FAB-7FF3-487D-9394-9FCF2579E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1D870-4107-49DF-880F-F38C2148B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F4D34-7C7C-49CB-B006-B5C5ABD71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70C2-792F-4237-9E3B-25646D70F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3746-84A6-43D8-A60B-69C6DFEF5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9608-AD20-4886-9A36-B5A1CA38C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C307-C60F-4799-BE80-8BBC0D5E4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BA09-1C67-4652-BFBB-82A9F8963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18D6-5534-477D-8BFF-6A1830449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C8B0-70AE-4ABC-8BA3-4713EEBA9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B8E02-4639-460D-9BEF-20C0DD2F78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53913-9BB2-4D8D-BC4F-E2D3C0B143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9246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cc"/>
                </a:solidFill>
                <a:latin typeface="Times New Roman"/>
              </a:rPr>
              <a:t>ПРЕЗЕНТАЦ</a:t>
            </a:r>
            <a:r>
              <a:rPr b="1" i="1" lang="uk-UA" sz="4000" spc="-1" strike="noStrike">
                <a:solidFill>
                  <a:srgbClr val="ffffcc"/>
                </a:solidFill>
                <a:latin typeface="Times New Roman"/>
              </a:rPr>
              <a:t>ІЯ </a:t>
            </a:r>
            <a:br>
              <a:rPr sz="4000"/>
            </a:br>
            <a:r>
              <a:rPr b="1" i="1" lang="uk-UA" sz="4000" spc="-1" strike="noStrike">
                <a:solidFill>
                  <a:srgbClr val="ffffcc"/>
                </a:solidFill>
                <a:latin typeface="Times New Roman"/>
              </a:rPr>
              <a:t>НАВЧАЛЬНОЇ ДИСЦИПЛІНИ “ОБЛІК І АНАЛІЗ ЗЕД”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3" name="Рисунок 2" descr=""/>
          <p:cNvPicPr/>
          <p:nvPr/>
        </p:nvPicPr>
        <p:blipFill>
          <a:blip r:embed="rId2"/>
          <a:stretch/>
        </p:blipFill>
        <p:spPr>
          <a:xfrm>
            <a:off x="7238880" y="5029200"/>
            <a:ext cx="1657440" cy="15732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Зміни в законі про бухгалтерській облік та фінансову звітність: на що варто  звернути увагу? - Baker Tilly"/>
          <p:cNvPicPr/>
          <p:nvPr/>
        </p:nvPicPr>
        <p:blipFill>
          <a:blip r:embed="rId3"/>
          <a:stretch/>
        </p:blipFill>
        <p:spPr>
          <a:xfrm>
            <a:off x="5257800" y="2666880"/>
            <a:ext cx="3467160" cy="21798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Як зміниться облік у часи пандемії COVID-19"/>
          <p:cNvPicPr/>
          <p:nvPr/>
        </p:nvPicPr>
        <p:blipFill>
          <a:blip r:embed="rId4"/>
          <a:stretch/>
        </p:blipFill>
        <p:spPr>
          <a:xfrm>
            <a:off x="457200" y="2666880"/>
            <a:ext cx="3505320" cy="21225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Програми BAS для торгового, управлінського обліку"/>
          <p:cNvPicPr/>
          <p:nvPr/>
        </p:nvPicPr>
        <p:blipFill>
          <a:blip r:embed="rId5"/>
          <a:stretch/>
        </p:blipFill>
        <p:spPr>
          <a:xfrm>
            <a:off x="3429000" y="4419720"/>
            <a:ext cx="213372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ffffcc"/>
                </a:solidFill>
                <a:latin typeface="Tahoma"/>
              </a:rPr>
              <a:t>Мета та завдання навчальної дисципліни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i="1" lang="uk-UA" sz="1600" spc="-1" strike="noStrike">
                <a:solidFill>
                  <a:srgbClr val="ffffff"/>
                </a:solidFill>
                <a:latin typeface="Tahoma"/>
              </a:rPr>
              <a:t>Мета вивчення дисципліни «Облік і аналіз зовнішньоекономічної діяльності» ознайомлення студентів із принципами та особливістю бухгалтерського обліку зовнішньоекономічної діяльності підприємств та порядок оподаткування зовнішньоекономічних операцій. У процесі вивчення пред­мету студенти систематизують теоретичні знання і практичні навички з бухгалтерського обліку та аналізу зовнішньоекономічної діяльності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i="1" lang="uk-UA" sz="1600" spc="-1" strike="noStrike">
                <a:solidFill>
                  <a:srgbClr val="ffffff"/>
                </a:solidFill>
                <a:latin typeface="Tahoma"/>
              </a:rPr>
              <a:t>Завдання дисципліни: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Tahoma"/>
              </a:rPr>
              <a:t>визначення принципів здійснення зовнішньоекономічних операцій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Tahoma"/>
              </a:rPr>
              <a:t>ознайомлення із міжнародними умовами торгівлі та процедурами здійсненням митного контролю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Tahoma"/>
              </a:rPr>
              <a:t>вивчення теоретичних засад впровадження зовнішньоекономічної діяльності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Tahoma"/>
              </a:rPr>
              <a:t>засвоєння методики та особливостей організації бухгалтерського обліку зовнішньоекономічної діяльності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Tahoma"/>
              </a:rPr>
              <a:t>засвоєння вимог податкового законодавства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Tahoma"/>
              </a:rPr>
              <a:t>щодо зовнішньоекономічних операцій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Tahoma"/>
              </a:rPr>
              <a:t>опанування методикою аналізу зовнішньоекономічної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Tahoma"/>
              </a:rPr>
              <a:t>діяльності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Управлінський та фінансовий облік: у чому різниця | IнтелТех"/>
          <p:cNvPicPr/>
          <p:nvPr/>
        </p:nvPicPr>
        <p:blipFill>
          <a:blip r:embed="rId2"/>
          <a:stretch/>
        </p:blipFill>
        <p:spPr>
          <a:xfrm>
            <a:off x="6095880" y="4484520"/>
            <a:ext cx="2819520" cy="26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ffffcc"/>
                </a:solidFill>
                <a:latin typeface="Tahoma"/>
              </a:rPr>
              <a:t>Студенти повинні знати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i="1" lang="uk-UA" sz="2000" spc="-1" strike="noStrike">
                <a:solidFill>
                  <a:srgbClr val="ffffff"/>
                </a:solidFill>
                <a:latin typeface="Tahoma"/>
              </a:rPr>
              <a:t>Студенти повинні </a:t>
            </a:r>
            <a:r>
              <a:rPr b="1" i="1" lang="uk-UA" sz="2000" spc="-1" strike="noStrike">
                <a:solidFill>
                  <a:srgbClr val="ffffff"/>
                </a:solidFill>
                <a:latin typeface="Tahoma"/>
              </a:rPr>
              <a:t>знати</a:t>
            </a:r>
            <a:r>
              <a:rPr b="0" i="1" lang="uk-UA" sz="2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ffffff"/>
                </a:solidFill>
                <a:latin typeface="Tahoma"/>
              </a:rPr>
              <a:t>нормативно-правове забезпечення бухгалтерського обліку зовнішньоекономічних операцій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ffffff"/>
                </a:solidFill>
                <a:latin typeface="Tahoma"/>
              </a:rPr>
              <a:t>основні положення міжнародних умов торгівлі та розрахунків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ffffff"/>
                </a:solidFill>
                <a:latin typeface="Tahoma"/>
              </a:rPr>
              <a:t>методику бухгалтерського обліку імпортних операцій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ffffff"/>
                </a:solidFill>
                <a:latin typeface="Tahoma"/>
              </a:rPr>
              <a:t>методику бухгалтерського обліку експортних операцій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ffffff"/>
                </a:solidFill>
                <a:latin typeface="Tahoma"/>
              </a:rPr>
              <a:t>методику обліку бартерних (товарообмінних) операцій та операцій з давальницькою сировиною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ffffff"/>
                </a:solidFill>
                <a:latin typeface="Tahoma"/>
              </a:rPr>
              <a:t>принципи обліку валютно-фінансових операцій у ЗЕД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ffffff"/>
                </a:solidFill>
                <a:latin typeface="Tahoma"/>
              </a:rPr>
              <a:t>принципи обліку на підприємствах з іноземними інвестиціям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ffffff"/>
                </a:solidFill>
                <a:latin typeface="Tahoma"/>
              </a:rPr>
              <a:t>методи аналізу зовнішньоекономічної діяльності та її вплив на фінансовий стан підприємств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071 Облік і оподаткування"/>
          <p:cNvPicPr/>
          <p:nvPr/>
        </p:nvPicPr>
        <p:blipFill>
          <a:blip r:embed="rId2"/>
          <a:stretch/>
        </p:blipFill>
        <p:spPr>
          <a:xfrm>
            <a:off x="4724280" y="4267080"/>
            <a:ext cx="4191120" cy="23576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Как отражать страхование автомобиля по КАСКО в бухгалтерском учёте |  Новости | BritMark"/>
          <p:cNvPicPr/>
          <p:nvPr/>
        </p:nvPicPr>
        <p:blipFill>
          <a:blip r:embed="rId3"/>
          <a:stretch/>
        </p:blipFill>
        <p:spPr>
          <a:xfrm>
            <a:off x="838080" y="4572000"/>
            <a:ext cx="3200400" cy="21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ffffcc"/>
                </a:solidFill>
                <a:latin typeface="Tahoma"/>
              </a:rPr>
              <a:t>Студенти повинні вміти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i="1" lang="uk-UA" sz="1800" spc="-1" strike="noStrike">
                <a:solidFill>
                  <a:srgbClr val="ffffff"/>
                </a:solidFill>
                <a:latin typeface="Tahoma"/>
              </a:rPr>
              <a:t>Студенти повинні </a:t>
            </a:r>
            <a:r>
              <a:rPr b="1" i="1" lang="uk-UA" sz="1800" spc="-1" strike="noStrike">
                <a:solidFill>
                  <a:srgbClr val="ffffff"/>
                </a:solidFill>
                <a:latin typeface="Tahoma"/>
              </a:rPr>
              <a:t>вміти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ff"/>
                </a:solidFill>
                <a:latin typeface="Tahoma"/>
              </a:rPr>
              <a:t>складати договори про зовнішньоекономічні операції, застосовувати умови Інкотермс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ff"/>
                </a:solidFill>
                <a:latin typeface="Tahoma"/>
              </a:rPr>
              <a:t>опрацьовувати нормативні документи щодо порядку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ff"/>
                </a:solidFill>
                <a:latin typeface="Tahoma"/>
              </a:rPr>
              <a:t>відображати в обліку імпортні та  експортні операції та операції з валютними цінностями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ff"/>
                </a:solidFill>
                <a:latin typeface="Tahoma"/>
              </a:rPr>
              <a:t>відображати в обліку товарообмінні (бартерні) операції, операції з давальницькою сировиною; валютно-фінансові та інших операції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ff"/>
                </a:solidFill>
                <a:latin typeface="Tahoma"/>
              </a:rPr>
              <a:t>складати податкову та іншу звітність щодо зовнішньоекономічних операцій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ff"/>
                </a:solidFill>
                <a:latin typeface="Tahoma"/>
              </a:rPr>
              <a:t>аналізувати зовнішньоекономічні операції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ff"/>
                </a:solidFill>
                <a:latin typeface="Tahoma"/>
              </a:rPr>
              <a:t>надавати своєчасно інформацію, потрібну для прийняття рішень, аналізу, прогнозування діяльності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ff"/>
                </a:solidFill>
                <a:latin typeface="Tahoma"/>
              </a:rPr>
              <a:t>набути практичні навички зі складання звітності щодо зовнішньоекономічних операці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Короткострокові ліцензії БукКіпер: облік надходження та списання -  BOOKKEEPER УКРАИНСКАЯ ОНЛАЙН БУХГАЛТЕРИЯ"/>
          <p:cNvPicPr/>
          <p:nvPr/>
        </p:nvPicPr>
        <p:blipFill>
          <a:blip r:embed="rId2"/>
          <a:stretch/>
        </p:blipFill>
        <p:spPr>
          <a:xfrm>
            <a:off x="457200" y="4876920"/>
            <a:ext cx="3581280" cy="1782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Бухгалтерський облік :: Тимлар-Аудит"/>
          <p:cNvPicPr/>
          <p:nvPr/>
        </p:nvPicPr>
        <p:blipFill>
          <a:blip r:embed="rId3"/>
          <a:stretch/>
        </p:blipFill>
        <p:spPr>
          <a:xfrm>
            <a:off x="5181480" y="4648320"/>
            <a:ext cx="3353040" cy="20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ffffcc"/>
                </a:solidFill>
                <a:latin typeface="Tahoma"/>
              </a:rPr>
              <a:t>Програма навчальної дисципліни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1920" y="1066320"/>
            <a:ext cx="89917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Змістовий модуль І. Принципи зовнішньоекономічної діяльності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Тема 1. Загальна характеристика зовнішньоекономічної діяльності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Тема 2. Договірні відносини у сфері зовнішньоекономічної діяльності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Тема 3. Поняття валютних цінностей та облік операцій з ни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Тема 4. Облік розрахункових операцій у зовнішньоекономічній діяльності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Змістовний модуль ІІ. Облік зовнішньоекономічних операці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Тема 5. Облік експортних операці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Тема 6. Облік лізингових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та транспортних операцій у ЗЕД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Тема 7. Облік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комісійн</a:t>
            </a: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их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та консигнаційн</a:t>
            </a: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их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операцій</a:t>
            </a: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Тема 8. Облік інших операцій у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зовнішньоекономічній діяльності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Тема 9. Аналіз зовнішньоекономічної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діяльності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На Prometheus стартують два нові онлайн-курси з доступу | Доступ до правди"/>
          <p:cNvPicPr/>
          <p:nvPr/>
        </p:nvPicPr>
        <p:blipFill>
          <a:blip r:embed="rId2"/>
          <a:stretch/>
        </p:blipFill>
        <p:spPr>
          <a:xfrm>
            <a:off x="5562720" y="3962520"/>
            <a:ext cx="32763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ffffcc"/>
                </a:solidFill>
                <a:latin typeface="Tahoma"/>
              </a:rPr>
              <a:t>Інформація про викладач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56386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uk-UA" sz="2400" spc="-1" strike="noStrike">
                <a:solidFill>
                  <a:srgbClr val="ffffff"/>
                </a:solidFill>
                <a:latin typeface="Tahoma"/>
              </a:rPr>
              <a:t>Радєва Ольга Георгіївн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Кандидат економічних наук, доцент кафедри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ліку та оподаткуванн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ahoma"/>
              </a:rPr>
              <a:t>Кафедра: </a:t>
            </a: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обліку та оподаткування, І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корпус, ауд. 12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ahoma"/>
              </a:rPr>
              <a:t>E-mail: </a:t>
            </a: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oradeva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@ukr.n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ahoma"/>
              </a:rPr>
              <a:t>Телефон: </a:t>
            </a: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(061) 228-76-4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rcRect l="0" t="6577" r="0" b="5579"/>
          <a:stretch/>
        </p:blipFill>
        <p:spPr>
          <a:xfrm>
            <a:off x="6095880" y="1295280"/>
            <a:ext cx="2373480" cy="31244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Інформація про ситуацію на території Чаплинського та Каланчацького районів  станом на 08 вересня 2018 року"/>
          <p:cNvPicPr/>
          <p:nvPr/>
        </p:nvPicPr>
        <p:blipFill>
          <a:blip r:embed="rId3"/>
          <a:stretch/>
        </p:blipFill>
        <p:spPr>
          <a:xfrm>
            <a:off x="609480" y="4191120"/>
            <a:ext cx="3353040" cy="25146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Тема 1. Людина та інформація | Тест з інформатики – «На Урок»"/>
          <p:cNvPicPr/>
          <p:nvPr/>
        </p:nvPicPr>
        <p:blipFill>
          <a:blip r:embed="rId4"/>
          <a:stretch/>
        </p:blipFill>
        <p:spPr>
          <a:xfrm>
            <a:off x="4648320" y="4876920"/>
            <a:ext cx="3809880" cy="15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1-31T14:17:53Z</dcterms:created>
  <dc:creator>ASUS</dc:creator>
  <dc:description/>
  <dc:language>en-US</dc:language>
  <cp:lastModifiedBy>ASUS</cp:lastModifiedBy>
  <dcterms:modified xsi:type="dcterms:W3CDTF">2021-01-31T17:02:59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