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png" ContentType="image/png"/>
  <Override PartName="/ppt/media/image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ECF2-4AA9-48D7-8052-BB9BE983F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1B60-AC20-4657-8C4A-F537DC71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AD14-F039-4BEE-8691-F6A661FEB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99AD-276A-434A-953C-BDB4403F2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BEB2-FBDF-46AA-ACCA-F1541EA70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7A5E6-6C63-4556-93CB-69062E29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27C4-710C-447D-A21A-B80DC384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FC68-7B04-4DE8-8BC8-B434377E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7D6E-1026-42A3-8354-AE1BF9C2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B167-4082-48DC-81F3-9DF3FC5D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7ABF-2C82-401B-9C95-06DA0826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C7BB-C963-4CCD-BE90-AF36F0BA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104F-9919-4E09-AEDC-9C6399D9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CB71A-58D1-45A4-9786-C48BDAF4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49D0-5168-4BEC-A1ED-7F8C5C5A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AF74-6D68-4B12-8592-4AF34AAFD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6F44-429C-48D6-BF43-81B152086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8C0D-4B10-44D8-BFE5-7AF11E81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4D40-50D9-43FE-B401-C78F69E8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212C-DA2A-4345-B1B8-201D756C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272F-54E2-4E56-B94F-F89C8849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1E11-88A6-4073-8AEA-B413AF78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01E8-3D5E-48FD-A3E2-0854A139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6C9A-0659-4E4F-B4F2-176B8508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81FF-69F9-4213-A811-0DAB982B3F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C3EB-07FF-4147-A4B5-E466B0D7F4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cc"/>
                </a:solidFill>
                <a:latin typeface="Times New Roman"/>
              </a:rPr>
              <a:t>ПРЕЗЕНТАЦ</a:t>
            </a:r>
            <a:r>
              <a:rPr b="1" i="1" lang="uk-UA" sz="4000" spc="-1" strike="noStrike">
                <a:solidFill>
                  <a:srgbClr val="ffffcc"/>
                </a:solidFill>
                <a:latin typeface="Times New Roman"/>
              </a:rPr>
              <a:t>ІЯ </a:t>
            </a:r>
            <a:br>
              <a:rPr sz="4000"/>
            </a:br>
            <a:r>
              <a:rPr b="1" i="1" lang="uk-UA" sz="4000" spc="-1" strike="noStrike">
                <a:solidFill>
                  <a:srgbClr val="ffffcc"/>
                </a:solidFill>
                <a:latin typeface="Times New Roman"/>
              </a:rPr>
              <a:t>НАВЧАЛЬНОЇ ДИСЦИПЛІНИ “ОБЛІК І АНАЛІЗ ЗЕД”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3" name="Рисунок 2" descr=""/>
          <p:cNvPicPr/>
          <p:nvPr/>
        </p:nvPicPr>
        <p:blipFill>
          <a:blip r:embed="rId2"/>
          <a:stretch/>
        </p:blipFill>
        <p:spPr>
          <a:xfrm>
            <a:off x="7238880" y="5029200"/>
            <a:ext cx="1657440" cy="15732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Зміни в законі про бухгалтерській облік та фінансову звітність: на що варто  звернути увагу? - Baker Tilly"/>
          <p:cNvPicPr/>
          <p:nvPr/>
        </p:nvPicPr>
        <p:blipFill>
          <a:blip r:embed="rId3"/>
          <a:stretch/>
        </p:blipFill>
        <p:spPr>
          <a:xfrm>
            <a:off x="5257800" y="2666880"/>
            <a:ext cx="3467160" cy="2179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Як зміниться облік у часи пандемії COVID-19"/>
          <p:cNvPicPr/>
          <p:nvPr/>
        </p:nvPicPr>
        <p:blipFill>
          <a:blip r:embed="rId4"/>
          <a:stretch/>
        </p:blipFill>
        <p:spPr>
          <a:xfrm>
            <a:off x="457200" y="2666880"/>
            <a:ext cx="3505320" cy="2122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Програми BAS для торгового, управлінського обліку"/>
          <p:cNvPicPr/>
          <p:nvPr/>
        </p:nvPicPr>
        <p:blipFill>
          <a:blip r:embed="rId5"/>
          <a:stretch/>
        </p:blipFill>
        <p:spPr>
          <a:xfrm>
            <a:off x="3429000" y="441972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cc"/>
                </a:solidFill>
                <a:latin typeface="Tahoma"/>
              </a:rPr>
              <a:t>Мета та завдання навчальної дисципліни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i="1" lang="uk-UA" sz="1600" spc="-1" strike="noStrike">
                <a:solidFill>
                  <a:srgbClr val="ffffff"/>
                </a:solidFill>
                <a:latin typeface="Tahoma"/>
              </a:rPr>
              <a:t>Мета вивчення дисципліни «Облік і аналіз зовнішньоекономічної діяльності» ознайомлення студентів із принципами та особливістю бухгалтерського обліку зовнішньоекономічної діяльності підприємств та порядок оподаткування зовнішньоекономічних операцій. У процесі вивчення пред­мету студенти систематизують теоретичні знання і практичні навички з бухгалтерського обліку та аналізу зовнішньоекономічної діяльності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i="1" lang="uk-UA" sz="1600" spc="-1" strike="noStrike">
                <a:solidFill>
                  <a:srgbClr val="ffffff"/>
                </a:solidFill>
                <a:latin typeface="Tahoma"/>
              </a:rPr>
              <a:t>Завдання дисципліни: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Tahoma"/>
              </a:rPr>
              <a:t>визначення принципів здійснення зовнішньоекономічних операцій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Tahoma"/>
              </a:rPr>
              <a:t>ознайомлення із міжнародними умовами торгівлі та процедурами здійсненням митного контролю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Tahoma"/>
              </a:rPr>
              <a:t>вивчення теоретичних засад впровадження зовнішньоекономічної діяльності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Tahoma"/>
              </a:rPr>
              <a:t>засвоєння методики та особливостей організації бухгалтерського обліку зовнішньоекономічної діяльності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Tahoma"/>
              </a:rPr>
              <a:t>засвоєння вимог податкового законодавств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Tahoma"/>
              </a:rPr>
              <a:t>щодо зовнішньоекономічних операцій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Tahoma"/>
              </a:rPr>
              <a:t>опанування методикою аналізу зовнішньоекономічної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Tahoma"/>
              </a:rPr>
              <a:t>діяльності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Управлінський та фінансовий облік: у чому різниця | IнтелТех"/>
          <p:cNvPicPr/>
          <p:nvPr/>
        </p:nvPicPr>
        <p:blipFill>
          <a:blip r:embed="rId2"/>
          <a:stretch/>
        </p:blipFill>
        <p:spPr>
          <a:xfrm>
            <a:off x="6095880" y="4484520"/>
            <a:ext cx="2819520" cy="26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cc"/>
                </a:solidFill>
                <a:latin typeface="Tahoma"/>
              </a:rPr>
              <a:t>Студенти повинні знати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Студенти повинні </a:t>
            </a:r>
            <a:r>
              <a:rPr b="1" i="1" lang="uk-UA" sz="2000" spc="-1" strike="noStrike">
                <a:solidFill>
                  <a:srgbClr val="ffffff"/>
                </a:solidFill>
                <a:latin typeface="Tahoma"/>
              </a:rPr>
              <a:t>знати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нормативно-правове забезпечення бухгалтерського обліку зовнішньоекономічних операці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основні положення міжнародних умов торгівлі та розрахункі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методику бухгалтерського обліку імпортних операці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методику бухгалтерського обліку експортних операці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методику обліку бартерних (товарообмінних) операцій та операцій з давальницькою сировиною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принципи обліку валютно-фінансових операцій у ЗЕД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принципи обліку на підприємствах з іноземними інвестиціям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методи аналізу зовнішньоекономічної діяльності та її вплив на фінансовий стан підприємст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071 Облік і оподаткування"/>
          <p:cNvPicPr/>
          <p:nvPr/>
        </p:nvPicPr>
        <p:blipFill>
          <a:blip r:embed="rId2"/>
          <a:stretch/>
        </p:blipFill>
        <p:spPr>
          <a:xfrm>
            <a:off x="4724280" y="4267080"/>
            <a:ext cx="4191120" cy="2357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Как отражать страхование автомобиля по КАСКО в бухгалтерском учёте |  Новости | BritMark"/>
          <p:cNvPicPr/>
          <p:nvPr/>
        </p:nvPicPr>
        <p:blipFill>
          <a:blip r:embed="rId3"/>
          <a:stretch/>
        </p:blipFill>
        <p:spPr>
          <a:xfrm>
            <a:off x="838080" y="4572000"/>
            <a:ext cx="320040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cc"/>
                </a:solidFill>
                <a:latin typeface="Tahoma"/>
              </a:rPr>
              <a:t>Студенти повинні вміти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uk-UA" sz="1800" spc="-1" strike="noStrike">
                <a:solidFill>
                  <a:srgbClr val="ffffff"/>
                </a:solidFill>
                <a:latin typeface="Tahoma"/>
              </a:rPr>
              <a:t>Студенти повинні </a:t>
            </a:r>
            <a:r>
              <a:rPr b="1" i="1" lang="uk-UA" sz="1800" spc="-1" strike="noStrike">
                <a:solidFill>
                  <a:srgbClr val="ffffff"/>
                </a:solidFill>
                <a:latin typeface="Tahoma"/>
              </a:rPr>
              <a:t>вміт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Tahoma"/>
              </a:rPr>
              <a:t>складати договори про зовнішньоекономічні операції, застосовувати умови Інкотермс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Tahoma"/>
              </a:rPr>
              <a:t>опрацьовувати нормативні документи щодо порядку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Tahoma"/>
              </a:rPr>
              <a:t>відображати в обліку імпортні та  експортні операції та операції з валютними цінностям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Tahoma"/>
              </a:rPr>
              <a:t>відображати в обліку товарообмінні (бартерні) операції, операції з давальницькою сировиною; валютно-фінансові та інших операції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Tahoma"/>
              </a:rPr>
              <a:t>складати податкову та іншу звітність щодо зовнішньоекономічних операці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Tahoma"/>
              </a:rPr>
              <a:t>аналізувати зовнішньоекономічні операції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Tahoma"/>
              </a:rPr>
              <a:t>надавати своєчасно інформацію, потрібну для прийняття рішень, аналізу, прогнозування діяльності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Tahoma"/>
              </a:rPr>
              <a:t>набути практичні навички зі складання звітності щодо зовнішньоекономічних операці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Короткострокові ліцензії БукКіпер: облік надходження та списання -  BOOKKEEPER УКРАИНСКАЯ ОНЛАЙН БУХГАЛТЕРИЯ"/>
          <p:cNvPicPr/>
          <p:nvPr/>
        </p:nvPicPr>
        <p:blipFill>
          <a:blip r:embed="rId2"/>
          <a:stretch/>
        </p:blipFill>
        <p:spPr>
          <a:xfrm>
            <a:off x="457200" y="4876920"/>
            <a:ext cx="3581280" cy="1782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Бухгалтерський облік :: Тимлар-Аудит"/>
          <p:cNvPicPr/>
          <p:nvPr/>
        </p:nvPicPr>
        <p:blipFill>
          <a:blip r:embed="rId3"/>
          <a:stretch/>
        </p:blipFill>
        <p:spPr>
          <a:xfrm>
            <a:off x="5181480" y="4648320"/>
            <a:ext cx="3353040" cy="20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cc"/>
                </a:solidFill>
                <a:latin typeface="Tahoma"/>
              </a:rPr>
              <a:t>Програма навчальної дисципліни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9917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Змістовий модуль І. Принципи зовнішньоекономічної діяльност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Тема 1. Загальна характеристика зовнішньоекономічної діяльност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Тема 2. Договірні відносини у сфері зовнішньоекономічної діяльност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Тема 3. Поняття валютних цінностей та облік операцій з ни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Тема 4. Облік розрахункових операцій у зовнішньоекономічній діяльност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Змістовний модуль ІІ. Облік зовнішньоекономічних операці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Тема 5. Облік експортних операці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Тема 6. Облік лізингови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та транспортних операцій у ЗЕ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Тема 7. Облік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комісійн</a:t>
            </a: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их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а консигнаційн</a:t>
            </a: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их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операцій</a:t>
            </a: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Тема 8. Облік інших операцій у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зовнішньоекономічній діяльност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Тема 9. Аналіз зовнішньоекономічної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діяльності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На Prometheus стартують два нові онлайн-курси з доступу | Доступ до правди"/>
          <p:cNvPicPr/>
          <p:nvPr/>
        </p:nvPicPr>
        <p:blipFill>
          <a:blip r:embed="rId2"/>
          <a:stretch/>
        </p:blipFill>
        <p:spPr>
          <a:xfrm>
            <a:off x="5562720" y="3962520"/>
            <a:ext cx="32763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cc"/>
                </a:solidFill>
                <a:latin typeface="Tahoma"/>
              </a:rPr>
              <a:t>Інформація про викладач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56386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Радєва Ольга Георгіїв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Кандидат економічних наук, доцент кафедри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ліку та оподаткуванн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Кафедра: 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обліку та оподаткування, І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корпус, ауд. 12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E-mail: 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oradeva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@ukr.n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Телефон: 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(061) 228-76-4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rcRect l="0" t="6577" r="0" b="5579"/>
          <a:stretch/>
        </p:blipFill>
        <p:spPr>
          <a:xfrm>
            <a:off x="6095880" y="1295280"/>
            <a:ext cx="2373480" cy="3124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Інформація про ситуацію на території Чаплинського та Каланчацького районів  станом на 08 вересня 2018 року"/>
          <p:cNvPicPr/>
          <p:nvPr/>
        </p:nvPicPr>
        <p:blipFill>
          <a:blip r:embed="rId3"/>
          <a:stretch/>
        </p:blipFill>
        <p:spPr>
          <a:xfrm>
            <a:off x="609480" y="419112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Тема 1. Людина та інформація | Тест з інформатики – «На Урок»"/>
          <p:cNvPicPr/>
          <p:nvPr/>
        </p:nvPicPr>
        <p:blipFill>
          <a:blip r:embed="rId4"/>
          <a:stretch/>
        </p:blipFill>
        <p:spPr>
          <a:xfrm>
            <a:off x="4648320" y="4876920"/>
            <a:ext cx="380988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31T14:17:53Z</dcterms:created>
  <dc:creator>ASUS</dc:creator>
  <dc:description/>
  <dc:language>en-US</dc:language>
  <cp:lastModifiedBy>ASUS</cp:lastModifiedBy>
  <dcterms:modified xsi:type="dcterms:W3CDTF">2021-01-31T17:02:59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