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D3B-DF55-47F6-9966-B3A33DB2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0F0-430C-4BDF-94DC-241DFBDE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FE1-F0DB-4611-8526-77CDF1E0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029-1376-4004-BFB6-93BC6103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FA20-343D-433F-812B-DA3BE249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EC16-F91C-4577-950E-D8907766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9800-4D63-4A65-BE3B-0104FFE8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ECE9-A512-4FAD-81A9-46A2CFC8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6404-A4FB-4698-84CA-B2036BFE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CB28-FB7A-4A59-92F6-62E03A2B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8322-4EF7-4A54-BB11-A4F25A0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AFC-3678-474E-90E8-00D98C6F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1D0E-0A42-4313-B436-AFED6552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7BCB-6E60-4B94-81D5-2F30E8DC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D6C2-1DA8-4551-81BC-422F186C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A065-06A2-4FFA-8EFF-39D04BC3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33C8-6765-4FE8-BB93-126D6BC7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B23-EA64-4214-87FA-EB7A4EEB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215-144F-43A2-9397-8468E21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BFB-3B19-4F8D-9D76-513483E6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8EE-0CC4-4348-B60F-7672217B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F63-A7D7-41F4-AB83-DBD4362D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4F6-762C-458F-99A0-6F005DF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AF3-2D3E-4D44-8ABF-B4BC2095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89A1-FBBA-40B7-B62A-144ACFD7A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508-FAAC-4B0D-9580-C6F58FA24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99"/>
                </a:solidFill>
                <a:latin typeface="Times New Roman"/>
              </a:rPr>
              <a:t>ПРЕЗЕНТАЦ</a:t>
            </a:r>
            <a:r>
              <a:rPr b="1" i="1" lang="uk-UA" sz="4000" spc="-1" strike="noStrike">
                <a:solidFill>
                  <a:srgbClr val="ccff99"/>
                </a:solidFill>
                <a:latin typeface="Times New Roman"/>
              </a:rPr>
              <a:t>ІЯ </a:t>
            </a:r>
            <a:br>
              <a:rPr sz="4000"/>
            </a:br>
            <a:r>
              <a:rPr b="1" i="1" lang="uk-UA" sz="4000" spc="-1" strike="noStrike">
                <a:solidFill>
                  <a:srgbClr val="ccff99"/>
                </a:solidFill>
                <a:latin typeface="Times New Roman"/>
              </a:rPr>
              <a:t>НАВЧАЛЬНОЇ ДИСЦИПЛІНИ “ВИРОБНИЧИЙ ОБЛІК”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57440" cy="157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Управлінський облік в медичній організації | IMED"/>
          <p:cNvPicPr/>
          <p:nvPr/>
        </p:nvPicPr>
        <p:blipFill>
          <a:blip r:embed="rId3"/>
          <a:stretch/>
        </p:blipFill>
        <p:spPr>
          <a:xfrm>
            <a:off x="380880" y="2895480"/>
            <a:ext cx="3124440" cy="207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Бухгалтерський облік | Аутсорсинговий центр &quot;Облік+Контроль-Податки&quot;"/>
          <p:cNvPicPr/>
          <p:nvPr/>
        </p:nvPicPr>
        <p:blipFill>
          <a:blip r:embed="rId4"/>
          <a:stretch/>
        </p:blipFill>
        <p:spPr>
          <a:xfrm>
            <a:off x="4876920" y="2971800"/>
            <a:ext cx="3914640" cy="155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Облік і оподаткування - МПЕК"/>
          <p:cNvPicPr/>
          <p:nvPr/>
        </p:nvPicPr>
        <p:blipFill>
          <a:blip r:embed="rId5"/>
          <a:stretch/>
        </p:blipFill>
        <p:spPr>
          <a:xfrm>
            <a:off x="3276720" y="4419720"/>
            <a:ext cx="30477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ff99"/>
                </a:solidFill>
                <a:latin typeface="Tahoma"/>
              </a:rPr>
              <a:t>Мета та завдання навчальної дисципліни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Метою викладання дисципліни «Виробничий облік» є ознайомлення студентів із принципами, організацією та методикою бухгалтерського обліку процесу виробництва, калькулювання собівартості продукції та підготовки інформації для прийняття управлінських рішень. У процесі вивчення пред­мету студенти систематизують теоретичні знання і практичні навички з бухгалтерського обліку виробничих витрат та калькулювання продукції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Завдання дисциплін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изначення економічної сутності та поведінки витра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засвоєння вимог нормативних документів щодо формування та обліку витрат на виробництв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ивчення теоретичних засад калькулюванн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собівартості виробленої продукції, наданих послу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ивчення та засвоєння методики організації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иробничого облі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Чи потрібен грамотний бухгалтерський облік НПО? | Громадський Простір"/>
          <p:cNvPicPr/>
          <p:nvPr/>
        </p:nvPicPr>
        <p:blipFill>
          <a:blip r:embed="rId2"/>
          <a:stretch/>
        </p:blipFill>
        <p:spPr>
          <a:xfrm>
            <a:off x="6629400" y="4724280"/>
            <a:ext cx="2286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ff99"/>
                </a:solidFill>
                <a:latin typeface="Tahoma"/>
              </a:rPr>
              <a:t>Студенти повинні знати</a:t>
            </a: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Студенти повинні </a:t>
            </a:r>
            <a:r>
              <a:rPr b="1" i="1" lang="uk-UA" sz="2000" spc="-1" strike="noStrike">
                <a:solidFill>
                  <a:srgbClr val="ffffff"/>
                </a:solidFill>
                <a:latin typeface="Tahoma"/>
              </a:rPr>
              <a:t>знати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нормативно-правове забезпечення бухгалтерського обліку зовнішньоекономічних операці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міст та функції бухгалтерського обліку в системі управлінн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основні принципи калькулювання собівартості продукції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нормативно-правове забезпечення бухгалтерського обліку витра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принципи та методи обліку прямих витрат на виробництв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принципи та методи обліку загальновиробничих витра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зведений облік витрат на виробництв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методи калькулювання собівартості продукц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Облік і оподаткування | Центральноукраїнський інститут МАУП"/>
          <p:cNvPicPr/>
          <p:nvPr/>
        </p:nvPicPr>
        <p:blipFill>
          <a:blip r:embed="rId2"/>
          <a:stretch/>
        </p:blipFill>
        <p:spPr>
          <a:xfrm>
            <a:off x="4419720" y="4648320"/>
            <a:ext cx="4419360" cy="1812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Як вести бухгалтерський облік в Інтернет-магазині | Веб-студія NeoSeo"/>
          <p:cNvPicPr/>
          <p:nvPr/>
        </p:nvPicPr>
        <p:blipFill>
          <a:blip r:embed="rId3"/>
          <a:stretch/>
        </p:blipFill>
        <p:spPr>
          <a:xfrm>
            <a:off x="304920" y="4495680"/>
            <a:ext cx="3686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ff99"/>
                </a:solidFill>
                <a:latin typeface="Tahoma"/>
              </a:rPr>
              <a:t>Студенти повинні вміти</a:t>
            </a: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туденти повинні </a:t>
            </a:r>
            <a:r>
              <a:rPr b="1" i="1" lang="uk-UA" sz="1800" spc="-1" strike="noStrike">
                <a:solidFill>
                  <a:srgbClr val="ffffff"/>
                </a:solidFill>
                <a:latin typeface="Tahoma"/>
              </a:rPr>
              <a:t>вміт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обирати відповідну систему калькулювання в залежності від організації виробничого процесу та технологічних особливостей виробництв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обліковувати прямі витрати на виробництво та загальновиробничі витрат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вести зведений облік витрат на виробництв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планові та фактичні калькуляції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калькуляції  собівартості готової продукції при позамовному методі калькулюванн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складати калькуляції  собівартості готової продукції при попроцесному методі калькулюванн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контролювати рівень витрат на виробництв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Tahoma"/>
              </a:rPr>
              <a:t>підготовлювати та використовувати облікову інформацію для прийняття ріше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Бухгалтерский учет при командировках за рубеж - сpk.ua"/>
          <p:cNvPicPr/>
          <p:nvPr/>
        </p:nvPicPr>
        <p:blipFill>
          <a:blip r:embed="rId2"/>
          <a:stretch/>
        </p:blipFill>
        <p:spPr>
          <a:xfrm>
            <a:off x="5181480" y="4572000"/>
            <a:ext cx="3581640" cy="2076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Бухгалтерський облік - Ourboox"/>
          <p:cNvPicPr/>
          <p:nvPr/>
        </p:nvPicPr>
        <p:blipFill>
          <a:blip r:embed="rId3"/>
          <a:stretch/>
        </p:blipFill>
        <p:spPr>
          <a:xfrm>
            <a:off x="762120" y="4724280"/>
            <a:ext cx="38862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ff99"/>
                </a:solidFill>
                <a:latin typeface="Tahoma"/>
              </a:rPr>
              <a:t>Програма навчальної дисципліни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Розділ І. Методи калькулювання та обліку витрат на виробниц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1. Склад та класифікація витр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2. Методи обліку витрат виробництва та калькулювання собівартості продукц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3. Організація обліку основних витрат на виробниц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Розділ ІІ. Організація обліку витрат на виробництв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4. Організація обліку та розподіл загальновиробничих витр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5. Організація обліку витрат допоміжних виробниц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6. Зведений облік витра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на виробництво та складання звітної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калькуляції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Тема 7. Калькулювання собівартості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за повними витратами та за змінним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витратами.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Конфиденциальная информация: о чем лучше не писать на сайте НКО"/>
          <p:cNvPicPr/>
          <p:nvPr/>
        </p:nvPicPr>
        <p:blipFill>
          <a:blip r:embed="rId2"/>
          <a:stretch/>
        </p:blipFill>
        <p:spPr>
          <a:xfrm>
            <a:off x="5562720" y="4191120"/>
            <a:ext cx="33526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ff99"/>
                </a:solidFill>
                <a:latin typeface="Tahoma"/>
              </a:rPr>
              <a:t>Інформація про викладача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5638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Радєва Ольга Георгії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андидат економічних наук, доцент кафедр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іку та оподаткува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Кафедра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бліку та оподаткування, І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корпус, ауд. 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oradev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@ukr.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(061) 228-76-4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0" t="6577" r="0" b="5579"/>
          <a:stretch/>
        </p:blipFill>
        <p:spPr>
          <a:xfrm>
            <a:off x="6095880" y="1295280"/>
            <a:ext cx="2373480" cy="312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Інформація про ситуацію на території Чаплинського та Каланчацького районів  станом на 08 вересня 2018 року"/>
          <p:cNvPicPr/>
          <p:nvPr/>
        </p:nvPicPr>
        <p:blipFill>
          <a:blip r:embed="rId3"/>
          <a:stretch/>
        </p:blipFill>
        <p:spPr>
          <a:xfrm>
            <a:off x="6094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Тема 1. Людина та інформація | Тест з інформатики – «На Урок»"/>
          <p:cNvPicPr/>
          <p:nvPr/>
        </p:nvPicPr>
        <p:blipFill>
          <a:blip r:embed="rId4"/>
          <a:stretch/>
        </p:blipFill>
        <p:spPr>
          <a:xfrm>
            <a:off x="4648320" y="4876920"/>
            <a:ext cx="38098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31T14:17:53Z</dcterms:created>
  <dc:creator>ASUS</dc:creator>
  <dc:description/>
  <dc:language>en-US</dc:language>
  <cp:lastModifiedBy>ASUS</cp:lastModifiedBy>
  <dcterms:modified xsi:type="dcterms:W3CDTF">2021-01-31T14:37:3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