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FA4-025F-4508-9944-6783047E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1A0-D334-4890-B679-61A13FC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AE1-4D64-4755-AE03-F71191D5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D20-2F71-42ED-85DD-CAFCF7AF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B32C-2ECA-43DF-8994-624E3800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4980-DDEF-4B6E-887D-9B21D3CA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6462-0069-498C-A9A5-189D3B84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3B70-C141-4923-8452-8E34C181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ED0-8949-4304-B96F-3018DEB9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CD04-8BBB-4CD2-8CA5-333A81BD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1D8E-310B-4FD2-9BEB-C2EE1869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AC1-AFD6-4ADD-B6E0-E19089FE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10F3-C3C3-422F-B729-CF0E9D0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83B4-792A-41D3-87AB-6C0DC2B1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E9A4-B990-45C8-882E-766AB73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3509-9420-4A68-83FC-508F0B53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1B22-C95A-46EE-941E-BDED0269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EAC-1E40-4068-B846-9AADA415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1AB-3B20-4310-A7E4-00EDDB5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085-86CF-4BF1-84E9-8256E21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48D-7DBD-4177-896B-72C5884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FC5-3BA4-4802-B99A-EA0087E0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D1A-0C07-4777-9E2C-CC04D74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6BE-4907-43C2-9897-B199C31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3ED8-36E4-4DF0-ADC4-42048AF79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934F-AE2A-4915-902D-BDD5EB0C3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99"/>
                </a:solidFill>
                <a:latin typeface="Times New Roman"/>
              </a:rPr>
              <a:t>ПРЕЗЕНТАЦ</a:t>
            </a:r>
            <a:r>
              <a:rPr b="1" i="1" lang="uk-UA" sz="4000" spc="-1" strike="noStrike">
                <a:solidFill>
                  <a:srgbClr val="ccff99"/>
                </a:solidFill>
                <a:latin typeface="Times New Roman"/>
              </a:rPr>
              <a:t>ІЯ </a:t>
            </a:r>
            <a:br>
              <a:rPr sz="4000"/>
            </a:br>
            <a:r>
              <a:rPr b="1" i="1" lang="uk-UA" sz="4000" spc="-1" strike="noStrike">
                <a:solidFill>
                  <a:srgbClr val="ccff99"/>
                </a:solidFill>
                <a:latin typeface="Times New Roman"/>
              </a:rPr>
              <a:t>НАВЧАЛЬНОЇ ДИСЦИПЛІНИ “ВИРОБНИЧИЙ ОБЛІК”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57440" cy="157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Управлінський облік в медичній організації | IMED"/>
          <p:cNvPicPr/>
          <p:nvPr/>
        </p:nvPicPr>
        <p:blipFill>
          <a:blip r:embed="rId3"/>
          <a:stretch/>
        </p:blipFill>
        <p:spPr>
          <a:xfrm>
            <a:off x="380880" y="2895480"/>
            <a:ext cx="3124440" cy="207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Бухгалтерський облік | Аутсорсинговий центр &quot;Облік+Контроль-Податки&quot;"/>
          <p:cNvPicPr/>
          <p:nvPr/>
        </p:nvPicPr>
        <p:blipFill>
          <a:blip r:embed="rId4"/>
          <a:stretch/>
        </p:blipFill>
        <p:spPr>
          <a:xfrm>
            <a:off x="4876920" y="2971800"/>
            <a:ext cx="3914640" cy="155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Облік і оподаткування - МПЕК"/>
          <p:cNvPicPr/>
          <p:nvPr/>
        </p:nvPicPr>
        <p:blipFill>
          <a:blip r:embed="rId5"/>
          <a:stretch/>
        </p:blipFill>
        <p:spPr>
          <a:xfrm>
            <a:off x="3276720" y="4419720"/>
            <a:ext cx="30477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ff99"/>
                </a:solidFill>
                <a:latin typeface="Tahoma"/>
              </a:rPr>
              <a:t>Мета та завдання навчальної дисципліни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Метою викладання дисципліни «Виробничий облік» є ознайомлення студентів із принципами, організацією та методикою бухгалтерського обліку процесу виробництва, калькулювання собівартості продукції та підготовки інформації для прийняття управлінських рішень. У процесі вивчення пред­мету студенти систематизують теоретичні знання і практичні навички з бухгалтерського обліку виробничих витрат та калькулювання продукції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Завдання дисциплін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изначення економічної сутності та поведінки витра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засвоєння вимог нормативних документів щодо формування та обліку витрат на виробництв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ивчення теоретичних засад калькулю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собівартості виробленої продукції, наданих послу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ивчення та засвоєння методики організації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иробничого облі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Чи потрібен грамотний бухгалтерський облік НПО? | Громадський Простір"/>
          <p:cNvPicPr/>
          <p:nvPr/>
        </p:nvPicPr>
        <p:blipFill>
          <a:blip r:embed="rId2"/>
          <a:stretch/>
        </p:blipFill>
        <p:spPr>
          <a:xfrm>
            <a:off x="6629400" y="4724280"/>
            <a:ext cx="2286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ff99"/>
                </a:solidFill>
                <a:latin typeface="Tahoma"/>
              </a:rPr>
              <a:t>Студенти повинні знати</a:t>
            </a: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Студенти повинні </a:t>
            </a: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знати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нормативно-правове забезпечення бухгалтерського обліку зовнішньоекономічних операці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міст та функції бухгалтерського обліку в системі управлінн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основні принципи калькулювання собівартості продукції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нормативно-правове забезпечення бухгалтерського обліку витра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принципи та методи обліку прямих витрат на виробництв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принципи та методи обліку загальновиробничих витра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ведений облік витрат на виробництв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 калькулювання собівартості продукц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Облік і оподаткування | Центральноукраїнський інститут МАУП"/>
          <p:cNvPicPr/>
          <p:nvPr/>
        </p:nvPicPr>
        <p:blipFill>
          <a:blip r:embed="rId2"/>
          <a:stretch/>
        </p:blipFill>
        <p:spPr>
          <a:xfrm>
            <a:off x="4419720" y="4648320"/>
            <a:ext cx="4419360" cy="1812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Як вести бухгалтерський облік в Інтернет-магазині | Веб-студія NeoSeo"/>
          <p:cNvPicPr/>
          <p:nvPr/>
        </p:nvPicPr>
        <p:blipFill>
          <a:blip r:embed="rId3"/>
          <a:stretch/>
        </p:blipFill>
        <p:spPr>
          <a:xfrm>
            <a:off x="304920" y="4495680"/>
            <a:ext cx="3686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ff99"/>
                </a:solidFill>
                <a:latin typeface="Tahoma"/>
              </a:rPr>
              <a:t>Студенти повинні вміти</a:t>
            </a: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туденти повинні </a:t>
            </a: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мі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обирати відповідну систему калькулювання в залежності від організації виробничого процесу та технологічних особливостей виробниц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обліковувати прямі витрати на виробництво та загальновиробничі витра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вести зведений облік витрат на виробництв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планові та фактичні калькуляції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калькуляції  собівартості готової продукції при позамовному методі калькулюванн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калькуляції  собівартості готової продукції при попроцесному методі калькулю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контролювати рівень витрат на виробництв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підготовлювати та використовувати облікову інформацію для прийняття ріше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Бухгалтерский учет при командировках за рубеж - сpk.ua"/>
          <p:cNvPicPr/>
          <p:nvPr/>
        </p:nvPicPr>
        <p:blipFill>
          <a:blip r:embed="rId2"/>
          <a:stretch/>
        </p:blipFill>
        <p:spPr>
          <a:xfrm>
            <a:off x="5181480" y="4572000"/>
            <a:ext cx="3581640" cy="2076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Бухгалтерський облік - Ourboox"/>
          <p:cNvPicPr/>
          <p:nvPr/>
        </p:nvPicPr>
        <p:blipFill>
          <a:blip r:embed="rId3"/>
          <a:stretch/>
        </p:blipFill>
        <p:spPr>
          <a:xfrm>
            <a:off x="762120" y="4724280"/>
            <a:ext cx="38862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ff99"/>
                </a:solidFill>
                <a:latin typeface="Tahoma"/>
              </a:rPr>
              <a:t>Програма навчальної дисципліни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Розділ І. Методи калькулювання та обліку витрат на виробниц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1. Склад та класифікація витр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2. Методи обліку витрат виробництва та калькулювання собівартості продукц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3. Організація обліку основних витрат на виробниц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Розділ ІІ. Організація обліку витрат на виробництв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4. Організація обліку та розподіл загальновиробничих витр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5. Організація обліку витрат допоміжних виробниц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6. Зведений облік витра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на виробництво та складання звітн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калькуляц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7. Калькулювання собівартості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за повними витратами та за змінни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витратами.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Конфиденциальная информация: о чем лучше не писать на сайте НКО"/>
          <p:cNvPicPr/>
          <p:nvPr/>
        </p:nvPicPr>
        <p:blipFill>
          <a:blip r:embed="rId2"/>
          <a:stretch/>
        </p:blipFill>
        <p:spPr>
          <a:xfrm>
            <a:off x="5562720" y="4191120"/>
            <a:ext cx="33526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ff99"/>
                </a:solidFill>
                <a:latin typeface="Tahoma"/>
              </a:rPr>
              <a:t>Інформація про викладача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5638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Радєва Ольга Георгії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андидат економічних наук, доцент кафедр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іку та оподаткув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Кафедра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бліку та оподаткування, І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корпус, ауд. 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oradev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@ukr.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(061) 228-76-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6577" r="0" b="5579"/>
          <a:stretch/>
        </p:blipFill>
        <p:spPr>
          <a:xfrm>
            <a:off x="6095880" y="1295280"/>
            <a:ext cx="2373480" cy="312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Інформація про ситуацію на території Чаплинського та Каланчацького районів  станом на 08 вересня 2018 року"/>
          <p:cNvPicPr/>
          <p:nvPr/>
        </p:nvPicPr>
        <p:blipFill>
          <a:blip r:embed="rId3"/>
          <a:stretch/>
        </p:blipFill>
        <p:spPr>
          <a:xfrm>
            <a:off x="6094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Тема 1. Людина та інформація | Тест з інформатики – «На Урок»"/>
          <p:cNvPicPr/>
          <p:nvPr/>
        </p:nvPicPr>
        <p:blipFill>
          <a:blip r:embed="rId4"/>
          <a:stretch/>
        </p:blipFill>
        <p:spPr>
          <a:xfrm>
            <a:off x="4648320" y="4876920"/>
            <a:ext cx="38098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31T14:17:53Z</dcterms:created>
  <dc:creator>ASUS</dc:creator>
  <dc:description/>
  <dc:language>en-US</dc:language>
  <cp:lastModifiedBy>ASUS</cp:lastModifiedBy>
  <dcterms:modified xsi:type="dcterms:W3CDTF">2021-01-31T14:37:3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