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2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6"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move the slide</a:t>
            </a:r>
            <a:endParaRPr b="0" lang="en-US" sz="4200" spc="-1" strike="noStrike">
              <a:solidFill>
                <a:srgbClr val="ebebeb"/>
              </a:solidFill>
              <a:latin typeface="Century Gothic"/>
            </a:endParaRPr>
          </a:p>
        </p:txBody>
      </p:sp>
      <p:sp>
        <p:nvSpPr>
          <p:cNvPr id="23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8" name="PlaceHolder 4"/>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12AED-6AF0-4AB4-8393-060ED7F32C6B}" type="slidenum">
              <a:rPr b="0" lang="ru-RU" sz="1200" spc="-1" strike="noStrike">
                <a:solidFill>
                  <a:srgbClr val="000000"/>
                </a:solidFill>
                <a:latin typeface="Times New Roman"/>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E334E-30F0-4899-86A3-A366A99CA62B}" type="slidenum">
              <a:rPr b="0" lang="ru-RU" sz="1200" spc="-1" strike="noStrike">
                <a:solidFill>
                  <a:srgbClr val="ffffff"/>
                </a:solidFill>
                <a:latin typeface="Times New Roman"/>
              </a:rPr>
              <a:t>&lt;number&gt;</a:t>
            </a:fld>
            <a:endParaRPr b="0" lang="en-US" sz="1200" spc="-1" strike="noStrike">
              <a:solidFill>
                <a:srgbClr val="ffffff"/>
              </a:solidFill>
              <a:latin typeface="Century Gothic"/>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C326E-269D-4341-A3F7-84F04B60E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D4C0C-7673-4AD3-9A41-DE0FEF29D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B15B7-A3D4-4D64-B81A-0A952C14B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355F2-EDAC-4785-BD12-243A3E77C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E89E9-218C-474F-8FD2-F2178C6D6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E0AE0-6AA5-4920-8AAC-CA73B25F4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F345C-78B2-4322-A8D9-DECC23553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CCB35-0636-4727-B3FA-0D80075FC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03276-C8DA-4EBE-8BC1-88FFDDBC2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40296-B917-4F19-A61F-1B4959A16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5BC60-B5C5-400C-9BDA-FEA548DFB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FCC13-07DE-4544-98FB-90D3085A3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0F6D4-2791-43AC-9403-2ECF19A44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2ADC9-D504-497A-B233-F61941940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AEE0D-3A96-41DC-A5E3-FE38EDE64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21F0B-023F-4A7B-AC99-997412B1D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14C91-BD23-4D9F-AEBB-F57A4349F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90E0D2-5E28-4F76-936D-34D74ABFE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C3C8C-1D2C-4E7A-BF53-0AD18861A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55BCA-5CEB-4792-B5EA-110390135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769D8-5CAB-434B-AA0D-A2BC39EF8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AEF2D-79E0-4071-B188-EB14C4087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FFC5A-F0ED-405E-9350-DDDD6713B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095184-C268-4064-953A-5CF8955CF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8CB6E-FBC3-42F2-B1A1-C87B8DCF6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5AE46-A043-45A7-B585-9330B6655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96B92-DE11-41D4-A004-BE183E399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9BE77-4AE6-442F-B20F-DA5E5C662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3F776A-8541-4CB1-A2B3-C1A7DE1B4D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1B91A0-881D-4A17-9B7C-DDC64033DB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34F98D-0F56-42FA-998A-EFF3378213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33242-5D55-4036-819F-02B66251F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CC5F9-4344-44DD-95C2-56AB72FF8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EDC54-5200-4F0D-9372-84E5B3FC9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891B4-162E-4309-B79B-D2F1077FE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90590-5ADC-4C90-AEA8-1FD2BC403D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65B99B-1A38-483C-8188-6A265C89F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0E071-5AA9-493C-9995-36ABEE3E7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539A1-A206-4042-853A-E91D8FAC4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4458A-0A77-4405-B702-8D699DCB1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9264DD-EFDD-486D-8885-DB1D0BFAA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932241-E68C-4FE8-8B59-C826FA7E19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9C3074-76F6-4D4D-89EF-FAA9FF01FA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E1CF-1A50-470E-A33A-41647B720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3792E-BD60-41F0-BF24-703ED4F01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D571D-D4AC-4FF5-8B8A-77229ECA6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7AEF7-A967-4277-8D9A-8E931A3DA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DA693-46B5-4699-8106-928183671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BBE89-D548-4C15-A158-3C04947ECECE}" type="slidenum">
              <a:rPr b="0" lang="ru-RU"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67653-71DD-4D05-978E-2A8D1B887D4D}" type="slidenum">
              <a:rPr b="0" lang="ru-RU"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39B70-6582-4907-ABB8-85BA52DF8411}" type="slidenum">
              <a:rPr b="0" lang="ru-RU"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577D5-4C3E-4800-88B7-7F1698133E59}" type="slidenum">
              <a:rPr b="0" lang="ru-RU"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60"/>
            <a:ext cx="8610480" cy="259092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800" spc="-1" strike="noStrike">
                <a:solidFill>
                  <a:srgbClr val="ffff00"/>
                </a:solidFill>
                <a:latin typeface="Verdana"/>
              </a:rPr>
              <a:t>Вітаємо Вас з початком вивчення курсу БІОЛОГІЧНА ХІМІЯ</a:t>
            </a:r>
            <a:endParaRPr b="0" lang="en-US" sz="4800" spc="-1" strike="noStrike">
              <a:solidFill>
                <a:srgbClr val="ebebeb"/>
              </a:solidFill>
              <a:latin typeface="Century Gothic"/>
            </a:endParaRPr>
          </a:p>
        </p:txBody>
      </p:sp>
      <p:sp>
        <p:nvSpPr>
          <p:cNvPr id="242" name="PlaceHolder 2"/>
          <p:cNvSpPr>
            <a:spLocks noGrp="1"/>
          </p:cNvSpPr>
          <p:nvPr>
            <p:ph type="subTitle"/>
          </p:nvPr>
        </p:nvSpPr>
        <p:spPr>
          <a:xfrm>
            <a:off x="1066320" y="3141720"/>
            <a:ext cx="7086600" cy="341136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ff99ff"/>
                </a:solidFill>
                <a:latin typeface="Century Gothic"/>
              </a:rPr>
              <a:t>ВІТАЄМО ВАС НА КАФЕДРІ "МЕДИКО-БІОЛОГІЧНИХ ОСНОВ ФІЗИЧНОЇ КУЛЬТУРИ ТА СПОРТУ»</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repl">
                                        <p:cTn id="7" dur="500" fill="hold"/>
                                        <p:tgtEl>
                                          <p:spTgt spid="241"/>
                                        </p:tgtEl>
                                        <p:attrNameLst>
                                          <p:attrName>ppt_w</p:attrName>
                                        </p:attrNameLst>
                                      </p:cBhvr>
                                      <p:tavLst>
                                        <p:tav tm="0">
                                          <p:val>
                                            <p:strVal val="2/3*#ppt_w"/>
                                          </p:val>
                                        </p:tav>
                                        <p:tav tm="100000">
                                          <p:val>
                                            <p:strVal val="#ppt_w"/>
                                          </p:val>
                                        </p:tav>
                                      </p:tavLst>
                                    </p:anim>
                                    <p:anim calcmode="lin" valueType="num">
                                      <p:cBhvr additive="repl">
                                        <p:cTn id="8" dur="500" fill="hold"/>
                                        <p:tgtEl>
                                          <p:spTgt spid="241"/>
                                        </p:tgtEl>
                                        <p:attrNameLst>
                                          <p:attrName>ppt_h</p:attrName>
                                        </p:attrNameLst>
                                      </p:cBhvr>
                                      <p:tavLst>
                                        <p:tav tm="0">
                                          <p:val>
                                            <p:strVal val="2/3*#ppt_h"/>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272">
                                  <p:stCondLst>
                                    <p:cond delay="0"/>
                                  </p:stCondLst>
                                  <p:childTnLst>
                                    <p:set>
                                      <p:cBhvr>
                                        <p:cTn id="11" dur="1" fill="hold">
                                          <p:stCondLst>
                                            <p:cond delay="0"/>
                                          </p:stCondLst>
                                        </p:cTn>
                                        <p:tgtEl>
                                          <p:spTgt spid="242">
                                            <p:txEl>
                                              <p:pRg st="0" end="0"/>
                                            </p:txEl>
                                          </p:spTgt>
                                        </p:tgtEl>
                                        <p:attrNameLst>
                                          <p:attrName>style.visibility</p:attrName>
                                        </p:attrNameLst>
                                      </p:cBhvr>
                                      <p:to>
                                        <p:strVal val="visible"/>
                                      </p:to>
                                    </p:set>
                                    <p:anim calcmode="lin" valueType="num">
                                      <p:cBhvr additive="repl">
                                        <p:cTn id="12" dur="500" fill="hold"/>
                                        <p:tgtEl>
                                          <p:spTgt spid="242">
                                            <p:txEl>
                                              <p:pRg st="0" end="0"/>
                                            </p:txEl>
                                          </p:spTgt>
                                        </p:tgtEl>
                                        <p:attrNameLst>
                                          <p:attrName>ppt_w</p:attrName>
                                        </p:attrNameLst>
                                      </p:cBhvr>
                                      <p:tavLst>
                                        <p:tav tm="0">
                                          <p:val>
                                            <p:strVal val="2/3*#ppt_w"/>
                                          </p:val>
                                        </p:tav>
                                        <p:tav tm="100000">
                                          <p:val>
                                            <p:strVal val="#ppt_w"/>
                                          </p:val>
                                        </p:tav>
                                      </p:tavLst>
                                    </p:anim>
                                    <p:anim calcmode="lin" valueType="num">
                                      <p:cBhvr additive="repl">
                                        <p:cTn id="13" dur="500" fill="hold"/>
                                        <p:tgtEl>
                                          <p:spTgt spid="242">
                                            <p:txEl>
                                              <p:pRg st="0" end="0"/>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495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ffffff"/>
                </a:solidFill>
                <a:latin typeface="Century Gothic"/>
              </a:rPr>
              <a:t>Назва курсу:</a:t>
            </a:r>
            <a:br>
              <a:rPr sz="2800"/>
            </a:br>
            <a:r>
              <a:rPr b="1" lang="ru-RU" sz="4200" spc="-1" strike="noStrike">
                <a:solidFill>
                  <a:srgbClr val="ffffff"/>
                </a:solidFill>
                <a:latin typeface="Century Gothic"/>
              </a:rPr>
              <a:t> БІОЛОГІЧНА ХІМІІЯ</a:t>
            </a:r>
            <a:endParaRPr b="0" lang="en-US" sz="4200" spc="-1" strike="noStrike">
              <a:solidFill>
                <a:srgbClr val="ebebeb"/>
              </a:solidFill>
              <a:latin typeface="Century Gothic"/>
            </a:endParaRPr>
          </a:p>
        </p:txBody>
      </p:sp>
      <p:pic>
        <p:nvPicPr>
          <p:cNvPr id="244" name="Picture 5" descr="C:\Users\Фаворитов\Pictures\dfnljw-biology-1078x560.png"/>
          <p:cNvPicPr/>
          <p:nvPr/>
        </p:nvPicPr>
        <p:blipFill>
          <a:blip r:embed="rId1"/>
          <a:stretch/>
        </p:blipFill>
        <p:spPr>
          <a:xfrm>
            <a:off x="0" y="2101680"/>
            <a:ext cx="9144000" cy="4749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28600" y="304920"/>
            <a:ext cx="8763120" cy="640080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3200" spc="-1" strike="noStrike">
                <a:solidFill>
                  <a:srgbClr val="ffff00"/>
                </a:solidFill>
                <a:latin typeface="Times New Roman"/>
                <a:ea typeface="Times New Roman"/>
              </a:rPr>
              <a:t>Біохі́мія</a:t>
            </a:r>
            <a:r>
              <a:rPr b="0" lang="ru-RU" sz="3200" spc="-1" strike="noStrike">
                <a:solidFill>
                  <a:srgbClr val="ffff00"/>
                </a:solidFill>
                <a:latin typeface="Times New Roman"/>
                <a:ea typeface="Times New Roman"/>
              </a:rPr>
              <a:t> -</a:t>
            </a:r>
            <a:r>
              <a:rPr b="0" lang="vi-VN" sz="3200" spc="-1" strike="noStrike">
                <a:solidFill>
                  <a:srgbClr val="ffff00"/>
                </a:solidFill>
                <a:latin typeface="Times New Roman"/>
                <a:ea typeface="Times New Roman"/>
              </a:rPr>
              <a:t> наука про хімічний склад організмів та їхніх складових частин та про хімічні процеси, що протікають в організмах. Наука має справу із структурою та функцією компонентів клітини та речовин організму, як-от білки, вуглеводи, ліпіди, нуклеїнові кислоти та інші біомолекули. Біохімія прагне відповідати на біологічні та біохімічні питання за допомогою хімічних методів.</a:t>
            </a:r>
            <a:endParaRPr b="0" lang="en-US" sz="3200" spc="-1" strike="noStrike">
              <a:solidFill>
                <a:srgbClr val="ffffff"/>
              </a:solidFill>
              <a:latin typeface="Century Gothic"/>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2" presetSubtype="1">
                                  <p:stCondLst>
                                    <p:cond delay="0"/>
                                  </p:stCondLst>
                                  <p:childTnLst>
                                    <p:set>
                                      <p:cBhvr>
                                        <p:cTn id="19" dur="1" fill="hold">
                                          <p:stCondLst>
                                            <p:cond delay="0"/>
                                          </p:stCondLst>
                                        </p:cTn>
                                        <p:tgtEl>
                                          <p:spTgt spid="245">
                                            <p:txEl>
                                              <p:pRg st="1" end="1"/>
                                            </p:txEl>
                                          </p:spTgt>
                                        </p:tgtEl>
                                        <p:attrNameLst>
                                          <p:attrName>style.visibility</p:attrName>
                                        </p:attrNameLst>
                                      </p:cBhvr>
                                      <p:to>
                                        <p:strVal val="visible"/>
                                      </p:to>
                                    </p:set>
                                    <p:animEffect filter="wipe(up)" transition="in">
                                      <p:cBhvr additive="repl">
                                        <p:cTn id="20" dur="500"/>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0" y="0"/>
            <a:ext cx="9144000" cy="4797360"/>
          </a:xfrm>
          <a:prstGeom prst="rect">
            <a:avLst/>
          </a:prstGeom>
          <a:noFill/>
          <a:ln w="0">
            <a:noFill/>
          </a:ln>
        </p:spPr>
        <p:txBody>
          <a:bodyPr anchor="t">
            <a:normAutofit/>
          </a:bodyPr>
          <a:p>
            <a:pPr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00"/>
                </a:solidFill>
                <a:latin typeface="Century Gothic"/>
              </a:rPr>
              <a:t>Біохімія вивчає 1) хімічний склад живих організмів, структури й функції кліткових компонентів: білків, вуглеводів, ліпідів, нуклеїнових кислот та інших біомолекул; 2) хімічні реакції обміну речовин у живих організмах; 3) хімічні основи життя, закони перетворення хімічних реакцій у живих організмах у фізіологічні функції (роботу).</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0" y="341280"/>
            <a:ext cx="9144000" cy="640080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00"/>
                </a:solidFill>
                <a:latin typeface="Century Gothic"/>
              </a:rPr>
              <a:t>	</a:t>
            </a:r>
            <a:r>
              <a:rPr b="0" lang="ru-RU" sz="2400" spc="-1" strike="noStrike">
                <a:solidFill>
                  <a:srgbClr val="ffff00"/>
                </a:solidFill>
                <a:latin typeface="Century Gothic"/>
              </a:rPr>
              <a:t>Сучасна біохімія приділяє особливу увагу вивченню білків, які є матеріальною основою життя (ферментів, гормонів, антитіл тощо), вивченню обміну азотистих сполук, вуглеводів, жирів та ліпідів, вітамінів, мінеральних речовин (зокрема, мікроелементів); дослідженню впливу на процеси обміну деяких речовин, що стимулюють ріст, антибіотиків тощо. Докладно вивчаються біохімічні особливості нервової тканини, м'язів, печінки та інших органів та систем організму. Узагальнення біохімії допомагають висвітлити еволюцію органічного світу й питання про виникнення життя на Землі. Досягнення біохімії використовуються у медицині (клінічна біохімія), сільському господарстві (зоотехнічна біохімія і агробіохімія) та в харчовій і хіміко-фармацевтичній промисловості (технічна біохімія).</a:t>
            </a:r>
            <a:endParaRPr b="0" lang="en-US" sz="2400" spc="-1" strike="noStrike">
              <a:solidFill>
                <a:srgbClr val="ffffff"/>
              </a:solidFill>
              <a:latin typeface="Century Gothic"/>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53">
                                  <p:stCondLst>
                                    <p:cond delay="0"/>
                                  </p:stCondLst>
                                  <p:childTnLst>
                                    <p:set>
                                      <p:cBhvr>
                                        <p:cTn id="26" dur="1" fill="hold">
                                          <p:stCondLst>
                                            <p:cond delay="0"/>
                                          </p:stCondLst>
                                        </p:cTn>
                                        <p:tgtEl>
                                          <p:spTgt spid="247">
                                            <p:txEl>
                                              <p:pRg st="0" end="0"/>
                                            </p:txEl>
                                          </p:spTgt>
                                        </p:tgtEl>
                                        <p:attrNameLst>
                                          <p:attrName>style.visibility</p:attrName>
                                        </p:attrNameLst>
                                      </p:cBhvr>
                                      <p:to>
                                        <p:strVal val="visible"/>
                                      </p:to>
                                    </p:set>
                                    <p:anim calcmode="lin" valueType="num">
                                      <p:cBhvr additive="repl">
                                        <p:cTn id="27"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79280" y="152280"/>
            <a:ext cx="8785440" cy="6516720"/>
          </a:xfrm>
          <a:prstGeom prst="rect">
            <a:avLst/>
          </a:prstGeom>
          <a:noFill/>
          <a:ln w="0">
            <a:noFill/>
          </a:ln>
        </p:spPr>
        <p:txBody>
          <a:bodyPr anchor="t">
            <a:normAutofit/>
          </a:bodyPr>
          <a:p>
            <a:pPr marL="343080" indent="-343080"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ffff00"/>
                </a:solidFill>
                <a:latin typeface="Century Gothic"/>
              </a:rPr>
              <a:t>	</a:t>
            </a:r>
            <a:r>
              <a:rPr b="1" lang="ru-RU" sz="2800" spc="-1" strike="noStrike">
                <a:solidFill>
                  <a:srgbClr val="ffff00"/>
                </a:solidFill>
                <a:latin typeface="Century Gothic"/>
              </a:rPr>
              <a:t>Мета дисципліни «Біологічна хімія» для факультету фізичного виховання полягає в тому, щоб сформувати у студентів поняття про життєдіяльність цілісного організму у взаємодії з зовнішнім середовищем на субмолекулярному, молекулярному та клітинному рівнях.</a:t>
            </a:r>
            <a:endParaRPr b="0" lang="en-US" sz="2800" spc="-1" strike="noStrike">
              <a:solidFill>
                <a:srgbClr val="ffffff"/>
              </a:solidFill>
              <a:latin typeface="Century Gothic"/>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53">
                                  <p:stCondLst>
                                    <p:cond delay="0"/>
                                  </p:stCondLst>
                                  <p:childTnLst>
                                    <p:set>
                                      <p:cBhvr>
                                        <p:cTn id="35" dur="1" fill="hold">
                                          <p:stCondLst>
                                            <p:cond delay="0"/>
                                          </p:stCondLst>
                                        </p:cTn>
                                        <p:tgtEl>
                                          <p:spTgt spid="248">
                                            <p:txEl>
                                              <p:pRg st="0" end="0"/>
                                            </p:txEl>
                                          </p:spTgt>
                                        </p:tgtEl>
                                        <p:attrNameLst>
                                          <p:attrName>style.visibility</p:attrName>
                                        </p:attrNameLst>
                                      </p:cBhvr>
                                      <p:to>
                                        <p:strVal val="visible"/>
                                      </p:to>
                                    </p:set>
                                    <p:anim calcmode="lin" valueType="num">
                                      <p:cBhvr additive="repl">
                                        <p:cTn id="36"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38"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1T10:05:50Z</dcterms:created>
  <dc:creator>Орловский М.А.</dc:creator>
  <dc:description/>
  <dc:language>en-US</dc:language>
  <cp:lastModifiedBy>Фаворитов</cp:lastModifiedBy>
  <dcterms:modified xsi:type="dcterms:W3CDTF">2021-02-12T10:42:06Z</dcterms:modified>
  <cp:revision>62</cp:revision>
  <dc:subject/>
  <dc:title>Поздравляем Вас с началом учебного года</dc:title>
</cp:coreProperties>
</file>