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F5C7-F802-431B-935F-37060D255D1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A0B4-7DAD-49F2-AE8B-C45DD609970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95F2-4D28-416C-A415-B4898105786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25360" y="179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33360" y="3850920"/>
            <a:ext cx="6191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9BA-2A54-4399-847D-394FBF1B5BB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5C1-6311-41A1-96D3-36B9260317A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62080" y="395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76280" y="4066920"/>
            <a:ext cx="5905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0401-0D79-42EB-BA2A-E43D1CE5993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814A-50FF-4758-A00C-36CFD8C7206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6F8C-3DAC-409D-A732-25B3EB9ADC5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9F3A-8BE5-4634-953F-0F241081E6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208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3924360"/>
            <a:ext cx="5486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20D4-331F-4983-AD02-C3EDE8F9802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8E1D-FEB9-45E9-8253-7064C7FA952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FB07-EA70-4710-8BE3-81CAB33EB86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2080" y="3240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547A-C91A-4917-BEA0-C479B694448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62080" y="2509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D3A9-3E9F-4355-8906-152EE98A83B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2032-373F-409B-943A-BFAA42955B4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7000" y="63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F5B5-0AD2-4000-9AB2-3361A8EAFF9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179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C10F-137F-4775-9D08-7DF0AB7F223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DD0-A72C-44E1-ADFA-0378FE3D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814-C874-4BF8-BE8D-D1C1C85C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B5F-ABAF-4864-8539-2108ED27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362-0020-4F70-9423-1C59DFF9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A71-AC93-4AF9-B5B2-1F0B6FD2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359-E111-48E0-9F9A-20862E86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3C6-689A-4598-AE9D-6FA91DA2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55D-9377-412B-9AF1-8EDA079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CDD-7693-42CA-9BFB-BDC0B3A6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24D-F595-42BC-9BC0-674489D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A4E-B44E-4BB7-B81B-BB0278C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4B6-55F3-4CA4-BCEA-C09FA21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5B2D-E938-480C-A072-2E25CD816783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ий менеджмент: сутність, актуальність і необхідність впровадження в умовах ринкової економі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Arial"/>
                <a:ea typeface="Arial"/>
              </a:rPr>
              <a:t>Тема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зподіл функцій управління маркетинг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562040"/>
          <a:ext cx="8229600" cy="4724640"/>
        </p:xfrm>
        <a:graphic>
          <a:graphicData uri="http://schemas.openxmlformats.org/drawingml/2006/table">
            <a:tbl>
              <a:tblPr/>
              <a:tblGrid>
                <a:gridCol w="3686040"/>
                <a:gridCol w="454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іональна під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іальні функції управлі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ерспективне і поточне техніко-економічне та соціальне пла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короткострокових і довгострокових прогнозів розвитку ринку, його місткості, розробка нового товару, підготовка планів виходу на нові ри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рганізація робіт зі стандартиз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бір і аналіз діючих міжнародних та вітчизняних стандартів, норм і прав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правління виробниц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ефективної системи взаємодії між підрозділами, яка базується на  врахуванні вимог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Технологічний контроль і випроб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сконалення системи контролю та випробувань на основі інформації, що надходить від споживач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зподіл функцій управління маркетингом (продовженн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562040"/>
          <a:ext cx="8229600" cy="4511880"/>
        </p:xfrm>
        <a:graphic>
          <a:graphicData uri="http://schemas.openxmlformats.org/drawingml/2006/table">
            <a:tbl>
              <a:tblPr/>
              <a:tblGrid>
                <a:gridCol w="3686040"/>
                <a:gridCol w="4543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іональна під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еціальні функції управлі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Управління кадрами, творчою діяльністю колекти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чання працівників принципам і методам маркетин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Управління матеріально-технічним постачанн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значення постачальників з врахуванням їх аналізу якості їх продукції, своєчасності виконання постав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Управління збу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ізація системи товароруху, маркетингових комунікацій, аналіз претензій покупц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Облік і звіт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ивний збір даних про канали збу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Економічний аналі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ліз ко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нкутури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ля реалізації системи функцій маркетингового менеджменту необхідно виконати послідовність таких ді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8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изначення ці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аналіз можливості досягнення ці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структури системи управлі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технології управлі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изначення зв'язків, об'єктів і шляхів надходження інформації, кількості, складу документів, порядку їх нада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готовка і використання технічних засобів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бір і навчання керівників та технічного персоналу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нцепція удосконалення виробниц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56000" y="191448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можливостей удосконалення виробниц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56000" y="392580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ставлення товарів на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556000" y="479412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аж товарів за порівняно низькими ці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4210200" y="436248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цепція удосконалення това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56000" y="191448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можливостей підвищення якості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56000" y="392580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ставлення товарів на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56000" y="479412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аж товарів високої якості за відповідною ці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210200" y="436248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нцепція інтенсифікації комерційних зуси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56000" y="21160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ставлення товарів на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392580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ктивізація збутов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56000" y="479412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ягнення значних обсягів продажу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4210200" y="436248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цепція маркетинг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56000" y="191628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ринку та виявлення потреб споживач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56000" y="392580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ня активних маркетингов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556000" y="5083200"/>
            <a:ext cx="381636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ягнення своїх цілей завдяки максимальному задоволенню потреб цільового р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210200" y="46544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онцепція соціально-етичного маркетинг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556000" y="1628640"/>
            <a:ext cx="381636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лідження ринку та виявлення потреб споживачів та інтересів суспільства заг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56000" y="3057480"/>
            <a:ext cx="3816360" cy="368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робництво това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56000" y="3925800"/>
            <a:ext cx="3816360" cy="642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ня активних маркетингов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56000" y="5083200"/>
            <a:ext cx="3816360" cy="916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сягнення своїх цілей через задоволення потреб цільового ринку та врахування інтересів суспі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4210200" y="263520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210200" y="34988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210200" y="4654440"/>
            <a:ext cx="43308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аркетингова орієнтація підприєм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2680" y="1285920"/>
          <a:ext cx="8929800" cy="5516640"/>
        </p:xfrm>
        <a:graphic>
          <a:graphicData uri="http://schemas.openxmlformats.org/drawingml/2006/table">
            <a:tbl>
              <a:tblPr/>
              <a:tblGrid>
                <a:gridCol w="2459160"/>
                <a:gridCol w="3071880"/>
                <a:gridCol w="339876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діяльнос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ієнтація на виробниц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рієнтація на ри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іння підприємством в ціл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потреб виробниц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потреб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перспектив розви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внутрішніх процесів підприєм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зовнішніх (ринкових) процес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робка асортимен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сконалення технічних характеристик проду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сконалення споживчих характеристик проду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аковка вироб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іб транспортування і зберіг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сіб транспортування, зберігання і стимулювання збуту проду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інанс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витрат виробниц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хування ринкових ці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итет підприєм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фері технолог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фері задоволення потреб ри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ий менеджмент 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це цілеспрямована координація і формування всіх заходів фірми, пов'язаних з ринковою діяльністю на рівні підприємства, на рівні ринку і суспільства в цілому, котрі базуються на принципах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маркетингового менеджменту підприєм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0" r="0" b="12562"/>
          <a:stretch/>
        </p:blipFill>
        <p:spPr>
          <a:xfrm>
            <a:off x="1071720" y="1555920"/>
            <a:ext cx="69148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Модель маркетингового менеджмент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збирання і накопичення інформації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дослідження ринку з метою виявлення небезпек і можливостей для підприємства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діагностика конкурентоспроможності підприємства з метою визначення його сильних і слабких сторін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встановлення цілей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відповідної стратегії, внутрішньофірмове планування (програмування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оперативна діяльність і контроль, який забезпечує зворотний зв'язок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корегування програм діяльності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як 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як концепція стратегічного управлін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як так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етинг як культур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ередбачає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значення основного набору цінностей і вигод для споживача, на які й потрібно орієнтуватися фірмі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цінку привабливості ринку для споживачів за допомогою аналізу їхніх потреб і запит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ідвищення інформованості споживачів, захист їхніх інтересі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формування загальних цінностей фірми, орієнтацію на ринок, на спожива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Маркетинг як концепція стратегічного управління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хоплю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становлення мети діяльності, сегментацію ринку, позиціонуван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осередження основної уваги на проблемах підприєм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значення стратегії забезпечення конкурентної переваги фірми в обраній сфері діяльності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ункції маркетингового менеджмен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наліз ринкових можливос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наліз середовища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вчення роздрібного і оптового рин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вчення попиту, сегментація ринку, вибір цільових сегментів і позиціонування товарів на рин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озроблення комплексу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Функції маркетингового менеджменту (продовженн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лення комплексу допоміжних систем маркетингу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ування системи маркетингової інформації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ланування і організація маркетингових досліджень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формування системи плануванн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обудова організаційної структури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розробка системи маркетингового контрол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6:55:55Z</dcterms:created>
  <dc:creator>chornyj</dc:creator>
  <dc:description/>
  <dc:language>en-US</dc:language>
  <cp:lastModifiedBy>RePack by Diakov</cp:lastModifiedBy>
  <dcterms:modified xsi:type="dcterms:W3CDTF">2021-02-16T11:14:46Z</dcterms:modified>
  <cp:revision>29</cp:revision>
  <dc:subject/>
  <dc:title>Маркетинговий менеджмент: сутність, актуальність і необхідність впровадження в умовах ринкової економіки</dc:title>
</cp:coreProperties>
</file>