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A76-9E15-4F65-843C-3FE6AA29B4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43F-7888-41DB-BFEF-01964E6B308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E98-4128-4986-8925-906B217938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5360" y="179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33360" y="3850920"/>
            <a:ext cx="6191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912-A171-474B-898A-E7CB29E80A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E77-839A-4EE0-B94F-9BFEDE1F0A4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2080" y="395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76280" y="4066920"/>
            <a:ext cx="5905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462C-88E2-43CC-BA65-B9520DAE1F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3BF6-55D7-42B9-9C9B-73F61976476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40D-6728-4DF6-93E5-8B6B1070F1B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D5D-2C2B-4AFE-B389-CBC07C31851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208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3924360"/>
            <a:ext cx="5486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C79-492C-46E8-A794-8CDD4A5AE63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A9D-C9EE-4F8D-AA40-79D0CD64F29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66DD-B3D4-4E02-9F4B-11E254FC49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2080" y="3240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1D4E-BC14-46ED-BBE0-2F23153750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208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3A65-1A20-4781-A54B-973A3E394E5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8BD-ADB9-41CC-9A1E-39155553E54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3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B9C-B233-4A14-B6A1-E67739757F8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179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50A-F852-4956-99ED-A1FEB5E81B9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596-608E-4B36-97BF-0CC221D1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375-E839-4381-95E1-E1CE3B9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62C-354B-4910-9012-7FCAA443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96F-8E55-4901-8B6F-5428169D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CC0-4B26-449E-A67D-603C44A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B49-4A35-4661-B306-13A2608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5B4-7B4C-423D-B1F7-0C9461DB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743-1C3C-4673-90A4-9D4DC4FD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D7E-D082-4DA7-B17C-7F5B066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B97-878B-4779-A190-9E353C5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C35-667E-40F5-86B2-733BC06C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3FC-74A1-46FF-AE8A-D0A0BF6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8456-B844-446D-920B-1872B8989ADE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ий менеджмент: сутність, актуальність і необхідність впровадження в умовах ринкової економі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Arial"/>
                <a:ea typeface="Arial"/>
              </a:rPr>
              <a:t>Тем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зподіл функцій управління маркетин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562040"/>
          <a:ext cx="8229600" cy="4724640"/>
        </p:xfrm>
        <a:graphic>
          <a:graphicData uri="http://schemas.openxmlformats.org/drawingml/2006/table">
            <a:tbl>
              <a:tblPr/>
              <a:tblGrid>
                <a:gridCol w="3686040"/>
                <a:gridCol w="454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іональна під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іальні функції управлі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ерспективне і поточне техніко-економічне та соціальне пла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короткострокових і довгострокових прогнозів розвитку ринку, його місткості, розробка нового товару, підготовка планів виходу на нові ри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рганізація робіт зі стандарти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бір і аналіз діючих міжнародних та вітчизняних стандартів, норм і прав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правління виробниц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ефективної системи взаємодії між підрозділами, яка базується на  врахуванні вимог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Технологічний контроль і випроб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системи контролю та випробувань на основі інформації, що надходить від споживач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зподіл функцій управління маркетингом (продовженн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562040"/>
          <a:ext cx="8229600" cy="4511880"/>
        </p:xfrm>
        <a:graphic>
          <a:graphicData uri="http://schemas.openxmlformats.org/drawingml/2006/table">
            <a:tbl>
              <a:tblPr/>
              <a:tblGrid>
                <a:gridCol w="3686040"/>
                <a:gridCol w="4543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іональна під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іальні функції управлі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Управління кадрами, творчою діяльністю колекти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чання працівників принципам і методам маркетин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Управління матеріально-технічним постачанн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значення постачальників з врахуванням їх аналізу якості їх продукції, своєчасності виконання постав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Управління збу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ізація системи товароруху, маркетингових комунікацій, аналіз претензій покупц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Облік і звіт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ивний збір даних про канали з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Економічний аналі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із ко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нкутури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ля реалізації системи функцій маркетингового менеджменту необхідно виконати послідовність таких ді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8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изнач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аналіз можливості досягн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структури системи управлі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технології управлі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изначення зв'язків, об'єктів і шляхів надходження інформації, кількості, складу документів, порядку їх нада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готовка і використання технічних засобі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бір і навчання керівників та технічного персонал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удосконалення виробниц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56000" y="19144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можливостей удосконалення виробниц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аж товарів за порівняно низькими ці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цепція удосконалення това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56000" y="19144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можливостей підвищення якості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аж товарів високої якості за відповідною ці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інтенсифікації комерційних зуси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56000" y="21160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ізація збутов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значних обсягів продажу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цепція маркетинг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56000" y="19162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ринку та виявлення потреб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56000" y="392580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ня активних маркетингов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556000" y="508320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своїх цілей завдяки максимальному задоволенню потреб цільового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210200" y="46544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соціально-етичного маркетинг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56000" y="162864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ринку та виявлення потреб споживачів та інтересів суспільства заг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56000" y="392580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ня активних маркетингов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56000" y="508320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своїх цілей через задоволення потреб цільового ринку та врахування інтересів суспі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210200" y="46544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аркетингова орієнтація підприєм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2680" y="1285920"/>
          <a:ext cx="8929800" cy="5516640"/>
        </p:xfrm>
        <a:graphic>
          <a:graphicData uri="http://schemas.openxmlformats.org/drawingml/2006/table">
            <a:tbl>
              <a:tblPr/>
              <a:tblGrid>
                <a:gridCol w="2459160"/>
                <a:gridCol w="3071880"/>
                <a:gridCol w="339876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ієнтація на виробниц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ієнтація на р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іння підприємством в ціл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потреб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потреб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перспектив розви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внутрішніх процесів підприєм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зовнішніх (ринкових) процес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асортимен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технічних характеристик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споживчих характеристик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аковка вироб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іб транспортування і зберіг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іб транспортування, зберігання і стимулювання збуту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анс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витрат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ринкових ці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итет підприєм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фері технолог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фері задоволення потреб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ий менеджмент 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це цілеспрямована координація і формування всіх заходів фірми, пов'язаних з ринковою діяльністю на рівні підприємства, на рівні ринку і суспільства в цілому, котрі базуються на принципах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маркетингового менеджменту підприєм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0" r="0" b="12562"/>
          <a:stretch/>
        </p:blipFill>
        <p:spPr>
          <a:xfrm>
            <a:off x="1071720" y="1555920"/>
            <a:ext cx="6914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одель маркетингового менеджмент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бирання і накопичення інформації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ослідження ринку з метою виявлення небезпек і можливостей для підприємств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іагностика конкурентоспроможності підприємства з метою визначення його сильних і слабких сторін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становл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відповідної стратегії, внутрішньофірмове планування (програмування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перативна діяльність і контроль, який забезпечує зворотний зв'язо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регування програм діяльності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концепція стратегічного управлі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т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етинг як культур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едбача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значення основного набору цінностей і вигод для споживача, на які й потрібно орієнтуватися фірмі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цінку привабливості ринку для споживачів за допомогою аналізу їхніх потреб і запит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вищення інформованості споживачів, захист їхніх інтерес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вання загальних цінностей фірми, орієнтацію на ринок, на спожива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етинг як концепція стратегічного управління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хоплю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становлення мети діяльності, сегментацію ринку, позиціон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осередження основної уваги на проблемах підприєм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значення стратегії забезпечення конкурентної переваги фірми в обраній сфері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ункції маркетингового менеджме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наліз ринкових можлив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наліз середовища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вчення роздрібного і оптового рин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вчення попиту, сегментація ринку, вибір цільових сегментів і позиціонування товарів на рин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роблення комплексу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ункції маркетингового менеджменту (продовженн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лення комплексу допоміжних систем маркетинг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ування системи маркетингової інформації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ланування і організація маркетингових досліджен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ування системи планува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обудова організаційної структур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системи маркетингового контрол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6:55:55Z</dcterms:created>
  <dc:creator>chornyj</dc:creator>
  <dc:description/>
  <dc:language>en-US</dc:language>
  <cp:lastModifiedBy>RePack by Diakov</cp:lastModifiedBy>
  <dcterms:modified xsi:type="dcterms:W3CDTF">2021-02-16T11:14:46Z</dcterms:modified>
  <cp:revision>29</cp:revision>
  <dc:subject/>
  <dc:title>Маркетинговий менеджмент: сутність, актуальність і необхідність впровадження в умовах ринкової економіки</dc:title>
</cp:coreProperties>
</file>