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80D-0F1D-4F85-94AF-D13E81F2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E3C-81BA-44C3-A7FD-02528518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9A5-C115-4B14-811A-366BF5DE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867-9F27-4F16-8C6A-0F8326AF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D00B-6C0F-479E-A200-206659E1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BBED-8427-4807-B268-D6C062B7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D4A8-3057-4482-8073-8F93596A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2F52-1C76-45CE-9809-E635B7C3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9D8B-E998-4174-A53A-3D8986D8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4041-0AFF-483A-BCD8-FE968516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81D2-40EE-40EB-91E5-E4B500EC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5E6B-7DF6-4C94-A670-7D0E10C3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264C-986C-465E-B0CE-8E9505D9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A4BA-0F77-48C9-BEA6-D3B1726A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32B9-1ABF-48DA-809F-510F07C4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2A9D-5353-4E39-A8E6-B7B967F0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60B8-14C4-47E1-9925-98AA6619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2961-8F43-45DC-8D42-55CDC649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C01-EC28-45C8-BB7D-BC9379A3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AD2C-EFC1-47EE-8F62-84AB17C2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0AF-4A0C-41A1-A9F1-8F2DEF01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667-A815-4C20-A7B5-B8A898D8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C7E-A1AE-4615-8471-3DF9C2BD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0E3-B44D-4DED-A6E2-A25DBC5D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6266-DECD-4C93-A562-ABC1BD14CF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7067-F311-41E1-8314-BB6823A790E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66"/>
                </a:solidFill>
                <a:latin typeface="Tahoma"/>
              </a:rPr>
              <a:t>Системи вищої освіти у країнах Європи та Америки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Вища освіта Франції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6172200" y="1600200"/>
            <a:ext cx="2971800" cy="5029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5029200"/>
              <a:gd name="textAreaBottom" fmla="*/ 5029560 h 502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3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20000"/>
                </a:solidFill>
                <a:latin typeface="Tahoma"/>
              </a:rPr>
              <a:t>ІІІ цик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1 рі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вузькофахов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навчання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диплом з вищої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спеціалізованої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освіти (</a:t>
            </a:r>
            <a:r>
              <a:rPr b="1" lang="en-US" sz="2000" spc="-1" strike="noStrike">
                <a:solidFill>
                  <a:srgbClr val="800080"/>
                </a:solidFill>
                <a:latin typeface="Tahoma"/>
              </a:rPr>
              <a:t>DESS</a:t>
            </a: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до 2-х років</a:t>
            </a:r>
            <a:br>
              <a:rPr sz="2000"/>
            </a:b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навчання –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дипл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поглиблен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навчання (</a:t>
            </a:r>
            <a:r>
              <a:rPr b="1" lang="en-US" sz="2000" spc="-1" strike="noStrike">
                <a:solidFill>
                  <a:srgbClr val="800080"/>
                </a:solidFill>
                <a:latin typeface="Tahoma"/>
              </a:rPr>
              <a:t>DEA</a:t>
            </a: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з допуском 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навча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у докторські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студії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76320" y="1600200"/>
            <a:ext cx="2971800" cy="5029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5029200"/>
              <a:gd name="textAreaBottom" fmla="*/ 5029560 h 502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7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c0000"/>
                </a:solidFill>
                <a:latin typeface="Tahoma"/>
              </a:rPr>
              <a:t>І-й цик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800080"/>
                </a:solidFill>
                <a:latin typeface="Tahoma"/>
              </a:rPr>
              <a:t>загаль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800080"/>
                </a:solidFill>
                <a:latin typeface="Tahoma"/>
              </a:rPr>
              <a:t>вища освіта;</a:t>
            </a:r>
            <a:br>
              <a:rPr sz="2400"/>
            </a:b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триває  2 ро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з присвоєнням</a:t>
            </a:r>
            <a:br>
              <a:rPr sz="2000"/>
            </a:b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1-ї академічної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кваліфікації</a:t>
            </a:r>
            <a:br>
              <a:rPr sz="2000"/>
            </a:b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(проміж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дипл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DEUG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отримую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54% студентів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3124080" y="1600200"/>
            <a:ext cx="2971800" cy="5029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5029200"/>
              <a:gd name="textAreaBottom" fmla="*/ 5029560 h 502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7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20000"/>
                </a:solidFill>
                <a:latin typeface="Tahoma"/>
              </a:rPr>
              <a:t>ІІ цик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поглибленн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академічної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кваліфікації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і фахової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підготов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(2-3 рок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І стаді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– 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licen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ІІ стаді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maitrs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(академіч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і професій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компонент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ahoma"/>
              </a:rPr>
              <a:t>Заклади Франції із селективним зарахування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28600" y="1447920"/>
            <a:ext cx="8686800" cy="1218960"/>
          </a:xfrm>
          <a:prstGeom prst="rect">
            <a:avLst/>
          </a:prstGeom>
          <a:solidFill>
            <a:srgbClr val="ffa8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00080"/>
                </a:solidFill>
                <a:latin typeface="Tahoma"/>
              </a:rPr>
              <a:t>Підготовчі курси: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uk-UA" sz="2400" spc="-1" strike="noStrike">
                <a:solidFill>
                  <a:srgbClr val="990033"/>
                </a:solidFill>
                <a:latin typeface="Tahoma"/>
              </a:rPr>
              <a:t>готують до вступу чере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990033"/>
                </a:solidFill>
                <a:latin typeface="Tahoma"/>
              </a:rPr>
              <a:t>жорсткий конкурс у популярні Вищі (Великі) Шко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228600" y="2819520"/>
            <a:ext cx="8686800" cy="1218960"/>
          </a:xfrm>
          <a:prstGeom prst="rect">
            <a:avLst/>
          </a:prstGeom>
          <a:solidFill>
            <a:srgbClr val="ffa8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00080"/>
                </a:solidFill>
                <a:latin typeface="Tahoma"/>
              </a:rPr>
              <a:t>Університетський технологічний інститу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990033"/>
                </a:solidFill>
                <a:latin typeface="Tahoma"/>
              </a:rPr>
              <a:t>2 роки навчання – професійна кваліфікаці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990033"/>
                </a:solidFill>
                <a:latin typeface="Tahoma"/>
              </a:rPr>
              <a:t>(технологічний дипло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228600" y="4191120"/>
            <a:ext cx="8686800" cy="1218960"/>
          </a:xfrm>
          <a:prstGeom prst="rect">
            <a:avLst/>
          </a:prstGeom>
          <a:solidFill>
            <a:srgbClr val="ffa8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00080"/>
                </a:solidFill>
                <a:latin typeface="Tahoma"/>
              </a:rPr>
              <a:t>Секції вищих техніків:</a:t>
            </a:r>
            <a:br>
              <a:rPr sz="2800"/>
            </a:br>
            <a:r>
              <a:rPr b="1" lang="uk-UA" sz="2400" spc="-1" strike="noStrike">
                <a:solidFill>
                  <a:srgbClr val="990033"/>
                </a:solidFill>
                <a:latin typeface="Tahoma"/>
              </a:rPr>
              <a:t>2 роки навчання – посвідчення “вищого техніка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28600" y="5562720"/>
            <a:ext cx="8686800" cy="1218960"/>
          </a:xfrm>
          <a:prstGeom prst="rect">
            <a:avLst/>
          </a:prstGeom>
          <a:solidFill>
            <a:srgbClr val="ffa8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00080"/>
                </a:solidFill>
                <a:latin typeface="Tahoma"/>
              </a:rPr>
              <a:t>Спеціалізована </a:t>
            </a:r>
            <a:r>
              <a:rPr b="1" lang="uk-UA" sz="2800" spc="-1" strike="noStrike">
                <a:solidFill>
                  <a:srgbClr val="800080"/>
                </a:solidFill>
                <a:latin typeface="Tahoma"/>
              </a:rPr>
              <a:t>(вища)</a:t>
            </a:r>
            <a:r>
              <a:rPr b="1" i="1" lang="uk-UA" sz="2800" spc="-1" strike="noStrike">
                <a:solidFill>
                  <a:srgbClr val="800080"/>
                </a:solidFill>
                <a:latin typeface="Tahoma"/>
              </a:rPr>
              <a:t> профшко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Вища освіта СШ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752480" y="1447920"/>
            <a:ext cx="5486400" cy="1447560"/>
          </a:xfrm>
          <a:prstGeom prst="rect">
            <a:avLst/>
          </a:prstGeom>
          <a:solidFill>
            <a:srgbClr val="ffa285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Tahoma"/>
              </a:rPr>
              <a:t>ІІІ рівень – доктор філософії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3-5 років навчання в аспірантурі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або докторських студі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85800" y="2971800"/>
            <a:ext cx="7696080" cy="1752480"/>
          </a:xfrm>
          <a:prstGeom prst="rect">
            <a:avLst/>
          </a:prstGeom>
          <a:solidFill>
            <a:srgbClr val="ffa285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Tahoma"/>
              </a:rPr>
              <a:t>ІІ рівень – магістр</a:t>
            </a:r>
            <a:r>
              <a:rPr b="1" lang="uk-UA" sz="20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(1–2 роки навчанн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Вимоги:</a:t>
            </a: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 написання тез (наукової роботи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складання іспиту з іноземної мов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засвідчення вміння використовува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комп</a:t>
            </a: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`</a:t>
            </a: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ютери та бази даних, заключні екзамени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04920" y="4800600"/>
            <a:ext cx="8458200" cy="1828800"/>
          </a:xfrm>
          <a:prstGeom prst="rect">
            <a:avLst/>
          </a:prstGeom>
          <a:solidFill>
            <a:srgbClr val="ffa285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Tahoma"/>
              </a:rPr>
              <a:t>І рівень – бакалавр: </a:t>
            </a: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4 роки навчання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академічна кваліфікація (диплом бакалав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мистецтв або нау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ahoma"/>
              </a:rPr>
              <a:t>Вищі навчальні заклади С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320" y="121932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Заклади післясередньої освіти (1-3 роки навчання - сертифікат про професійні вміння або присвоєння асоційованого ступеня з правом навчання за бакалаврськими програмам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Місцеві і молодші коледжі (2 роки навчання - асоційований ступінь або професійна ліцензі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Коледжі вільних мистецтв (диплом бакалавра з домінуючим академічним та мінімальним професійним наповнення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Загальноосвітні коледжі з присвоєнням диплома як бакалавра, так і магістра (підготовка вчителів; бізнесменів; фахівців, діяльність яких вимагає диплома магіст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Незалежні професійні школи з бакалаврським або магістерським рівнем дипломів у сферах технології, мистецтв тощ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Університети з правом підготовки докторів за усіма циклами навчан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2"/>
          <p:cNvSpPr/>
          <p:nvPr/>
        </p:nvSpPr>
        <p:spPr>
          <a:xfrm>
            <a:off x="685800" y="1295280"/>
            <a:ext cx="7848720" cy="1752840"/>
          </a:xfrm>
          <a:prstGeom prst="rect">
            <a:avLst/>
          </a:prstGeom>
          <a:solidFill>
            <a:srgbClr val="c02500"/>
          </a:solidFill>
          <a:ln w="936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c66"/>
                </a:solidFill>
                <a:latin typeface="Tahoma"/>
              </a:rPr>
              <a:t>Оцінювання викладачів проводиться щоро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ffcc66"/>
                </a:solidFill>
                <a:latin typeface="Tahoma"/>
              </a:rPr>
              <a:t>за основними </a:t>
            </a:r>
            <a:r>
              <a:rPr b="1" lang="uk-UA" sz="2400" spc="-1" strike="noStrike">
                <a:solidFill>
                  <a:srgbClr val="cc99ff"/>
                </a:solidFill>
                <a:latin typeface="Tahoma"/>
              </a:rPr>
              <a:t>параметрами:</a:t>
            </a:r>
            <a:r>
              <a:rPr b="1" lang="uk-UA" sz="24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ffe6b3"/>
                </a:solidFill>
                <a:latin typeface="Tahoma"/>
              </a:rPr>
              <a:t>наукова продукція, якість викладанн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e6b3"/>
                </a:solidFill>
                <a:latin typeface="Tahoma"/>
              </a:rPr>
              <a:t>характер та обсяг позанавчальної робо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ahoma"/>
              </a:rPr>
              <a:t>Ієрархія викладачів у вищій школі С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Ribbon2Sharp"/>
          <p:cNvSpPr/>
          <p:nvPr/>
        </p:nvSpPr>
        <p:spPr>
          <a:xfrm>
            <a:off x="4724280" y="3429000"/>
            <a:ext cx="4191120" cy="16002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Tahoma"/>
              </a:rPr>
              <a:t>асоційовані професо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ibbon2Sharp"/>
          <p:cNvSpPr/>
          <p:nvPr/>
        </p:nvSpPr>
        <p:spPr>
          <a:xfrm>
            <a:off x="380880" y="3124080"/>
            <a:ext cx="4343400" cy="17528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Tahoma"/>
              </a:rPr>
              <a:t>професо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ibbon2Sharp"/>
          <p:cNvSpPr/>
          <p:nvPr/>
        </p:nvSpPr>
        <p:spPr>
          <a:xfrm>
            <a:off x="3048120" y="4952880"/>
            <a:ext cx="4114800" cy="1447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інструкто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ibbon2Sharp"/>
          <p:cNvSpPr/>
          <p:nvPr/>
        </p:nvSpPr>
        <p:spPr>
          <a:xfrm>
            <a:off x="76320" y="5181480"/>
            <a:ext cx="3962160" cy="1447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Tahoma"/>
              </a:rPr>
              <a:t>професори асистен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ibbon2Sharp"/>
          <p:cNvSpPr/>
          <p:nvPr/>
        </p:nvSpPr>
        <p:spPr>
          <a:xfrm>
            <a:off x="5867280" y="5257800"/>
            <a:ext cx="3200400" cy="1447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Tahoma"/>
              </a:rPr>
              <a:t>лекто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Вища освіта Японії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66"/>
                </a:solidFill>
                <a:latin typeface="Tahoma"/>
              </a:rPr>
              <a:t>І цикл: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бакалаврат – 4 роки навчання, окрім медичних спеціальностей</a:t>
            </a:r>
            <a:br>
              <a:rPr sz="3200"/>
            </a:b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(6 років навчанн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66"/>
                </a:solidFill>
                <a:latin typeface="Tahoma"/>
              </a:rPr>
              <a:t>ІІ цикл: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магістерська програма – 2 роки навчання (поступає 1-2 бакалаври із 20-3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66"/>
                </a:solidFill>
                <a:latin typeface="Tahoma"/>
              </a:rPr>
              <a:t>ІІІ цикл: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докторантура – 5-6 років навчання (написати дисертацію і здати екзамени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ahoma"/>
              </a:rPr>
              <a:t>Особливості японської системи підготовки фахівці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6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Випускник японського університету чи технічного ВНЗ продовжує навчатися ще кілька місяців на своєму робочому місці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6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Самоосвіта фахівця не припиняється протягом всіх років його роботи (національний центр тестів забезпечує усіх роботодавців необхідними комплектами тестів з метою проведення регулярної перевірки професійного зростання працівникі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66"/>
                </a:solidFill>
                <a:latin typeface="Tahoma"/>
              </a:rPr>
              <a:t>План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Загальні принципи формування систем вищої освіти європейських краї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Системи вищої освіти окремих краї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Вища освіта Україн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Порівняльний аналіз систем вищої осві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66"/>
                </a:solidFill>
                <a:latin typeface="Tahoma"/>
              </a:rPr>
              <a:t>Структура вищої освіт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380880" y="838080"/>
            <a:ext cx="8763120" cy="3048120"/>
          </a:xfrm>
          <a:custGeom>
            <a:avLst/>
            <a:gdLst>
              <a:gd name="textAreaLeft" fmla="*/ 1095120 w 8763120"/>
              <a:gd name="textAreaRight" fmla="*/ 7668000 w 8763120"/>
              <a:gd name="textAreaTop" fmla="*/ 762120 h 3048120"/>
              <a:gd name="textAreaBottom" fmla="*/ 228636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Унітарна, або єдина, систем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коли вища освіта забезпечується університетськи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чи відповідними до них заклад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(Італія, Іспанія, Австрія, Фінляндія, Швеці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та країни, що належали до соціалістичного табору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971800"/>
            <a:ext cx="8686800" cy="3886200"/>
          </a:xfrm>
          <a:prstGeom prst="leftRightArrow">
            <a:avLst>
              <a:gd name="adj1" fmla="val 50000"/>
              <a:gd name="adj2" fmla="val 44499"/>
            </a:avLst>
          </a:prstGeom>
          <a:solidFill>
            <a:srgbClr val="ff3300"/>
          </a:solidFill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Бінарна, або подвійна, систе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з традиційним Університетським секторо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що так чи інакше опирається на концепці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Humboldt</a:t>
            </a: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 університету та на окрем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неуніверситетський сектор вищої осві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(Бельгія, Велиткобританія, Греція, Дані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Ірландія, Нідерланди, Норвегі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Німеччина, Франція, Швейцарі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66"/>
                </a:solidFill>
                <a:latin typeface="Tahoma"/>
              </a:rPr>
              <a:t>Завдання для ВНЗ із професійно орієнтованими програмам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апропонувати професійно орієнтовані та економічно вигідні типи освіти для задоволення потреб ринку праці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абезпечити потреби зростаючої кількості вступників без істотного збільшення урядових витрат на вищу осві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апропонувати передусім програми, орієнтовані на викладання, в яких частково використовуватимуться дослідження прикладного характер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Поновлення та покращення вже існуючої професійно орієнтованої осві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66"/>
                </a:solidFill>
                <a:latin typeface="Tahoma"/>
              </a:rPr>
              <a:t>Система вищої освіти Великобританії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380880" y="1219320"/>
            <a:ext cx="8534520" cy="1828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618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Загальне керівниц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вищою освіто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304920" y="3124080"/>
            <a:ext cx="8610480" cy="3733920"/>
          </a:xfrm>
          <a:prstGeom prst="verticalScroll">
            <a:avLst>
              <a:gd name="adj" fmla="val 12500"/>
            </a:avLst>
          </a:prstGeom>
          <a:solidFill>
            <a:srgbClr val="ff9966"/>
          </a:solidFill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Міністерство освіти і нау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( реалізує політику в галузі вищої осві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через ради університетських фонді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Англії, Шотландії та Уельсу, до скла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яких входять представники закладі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вищої освіти з регіонів, шкіл і ліцеї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роботодавці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66"/>
                </a:solidFill>
                <a:latin typeface="Tahoma"/>
              </a:rPr>
              <a:t>Ступенева кваліфікація - бакалав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5943600" y="1600200"/>
            <a:ext cx="3276720" cy="5029200"/>
          </a:xfrm>
          <a:prstGeom prst="verticalScroll">
            <a:avLst>
              <a:gd name="adj" fmla="val 12500"/>
            </a:avLst>
          </a:prstGeom>
          <a:solidFill>
            <a:srgbClr val="ff9966"/>
          </a:solidFill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Ветеринарія</a:t>
            </a:r>
            <a:br>
              <a:rPr sz="2400"/>
            </a:b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та</a:t>
            </a:r>
            <a:br>
              <a:rPr sz="2400"/>
            </a:b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медицина</a:t>
            </a:r>
            <a:br>
              <a:rPr sz="2400"/>
            </a:b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(5-6 років</a:t>
            </a:r>
            <a:br>
              <a:rPr sz="2400"/>
            </a:b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навчанн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2971800" y="1600200"/>
            <a:ext cx="3276720" cy="5029200"/>
          </a:xfrm>
          <a:prstGeom prst="verticalScroll">
            <a:avLst>
              <a:gd name="adj" fmla="val 12500"/>
            </a:avLst>
          </a:prstGeom>
          <a:solidFill>
            <a:srgbClr val="ff9966"/>
          </a:solidFill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Архітектурні,</a:t>
            </a:r>
            <a:br>
              <a:rPr sz="2400"/>
            </a:b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інженерн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спеціальності,</a:t>
            </a:r>
            <a:br>
              <a:rPr sz="2400"/>
            </a:b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 менеджмент</a:t>
            </a:r>
            <a:br>
              <a:rPr sz="2400"/>
            </a:b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(3-4 роки</a:t>
            </a:r>
            <a:br>
              <a:rPr sz="2400"/>
            </a:b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навчанн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76320" y="1600200"/>
            <a:ext cx="3276360" cy="5029200"/>
          </a:xfrm>
          <a:prstGeom prst="verticalScroll">
            <a:avLst>
              <a:gd name="adj" fmla="val 12500"/>
            </a:avLst>
          </a:prstGeom>
          <a:solidFill>
            <a:srgbClr val="ff9966"/>
          </a:solidFill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Гуманітарні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природничі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педагогічні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спеціальност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(2-3 ро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навчанн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66"/>
                </a:solidFill>
                <a:latin typeface="Tahoma"/>
              </a:rPr>
              <a:t>Магістерський ступін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457200" y="3657600"/>
            <a:ext cx="3657600" cy="297180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ahoma"/>
              </a:rPr>
              <a:t>2-3 ро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990000"/>
                </a:solidFill>
                <a:latin typeface="Tahoma"/>
              </a:rPr>
              <a:t>викладан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tebulb"/>
          <p:cNvSpPr/>
          <p:nvPr/>
        </p:nvSpPr>
        <p:spPr>
          <a:xfrm>
            <a:off x="4343400" y="3352680"/>
            <a:ext cx="4648320" cy="3429000"/>
          </a:xfrm>
          <a:prstGeom prst="pie">
            <a:avLst/>
          </a:prstGeom>
          <a:solidFill>
            <a:srgbClr val="ffffcc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0000"/>
                </a:solidFill>
                <a:latin typeface="Tahoma"/>
              </a:rPr>
              <a:t>2-3 роки досліджень при достатньо глибокому вивченні однієї чи групи суміжних дисциплі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6" name="Group 9"/>
          <p:cNvGrpSpPr/>
          <p:nvPr/>
        </p:nvGrpSpPr>
        <p:grpSpPr>
          <a:xfrm>
            <a:off x="1523880" y="990720"/>
            <a:ext cx="6019200" cy="2209320"/>
            <a:chOff x="1523880" y="990720"/>
            <a:chExt cx="6019200" cy="2209320"/>
          </a:xfrm>
        </p:grpSpPr>
        <p:sp>
          <p:nvSpPr>
            <p:cNvPr id="107" name="WordArt 10"/>
            <p:cNvSpPr txBox="1"/>
            <p:nvPr/>
          </p:nvSpPr>
          <p:spPr>
            <a:xfrm>
              <a:off x="1523880" y="990720"/>
              <a:ext cx="6019200" cy="220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c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Tahoma"/>
                </a:rPr>
                <a:t>&amp;</a:t>
              </a:r>
              <a:endParaRPr b="0" lang="en-US" sz="1800" spc="1" strike="noStrike">
                <a:ln w="9360">
                  <a:solidFill>
                    <a:srgbClr val="8c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ahoma"/>
                <a:ea typeface="Tahoma"/>
              </a:endParaRPr>
            </a:p>
          </p:txBody>
        </p:sp>
        <p:sp>
          <p:nvSpPr>
            <p:cNvPr id="108" name="WordArt 11"/>
            <p:cNvSpPr txBox="1"/>
            <p:nvPr/>
          </p:nvSpPr>
          <p:spPr>
            <a:xfrm>
              <a:off x="2566800" y="1391040"/>
              <a:ext cx="3844440" cy="100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2-3 роки      навчання</a:t>
              </a:r>
              <a:endParaRPr b="0" i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66"/>
                </a:solidFill>
                <a:latin typeface="Tahoma"/>
              </a:rPr>
              <a:t>Найпоширеніші кваліфікації магістерських ступені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DownRibbonSharp"/>
          <p:cNvSpPr/>
          <p:nvPr/>
        </p:nvSpPr>
        <p:spPr>
          <a:xfrm>
            <a:off x="304920" y="1752480"/>
            <a:ext cx="8381880" cy="1067040"/>
          </a:xfrm>
          <a:prstGeom prst="pi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cc0000"/>
                </a:solidFill>
                <a:latin typeface="Tahoma"/>
              </a:rPr>
              <a:t>Магістр мистец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DownRibbonSharp"/>
          <p:cNvSpPr/>
          <p:nvPr/>
        </p:nvSpPr>
        <p:spPr>
          <a:xfrm>
            <a:off x="304920" y="2971800"/>
            <a:ext cx="8381880" cy="1066680"/>
          </a:xfrm>
          <a:prstGeom prst="pi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Tahoma"/>
              </a:rPr>
              <a:t>Магістр нау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DownRibbonSharp"/>
          <p:cNvSpPr/>
          <p:nvPr/>
        </p:nvSpPr>
        <p:spPr>
          <a:xfrm>
            <a:off x="380880" y="4267080"/>
            <a:ext cx="8382240" cy="1067040"/>
          </a:xfrm>
          <a:prstGeom prst="pi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Tahoma"/>
              </a:rPr>
              <a:t>Магістр бізнесу та управлін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DownRibbonSharp"/>
          <p:cNvSpPr/>
          <p:nvPr/>
        </p:nvSpPr>
        <p:spPr>
          <a:xfrm>
            <a:off x="380880" y="5562720"/>
            <a:ext cx="8382240" cy="1066680"/>
          </a:xfrm>
          <a:prstGeom prst="pi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Tahoma"/>
              </a:rPr>
              <a:t>Магістр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66"/>
                </a:solidFill>
                <a:latin typeface="Tahoma"/>
              </a:rPr>
              <a:t>Докторський рівен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762120" y="1905120"/>
            <a:ext cx="3504960" cy="4267080"/>
          </a:xfrm>
          <a:prstGeom prst="vertic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00"/>
                </a:solidFill>
                <a:latin typeface="Tahoma"/>
              </a:rPr>
              <a:t>Докто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uk-UA" sz="3600" spc="-1" strike="noStrike">
                <a:solidFill>
                  <a:srgbClr val="990000"/>
                </a:solidFill>
                <a:latin typeface="Tahoma"/>
              </a:rPr>
              <a:t>філософії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5105520" y="1981080"/>
            <a:ext cx="3504960" cy="4267440"/>
          </a:xfrm>
          <a:prstGeom prst="vertic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00"/>
                </a:solidFill>
                <a:latin typeface="Tahoma"/>
              </a:rPr>
              <a:t>Магіст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uk-UA" sz="3600" spc="-1" strike="noStrike">
                <a:solidFill>
                  <a:srgbClr val="990000"/>
                </a:solidFill>
                <a:latin typeface="Tahoma"/>
              </a:rPr>
              <a:t>філософії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еценко Н.М.</dc:creator>
  <dc:description/>
  <dc:language>en-US</dc:language>
  <cp:lastModifiedBy>Marina</cp:lastModifiedBy>
  <dcterms:modified xsi:type="dcterms:W3CDTF">2021-03-03T14:46:3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