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9E4-2435-4337-A189-E3EC2563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667-C0C7-4162-AFEF-60A72B77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309-1B9A-4A9B-ADF5-18B2E873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867-3560-4922-9968-C4FFF6DA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2A36-6D4B-498F-B304-E6602BB4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188C-D1E5-442A-B43E-AEB81AF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4226-EC5F-4473-B55F-A42381D2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9FE1-6EF1-4A03-BCC2-C9C20676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87BF-0000-4B0A-B6F3-0DCE27C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A44-A2C2-41A8-BBBB-A562AB68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018-BE2B-4134-9FB6-ACCFA72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E11-B4B8-4A60-9644-C1C3096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3B90-9586-4B12-9344-B1B73A7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FF6E-BC18-4195-BF41-157DA774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B7AC-BA23-49CD-96CB-44F39894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6E3-C078-4001-B466-E54D4552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7087-A5EC-40A8-96C5-A14C0158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3E3-85C1-4375-A9F6-1D41C2DC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B51-AF86-474B-9533-1ECD7523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37B-AB36-4579-B16E-F8BD9925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8E-B5FA-4B14-BA85-0A35F28C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AE0-4A97-430A-AC6E-ACB8E722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AB1-687E-4B40-A916-D8FA961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6AEC-4E05-4C77-A8F9-471ACD0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8EB5-E57C-476A-A036-F25963103B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688-A3EF-41EE-A3BD-722D548830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66"/>
                </a:solidFill>
                <a:latin typeface="Tahoma"/>
              </a:rPr>
              <a:t>Системи вищої освіти у країнах Європи та Америки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Вища освіта Франції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6172200" y="1600200"/>
            <a:ext cx="2971800" cy="5029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3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20000"/>
                </a:solidFill>
                <a:latin typeface="Tahoma"/>
              </a:rPr>
              <a:t>ІІІ цик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1 рі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вузькофахов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навчання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диплом з вищ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спеціалізован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освіти (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DESS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до 2-х років</a:t>
            </a:r>
            <a:br>
              <a:rPr sz="20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навчання –</a:t>
            </a:r>
            <a:br>
              <a:rPr sz="2000"/>
            </a:b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дип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поглибле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навчання (</a:t>
            </a:r>
            <a:r>
              <a:rPr b="1" lang="en-US" sz="2000" spc="-1" strike="noStrike">
                <a:solidFill>
                  <a:srgbClr val="800080"/>
                </a:solidFill>
                <a:latin typeface="Tahoma"/>
              </a:rPr>
              <a:t>DEA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з допуском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навчан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у докторські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студі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76320" y="1600200"/>
            <a:ext cx="2971800" cy="5029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7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c0000"/>
                </a:solidFill>
                <a:latin typeface="Tahoma"/>
              </a:rPr>
              <a:t>І-й цик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загаль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вища освіта;</a:t>
            </a:r>
            <a:br>
              <a:rPr sz="24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триває  2 ро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з присвоєнням</a:t>
            </a:r>
            <a:br>
              <a:rPr sz="20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1-ї академічно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кваліфікації</a:t>
            </a:r>
            <a:br>
              <a:rPr sz="2000"/>
            </a:b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(проміж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дип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DEUG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отримую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54% студенті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124080" y="1600200"/>
            <a:ext cx="2971800" cy="5029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5029200"/>
              <a:gd name="textAreaBottom" fmla="*/ 502956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7c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20000"/>
                </a:solidFill>
                <a:latin typeface="Tahoma"/>
              </a:rPr>
              <a:t>ІІ цик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поглибленн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академічн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кваліфікаці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 фахов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підготов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(2-3 рок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 стаді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–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licen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І стаді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maitrs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(академіч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і професій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990033"/>
                </a:solidFill>
                <a:latin typeface="Tahoma"/>
              </a:rPr>
              <a:t>компонент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Заклади Франції із селективним зарахування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28600" y="14479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Підготовчі курси: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готують до вступу че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жорсткий конкурс у популярні Вищі (Великі) Шк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228600" y="28195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Університетський технологічний інститу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2 роки навчання – професійна кваліфікаці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(технологічний дипл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28600" y="41911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Секції вищих техніків:</a:t>
            </a:r>
            <a:br>
              <a:rPr sz="2800"/>
            </a:br>
            <a:r>
              <a:rPr b="1" lang="uk-UA" sz="2400" spc="-1" strike="noStrike">
                <a:solidFill>
                  <a:srgbClr val="990033"/>
                </a:solidFill>
                <a:latin typeface="Tahoma"/>
              </a:rPr>
              <a:t>2 роки навчання – посвідчення “вищого техніка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28600" y="5562720"/>
            <a:ext cx="8686800" cy="1218960"/>
          </a:xfrm>
          <a:prstGeom prst="rect">
            <a:avLst/>
          </a:prstGeom>
          <a:solidFill>
            <a:srgbClr val="ffa8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Спеціалізована </a:t>
            </a:r>
            <a:r>
              <a:rPr b="1" lang="uk-UA" sz="2800" spc="-1" strike="noStrike">
                <a:solidFill>
                  <a:srgbClr val="800080"/>
                </a:solidFill>
                <a:latin typeface="Tahoma"/>
              </a:rPr>
              <a:t>(вища)</a:t>
            </a:r>
            <a:r>
              <a:rPr b="1" i="1" lang="uk-UA" sz="2800" spc="-1" strike="noStrike">
                <a:solidFill>
                  <a:srgbClr val="800080"/>
                </a:solidFill>
                <a:latin typeface="Tahoma"/>
              </a:rPr>
              <a:t> профшко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Вища освіта СШ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752480" y="1447920"/>
            <a:ext cx="5486400" cy="1447560"/>
          </a:xfrm>
          <a:prstGeom prst="rect">
            <a:avLst/>
          </a:prstGeom>
          <a:solidFill>
            <a:srgbClr val="ffa285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ІІІ рівень – доктор філософ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3-5 років навчання в аспірантур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або докторських студі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85800" y="2971800"/>
            <a:ext cx="7696080" cy="1752480"/>
          </a:xfrm>
          <a:prstGeom prst="rect">
            <a:avLst/>
          </a:prstGeom>
          <a:solidFill>
            <a:srgbClr val="ffa285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ІІ рівень – магістр</a:t>
            </a:r>
            <a:r>
              <a:rPr b="1" lang="uk-UA" sz="20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(1–2 роки 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Вимоги: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 написання тез (наукової роботи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складання іспиту з іноземної мов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засвідчення вміння використовув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комп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`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ютери та бази даних, заключні екзамен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4920" y="4800600"/>
            <a:ext cx="8458200" cy="1828800"/>
          </a:xfrm>
          <a:prstGeom prst="rect">
            <a:avLst/>
          </a:prstGeom>
          <a:solidFill>
            <a:srgbClr val="ffa285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І рівень – бакалавр: </a:t>
            </a: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4 роки навчання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академічна кваліфікація (диплом бакалав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Tahoma"/>
              </a:rPr>
              <a:t>мистецтв або нау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Вищі навчальні заклади С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клади післясередньої освіти (1-3 роки навчання - сертифікат про професійні вміння або присвоєння асоційованого ступеня з правом навчання за бакалаврськими програм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ісцеві і молодші коледжі (2 роки навчання - асоційований ступінь або професійна ліцензі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оледжі вільних мистецтв (диплом бакалавра з домінуючим академічним та мінімальним професійним наповнення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гальноосвітні коледжі з присвоєнням диплома як бакалавра, так і магістра (підготовка вчителів; бізнесменів; фахівців, діяльність яких вимагає диплома магіст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залежні професійні школи з бакалаврським або магістерським рівнем дипломів у сферах технології, мистецтв тощ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ніверситети з правом підготовки докторів за усіма циклами навч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685800" y="1295280"/>
            <a:ext cx="7848720" cy="1752840"/>
          </a:xfrm>
          <a:prstGeom prst="rect">
            <a:avLst/>
          </a:prstGeom>
          <a:solidFill>
            <a:srgbClr val="c02500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Оцінювання викладачів проводиться щоро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за основними </a:t>
            </a:r>
            <a:r>
              <a:rPr b="1" lang="uk-UA" sz="2400" spc="-1" strike="noStrike">
                <a:solidFill>
                  <a:srgbClr val="cc99ff"/>
                </a:solidFill>
                <a:latin typeface="Tahoma"/>
              </a:rPr>
              <a:t>параметрами:</a:t>
            </a: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e6b3"/>
                </a:solidFill>
                <a:latin typeface="Tahoma"/>
              </a:rPr>
              <a:t>наукова продукція, якість викладанн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e6b3"/>
                </a:solidFill>
                <a:latin typeface="Tahoma"/>
              </a:rPr>
              <a:t>характер та обсяг позанавчальної робо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Ієрархія викладачів у вищій школі СШ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ibbon2Sharp"/>
          <p:cNvSpPr/>
          <p:nvPr/>
        </p:nvSpPr>
        <p:spPr>
          <a:xfrm>
            <a:off x="4724280" y="3429000"/>
            <a:ext cx="4191120" cy="16002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асоційовані профес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ibbon2Sharp"/>
          <p:cNvSpPr/>
          <p:nvPr/>
        </p:nvSpPr>
        <p:spPr>
          <a:xfrm>
            <a:off x="380880" y="3124080"/>
            <a:ext cx="4343400" cy="17528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профес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ibbon2Sharp"/>
          <p:cNvSpPr/>
          <p:nvPr/>
        </p:nvSpPr>
        <p:spPr>
          <a:xfrm>
            <a:off x="3048120" y="4952880"/>
            <a:ext cx="411480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00080"/>
                </a:solidFill>
                <a:latin typeface="Tahoma"/>
              </a:rPr>
              <a:t>інстру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ibbon2Sharp"/>
          <p:cNvSpPr/>
          <p:nvPr/>
        </p:nvSpPr>
        <p:spPr>
          <a:xfrm>
            <a:off x="76320" y="5181480"/>
            <a:ext cx="396216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професори асистен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ibbon2Sharp"/>
          <p:cNvSpPr/>
          <p:nvPr/>
        </p:nvSpPr>
        <p:spPr>
          <a:xfrm>
            <a:off x="5867280" y="5257800"/>
            <a:ext cx="3200400" cy="1447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80"/>
                </a:solidFill>
                <a:latin typeface="Tahoma"/>
              </a:rPr>
              <a:t>лекто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Вища освіта Японії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Tahoma"/>
              </a:rPr>
              <a:t>І цикл: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бакалаврат – 4 роки навчання, окрім медичних спеціальностей</a:t>
            </a:r>
            <a:br>
              <a:rPr sz="3200"/>
            </a:b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(6 років навчанн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Tahoma"/>
              </a:rPr>
              <a:t>ІІ цикл: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магістерська програма – 2 роки навчання (поступає 1-2 бакалаври із 20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66"/>
                </a:solidFill>
                <a:latin typeface="Tahoma"/>
              </a:rPr>
              <a:t>ІІІ цикл: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докторантура – 5-6 років навчання (написати дисертацію і здати екзамени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Особливості японської системи підготовки фахівц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ипускник японського університету чи технічного ВНЗ продовжує навчатися ще кілька місяців на своєму робочому місц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амоосвіта фахівця не припиняється протягом всіх років його роботи (національний центр тестів забезпечує усіх роботодавців необхідними комплектами тестів з метою проведення регулярної перевірки професійного зростання працівникі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66"/>
                </a:solidFill>
                <a:latin typeface="Tahoma"/>
              </a:rPr>
              <a:t>План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Загальні принципи формування систем вищої освіти європейських краї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Системи вищої освіти окремих краї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ища освіта Украї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Порівняльний аналіз систем вищої осві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Tahoma"/>
              </a:rPr>
              <a:t>Структура вищої осві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380880" y="838080"/>
            <a:ext cx="8763120" cy="3048120"/>
          </a:xfrm>
          <a:custGeom>
            <a:avLst/>
            <a:gdLst>
              <a:gd name="textAreaLeft" fmla="*/ 1095120 w 8763120"/>
              <a:gd name="textAreaRight" fmla="*/ 7668000 w 8763120"/>
              <a:gd name="textAreaTop" fmla="*/ 762120 h 3048120"/>
              <a:gd name="textAreaBottom" fmla="*/ 228636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Унітарна, або єдина, систем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коли вища освіта забезпечується університетськи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чи відповідними до них заклад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(Італія, Іспанія, Австрія, Фінляндія, Швеці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та країни, що належали до соціалістичного табор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971800"/>
            <a:ext cx="8686800" cy="3886200"/>
          </a:xfrm>
          <a:prstGeom prst="leftRightArrow">
            <a:avLst>
              <a:gd name="adj1" fmla="val 50000"/>
              <a:gd name="adj2" fmla="val 44499"/>
            </a:avLst>
          </a:prstGeom>
          <a:solidFill>
            <a:srgbClr val="ff3300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Бінарна, або подвійна, сист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з традиційним Університетським секторо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що так чи інакше опирається на концепці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Humboldt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університету та на окрем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неуніверситетський сектор вищої осві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(Бельгія, Велиткобританія, Греція, Дані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Ірландія, Нідерланди, Норвегі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cc"/>
                </a:solidFill>
                <a:latin typeface="Tahoma"/>
              </a:rPr>
              <a:t>Німеччина, Франція, Швейцарі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66"/>
                </a:solidFill>
                <a:latin typeface="Tahoma"/>
              </a:rPr>
              <a:t>Завдання для ВНЗ із професійно орієнтованими програмам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пропонувати професійно орієнтовані та економічно вигідні типи освіти для задоволення потреб ринку прац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безпечити потреби зростаючої кількості вступників без істотного збільшення урядових витрат на вищу осві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пропонувати передусім програми, орієнтовані на викладання, в яких частково використовуватимуться дослідження прикладного характе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оновлення та покращення вже існуючої професійно орієнтованої осві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Tahoma"/>
              </a:rPr>
              <a:t>Система вищої освіти Великобританії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380880" y="1219320"/>
            <a:ext cx="8534520" cy="1828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18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агальне керівниц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ищою освіто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304920" y="3124080"/>
            <a:ext cx="8610480" cy="373392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Міністерство освіти і нау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( реалізує політику в галузі вищої осві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через ради університетських фонді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Англії, Шотландії та Уельсу, до скла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яких входять представники закладі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вищої освіти з регіонів, шкіл і ліцеї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8c0000"/>
                </a:solidFill>
                <a:latin typeface="Tahoma"/>
              </a:rPr>
              <a:t>роботодавці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Tahoma"/>
              </a:rPr>
              <a:t>Ступенева кваліфікація - бакалав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5943600" y="1600200"/>
            <a:ext cx="3276720" cy="502920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Ветеринарія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та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медицина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(5-6 років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2971800" y="1600200"/>
            <a:ext cx="3276720" cy="502920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Архітектурні,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інженер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спеціальності,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менеджмент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(3-4 роки</a:t>
            </a:r>
            <a:br>
              <a:rPr sz="2400"/>
            </a:b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76320" y="1600200"/>
            <a:ext cx="3276360" cy="5029200"/>
          </a:xfrm>
          <a:prstGeom prst="verticalScroll">
            <a:avLst>
              <a:gd name="adj" fmla="val 12500"/>
            </a:avLst>
          </a:prstGeom>
          <a:solidFill>
            <a:srgbClr val="ff9966"/>
          </a:solidFill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Гуманітарні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природничі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педагогічні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спеціальност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(2-3 ро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720000"/>
                </a:solidFill>
                <a:latin typeface="Tahoma"/>
              </a:rPr>
              <a:t>навчанн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Tahoma"/>
              </a:rPr>
              <a:t>Магістерський ступі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57200" y="3657600"/>
            <a:ext cx="3657600" cy="297180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ahoma"/>
              </a:rPr>
              <a:t>2-3 ро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990000"/>
                </a:solidFill>
                <a:latin typeface="Tahoma"/>
              </a:rPr>
              <a:t>виклада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tebulb"/>
          <p:cNvSpPr/>
          <p:nvPr/>
        </p:nvSpPr>
        <p:spPr>
          <a:xfrm>
            <a:off x="4343400" y="3352680"/>
            <a:ext cx="4648320" cy="3429000"/>
          </a:xfrm>
          <a:prstGeom prst="pie">
            <a:avLst/>
          </a:prstGeom>
          <a:solidFill>
            <a:srgbClr val="ffffcc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00"/>
                </a:solidFill>
                <a:latin typeface="Tahoma"/>
              </a:rPr>
              <a:t>2-3 роки досліджень при достатньо глибокому вивченні однієї чи групи суміжних дисциплі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1523880" y="990720"/>
            <a:ext cx="6019200" cy="2209320"/>
            <a:chOff x="1523880" y="990720"/>
            <a:chExt cx="6019200" cy="2209320"/>
          </a:xfrm>
        </p:grpSpPr>
        <p:sp>
          <p:nvSpPr>
            <p:cNvPr id="107" name="WordArt 10"/>
            <p:cNvSpPr txBox="1"/>
            <p:nvPr/>
          </p:nvSpPr>
          <p:spPr>
            <a:xfrm>
              <a:off x="1523880" y="990720"/>
              <a:ext cx="6019200" cy="220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c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Tahoma"/>
                </a:rPr>
                <a:t>&amp;</a:t>
              </a:r>
              <a:endParaRPr b="0" lang="en-US" sz="1800" spc="1" strike="noStrike">
                <a:ln w="9360">
                  <a:solidFill>
                    <a:srgbClr val="8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ahoma"/>
                <a:ea typeface="Tahoma"/>
              </a:endParaRPr>
            </a:p>
          </p:txBody>
        </p:sp>
        <p:sp>
          <p:nvSpPr>
            <p:cNvPr id="108" name="WordArt 11"/>
            <p:cNvSpPr txBox="1"/>
            <p:nvPr/>
          </p:nvSpPr>
          <p:spPr>
            <a:xfrm>
              <a:off x="2566800" y="1391040"/>
              <a:ext cx="3844440" cy="100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2-3 роки      навчання</a:t>
              </a:r>
              <a:endParaRPr b="0" i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66"/>
                </a:solidFill>
                <a:latin typeface="Tahoma"/>
              </a:rPr>
              <a:t>Найпоширеніші кваліфікації магістерських ступені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DownRibbonSharp"/>
          <p:cNvSpPr/>
          <p:nvPr/>
        </p:nvSpPr>
        <p:spPr>
          <a:xfrm>
            <a:off x="304920" y="1752480"/>
            <a:ext cx="8381880" cy="106704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мистец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DownRibbonSharp"/>
          <p:cNvSpPr/>
          <p:nvPr/>
        </p:nvSpPr>
        <p:spPr>
          <a:xfrm>
            <a:off x="304920" y="2971800"/>
            <a:ext cx="8381880" cy="106668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нау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ownRibbonSharp"/>
          <p:cNvSpPr/>
          <p:nvPr/>
        </p:nvSpPr>
        <p:spPr>
          <a:xfrm>
            <a:off x="380880" y="4267080"/>
            <a:ext cx="8382240" cy="106704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бізнесу та управлін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DownRibbonSharp"/>
          <p:cNvSpPr/>
          <p:nvPr/>
        </p:nvSpPr>
        <p:spPr>
          <a:xfrm>
            <a:off x="380880" y="5562720"/>
            <a:ext cx="8382240" cy="106668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Tahoma"/>
              </a:rPr>
              <a:t>Магістр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66"/>
                </a:solidFill>
                <a:latin typeface="Tahoma"/>
              </a:rPr>
              <a:t>Докторський ріве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762120" y="1905120"/>
            <a:ext cx="3504960" cy="426708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Док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філософ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105520" y="1981080"/>
            <a:ext cx="3504960" cy="4267440"/>
          </a:xfrm>
          <a:prstGeom prst="vertic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Магіст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uk-UA" sz="3600" spc="-1" strike="noStrike">
                <a:solidFill>
                  <a:srgbClr val="990000"/>
                </a:solidFill>
                <a:latin typeface="Tahoma"/>
              </a:rPr>
              <a:t>філософ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еценко Н.М.</dc:creator>
  <dc:description/>
  <dc:language>en-US</dc:language>
  <cp:lastModifiedBy>Marina</cp:lastModifiedBy>
  <dcterms:modified xsi:type="dcterms:W3CDTF">2021-03-03T14:46:3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