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02C-2434-42B3-89F5-47941E0F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EEF-0863-406A-8CEC-DBAEC22D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C5B-BD6D-4DE2-BAFF-5B935E65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D25-6A2F-47A3-BB18-F1B0D55C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B9A-F813-4332-866B-4FD74210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AB9-314D-4F04-8103-A398F72D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224-6B15-4B42-86F3-E554880D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2E9-7807-4F63-96E1-D60C0F88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5AE-F8A5-473E-9C22-B5C25C7B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5BB-9677-4EA8-A600-5FF5AFCD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A06-1697-4B7D-9A25-8027E5C6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F05-3CB0-4326-AF22-94904082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A5CE-22A3-44B7-9D43-2C5BA64AB1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3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ЕЛЕКТРОННА 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ЕРАЦІЙНІ ПІДСИЛЮВАЧ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КТИЧНЕ ЗАНЯТТЯ: СУМ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ЕРАЦІЙНІ ПІДСИЛЮВА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23760" y="522360"/>
            <a:ext cx="482436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57360" y="2103480"/>
            <a:ext cx="30589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4915080" y="1050840"/>
            <a:ext cx="3944880" cy="192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8499600" y="141300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5"/>
          <a:stretch/>
        </p:blipFill>
        <p:spPr>
          <a:xfrm>
            <a:off x="5235480" y="3645000"/>
            <a:ext cx="34624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ЕРАЦІЙНІ ПІДСИЛЮВА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95280" y="507960"/>
            <a:ext cx="394488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3790800" y="907920"/>
            <a:ext cx="360360" cy="1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5618160" y="650880"/>
            <a:ext cx="346248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1881360" y="3878280"/>
            <a:ext cx="2616120" cy="37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>
            <a:off x="5076720" y="3922560"/>
            <a:ext cx="35751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6"/>
          <a:stretch/>
        </p:blipFill>
        <p:spPr>
          <a:xfrm>
            <a:off x="395280" y="2436840"/>
            <a:ext cx="5551560" cy="1290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7"/>
          <a:stretch/>
        </p:blipFill>
        <p:spPr>
          <a:xfrm>
            <a:off x="1627200" y="4249800"/>
            <a:ext cx="3124080" cy="33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8"/>
          <a:stretch/>
        </p:blipFill>
        <p:spPr>
          <a:xfrm>
            <a:off x="1673280" y="4583160"/>
            <a:ext cx="3092400" cy="32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9"/>
          <a:stretch/>
        </p:blipFill>
        <p:spPr>
          <a:xfrm>
            <a:off x="1177920" y="5054760"/>
            <a:ext cx="4497480" cy="80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10"/>
          <a:stretch/>
        </p:blipFill>
        <p:spPr>
          <a:xfrm>
            <a:off x="3905280" y="5864400"/>
            <a:ext cx="16239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ДН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ДСИЛЮВАЧ, ПОВТОРЮВАЧ НАПРУГИ, 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ВЕРТУЮЧИЙ ПІДСИЛЮ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6" descr=""/>
          <p:cNvPicPr/>
          <p:nvPr/>
        </p:nvPicPr>
        <p:blipFill>
          <a:blip r:embed="rId1"/>
          <a:stretch/>
        </p:blipFill>
        <p:spPr>
          <a:xfrm>
            <a:off x="2494080" y="6227640"/>
            <a:ext cx="390240" cy="228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2303280" cy="26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4821480" cy="15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2141640" cy="189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68360" y="2852640"/>
            <a:ext cx="3639960" cy="61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68360" y="3573360"/>
            <a:ext cx="3330360" cy="1592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4427640" y="2205000"/>
            <a:ext cx="4392360" cy="1822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780000" y="5013360"/>
            <a:ext cx="4967280" cy="168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5724360" y="4724280"/>
            <a:ext cx="1705320" cy="20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5148360" y="1052640"/>
            <a:ext cx="3851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М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3105000" cy="1380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130400" y="2054160"/>
            <a:ext cx="2781360" cy="20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860400" y="2263680"/>
            <a:ext cx="1771560" cy="39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512640" y="2633760"/>
            <a:ext cx="2467080" cy="419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514440" y="3052800"/>
            <a:ext cx="3057480" cy="514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6"/>
          <a:stretch/>
        </p:blipFill>
        <p:spPr>
          <a:xfrm>
            <a:off x="512640" y="4797360"/>
            <a:ext cx="3372120" cy="156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"/>
          <p:cNvPicPr/>
          <p:nvPr/>
        </p:nvPicPr>
        <p:blipFill>
          <a:blip r:embed="rId7"/>
          <a:stretch/>
        </p:blipFill>
        <p:spPr>
          <a:xfrm>
            <a:off x="2979720" y="6149880"/>
            <a:ext cx="2038320" cy="41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"/>
          <p:cNvPicPr/>
          <p:nvPr/>
        </p:nvPicPr>
        <p:blipFill>
          <a:blip r:embed="rId8"/>
          <a:stretch/>
        </p:blipFill>
        <p:spPr>
          <a:xfrm>
            <a:off x="2494080" y="6227640"/>
            <a:ext cx="390240" cy="228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9"/>
          <a:stretch/>
        </p:blipFill>
        <p:spPr>
          <a:xfrm>
            <a:off x="6300720" y="2714760"/>
            <a:ext cx="981000" cy="257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10"/>
          <a:stretch/>
        </p:blipFill>
        <p:spPr>
          <a:xfrm>
            <a:off x="5724360" y="3081240"/>
            <a:ext cx="265752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"/>
          <p:cNvPicPr/>
          <p:nvPr/>
        </p:nvPicPr>
        <p:blipFill>
          <a:blip r:embed="rId11"/>
          <a:stretch/>
        </p:blipFill>
        <p:spPr>
          <a:xfrm>
            <a:off x="6672240" y="3716280"/>
            <a:ext cx="409680" cy="20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"/>
          <p:cNvPicPr/>
          <p:nvPr/>
        </p:nvPicPr>
        <p:blipFill>
          <a:blip r:embed="rId12"/>
          <a:stretch/>
        </p:blipFill>
        <p:spPr>
          <a:xfrm>
            <a:off x="6400800" y="3971880"/>
            <a:ext cx="952560" cy="219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13"/>
          <a:stretch/>
        </p:blipFill>
        <p:spPr>
          <a:xfrm>
            <a:off x="5381640" y="4299120"/>
            <a:ext cx="3762360" cy="1903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324000" y="3573360"/>
            <a:ext cx="4695840" cy="11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5003640" y="476280"/>
            <a:ext cx="3257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М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572000" cy="1095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"/>
          <p:cNvPicPr/>
          <p:nvPr/>
        </p:nvPicPr>
        <p:blipFill>
          <a:blip r:embed="rId2"/>
          <a:stretch/>
        </p:blipFill>
        <p:spPr>
          <a:xfrm>
            <a:off x="3313080" y="476280"/>
            <a:ext cx="2341440" cy="120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3"/>
          <a:stretch/>
        </p:blipFill>
        <p:spPr>
          <a:xfrm>
            <a:off x="2160720" y="3068640"/>
            <a:ext cx="4647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1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СИЛЮВАЧІ ПОСТІЙНОГО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896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09:14:47Z</dcterms:created>
  <dc:creator>Kolya</dc:creator>
  <dc:description/>
  <dc:language>en-US</dc:language>
  <cp:lastModifiedBy>Microsoft Office</cp:lastModifiedBy>
  <dcterms:modified xsi:type="dcterms:W3CDTF">2022-03-30T11:10:28Z</dcterms:modified>
  <cp:revision>43</cp:revision>
  <dc:subject/>
  <dc:title>АНАЛОГОВА СХЕМОТЕХНІКА</dc:title>
</cp:coreProperties>
</file>