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C31-8BFF-49D5-968E-CA713558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29CD-EF00-4EAF-88A1-B1745D68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1972-3808-4729-B003-AEBC5EAC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8698-C8CF-4140-8C1E-77CF47DF0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C8DC-0BBE-4E41-8F92-313C4B09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3287-64B1-467E-9818-63D67A26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E7C8-712F-4AD0-A351-4E6B956B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8C26-39CD-4D99-8F8E-E27BA979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F69F-B2D0-4729-9791-F301287D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5EDE-5D79-4F80-8B7B-62A634D9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1023-FB18-4798-8575-E31C56B3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A3B1-FE25-4C30-BD57-61C2185F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11B6-7AA0-4766-A8D4-8AD2A31C18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3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5.png"/><Relationship Id="rId15" Type="http://schemas.openxmlformats.org/officeDocument/2006/relationships/image" Target="../media/image36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ЛОГОВА ОПТОЕЛЕКТРОННА СХЕМОТЕХНІ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0640"/>
            <a:ext cx="6400800" cy="10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ПЕРАЦІЙНІ ПІДСИЛЮВАЧ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АКТИЧНЕ ЗАНЯТТЯ: СУМ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ПЕРАЦІЙНІ ПІДСИЛЮВАЧ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-23760" y="522360"/>
            <a:ext cx="4824360" cy="1511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657360" y="2103480"/>
            <a:ext cx="3058920" cy="1944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4915080" y="1050840"/>
            <a:ext cx="3944880" cy="1928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4"/>
          <a:stretch/>
        </p:blipFill>
        <p:spPr>
          <a:xfrm>
            <a:off x="8499600" y="1413000"/>
            <a:ext cx="360360" cy="153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5"/>
          <a:stretch/>
        </p:blipFill>
        <p:spPr>
          <a:xfrm>
            <a:off x="5235480" y="3645000"/>
            <a:ext cx="34624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ПЕРАЦІЙНІ ПІДСИЛЮВАЧ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395280" y="507960"/>
            <a:ext cx="3944880" cy="1928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3790800" y="907920"/>
            <a:ext cx="360360" cy="154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3"/>
          <a:stretch/>
        </p:blipFill>
        <p:spPr>
          <a:xfrm>
            <a:off x="5618160" y="650880"/>
            <a:ext cx="3462480" cy="1643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4"/>
          <a:stretch/>
        </p:blipFill>
        <p:spPr>
          <a:xfrm>
            <a:off x="1881360" y="3878280"/>
            <a:ext cx="2616120" cy="371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5"/>
          <a:stretch/>
        </p:blipFill>
        <p:spPr>
          <a:xfrm>
            <a:off x="5076720" y="3922560"/>
            <a:ext cx="3575160" cy="212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6"/>
          <a:stretch/>
        </p:blipFill>
        <p:spPr>
          <a:xfrm>
            <a:off x="395280" y="2436840"/>
            <a:ext cx="5551560" cy="1290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7"/>
          <a:stretch/>
        </p:blipFill>
        <p:spPr>
          <a:xfrm>
            <a:off x="1627200" y="4249800"/>
            <a:ext cx="3124080" cy="333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8"/>
          <a:stretch/>
        </p:blipFill>
        <p:spPr>
          <a:xfrm>
            <a:off x="1673280" y="4583160"/>
            <a:ext cx="3092400" cy="32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9"/>
          <a:stretch/>
        </p:blipFill>
        <p:spPr>
          <a:xfrm>
            <a:off x="1177920" y="5054760"/>
            <a:ext cx="4497480" cy="809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10"/>
          <a:stretch/>
        </p:blipFill>
        <p:spPr>
          <a:xfrm>
            <a:off x="3905280" y="5864400"/>
            <a:ext cx="16239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ДН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Ю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И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ДСИЛЮВАЧ, ПОВТОРЮВАЧ НАПРУГИ, 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ВЕРТУЮЧИЙ ПІДСИЛЮВ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6" descr=""/>
          <p:cNvPicPr/>
          <p:nvPr/>
        </p:nvPicPr>
        <p:blipFill>
          <a:blip r:embed="rId1"/>
          <a:stretch/>
        </p:blipFill>
        <p:spPr>
          <a:xfrm>
            <a:off x="2494080" y="6227640"/>
            <a:ext cx="390240" cy="228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843280" y="620640"/>
            <a:ext cx="2303280" cy="266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4821480" cy="1538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95280" y="2565360"/>
            <a:ext cx="2141640" cy="189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468360" y="2852640"/>
            <a:ext cx="3639960" cy="615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468360" y="3573360"/>
            <a:ext cx="3330360" cy="1592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4427640" y="2205000"/>
            <a:ext cx="4392360" cy="1822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3780000" y="5013360"/>
            <a:ext cx="4967280" cy="1682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5724360" y="4724280"/>
            <a:ext cx="1705320" cy="209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5148360" y="1052640"/>
            <a:ext cx="38512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МАТ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3105000" cy="1380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1130400" y="2054160"/>
            <a:ext cx="2781360" cy="209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3"/>
          <a:stretch/>
        </p:blipFill>
        <p:spPr>
          <a:xfrm>
            <a:off x="860400" y="2263680"/>
            <a:ext cx="1771560" cy="390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4"/>
          <a:stretch/>
        </p:blipFill>
        <p:spPr>
          <a:xfrm>
            <a:off x="512640" y="2633760"/>
            <a:ext cx="2467080" cy="419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5"/>
          <a:stretch/>
        </p:blipFill>
        <p:spPr>
          <a:xfrm>
            <a:off x="514440" y="3052800"/>
            <a:ext cx="3057480" cy="514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6"/>
          <a:stretch/>
        </p:blipFill>
        <p:spPr>
          <a:xfrm>
            <a:off x="512640" y="4797360"/>
            <a:ext cx="3372120" cy="1562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"/>
          <p:cNvPicPr/>
          <p:nvPr/>
        </p:nvPicPr>
        <p:blipFill>
          <a:blip r:embed="rId7"/>
          <a:stretch/>
        </p:blipFill>
        <p:spPr>
          <a:xfrm>
            <a:off x="2979720" y="6149880"/>
            <a:ext cx="2038320" cy="419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"/>
          <p:cNvPicPr/>
          <p:nvPr/>
        </p:nvPicPr>
        <p:blipFill>
          <a:blip r:embed="rId8"/>
          <a:stretch/>
        </p:blipFill>
        <p:spPr>
          <a:xfrm>
            <a:off x="2494080" y="6227640"/>
            <a:ext cx="390240" cy="228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"/>
          <p:cNvPicPr/>
          <p:nvPr/>
        </p:nvPicPr>
        <p:blipFill>
          <a:blip r:embed="rId9"/>
          <a:stretch/>
        </p:blipFill>
        <p:spPr>
          <a:xfrm>
            <a:off x="6300720" y="2714760"/>
            <a:ext cx="981000" cy="257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"/>
          <p:cNvPicPr/>
          <p:nvPr/>
        </p:nvPicPr>
        <p:blipFill>
          <a:blip r:embed="rId10"/>
          <a:stretch/>
        </p:blipFill>
        <p:spPr>
          <a:xfrm>
            <a:off x="5724360" y="3081240"/>
            <a:ext cx="2657520" cy="457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"/>
          <p:cNvPicPr/>
          <p:nvPr/>
        </p:nvPicPr>
        <p:blipFill>
          <a:blip r:embed="rId11"/>
          <a:stretch/>
        </p:blipFill>
        <p:spPr>
          <a:xfrm>
            <a:off x="6672240" y="3716280"/>
            <a:ext cx="409680" cy="209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1" descr=""/>
          <p:cNvPicPr/>
          <p:nvPr/>
        </p:nvPicPr>
        <p:blipFill>
          <a:blip r:embed="rId12"/>
          <a:stretch/>
        </p:blipFill>
        <p:spPr>
          <a:xfrm>
            <a:off x="6400800" y="3971880"/>
            <a:ext cx="952560" cy="219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2" descr=""/>
          <p:cNvPicPr/>
          <p:nvPr/>
        </p:nvPicPr>
        <p:blipFill>
          <a:blip r:embed="rId13"/>
          <a:stretch/>
        </p:blipFill>
        <p:spPr>
          <a:xfrm>
            <a:off x="5381640" y="4299120"/>
            <a:ext cx="3762360" cy="1903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4"/>
          <a:stretch/>
        </p:blipFill>
        <p:spPr>
          <a:xfrm>
            <a:off x="324000" y="3573360"/>
            <a:ext cx="4695840" cy="1104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5"/>
          <a:stretch/>
        </p:blipFill>
        <p:spPr>
          <a:xfrm>
            <a:off x="5003640" y="476280"/>
            <a:ext cx="32576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МАТ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572000" cy="1095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"/>
          <p:cNvPicPr/>
          <p:nvPr/>
        </p:nvPicPr>
        <p:blipFill>
          <a:blip r:embed="rId2"/>
          <a:stretch/>
        </p:blipFill>
        <p:spPr>
          <a:xfrm>
            <a:off x="3313080" y="476280"/>
            <a:ext cx="2341440" cy="120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"/>
          <p:cNvPicPr/>
          <p:nvPr/>
        </p:nvPicPr>
        <p:blipFill>
          <a:blip r:embed="rId3"/>
          <a:stretch/>
        </p:blipFill>
        <p:spPr>
          <a:xfrm>
            <a:off x="2160720" y="3068640"/>
            <a:ext cx="464796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1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ІДСИЛЮВАЧІ ПОСТІЙНОГО СТРУ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896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8T09:14:47Z</dcterms:created>
  <dc:creator>Kolya</dc:creator>
  <dc:description/>
  <dc:language>en-US</dc:language>
  <cp:lastModifiedBy>Microsoft Office</cp:lastModifiedBy>
  <dcterms:modified xsi:type="dcterms:W3CDTF">2022-03-30T11:10:28Z</dcterms:modified>
  <cp:revision>43</cp:revision>
  <dc:subject/>
  <dc:title>АНАЛОГОВА СХЕМОТЕХНІКА</dc:title>
</cp:coreProperties>
</file>