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80AD-FBA9-4D65-BE63-B8A90333E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48A5-6D05-44AB-8222-07CEFCD5C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961A-A5EE-45AB-A932-A92EF247D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F0C8-34F3-49B0-8AD0-04D4719D6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09BD-E8C9-4FA6-A469-A91A06332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5E7A-AB32-4C5D-ABFE-F61BE08D5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A3DD-D75D-49CA-BB3B-8C12A3D02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1F13-B7CC-40FA-B3EF-6A3496E0D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F3CD-DCFC-4DB6-A578-5F4E32048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FCBC-5F37-4F0C-84F8-AB8BCEEF6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2CA8-730B-443E-AB9C-7C7BF3C63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FC75-4D76-4C4E-8164-522A7EF43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1F074-834F-4200-9BCD-B3E4F86A712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hyperlink" Target="https://www.google.com/url?sa=t&amp;rct=j&amp;q=&amp;esrc=s&amp;source=video&amp;cd=15&amp;cad=rja&amp;uact=8&amp;ved=0ahUKEwiApPq_m5_lAhX58KYKHUZTD444ChC3Agg_MAQ&amp;url=https://www.youtube.com/watch?v=vc_YOw8onlA&amp;usg=AOvVaw0WnvFBawZfftyhMsROzq4P" TargetMode="External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hyperlink" Target="https://uk.wikipedia.org/wiki/1842" TargetMode="External"/><Relationship Id="rId5" Type="http://schemas.openxmlformats.org/officeDocument/2006/relationships/hyperlink" Target="https://uk.wikipedia.org/wiki/1909" TargetMode="External"/><Relationship Id="rId6" Type="http://schemas.openxmlformats.org/officeDocument/2006/relationships/hyperlink" Target="https://uk.wikipedia.org/wiki/&#1056;&#1086;&#1089;&#1110;&#1081;&#1089;&#1100;&#1082;&#1072;_&#1110;&#1084;&#1087;&#1077;&#1088;&#1110;&#1103;" TargetMode="External"/><Relationship Id="rId7" Type="http://schemas.openxmlformats.org/officeDocument/2006/relationships/hyperlink" Target="https://uk.wikipedia.org/wiki/&#1040;&#1076;&#1074;&#1086;&#1082;&#1072;&#1090;" TargetMode="External"/><Relationship Id="rId8" Type="http://schemas.openxmlformats.org/officeDocument/2006/relationships/hyperlink" Target="https://uk.wikipedia.org/wiki/&#1054;&#1088;&#1072;&#1090;&#1086;&#1088;" TargetMode="External"/><Relationship Id="rId9" Type="http://schemas.openxmlformats.org/officeDocument/2006/relationships/hyperlink" Target="https://www.google.com/url?sa=t&amp;rct=j&amp;q=&amp;esrc=s&amp;source=web&amp;cd=2&amp;cad=rja&amp;uact=8&amp;ved=2ahUKEwj0u5uBkZ_lAhWNposKHdYbDK8QFjABegQIABAB&amp;url=https://inter.ua/uk/news/2009/01/08/3577&amp;usg=AOvVaw3F4JLnTumHyOc1iKfyOUkN" TargetMode="External"/><Relationship Id="rId10" Type="http://schemas.openxmlformats.org/officeDocument/2006/relationships/hyperlink" Target="https://www.google.com/url?sa=t&amp;rct=j&amp;q=&amp;esrc=s&amp;source=web&amp;cd=2&amp;cad=rja&amp;uact=8&amp;ved=2ahUKEwj0u5uBkZ_lAhWNposKHdYbDK8QFjABegQIABAB&amp;url=https://inter.ua/uk/news/2009/01/08/3577&amp;usg=AOvVaw3F4JLnTumHyOc1iKfyOUkN" TargetMode="External"/><Relationship Id="rId11" Type="http://schemas.openxmlformats.org/officeDocument/2006/relationships/hyperlink" Target="https://www.google.com/url?sa=t&amp;rct=j&amp;q=&amp;esrc=s&amp;source=web&amp;cd=2&amp;cad=rja&amp;uact=8&amp;ved=2ahUKEwj0u5uBkZ_lAhWNposKHdYbDK8QFjABegQIABAB&amp;url=https://inter.ua/uk/news/2009/01/08/3577&amp;usg=AOvVaw3F4JLnTumHyOc1iKfyOUkN" TargetMode="External"/><Relationship Id="rId12" Type="http://schemas.openxmlformats.org/officeDocument/2006/relationships/hyperlink" Target="https://www.google.com/url?sa=t&amp;rct=j&amp;q=&amp;esrc=s&amp;source=web&amp;cd=2&amp;cad=rja&amp;uact=8&amp;ved=2ahUKEwj0u5uBkZ_lAhWNposKHdYbDK8QFjABegQIABAB&amp;url=https://inter.ua/uk/news/2009/01/08/3577&amp;usg=AOvVaw3F4JLnTumHyOc1iKfyOUkN" TargetMode="External"/><Relationship Id="rId13" Type="http://schemas.openxmlformats.org/officeDocument/2006/relationships/hyperlink" Target="https://www.google.com/url?sa=t&amp;rct=j&amp;q=&amp;esrc=s&amp;source=web&amp;cd=2&amp;cad=rja&amp;uact=8&amp;ved=2ahUKEwj0u5uBkZ_lAhWNposKHdYbDK8QFjABegQIABAB&amp;url=https://inter.ua/uk/news/2009/01/08/3577&amp;usg=AOvVaw3F4JLnTumHyOc1iKfyOUkN" TargetMode="External"/><Relationship Id="rId14" Type="http://schemas.openxmlformats.org/officeDocument/2006/relationships/hyperlink" Target="https://www.google.com/url?sa=t&amp;rct=j&amp;q=&amp;esrc=s&amp;source=web&amp;cd=2&amp;cad=rja&amp;uact=8&amp;ved=2ahUKEwj0u5uBkZ_lAhWNposKHdYbDK8QFjABegQIABAB&amp;url=https://inter.ua/uk/news/2009/01/08/3577&amp;usg=AOvVaw3F4JLnTumHyOc1iKfyOUkN" TargetMode="External"/><Relationship Id="rId15" Type="http://schemas.openxmlformats.org/officeDocument/2006/relationships/hyperlink" Target="https://www.google.com/url?sa=t&amp;rct=j&amp;q=&amp;esrc=s&amp;source=web&amp;cd=2&amp;cad=rja&amp;uact=8&amp;ved=2ahUKEwj0u5uBkZ_lAhWNposKHdYbDK8QFjABegQIABAB&amp;url=https://inter.ua/uk/news/2009/01/08/3577&amp;usg=AOvVaw3F4JLnTumHyOc1iKfyOUkN" TargetMode="External"/><Relationship Id="rId16" Type="http://schemas.openxmlformats.org/officeDocument/2006/relationships/hyperlink" Target="https://www.google.com/url?sa=t&amp;rct=j&amp;q=&amp;esrc=s&amp;source=video&amp;cd=8&amp;cad=rja&amp;uact=8&amp;ved=0ahUKEwjk0c_ilJ_lAhULmYsKHUgmB9MQtwIISjAH&amp;url=https://www.svoboda.org/a/26840521.html&amp;usg=AOvVaw2rt-pLTNCwYFpwqUAByR0i" TargetMode="External"/><Relationship Id="rId17" Type="http://schemas.openxmlformats.org/officeDocument/2006/relationships/hyperlink" Target="https://www.google.com/url?sa=t&amp;rct=j&amp;q=&amp;esrc=s&amp;source=video&amp;cd=8&amp;cad=rja&amp;uact=8&amp;ved=0ahUKEwjk0c_ilJ_lAhULmYsKHUgmB9MQtwIISjAH&amp;url=https://www.svoboda.org/a/26840521.html&amp;usg=AOvVaw2rt-pLTNCwYFpwqUAByR0i" TargetMode="External"/><Relationship Id="rId18" Type="http://schemas.openxmlformats.org/officeDocument/2006/relationships/hyperlink" Target="https://www.google.com/url?sa=t&amp;rct=j&amp;q=&amp;esrc=s&amp;source=web&amp;cd=2&amp;cad=rja&amp;uact=8&amp;ved=2ahUKEwj0u5uBkZ_lAhWNposKHdYbDK8QFjABegQIABAB&amp;url=https://inter.ua/uk/news/2009/01/08/3577&amp;usg=AOvVaw3F4JLnTumHyOc1iKfyOUkN" TargetMode="External"/><Relationship Id="rId1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71680"/>
            <a:ext cx="7772400" cy="178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ЦІЯ № 4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: Типи. Жанри пром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28760" y="3886200"/>
            <a:ext cx="8501040" cy="21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-51444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ізновиди пром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анри красномовства та їх вид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2920" y="274320"/>
            <a:ext cx="8786880" cy="6541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ДІЛОВЕ (ДИПЛОМАТИЧНЕ) КРАСНОМОВСТВ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213840" y="1071720"/>
            <a:ext cx="4281480" cy="557208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мови на міжнародних та міждержавних конференціях, зборах, засіданнях, зустрічах тощо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риклади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ога, копыта, таблетки и жвачка. В.Путин призвал американскую прессу прекратить вмешиваться в российскую внутреннюю политику (2017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иступ заступника Міністра закордонних справ України Сергія Кислиці на засіданні РБ ООН щодо прав людини та запобігання збройним кон фліктам (квітень 2017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иступ делегації України на засіданні РБ ООН щодо превентивної дипломатії та використання транскордонних водних ресурсів (червень 2017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/>
              </a:rPr>
              <a:t>«Вечірнє сонце»: американські дипломати та волонтери </a:t>
            </a:r>
            <a:r>
              <a:rPr b="0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ивітали українців з Днем Незалежності (серпень 2019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647960" y="1143000"/>
            <a:ext cx="4281480" cy="5500800"/>
          </a:xfrm>
          <a:prstGeom prst="rect">
            <a:avLst/>
          </a:prstGeom>
          <a:blipFill rotWithShape="0">
            <a:blip r:embed="rId4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пломатичне красномовство — рід професійної публічної мови, спрямований на налагодження або збереження добросусідських відносин між державам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РЕКЛАМНЕ КРАСНОМОВСТВ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42560" y="1285560"/>
            <a:ext cx="43527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риклади: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76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еседа об увольнении (фильм “Мне б</a:t>
            </a:r>
            <a:r>
              <a:rPr b="0" lang="ru-RU" sz="19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ы в небо») (2015)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76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дай мне ручку («Волк с Уолл Стрит») (2014)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ениальная речь Аль Пачино (фильм «Запах женщины») (2016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отиватор. Самая великая речь Аль Пачино (2014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647960" y="1213920"/>
            <a:ext cx="4281480" cy="535788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ламне мовлення на Заході розуміється як особлива сфера практичної діяльності, продуктом якої є словесний твір – рекламний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Його основні риси – зміст і зовнішнє оформлення (відмінні від нерекламних), функціональні ознаки, місце в загальній сукупності текстів, які створюються даною мовою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ДІАЛОГИ З САМИМ СОБО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285840" y="1600200"/>
            <a:ext cx="4209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 внутрішня мова, уявна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тання про себе, спогади та роздуми, внутрішнє планування, репетиці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ізновиди пром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42560" y="999720"/>
            <a:ext cx="4352760" cy="51260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важальна промов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нформаційна промов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ихаюча (агітаційна) промо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648320" y="999720"/>
            <a:ext cx="4209840" cy="512604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Переконлива промов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Вітальна промов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Поминальна (надгробне слово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400" y="356760"/>
            <a:ext cx="751536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uk-U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ІАЛЬНО-ПОЛІТИЧНЕ КРАСНОМОВСТВ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213840" y="1600200"/>
            <a:ext cx="6000840" cy="50436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овіді на соціально-політичні та політико-економічні теми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вітна доповідь на зборах (конференції, з'їзді)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пломатична промова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йськово-патріотична промова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ітичний огляд, промова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ітингова промова, огляд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риклади: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иступ Віталія Кличка на Євромайдані(25.01.14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щальна промова Барака Обами (січень 2017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 2 хвилини Авраам Лінкольн виклав всю філософію США та суть громадянської війни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есконференція В.Зеленського (найдовша в історії – більше 8 годин (жовтень 2019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оп-10 ексцентричних виступів в ООН за 60 років (жовтень 2019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143400" y="1600200"/>
            <a:ext cx="278604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  одне з найдавніших родів красномовства, яке уславило імена Демосфена, Цицерона, та інших видатних ораторів. Демократизація суспільства стимулює ораторську творчість громадян на зборах, мітингах, сесіях Верховної Ради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2. ВІЙСЬКОВЕ КРАСНОМОВСТВ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14200" y="1071360"/>
            <a:ext cx="4143600" cy="550044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мова-наказ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нструктивна промов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ступ на військово-політичну тем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ихаюча промов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лик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риклади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“</a:t>
            </a:r>
            <a:r>
              <a:rPr b="0" lang="uk-UA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и завершуємо військову службу і розпочинаємо новий етап нашого життя” (29.12.18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иступ Міністра оборони України (серпень 2019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47960" y="1071720"/>
            <a:ext cx="428148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 красномовство розвивалося в усі часи й у всіх народів (О.Македонський, Юлій Цезар тощо). Військове красномовство князів Київської Русі, котрі завжди попереджали ворогів про те, що йдуть на них війною: “Йду на Ви!”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раїнське військове красномовство найяскравіше представлене в ораторській спадщині часів  Запорозької Січі, у документах, мемуарах провідних військових діячів періоду Великої вітчизняної війни, коли хід військових подій залежить від сили переконуючого слов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АКАДЕМІЧНЕ КРАСНОМОВСТВ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14200" y="1600200"/>
            <a:ext cx="5214960" cy="50436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ція вузівська (виділяють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цію-показ, лекцію-огляд, лекцію-бесіду, лекцію-інструктаж, лекцію-інформацію, лекцію-підсумок, лекцію-спогад.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блічна лекці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кова доповідь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ковий огляд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кове повідомлення чи інформація, реферат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ники: науковці, викладачі, вчителі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риклади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ыступление на праздновании Дня знаний с воспитанниками и педагогами  образовательного центра для одаренных детей «Сириус» (01.09.15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утин встречается со студентами Уральского федерального университета (09.07.19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ig Russian Boss Show. 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екция в МГУ  (ноябрь 2016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5572080" y="1571400"/>
            <a:ext cx="3286080" cy="50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о «академічне» походить від грец. академія – так називалися сади, що належали міфічному героєві Академу. Згодом цим словом почали називати філософську школу, засновану Платоном саме в цій місцевості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Україні зародження академічного красномовства пов'язане з функціонуванням Острозької братської школи та Києво-Могилянської академії. Основи академічного красномовства заклали Петро Могила, Григорій Сковорода, Феофан Прокопович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СУДОВЕ КРАСНОМОВСТВО</a:t>
            </a:r>
            <a:br>
              <a:rPr sz="3200"/>
            </a:b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ЮРИДИЧНА РИТОРИК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42560" y="1285560"/>
            <a:ext cx="4143240" cy="535788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курорська (звинувачувальна) промов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мова громадського звинувачувач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вокатська (захисна) промов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мова громадського захисник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захисна промова підсудного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Учасники: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курор, адвокат, обвинувачений, потерпілий, позивач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428720" y="1356840"/>
            <a:ext cx="4429080" cy="5286600"/>
          </a:xfrm>
          <a:prstGeom prst="rect">
            <a:avLst/>
          </a:prstGeom>
          <a:blipFill rotWithShape="0">
            <a:blip r:embed="rId3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євако Федір (</a:t>
            </a:r>
            <a:r>
              <a:rPr b="1" lang="uk-UA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4"/>
              </a:rPr>
              <a:t>1842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-</a:t>
            </a:r>
            <a:r>
              <a:rPr b="0" lang="uk-UA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5"/>
              </a:rPr>
              <a:t>1909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 — відомий </a:t>
            </a:r>
            <a:r>
              <a:rPr b="0" lang="uk-UA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6"/>
              </a:rPr>
              <a:t>російський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7"/>
              </a:rPr>
              <a:t>адвокат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судовий </a:t>
            </a:r>
            <a:r>
              <a:rPr b="0" lang="uk-UA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8"/>
              </a:rPr>
              <a:t>оратор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инахідливий адвокат, вигравав складні та заплутані справ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риклади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9"/>
              </a:rPr>
              <a:t>"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0"/>
              </a:rPr>
              <a:t>Судові справи" - 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1"/>
              </a:rPr>
              <a:t>шоу 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2"/>
              </a:rPr>
              <a:t>на 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3"/>
              </a:rPr>
              <a:t>телеканалі 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4"/>
              </a:rPr>
              <a:t>"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5"/>
              </a:rPr>
              <a:t>Інтер«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6"/>
              </a:rPr>
              <a:t>Речь Надежды Савченко 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7"/>
              </a:rPr>
              <a:t>в Басманном суде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8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чь адвоката: фильм «Запах женщины» (2018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57120" y="0"/>
            <a:ext cx="8786880" cy="1000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</a:t>
            </a:r>
            <a:r>
              <a:rPr b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ГОСЛОВСЬКО-ЦЕРКОВНЕ КРАСНОМОВСТВО</a:t>
            </a:r>
            <a:br>
              <a:rPr sz="2200"/>
            </a:br>
            <a:r>
              <a:rPr b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ГОМІЛЕТИКА)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213840" y="1071720"/>
            <a:ext cx="4281480" cy="557208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овід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повід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мова (на соборі) під час собор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ентарі Біблії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риклади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олитвою у Києво-Печерській Лаврі відзначили віряни свято Покрови (14.10.19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ітання Митрополита Онуфрія зі святом Покрови Божої Матері (14.10.19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мова митрополита Епііфанія у Спасо-Преображенському соборі (січень 2019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647960" y="1071720"/>
            <a:ext cx="428148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ин із видів церковного красномовства, який має давні традиції, свою історію,видатних майстрів слова, таких як Іоанн Златоуст, Василій Великий, таінші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мілетика — наука богословська; вона пояснює теорію церковної співбесіди, пастирського проповідування слова Божого, історію проповідницької літератури, визначає цілі проповіді, надає практичні рекомендації, поради через «уроки віри й благочестя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СОЦІАЛЬНО-ПОБУТОВЕ КРАСНОМОВСТВ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214200" y="1142640"/>
            <a:ext cx="4572000" cy="54291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вілейна промова (або похвальна)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стільна промова (тост)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тальне слово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гробне слово (поминальна промова)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5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риклади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омик Руслан Белый пошутил на похоронах Александра Шаляпина (2021)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мова Посла Джеффрі Пайєтта з нагоди святкування Дня незалежності США (01.07.16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“</a:t>
            </a:r>
            <a:r>
              <a:rPr b="0" lang="uk-UA" sz="1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ругу, мужу и отцу”. Речь Ванессы Брайант о муже-спортсмене Коби. (2020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еленський на Донбасі привітав військових з Днем захисника (14.10.19)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ожденственская речь  Елизавет</a:t>
            </a:r>
            <a:r>
              <a:rPr b="0" lang="ru-RU" sz="1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ы </a:t>
            </a:r>
            <a:r>
              <a:rPr b="0" lang="uk-UA" sz="1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ІІ (2016)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чь Путина. Прощание с премьером Евгением Примаковым. (2015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928760" y="1071720"/>
            <a:ext cx="4071960" cy="5643360"/>
          </a:xfrm>
          <a:prstGeom prst="rect">
            <a:avLst/>
          </a:prstGeom>
          <a:blipFill rotWithShape="0">
            <a:blip r:embed="rId3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т найчастіше йдеться про величання, похвалу тієї чи іншої особистості, групи або явища, тобто можна сказати, що ці промови за своїм духом є панегіричними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рактерною рисою подібного красномовства є ритуальність (ситуація хрестин, весілля, похорону тощо), і це накладає певний відбиток на стиль промови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частіше такі виступи бувають імпровізаціями, які не готуються заздалегідь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 невеликі, лаконічні тексти, що не вимагають обов'язкової, звичайної для інших галузей риторики твердої схеми побудови (вступ, основна частина, висновки)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гічна основа тут може бути послаблена; панує емоційна стихія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аторові не обов'язково демонструвати академічну ерудицію, знання законів або пропагувати істини релігії (хоча окремі елементи такого роду тільки прикрашають подібне слово)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те оратор щедро черпає при клади з життєвого матеріалу, з фольклору (наприклад, стихія анекдота)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иль може бути від урочисто-величального (наприклад, на похороні) до «зниженого»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ДІАЛОГІЧНЕ КРАСНОМОВСТВ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213840" y="1143000"/>
            <a:ext cx="5643720" cy="5500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рямоване на переконання співбесідників еристичними прийомами, за допопомогою мистецтва сперечатися, у суперечці, полеміці, диспуті, бесіді на “круглому столі”, нараді, симпозіумі, в інтерв'ю, на прес-конференції, коли відбуваються зіткнення різних думок, ід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072120" y="1143000"/>
            <a:ext cx="285768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0-15T16:03:41Z</dcterms:created>
  <dc:creator>allo</dc:creator>
  <dc:description/>
  <dc:language>en-US</dc:language>
  <cp:lastModifiedBy>User</cp:lastModifiedBy>
  <dcterms:modified xsi:type="dcterms:W3CDTF">2021-03-17T21:13:32Z</dcterms:modified>
  <cp:revision>47</cp:revision>
  <dc:subject/>
  <dc:title>ЛЕКЦІЯ № 4 Тема: Типи. Жанри промов</dc:title>
</cp:coreProperties>
</file>