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7B0-B053-4D54-88DD-45527A65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25A-556F-4609-92AB-DA02927E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7CA-1383-45D4-802B-460488D8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CFD-6C14-4519-8760-3760C5EE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9AC-5292-4204-A8A9-CC410388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0B3-F773-4FD7-A6C9-65321F54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3BC-00C4-425B-B5F1-2B69BCAB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9AA-E032-4BA7-93A2-43DC75BA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1CA-F21C-4546-B2B5-C24C837D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4D6-3784-41CF-A5DD-4FA3A44C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0DB-F5A6-4B39-9835-51839B9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D79-B26F-4F62-9DEA-ADFDA987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C1A0-4B11-4206-9B3E-06E1822E7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hyperlink" Target="https://www.google.com/url?sa=t&amp;rct=j&amp;q=&amp;esrc=s&amp;source=video&amp;cd=15&amp;cad=rja&amp;uact=8&amp;ved=0ahUKEwiApPq_m5_lAhX58KYKHUZTD444ChC3Agg_MAQ&amp;url=https://www.youtube.com/watch?v=vc_YOw8onlA&amp;usg=AOvVaw0WnvFBawZfftyhMsROzq4P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hyperlink" Target="https://uk.wikipedia.org/wiki/1842" TargetMode="External"/><Relationship Id="rId5" Type="http://schemas.openxmlformats.org/officeDocument/2006/relationships/hyperlink" Target="https://uk.wikipedia.org/wiki/1909" TargetMode="External"/><Relationship Id="rId6" Type="http://schemas.openxmlformats.org/officeDocument/2006/relationships/hyperlink" Target="https://uk.wikipedia.org/wiki/&#1056;&#1086;&#1089;&#1110;&#1081;&#1089;&#1100;&#1082;&#1072;_&#1110;&#1084;&#1087;&#1077;&#1088;&#1110;&#1103;" TargetMode="External"/><Relationship Id="rId7" Type="http://schemas.openxmlformats.org/officeDocument/2006/relationships/hyperlink" Target="https://uk.wikipedia.org/wiki/&#1040;&#1076;&#1074;&#1086;&#1082;&#1072;&#1090;" TargetMode="External"/><Relationship Id="rId8" Type="http://schemas.openxmlformats.org/officeDocument/2006/relationships/hyperlink" Target="https://uk.wikipedia.org/wiki/&#1054;&#1088;&#1072;&#1090;&#1086;&#1088;" TargetMode="External"/><Relationship Id="rId9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0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1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2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3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4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5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6" Type="http://schemas.openxmlformats.org/officeDocument/2006/relationships/hyperlink" Target="https://www.google.com/url?sa=t&amp;rct=j&amp;q=&amp;esrc=s&amp;source=video&amp;cd=8&amp;cad=rja&amp;uact=8&amp;ved=0ahUKEwjk0c_ilJ_lAhULmYsKHUgmB9MQtwIISjAH&amp;url=https://www.svoboda.org/a/26840521.html&amp;usg=AOvVaw2rt-pLTNCwYFpwqUAByR0i" TargetMode="External"/><Relationship Id="rId17" Type="http://schemas.openxmlformats.org/officeDocument/2006/relationships/hyperlink" Target="https://www.google.com/url?sa=t&amp;rct=j&amp;q=&amp;esrc=s&amp;source=video&amp;cd=8&amp;cad=rja&amp;uact=8&amp;ved=0ahUKEwjk0c_ilJ_lAhULmYsKHUgmB9MQtwIISjAH&amp;url=https://www.svoboda.org/a/26840521.html&amp;usg=AOvVaw2rt-pLTNCwYFpwqUAByR0i" TargetMode="External"/><Relationship Id="rId18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 4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Типи. Жанри про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3886200"/>
            <a:ext cx="8501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види про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и красномовства та їх ви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654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ДІЛОВЕ (ДИПЛОМАТИЧНЕ) КРАСНОМОВ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3840" y="1071720"/>
            <a:ext cx="4281480" cy="5572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и на міжнародних та міждержавних конференціях, зборах, засіданнях, зустрічах тощ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га, копыта, таблетки и жвачка. В.Путин призвал американскую прессу прекратить вмешиваться в российскую внутреннюю политику (201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ступ заступника Міністра закордонних справ України Сергія Кислиці на засіданні РБ ООН щодо прав людини та запобігання збройним кон фліктам (квітень 2017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ступ делегації України на засіданні РБ ООН щодо превентивної дипломатії та використання транскордонних водних ресурсів (червень 2017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«Вечірнє сонце»: американські дипломати та волонтери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італи українців з Днем Незалежності (серпень 2019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7960" y="1143000"/>
            <a:ext cx="4281480" cy="5500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тичне красномовство — рід професійної публічної мови, спрямований на налагодження або збереження добросусідських відносин між держав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КЛАМНЕ КРАСНОМОВ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560" y="1285560"/>
            <a:ext cx="4352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еда об увольнении (фильм “Мне б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 в небо») (2015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ай мне ручку («Волк с Уолл Стрит») (2014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ниальная речь Аль Пачино (фильм «Запах женщины») (2016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атор. Самая великая речь Аль Пачино (2014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213920"/>
            <a:ext cx="4281480" cy="5357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е мовлення на Заході розуміється як особлива сфера практичної діяльності, продуктом якої є словесний твір – рекламни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го основні риси – зміст і зовнішнє оформлення (відмінні від нерекламних), функціональні ознаки, місце в загальній сукупності текстів, які створюються даною мово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ДІАЛОГИ З САМИМ СОБО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6002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внутрішня мова, уя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ння про себе, спогади та роздуми, внутрішнє планування, репети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види пр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560" y="999720"/>
            <a:ext cx="4352760" cy="512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ажальн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ихаюча (агітаційна) пром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999720"/>
            <a:ext cx="4209840" cy="5126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конлив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італьн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минальна (надгробне слово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5153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ПОЛІТИЧНЕ КРАСНОМОВ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3840" y="1600200"/>
            <a:ext cx="6000840" cy="5043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іді на соціально-політичні та політико-економічні тем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тна доповідь на зборах (конференції, з'їзді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тична промо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йськово-патріотична промо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ітичний огляд, промо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тингова промова, огля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ступ Віталія Кличка на Євромайдані(25.01.14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щальна промова Барака Обами (січень 2017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2 хвилини Авраам Лінкольн виклав всю філософію США та суть громадянської війн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сконференція В.Зеленського (найдовша в історії – більше 8 годин (жовтень 2019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п-10 ексцентричних виступів в ООН за 60 років (жовтень 2019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43400" y="1600200"/>
            <a:ext cx="27860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 одне з найдавніших родів красномовства, яке уславило імена Демосфена, Цицерона, та інших видатних ораторів. Демократизація суспільства стимулює ораторську творчість громадян на зборах, мітингах, сесіях Верховної Рад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ВІЙСЬКОВЕ КРАСНОМОВ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4200" y="1071360"/>
            <a:ext cx="4143600" cy="5500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а-нака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руктивн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туп на військово-політичну т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ихаюч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 завершуємо військову службу і розпочинаємо новий етап нашого життя” (29.12.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ступ Міністра оборони України (серпень 2019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7960" y="1071720"/>
            <a:ext cx="4281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красномовство розвивалося в усі часи й у всіх народів (О.Македонський, Юлій Цезар тощо). Військове красномовство князів Київської Русі, котрі завжди попереджали ворогів про те, що йдуть на них війною: “Йду на Ви!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е військове красномовство найяскравіше представлене в ораторській спадщині часів  Запорозької Січі, у документах, мемуарах провідних військових діячів періоду Великої вітчизняної війни, коли хід військових подій залежить від сили переконуючого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АДЕМІЧНЕ КРАСНОМОВ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600200"/>
            <a:ext cx="5214960" cy="5043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вузівська (виділяю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ю-показ, лекцію-огляд, лекцію-бесіду, лекцію-інструктаж, лекцію-інформацію, лекцію-підсумок, лекцію-спогад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ічна лекці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доповід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 огля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е повідомлення чи інформація, рефер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ники: науковці, викладачі, вчител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тупление на праздновании Дня знаний с воспитанниками и педагогами  образовательного центра для одаренных детей «Сириус» (01.09.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н встречается со студентами Уральского федерального университета (09.07.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g Russian Boss Show.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ция в МГУ  (ноябрь 201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572080" y="1571400"/>
            <a:ext cx="3286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академічне» походить від грец. академія – так називалися сади, що належали міфічному героєві Академу. Згодом цим словом почали називати філософську школу, засновану Платоном саме в цій місцевос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зародження академічного красномовства пов'язане з функціонуванням Острозької братської школи та Києво-Могилянської академії. Основи академічного красномовства заклали Петро Могила, Григорій Сковорода, Феофан Прокопови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УДОВЕ КРАСНОМОВСТВО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ЮРИДИЧНА РИТОР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2560" y="1285560"/>
            <a:ext cx="4143240" cy="5357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урорська (звинувачувальна) пром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а громадського звинувачува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вокатська (захисна) пром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а громадського захис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захисна промова підсудн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курор, адвокат, обвинувачений, потерпілий, позивач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28720" y="1356840"/>
            <a:ext cx="4429080" cy="52866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євако Федір (</a:t>
            </a:r>
            <a:r>
              <a:rPr b="1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1842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</a:t>
            </a:r>
            <a:r>
              <a:rPr b="0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909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відомий </a:t>
            </a:r>
            <a:r>
              <a:rPr b="0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російський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адвока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удовий </a:t>
            </a:r>
            <a:r>
              <a:rPr b="0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орат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нахідливий адвокат, вигравав складні та заплутані спра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"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Судові справи" -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шо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на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телеканалі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"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Інтер«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Речь Надежды Савченко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в Басманном суд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ь адвоката: фильм «Запах женщины» (20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100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ОСЛОВСЬКО-ЦЕРКОВНЕ КРАСНОМОВСТВО</a:t>
            </a:r>
            <a:br>
              <a:rPr sz="2200"/>
            </a:b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МІЛЕТИКА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1071720"/>
            <a:ext cx="4281480" cy="5572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ід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від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а (на соборі) під час собо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нтарі Бібл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итвою у Києво-Печерській Лаврі відзначили віряни свято Покрови (14.10.1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ітання Митрополита Онуфрія зі святом Покрови Божої Матері (14.10.1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мова митрополита Епііфанія у Спасо-Преображенському соборі (січень 201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1071720"/>
            <a:ext cx="4281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із видів церковного красномовства, який має давні традиції, свою історію,видатних майстрів слова, таких як Іоанн Златоуст, Василій Великий, таінші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ілетика — наука богословська; вона пояснює теорію церковної співбесіди, пастирського проповідування слова Божого, історію проповідницької літератури, визначає цілі проповіді, надає практичні рекомендації, поради через «уроки віри й благочест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ЦІАЛЬНО-ПОБУТОВЕ КРАСНОМОВ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4200" y="1142640"/>
            <a:ext cx="4572000" cy="5429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вілейна промова (або похвальн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ільна промова (тост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тальне слово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гробне слово (поминальна промов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ик Руслан Белый пошутил на похоронах Александра Шаляпина (2021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мова Посла Джеффрі Пайєтта з нагоди святкування Дня незалежності США (01.07.16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гу, мужу и отцу”. Речь Ванессы Брайант о муже-спортсмене Коби. (2020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еленський на Донбасі привітав військових з Днем захисника (14.10.19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жденственская речь  Елизавет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 </a:t>
            </a: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ІІ (2016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ь Путина. Прощание с премьером Евгением Примаковым. (2015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28760" y="1071720"/>
            <a:ext cx="4071960" cy="564336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айчастіше йдеться про величання, похвалу тієї чи іншої особистості, групи або явища, тобто можна сказати, що ці промови за своїм духом є панегіричним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ю рисою подібного красномовства є ритуальність (ситуація хрестин, весілля, похорону тощо), і це накладає певний відбиток на стиль промов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частіше такі виступи бувають імпровізаціями, які не готуються заздалегідь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еликі, лаконічні тексти, що не вимагають обов'язкової, звичайної для інших галузей риторики твердої схеми побудови (вступ, основна частина, висновки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ічна основа тут може бути послаблена; панує емоційна стихія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торові не обов'язково демонструвати академічну ерудицію, знання законів або пропагувати істини релігії (хоча окремі елементи такого роду тільки прикрашають подібне слово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 оратор щедро черпає при клади з життєвого матеріалу, з фольклору (наприклад, стихія анекдота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може бути від урочисто-величального (наприклад, на похороні) до «зниженого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ІАЛОГІЧНЕ КРАСНОМОВ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1143000"/>
            <a:ext cx="5643720" cy="5500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моване на переконання співбесідників еристичними прийомами, за допопомогою мистецтва сперечатися, у суперечці, полеміці, диспуті, бесіді на “круглому столі”, нараді, симпозіумі, в інтерв'ю, на прес-конференції, коли відбуваються зіткнення різних думок, і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72120" y="1143000"/>
            <a:ext cx="2857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5T16:03:41Z</dcterms:created>
  <dc:creator>allo</dc:creator>
  <dc:description/>
  <dc:language>en-US</dc:language>
  <cp:lastModifiedBy>User</cp:lastModifiedBy>
  <dcterms:modified xsi:type="dcterms:W3CDTF">2021-03-17T21:13:32Z</dcterms:modified>
  <cp:revision>47</cp:revision>
  <dc:subject/>
  <dc:title>ЛЕКЦІЯ № 4 Тема: Типи. Жанри промов</dc:title>
</cp:coreProperties>
</file>