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DEE-6CD6-41D3-BAFB-A53926CA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46D-35B4-4C23-93F8-CE228EA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60B-5D03-45B6-BEA0-B7617D60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33D-DE10-49C7-835C-E474B414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8FAC-53E5-401F-9AE9-4236F503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E2D5-FDEC-4B4B-B842-E499B51A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ACA-39B3-48EE-AEDD-65756573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8189-6BA6-40D7-B33D-7127F236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01A0-D38C-4F76-AB80-E5B5CEB8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0711-834C-4CF8-AF41-92A8383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6DEA-092F-4631-9642-E3F09058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E08-90C1-4DE4-8547-F7EEC174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7168-8DB1-41F1-8799-DFA8453D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D9E9-30FB-48E9-AECC-6F262D6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CE2C-92AA-46C1-B0FF-944A3756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5097-999D-45C4-94EF-456DCB81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D759-2CB2-4F67-9C88-8DEB312C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20B-940D-4055-A0CA-28BBA253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5A8-9EC2-4387-9C07-56CBEC5D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532-AAD4-4D15-BAAA-C2CC95B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C77-B92F-4453-88A6-B4BCF61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252-C7F5-4757-BFCE-F0B4AA4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145-960D-42DD-95E6-325C2D2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B77-5DB6-4C33-B8ED-931F719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82F-81F6-404C-91AD-996DCC1478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E808-7524-44A0-8D24-82388D2CA1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7920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РИМІНАЛІС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тоди криміналіст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чення про методи криміналістики - суттєвий елемент її методологічних основ, розділ загальної теорії криміналістичної науки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ЛАСИФІКАЦІЯ МЕТОДІВ КРИМІНАЛІ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методи діалектичної і формальної логі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загальнонаукові мет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спеціальні методи криміналі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тоди діалектичної і формальної логі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аналіз і синтез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індукція і дедукція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конкретизація і абстрагування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аналогія, версія тощ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Використання цих методів забезпечує правильність мислення за формою, отримання нових знань за сутніст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гальнонаукові методи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постереже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пис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рівня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имірюва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ксперимен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делювання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атематичні метод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пеціальні методи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789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користовуються для вирішення її завдань та поділяються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хніко-криміналістичні мет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дентифікаційні мето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Джерелом формування криміналістичних методів є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иродні нау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хнічні нау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лідча прак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удова прак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кспертна практи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Спеціальні методи криміналістики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2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жуть бути розподілені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) методи науки криміналіст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2) методи практичної діяльності (які безпосередньо використовуються оперативно-розшуковими працівниками, слідчими, прокурорами, суддям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риміналістика 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400" spc="-1" strike="noStrike">
                <a:solidFill>
                  <a:srgbClr val="000000"/>
                </a:solidFill>
                <a:latin typeface="Arial"/>
              </a:rPr>
              <a:t>це наука про закономірності злочинної діяльності та її відображення в джерелах інформації, які слугують основою для розробки засобів, прийомів і методів збирання, дослідження, оцінки і використання доказів з метою розкриття, розслідування, судового розгляду та попередження злочині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вдання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прияти своїми прийомами, методами і засобами справі боротьби зі злочинністю. Найбільш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агальним завданням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криміналістики є забезпечення швидкого і повного розкриття злочинів, викриття винних, запобігання та припинення усіх кримінально караних посяган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ffffff"/>
                </a:solidFill>
                <a:latin typeface="Arial"/>
              </a:rPr>
              <a:t>Специфічні завдання криміналістик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вивчення закономірностей, які становлять предмет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розробка технічних засобів, тактичних прийомів і методичних рекомендацій щодо збирання, дослідження і використання доказів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удосконалення тактичних і методичних основ досудового і судового слідства, основ судової експерти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) удосконалення криміналістичних методів попередження злочи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) вивчення можливості використання зарубіжного досвіду в боротьбі зі злочинніст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истема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е складові її розділи (частини), які мають поміж собою стійкі, взаємопов’язані зв’язки та мають тісне сплеті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системі криміналістики виділяють чотири розділ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загальна теорія криміналі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криміналістична техні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криміналістична так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) криміналістична метод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гальна теорія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е її методологічна основа, яка являє собою систему принципів, концепцій, категорій, понять, методів, що відбивають предмет криміналістики як ці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і елементи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) вступ до загальної теорії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) окремі криміналістичні теорі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) вчення про методи криміналі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) вчення про мову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) криміналістична систематика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риміналістична техніка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діл криміналістики, що є системою наукових положень і розроблюваних на їх основі технічних засобів, прийомів і методів, призначених для збирання, дослідження і використання доказ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І ГАЛУЗІ КРИМІНАЛІСТИЧНОЇ ТЕХНІ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удова фотографія; судовий кіно- і відеозапис; трасологія; судова балістика; криміналістичне дослідження письма; техніко-криміналістичне дослідження документів; криміналістичне ототожнення особи за ознаками зовнішності; кримінальна реєстра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риміналістична так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78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розділ криміналістики, який являє собою систему наукових положень і розроблюваних на їх основі рекомендацій щодо організації і планування досудового і судового слідства, визначення лінії поведінки осіб, які здійснюють судове дослідження, щодо прийомів проведення слідчих та судових дій, спрямованих на збирання і дослідження доказів, на встановлення обставин, що сприяють вчиненню і прихованню злочин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ДО СКЛАДУ КРИМІНАЛІСТИЧНОЇ ТАКТИКИ ВХОДЯТЬ: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учення про криміналістичну версію і планування розслідування, концепція слідчої ситуації, тактичного рішення і тактичного ризику, системи тактичних прийомів проведення слідчих і судових дій (тактичні комбінації) та і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Криміналістична метод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діл криміналістики, який являє собою систему наукових положень і розроблюваних на їх основі рекомендацій щодо організації і здійснення розслідування і запобігання окремим видам злочині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міст криміналістичної методики становлять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загальні положе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(криміналістична класифікація злочинів, криміналістична характеристика злочинів, криміналістичне вчення про розкриття злочинів, проблеми взаємодії під час розслідування та ін.) і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окремі криміналістичні методики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(методики розслідування крадіжок, грабежів, розбоїв, убивств, зґвалтувань тощо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8:14:09Z</dcterms:created>
  <dc:creator>User</dc:creator>
  <dc:description/>
  <dc:language>en-US</dc:language>
  <cp:lastModifiedBy>Admin</cp:lastModifiedBy>
  <dcterms:modified xsi:type="dcterms:W3CDTF">2014-03-14T12:17:53Z</dcterms:modified>
  <cp:revision>227</cp:revision>
  <dc:subject/>
  <dc:title>ОГЛЯД МІСЦЯ ПОДІЇ</dc:title>
</cp:coreProperties>
</file>