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462-02F7-403F-928C-424E50BC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BAB-DF6A-4771-A3AB-CEB56084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D12-319E-46F5-AAF3-DC8CA253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A47-2991-4278-85FA-6C3AB696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A7B0-B297-487C-80A8-4623F5E2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445E-2C59-4061-BF21-E389A602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4370-EA3F-40EE-864E-61000EE1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B36E-65B0-43D1-90EC-E7716FA0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B8F6-2967-4247-89FE-7CABF1E7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E500-4897-4A43-9674-DB276FDA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C2D0-4C45-4CEB-AE98-D2E5056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EB3-FD87-4CE8-A862-2F0A112F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D3CE-53B2-4B5E-A607-9257D75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DD6E-F610-4496-AC0C-174620F7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A01D-8C75-4D45-A0C3-9B474C0F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0483-1A26-4F06-82A0-4019A1A7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ABD8-300F-4EBE-899D-600D5BAB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4BB-EEA7-4FD6-B9CD-BB451725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0CD-2C12-4AE6-94DD-872C572C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655-9640-4243-8FDD-9BD31350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E9A-160E-4DFD-8EEF-F1B81EE9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A3B-21BB-4E68-90B6-37BC058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242-D728-46CB-B714-ADC94973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EB80-D4B6-436A-BF85-E7335DE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0541-3130-4DEE-8EEE-959C8A3F0F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91D7-F324-4C1C-B9DB-E64727FB76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792000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РИМІНАЛІС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етоди криміналісти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чення про методи криміналістики - суттєвий елемент її методологічних основ, розділ загальної теорії криміналістичної науки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ЛАСИФІКАЦІЯ МЕТОДІВ КРИМІНАЛІ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методи діалектичної і формальної логі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загальнонаукові мет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 спеціальні методи криміналі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етоди діалектичної і формальної логік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аналіз і синтез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індукція і дедукція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конкретизація і абстрагування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аналогія, версія тощ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Використання цих методів забезпечує правильність мислення за формою, отримання нових знань за сутністю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гальнонаукові методи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постереже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пис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рівня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вимірюва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експеримен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оделювання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атематичні метод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Спеціальні методи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789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користовуються для вирішення її завдань та поділяються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хніко-криміналістичні мето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дентифікаційні мето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Arial"/>
              </a:rPr>
              <a:t>Джерелом формування криміналістичних методів є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риродні нау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технічні нау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лідча практи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удова практи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експертна практи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Arial"/>
              </a:rPr>
              <a:t>Спеціальні методи криміналістики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2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можуть бути розподілені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1) методи науки криміналіст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2) методи практичної діяльності (які безпосередньо використовуються оперативно-розшуковими працівниками, слідчими, прокурорами, суддям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Криміналістика -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3400" spc="-1" strike="noStrike">
                <a:solidFill>
                  <a:srgbClr val="000000"/>
                </a:solidFill>
                <a:latin typeface="Arial"/>
              </a:rPr>
              <a:t>це наука про закономірності злочинної діяльності та її відображення в джерелах інформації, які слугують основою для розробки засобів, прийомів і методів збирання, дослідження, оцінки і використання доказів з метою розкриття, розслідування, судового розгляду та попередження злочині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вдання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сприяти своїми прийомами, методами і засобами справі боротьби зі злочинністю. Найбільш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агальним завданням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криміналістики є забезпечення швидкого і повного розкриття злочинів, викриття винних, запобігання та припинення усіх кримінально караних посягань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ffffff"/>
                </a:solidFill>
                <a:latin typeface="Arial"/>
              </a:rPr>
              <a:t>Специфічні завдання криміналістики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вивчення закономірностей, які становлять предмет криміналі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розробка технічних засобів, тактичних прийомів і методичних рекомендацій щодо збирання, дослідження і використання доказів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 удосконалення тактичних і методичних основ досудового і судового слідства, основ судової експерти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) удосконалення криміналістичних методів попередження злочи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) вивчення можливості використання зарубіжного досвіду в боротьбі зі злочинніст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Система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це складові її розділи (частини), які мають поміж собою стійкі, взаємопов’язані зв’язки та мають тісне сплеті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 системі криміналістики виділяють чотири розділ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) загальна теорія криміналі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) криміналістична техні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) криміналістична так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) криміналістична метод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Загальна теорія криміналі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це її методологічна основа, яка являє собою систему принципів, концепцій, категорій, понять, методів, що відбивають предмет криміналістики як ці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і елементи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) вступ до загальної теорії криміналі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) окремі криміналістичні теорії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) вчення про методи криміналі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) вчення про мову криміналіст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) криміналістична систематика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Криміналістична техніка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діл криміналістики, що є системою наукових положень і розроблюваних на їх основі технічних засобів, прийомів і методів, призначених для збирання, дослідження і використання доказ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І ГАЛУЗІ КРИМІНАЛІСТИЧНОЇ ТЕХНІ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удова фотографія; судовий кіно- і відеозапис; трасологія; судова балістика; криміналістичне дослідження письма; техніко-криміналістичне дослідження документів; криміналістичне ототожнення особи за ознаками зовнішності; кримінальна реєстрац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Криміналістична так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78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розділ криміналістики, який являє собою систему наукових положень і розроблюваних на їх основі рекомендацій щодо організації і планування досудового і судового слідства, визначення лінії поведінки осіб, які здійснюють судове дослідження, щодо прийомів проведення слідчих та судових дій, спрямованих на збирання і дослідження доказів, на встановлення обставин, що сприяють вчиненню і прихованню злочині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ДО СКЛАДУ КРИМІНАЛІСТИЧНОЇ ТАКТИКИ ВХОДЯТЬ:</a:t>
            </a:r>
            <a:r>
              <a:rPr b="0" lang="uk-UA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200" spc="-1" strike="noStrike">
                <a:solidFill>
                  <a:srgbClr val="000000"/>
                </a:solidFill>
                <a:latin typeface="Arial"/>
              </a:rPr>
              <a:t>учення про криміналістичну версію і планування розслідування, концепція слідчої ситуації, тактичного рішення і тактичного ризику, системи тактичних прийомів проведення слідчих і судових дій (тактичні комбінації) та і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28600"/>
            <a:ext cx="7670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Криміналістична метод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діл криміналістики, який являє собою систему наукових положень і розроблюваних на їх основі рекомендацій щодо організації і здійснення розслідування і запобігання окремим видам злочині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міст криміналістичної методики становлять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загальні положення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(криміналістична класифікація злочинів, криміналістична характеристика злочинів, криміналістичне вчення про розкриття злочинів, проблеми взаємодії під час розслідування та ін.) і 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окремі криміналістичні методики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(методики розслідування крадіжок, грабежів, розбоїв, убивств, зґвалтувань тощо)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8:14:09Z</dcterms:created>
  <dc:creator>User</dc:creator>
  <dc:description/>
  <dc:language>en-US</dc:language>
  <cp:lastModifiedBy>Admin</cp:lastModifiedBy>
  <dcterms:modified xsi:type="dcterms:W3CDTF">2014-03-14T12:17:53Z</dcterms:modified>
  <cp:revision>227</cp:revision>
  <dc:subject/>
  <dc:title>ОГЛЯД МІСЦЯ ПОДІЇ</dc:title>
</cp:coreProperties>
</file>