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763-4BE5-4CDD-94A1-195D8EE6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AAF-5207-44F7-B72A-D3BC3580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325-46D4-44B1-8753-3CB76944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785-67CD-4631-85C6-774BC4ED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7680-ECD4-458B-95FE-83BA861D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ADDE-DC74-4F1C-AE75-7936393B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541B-9C1C-4CAB-905A-1DD034F4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7CB6-96BA-487A-B3EC-14633975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A3AE-3DB9-46EF-9789-AEB84DF8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2068-6C0A-47A3-9407-53C79334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323A-1C91-4688-8DA7-CAA2553F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30D-755C-4F0E-AC40-852073D3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67C4-B9D6-4235-9107-0029333C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A859-8BBA-4288-96A6-5C06B09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EE93-4178-4F62-8F70-E4818162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C1FE-BFF4-411F-B1F3-9E0039DD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4B2C-A635-437F-BCD1-43BD3CAF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46B-B7F9-4C1D-AE63-27BCE068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17E-6652-464D-ACB9-3F4D64AA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B76-578D-4626-A69F-6E153E7A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0EA-3D15-4830-B635-6A65610A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339-0DC2-47F2-B708-95C258A3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CD6-CD05-4B73-BC4B-D3D756B7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CF0-9EF3-4670-93FD-CBE32308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6C5-BB4C-4223-923E-2F9138046B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1752-7679-40A2-9F16-07613C738E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79200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РИМІНАЛІС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Методи криміналісти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чення про методи криміналістики - суттєвий елемент її методологічних основ, розділ загальної теорії криміналістичної науки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КЛАСИФІКАЦІЯ МЕТОДІВ КРИМІНАЛІ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 методи діалектичної і формальної логі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 загальнонаукові мет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 спеціальні методи криміналі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Методи діалектичної і формальної логі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аналіз і синтез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індукція і дедукція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конкретизація і абстрагування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аналогія, версія тощ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Використання цих методів забезпечує правильність мислення за формою, отримання нових знань за сутніст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гальнонаукові методи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постережен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пис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рівнян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имірюван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експеримен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оделювання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атематичні метод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Спеціальні методи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789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користовуються для вирішення її завдань та поділяються 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хніко-криміналістичні мето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дентифікаційні мето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Arial"/>
              </a:rPr>
              <a:t>Джерелом формування криміналістичних методів є: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риродні нау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ехнічні нау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лідча практи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удова практи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кспертна практи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Arial"/>
              </a:rPr>
              <a:t>Спеціальні методи криміналістики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2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ожуть бути розподілені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1) методи науки криміналісти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2) методи практичної діяльності (які безпосередньо використовуються оперативно-розшуковими працівниками, слідчими, прокурорами, суддям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Криміналістика 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3400" spc="-1" strike="noStrike">
                <a:solidFill>
                  <a:srgbClr val="000000"/>
                </a:solidFill>
                <a:latin typeface="Arial"/>
              </a:rPr>
              <a:t>це наука про закономірності злочинної діяльності та її відображення в джерелах інформації, які слугують основою для розробки засобів, прийомів і методів збирання, дослідження, оцінки і використання доказів з метою розкриття, розслідування, судового розгляду та попередження злочині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вдання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прияти своїми прийомами, методами і засобами справі боротьби зі злочинністю. Найбільш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загальним завданням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криміналістики є забезпечення швидкого і повного розкриття злочинів, викриття винних, запобігання та припинення усіх кримінально караних посягань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ffffff"/>
                </a:solidFill>
                <a:latin typeface="Arial"/>
              </a:rPr>
              <a:t>Специфічні завдання криміналістик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 вивчення закономірностей, які становлять предмет криміналі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 розробка технічних засобів, тактичних прийомів і методичних рекомендацій щодо збирання, дослідження і використання доказів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 удосконалення тактичних і методичних основ досудового і судового слідства, основ судової експерти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) удосконалення криміналістичних методів попередження злочи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) вивчення можливості використання зарубіжного досвіду в боротьбі зі злочинніст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Система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це складові її розділи (частини), які мають поміж собою стійкі, взаємопов’язані зв’язки та мають тісне сплеті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 системі криміналістики виділяють чотири розділ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 загальна теорія криміналі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 криміналістична техні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 криміналістична так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) криміналістична метод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гальна теорія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це її методологічна основа, яка являє собою систему принципів, концепцій, категорій, понять, методів, що відбивають предмет криміналістики як ці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і елементи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) вступ до загальної теорії криміналі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) окремі криміналістичні теорії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) вчення про методи криміналі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) вчення про мову криміналі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) криміналістична систематика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Криміналістична техніка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діл криміналістики, що є системою наукових положень і розроблюваних на їх основі технічних засобів, прийомів і методів, призначених для збирання, дослідження і використання доказ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І ГАЛУЗІ КРИМІНАЛІСТИЧНОЇ ТЕХНІ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удова фотографія; судовий кіно- і відеозапис; трасологія; судова балістика; криміналістичне дослідження письма; техніко-криміналістичне дослідження документів; криміналістичне ототожнення особи за ознаками зовнішності; кримінальна реєстра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Криміналістична так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78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розділ криміналістики, який являє собою систему наукових положень і розроблюваних на їх основі рекомендацій щодо організації і планування досудового і судового слідства, визначення лінії поведінки осіб, які здійснюють судове дослідження, щодо прийомів проведення слідчих та судових дій, спрямованих на збирання і дослідження доказів, на встановлення обставин, що сприяють вчиненню і прихованню злочині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ДО СКЛАДУ КРИМІНАЛІСТИЧНОЇ ТАКТИКИ ВХОДЯТЬ: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учення про криміналістичну версію і планування розслідування, концепція слідчої ситуації, тактичного рішення і тактичного ризику, системи тактичних прийомів проведення слідчих і судових дій (тактичні комбінації) та і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Криміналістична метод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діл криміналістики, який являє собою систему наукових положень і розроблюваних на їх основі рекомендацій щодо організації і здійснення розслідування і запобігання окремим видам злочині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міст криміналістичної методики становлять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загальні положення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(криміналістична класифікація злочинів, криміналістична характеристика злочинів, криміналістичне вчення про розкриття злочинів, проблеми взаємодії під час розслідування та ін.) і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окремі криміналістичні методики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(методики розслідування крадіжок, грабежів, розбоїв, убивств, зґвалтувань тощо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8:14:09Z</dcterms:created>
  <dc:creator>User</dc:creator>
  <dc:description/>
  <dc:language>en-US</dc:language>
  <cp:lastModifiedBy>Admin</cp:lastModifiedBy>
  <dcterms:modified xsi:type="dcterms:W3CDTF">2014-03-14T12:17:53Z</dcterms:modified>
  <cp:revision>227</cp:revision>
  <dc:subject/>
  <dc:title>ОГЛЯД МІСЦЯ ПОДІЇ</dc:title>
</cp:coreProperties>
</file>