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8158-03B4-4D6F-85C0-AAC346E7E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EB01-84AE-44B8-A4AF-FE237CE93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D61D-B24D-419F-B29C-3443926EA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F4EC-6927-4EA7-86F3-62D189AD1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1A1E5-E6FC-4CF0-8CD3-651B204F1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276F7-F85D-4793-938A-7E474D08A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B7798-64C7-4B08-BDEC-078535115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DC295-CCD8-412E-8C96-5DC273726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F3492-1C6E-451C-BC45-869AF54FB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F709E-B5E2-425D-B97F-B82CBDC43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B608C-0CA1-4030-BF96-567595E9B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AA3C-90B1-4E9C-A651-E2B85CEEC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0B7A2-84E6-4828-8D67-D6D963B2E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13A49-1B1A-43DF-908E-E4A6D8BF3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EA38A-EC98-49F9-A363-924A4096D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123A4-5C0F-480F-97AE-412B578C4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86E3D-BE20-4B91-8EC0-4BC6CA1B4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8C6180-EA31-4D75-9AC7-C1A9BD57F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90B7AC-5F7B-4C86-9345-9543345B3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1D0DC6-95E4-4B82-A5E3-FDD8AED1D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BB540B-51CA-4C99-967F-249BE5775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CB4B83-26B6-4193-B5EB-B174AA811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9871-DDA0-47BB-A15C-2032B042A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D042F8-0691-438F-BA30-66C3D9064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A140EE-A665-4FC8-BAF3-CB712DD0E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CC00BB-7FFE-40AB-90DC-240A9499B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D21D4E-E370-4F8E-883E-581CD309D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68CBF5-75B2-4BCF-9A56-469B54DC8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7AAE61-3AD5-4986-B730-A124A8896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5B22E4-2666-4AA7-A937-24F98977B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8B9A08-6E2E-45D7-B56D-F414383BD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248425-C2E4-4EAD-8A44-D1DBE0EAD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C7E4DE-50C7-44AD-9E39-5E37EBABD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A20C-7839-4160-80B4-271D2DEC2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A2DB87-D9CB-4EFC-BF24-D01DDE8C5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997256-CABF-4956-926F-B7998B0B3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0D5A5D-201C-4500-AE51-C55AB3526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F5E73B-03AB-4778-86D0-0D7D6F8C9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DCB358-782D-4095-8788-1E8D1741B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8A1A60-CC7A-426B-A2F4-CD98FE081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D85969-6BFA-4D39-923B-DF14A6A65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C88BF6-27BC-4B7F-A021-15B3F7B51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734628-151A-4683-A4E0-D95A2ADE3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1C18-E4C9-4343-975C-51FB3982B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2943-D225-4213-8797-47BD5C84A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8CE5-3AC3-475D-B590-22785A53C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D9A8-D5FE-4446-9C79-CE9699C49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1967-A9FC-49F6-99A9-20FE16177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E27B1-EC45-4EC8-80FB-D87F5DBB270A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0B8F2-0C23-4D9C-836A-1947F21FB09C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43FD8-B547-471A-AB93-507123179CDB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C8194-9817-42D2-B732-9508374509F8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1042920" y="1989000"/>
            <a:ext cx="712944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Сутність бренд-менеджменту.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ортфель брендів. Архітектура брендів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Стратегії розвитку бренду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15" name="Заголовок 1" descr=""/>
          <p:cNvPicPr/>
          <p:nvPr/>
        </p:nvPicPr>
        <p:blipFill>
          <a:blip r:embed="rId2"/>
          <a:stretch/>
        </p:blipFill>
        <p:spPr>
          <a:xfrm>
            <a:off x="1042920" y="384120"/>
            <a:ext cx="727236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Прямоугольник 3"/>
          <p:cNvSpPr/>
          <p:nvPr/>
        </p:nvSpPr>
        <p:spPr>
          <a:xfrm>
            <a:off x="868320" y="706320"/>
            <a:ext cx="7777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рактиці для характеристики портфеля брендів найчастіше застосовують варіанти архітектури марок (брендів), запропоновані видатним американським експертом Девідом Аакером, такі як: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use of Brands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будинок брендів) і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nded House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будинок-бренд, або брендований будинок)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ичним рішенням в рамках стратегії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nded House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є випуск всієї продукції підприємства під одним корпоративним брендом, а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use of Brands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впаки, використовує групу автономних брендів (мультибрендінг), які існують незалежно й орієнтовані на збільшення ринкової частки та максимізацію прибутку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900000" y="731880"/>
            <a:ext cx="73440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just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переваг моделі </a:t>
            </a:r>
            <a:r>
              <a:rPr b="1" i="1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nded House</a:t>
            </a:r>
            <a:r>
              <a:rPr b="1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дносять: перенесення знання і сприйняття бренду на нові товари, фокус маркетингових бюджетів на одному бренді, концентрація зусиль компаній в одному напрямку. Недоліки: загроза розмивання іміджу і сприйняття бренду.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вагами моделі </a:t>
            </a:r>
            <a:r>
              <a:rPr b="1" i="1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use of Brands</a:t>
            </a:r>
            <a:r>
              <a:rPr b="0" i="1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є: індивідуалізація кожного бренду і концентрація іміджу, відсутність залежності брендів один від одного (зниження ризику кризових ситуацій), можливість максимального використання потенціалу ринку шляхом охоплення великої кількості споживчих сегментів. Недоліки або загрози: збільшення маркетингового бюджету прямо пропорційно збільшенню кількості брендів, велика ймовірність перетинання цільових сегментів і, як наслідок, канібалізму брендів.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Канібалізм» брендів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ий бренд переманює споживачів старого бренду того ж підприємства, а не конкуруючих (перерозподіл споживачів). Це призводить до ослаблення позицій одного з брендів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100000"/>
              </a:lnSpc>
              <a:spcBef>
                <a:spcPts val="4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826920" y="731520"/>
            <a:ext cx="756144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3. Стратегії розвитку бренду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Розвиток бренду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– це збільшення сукупного марочного капіталу за допомогою охоплення більш широких груп споживачів, експансії в нові продукти і поширення впливу на нові ринки і/або категорії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У брендингу прийнято виділяти дві основні стратегії розвитку бренду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Brand extension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– розтягнення бренду, якщо при появі нового товару під тим же ім’ям залишаються незмінними товарна категорія, призначення, цільова аудиторія, ідентичність бренду, а змінюється лише вигода для споживача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1115640" y="1267920"/>
            <a:ext cx="7172280" cy="399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Основними видами розтягування марки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є: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ова кількість товару (розфасовка)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товар більшої кількості за колишню ціну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товар в новій упаковці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овий смак, склад, технологія виготовлення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ові вигоди і переваги для тих же споживачів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826920" y="731520"/>
            <a:ext cx="749016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just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Brand expansion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– розширення бренду, коли марка поширюється на новий сегмент споживачів або суміжну товарну категорію і ідентичність бренду при цьому залишається незмінною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Розширення бренду включає в себе наступні різновиди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ипуск товарів, що доповнюють базову марку (наприклад, зубні щітки на додаток до зубної пасти)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ова цільова аудиторія споживачів (наприклад, крем Nivea для чоловіків)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ове призначення товару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еренесення іміджу бренду на суміжну товарну категорію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Объект 3" descr=""/>
          <p:cNvPicPr/>
          <p:nvPr/>
        </p:nvPicPr>
        <p:blipFill>
          <a:blip r:embed="rId2"/>
          <a:stretch/>
        </p:blipFill>
        <p:spPr>
          <a:xfrm>
            <a:off x="1182600" y="731880"/>
            <a:ext cx="7139160" cy="4297320"/>
          </a:xfrm>
          <a:prstGeom prst="rect">
            <a:avLst/>
          </a:prstGeom>
          <a:ln w="0">
            <a:noFill/>
          </a:ln>
        </p:spPr>
      </p:pic>
      <p:sp>
        <p:nvSpPr>
          <p:cNvPr id="236" name="Прямоугольник 4"/>
          <p:cNvSpPr/>
          <p:nvPr/>
        </p:nvSpPr>
        <p:spPr>
          <a:xfrm>
            <a:off x="118728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. 4.3 Стратегічний розвиток портфеля брендів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684000" y="731880"/>
            <a:ext cx="784836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Розтягування і розширення бренду мають ряд переваг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якщо бренд має сильні позиції, у нього створені відносини довіри і лояльності, то ці якості бренду споживач переносить на нові товари під колишньою маркою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сування ряду товарів під однією маркою дозволяє заощадити кошти, використовуючи загальні канали дистрибуції і просування товару (реклама в ЗМІ, виставки і спеціальні заходи, BTL-реклама, заходи щодо стимулювання збуту і т.п.)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иведення нового товару під старою маркою займає істотно менше часу і зберігає кошти на його розробку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 недоліків або обмежень застосування даної стратегії відносяться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розмивання бренду в свідомості споживачів, спочатку сфокусованого на одній товарній категорії, одному призначенні, одній пропозиції покупцям, одній вигоді і конкретних перевагах по відношенню до конкурентних брендів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трачена репутація, повага і підірвана довіра до одного виду товару автоматично пошириться на все марочне сімейство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611280" y="731880"/>
            <a:ext cx="792144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Умови застосування стратегії розвитку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1. Розширення бренду не повинно змінювати його ідентичність, інакше споживачі можуть не впізнати марку в той момент, коли треба робити вибір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2. Не можна розширювати бренд на більш низькі цінові ніші. Споживачі сприймають це як «демарш батьківського бренду в напрямку погіршення якості»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3. Master-brand (марка, яка занадто міцно асоціюється з будь-якою товарною категорією) не може бути розширена на інші категорії: споживачі просто не сприймають подібні розширення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4. Розширення життєздатне лише в тому випадку, якщо воно посилює марку або, як мінімум, не шкодить їй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5. Якщо на ринку занадто високий рівень конкуренції, то виграє дуже чітко сфокусований новий бренд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6. Рішення про розширення бренду має прийматися, коли він уже зайняв гідну частку ринку і придбав лояльних покупців. Мінімальний показник популярності марки серед цільової аудиторії, за оцінками експертів, має становити не менше 50%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Заголовок 1" descr=""/>
          <p:cNvPicPr/>
          <p:nvPr/>
        </p:nvPicPr>
        <p:blipFill>
          <a:blip r:embed="rId2"/>
          <a:stretch/>
        </p:blipFill>
        <p:spPr>
          <a:xfrm>
            <a:off x="1116000" y="560520"/>
            <a:ext cx="6912000" cy="75060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 txBox="1"/>
          <p:nvPr/>
        </p:nvSpPr>
        <p:spPr>
          <a:xfrm>
            <a:off x="1115640" y="1341360"/>
            <a:ext cx="720108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енд-менеджмент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це управління, управлінська діяльність, предметом якої в умовах маркетингової орієнтації виступає бренд підприємства, який складається з бренду товару та іміджу підприємства.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енд-менеджмент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діяльність з управління брендами відповідно до поставлених цілей (зокрема, збільшення довгострокового споживчого капіталу бренду, вартості бренду, захисту позицій інших брендів тощо).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100000"/>
              </a:lnSpc>
              <a:spcBef>
                <a:spcPts val="6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Заголовок 1" descr=""/>
          <p:cNvPicPr/>
          <p:nvPr/>
        </p:nvPicPr>
        <p:blipFill>
          <a:blip r:embed="rId2"/>
          <a:stretch/>
        </p:blipFill>
        <p:spPr>
          <a:xfrm>
            <a:off x="1116000" y="414360"/>
            <a:ext cx="7272360" cy="749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9" name=""/>
          <p:cNvGraphicFramePr/>
          <p:nvPr/>
        </p:nvGraphicFramePr>
        <p:xfrm>
          <a:off x="900000" y="1052640"/>
          <a:ext cx="7632720" cy="4962240"/>
        </p:xfrm>
        <a:graphic>
          <a:graphicData uri="http://schemas.openxmlformats.org/drawingml/2006/table">
            <a:tbl>
              <a:tblPr/>
              <a:tblGrid>
                <a:gridCol w="1843200"/>
                <a:gridCol w="2846520"/>
                <a:gridCol w="2943000"/>
              </a:tblGrid>
              <a:tr h="236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зна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ична концепці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цепція бренд-лідерст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 тактичного бренд-менеджменту до стратегічн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6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спекти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ктична і реагуюч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атегічна та прозо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тус бренд-менедже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повідальність за короткострокові прогр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повідальність за довгострокові прогр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цептуальна мод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Імідж брен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пітал брен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ку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откострокові фінансові показн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вгострокові фінансові показн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 обмеженого фокусу до широкого фокусу використання брен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6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аниці брен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дин продукт і рин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лика кількість продуктів і ринкі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ількість бренді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кусування на одному бренд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кусування на великій кількості бренді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ографічні границі брен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дна краї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обальна перспекти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унікативна роль бренд-менедже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ординатор з обмеженими можливостя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ідер команди із великою кількістю комунікативних можливос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унікативний фоку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овнішній (споживачі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к зовнішній (споживачі) так і внутрішній (організація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дуча стратегія – від продажу до ідентичності брен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6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дуча стратегі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ажі і частка ринк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Ідентичність брен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999"/>
          <p:cNvPicPr/>
          <p:nvPr/>
        </p:nvPicPr>
        <p:blipFill>
          <a:blip r:embed="rId2"/>
          <a:stretch/>
        </p:blipFill>
        <p:spPr>
          <a:xfrm>
            <a:off x="1619280" y="404640"/>
            <a:ext cx="5905440" cy="5688360"/>
          </a:xfrm>
          <a:prstGeom prst="rect">
            <a:avLst/>
          </a:prstGeom>
          <a:ln w="0">
            <a:noFill/>
          </a:ln>
        </p:spPr>
      </p:pic>
      <p:sp>
        <p:nvSpPr>
          <p:cNvPr id="221" name="Прямоугольник 3"/>
          <p:cNvSpPr/>
          <p:nvPr/>
        </p:nvSpPr>
        <p:spPr>
          <a:xfrm>
            <a:off x="1763640" y="6093000"/>
            <a:ext cx="57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. 4.1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Модель бренд-менеджменту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Заголовок 1" descr=""/>
          <p:cNvPicPr/>
          <p:nvPr/>
        </p:nvPicPr>
        <p:blipFill>
          <a:blip r:embed="rId2"/>
          <a:stretch/>
        </p:blipFill>
        <p:spPr>
          <a:xfrm>
            <a:off x="1042920" y="549360"/>
            <a:ext cx="7345440" cy="750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3" name=""/>
          <p:cNvGraphicFramePr/>
          <p:nvPr/>
        </p:nvGraphicFramePr>
        <p:xfrm>
          <a:off x="826920" y="1793880"/>
          <a:ext cx="7705800" cy="4083120"/>
        </p:xfrm>
        <a:graphic>
          <a:graphicData uri="http://schemas.openxmlformats.org/drawingml/2006/table">
            <a:tbl>
              <a:tblPr/>
              <a:tblGrid>
                <a:gridCol w="2135520"/>
                <a:gridCol w="5570280"/>
              </a:tblGrid>
              <a:tr h="2556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вто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значення поняття «портфель брендів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5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. Ааке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і бренди або суббренди, приєднані до ринково-орієнтованих пропозицій продукту, враховуючи спільні бренди з іншими фірмам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65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.-Н. Капфере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бінації міжнародних та локальних, слабких та сильних, нових та зрілих брендів; відповідь на особливі цілі домінування у товарній категорії, створення бар’єрів на шляху проникнення конкурентів у мережу розподілення, привертання уваги та формування лояльності споживачі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5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. Котле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інка становища всіх «виробництв», котрі входять до складу фірми (під «виробництвом» можна розуміти товарний асортимент, бренди, відділи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. Ванеке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купність брендів та суббрендів, які належать одній організації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7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. Зозуль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купність усіх торгових марок та марочних ліній, котрі пропонує підприємство в рамках певної товарної категорії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4" name="Rectangle 1"/>
          <p:cNvSpPr/>
          <p:nvPr/>
        </p:nvSpPr>
        <p:spPr>
          <a:xfrm>
            <a:off x="971640" y="1128240"/>
            <a:ext cx="720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із літературних джерел щодо визначення поняття «портфель брендів»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Прямоугольник 3"/>
          <p:cNvSpPr/>
          <p:nvPr/>
        </p:nvSpPr>
        <p:spPr>
          <a:xfrm>
            <a:off x="826920" y="765000"/>
            <a:ext cx="7632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тфель брендів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це поєднання брендів або суббрендів у портфелі підприємства, які структуровані за певною ознакою, орієнтовані на різні цільові групи і цінові сегменти та здатні адаптуватися під ринкову ситуацію з метою забезпечення конкурентної стійкості на ринку, привернення уваги та формування позитивного іміджу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хітектура брендів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це система організації та управління торговими марками компанії, з якими вона вийшла на ринок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хітектура брендів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значення ролі кожного бренда і системи відношень між брендами в рамках портфеля однієї компанії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Прямоугольник 3"/>
          <p:cNvSpPr/>
          <p:nvPr/>
        </p:nvSpPr>
        <p:spPr>
          <a:xfrm>
            <a:off x="1042920" y="981000"/>
            <a:ext cx="75614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ворення архітектури брендів складається з чотирьох основних етапів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значення ролі кожного бренду всередині портфеля;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значення ролі кожного бренду в контексті «продукт-ринок»;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портфеля;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ічне і вербальне втілення архітектури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Прямоугольник 3"/>
          <p:cNvSpPr/>
          <p:nvPr/>
        </p:nvSpPr>
        <p:spPr>
          <a:xfrm>
            <a:off x="826920" y="692280"/>
            <a:ext cx="76327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ндидат на ліквідацію» (divestment candidate)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це бренд зі слабким позиціонуванням на непривабливому ринку або розходиться зі стратегічним напрямком розвитку фірми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Дійна корова» (milker)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це бренд, що володіє, незважаючи на «втому», досить реальною силою. В зв’язку з тим, що на підтримку такого бренду витрачатися мінімум коштів, він може стати стабільним джерелом фінансування інших брендів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тратегічний бренд»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марочний товар, важливий для вирішення майбутніх завдань організації. По-перше, якщо він здатний забезпечити вагомий обсяг майбутніх продажів і прибутків. Ймовірно, це вже зараз потужний домінуючий бренд, для якого плануються утримання і розширення позицій; або це другорядний бренд, який слід вивести на роль головного. По-друге, коли це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бренд-опора» (lincpin)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здатний стати елементом, на якому тримається вся структура бізнесу або ґрунтується майбутній напрямок розвитку фірми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8" name=""/>
          <p:cNvGraphicFramePr/>
          <p:nvPr/>
        </p:nvGraphicFramePr>
        <p:xfrm>
          <a:off x="1042920" y="965160"/>
          <a:ext cx="7404120" cy="4489560"/>
        </p:xfrm>
        <a:graphic>
          <a:graphicData uri="http://schemas.openxmlformats.org/drawingml/2006/table">
            <a:tbl>
              <a:tblPr/>
              <a:tblGrid>
                <a:gridCol w="2468520"/>
                <a:gridCol w="2467080"/>
                <a:gridCol w="2468520"/>
              </a:tblGrid>
              <a:tr h="119700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точна віддача низь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точна віддача висо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9160"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спективний (високий потенціал майбутнього прибутку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енд-опора (lincpin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атегічний брен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3400"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откострокова або низька перспектива зростанн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ндидат на ліквідацію (divestment candidat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енд-дійна корова (milker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9" name="Rectangle 1"/>
          <p:cNvSpPr/>
          <p:nvPr/>
        </p:nvSpPr>
        <p:spPr>
          <a:xfrm>
            <a:off x="922320" y="5446080"/>
            <a:ext cx="75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. 4.2 Ролі провідних брендів в портфелі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5T15:45:23Z</dcterms:created>
  <dc:creator>Dvyhun</dc:creator>
  <dc:description/>
  <dc:language>en-US</dc:language>
  <cp:lastModifiedBy>Olya</cp:lastModifiedBy>
  <dcterms:modified xsi:type="dcterms:W3CDTF">2019-02-26T06:45:09Z</dcterms:modified>
  <cp:revision>10</cp:revision>
  <dc:subject/>
  <dc:title>Тема 4. Бренд-менеджмент</dc:title>
</cp:coreProperties>
</file>