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ACD0-BB7C-405C-9B75-AD8C95D3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9D9D-052D-40C2-AE33-A407444E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4B10-570A-415F-851A-5D780137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6D53-99F9-40E4-A14A-7741C3D7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3C17-7C02-48AA-A039-9902D38E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DCE9-5449-4DB1-A985-E9D4A78D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5D89-F742-4C9F-8B1F-8AAF84DC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CF0F-AE12-4BC6-909C-62497E29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3B75-589A-42CE-94CF-2E3099D2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321C-640E-4B58-8AA9-2C0B2109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597E-C773-43AD-AA13-FE083958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7510-BEAC-4711-98E8-C3A1CFD8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AC2E-2E56-4C11-B30A-E05103FD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1EDB-A564-4CAC-97EA-DB2D40FB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EA82-2934-416A-96FD-3C2D6AE1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F80B-CBF3-448C-BE99-4532B142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B92B-40FB-408D-B44E-51F36C51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67FD1-FC79-45B1-BACE-03EDE54F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D7B13-E92F-4047-A7B3-3DE59FB3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F644E-56DA-45EB-9759-F7BF9B90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311A8-EC2C-41DA-97DD-CDBEDAEB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CB5C3-DC7B-44E6-A57F-D9A0E132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9A9D-6A8D-4159-AF8E-96BD2447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57245-5FA8-4D2E-9A9B-924A47FF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E5A50-2208-433C-8A8B-3FAAE8E8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E5440-9D40-4FB6-972F-B31AD440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170C4-0933-435A-8E43-47D77CFC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B0EFA-7430-4A30-B97B-EAC599CB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406FD-C39D-4EAF-9014-560463E6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1B15E-8980-4646-89FF-B7AF88AB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07CEE-0FC3-4CB7-A303-EE6460B8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0AC89-61CE-4B5A-A45A-58844E2D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531C8-6C4B-4C3F-839C-AE08C85C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C63-713E-4F75-B58B-55B32616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A2F5A-EDF7-4C15-9771-47BB280B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74BDC-7C1A-4643-BEE7-9D4397A0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FF077-1129-4CCE-BBEA-737D2B10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CCAFE-932B-41C1-9C10-93B32457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FDA14-CE5E-4544-AF06-5D0F520C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ABFB3-7848-43F9-90E5-056AB2A9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22217-8448-420A-98CE-ED082B11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B5892-A70E-4D9E-BF0E-E248EA6E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8BA71-8043-4A39-94BD-62B7572A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BFE-367A-46FC-9954-5AA7D7E1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CB85-DC49-4DA2-858D-E7DF9184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DDC3-35F2-4473-828B-4005B9CA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AE8B-6AAE-4BA6-A913-BD0B455B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0320-3AC6-4951-951F-C26526C6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EF08-6980-4AD8-9369-216851F0872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E813-EBC2-4270-B860-07AA287A8BED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D97C-DBC7-4A30-8F2E-41B945E8C15C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78BE-0A92-4BA2-975B-2742EC6431A9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2920" y="198900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тність бренд-менеджмент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ртфель брендів. Архітектура бренд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ратегії розвитку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384120"/>
            <a:ext cx="727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868320" y="70632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ці для характеристики портфеля брендів найчастіше застосовують варіанти архітектури марок (брендів), запропоновані видатним американським експертом Девідом Аакером, такі як: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 брендів) 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-бренд, або брендований будинок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м рішенням в рамках стратегії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випуск всієї продукції підприємства під одним корпоративним брендом, 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паки, використовує групу автономних брендів (мультибрендінг), які існують незалежно й орієнтовані на збільшення ринкової частки та максимізацію прибутк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00000" y="731880"/>
            <a:ext cx="73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реваг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ять: перенесення знання і сприйняття бренду на нові товари, фокус маркетингових бюджетів на одному бренді, концентрація зусиль компаній в одному напрямку. Недоліки: загроза розмивання іміджу і сприйняття бренду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ами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: індивідуалізація кожного бренду і концентрація іміджу, відсутність залежності брендів один від одного (зниження ризику кризових ситуацій), можливість максимального використання потенціалу ринку шляхом охоплення великої кількості споживчих сегментів. Недоліки або загрози: збільшення маркетингового бюджету прямо пропорційно збільшенню кількості брендів, велика ймовірність перетинання цільових сегментів і, як наслідок, канібалізму бренді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нібалізм» брен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й бренд переманює споживачів старого бренду того ж підприємства, а не конкуруючих (перерозподіл споживачів). Це призводить до ослаблення позицій одного з бренді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920" y="731520"/>
            <a:ext cx="756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Стратегії розвитку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виток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збільшення сукупного марочного капіталу за допомогою охоплення більш широких груп споживачів, експансії в нові продукти і поширення впливу на нові ринки і/або категорії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рендингу прийнято виділяти дві основні стратегії розвитку бренд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te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тягнення бренду, якщо при появі нового товару під тим же ім’ям залишаються незмінними товарна категорія, призначення, цільова аудиторія, ідентичність бренду, а змінюється лише вигода для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15640" y="1267920"/>
            <a:ext cx="717228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ими видами розтягування мар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є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кількість товару (розфасовка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більшої кількості за колишню цін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в новій упаковц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ий смак, склад, технологія виготовле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і вигоди і переваги для тих же споживач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26920" y="731520"/>
            <a:ext cx="7490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pa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ширення бренду, коли марка поширюється на новий сегмент споживачів або суміжну товарну категорію і ідентичність бренду при цьому залишається незмінн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ширення бренду включає в себе наступні різновид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пуск товарів, що доповнюють базову марку (наприклад, зубні щітки на додаток до зубної паст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цільова аудиторія споживачів (наприклад, крем Nivea для чоловіків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е призначення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есення іміджу бренду на суміжну товарну категорі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3" descr=""/>
          <p:cNvPicPr/>
          <p:nvPr/>
        </p:nvPicPr>
        <p:blipFill>
          <a:blip r:embed="rId2"/>
          <a:stretch/>
        </p:blipFill>
        <p:spPr>
          <a:xfrm>
            <a:off x="1182600" y="731880"/>
            <a:ext cx="7139160" cy="4297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118728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3 Стратегічний розвиток портфеля бренді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4000" y="73188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тягування і розширення бренду мають ряд переваг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що бренд має сильні позиції, у нього створені відносини довіри і лояльності, то ці якості бренду споживач переносить на нові товари під колишньою маркою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ування ряду товарів під однією маркою дозволяє заощадити кошти, використовуючи загальні канали дистрибуції і просування товару (реклама в ЗМІ, виставки і спеціальні заходи, BTL-реклама, заходи щодо стимулювання збуту і т.п.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ведення нового товару під старою маркою займає істотно менше часу і зберігає кошти на його розроб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недоліків або обмежень застосування даної стратегії відносять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мивання бренду в свідомості споживачів, спочатку сфокусованого на одній товарній категорії, одному призначенні, одній пропозиції покупцям, одній вигоді і конкретних перевагах по відношенню до конкурентних бренді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рачена репутація, повага і підірвана довіра до одного виду товару автоматично пошириться на все марочне сімейст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1280" y="731880"/>
            <a:ext cx="7921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застосування стратегії розвитку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зширення бренду не повинно змінювати його ідентичність, інакше споживачі можуть не впізнати марку в той момент, коли треба робити вибі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 можна розширювати бренд на більш низькі цінові ніші. Споживачі сприймають це як «демарш батьківського бренду в напрямку погіршення якості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Master-brand (марка, яка занадто міцно асоціюється з будь-якою товарною категорією) не може бути розширена на інші категорії: споживачі просто не сприймають подібні розширен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озширення життєздатне лише в тому випадку, якщо воно посилює марку або, як мінімум, не шкодить ї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Якщо на ринку занадто високий рівень конкуренції, то виграє дуже чітко сфокусований новий бренд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Рішення про розширення бренду має прийматися, коли він уже зайняв гідну частку ринку і придбав лояльних покупців. Мінімальний показник популярності марки серед цільової аудиторії, за оцінками експертів, має становити не менше 50%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912000" cy="750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15640" y="1341360"/>
            <a:ext cx="720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управління, управлінська діяльність, предметом якої в умовах маркетингової орієнтації виступає бренд підприємства, який складається з бренду товару та іміджу підприємства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іяльність з управління брендами відповідно до поставлених цілей (зокрема, збільшення довгострокового споживчого капіталу бренду, вартості бренду, захисту позицій інших брендів тощо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2"/>
          <a:stretch/>
        </p:blipFill>
        <p:spPr>
          <a:xfrm>
            <a:off x="1116000" y="414360"/>
            <a:ext cx="72723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900000" y="1052640"/>
          <a:ext cx="7632720" cy="4962240"/>
        </p:xfrm>
        <a:graphic>
          <a:graphicData uri="http://schemas.openxmlformats.org/drawingml/2006/table">
            <a:tbl>
              <a:tblPr/>
              <a:tblGrid>
                <a:gridCol w="1843200"/>
                <a:gridCol w="2846520"/>
                <a:gridCol w="2943000"/>
              </a:tblGrid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чна концеп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ція бренд-ліде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тактичного бренд-менеджменту до стратегіч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чна і реагую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а та про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коротк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довг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дж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обмеженого фокусу до широкого фокусу використання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продукт і р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 кількість продуктів і ри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одному бренд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великій кількості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і 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краї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ьна 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а роль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тор з обмеженими можлив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команди із великою кількістю комунікативних можлив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ий 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ій (споживач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зовнішній (споживачі) так і внутрішній (організ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 – від продажу до ідентичност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жі і частка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дентичність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999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5688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1763640" y="6093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1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ь бренд-менеджмент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3454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826920" y="1793880"/>
          <a:ext cx="7705800" cy="4083120"/>
        </p:xfrm>
        <a:graphic>
          <a:graphicData uri="http://schemas.openxmlformats.org/drawingml/2006/table">
            <a:tbl>
              <a:tblPr/>
              <a:tblGrid>
                <a:gridCol w="2135520"/>
                <a:gridCol w="557028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ення поняття «портфель бренді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Аак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бренди або суббренди, приєднані до ринково-орієнтованих пропозицій продукту, враховуючи спільні бренди з іншими фірм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-Н. Капфер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інації міжнародних та локальних, слабких та сильних, нових та зрілих брендів; відповідь на особливі цілі домінування у товарній категорії, створення бар’єрів на шляху проникнення конкурентів у мережу розподілення, привертання уваги та формування лояльності споживач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 Котл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становища всіх «виробництв», котрі входять до складу фірми (під «виробництвом» можна розуміти товарний асортимент, бренди, відділ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анек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брендів та суббрендів, які належать одній організа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Зозуль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усіх торгових марок та марочних ліній, котрі пропонує підприємство в рамках певної товарної категор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971640" y="11282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літературних джерел щодо визначення поняття «портфель брендів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3"/>
          <p:cNvSpPr/>
          <p:nvPr/>
        </p:nvSpPr>
        <p:spPr>
          <a:xfrm>
            <a:off x="826920" y="765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ель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оєднання брендів або суббрендів у портфелі підприємства, які структуровані за певною ознакою, орієнтовані на різні цільові групи і цінові сегменти та здатні адаптуватися під ринкову ситуацію з метою забезпечення конкурентної стійкості на ринку, привернення уваги та формування позитивного імідж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система організації та управління торговими марками компанії, з якими вона вийшла на ринок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а і системи відношень між брендами в рамках портфеля однієї компанії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1042920" y="98100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архітектури брендів складається з чотирьох основних етапі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середині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 контексті «продукт-ринок»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чне і вербальне втілення архітектур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826920" y="692280"/>
            <a:ext cx="763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на ліквідацію» (divestment candidate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 зі слабким позиціонуванням на непривабливому ринку або розходиться зі стратегічним напрямком розвитку фір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ійна корова» (milker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, що володіє, незважаючи на «втому», досить реальною силою. В зв’язку з тим, що на підтримку такого бренду витрачатися мінімум коштів, він може стати стабільним джерелом фінансування інших бренді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тегічний бренд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рочний товар, важливий для вирішення майбутніх завдань організації. По-перше, якщо він здатний забезпечити вагомий обсяг майбутніх продажів і прибутків. Ймовірно, це вже зараз потужний домінуючий бренд, для якого плануються утримання і розширення позицій; або це другорядний бренд, який слід вивести на роль головного. По-друге, коли це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енд-опора» (lincpin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датний стати елементом, на якому тримається вся структура бізнесу або ґрунтується майбутній напрямок розвитку фір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42920" y="965160"/>
          <a:ext cx="7404120" cy="4489560"/>
        </p:xfrm>
        <a:graphic>
          <a:graphicData uri="http://schemas.openxmlformats.org/drawingml/2006/table">
            <a:tbl>
              <a:tblPr/>
              <a:tblGrid>
                <a:gridCol w="2468520"/>
                <a:gridCol w="2467080"/>
                <a:gridCol w="2468520"/>
              </a:tblGrid>
              <a:tr h="119700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низ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вис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ий (високий потенціал майбутнього прибутк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опора (lincp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ий бре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а або низька перспектива зрос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на ліквідацію (divestment candida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дійна корова (milk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1"/>
          <p:cNvSpPr/>
          <p:nvPr/>
        </p:nvSpPr>
        <p:spPr>
          <a:xfrm>
            <a:off x="922320" y="54460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2 Ролі провідних брендів в портфел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15:45:23Z</dcterms:created>
  <dc:creator>Dvyhun</dc:creator>
  <dc:description/>
  <dc:language>en-US</dc:language>
  <cp:lastModifiedBy>Olya</cp:lastModifiedBy>
  <dcterms:modified xsi:type="dcterms:W3CDTF">2019-02-26T06:45:09Z</dcterms:modified>
  <cp:revision>10</cp:revision>
  <dc:subject/>
  <dc:title>Тема 4. Бренд-менеджмент</dc:title>
</cp:coreProperties>
</file>