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C5AED-65D6-463C-9200-A92D8B3F3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08863-14C5-429D-BA65-9118F4F12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B8C58-C8B9-4504-B771-801EDCE99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6574C-DF07-4511-B89C-A30700755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1C76C-6A3E-400B-B716-5F37A9899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5097F-86ED-403E-8FA1-A9B881DBD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2A8D1-3827-48A0-9030-AAAE291A9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C8115-0305-4375-AA9A-42775452A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44994-619B-4154-801B-E82F46508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23734-077C-4E0E-896A-56A19554F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8B84A-17D2-41EB-9797-789CB6B5C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55C45-786E-4B23-88A9-F11614B70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8CFDB-3876-48C6-98F1-F1CAA35BC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588EA-3E88-40BB-AE9D-D20BFFAB4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A186A-A79B-4257-9847-40417D81E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C5ED6-30B8-4601-ABEA-0F280F17B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9408B-00FE-4AA1-94DF-2B7DBC3EB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649F5E-D4C7-4058-85F3-AA3D32C81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C0B103-0A85-467E-8C54-83150BA5E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25750F-30F7-4295-BD8A-E5E374209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8D0505-B789-471E-9C13-E004D7C0F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263C85-621A-4B15-82A1-970AB56EB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36619-938D-420B-BF52-AF075430D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0C386A-2506-4D3A-860A-A02179008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305003-323E-4382-AAB3-C0CD6C4CB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903E7E-8353-43F8-8608-397ED92F2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589E7A-FBEC-4498-939C-452B9F954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031B7C-0532-4AAA-9ECA-293C10C44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91DFBF-1557-4239-ABA3-18E589C82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F715E6-5F58-4026-BEA1-7E7EBBF06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844098-5975-494C-A1D2-0D53BC572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59F833-713C-4179-8667-F1E6EC39A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E33E93-36E5-461E-A129-E1DB5E1F6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E0A7F-5C86-463E-A003-788C2A436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65BB6A-45A4-4221-B418-D7F74AF5D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B5D60B-17AD-4E43-941E-70F2E7C76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DB4E25-D648-4F35-835D-7D5044F55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0CFA46-1A69-4209-BFCF-6E54FE259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214EDD-3AEA-4CAB-BA64-9A78DF9B6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D8B936-F539-45A3-933A-4AAE624E8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23B38A-9BF5-439D-A9E3-310116B2E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6B58BD-A9B1-40AE-8D9F-00617EB30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227DED-00B5-4B7C-BF4B-0B1FF1F2E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60175-EF4D-4A5D-9F96-713ACC745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50E1E-606D-4FC4-BE7F-53539D5B5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4A2F6-6012-4EDF-B915-7B45E6B57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AA88A-1837-4C81-A054-B4E43D686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E279B-A889-4819-9CF3-81028FBFE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303ED-6B87-4902-BD89-4A0102D84CFF}" type="slidenum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2B3DF-8275-451D-983C-0F82D3659916}" type="slidenum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2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13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16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20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3730E-8B2D-4395-BC61-8BA57EFAA143}" type="slidenum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6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66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67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70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71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B77A1-7388-42B8-9F22-E183ABFCBF1A}" type="slidenum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1042920" y="1989000"/>
            <a:ext cx="712944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Сутність бренд-менеджменту.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Портфель брендів. Архітектура брендів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Стратегії розвитку бренду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15" name="Заголовок 1" descr=""/>
          <p:cNvPicPr/>
          <p:nvPr/>
        </p:nvPicPr>
        <p:blipFill>
          <a:blip r:embed="rId2"/>
          <a:stretch/>
        </p:blipFill>
        <p:spPr>
          <a:xfrm>
            <a:off x="1042920" y="384120"/>
            <a:ext cx="727236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Прямоугольник 3"/>
          <p:cNvSpPr/>
          <p:nvPr/>
        </p:nvSpPr>
        <p:spPr>
          <a:xfrm>
            <a:off x="868320" y="706320"/>
            <a:ext cx="7777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практиці для характеристики портфеля брендів найчастіше застосовують варіанти архітектури марок (брендів), запропоновані видатним американським експертом Девідом Аакером, такі як: 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use of Brands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будинок брендів) і 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nded House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будинок-бренд, або брендований будинок)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ичним рішенням в рамках стратегії 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nded House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є випуск всієї продукції підприємства під одним корпоративним брендом, а 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use of Brands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впаки, використовує групу автономних брендів (мультибрендінг), які існують незалежно й орієнтовані на збільшення ринкової частки та максимізацію прибутку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900000" y="731880"/>
            <a:ext cx="73440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algn="just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 переваг моделі </a:t>
            </a:r>
            <a:r>
              <a:rPr b="1" i="1" lang="uk-UA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nded House</a:t>
            </a:r>
            <a:r>
              <a:rPr b="1" lang="uk-UA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ідносять: перенесення знання і сприйняття бренду на нові товари, фокус маркетингових бюджетів на одному бренді, концентрація зусиль компаній в одному напрямку. Недоліки: загроза розмивання іміджу і сприйняття бренду.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вагами моделі </a:t>
            </a:r>
            <a:r>
              <a:rPr b="1" i="1" lang="uk-UA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use of Brands</a:t>
            </a:r>
            <a:r>
              <a:rPr b="0" i="1" lang="uk-UA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є: індивідуалізація кожного бренду і концентрація іміджу, відсутність залежності брендів один від одного (зниження ризику кризових ситуацій), можливість максимального використання потенціалу ринку шляхом охоплення великої кількості споживчих сегментів. Недоліки або загрози: збільшення маркетингового бюджету прямо пропорційно збільшенню кількості брендів, велика ймовірність перетинання цільових сегментів і, як наслідок, канібалізму брендів.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4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Канібалізм» брендів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вий бренд переманює споживачів старого бренду того ж підприємства, а не конкуруючих (перерозподіл споживачів). Це призводить до ослаблення позицій одного з брендів.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100000"/>
              </a:lnSpc>
              <a:spcBef>
                <a:spcPts val="45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826920" y="731520"/>
            <a:ext cx="756144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3. Стратегії розвитку бренду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Розвиток бренду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– це збільшення сукупного марочного капіталу за допомогою охоплення більш широких груп споживачів, експансії в нові продукти і поширення впливу на нові ринки і/або категорії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У брендингу прийнято виділяти дві основні стратегії розвитку бренду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Brand extension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– розтягнення бренду, якщо при появі нового товару під тим же ім’ям залишаються незмінними товарна категорія, призначення, цільова аудиторія, ідентичність бренду, а змінюється лише вигода для споживача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1115640" y="1267920"/>
            <a:ext cx="7172280" cy="399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Основними видами розтягування марки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є: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нова кількість товару (розфасовка);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товар більшої кількості за колишню ціну;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товар в новій упаковці;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новий смак, склад, технологія виготовлення;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нові вигоди і переваги для тих же споживачів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826920" y="731520"/>
            <a:ext cx="749016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algn="just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Brand expansion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– розширення бренду, коли марка поширюється на новий сегмент споживачів або суміжну товарну категорію і ідентичність бренду при цьому залишається незмінною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442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Розширення бренду включає в себе наступні різновиди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442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випуск товарів, що доповнюють базову марку (наприклад, зубні щітки на додаток до зубної пасти)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442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нова цільова аудиторія споживачів (наприклад, крем Nivea для чоловіків)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442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нове призначення товару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442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перенесення іміджу бренду на суміжну товарну категорію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Объект 3" descr=""/>
          <p:cNvPicPr/>
          <p:nvPr/>
        </p:nvPicPr>
        <p:blipFill>
          <a:blip r:embed="rId2"/>
          <a:stretch/>
        </p:blipFill>
        <p:spPr>
          <a:xfrm>
            <a:off x="1182600" y="731880"/>
            <a:ext cx="7139160" cy="4297320"/>
          </a:xfrm>
          <a:prstGeom prst="rect">
            <a:avLst/>
          </a:prstGeom>
          <a:ln w="0">
            <a:noFill/>
          </a:ln>
        </p:spPr>
      </p:pic>
      <p:sp>
        <p:nvSpPr>
          <p:cNvPr id="236" name="Прямоугольник 4"/>
          <p:cNvSpPr/>
          <p:nvPr/>
        </p:nvSpPr>
        <p:spPr>
          <a:xfrm>
            <a:off x="1187280" y="544500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с. 4.3 Стратегічний розвиток портфеля брендів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684000" y="731880"/>
            <a:ext cx="784836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Розтягування і розширення бренду мають ряд переваг: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якщо бренд має сильні позиції, у нього створені відносини довіри і лояльності, то ці якості бренду споживач переносить на нові товари під колишньою маркою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сування ряду товарів під однією маркою дозволяє заощадити кошти, використовуючи загальні канали дистрибуції і просування товару (реклама в ЗМІ, виставки і спеціальні заходи, BTL-реклама, заходи щодо стимулювання збуту і т.п.)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виведення нового товару під старою маркою займає істотно менше часу і зберігає кошти на його розробку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 недоліків або обмежень застосування даної стратегії відносяться: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розмивання бренду в свідомості споживачів, спочатку сфокусованого на одній товарній категорії, одному призначенні, одній пропозиції покупцям, одній вигоді і конкретних перевагах по відношенню до конкурентних брендів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втрачена репутація, повага і підірвана довіра до одного виду товару автоматично пошириться на все марочне сімейство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611280" y="731880"/>
            <a:ext cx="792144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Умови застосування стратегії розвитку: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1. Розширення бренду не повинно змінювати його ідентичність, інакше споживачі можуть не впізнати марку в той момент, коли треба робити вибір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2. Не можна розширювати бренд на більш низькі цінові ніші. Споживачі сприймають це як «демарш батьківського бренду в напрямку погіршення якості»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3. Master-brand (марка, яка занадто міцно асоціюється з будь-якою товарною категорією) не може бути розширена на інші категорії: споживачі просто не сприймають подібні розширення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4. Розширення життєздатне лише в тому випадку, якщо воно посилює марку або, як мінімум, не шкодить їй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5. Якщо на ринку занадто високий рівень конкуренції, то виграє дуже чітко сфокусований новий бренд.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6. Рішення про розширення бренду має прийматися, коли він уже зайняв гідну частку ринку і придбав лояльних покупців. Мінімальний показник популярності марки серед цільової аудиторії, за оцінками експертів, має становити не менше 50%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Заголовок 1" descr=""/>
          <p:cNvPicPr/>
          <p:nvPr/>
        </p:nvPicPr>
        <p:blipFill>
          <a:blip r:embed="rId2"/>
          <a:stretch/>
        </p:blipFill>
        <p:spPr>
          <a:xfrm>
            <a:off x="1116000" y="560520"/>
            <a:ext cx="6912000" cy="75060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 txBox="1"/>
          <p:nvPr/>
        </p:nvSpPr>
        <p:spPr>
          <a:xfrm>
            <a:off x="1115640" y="1341360"/>
            <a:ext cx="7201080" cy="43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енд-менеджмент</a:t>
            </a: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це управління, управлінська діяльність, предметом якої в умовах маркетингової орієнтації виступає бренд підприємства, який складається з бренду товару та іміджу підприємства. 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енд-менеджмент</a:t>
            </a: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діяльність з управління брендами відповідно до поставлених цілей (зокрема, збільшення довгострокового споживчого капіталу бренду, вартості бренду, захисту позицій інших брендів тощо). 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100000"/>
              </a:lnSpc>
              <a:spcBef>
                <a:spcPts val="64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Заголовок 1" descr=""/>
          <p:cNvPicPr/>
          <p:nvPr/>
        </p:nvPicPr>
        <p:blipFill>
          <a:blip r:embed="rId2"/>
          <a:stretch/>
        </p:blipFill>
        <p:spPr>
          <a:xfrm>
            <a:off x="1116000" y="414360"/>
            <a:ext cx="7272360" cy="749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9" name=""/>
          <p:cNvGraphicFramePr/>
          <p:nvPr/>
        </p:nvGraphicFramePr>
        <p:xfrm>
          <a:off x="900000" y="1052640"/>
          <a:ext cx="7632720" cy="4962240"/>
        </p:xfrm>
        <a:graphic>
          <a:graphicData uri="http://schemas.openxmlformats.org/drawingml/2006/table">
            <a:tbl>
              <a:tblPr/>
              <a:tblGrid>
                <a:gridCol w="1843200"/>
                <a:gridCol w="2846520"/>
                <a:gridCol w="2943000"/>
              </a:tblGrid>
              <a:tr h="236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зна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асична концепці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цепція бренд-лідерст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20">
                <a:tc gridSpan="3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ід тактичного бренд-менеджменту до стратегічно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6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спекти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актична і реагуюч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атегічна та прозо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тус бренд-менедже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ідповідальність за короткострокові програ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ідповідальність за довгострокові програ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51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цептуальна моде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Імідж брен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пітал брен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ку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роткострокові фінансові показни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вгострокові фінансові показни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20">
                <a:tc gridSpan="3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ід обмеженого фокусу до широкого фокусу використання брен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68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аниці брен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дин продукт і рино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лика кількість продуктів і ринкі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ількість бренді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кусування на одному бренд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кусування на великій кількості бренді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еографічні границі брен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дна краї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лобальна перспекти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унікативна роль бренд-менедже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ординатор з обмеженими можливостя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ідер команди із великою кількістю комунікативних можливост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унікативний фоку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овнішній (споживачі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к зовнішній (споживачі) так і внутрішній (організація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20">
                <a:tc gridSpan="3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дуча стратегія – від продажу до ідентичності брен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6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дуча стратегі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дажі і частка ринк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Ідентичність брен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2" descr="999"/>
          <p:cNvPicPr/>
          <p:nvPr/>
        </p:nvPicPr>
        <p:blipFill>
          <a:blip r:embed="rId2"/>
          <a:stretch/>
        </p:blipFill>
        <p:spPr>
          <a:xfrm>
            <a:off x="1619280" y="404640"/>
            <a:ext cx="5905440" cy="5688360"/>
          </a:xfrm>
          <a:prstGeom prst="rect">
            <a:avLst/>
          </a:prstGeom>
          <a:ln w="0">
            <a:noFill/>
          </a:ln>
        </p:spPr>
      </p:pic>
      <p:sp>
        <p:nvSpPr>
          <p:cNvPr id="221" name="Прямоугольник 3"/>
          <p:cNvSpPr/>
          <p:nvPr/>
        </p:nvSpPr>
        <p:spPr>
          <a:xfrm>
            <a:off x="1763640" y="6093000"/>
            <a:ext cx="57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с. 4.1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Модель бренд-менеджменту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Заголовок 1" descr=""/>
          <p:cNvPicPr/>
          <p:nvPr/>
        </p:nvPicPr>
        <p:blipFill>
          <a:blip r:embed="rId2"/>
          <a:stretch/>
        </p:blipFill>
        <p:spPr>
          <a:xfrm>
            <a:off x="1042920" y="549360"/>
            <a:ext cx="7345440" cy="750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3" name=""/>
          <p:cNvGraphicFramePr/>
          <p:nvPr/>
        </p:nvGraphicFramePr>
        <p:xfrm>
          <a:off x="826920" y="1793880"/>
          <a:ext cx="7705800" cy="4083120"/>
        </p:xfrm>
        <a:graphic>
          <a:graphicData uri="http://schemas.openxmlformats.org/drawingml/2006/table">
            <a:tbl>
              <a:tblPr/>
              <a:tblGrid>
                <a:gridCol w="2135520"/>
                <a:gridCol w="5570280"/>
              </a:tblGrid>
              <a:tr h="2556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вто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значення поняття «портфель брендів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50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. Ааке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і бренди або суббренди, приєднані до ринково-орієнтованих пропозицій продукту, враховуючи спільні бренди з іншими фірмам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765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.-Н. Капфере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бінації міжнародних та локальних, слабких та сильних, нових та зрілих брендів; відповідь на особливі цілі домінування у товарній категорії, створення бар’єрів на шляху проникнення конкурентів у мережу розподілення, привертання уваги та формування лояльності споживачів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50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. Котле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цінка становища всіх «виробництв», котрі входять до складу фірми (під «виробництвом» можна розуміти товарний асортимент, бренди, відділи)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12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. Ванеке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купність брендів та суббрендів, які належать одній організації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97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. Зозуль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купність усіх торгових марок та марочних ліній, котрі пропонує підприємство в рамках певної товарної категорії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4" name="Rectangle 1"/>
          <p:cNvSpPr/>
          <p:nvPr/>
        </p:nvSpPr>
        <p:spPr>
          <a:xfrm>
            <a:off x="971640" y="1128240"/>
            <a:ext cx="720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із літературних джерел щодо визначення поняття «портфель брендів»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Прямоугольник 3"/>
          <p:cNvSpPr/>
          <p:nvPr/>
        </p:nvSpPr>
        <p:spPr>
          <a:xfrm>
            <a:off x="826920" y="765000"/>
            <a:ext cx="76327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тфель брендів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це поєднання брендів або суббрендів у портфелі підприємства, які структуровані за певною ознакою, орієнтовані на різні цільові групи і цінові сегменти та здатні адаптуватися під ринкову ситуацію з метою забезпечення конкурентної стійкості на ринку, привернення уваги та формування позитивного іміджу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хітектура брендів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це система організації та управління торговими марками компанії, з якими вона вийшла на ринок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хітектура брендів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значення ролі кожного бренда і системи відношень між брендами в рамках портфеля однієї компанії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Прямоугольник 3"/>
          <p:cNvSpPr/>
          <p:nvPr/>
        </p:nvSpPr>
        <p:spPr>
          <a:xfrm>
            <a:off x="1042920" y="981000"/>
            <a:ext cx="756144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ворення архітектури брендів складається з чотирьох основних етапів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значення ролі кожного бренду всередині портфеля;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значення ролі кожного бренду в контексті «продукт-ринок»;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а портфеля;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фічне і вербальне втілення архітектури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Прямоугольник 3"/>
          <p:cNvSpPr/>
          <p:nvPr/>
        </p:nvSpPr>
        <p:spPr>
          <a:xfrm>
            <a:off x="826920" y="692280"/>
            <a:ext cx="763272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1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ндидат на ліквідацію» (divestment candidate)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це бренд зі слабким позиціонуванням на непривабливому ринку або розходиться зі стратегічним напрямком розвитку фірми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Дійна корова» (milker)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це бренд, що володіє, незважаючи на «втому», досить реальною силою. В зв’язку з тим, що на підтримку такого бренду витрачатися мінімум коштів, він може стати стабільним джерелом фінансування інших брендів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Стратегічний бренд»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марочний товар, важливий для вирішення майбутніх завдань організації. По-перше, якщо він здатний забезпечити вагомий обсяг майбутніх продажів і прибутків. Ймовірно, це вже зараз потужний домінуючий бренд, для якого плануються утримання і розширення позицій; або це другорядний бренд, який слід вивести на роль головного. По-друге, коли це 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бренд-опора» (lincpin)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здатний стати елементом, на якому тримається вся структура бізнесу або ґрунтується майбутній напрямок розвитку фірми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8" name=""/>
          <p:cNvGraphicFramePr/>
          <p:nvPr/>
        </p:nvGraphicFramePr>
        <p:xfrm>
          <a:off x="1042920" y="965160"/>
          <a:ext cx="7404120" cy="4489560"/>
        </p:xfrm>
        <a:graphic>
          <a:graphicData uri="http://schemas.openxmlformats.org/drawingml/2006/table">
            <a:tbl>
              <a:tblPr/>
              <a:tblGrid>
                <a:gridCol w="2468520"/>
                <a:gridCol w="2467080"/>
                <a:gridCol w="2468520"/>
              </a:tblGrid>
              <a:tr h="119700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точна віддача низь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точна віддача висо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9160"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спективний (високий потенціал майбутнього прибутку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ренд-опора (lincpin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атегічний брен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3400"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роткострокова або низька перспектива зростанн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ндидат на ліквідацію (divestment candidate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ренд-дійна корова (milker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9" name="Rectangle 1"/>
          <p:cNvSpPr/>
          <p:nvPr/>
        </p:nvSpPr>
        <p:spPr>
          <a:xfrm>
            <a:off x="922320" y="5446080"/>
            <a:ext cx="75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с. 4.2 Ролі провідних брендів в портфелі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5T15:45:23Z</dcterms:created>
  <dc:creator>Dvyhun</dc:creator>
  <dc:description/>
  <dc:language>en-US</dc:language>
  <cp:lastModifiedBy>Olya</cp:lastModifiedBy>
  <dcterms:modified xsi:type="dcterms:W3CDTF">2019-02-26T06:45:09Z</dcterms:modified>
  <cp:revision>10</cp:revision>
  <dc:subject/>
  <dc:title>Тема 4. Бренд-менеджмент</dc:title>
</cp:coreProperties>
</file>