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C529-2C1B-4C99-825B-AB76FB45C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6D37-1B6C-426D-B92E-9F4CE611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54F9-7CC3-4D5B-9636-542EFCA51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00A2-2EB1-4772-A120-88E3D65F9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2D80-0F49-4A06-A336-54E244630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D0F8-51B8-40EC-885B-2892B738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C2CE-2132-4A08-B1AA-5EA30C36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6268-64CE-4DB0-BC78-76607A1C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58A9-7EC3-427B-9F4E-EDEE66AC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9D21-CE39-44D4-90D9-5A9FB269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3DEF-F00E-4688-B8DF-50DC781A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58D8-914A-4204-ADAF-29B6F701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17D8-0519-4C7B-B45D-664379B1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3A6D-A8B1-46D2-ABA9-281F8546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89F0-A998-4132-8DA4-88A01EA5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4FDB-C931-4CD8-A5C5-D6BD9A9C1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C76E-54B2-4A0A-89BF-EA742463B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EF2FA-D7A6-440A-99AA-7B9A2F57C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2ED29-C0BA-4576-8719-B9FCDCD0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D7DBE-AB7F-40A2-9E43-1A481612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1AA9E-895E-4177-B521-5A5864A0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09D28-A638-44F5-BE30-9EF6170C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E715-0CAB-481B-B90D-B5F4EB45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F1FE4-3183-4683-937C-BBA2F5A9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C7609-26AD-422A-9B61-69E19887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092D1-65C3-436D-AE45-085D3F90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D9269-D4B0-4659-AFFD-259877CA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D9E3F-7EE4-4FDA-9C90-A1531706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16C80-410C-4E6B-B5E4-A79B76E33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13D32-91D2-4BD1-8D08-00FB81CFB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31D26-2CB3-40B3-A570-50A7B8D31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CCC7B-F6A3-4CB4-AA31-BB859525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DFC31-839D-4DE7-98CE-38A67469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0968-AEF7-49DB-8F7A-1827FF37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65E55-B191-437C-ACD3-0BA9219A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CCB79-B6E1-4812-A51F-0EC270A8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8C84B-B216-406E-ACE4-4DEA2FC3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15159-DFBB-457E-93C8-AB927EE1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1C258-44B6-47D3-80C2-9397BFB1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F3C64-E71B-422E-A22A-83E3F6F6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941AF-899F-46F1-B3D1-9F41030E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32376-6E24-4140-8064-C57F7E32F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04DE2-ECB2-493B-9A8F-7E1BAF2AC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8AE7-6BAA-4177-8E0F-04DFADB4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8D6F-9F78-4CC9-9A72-9FC99939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1203-87AB-4E18-B61A-36418315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5CBB-0C73-4A3B-8E60-93DA94A8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179E-D062-4AC8-A417-8C746067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AA59-CD2D-4250-B943-E7894F05AA5E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0B17-96EF-4C1E-AFC2-00C7CA602F27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25EB-50E5-4810-B156-CC3758218AFB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1D46-EA83-4955-B4AD-9ED094341070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042920" y="1989000"/>
            <a:ext cx="7129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утність бренд-менеджменту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ртфель брендів. Архітектура бренд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тратегії розвитку бренду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1042920" y="384120"/>
            <a:ext cx="727236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3"/>
          <p:cNvSpPr/>
          <p:nvPr/>
        </p:nvSpPr>
        <p:spPr>
          <a:xfrm>
            <a:off x="868320" y="706320"/>
            <a:ext cx="777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актиці для характеристики портфеля брендів найчастіше застосовують варіанти архітектури марок (брендів), запропоновані видатним американським експертом Девідом Аакером, такі як: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удинок брендів) і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удинок-бренд, або брендований будинок)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чним рішенням в рамках стратегії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є випуск всієї продукції підприємства під одним корпоративним брендом, а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паки, використовує групу автономних брендів (мультибрендінг), які існують незалежно й орієнтовані на збільшення ринкової частки та максимізацію прибутку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900000" y="731880"/>
            <a:ext cx="7344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ереваг моделі </a:t>
            </a: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сять: перенесення знання і сприйняття бренду на нові товари, фокус маркетингових бюджетів на одному бренді, концентрація зусиль компаній в одному напрямку. Недоліки: загроза розмивання іміджу і сприйняття бренду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агами моделі </a:t>
            </a: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0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: індивідуалізація кожного бренду і концентрація іміджу, відсутність залежності брендів один від одного (зниження ризику кризових ситуацій), можливість максимального використання потенціалу ринку шляхом охоплення великої кількості споживчих сегментів. Недоліки або загрози: збільшення маркетингового бюджету прямо пропорційно збільшенню кількості брендів, велика ймовірність перетинання цільових сегментів і, як наслідок, канібалізму брендів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нібалізм» брендів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й бренд переманює споживачів старого бренду того ж підприємства, а не конкуруючих (перерозподіл споживачів). Це призводить до ослаблення позицій одного з брендів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826920" y="731520"/>
            <a:ext cx="7561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Стратегії розвитку бренд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виток бренд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це збільшення сукупного марочного капіталу за допомогою охоплення більш широких груп споживачів, експансії в нові продукти і поширення впливу на нові ринки і/або категорії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брендингу прийнято виділяти дві основні стратегії розвитку бренд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rand extension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розтягнення бренду, якщо при появі нового товару під тим же ім’ям залишаються незмінними товарна категорія, призначення, цільова аудиторія, ідентичність бренду, а змінюється лише вигода для споживач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115640" y="1267920"/>
            <a:ext cx="717228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ими видами розтягування марки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є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а кількість товару (розфасовка)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вар більшої кількості за колишню ціну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вар в новій упаковці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ий смак, склад, технологія виготовлення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і вигоди і переваги для тих же споживач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26920" y="731520"/>
            <a:ext cx="7490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rand expansion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розширення бренду, коли марка поширюється на новий сегмент споживачів або суміжну товарну категорію і ідентичність бренду при цьому залишається незмінною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ширення бренду включає в себе наступні різновид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пуск товарів, що доповнюють базову марку (наприклад, зубні щітки на додаток до зубної пасти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а цільова аудиторія споживачів (наприклад, крем Nivea для чоловіків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е призначення товар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енесення іміджу бренду на суміжну товарну категорію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Объект 3" descr=""/>
          <p:cNvPicPr/>
          <p:nvPr/>
        </p:nvPicPr>
        <p:blipFill>
          <a:blip r:embed="rId2"/>
          <a:stretch/>
        </p:blipFill>
        <p:spPr>
          <a:xfrm>
            <a:off x="1182600" y="731880"/>
            <a:ext cx="7139160" cy="429732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4"/>
          <p:cNvSpPr/>
          <p:nvPr/>
        </p:nvSpPr>
        <p:spPr>
          <a:xfrm>
            <a:off x="118728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3 Стратегічний розвиток портфеля брендів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684000" y="731880"/>
            <a:ext cx="78483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тягування і розширення бренду мають ряд переваг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якщо бренд має сильні позиції, у нього створені відносини довіри і лояльності, то ці якості бренду споживач переносить на нові товари під колишньою маркою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сування ряду товарів під однією маркою дозволяє заощадити кошти, використовуючи загальні канали дистрибуції і просування товару (реклама в ЗМІ, виставки і спеціальні заходи, BTL-реклама, заходи щодо стимулювання збуту і т.п.)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ведення нового товару під старою маркою займає істотно менше часу і зберігає кошти на його розробк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 недоліків або обмежень застосування даної стратегії відносяться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мивання бренду в свідомості споживачів, спочатку сфокусованого на одній товарній категорії, одному призначенні, одній пропозиції покупцям, одній вигоді і конкретних перевагах по відношенню до конкурентних брендів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трачена репутація, повага і підірвана довіра до одного виду товару автоматично пошириться на все марочне сімейств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11280" y="731880"/>
            <a:ext cx="7921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ови застосування стратегії розвитку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Розширення бренду не повинно змінювати його ідентичність, інакше споживачі можуть не впізнати марку в той момент, коли треба робити вибір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Не можна розширювати бренд на більш низькі цінові ніші. Споживачі сприймають це як «демарш батьківського бренду в напрямку погіршення якості»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 Master-brand (марка, яка занадто міцно асоціюється з будь-якою товарною категорією) не може бути розширена на інші категорії: споживачі просто не сприймають подібні розширенн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Розширення життєздатне лише в тому випадку, якщо воно посилює марку або, як мінімум, не шкодить ї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. Якщо на ринку занадто високий рівень конкуренції, то виграє дуже чітко сфокусований новий бренд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. Рішення про розширення бренду має прийматися, коли він уже зайняв гідну частку ринку і придбав лояльних покупців. Мінімальний показник популярності марки серед цільової аудиторії, за оцінками експертів, має становити не менше 50%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2"/>
          <a:stretch/>
        </p:blipFill>
        <p:spPr>
          <a:xfrm>
            <a:off x="1116000" y="560520"/>
            <a:ext cx="6912000" cy="7506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1115640" y="1341360"/>
            <a:ext cx="720108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-менеджмент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управління, управлінська діяльність, предметом якої в умовах маркетингової орієнтації виступає бренд підприємства, який складається з бренду товару та іміджу підприємства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-менеджмент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іяльність з управління брендами відповідно до поставлених цілей (зокрема, збільшення довгострокового споживчого капіталу бренду, вартості бренду, захисту позицій інших брендів тощо)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2"/>
          <a:stretch/>
        </p:blipFill>
        <p:spPr>
          <a:xfrm>
            <a:off x="1116000" y="414360"/>
            <a:ext cx="7272360" cy="74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900000" y="1052640"/>
          <a:ext cx="7632720" cy="4962240"/>
        </p:xfrm>
        <a:graphic>
          <a:graphicData uri="http://schemas.openxmlformats.org/drawingml/2006/table">
            <a:tbl>
              <a:tblPr/>
              <a:tblGrid>
                <a:gridCol w="1843200"/>
                <a:gridCol w="2846520"/>
                <a:gridCol w="2943000"/>
              </a:tblGrid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ична концепц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пція бренд-лідер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 тактичного бренд-менеджменту до стратегіч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чна і реагую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ічна та проз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 бренд-менедж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льність за короткострокові прог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льність за довгострокові прог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птуальна мод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мідж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італ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і фінансові показ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гострокові фінансові показ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 обмеженого фокусу до широкого фокусу використання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ниц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 продукт і рин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а кількість продуктів і ринк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брен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ування на одному бренд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ування на великій кількості брен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ічні границ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а краї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обальна персп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ікативна роль бренд-менедж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рдинатор з обмеженими можливост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ідер команди із великою кількістю комунікативних можлив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ікативний фок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внішній (споживачі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 зовнішній (споживачі) так і внутрішній (організаці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ча стратегія – від продажу до ідентичност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ча стратег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ажі і частка рин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дентичність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999"/>
          <p:cNvPicPr/>
          <p:nvPr/>
        </p:nvPicPr>
        <p:blipFill>
          <a:blip r:embed="rId2"/>
          <a:stretch/>
        </p:blipFill>
        <p:spPr>
          <a:xfrm>
            <a:off x="1619280" y="404640"/>
            <a:ext cx="5905440" cy="56883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3"/>
          <p:cNvSpPr/>
          <p:nvPr/>
        </p:nvSpPr>
        <p:spPr>
          <a:xfrm>
            <a:off x="1763640" y="609300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1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дель бренд-менеджменту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345440" cy="750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3" name=""/>
          <p:cNvGraphicFramePr/>
          <p:nvPr/>
        </p:nvGraphicFramePr>
        <p:xfrm>
          <a:off x="826920" y="1793880"/>
          <a:ext cx="7705800" cy="4083120"/>
        </p:xfrm>
        <a:graphic>
          <a:graphicData uri="http://schemas.openxmlformats.org/drawingml/2006/table">
            <a:tbl>
              <a:tblPr/>
              <a:tblGrid>
                <a:gridCol w="2135520"/>
                <a:gridCol w="5570280"/>
              </a:tblGrid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в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значення поняття «портфель бренді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 Аак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і бренди або суббренди, приєднані до ринково-орієнтованих пропозицій продукту, враховуючи спільні бренди з іншими фірм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6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-Н. Капфер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інації міжнародних та локальних, слабких та сильних, нових та зрілих брендів; відповідь на особливі цілі домінування у товарній категорії, створення бар’єрів на шляху проникнення конкурентів у мережу розподілення, привертання уваги та формування лояльності споживач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 Котл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інка становища всіх «виробництв», котрі входять до складу фірми (під «виробництвом» можна розуміти товарний асортимент, бренди, відділи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анек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купність брендів та суббрендів, які належать одній організа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. Зозуль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купність усіх торгових марок та марочних ліній, котрі пропонує підприємство в рамках певної товарної категор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"/>
          <p:cNvSpPr/>
          <p:nvPr/>
        </p:nvSpPr>
        <p:spPr>
          <a:xfrm>
            <a:off x="971640" y="1128240"/>
            <a:ext cx="72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із літературних джерел щодо визначення поняття «портфель брендів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3"/>
          <p:cNvSpPr/>
          <p:nvPr/>
        </p:nvSpPr>
        <p:spPr>
          <a:xfrm>
            <a:off x="826920" y="765000"/>
            <a:ext cx="7632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фель бренд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поєднання брендів або суббрендів у портфелі підприємства, які структуровані за певною ознакою, орієнтовані на різні цільові групи і цінові сегменти та здатні адаптуватися під ринкову ситуацію з метою забезпечення конкурентної стійкості на ринку, привернення уваги та формування позитивного імідж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ітектура бренд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система організації та управління торговими марками компанії, з якими вона вийшла на ринок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ітектура брендів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а і системи відношень між брендами в рамках портфеля однієї компанії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3"/>
          <p:cNvSpPr/>
          <p:nvPr/>
        </p:nvSpPr>
        <p:spPr>
          <a:xfrm>
            <a:off x="1042920" y="981000"/>
            <a:ext cx="7561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орення архітектури брендів складається з чотирьох основних етапів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у всередині портфеля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у в контексті «продукт-ринок»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портфеля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ічне і вербальне втілення архітектури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3"/>
          <p:cNvSpPr/>
          <p:nvPr/>
        </p:nvSpPr>
        <p:spPr>
          <a:xfrm>
            <a:off x="826920" y="692280"/>
            <a:ext cx="7632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идат на ліквідацію» (divestment candidate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бренд зі слабким позиціонуванням на непривабливому ринку або розходиться зі стратегічним напрямком розвитку фірми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ійна корова» (milker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бренд, що володіє, незважаючи на «втому», досить реальною силою. В зв’язку з тим, що на підтримку такого бренду витрачатися мінімум коштів, він може стати стабільним джерелом фінансування інших брендів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ратегічний бренд»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арочний товар, важливий для вирішення майбутніх завдань організації. По-перше, якщо він здатний забезпечити вагомий обсяг майбутніх продажів і прибутків. Ймовірно, це вже зараз потужний домінуючий бренд, для якого плануються утримання і розширення позицій; або це другорядний бренд, який слід вивести на роль головного. По-друге, коли це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ренд-опора» (lincpin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датний стати елементом, на якому тримається вся структура бізнесу або ґрунтується майбутній напрямок розвитку фірм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1042920" y="965160"/>
          <a:ext cx="7404120" cy="4489560"/>
        </p:xfrm>
        <a:graphic>
          <a:graphicData uri="http://schemas.openxmlformats.org/drawingml/2006/table">
            <a:tbl>
              <a:tblPr/>
              <a:tblGrid>
                <a:gridCol w="2468520"/>
                <a:gridCol w="2467080"/>
                <a:gridCol w="2468520"/>
              </a:tblGrid>
              <a:tr h="119700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а віддача низь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а віддача висо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91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ний (високий потенціал майбутнього прибутку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нд-опора (lincpi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ічний брен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а або низька перспектива зроста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дидат на ліквідацію (divestment candidat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нд-дійна корова (milke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Rectangle 1"/>
          <p:cNvSpPr/>
          <p:nvPr/>
        </p:nvSpPr>
        <p:spPr>
          <a:xfrm>
            <a:off x="922320" y="5446080"/>
            <a:ext cx="75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2 Ролі провідних брендів в портфелі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5T15:45:23Z</dcterms:created>
  <dc:creator>Dvyhun</dc:creator>
  <dc:description/>
  <dc:language>en-US</dc:language>
  <cp:lastModifiedBy>Olya</cp:lastModifiedBy>
  <dcterms:modified xsi:type="dcterms:W3CDTF">2019-02-26T06:45:09Z</dcterms:modified>
  <cp:revision>10</cp:revision>
  <dc:subject/>
  <dc:title>Тема 4. Бренд-менеджмент</dc:title>
</cp:coreProperties>
</file>