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B050-82F0-43A0-A64B-A7A106ED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285E-962F-4DD4-A7F7-DAF6AD03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2BE6-CFCD-458A-98F4-A6F1FDC7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39CE-3B94-419B-BE0F-00D9B86F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0F2C-349A-4339-A3BE-CB67FD61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24A5-716E-4612-9350-19E00A22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3E8D-9A61-484B-9475-7F5BC3BF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6BE7-4393-4074-94F7-0039EC02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9D1B-EF45-4759-A87E-B626CFB9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BD41-BFE4-4A53-9E97-1CF7AFA4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9753-55E8-4649-8459-9F8D013E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0F54-B71C-4F25-908F-D0C01CE5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2EF7-C8AA-4844-B10D-171E4DE1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595D-5B92-4722-9FF6-8DABCCC4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6AFA-E55E-47F5-B9ED-0752DF1B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0091-281E-4B0F-894D-87AD5D7F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C101-80EC-4A49-B99F-3D0A7BFBA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1AC80-7867-41D1-B537-62C529CE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25C2F-DD37-4443-A38A-E1C4257C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1341F-C8E4-4610-8D47-46EE68F6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850FD-EDFF-4D0F-B783-AFFADF59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6EE3B-3E4B-4AC1-9CED-F5DEC157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DD70-D1EF-4C4F-9724-2C6B96A3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BB76D-472A-41CD-966A-3CFD9634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21D94-40FA-4CD6-8CA8-8D37156E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6EB5A-573F-4CB1-B3DD-BBD436DA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F3321-302D-4226-B913-9883283A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09672-1B5B-47CB-855B-78C72755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53E6D-B697-4CB8-AC15-F35726FB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BB08C-5B8A-4CE4-A3E7-792B00A5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B18AF-EDC6-4ABB-8630-2D1E92AA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BF852-AEBC-4040-83C2-4C59E08E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841DE-9EDC-4F4C-BF86-9DCD3BD1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FC24-26E2-454E-99C2-C1494522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79CA5-A620-4596-BED4-F8105E37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F449E-EA98-44BC-9AA6-007540D1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B8FD3-9D7A-4DCF-9B98-0DEE817C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5EF96-4FD1-48DB-B8FF-F4B3FD32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617C8-D327-43E2-9412-F3FF0A2F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BCB40-2AA1-4DFC-9B60-3E4EBD5E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6675A-EF5C-42B1-9C09-4089D9C5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6B2F9-D987-4D35-B0B1-964C89B6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218F3-13D3-4908-B73A-00B90006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6E05-5943-4408-BD05-F1E3F456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ABC8-0D16-4398-AFCD-F65C4547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9D37-77F2-462C-8148-2589F5B9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FD11-F43F-4EBF-9467-8A75F2D7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922F-0A81-4EE1-8B0C-0C1C6A60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92FB-E82D-4B6D-9AF1-E20440CE9DB1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37BF-6504-49E2-AB83-AC62E5F3BDA0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8733-77E9-4D4C-9F6B-2316C5F3A455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AB95-6951-492C-BF71-E5D1018FE3F9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42920" y="1989000"/>
            <a:ext cx="712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тність бренд-менеджменту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ртфель брендів. Архітектура бренд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ратегії розвитку бренд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384120"/>
            <a:ext cx="7272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868320" y="70632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ктиці для характеристики портфеля брендів найчастіше застосовують варіанти архітектури марок (брендів), запропоновані видатним американським експертом Девідом Аакером, такі як: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 брендів) 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-бренд, або брендований будинок)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им рішенням в рамках стратегії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 випуск всієї продукції підприємства під одним корпоративним брендом, 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паки, використовує групу автономних брендів (мультибрендінг), які існують незалежно й орієнтовані на збільшення ринкової частки та максимізацію прибутк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00000" y="731880"/>
            <a:ext cx="73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ереваг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сять: перенесення знання і сприйняття бренду на нові товари, фокус маркетингових бюджетів на одному бренді, концентрація зусиль компаній в одному напрямку. Недоліки: загроза розмивання іміджу і сприйняття бренду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ами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: індивідуалізація кожного бренду і концентрація іміджу, відсутність залежності брендів один від одного (зниження ризику кризових ситуацій), можливість максимального використання потенціалу ринку шляхом охоплення великої кількості споживчих сегментів. Недоліки або загрози: збільшення маркетингового бюджету прямо пропорційно збільшенню кількості брендів, велика ймовірність перетинання цільових сегментів і, як наслідок, канібалізму брендів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нібалізм» бренд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й бренд переманює споживачів старого бренду того ж підприємства, а не конкуруючих (перерозподіл споживачів). Це призводить до ослаблення позицій одного з бренді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26920" y="731520"/>
            <a:ext cx="7561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Стратегії розвитку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виток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це збільшення сукупного марочного капіталу за допомогою охоплення більш широких груп споживачів, експансії в нові продукти і поширення впливу на нові ринки і/або категорії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брендингу прийнято виділяти дві основні стратегії розвитку бренд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te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тягнення бренду, якщо при появі нового товару під тим же ім’ям залишаються незмінними товарна категорія, призначення, цільова аудиторія, ідентичність бренду, а змінюється лише вигода для споживач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15640" y="1267920"/>
            <a:ext cx="717228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ими видами розтягування марк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є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кількість товару (розфасовка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більшої кількості за колишню ціну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в новій упаковці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ий смак, склад, технологія виготовленн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і вигоди і переваги для тих же споживач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26920" y="731520"/>
            <a:ext cx="7490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pa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ширення бренду, коли марка поширюється на новий сегмент споживачів або суміжну товарну категорію і ідентичність бренду при цьому залишається незмінною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ширення бренду включає в себе наступні різновид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пуск товарів, що доповнюють базову марку (наприклад, зубні щітки на додаток до зубної паст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цільова аудиторія споживачів (наприклад, крем Nivea для чоловіків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е призначення товар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несення іміджу бренду на суміжну товарну категорі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Объект 3" descr=""/>
          <p:cNvPicPr/>
          <p:nvPr/>
        </p:nvPicPr>
        <p:blipFill>
          <a:blip r:embed="rId2"/>
          <a:stretch/>
        </p:blipFill>
        <p:spPr>
          <a:xfrm>
            <a:off x="1182600" y="731880"/>
            <a:ext cx="7139160" cy="42973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118728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3 Стратегічний розвиток портфеля бренді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4000" y="731880"/>
            <a:ext cx="7848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тягування і розширення бренду мають ряд переваг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що бренд має сильні позиції, у нього створені відносини довіри і лояльності, то ці якості бренду споживач переносить на нові товари під колишньою маркою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ування ряду товарів під однією маркою дозволяє заощадити кошти, використовуючи загальні канали дистрибуції і просування товару (реклама в ЗМІ, виставки і спеціальні заходи, BTL-реклама, заходи щодо стимулювання збуту і т.п.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ведення нового товару під старою маркою займає істотно менше часу і зберігає кошти на його розроб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недоліків або обмежень застосування даної стратегії відносять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мивання бренду в свідомості споживачів, спочатку сфокусованого на одній товарній категорії, одному призначенні, одній пропозиції покупцям, одній вигоді і конкретних перевагах по відношенню до конкурентних бренді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рачена репутація, повага і підірвана довіра до одного виду товару автоматично пошириться на все марочне сімейств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11280" y="731880"/>
            <a:ext cx="7921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ови застосування стратегії розвитку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озширення бренду не повинно змінювати його ідентичність, інакше споживачі можуть не впізнати марку в той момент, коли треба робити вибір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е можна розширювати бренд на більш низькі цінові ніші. Споживачі сприймають це як «демарш батьківського бренду в напрямку погіршення якості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Master-brand (марка, яка занадто міцно асоціюється з будь-якою товарною категорією) не може бути розширена на інші категорії: споживачі просто не сприймають подібні розширенн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озширення життєздатне лише в тому випадку, якщо воно посилює марку або, як мінімум, не шкодить ї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Якщо на ринку занадто високий рівень конкуренції, то виграє дуже чітко сфокусований новий бренд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Рішення про розширення бренду має прийматися, коли він уже зайняв гідну частку ринку і придбав лояльних покупців. Мінімальний показник популярності марки серед цільової аудиторії, за оцінками експертів, має становити не менше 50%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1116000" y="560520"/>
            <a:ext cx="6912000" cy="750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115640" y="1341360"/>
            <a:ext cx="7201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управління, управлінська діяльність, предметом якої в умовах маркетингової орієнтації виступає бренд підприємства, який складається з бренду товару та іміджу підприємства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іяльність з управління брендами відповідно до поставлених цілей (зокрема, збільшення довгострокового споживчого капіталу бренду, вартості бренду, захисту позицій інших брендів тощо)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2"/>
          <a:stretch/>
        </p:blipFill>
        <p:spPr>
          <a:xfrm>
            <a:off x="1116000" y="414360"/>
            <a:ext cx="72723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900000" y="1052640"/>
          <a:ext cx="7632720" cy="4962240"/>
        </p:xfrm>
        <a:graphic>
          <a:graphicData uri="http://schemas.openxmlformats.org/drawingml/2006/table">
            <a:tbl>
              <a:tblPr/>
              <a:tblGrid>
                <a:gridCol w="1843200"/>
                <a:gridCol w="2846520"/>
                <a:gridCol w="2943000"/>
              </a:tblGrid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ична концеп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ція бренд-ліде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тактичного бренд-менеджменту до стратегіч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чна і реагую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а та про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коротк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довг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туальна 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дж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італ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обмеженого фокусу до широкого фокусу використання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продукт і р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а кількість продуктів і рин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одному бренд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великій кількості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чні 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а краї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обальна 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а роль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тор з обмеженими можлив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дер команди із великою кількістю комунікативних можлив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ий 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внішній (споживачі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 зовнішній (споживачі) так і внутрішній (організаці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 – від продажу до ідентичност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ажі і частка ри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дентичність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999"/>
          <p:cNvPicPr/>
          <p:nvPr/>
        </p:nvPicPr>
        <p:blipFill>
          <a:blip r:embed="rId2"/>
          <a:stretch/>
        </p:blipFill>
        <p:spPr>
          <a:xfrm>
            <a:off x="1619280" y="404640"/>
            <a:ext cx="5905440" cy="5688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3"/>
          <p:cNvSpPr/>
          <p:nvPr/>
        </p:nvSpPr>
        <p:spPr>
          <a:xfrm>
            <a:off x="1763640" y="6093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1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дель бренд-менеджмент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34544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826920" y="1793880"/>
          <a:ext cx="7705800" cy="4083120"/>
        </p:xfrm>
        <a:graphic>
          <a:graphicData uri="http://schemas.openxmlformats.org/drawingml/2006/table">
            <a:tbl>
              <a:tblPr/>
              <a:tblGrid>
                <a:gridCol w="2135520"/>
                <a:gridCol w="5570280"/>
              </a:tblGrid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в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ення поняття «портфель бренді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Аак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бренди або суббренди, приєднані до ринково-орієнтованих пропозицій продукту, враховуючи спільні бренди з іншими фірм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-Н. Капфер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інації міжнародних та локальних, слабких та сильних, нових та зрілих брендів; відповідь на особливі цілі домінування у товарній категорії, створення бар’єрів на шляху проникнення конкурентів у мережу розподілення, привертання уваги та формування лояльності споживач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 Котл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а становища всіх «виробництв», котрі входять до складу фірми (під «виробництвом» можна розуміти товарний асортимент, бренди, відділ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анек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брендів та суббрендів, які належать одній організа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Зозуль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усіх торгових марок та марочних ліній, котрі пропонує підприємство в рамках певної товарної категор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"/>
          <p:cNvSpPr/>
          <p:nvPr/>
        </p:nvSpPr>
        <p:spPr>
          <a:xfrm>
            <a:off x="971640" y="112824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літературних джерел щодо визначення поняття «портфель брендів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3"/>
          <p:cNvSpPr/>
          <p:nvPr/>
        </p:nvSpPr>
        <p:spPr>
          <a:xfrm>
            <a:off x="826920" y="76500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ель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поєднання брендів або суббрендів у портфелі підприємства, які структуровані за певною ознакою, орієнтовані на різні цільові групи і цінові сегменти та здатні адаптуватися під ринкову ситуацію з метою забезпечення конкурентної стійкості на ринку, привернення уваги та формування позитивного імідж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система організації та управління торговими марками компанії, з якими вона вийшла на ринок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а і системи відношень між брендами в рамках портфеля однієї компанії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1042920" y="98100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архітектури брендів складається з чотирьох основних етапі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середині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 контексті «продукт-ринок»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чне і вербальне втілення архітектур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3"/>
          <p:cNvSpPr/>
          <p:nvPr/>
        </p:nvSpPr>
        <p:spPr>
          <a:xfrm>
            <a:off x="826920" y="692280"/>
            <a:ext cx="763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на ліквідацію» (divestment candidate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 зі слабким позиціонуванням на непривабливому ринку або розходиться зі стратегічним напрямком розвитку фірм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ійна корова» (milker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, що володіє, незважаючи на «втому», досить реальною силою. В зв’язку з тим, що на підтримку такого бренду витрачатися мінімум коштів, він може стати стабільним джерелом фінансування інших бренді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атегічний бренд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рочний товар, важливий для вирішення майбутніх завдань організації. По-перше, якщо він здатний забезпечити вагомий обсяг майбутніх продажів і прибутків. Ймовірно, це вже зараз потужний домінуючий бренд, для якого плануються утримання і розширення позицій; або це другорядний бренд, який слід вивести на роль головного. По-друге, коли це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ренд-опора» (lincpin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датний стати елементом, на якому тримається вся структура бізнесу або ґрунтується майбутній напрямок розвитку фір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042920" y="965160"/>
          <a:ext cx="7404120" cy="4489560"/>
        </p:xfrm>
        <a:graphic>
          <a:graphicData uri="http://schemas.openxmlformats.org/drawingml/2006/table">
            <a:tbl>
              <a:tblPr/>
              <a:tblGrid>
                <a:gridCol w="2468520"/>
                <a:gridCol w="2467080"/>
                <a:gridCol w="2468520"/>
              </a:tblGrid>
              <a:tr h="119700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низь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вис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91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ий (високий потенціал майбутнього прибутк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опора (lincp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ий брен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а або низька перспектива зрост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дидат на ліквідацію (divestment candida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дійна корова (milk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1"/>
          <p:cNvSpPr/>
          <p:nvPr/>
        </p:nvSpPr>
        <p:spPr>
          <a:xfrm>
            <a:off x="922320" y="544608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2 Ролі провідних брендів в портфелі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5T15:45:23Z</dcterms:created>
  <dc:creator>Dvyhun</dc:creator>
  <dc:description/>
  <dc:language>en-US</dc:language>
  <cp:lastModifiedBy>Olya</cp:lastModifiedBy>
  <dcterms:modified xsi:type="dcterms:W3CDTF">2019-02-26T06:45:09Z</dcterms:modified>
  <cp:revision>10</cp:revision>
  <dc:subject/>
  <dc:title>Тема 4. Бренд-менеджмент</dc:title>
</cp:coreProperties>
</file>