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3B08-BA61-4D6A-BC5F-9C05FCEBE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BB7C-89F1-418C-91A1-9156420D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14E1-654E-4563-8F20-816DB538C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48D8-1E60-4578-8353-1E0419BBA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2EF5B-AE73-4F6C-BDC5-5B540B04A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88EA0-62B9-4BD7-90FB-5EBC66A8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47C3-8D75-438A-9E92-11C01902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B822-7F9F-40A8-9862-70D2AFE6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A600-0B48-43E0-A34F-9178EF42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A3FD-73E0-4DE9-B8E0-532DF37D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EFB7-6561-436F-A8AF-D515D841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C63A-95A5-4FDB-A256-C51D4A3F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F454-AB21-4C97-AA94-543902C0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5A69-EA4B-4D27-8CEE-44F467C8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9DB2-6F3F-4A87-99DF-B13456DE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AA19E-D4E9-498D-88E5-C292E32CB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84DA-DA29-4A4D-BFC9-689BC5E7B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822BD-05B2-4E94-A977-2A938A10F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60ABD-D602-49ED-8EB4-E7F4CD11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D7DEB-C7F9-48F5-84B2-29B7583D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F33A5-9B24-4C55-8507-0CF5B60E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E4AFC-7279-4385-919C-3EA03E3F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C2C4-72DA-4D11-8159-1FEE2BEF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7920E-0A2B-4DE4-A789-F9DC5D3E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E0156-EEC9-402E-A56C-1B909BE5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24A5E-0056-4C6D-AFB3-271AFBD5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8D8B6-59DF-402B-9E80-CFD2A283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06C16-CF79-406C-BD79-4FED18EF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FEF7A-6F81-46A7-83DA-D5C9F1564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76717-D8E7-492F-A6C5-108961D1D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32749-7869-4AC1-8BE4-A33B69DB6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118ED-F6A6-4514-BDFE-7867DAF9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E2B6A-64EC-448A-BD18-BAB9737C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C563-6217-4AC7-B41D-EFA56D6B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983CC-24DA-475A-B02D-43CC4670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CF12D-805A-457E-AD73-D061BC89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9AFA9-CCD5-485A-ACB3-5BC184F3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98FD3-EBF9-4D54-9E42-E5EDC000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DBCC8-B8A5-4CBB-9D14-175BC64A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7C35D-FCBE-4FEF-B0F4-E9620666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8228E-05F5-4695-AB78-D0D7D499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1F496-C23A-49DB-B7D6-F3AAD1ADE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E4524-6BEF-4E0A-95F4-053F2E56A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7A01-4962-4B1F-A5E0-1C3F0E5C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A0E5-DC85-44A3-9A8F-D2B1F410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F7E8-E0CB-4FDB-B42E-6DE50B46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BDAC-BF2B-4442-A2A2-11777633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0972-E5B3-4466-86E0-D2BCCD6A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0D36-0D3B-4365-BD1C-280964B74046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4A66-FE28-43A6-BD26-ACF99930C106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07A6-6FA1-4F7B-8390-E161DEED0A5B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F0C0-EDEF-4529-B5BE-6085F8B663E4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042920" y="1989000"/>
            <a:ext cx="7129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утність бренд-менеджменту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ртфель брендів. Архітектура бренд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тратегії розвитку бренду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1042920" y="384120"/>
            <a:ext cx="727236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3"/>
          <p:cNvSpPr/>
          <p:nvPr/>
        </p:nvSpPr>
        <p:spPr>
          <a:xfrm>
            <a:off x="868320" y="706320"/>
            <a:ext cx="777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актиці для характеристики портфеля брендів найчастіше застосовують варіанти архітектури марок (брендів), запропоновані видатним американським експертом Девідом Аакером, такі як: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удинок брендів) і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удинок-бренд, або брендований будинок)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чним рішенням в рамках стратегії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є випуск всієї продукції підприємства під одним корпоративним брендом, а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паки, використовує групу автономних брендів (мультибрендінг), які існують незалежно й орієнтовані на збільшення ринкової частки та максимізацію прибутку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900000" y="731880"/>
            <a:ext cx="73440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переваг моделі </a:t>
            </a:r>
            <a:r>
              <a:rPr b="1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сять: перенесення знання і сприйняття бренду на нові товари, фокус маркетингових бюджетів на одному бренді, концентрація зусиль компаній в одному напрямку. Недоліки: загроза розмивання іміджу і сприйняття бренду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агами моделі </a:t>
            </a:r>
            <a:r>
              <a:rPr b="1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0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: індивідуалізація кожного бренду і концентрація іміджу, відсутність залежності брендів один від одного (зниження ризику кризових ситуацій), можливість максимального використання потенціалу ринку шляхом охоплення великої кількості споживчих сегментів. Недоліки або загрози: збільшення маркетингового бюджету прямо пропорційно збільшенню кількості брендів, велика ймовірність перетинання цільових сегментів і, як наслідок, канібалізму брендів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нібалізм» брендів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ий бренд переманює споживачів старого бренду того ж підприємства, а не конкуруючих (перерозподіл споживачів). Це призводить до ослаблення позицій одного з брендів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826920" y="731520"/>
            <a:ext cx="7561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 Стратегії розвитку бренд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виток бренд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це збільшення сукупного марочного капіталу за допомогою охоплення більш широких груп споживачів, експансії в нові продукти і поширення впливу на нові ринки і/або категорії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брендингу прийнято виділяти дві основні стратегії розвитку бренду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Brand extension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розтягнення бренду, якщо при появі нового товару під тим же ім’ям залишаються незмінними товарна категорія, призначення, цільова аудиторія, ідентичність бренду, а змінюється лише вигода для споживача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1115640" y="1267920"/>
            <a:ext cx="7172280" cy="39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ими видами розтягування марки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є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а кількість товару (розфасовка)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вар більшої кількості за колишню ціну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вар в новій упаковці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ий смак, склад, технологія виготовлення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і вигоди і переваги для тих же споживач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26920" y="731520"/>
            <a:ext cx="7490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Brand expansion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розширення бренду, коли марка поширюється на новий сегмент споживачів або суміжну товарну категорію і ідентичність бренду при цьому залишається незмінною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ширення бренду включає в себе наступні різновид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пуск товарів, що доповнюють базову марку (наприклад, зубні щітки на додаток до зубної пасти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а цільова аудиторія споживачів (наприклад, крем Nivea для чоловіків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е призначення товар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енесення іміджу бренду на суміжну товарну категорію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Объект 3" descr=""/>
          <p:cNvPicPr/>
          <p:nvPr/>
        </p:nvPicPr>
        <p:blipFill>
          <a:blip r:embed="rId2"/>
          <a:stretch/>
        </p:blipFill>
        <p:spPr>
          <a:xfrm>
            <a:off x="1182600" y="731880"/>
            <a:ext cx="7139160" cy="429732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4"/>
          <p:cNvSpPr/>
          <p:nvPr/>
        </p:nvSpPr>
        <p:spPr>
          <a:xfrm>
            <a:off x="118728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3 Стратегічний розвиток портфеля брендів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684000" y="731880"/>
            <a:ext cx="78483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тягування і розширення бренду мають ряд переваг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якщо бренд має сильні позиції, у нього створені відносини довіри і лояльності, то ці якості бренду споживач переносить на нові товари під колишньою маркою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сування ряду товарів під однією маркою дозволяє заощадити кошти, використовуючи загальні канали дистрибуції і просування товару (реклама в ЗМІ, виставки і спеціальні заходи, BTL-реклама, заходи щодо стимулювання збуту і т.п.)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ведення нового товару під старою маркою займає істотно менше часу і зберігає кошти на його розробк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 недоліків або обмежень застосування даної стратегії відносяться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мивання бренду в свідомості споживачів, спочатку сфокусованого на одній товарній категорії, одному призначенні, одній пропозиції покупцям, одній вигоді і конкретних перевагах по відношенню до конкурентних брендів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трачена репутація, повага і підірвана довіра до одного виду товару автоматично пошириться на все марочне сімейств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611280" y="731880"/>
            <a:ext cx="7921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ови застосування стратегії розвитку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Розширення бренду не повинно змінювати його ідентичність, інакше споживачі можуть не впізнати марку в той момент, коли треба робити вибір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Не можна розширювати бренд на більш низькі цінові ніші. Споживачі сприймають це як «демарш батьківського бренду в напрямку погіршення якості»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 Master-brand (марка, яка занадто міцно асоціюється з будь-якою товарною категорією) не може бути розширена на інші категорії: споживачі просто не сприймають подібні розширенн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Розширення життєздатне лише в тому випадку, якщо воно посилює марку або, як мінімум, не шкодить їй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. Якщо на ринку занадто високий рівень конкуренції, то виграє дуже чітко сфокусований новий бренд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. Рішення про розширення бренду має прийматися, коли він уже зайняв гідну частку ринку і придбав лояльних покупців. Мінімальний показник популярності марки серед цільової аудиторії, за оцінками експертів, має становити не менше 50%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2"/>
          <a:stretch/>
        </p:blipFill>
        <p:spPr>
          <a:xfrm>
            <a:off x="1116000" y="560520"/>
            <a:ext cx="6912000" cy="7506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1115640" y="1341360"/>
            <a:ext cx="720108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-менеджмент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управління, управлінська діяльність, предметом якої в умовах маркетингової орієнтації виступає бренд підприємства, який складається з бренду товару та іміджу підприємства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-менеджмент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іяльність з управління брендами відповідно до поставлених цілей (зокрема, збільшення довгострокового споживчого капіталу бренду, вартості бренду, захисту позицій інших брендів тощо)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1" descr=""/>
          <p:cNvPicPr/>
          <p:nvPr/>
        </p:nvPicPr>
        <p:blipFill>
          <a:blip r:embed="rId2"/>
          <a:stretch/>
        </p:blipFill>
        <p:spPr>
          <a:xfrm>
            <a:off x="1116000" y="414360"/>
            <a:ext cx="7272360" cy="74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"/>
          <p:cNvGraphicFramePr/>
          <p:nvPr/>
        </p:nvGraphicFramePr>
        <p:xfrm>
          <a:off x="900000" y="1052640"/>
          <a:ext cx="7632720" cy="4962240"/>
        </p:xfrm>
        <a:graphic>
          <a:graphicData uri="http://schemas.openxmlformats.org/drawingml/2006/table">
            <a:tbl>
              <a:tblPr/>
              <a:tblGrid>
                <a:gridCol w="1843200"/>
                <a:gridCol w="2846520"/>
                <a:gridCol w="2943000"/>
              </a:tblGrid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ична концепц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пція бренд-лідер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 тактичного бренд-менеджменту до стратегіч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пект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тична і реагую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ічна та проз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ус бренд-менедж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альність за короткострокові прог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альність за довгострокові прог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птуальна мод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мідж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пітал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і фінансові показ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гострокові фінансові показ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 обмеженого фокусу до широкого фокусу використання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ниц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 продукт і рин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а кількість продуктів і ринк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бренд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ування на одному бренд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ування на великій кількості бренд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ічні границ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а краї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обальна перспект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нікативна роль бренд-менедж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рдинатор з обмеженими можливост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ідер команди із великою кількістю комунікативних можлив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нікативний фок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внішній (споживачі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к зовнішній (споживачі) так і внутрішній (організаці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ча стратегія – від продажу до ідентичност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ча стратег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ажі і частка рин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дентичність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999"/>
          <p:cNvPicPr/>
          <p:nvPr/>
        </p:nvPicPr>
        <p:blipFill>
          <a:blip r:embed="rId2"/>
          <a:stretch/>
        </p:blipFill>
        <p:spPr>
          <a:xfrm>
            <a:off x="1619280" y="404640"/>
            <a:ext cx="5905440" cy="56883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3"/>
          <p:cNvSpPr/>
          <p:nvPr/>
        </p:nvSpPr>
        <p:spPr>
          <a:xfrm>
            <a:off x="1763640" y="609300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1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дель бренд-менеджменту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345440" cy="750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3" name=""/>
          <p:cNvGraphicFramePr/>
          <p:nvPr/>
        </p:nvGraphicFramePr>
        <p:xfrm>
          <a:off x="826920" y="1793880"/>
          <a:ext cx="7705800" cy="4083120"/>
        </p:xfrm>
        <a:graphic>
          <a:graphicData uri="http://schemas.openxmlformats.org/drawingml/2006/table">
            <a:tbl>
              <a:tblPr/>
              <a:tblGrid>
                <a:gridCol w="2135520"/>
                <a:gridCol w="5570280"/>
              </a:tblGrid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в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значення поняття «портфель бренді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 Аак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і бренди або суббренди, приєднані до ринково-орієнтованих пропозицій продукту, враховуючи спільні бренди з іншими фірм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6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.-Н. Капфер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інації міжнародних та локальних, слабких та сильних, нових та зрілих брендів; відповідь на особливі цілі домінування у товарній категорії, створення бар’єрів на шляху проникнення конкурентів у мережу розподілення, привертання уваги та формування лояльності споживач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 Котл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інка становища всіх «виробництв», котрі входять до складу фірми (під «виробництвом» можна розуміти товарний асортимент, бренди, відділи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Ванек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купність брендів та суббрендів, які належать одній організа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. Зозуль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купність усіх торгових марок та марочних ліній, котрі пропонує підприємство в рамках певної товарної категор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1"/>
          <p:cNvSpPr/>
          <p:nvPr/>
        </p:nvSpPr>
        <p:spPr>
          <a:xfrm>
            <a:off x="971640" y="1128240"/>
            <a:ext cx="72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із літературних джерел щодо визначення поняття «портфель брендів»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3"/>
          <p:cNvSpPr/>
          <p:nvPr/>
        </p:nvSpPr>
        <p:spPr>
          <a:xfrm>
            <a:off x="826920" y="765000"/>
            <a:ext cx="7632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фель бренд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поєднання брендів або суббрендів у портфелі підприємства, які структуровані за певною ознакою, орієнтовані на різні цільові групи і цінові сегменти та здатні адаптуватися під ринкову ситуацію з метою забезпечення конкурентної стійкості на ринку, привернення уваги та формування позитивного іміджу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ітектура бренд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система організації та управління торговими марками компанії, з якими вона вийшла на ринок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ітектура брендів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а і системи відношень між брендами в рамках портфеля однієї компанії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3"/>
          <p:cNvSpPr/>
          <p:nvPr/>
        </p:nvSpPr>
        <p:spPr>
          <a:xfrm>
            <a:off x="1042920" y="981000"/>
            <a:ext cx="7561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орення архітектури брендів складається з чотирьох основних етапів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у всередині портфеля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у в контексті «продукт-ринок»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портфеля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ічне і вербальне втілення архітектури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3"/>
          <p:cNvSpPr/>
          <p:nvPr/>
        </p:nvSpPr>
        <p:spPr>
          <a:xfrm>
            <a:off x="826920" y="692280"/>
            <a:ext cx="7632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дидат на ліквідацію» (divestment candidate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бренд зі слабким позиціонуванням на непривабливому ринку або розходиться зі стратегічним напрямком розвитку фірми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ійна корова» (milker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бренд, що володіє, незважаючи на «втому», досить реальною силою. В зв’язку з тим, що на підтримку такого бренду витрачатися мінімум коштів, він може стати стабільним джерелом фінансування інших брендів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тратегічний бренд»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арочний товар, важливий для вирішення майбутніх завдань організації. По-перше, якщо він здатний забезпечити вагомий обсяг майбутніх продажів і прибутків. Ймовірно, це вже зараз потужний домінуючий бренд, для якого плануються утримання і розширення позицій; або це другорядний бренд, який слід вивести на роль головного. По-друге, коли це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ренд-опора» (lincpin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датний стати елементом, на якому тримається вся структура бізнесу або ґрунтується майбутній напрямок розвитку фірм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1042920" y="965160"/>
          <a:ext cx="7404120" cy="4489560"/>
        </p:xfrm>
        <a:graphic>
          <a:graphicData uri="http://schemas.openxmlformats.org/drawingml/2006/table">
            <a:tbl>
              <a:tblPr/>
              <a:tblGrid>
                <a:gridCol w="2468520"/>
                <a:gridCol w="2467080"/>
                <a:gridCol w="2468520"/>
              </a:tblGrid>
              <a:tr h="119700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а віддача низь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а віддача висо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916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пективний (високий потенціал майбутнього прибутку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енд-опора (lincpi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ічний брен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а або низька перспектива зроста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дидат на ліквідацію (divestment candidat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енд-дійна корова (milke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Rectangle 1"/>
          <p:cNvSpPr/>
          <p:nvPr/>
        </p:nvSpPr>
        <p:spPr>
          <a:xfrm>
            <a:off x="922320" y="5446080"/>
            <a:ext cx="75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2 Ролі провідних брендів в портфелі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5T15:45:23Z</dcterms:created>
  <dc:creator>Dvyhun</dc:creator>
  <dc:description/>
  <dc:language>en-US</dc:language>
  <cp:lastModifiedBy>Olya</cp:lastModifiedBy>
  <dcterms:modified xsi:type="dcterms:W3CDTF">2019-02-26T06:45:09Z</dcterms:modified>
  <cp:revision>10</cp:revision>
  <dc:subject/>
  <dc:title>Тема 4. Бренд-менеджмент</dc:title>
</cp:coreProperties>
</file>