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0D37-31A3-4249-8244-3C953E1E0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F82A-4082-4C90-9D1D-1364F454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EA03-87A8-4C10-8C02-851B46B35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460A-3D34-49F6-A398-9A4B87B8C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A590-6A03-4BFD-9720-F3C1A37C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FDD0-BE95-4B61-83F8-D9F2CC96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360C-5D29-4D20-9D0B-CC7B252A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7DBD-1C70-41C2-AF73-C4BCB8BA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C26E-5913-49C1-85CC-1AC689FF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D1DD-886B-406C-B573-37FCBED8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6D0B-8A74-49A8-B3C6-BB0A934C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E40C-05CC-415D-A4B3-8B92F25E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E660-8FED-46D6-A304-76A9C88E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8B81-66BC-4F9B-B61B-D47871F4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C819-A6E4-46FB-AB8C-E1CFDAEA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6D45-C0A2-417D-97D3-D5C656EB4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2AA6-3FCA-4256-BC39-E89EEB9B3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9EE3A-09A6-4CF3-93A2-F7D446CE1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5445D-647F-4D3B-88D8-B135D5AA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1AC71-9000-4BF7-925C-87AE1A8A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43A92-87C3-4EE4-BA7E-AC93C00A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E6454-C48B-476D-8C24-ED83E4B3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06DD-55FD-49F4-AEF2-AC0BA995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A57FF-FF2E-414E-8021-E357131A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85102-59C7-4B37-9A14-0335E422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0BDE4-479D-465D-9330-1A68CF18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60384-5AFA-41C0-A48A-D266021F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E0DD3-6A99-46FB-9699-5ED5522B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FDCA8-A093-4F86-8FE1-3EB7CA1FA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6B73C-3EFC-4731-A5F6-F6B6F8164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3EBD2-3F11-4170-9762-274C0702C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CC9E4-1341-4FC4-9610-F16F583F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8CF6A-3E4C-45A7-B1F5-2E6EB538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AA09-5B33-4A17-90B4-670FDDFA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947BB-6590-48EB-830D-21E3F37E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974DD-DA2C-4D80-A576-451B45A3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DDEFB-6E43-4B51-B52C-FD410C1D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9CEA8-EC0A-4DA4-A6AE-440C22C6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C9307-A433-4CA4-B9CE-A768C4A6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DC7E3-A812-4CAD-8FDA-8D48D54C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A2776-5792-47E4-91BB-FC8ABFD3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CA61E-0AA6-4D3F-9C83-FF3259EB6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8A38F-6EAD-437D-B861-871A44542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A441-A51D-401E-83B0-F722F43F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4A34-ED34-4834-9B88-2ED04DDC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4544-C77D-41A4-AA6D-4E6A1B24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5D8F-3D12-4D3A-916E-707E1290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AE18-3BB7-4E76-AF22-A0EFB846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6AB1-0B07-4249-9E29-B97DB8246DD2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EE94-7B71-4BD9-A7AF-3358B8DCB863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41DA-0C0D-4788-9B9B-E39C3AFE3F41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05DB-925A-47FE-9110-7BE03DFBDFCB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042920" y="1989000"/>
            <a:ext cx="7129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утність бренд-менеджменту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ртфель брендів. Архітектура бренд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тратегії розвитку бренду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042920" y="384120"/>
            <a:ext cx="727236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3"/>
          <p:cNvSpPr/>
          <p:nvPr/>
        </p:nvSpPr>
        <p:spPr>
          <a:xfrm>
            <a:off x="868320" y="706320"/>
            <a:ext cx="777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актиці для характеристики портфеля брендів найчастіше застосовують варіанти архітектури марок (брендів), запропоновані видатним американським експертом Девідом Аакером, такі як: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удинок брендів) і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удинок-бренд, або брендований будинок)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чним рішенням в рамках стратегії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є випуск всієї продукції підприємства під одним корпоративним брендом, а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паки, використовує групу автономних брендів (мультибрендінг), які існують незалежно й орієнтовані на збільшення ринкової частки та максимізацію прибутку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900000" y="731880"/>
            <a:ext cx="7344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ереваг моделі </a:t>
            </a: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сять: перенесення знання і сприйняття бренду на нові товари, фокус маркетингових бюджетів на одному бренді, концентрація зусиль компаній в одному напрямку. Недоліки: загроза розмивання іміджу і сприйняття бренду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агами моделі </a:t>
            </a: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0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: індивідуалізація кожного бренду і концентрація іміджу, відсутність залежності брендів один від одного (зниження ризику кризових ситуацій), можливість максимального використання потенціалу ринку шляхом охоплення великої кількості споживчих сегментів. Недоліки або загрози: збільшення маркетингового бюджету прямо пропорційно збільшенню кількості брендів, велика ймовірність перетинання цільових сегментів і, як наслідок, канібалізму брендів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нібалізм» брендів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й бренд переманює споживачів старого бренду того ж підприємства, а не конкуруючих (перерозподіл споживачів). Це призводить до ослаблення позицій одного з брендів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826920" y="731520"/>
            <a:ext cx="7561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Стратегії розвитку бренд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виток бренд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це збільшення сукупного марочного капіталу за допомогою охоплення більш широких груп споживачів, експансії в нові продукти і поширення впливу на нові ринки і/або категорії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брендингу прийнято виділяти дві основні стратегії розвитку бренд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rand extensio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розтягнення бренду, якщо при появі нового товару під тим же ім’ям залишаються незмінними товарна категорія, призначення, цільова аудиторія, ідентичність бренду, а змінюється лише вигода для споживач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115640" y="1267920"/>
            <a:ext cx="717228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ими видами розтягування марк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є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а кількість товару (розфасовка)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вар більшої кількості за колишню ціну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вар в новій упаковці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ий смак, склад, технологія виготовлення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і вигоди і переваги для тих же споживач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26920" y="731520"/>
            <a:ext cx="7490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rand expansio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розширення бренду, коли марка поширюється на новий сегмент споживачів або суміжну товарну категорію і ідентичність бренду при цьому залишається незмінною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ширення бренду включає в себе наступні різновид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пуск товарів, що доповнюють базову марку (наприклад, зубні щітки на додаток до зубної пасти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а цільова аудиторія споживачів (наприклад, крем Nivea для чоловіків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е призначення товар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несення іміджу бренду на суміжну товарну категорію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Объект 3" descr=""/>
          <p:cNvPicPr/>
          <p:nvPr/>
        </p:nvPicPr>
        <p:blipFill>
          <a:blip r:embed="rId2"/>
          <a:stretch/>
        </p:blipFill>
        <p:spPr>
          <a:xfrm>
            <a:off x="1182600" y="731880"/>
            <a:ext cx="7139160" cy="429732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4"/>
          <p:cNvSpPr/>
          <p:nvPr/>
        </p:nvSpPr>
        <p:spPr>
          <a:xfrm>
            <a:off x="118728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3 Стратегічний розвиток портфеля брендів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684000" y="731880"/>
            <a:ext cx="78483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тягування і розширення бренду мають ряд переваг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якщо бренд має сильні позиції, у нього створені відносини довіри і лояльності, то ці якості бренду споживач переносить на нові товари під колишньою маркою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сування ряду товарів під однією маркою дозволяє заощадити кошти, використовуючи загальні канали дистрибуції і просування товару (реклама в ЗМІ, виставки і спеціальні заходи, BTL-реклама, заходи щодо стимулювання збуту і т.п.)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ведення нового товару під старою маркою займає істотно менше часу і зберігає кошти на його розробк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 недоліків або обмежень застосування даної стратегії відносятьс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мивання бренду в свідомості споживачів, спочатку сфокусованого на одній товарній категорії, одному призначенні, одній пропозиції покупцям, одній вигоді і конкретних перевагах по відношенню до конкурентних брендів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трачена репутація, повага і підірвана довіра до одного виду товару автоматично пошириться на все марочне сімейств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11280" y="731880"/>
            <a:ext cx="7921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ови застосування стратегії розвитку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Розширення бренду не повинно змінювати його ідентичність, інакше споживачі можуть не впізнати марку в той момент, коли треба робити вибір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Не можна розширювати бренд на більш низькі цінові ніші. Споживачі сприймають це як «демарш батьківського бренду в напрямку погіршення якості»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Master-brand (марка, яка занадто міцно асоціюється з будь-якою товарною категорією) не може бути розширена на інші категорії: споживачі просто не сприймають подібні розширенн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Розширення життєздатне лише в тому випадку, якщо воно посилює марку або, як мінімум, не шкодить ї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. Якщо на ринку занадто високий рівень конкуренції, то виграє дуже чітко сфокусований новий бренд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. Рішення про розширення бренду має прийматися, коли він уже зайняв гідну частку ринку і придбав лояльних покупців. Мінімальний показник популярності марки серед цільової аудиторії, за оцінками експертів, має становити не менше 50%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2"/>
          <a:stretch/>
        </p:blipFill>
        <p:spPr>
          <a:xfrm>
            <a:off x="1116000" y="560520"/>
            <a:ext cx="6912000" cy="7506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1115640" y="1341360"/>
            <a:ext cx="720108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-менеджмент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управління, управлінська діяльність, предметом якої в умовах маркетингової орієнтації виступає бренд підприємства, який складається з бренду товару та іміджу підприємства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-менеджмент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іяльність з управління брендами відповідно до поставлених цілей (зокрема, збільшення довгострокового споживчого капіталу бренду, вартості бренду, захисту позицій інших брендів тощо)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2"/>
          <a:stretch/>
        </p:blipFill>
        <p:spPr>
          <a:xfrm>
            <a:off x="1116000" y="414360"/>
            <a:ext cx="7272360" cy="74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900000" y="1052640"/>
          <a:ext cx="7632720" cy="4962240"/>
        </p:xfrm>
        <a:graphic>
          <a:graphicData uri="http://schemas.openxmlformats.org/drawingml/2006/table">
            <a:tbl>
              <a:tblPr/>
              <a:tblGrid>
                <a:gridCol w="1843200"/>
                <a:gridCol w="2846520"/>
                <a:gridCol w="2943000"/>
              </a:tblGrid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ична концепц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пція бренд-лідер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 тактичного бренд-менеджменту до стратегіч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чна і реагую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чна та проз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 бренд-менед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сть за короткострокові прог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сть за довгострокові прог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птуальна мод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мідж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італ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і фінансові 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гострокові фінансові 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 обмеженого фокусу до широкого фокусу використання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ниц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 продукт і рин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а кількість продуктів і ринк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брен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ування на одному бренд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ування на великій кількості брен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ічні границ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а краї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обальна персп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ікативна роль бренд-менед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рдинатор з обмеженими можливост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ідер команди із великою кількістю комунікативних можлив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ікативний фок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внішній (споживачі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 зовнішній (споживачі) так і внутрішній (організаці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ча стратегія – від продажу до ідентичност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ча стратег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ажі і частка рин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дентичність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999"/>
          <p:cNvPicPr/>
          <p:nvPr/>
        </p:nvPicPr>
        <p:blipFill>
          <a:blip r:embed="rId2"/>
          <a:stretch/>
        </p:blipFill>
        <p:spPr>
          <a:xfrm>
            <a:off x="1619280" y="404640"/>
            <a:ext cx="5905440" cy="56883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3"/>
          <p:cNvSpPr/>
          <p:nvPr/>
        </p:nvSpPr>
        <p:spPr>
          <a:xfrm>
            <a:off x="1763640" y="609300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1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дель бренд-менеджмент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345440" cy="75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826920" y="1793880"/>
          <a:ext cx="7705800" cy="4083120"/>
        </p:xfrm>
        <a:graphic>
          <a:graphicData uri="http://schemas.openxmlformats.org/drawingml/2006/table">
            <a:tbl>
              <a:tblPr/>
              <a:tblGrid>
                <a:gridCol w="2135520"/>
                <a:gridCol w="5570280"/>
              </a:tblGrid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в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значення поняття «портфель бренді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 Аак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і бренди або суббренди, приєднані до ринково-орієнтованих пропозицій продукту, враховуючи спільні бренди з іншими фірм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6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-Н. Капфер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інації міжнародних та локальних, слабких та сильних, нових та зрілих брендів; відповідь на особливі цілі домінування у товарній категорії, створення бар’єрів на шляху проникнення конкурентів у мережу розподілення, привертання уваги та формування лояльності споживач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 Котл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інка становища всіх «виробництв», котрі входять до складу фірми (під «виробництвом» можна розуміти товарний асортимент, бренди, відділ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анек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купність брендів та суббрендів, які належать одній організа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. Зозуль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купність усіх торгових марок та марочних ліній, котрі пропонує підприємство в рамках певної товарної категор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"/>
          <p:cNvSpPr/>
          <p:nvPr/>
        </p:nvSpPr>
        <p:spPr>
          <a:xfrm>
            <a:off x="971640" y="1128240"/>
            <a:ext cx="72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із літературних джерел щодо визначення поняття «портфель брендів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3"/>
          <p:cNvSpPr/>
          <p:nvPr/>
        </p:nvSpPr>
        <p:spPr>
          <a:xfrm>
            <a:off x="826920" y="765000"/>
            <a:ext cx="763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фель бренд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поєднання брендів або суббрендів у портфелі підприємства, які структуровані за певною ознакою, орієнтовані на різні цільові групи і цінові сегменти та здатні адаптуватися під ринкову ситуацію з метою забезпечення конкурентної стійкості на ринку, привернення уваги та формування позитивного імідж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ітектура бренд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система організації та управління торговими марками компанії, з якими вона вийшла на ринок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ітектура брендів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а і системи відношень між брендами в рамках портфеля однієї компанії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3"/>
          <p:cNvSpPr/>
          <p:nvPr/>
        </p:nvSpPr>
        <p:spPr>
          <a:xfrm>
            <a:off x="1042920" y="981000"/>
            <a:ext cx="7561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рення архітектури брендів складається з чотирьох основних етапів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у всередині портфеля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у в контексті «продукт-ринок»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портфеля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ічне і вербальне втілення архітектури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3"/>
          <p:cNvSpPr/>
          <p:nvPr/>
        </p:nvSpPr>
        <p:spPr>
          <a:xfrm>
            <a:off x="826920" y="692280"/>
            <a:ext cx="7632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 на ліквідацію» (divestment candidate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бренд зі слабким позиціонуванням на непривабливому ринку або розходиться зі стратегічним напрямком розвитку фірми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ійна корова» (milker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бренд, що володіє, незважаючи на «втому», досить реальною силою. В зв’язку з тим, що на підтримку такого бренду витрачатися мінімум коштів, він може стати стабільним джерелом фінансування інших брендів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ратегічний бренд»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арочний товар, важливий для вирішення майбутніх завдань організації. По-перше, якщо він здатний забезпечити вагомий обсяг майбутніх продажів і прибутків. Ймовірно, це вже зараз потужний домінуючий бренд, для якого плануються утримання і розширення позицій; або це другорядний бренд, який слід вивести на роль головного. По-друге, коли це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ренд-опора» (lincpin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датний стати елементом, на якому тримається вся структура бізнесу або ґрунтується майбутній напрямок розвитку фірм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1042920" y="965160"/>
          <a:ext cx="7404120" cy="4489560"/>
        </p:xfrm>
        <a:graphic>
          <a:graphicData uri="http://schemas.openxmlformats.org/drawingml/2006/table">
            <a:tbl>
              <a:tblPr/>
              <a:tblGrid>
                <a:gridCol w="2468520"/>
                <a:gridCol w="2467080"/>
                <a:gridCol w="2468520"/>
              </a:tblGrid>
              <a:tr h="119700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а віддача низь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а віддача вис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91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ний (високий потенціал майбутнього прибутку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нд-опора (lincpi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чний брен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а або низька перспектива зроста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дидат на ліквідацію (divestment candidat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нд-дійна корова (milke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Rectangle 1"/>
          <p:cNvSpPr/>
          <p:nvPr/>
        </p:nvSpPr>
        <p:spPr>
          <a:xfrm>
            <a:off x="922320" y="5446080"/>
            <a:ext cx="75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2 Ролі провідних брендів в портфелі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5T15:45:23Z</dcterms:created>
  <dc:creator>Dvyhun</dc:creator>
  <dc:description/>
  <dc:language>en-US</dc:language>
  <cp:lastModifiedBy>Olya</cp:lastModifiedBy>
  <dcterms:modified xsi:type="dcterms:W3CDTF">2019-02-26T06:45:09Z</dcterms:modified>
  <cp:revision>10</cp:revision>
  <dc:subject/>
  <dc:title>Тема 4. Бренд-менеджмент</dc:title>
</cp:coreProperties>
</file>