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DE4-37FC-4348-A0A0-996DA7B3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A1B-67DC-4280-8D5A-9D35A76D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BBC-AB82-44C4-A8D4-FC92CFA9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974-405A-4BAE-A6E7-9C75090E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C1C-EE57-44F2-8AAE-530F6432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21F-A35F-4F46-B039-0BBD84DF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895-D81F-4692-BD04-1241FD90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C0D-96AD-4BEA-8D74-33029184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08C-77F2-4E19-ACEF-150E6B21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7E3-D9A6-4F21-BE68-62C07FF2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809-1123-4534-B29E-E85405F9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4D1-B0D5-436B-BF83-33F7518C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ACEF-108D-4F4A-B56B-86D3E45EE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Тема: Операції банків з цінними папер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920" y="23623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). Поняття та види банківських інвестицій. Діяльність банків на ринку цінних папер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2)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моги щодо здійснення банками інвестиц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3). Ризики банківських інвестиц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4). Інвестиційне кредитування та проектне фінансу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анк має протягом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трьох робочих днів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надіслати письмове повідомлення структурному підрозділу НБУ, що здійснює нагляд за діяльністю банку про здійснення інвести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анку забороняється інвестувати кошти в юридичну особу, статутом якої передбачена повна відповідальність її власни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труктурний підрозділ НБУ, що здійснює нагляд за діяльністю банку, протягом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20 робочих днів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з дня отримання всіх документів перевіряє дотримання банком вимог та приймає рішення про надання письмового дозволу на здійснення інвести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БУ з метою обмеження інвестиційного ризику, пов’язаного зі здійсненням банками інвестицій та операцій із цінними паперами, установлює такі нормативи інвестуванн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орматив інвестування в цінні папери окремо за кожною установою (Н1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орматив загальної суми інвестування (Н1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орматив інвестування в цінні папери окремо за кожною установою (Н11) встановлюється для обмеження ризику, пов'язаного з інвестуванням в акції, паї, частки та інвестиційні сертифікати окремої юридичної ос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 11 визначається як співвідношення розміру коштів, які інвестуються на придбання акцій (паїв, часток) та інвестиційних сертифікатів окремо за кожною установою, до статутного капіталу ба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ормативне значення нормативу Н11 не має перевищувати 15 відсот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орматив загальної суми інвестування (Н12)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тановлюється для обмеження ризику, пов'язаного із здійсненням банком інвестиційної діяль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1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изначається як співвідношення суми коштів, що інвестуються на придбання акцій (паїв, часток) та інвестиційних сертифікатів будь-якої юридичної особи, до статутного капіталу ба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ормативне значення нормативу Н12 не має перевищувати 60 відсот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3). Ризики банківських інвестиці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анк визначає розмір кредитного ризику за цінними паперами та інвестиціями інших компаній крім цінних паперів, на які зменшується розмір регулятивного капіта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оргові цінні папери, що рефінансуються НБ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) акції та інші фінансові інвестиції, що обліковуються за справедливою вартістю через прибуток або збит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) боргові цінні папери в торговому портфелі банку та в портфелі на продаж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) акції та інші фінансові інвестиції в портфелі банку на продаж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) інвестиції в асоційовані та дочірні компанії, що утримуються з метою продаж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) боргові цінні папери в портфелі банку до погаш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анк визначає розмір кредитного ризику за похідними фінансовими активами, за якими позитивна переоцінка вартості активів за опціонними, форвардними та ф'ючерсними контрактами, а також суми перерахованої премії опціону обліковуються за балансовими рахунками таких гру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) похідні фінансові активи в торговому портфелі бан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) похідні фінансові активи, що призначені для обліку хедж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анк визначає значення коефіцієнта ймовірності дефолту контрагента за похідним фінансовим активом залежно від виду борж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анк здійснює оцінку фінансового стану (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е рідше одного разу на квартал)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а з урахуванням виду цінного пап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изначає клас боржника - емітента цінних папер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ригування класу боржника - емітента цінних паперів з урахуванням додаткових характери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280" y="1143000"/>
          <a:ext cx="8991720" cy="5273640"/>
        </p:xfrm>
        <a:graphic>
          <a:graphicData uri="http://schemas.openxmlformats.org/drawingml/2006/table">
            <a:tbl>
              <a:tblPr/>
              <a:tblGrid>
                <a:gridCol w="1000080"/>
                <a:gridCol w="1000440"/>
                <a:gridCol w="1000080"/>
                <a:gridCol w="1000080"/>
                <a:gridCol w="998640"/>
                <a:gridCol w="1000080"/>
                <a:gridCol w="1000080"/>
                <a:gridCol w="1000080"/>
                <a:gridCol w="992160"/>
              </a:tblGrid>
              <a:tr h="838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ржники - емітенти цінних паперів, що є юридичними особ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ім банків та бюджетних установ) 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ші боржники-емітен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/</a:t>
                      </a:r>
                      <a:br>
                        <a:rPr sz="1600"/>
                      </a:b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/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/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/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5/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6/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7/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8/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600"/>
                      </a:b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9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≥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х років з державної реєст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≥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х років з державної реєст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≥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го року з державної реєст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1-го року з державної реєст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28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≥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го року з дати структурної реорганізації, змін у складі керівництва еміт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≥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ти місяців з дати структурної реорганізації, змін у складі керівництва еміт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≥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ти місяців з дати структурної реорганізації, змін у складі керівництва еміт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6-ти місяців з дати структурної реорганізації, змін у складі керівництва еміт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57200" y="152280"/>
          <a:ext cx="8229600" cy="6651720"/>
        </p:xfrm>
        <a:graphic>
          <a:graphicData uri="http://schemas.openxmlformats.org/drawingml/2006/table">
            <a:tbl>
              <a:tblPr/>
              <a:tblGrid>
                <a:gridCol w="914400"/>
                <a:gridCol w="915840"/>
                <a:gridCol w="914400"/>
                <a:gridCol w="916200"/>
                <a:gridCol w="914400"/>
                <a:gridCol w="915840"/>
                <a:gridCol w="914400"/>
                <a:gridCol w="916200"/>
                <a:gridCol w="907920"/>
              </a:tblGrid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/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5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6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7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8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9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зитивний аудиторський висновок за попередній рік діяль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овно-позитивний аудиторський висновок за попередній рік діяль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ативний аудиторський висновок за попередній рік діяльності або відсутні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53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має фактів несплати/несвоєчасної сплати нарахованих процентів за борговими зобов'язаннями або оголошених дивід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явні факти сплати нарахованих процентів за борговими зобов'язаннями або оголошених дивідендів із затримкою 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явні факти сплати нарахованих процентів за борговими зобов'язаннями або оголошених дивідендів із затримко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кал.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кал.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календарних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30 календарних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ільше 30 кал.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має фактів непогашення/несвоєчасного погашення боргових цінних папе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явні факти непогашення/несвоєчасного погашення боргових цінних паперів - із затримкою до 15 календарних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4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15 календарних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30 календарних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ільше 30 кал. дн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52280" y="0"/>
          <a:ext cx="8839440" cy="7134120"/>
        </p:xfrm>
        <a:graphic>
          <a:graphicData uri="http://schemas.openxmlformats.org/drawingml/2006/table">
            <a:tbl>
              <a:tblPr/>
              <a:tblGrid>
                <a:gridCol w="982800"/>
                <a:gridCol w="982800"/>
                <a:gridCol w="982440"/>
                <a:gridCol w="984240"/>
                <a:gridCol w="981000"/>
                <a:gridCol w="984240"/>
                <a:gridCol w="982800"/>
                <a:gridCol w="984240"/>
                <a:gridCol w="974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/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5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6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7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8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9/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має фактів непогашення/несвоєчасного погашення боргових цінних папер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явні факти непогашення/несвоєчасного погашення боргових цінних паперів - із затримкою до 15 календарних д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15 календарних д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30 календарних д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ільше 30 кал. дн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буткова діяльність протягом останніх двох рок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буткова діяльність за попередній фінансовий рік, позитивні фінансові результати поточного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буткова діяльність за попередній фінансовий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иткова діяльність за попередній фінансовий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иткова діяльність протягом останніх 2 років, негативні фінансові результати поточного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иткова діяльність протягом останніх 3 років, негативні фінансові результати поточного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мір власного капіталу суттєво перевищує розмір статутного капіталу та резервного фон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мір власного капіталу перевищує розмір статутного капіта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мір власного капіталу є нижчим розміру статутного капітал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мір власного капіталу є нижчим розміру статутного капіталу, його значення наближається до від'єм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ід'ємний розмір власного капіталу на дату оці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ід'ємний розмір власного капіталу на дату оцінки та на попередню дату оці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борговими цінними паперами виплата доходу здійснюється не рідше одного разу на квар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борговими цінними паперами виплата доходу здійснюється рідше одного разу на квар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). Поняття та види банківських інвестицій. Діяльність банків на ринку цінних папер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ВЕСТИЦІЙНА БАНКІВСЬКА ДІЯЛЬНІСТЬ – це  вкладення банків у двох основних форм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яме фінансування інвестиційних проекті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кладення в цінні папе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57200" y="152280"/>
          <a:ext cx="8686800" cy="7077240"/>
        </p:xfrm>
        <a:graphic>
          <a:graphicData uri="http://schemas.openxmlformats.org/drawingml/2006/table">
            <a:tbl>
              <a:tblPr/>
              <a:tblGrid>
                <a:gridCol w="1830240"/>
                <a:gridCol w="1830600"/>
                <a:gridCol w="1830240"/>
                <a:gridCol w="914400"/>
                <a:gridCol w="986040"/>
                <a:gridCol w="1295280"/>
              </a:tblGrid>
              <a:tr h="82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ії з векселями зі строком погашення боргу до одного р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ії з векселями зі строком погашення боргу понад один р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ії з векселями незалежно від строку погашення бор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йтинг емітента або цінних папер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A до A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йтинг емітента або цінних папері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BB+ до BB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йтинг емітента або цінних папері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B+ до 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йтинг емітента або цінних паперів CCC+ до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йтинг емітента або цінних паперів CCC+ до C або не визнач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йтинг емітента або цінних папері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мітенти, щодо яких немає жодних сумнівів щодо своєчасності та повноти погашення боргових цінних паперів і сплати процентів за ними, а також щодо отримання стабільних доходів за акціями та іншими цінними паперами з нефіксованим прибут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мітенти, щодо яких є претензії щодо своєчасного та повного погашення боргових цінних паперів, затримки сплати процентів, а також значного скорочення рівня дохідності за акціями та іншими цінними паперами з нефіксованим прибут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мітенти, які стикаються з труднощами погашення у встановлені строки боргових цінних паперів, а також емітенти, за якими банк має сумнів щодо повернення суми внеску до статутного капіталу в разі їх реорганіз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мітенти, які виявились неспроможні у встановлені строки погасити боргові цінні папери, а також емітенти, щодо яких банк не зможе повернути суми внеску до статутного капіталу в разі їх реорганіз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мітенти, придбані боргові цінні папери яких практично неможливо погасити; емітенти акцій та інших цінних паперів із нефіксованим прибутком, за якими банк не лише може не повернути свою частку в статутному капіталі, а й стати правонаступником деяких боргових зобов'яза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4). Інвестиційне кредитування та проектне фінансуван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" y="1600200"/>
          <a:ext cx="8763120" cy="5029200"/>
        </p:xfrm>
        <a:graphic>
          <a:graphicData uri="http://schemas.openxmlformats.org/drawingml/2006/table">
            <a:tbl>
              <a:tblPr/>
              <a:tblGrid>
                <a:gridCol w="3876840"/>
                <a:gridCol w="4886280"/>
              </a:tblGrid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е кредитування (І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не фінансування (ПФ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нківський інвестиційний кредит - це економічні відносини між банком як кредитором і позичальником з приводу середньо- та довгострокового фінансування інвестиційних проекті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не фінансування - це довгостроковий кредит, умовами якого передбачено погашення кредиту за рахунок притоку коштів, отриманих за рахунок впровадження проект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2280" y="0"/>
          <a:ext cx="8839440" cy="6894360"/>
        </p:xfrm>
        <a:graphic>
          <a:graphicData uri="http://schemas.openxmlformats.org/drawingml/2006/table">
            <a:tbl>
              <a:tblPr/>
              <a:tblGrid>
                <a:gridCol w="3909960"/>
                <a:gridCol w="492948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нвестиційне кредитування (І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не фінансування (ПФ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ецифіка проце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едитна операція. Моноінструментальна сх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нтетична операція, що поєднує кредитування та інші інструменти фінансування. Мультиінструментальна схе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’єкт проце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міщення позиченої вартості в необоротні активи, як правило, пов’язано з реалізацією інвестиційного проекту (ІП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П (як правило, складний, соціально значимий та із високим обсягом інвестиційних ресурсів – від 200 млн. дол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б’єкти проце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Банк (кредитні установи), держава (за умов державного інвестиційного кредитування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ідприємство – ініціатор проек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Банк, лізингові, інвестиційні, страхові компанії, НПФ, держава; підрядчики, постачальники, покупці тощо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ідприємство – ініціатор проек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Спеціальна проектна компанія (SPV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жерела погашення бор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ошові потоки від проекту та поточна діяльність позичальника. Відповідно оцінюється ефективність ІП, інвестиційна кредитоспроможність ініціатора та вплив на неї результатів реалізації І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ключно грошові потоки, що генеруються І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2280" y="0"/>
          <a:ext cx="8839440" cy="7126200"/>
        </p:xfrm>
        <a:graphic>
          <a:graphicData uri="http://schemas.openxmlformats.org/drawingml/2006/table">
            <a:tbl>
              <a:tblPr/>
              <a:tblGrid>
                <a:gridCol w="3157560"/>
                <a:gridCol w="5681880"/>
              </a:tblGrid>
              <a:tr h="36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безпечення повернення позикових кош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ьні акти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ктично відсутні активи для забезпечення повернення позикових коштів на початковому етапі інвестиційної стадії проекту. У міру освоєння коштів створені (придбані) активи можуть оформлятись в якості заставного забезпечення. Проте банк може вимагати забезпечення за проектом у формі гарантій, порук, страхува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оргове навантаження та вартість капіталу прое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к правило, питома вага боргових ресурсів не перевищує 70%. Вартість фінансування враховує ризики ІП, кредитоспроможність ініціатора та якість забезпечен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соке боргове навантаження – до 90% вартості проекту. Вартість фінансування враховує вид проектного фінансування, а також ризики проекту (підвищена процентна маржа для компенсації кредитного ризику) та в цілому є дорожчою, враховуючи відсутність застави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поділ ризику щодо проекту між його учасни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диційно позичальник приймає на себе всі ризики щодо реалізації проекту (повний регрес на позичальника). Банк зберігає право компенсації усіх зобов’язань позичальника перед ни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поділ ризиків між ініціатором та інвесторами (кредиторами). Залежить від виду проектного фінансування: банківське (залежить від права регресу); корпоративне; за участі держави (здійснюється розподіл ризиків між приватним бізнесом та державними органами влад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ь банку в процесі організації фінансування та розподілі прибутку від прое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конання банками кредитно-фінансових (кредитора, інвестора, платіжного агента, гаранта), організаційних у рамках спільного кредитування і консалтингових функцій. Банк не бере участі в розподілі прибутку від проекту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конання банками кредитно-фінансових, організаційних, аналітичних і консалтингових функцій, а в ідеалі – функцій ініціаторів проектів підприємств. При нестачі відповідного досвіду залучаються на аутсорсинг незалежні експерти та консультанти. Банк бере участь у розподілі прибутку при борговому фінансуванні в обсягах прийнятих ризиків. При пайовій участі в капіталі проектної компанії банк претендує на прибуток як акціоне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нвестиційні кошти підриємств за джерелами у 2007 - 2015 рр., млн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 5" descr="image002"/>
          <p:cNvPicPr/>
          <p:nvPr/>
        </p:nvPicPr>
        <p:blipFill>
          <a:blip r:embed="rId1"/>
          <a:stretch/>
        </p:blipFill>
        <p:spPr>
          <a:xfrm>
            <a:off x="0" y="1523880"/>
            <a:ext cx="8991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ласифікація форм інвестиційної діяльності комерційних бан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). ВІДПОВІДНО ДО ОБ’ЄКТУ ВКЛАДЕННЯ КОШ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КЛАДЕННЯ В РЕАЛЬНІ ЕКОНОМІЧНІ АКТИВИ (РЕАЛЬНІ ІНВЕСТИЦІ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КЛАДЕННЯ У ФІНАНСОВІ АКТИВИ (ФІНАНСОВІ ІНВЕСТИЦІ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). ЗАЛЕЖНО ВІД МЕТИ ВКЛА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Я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РТФЕЛЬ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). ЗА ГРУП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МІСІЙ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ЛІЄНТСЬК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ВЕСТИЦІЙ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4). З МЕТОЮ ОЦІНКИ ТА ВІДОБРАЖЕННЯ В БУХГАЛТЕРСЬКОМУ ОБЛІ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ІНАНСОВІ ІНВЕСТИЦІЇ, ЩО ОЦІНЮЮТЬСЯ ЗА СПРАВЕДЛИВОЮ ВАРТІСТЮ З ВИЗНАННЯМ ПЕРЕОЦІНКИ ЧЕРЕЗ ПРИБУТКИ/ЗБИ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ІНАНСОВІ ІНВЕСТИЦІЇ В ПОРТФЕЛІ БАНКУ НА ПРОДАЖ, А СА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оргові цінні папери, які банк не має наміру та/або змоги тримати до дати їх погашення або за наявності певних обмежень щодо обліку цінних паперів у портфелі до погаш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оргові цінні папери, які банк готовий продати у зв'язку зі зміною ринкових процентних ставок або ризиків, потреб ліквідності, наявності й дохідності альтернативних інвестицій, джерел та умов фінансування або зміною валютного ризи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акції та інші фінансові інвестиції, за якими неможливо достовірно визначити справедливу варт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ІНАНСОВІ ІНВЕСТИЦІЇ В ПОРТФЕЛІ БАНКУ ДО ПОГАШЕ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ВЕСТИЦІЇ В АСОЦІЙОВАНІ ТА ДОЧІРНІ КОМПАН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ВЕСТИЦІЇ В АСОЦІЙОВАНІ ТА ДОЧІРНІ КОМПАНІЇ, УТРИМУВАНІ ДЛЯ ПРОДА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ІЯЛЬНІСТЬ БАНКІВ НА РИНКУ ЦІННИХ ПАПЕР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дійснення депозитарної діяльності (ліцензія НКЦПФ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дійснення діяльності із зберігання активів інститутів спільного інвестування (ліцензія НКЦПФ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дійснення діяльності із зберігання активів пенсійних фондів (ліцензія НКЦПФ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слуги торговця цінними папе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слуги з обліку цінних паперів (прав на цінні папери) кліє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перації з випуску та обігу цінних папе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2)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имоги щодо здійснення банками інвестиці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ямі інвестиції банкі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- це внесення банками власних коштів або майна до статутного капіталу юридичної особи в обмін на корпоративні права (акції, паї, частки), емітовані такою юридичною особ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анк, регулятивний капітал якого відповідає вимогам, має право здійснити інвестицію без письмового дозволу, якщ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інвестиція у фінансову установу становить у сукупності не більше ніж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 відсоток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статутного капіталу бан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інвестиція здійснюється до статутного капіталу бюро кредитних історій, що має ліцензію національної комісії, що здійснює державне регулювання у сфері ринків фінансових посл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анк здійснює інвестицію на підставі письмового дозволу НБ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у фінансову установу в обсязі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ільше 1 відсотк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статутного капіталу бан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в юридичну особу в обсязі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20 і більше відсоткі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її статутного капіталу та/або голосів (крім інвестицій у фінансову установу в обсязі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енше 1 відсотк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статутного капіталу банк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анк має право здійснити інвестицію (у тому числі у фінансову установу в обсязі, що перевищує 1 відсоток статутного капіталу банку) за умови одночасного дотримання таких спеціальних вимо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строк банківської діяльності становить не менше ніж три ро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розмір регулятивного капіталу банку відповідає подвійному мінімальному розміру регулятивного капіталу банку (Н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банк не є об’єктом застосування заходів впливу (в частині щодо обмеження, зупинення чи припинення здійснення окремих видів операці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) виконання протягом останніх шести місяців економічних нормативів та вимог щодо порядку формування обов'язкових резерв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ґ) наявність прибутку за даними балансу банку протягом останніх шести місяц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06:32:24Z</dcterms:created>
  <dc:creator>User</dc:creator>
  <dc:description/>
  <dc:language>en-US</dc:language>
  <cp:lastModifiedBy>user</cp:lastModifiedBy>
  <dcterms:modified xsi:type="dcterms:W3CDTF">2021-04-20T09:57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