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B0FF6-E537-4A88-AA4E-89B828475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03C53-B8B7-426B-9F44-EABF4CC7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EAE5B-70B7-4F1A-8CF7-9632C46AE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14A39-C926-4BE0-9C4C-BE3D81A8F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8C55-D172-4DD6-8B58-D490AFBE3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D01C-667F-4CFA-8FEF-618A8D75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7A9C-7B17-4D2F-ADA4-BAE4F438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A6F5-AC1B-4BAF-AAB5-43A39E57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5A5E-68AC-412E-84B6-E4A2EBEA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F0B5-F1F5-4F3C-808B-7FB95918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AE84-140E-4B36-BDC2-9E179442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18DFD-68E4-4A9C-BCF9-EB2E9AF2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9477-552E-419B-B3F4-AEF6D9A8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368D-963B-431A-AAE1-F6C2FA39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F99C-801D-42E6-A298-70567210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AB5F-9FAD-4CED-A915-0C0FA3BAB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85B2-AE35-413A-AFB8-1670B6E1E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18621-AED5-4BB3-BD65-28B2F03C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E0083-5396-4D17-A97B-F19469EA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59138-F5A5-4FA3-8AFD-1D7ADFEB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19B75-E6CE-4F7C-BDAD-08746B51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D7D06-7397-4CBC-9ECA-E6B5FABB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6A93D-017D-4BBC-ABCE-A6B3B359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0CF16-F4E0-4DD9-9985-96D04818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F7F9-6BF1-4628-BBE3-2105D1554D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D67F-3D28-409A-B281-CCBE93E4434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Тести </a:t>
            </a:r>
            <a:br>
              <a:rPr sz="4400"/>
            </a:b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на уроках іноземної мови.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Проміжний тест. Після вивчення нового матеріалу  перед використанням отриманих знань. Завданням цього тестування є перевірка ступеня засвоєння теми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40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Заключний контроль використовую після проведення тренувальних вправ на використання нового знання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овий контроль підвищує інтерес учнів до предмета. Працюючи у класі, де вчаться учні з різним рівнем знання з предмету, звернула увагу,що найкраще виконують тести діти зі слабкою підготовкою. Ці учні показують якість знання вище,  ніж при іншому виді контролю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5e5ff"/>
                </a:solidFill>
                <a:latin typeface="Garamond"/>
              </a:rPr>
              <a:t>Використовуючи  тести на уроці  як одну з форм контролю знання учнів,  можу сказати,що тести сприяють розвитку учнів вміння спостерігати, узагальнювати,проводити аналогії, робити висновки та обґрунтовувати їх, а також використання тестів,які містять у собі творчі завдання, які спрямовані на формування у учнів розумової діяльності, такої як синтез, аналіз, узагальнення, конкретизація, аналогія.</a:t>
            </a: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Дякую за увагу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ові завдання бувають: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Відкритої форми – завдання тесту, в якому відсутні варіанти відповіде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Закритої форми – завдання з вибором відповіді з декількох запропонованих варіанті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На відповідність – завдання, в яких потрібно встановити відповідність між елементам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На встановлення правильної послідовності – завдання , в яких потрібно вказати порядок ді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Частіше на уроках використовується альтернативний вибір правильної чи неправильної відповіді. </a:t>
            </a:r>
            <a:br>
              <a:rPr sz="4400"/>
            </a:b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Наприклад, так-ні, вірно-невірно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Аналогом в англійських вправах є «True» or «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</a:t>
            </a: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alse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перехресний вибір пар з двох блоків, об’єднаних спільними ознакам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трансформацію- прикладом такого завдання служить зміна форми дієслов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заміну , підстановку-зміна форми пропозиції за допомогою підстановки одних частин мови на інші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завершення- завдання на самостійне заповнення відсутньої частини пропозиції, або текст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У практиці навчання іноземної мови вчителі також використовують тестові форми для контролю рівня сформованих мовних навичок та мовленнєвих умінь, в тому числі і для перевірки розуміння змісту текстів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Наприклад , основними тестовими завданнями, пропонованими молодшим школярам, є завдання альтернативного вибору. Після прочитання тексту   учням дається кілька тверджень, з якими потрібно або погодитися або їх спростувати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Молодші школярі допускають помилки у змісті відповіді на питання. Тому у практиці учитель повинен використовувати такий тип тестового завдання, як відповідь на питання. Це завдання посприяє правильному конструюванню відповідей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и також можуть здійснюватися у процесі гри, таким чином, для дітей їх виконання перетвориться на захоплююче заняття, а самі результати тестів виявляться максимально точними. Тестові завдання використовую не тільки для індивідуального опрацювання, так і для праці учнів у групах, у парах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У своїй роботі використовую вхідний тест на початку  теми. Він спрямований на попередження низького рівня знання, пов’язаний з наявністю недоліків, заважаючи успіху засвоєння знання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4T10:33:32Z</dcterms:created>
  <dc:creator>Львенок</dc:creator>
  <dc:description/>
  <dc:language>en-US</dc:language>
  <cp:lastModifiedBy>Admin</cp:lastModifiedBy>
  <dcterms:modified xsi:type="dcterms:W3CDTF">2021-04-29T18:49:4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