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3F65-17F8-4718-A83D-1BA1A0A2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990E-FA82-4C63-AF5D-212B07EF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CC5A-ED5C-401D-A14B-8322DC42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7AB7-9975-4028-8342-C0AA161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D7A5-0F69-4C36-8F1D-BC5DC16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359-65AE-4A54-8DF6-FCA2C424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C45-1FD1-46CE-86B7-38914F86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8491-693A-45E3-96BD-8797E10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2C8-341C-438A-B4D4-4893E7EB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B31-6812-4F2F-B766-3872BEFD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940A-372C-4C7A-8D97-11EE361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5D89-7024-4DD3-9973-D3B4AED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EDE-E440-4B6C-9B42-A99AE97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F2A4-207E-4813-8A14-52B7486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5CD7-7EFC-46FB-88A6-FAD7EE83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AC26-07B0-49BA-ABD5-DFE4929A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3DD8-E7B2-4340-AAC9-DA924E9B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63FE-0CE7-47D8-A87B-F8477985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F6DC-4AB3-4AF7-8E2C-A8CE035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B89D-5581-48FF-9B11-B3E5F80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3DC0-88AA-409F-A859-940F07B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372A-E674-4B3D-BA5D-45B68AA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50D5-404F-42F3-B02B-256DDF95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5CD3-D79C-436B-8C68-8A145D9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C5C-C45B-4629-B4ED-58BEE99F4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51C-082A-45A7-8A18-7863AD0176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Тести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 уроках іноземної мови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роміжний тест. Після вивчення нового матеріалу  перед використанням отриманих знань. Завданням цього тестування є перевірка ступеня засвоєння теми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Заключний контроль використовую після проведення тренувальних вправ на використання нового знання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ий контроль підвищує інтерес учнів до предмета. Працюючи у класі, де вчаться учні з різним рівнем знання з предмету, звернула увагу,що найкраще виконують тести діти зі слабкою підготовкою. Ці учні показують якість знання вище,  ніж при іншому виді контролю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Використовуючи  тести на уроці  як одну з форм контролю знання учнів,  можу сказати,що тести сприяють розвитку учнів вміння спостерігати, узагальнювати,проводити аналогії, робити висновки та обґрунтовувати їх, а також використання тестів,які містять у собі творчі завдання, які спрямовані на формування у учнів розумової діяльності, такої як синтез, аналіз, узагальнення, конкретизація, аналогія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якую за увагу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ові завдання бувають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ідкритої форми – завдання тесту, в якому відсутні варіанти відповід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критої форми – завдання з вибором відповіді з декількох запропонованих варіанті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ідповідність – завдання, в яких потрібно встановити відповідність між елемент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встановлення правильної послідовності – завдання , в яких потрібно вказати порядок ді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іше на уроках використовується альтернативний вибір правильної чи неправильної відповіді.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Наприклад, так-ні, вірно-невірно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Аналогом в англійських вправах є «True» or 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alse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перехресний вибір пар з двох блоків, об’єднаних спільними озна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трансформацію- прикладом такого завдання служить зміна форми дієсл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міну , підстановку-зміна форми пропозиції за допомогою підстановки одних частин мови на інш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-завершення- завдання на самостійне заповнення відсутньої частини пропозиції, або текст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практиці навчання іноземної мови вчителі також використовують тестові форми для контролю рівня сформованих мовних навичок та мовленнєвих умінь, в тому числі і для перевірки розуміння змісту текс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Наприклад , основними тестовими завданнями, пропонованими молодшим школярам, є завдання альтернативного вибору. Після прочитання тексту   учням дається кілька тверджень, з якими потрібно або погодитися або їх спростуват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Молодші школярі допускають помилки у змісті відповіді на питання. Тому у практиці учитель повинен використовувати такий тип тестового завдання, як відповідь на питання. Це завдання посприяє правильному конструюванню відповід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Тести також можуть здійснюватися у процесі гри, таким чином, для дітей їх виконання перетвориться на захоплююче заняття, а самі результати тестів виявляться максимально точними. Тестові завдання використовую не тільки для індивідуального опрацювання, так і для праці учнів у групах, у пара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У своїй роботі використовую вхідний тест на початку  теми. Він спрямований на попередження низького рівня знання, пов’язаний з наявністю недоліків, заважаючи успіху засвоєння знання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0:33:32Z</dcterms:created>
  <dc:creator>Львенок</dc:creator>
  <dc:description/>
  <dc:language>en-US</dc:language>
  <cp:lastModifiedBy>Admin</cp:lastModifiedBy>
  <dcterms:modified xsi:type="dcterms:W3CDTF">2021-04-29T18:49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