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B9B9D-B9BD-4A07-9EF8-48913836C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CAB90-492B-4C1B-94CE-BE1C21005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3F146-F42B-4DAC-96AD-1B63054A1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97B8A-E205-4CFD-842A-10B8D8BC0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A954E-010B-49D8-B79C-8C4E5C2EA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765C1-4D8D-45F4-B211-2EA7EA5A3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2C4AD-EB4D-4E57-A821-4C25F4D83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A4128-0F9F-4197-BE44-2E75F0869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6AAEA-C7D7-47B6-86F9-11300A78D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14241-B14D-4D51-A307-54CD739EF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0DB3F-7C24-4613-AA14-A7FA93D46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E83ED-F16C-4026-9AB1-8F3C44615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62D03-4ECA-46F2-B2F2-598B26291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8A756-EED4-48A9-82DE-E3E1A2CB8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C74B6-2B28-41CE-A564-6AB64B74A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DF60A-5E84-49BD-8823-A4D68E285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2F884-78C4-47D4-8455-447F18267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E5FC5-C8A4-4EAA-BB40-B88D47725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E6189-E4F0-4DC5-9542-CA7509CCF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CE378-2BEC-444F-AD26-9F5A8001C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AFA40-FBFA-4372-A942-A663D0924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A9D5D-BE37-4D2C-8116-53CB94177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7D92C-AFBF-41FB-A150-AD1154F4F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67E62-10AA-4976-92E9-E84635053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34E3F-5C4E-4E38-A752-1F53637AC9B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8C322-ED3D-4604-A454-4764F56D4CD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Тести </a:t>
            </a:r>
            <a:br>
              <a:rPr sz="4400"/>
            </a:b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на уроках іноземної мови.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Проміжний тест. Після вивчення нового матеріалу  перед використанням отриманих знань. Завданням цього тестування є перевірка ступеня засвоєння теми.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40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Заключний контроль використовую після проведення тренувальних вправ на використання нового знання.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Тестовий контроль підвищує інтерес учнів до предмета. Працюючи у класі, де вчаться учні з різним рівнем знання з предмету, звернула увагу,що найкраще виконують тести діти зі слабкою підготовкою. Ці учні показують якість знання вище,  ніж при іншому виді контролю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e5e5ff"/>
                </a:solidFill>
                <a:latin typeface="Garamond"/>
              </a:rPr>
              <a:t>Використовуючи  тести на уроці  як одну з форм контролю знання учнів,  можу сказати,що тести сприяють розвитку учнів вміння спостерігати, узагальнювати,проводити аналогії, робити висновки та обґрунтовувати їх, а також використання тестів,які містять у собі творчі завдання, які спрямовані на формування у учнів розумової діяльності, такої як синтез, аналіз, узагальнення, конкретизація, аналогія.</a:t>
            </a: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Дякую за увагу!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Тестові завдання бувають: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Відкритої форми – завдання тесту, в якому відсутні варіанти відповіде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Закритої форми – завдання з вибором відповіді з декількох запропонованих варіанті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На відповідність – завдання, в яких потрібно встановити відповідність між елементам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На встановлення правильної послідовності – завдання , в яких потрібно вказати порядок ді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Частіше на уроках використовується альтернативний вибір правильної чи неправильної відповіді. </a:t>
            </a:r>
            <a:br>
              <a:rPr sz="4400"/>
            </a:b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Наприклад, так-ні, вірно-невірно.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Аналогом в англійських вправах є «True» or «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F</a:t>
            </a: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alse»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-перехресний вибір пар з двох блоків, об’єднаних спільними ознаками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-трансформацію- прикладом такого завдання служить зміна форми дієслова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-заміну , підстановку-зміна форми пропозиції за допомогою підстановки одних частин мови на інші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-завершення- завдання на самостійне заповнення відсутньої частини пропозиції, або тексту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У практиці навчання іноземної мови вчителі також використовують тестові форми для контролю рівня сформованих мовних навичок та мовленнєвих умінь, в тому числі і для перевірки розуміння змісту текстів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Наприклад , основними тестовими завданнями, пропонованими молодшим школярам, є завдання альтернативного вибору. Після прочитання тексту   учням дається кілька тверджень, з якими потрібно або погодитися або їх спростувати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Молодші школярі допускають помилки у змісті відповіді на питання. Тому у практиці учитель повинен використовувати такий тип тестового завдання, як відповідь на питання. Це завдання посприяє правильному конструюванню відповідей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Тести також можуть здійснюватися у процесі гри, таким чином, для дітей їх виконання перетвориться на захоплююче заняття, а самі результати тестів виявляться максимально точними. Тестові завдання використовую не тільки для індивідуального опрацювання, так і для праці учнів у групах, у парах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У своїй роботі використовую вхідний тест на початку  теми. Він спрямований на попередження низького рівня знання, пов’язаний з наявністю недоліків, заважаючи успіху засвоєння знання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4T10:33:32Z</dcterms:created>
  <dc:creator>Львенок</dc:creator>
  <dc:description/>
  <dc:language>en-US</dc:language>
  <cp:lastModifiedBy>Admin</cp:lastModifiedBy>
  <dcterms:modified xsi:type="dcterms:W3CDTF">2021-04-29T18:49:46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