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9FA99-BD56-4BB1-BCB0-6112316F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7A86E-29AC-4648-AFFB-FF5BE330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77734-1C68-4494-9842-D756624B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FF1A3-2AA0-4174-882A-36A7826F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8667-CE23-4615-9BE9-F0EFF60CD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2570-A790-4948-B5D0-2EE3782C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9939-8399-4B83-93AD-CB6866BE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21D8-C1A1-48D0-9711-C232008B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63EB-876A-4F2A-ABC2-B1498702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80A5-F83F-41FE-A21C-F3DDD3C1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C184-83EB-4F36-90DF-5CA80E22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393EA-3C5E-44A3-B6D9-F1DAAB62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A606-6C39-491D-833E-B64FF004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675E-20F6-45A5-B6DC-7CC1AB06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A023-B032-405D-A5FF-EE52190C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8AB5-7D10-446F-AE5F-1FDCDAA21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DB4F-74C9-45D1-BBA3-48B5652E1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0C56D-3F03-4C7C-8779-E27FFC31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1B3CA-587E-4F89-8F54-6810AD7C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1E828-EE9C-4D90-BA1A-04BF5E71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9283C-A4C7-4B59-9298-7CECB982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34BEE-8CB2-4827-8862-AE00BECE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BACDA-739A-47C4-9675-AF3E948C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619F5-B67A-4E2D-86D7-3B022308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3717-3938-466D-AC15-602A22722E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2E4F-7D4E-4212-B718-A03185629FF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Тести </a:t>
            </a:r>
            <a:br>
              <a:rPr sz="4400"/>
            </a:b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на уроках іноземної мови.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Проміжний тест. Після вивчення нового матеріалу  перед використанням отриманих знань. Завданням цього тестування є перевірка ступеня засвоєння теми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40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Заключний контроль використовую після проведення тренувальних вправ на використання нового знання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овий контроль підвищує інтерес учнів до предмета. Працюючи у класі, де вчаться учні з різним рівнем знання з предмету, звернула увагу,що найкраще виконують тести діти зі слабкою підготовкою. Ці учні показують якість знання вище,  ніж при іншому виді контролю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5e5ff"/>
                </a:solidFill>
                <a:latin typeface="Garamond"/>
              </a:rPr>
              <a:t>Використовуючи  тести на уроці  як одну з форм контролю знання учнів,  можу сказати,що тести сприяють розвитку учнів вміння спостерігати, узагальнювати,проводити аналогії, робити висновки та обґрунтовувати їх, а також використання тестів,які містять у собі творчі завдання, які спрямовані на формування у учнів розумової діяльності, такої як синтез, аналіз, узагальнення, конкретизація, аналогія.</a:t>
            </a: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Дякую за увагу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ові завдання бувають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Відкритої форми – завдання тесту, в якому відсутні варіанти відповіде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Закритої форми – завдання з вибором відповіді з декількох запропонованих варіанті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На відповідність – завдання, в яких потрібно встановити відповідність між елементам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На встановлення правильної послідовності – завдання , в яких потрібно вказати порядок ді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Частіше на уроках використовується альтернативний вибір правильної чи неправильної відповіді. </a:t>
            </a:r>
            <a:br>
              <a:rPr sz="4400"/>
            </a:b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Наприклад, так-ні, вірно-невірно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Аналогом в англійських вправах є «True» or «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</a:t>
            </a: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alse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перехресний вибір пар з двох блоків, об’єднаних спільними ознакам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трансформацію- прикладом такого завдання служить зміна форми дієслов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заміну , підстановку-зміна форми пропозиції за допомогою підстановки одних частин мови на інші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завершення- завдання на самостійне заповнення відсутньої частини пропозиції, або текст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У практиці навчання іноземної мови вчителі також використовують тестові форми для контролю рівня сформованих мовних навичок та мовленнєвих умінь, в тому числі і для перевірки розуміння змісту текстів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Наприклад , основними тестовими завданнями, пропонованими молодшим школярам, є завдання альтернативного вибору. Після прочитання тексту   учням дається кілька тверджень, з якими потрібно або погодитися або їх спростувати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Молодші школярі допускають помилки у змісті відповіді на питання. Тому у практиці учитель повинен використовувати такий тип тестового завдання, як відповідь на питання. Це завдання посприяє правильному конструюванню відповідей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и також можуть здійснюватися у процесі гри, таким чином, для дітей їх виконання перетвориться на захоплююче заняття, а самі результати тестів виявляться максимально точними. Тестові завдання використовую не тільки для індивідуального опрацювання, так і для праці учнів у групах, у парах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У своїй роботі використовую вхідний тест на початку  теми. Він спрямований на попередження низького рівня знання, пов’язаний з наявністю недоліків, заважаючи успіху засвоєння знання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4T10:33:32Z</dcterms:created>
  <dc:creator>Львенок</dc:creator>
  <dc:description/>
  <dc:language>en-US</dc:language>
  <cp:lastModifiedBy>Admin</cp:lastModifiedBy>
  <dcterms:modified xsi:type="dcterms:W3CDTF">2021-04-29T18:49:4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