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A7BA8-72FE-44A6-A507-078272F6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E43F-826D-43CD-A7C3-9FAE028B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9A6DC-EBAD-4D7C-81EB-A16991A7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53ED5-6114-4EE3-B748-5E270F37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8D4F-9677-4955-8B5C-9782351A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37F9-76C3-4183-A5D7-BACD24BA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E2CB-49A9-4370-AFD5-2E11DD64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DBB8-6FF2-4DB0-A900-7B09071A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CDAB-4CA3-44AC-9020-C5CF5DCA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4FE3-83B4-46C1-B164-D5B0D061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FCA4-F7A5-4472-9514-B5809E86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0ED36-9A1B-4AC5-91B0-1D68E532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E286-509C-47A0-B620-3CB8DB57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5138-23FD-46BE-9FBF-98E9449A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1F83-B866-4737-8962-A7AB43AE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2A0C-0DAB-4FD5-B7B5-FC10EB99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A344-897A-4823-BF57-D9E2AD65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49636-7744-42CB-8294-2E7228E9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A5A04-AD8C-430E-A4B9-74D976AA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CD8F5-C548-4749-8900-9726C5CC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2FA34-942A-4991-B6A2-2C1CA240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6FE76-E6A4-4C4B-ADEB-D3AAA8F9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61567-E65C-4A13-9075-8FE63FE9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E47F-0D21-4EEA-81FF-AD086335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04EE-8C3E-464F-ADC7-49FAB843F6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2EDE-0AED-4865-B7BE-EE0D5B3822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Тести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 уроках іноземної мови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роміжний тест. Після вивчення нового матеріалу  перед використанням отриманих знань. Завданням цього тестування є перевірка ступеня засвоєння теми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Заключний контроль використовую після проведення тренувальних вправ на використання нового знання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ий контроль підвищує інтерес учнів до предмета. Працюючи у класі, де вчаться учні з різним рівнем знання з предмету, звернула увагу,що найкраще виконують тести діти зі слабкою підготовкою. Ці учні показують якість знання вище,  ніж при іншому виді контролю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Використовуючи  тести на уроці  як одну з форм контролю знання учнів,  можу сказати,що тести сприяють розвитку учнів вміння спостерігати, узагальнювати,проводити аналогії, робити висновки та обґрунтовувати їх, а також використання тестів,які містять у собі творчі завдання, які спрямовані на формування у учнів розумової діяльності, такої як синтез, аналіз, узагальнення, конкретизація, аналогія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якую за увагу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і завдання бувають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ідкритої форми – завдання тесту, в якому відсутні варіанти відповід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критої форми – завдання з вибором відповіді з декількох запропонованих варіанті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ідповідність – завдання, в яких потрібно встановити відповідність між елемент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становлення правильної послідовності – завдання , в яких потрібно вказати порядок ді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іше на уроках використовується альтернативний вибір правильної чи неправильної відповіді.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приклад, так-ні, вірно-невірно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Аналогом в англійських вправах є «True» or «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alse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перехресний вибір пар з двох блоків, об’єднаних спільними озна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трансформацію- прикладом такого завдання служить зміна форми дієсл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міну , підстановку-зміна форми пропозиції за допомогою підстановки одних частин мови на інш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вершення- завдання на самостійне заповнення відсутньої частини пропозиції, або текст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практиці навчання іноземної мови вчителі також використовують тестові форми для контролю рівня сформованих мовних навичок та мовленнєвих умінь, в тому числі і для перевірки розуміння змісту текс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Наприклад , основними тестовими завданнями, пропонованими молодшим школярам, є завдання альтернативного вибору. Після прочитання тексту   учням дається кілька тверджень, з якими потрібно або погодитися або їх спростуват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Молодші школярі допускають помилки у змісті відповіді на питання. Тому у практиці учитель повинен використовувати такий тип тестового завдання, як відповідь на питання. Це завдання посприяє правильному конструюванню відповід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и також можуть здійснюватися у процесі гри, таким чином, для дітей їх виконання перетвориться на захоплююче заняття, а самі результати тестів виявляться максимально точними. Тестові завдання використовую не тільки для індивідуального опрацювання, так і для праці учнів у групах, у пара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своїй роботі використовую вхідний тест на початку  теми. Він спрямований на попередження низького рівня знання, пов’язаний з наявністю недоліків, заважаючи успіху засвоєння знання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0:33:32Z</dcterms:created>
  <dc:creator>Львенок</dc:creator>
  <dc:description/>
  <dc:language>en-US</dc:language>
  <cp:lastModifiedBy>Admin</cp:lastModifiedBy>
  <dcterms:modified xsi:type="dcterms:W3CDTF">2021-04-29T18:49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