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03270-1400-456E-B2D1-958D4473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4174F-E1EA-4C36-99C7-36A90FB2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5CDAE-F0B4-491B-940E-CB0FA4B4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81B4D-0A0D-4046-9FA2-994402E8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420F-DD71-4D7A-9A52-8CFD76AA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3321-CC70-4DF6-AAE3-A550B9E3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6210-0B00-42ED-B19C-5227CDA2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3E91-E007-4735-BBEF-4FD7C25C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F481-A8D1-4788-8A58-BE9AA4F7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B57D-3E1C-426D-9F5E-6A79CD65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449F-9D07-420A-B87B-5151FA9A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AFEC5-7BF2-4F4B-9CFD-2D68F46B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DC26-0EB0-4C49-96C3-2D0D2CE7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93F6-A574-4BA0-8B3F-AB9D2C74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52B7-F714-4C33-ACB1-51CAC2B8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4A31-E126-4417-AD63-3D9544596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E70C-381E-4703-8FA5-2EA310DE2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FEC7D-27EE-410B-951F-08F6EA53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3AB1E-D4EF-4FA7-8E63-6BB754AB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DF94E-8B14-466B-888C-7369F523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E0164-7789-4630-91F2-BC8EBA00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CFE66-8188-4928-BCD3-51BD6168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97F00-8406-4FD9-9BB0-FBD4DF20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F680E-DB1B-4B2E-B19B-6EC740C7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0D7A-69DC-4570-BA0B-ED170CDEB5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3A7A-B1B9-45B8-A408-E25599342DF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Тести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на уроках іноземної мови.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Проміжний тест. Після вивчення нового матеріалу  перед використанням отриманих знань. Завданням цього тестування є перевірка ступеня засвоєння теми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40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Заключний контроль використовую після проведення тренувальних вправ на використання нового знання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овий контроль підвищує інтерес учнів до предмета. Працюючи у класі, де вчаться учні з різним рівнем знання з предмету, звернула увагу,що найкраще виконують тести діти зі слабкою підготовкою. Ці учні показують якість знання вище,  ніж при іншому виді контролю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5e5ff"/>
                </a:solidFill>
                <a:latin typeface="Garamond"/>
              </a:rPr>
              <a:t>Використовуючи  тести на уроці  як одну з форм контролю знання учнів,  можу сказати,що тести сприяють розвитку учнів вміння спостерігати, узагальнювати,проводити аналогії, робити висновки та обґрунтовувати їх, а також використання тестів,які містять у собі творчі завдання, які спрямовані на формування у учнів розумової діяльності, такої як синтез, аналіз, узагальнення, конкретизація, аналогія.</a:t>
            </a: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Дякую за увагу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ові завдання бувають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Відкритої форми – завдання тесту, в якому відсутні варіанти відповіде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Закритої форми – завдання з вибором відповіді з декількох запропонованих варіанті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На відповідність – завдання, в яких потрібно встановити відповідність між елементам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На встановлення правильної послідовності – завдання , в яких потрібно вказати порядок ді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Частіше на уроках використовується альтернативний вибір правильної чи неправильної відповіді.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Наприклад, так-ні, вірно-невірно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Аналогом в англійських вправах є «True» or «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</a:t>
            </a: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alse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перехресний вибір пар з двох блоків, об’єднаних спільними ознакам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трансформацію- прикладом такого завдання служить зміна форми дієслов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заміну , підстановку-зміна форми пропозиції за допомогою підстановки одних частин мови на інші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завершення- завдання на самостійне заповнення відсутньої частини пропозиції, або текст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У практиці навчання іноземної мови вчителі також використовують тестові форми для контролю рівня сформованих мовних навичок та мовленнєвих умінь, в тому числі і для перевірки розуміння змісту текстів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Наприклад , основними тестовими завданнями, пропонованими молодшим школярам, є завдання альтернативного вибору. Після прочитання тексту   учням дається кілька тверджень, з якими потрібно або погодитися або їх спростувати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Молодші школярі допускають помилки у змісті відповіді на питання. Тому у практиці учитель повинен використовувати такий тип тестового завдання, як відповідь на питання. Це завдання посприяє правильному конструюванню відповідей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и також можуть здійснюватися у процесі гри, таким чином, для дітей їх виконання перетвориться на захоплююче заняття, а самі результати тестів виявляться максимально точними. Тестові завдання використовую не тільки для індивідуального опрацювання, так і для праці учнів у групах, у парах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У своїй роботі використовую вхідний тест на початку  теми. Він спрямований на попередження низького рівня знання, пов’язаний з наявністю недоліків, заважаючи успіху засвоєння знання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4T10:33:32Z</dcterms:created>
  <dc:creator>Львенок</dc:creator>
  <dc:description/>
  <dc:language>en-US</dc:language>
  <cp:lastModifiedBy>Admin</cp:lastModifiedBy>
  <dcterms:modified xsi:type="dcterms:W3CDTF">2021-04-29T18:49:4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