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78401D-0D56-4240-BBC1-B1E02A980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32CDFF-AA8D-4C96-8EE0-E3021619A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BC1DBE-DF71-47E9-8B12-2D0BA43A7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3699E0-5947-404A-999B-E36ECDD33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1CCF5-B19E-4E64-9199-398C45AD2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16BA0-A1FD-43B4-A7F3-324DD516D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0928C-FF8A-49B4-AE8B-E12311F0A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6A868-3470-4278-B32E-843B4B85D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650B6-2F86-4D74-8374-59571DCEB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510AB-7267-4B03-A45A-C4A52EC3C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D588D-8BEA-47AE-9D9D-DA11EAC51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20DDC4-AE77-461C-B16A-B8EB19F99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FE856-2974-4B3B-983F-CA3BDE019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230ED-8A44-4C89-82B4-9823FAA65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FBA31-413C-49E2-AC97-49B3C6228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AD589-E9A1-4DAE-AC79-30AEBE7BC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1FABC-53DE-4A92-ADD6-05B12CBE9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153CC6-DA09-4E94-8E29-C321BB7EF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94E092-04A7-4B39-8EF4-921C8F511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E7ACA6-02D1-4896-8C87-1E961174B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872302-F2AD-4E36-9C48-2C38769AA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51F51A-51B6-494E-A8E3-F07866914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E6E970-0D67-4A96-BFAA-63465D0FF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0E5AEC-2545-4EEF-9AD4-B1CB865BB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B75FB-9A2B-4682-9C76-7659E222A1C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56544-63E9-481A-8FCC-F8A4AEE75E6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e5e5ff"/>
                </a:solidFill>
                <a:latin typeface="Garamond"/>
              </a:rPr>
              <a:t>Тести </a:t>
            </a:r>
            <a:br>
              <a:rPr sz="4400"/>
            </a:br>
            <a:r>
              <a:rPr b="1" lang="uk-UA" sz="4400" spc="-1" strike="noStrike">
                <a:solidFill>
                  <a:srgbClr val="e5e5ff"/>
                </a:solidFill>
                <a:latin typeface="Garamond"/>
              </a:rPr>
              <a:t>на уроках іноземної мови.</a:t>
            </a:r>
            <a:br>
              <a:rPr sz="4400"/>
            </a:b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e5e5ff"/>
                </a:solidFill>
                <a:latin typeface="Garamond"/>
              </a:rPr>
              <a:t>Проміжний тест. Після вивчення нового матеріалу  перед використанням отриманих знань. Завданням цього тестування є перевірка ступеня засвоєння теми.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381880" cy="40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e5e5ff"/>
                </a:solidFill>
                <a:latin typeface="Garamond"/>
              </a:rPr>
              <a:t>Заключний контроль використовую після проведення тренувальних вправ на використання нового знання.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e5e5ff"/>
                </a:solidFill>
                <a:latin typeface="Garamond"/>
              </a:rPr>
              <a:t>Тестовий контроль підвищує інтерес учнів до предмета. Працюючи у класі, де вчаться учні з різним рівнем знання з предмету, звернула увагу,що найкраще виконують тести діти зі слабкою підготовкою. Ці учні показують якість знання вище,  ніж при іншому виді контролю.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e5e5ff"/>
                </a:solidFill>
                <a:latin typeface="Garamond"/>
              </a:rPr>
              <a:t>Використовуючи  тести на уроці  як одну з форм контролю знання учнів,  можу сказати,що тести сприяють розвитку учнів вміння спостерігати, узагальнювати,проводити аналогії, робити висновки та обґрунтовувати їх, а також використання тестів,які містять у собі творчі завдання, які спрямовані на формування у учнів розумової діяльності, такої як синтез, аналіз, узагальнення, конкретизація, аналогія.</a:t>
            </a:r>
            <a:r>
              <a:rPr b="1" lang="uk-UA" sz="44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e5e5ff"/>
                </a:solidFill>
                <a:latin typeface="Garamond"/>
              </a:rPr>
              <a:t>Дякую за увагу!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e5e5ff"/>
                </a:solidFill>
                <a:latin typeface="Garamond"/>
              </a:rPr>
              <a:t>Тестові завдання бувають: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Відкритої форми – завдання тесту, в якому відсутні варіанти відповідей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Закритої форми – завдання з вибором відповіді з декількох запропонованих варіантів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На відповідність – завдання, в яких потрібно встановити відповідність між елементам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На встановлення правильної послідовності – завдання , в яких потрібно вказати порядок дій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7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e5e5ff"/>
                </a:solidFill>
                <a:latin typeface="Garamond"/>
              </a:rPr>
              <a:t>Частіше на уроках використовується альтернативний вибір правильної чи неправильної відповіді. </a:t>
            </a:r>
            <a:br>
              <a:rPr sz="4400"/>
            </a:br>
            <a:r>
              <a:rPr b="1" lang="uk-UA" sz="4400" spc="-1" strike="noStrike">
                <a:solidFill>
                  <a:srgbClr val="e5e5ff"/>
                </a:solidFill>
                <a:latin typeface="Garamond"/>
              </a:rPr>
              <a:t>Наприклад, так-ні, вірно-невірно.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e5e5ff"/>
                </a:solidFill>
                <a:latin typeface="Garamond"/>
              </a:rPr>
              <a:t>Аналогом в англійських вправах є «True» or «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F</a:t>
            </a:r>
            <a:r>
              <a:rPr b="1" lang="uk-UA" sz="4000" spc="-1" strike="noStrike">
                <a:solidFill>
                  <a:srgbClr val="e5e5ff"/>
                </a:solidFill>
                <a:latin typeface="Garamond"/>
              </a:rPr>
              <a:t>alse»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-перехресний вибір пар з двох блоків, об’єднаних спільними ознаками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-трансформацію- прикладом такого завдання служить зміна форми дієслова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-заміну , підстановку-зміна форми пропозиції за допомогою підстановки одних частин мови на інші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-завершення- завдання на самостійне заповнення відсутньої частини пропозиції, або тексту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e5e5ff"/>
                </a:solidFill>
                <a:latin typeface="Garamond"/>
              </a:rPr>
              <a:t>У практиці навчання іноземної мови вчителі також використовують тестові форми для контролю рівня сформованих мовних навичок та мовленнєвих умінь, в тому числі і для перевірки розуміння змісту текстів.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5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e5e5ff"/>
                </a:solidFill>
                <a:latin typeface="Garamond"/>
              </a:rPr>
              <a:t>Наприклад , основними тестовими завданнями, пропонованими молодшим школярам, є завдання альтернативного вибору. Після прочитання тексту   учням дається кілька тверджень, з якими потрібно або погодитися або їх спростувати.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e5e5ff"/>
                </a:solidFill>
                <a:latin typeface="Garamond"/>
              </a:rPr>
              <a:t>Молодші школярі допускають помилки у змісті відповіді на питання. Тому у практиці учитель повинен використовувати такий тип тестового завдання, як відповідь на питання. Це завдання посприяє правильному конструюванню відповідей.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7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e5e5ff"/>
                </a:solidFill>
                <a:latin typeface="Garamond"/>
              </a:rPr>
              <a:t>Тести також можуть здійснюватися у процесі гри, таким чином, для дітей їх виконання перетвориться на захоплююче заняття, а самі результати тестів виявляться максимально точними. Тестові завдання використовую не тільки для індивідуального опрацювання, так і для праці учнів у групах, у парах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e5e5ff"/>
                </a:solidFill>
                <a:latin typeface="Garamond"/>
              </a:rPr>
              <a:t>У своїй роботі використовую вхідний тест на початку  теми. Він спрямований на попередження низького рівня знання, пов’язаний з наявністю недоліків, заважаючи успіху засвоєння знання.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24T10:33:32Z</dcterms:created>
  <dc:creator>Львенок</dc:creator>
  <dc:description/>
  <dc:language>en-US</dc:language>
  <cp:lastModifiedBy>Admin</cp:lastModifiedBy>
  <dcterms:modified xsi:type="dcterms:W3CDTF">2021-04-29T18:49:46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