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2E42-E742-4E81-A07A-615BD07F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2BEB-0E40-4F42-AA8C-D4364591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9EA5-4082-4FE2-9C71-1016FDFB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F430-3EC1-4FF3-85CC-437262FC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0747-C75C-4EE4-B2D5-79EF2289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1663-7D8E-4464-BE9D-93440102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AABC-4578-4D8A-A070-08CA46EC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BD82-5261-466B-9CF5-3B6157AB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1243-5234-4AAC-97B0-F7B25A25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F25C-8BC4-44CE-A143-89E613B1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8C4A-29B1-4C2A-B76E-554857FE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D922-A82D-4C2C-96E3-840AC02B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36AD-A8B2-4829-AA01-7FB02EE8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C12F-897E-4DB2-864B-6350729E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CEAE-119B-425D-9B47-57A1E2E0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6010-524E-4E02-B180-0FC26E3C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D153-5699-4F26-8D19-3DD95E67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7E2C8-73D5-418E-B388-D7146AFC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8D65D-7D59-4A6D-8F58-170BD16B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211ED-1FF1-44CF-BA7B-D02A283C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33553-235B-4841-B0E9-B3C0A864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E8A05-0BDB-406D-AC75-00DE9BE3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863A-1A57-4E7F-8E61-995D732A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CFC9B-C640-42CC-8181-34EAC062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35021-BA35-4284-98CA-92271CA8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FF71F-EBC7-49B9-90D6-1C8FF381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50A0C-E104-472B-868E-681D43AE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89780-B91F-40CF-B7BA-75DCF8E4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0572A-F724-43E4-86A9-F48D7A07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9103F-3377-4D1B-9226-70F4E26F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4A2B3-B594-4896-A056-61A34A7B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23720-8CE2-48A9-B84E-2280F184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9BE17-009E-4E7E-A01A-60DAEF37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9647-837D-484A-B803-AE157C4E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1E34F-05B8-46C6-B63F-E2B04D93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7C169-309F-4327-A2F6-65350292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61A3C-3FFF-4690-B836-F1904F60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E4DC2-A065-4BA5-A526-E0C9F056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F68E2-1D25-4ACE-A313-A3FAC381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73E4E-44A8-4072-9B78-7F3622A9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5C4F7-A922-458B-9287-3A58B506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4C1B7-929F-443C-B00B-01FAF84B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F0B28-B0B9-481F-9343-A5222BD7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CA17-E8DF-4973-A83C-D43618E3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B79B-EF50-451C-8B44-D51A846C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CFD0-8715-4067-BFE1-65004E7B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124D-D16F-4A8B-92B9-BD6D505D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899B-371D-4769-894E-86861215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94F3-E729-49CE-81F6-8ACB0D19AA2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18AB-F6AB-4FA9-865A-20DCD3448ED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7EDC-E216-48E9-84D5-99FA6C85EF2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E428-A78C-4559-828B-53D5A753934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705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іввідношення термінів бренд, товарна марка та товарний знак. Визначення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аги використання бренду. Функції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и бренді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Ідентичність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48512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200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" descr="ÐÐ¾Ð³Ð¾ÑÐ¸Ð¿ Nestle"/>
          <p:cNvPicPr/>
          <p:nvPr/>
        </p:nvPicPr>
        <p:blipFill>
          <a:blip r:embed="rId2"/>
          <a:stretch/>
        </p:blipFill>
        <p:spPr>
          <a:xfrm>
            <a:off x="2050920" y="765000"/>
            <a:ext cx="511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34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" descr="Ð¤Ð°Ð¹Ð»:Motor Sich logo.png"/>
          <p:cNvPicPr/>
          <p:nvPr/>
        </p:nvPicPr>
        <p:blipFill>
          <a:blip r:embed="rId2"/>
          <a:stretch/>
        </p:blipFill>
        <p:spPr>
          <a:xfrm>
            <a:off x="1979640" y="907920"/>
            <a:ext cx="5184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40328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91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71280" y="1483920"/>
            <a:ext cx="71737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691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7101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" descr="ÐÐ¾Ð»Ð¸Ð·ÐµÐ¹ Ð² Ð Ð¸Ð¼Ðµ"/>
          <p:cNvPicPr/>
          <p:nvPr/>
        </p:nvPicPr>
        <p:blipFill>
          <a:blip r:embed="rId2"/>
          <a:stretch/>
        </p:blipFill>
        <p:spPr>
          <a:xfrm>
            <a:off x="1476360" y="1268280"/>
            <a:ext cx="662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47636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" descr="Image"/>
          <p:cNvPicPr/>
          <p:nvPr/>
        </p:nvPicPr>
        <p:blipFill>
          <a:blip r:embed="rId2"/>
          <a:stretch/>
        </p:blipFill>
        <p:spPr>
          <a:xfrm>
            <a:off x="1403280" y="1484280"/>
            <a:ext cx="640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6669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" descr="Oscar statuette for Oscar records.jpg"/>
          <p:cNvPicPr/>
          <p:nvPr/>
        </p:nvPicPr>
        <p:blipFill>
          <a:blip r:embed="rId2"/>
          <a:stretch/>
        </p:blipFill>
        <p:spPr>
          <a:xfrm>
            <a:off x="2916360" y="765000"/>
            <a:ext cx="367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101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12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2640" y="731520"/>
            <a:ext cx="68137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48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6912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24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43000" y="731880"/>
            <a:ext cx="6958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а мар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назва, поняття, знак, символ, дизайн або їх комбінація, які призначені для ідентифікації запропонованих продавцем товарів або послуг, а також для встановлення їх відмінностей від товарів і послуг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ий знак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зареєстрована торгова марка, яка забезпечена правовим захистом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7201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лежно від контролю та маркетингової підтрим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бренд виробни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власний бренд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label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торгівельна марка продавц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 географічною ознако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а характеризує ступінь поширення бренду, розрізняють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глоб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лок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аціон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490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ди брендингу у залежності від стратегії розшире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онобрендинг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рпоративний брен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єдиний бренд, під яким випускається продукція компан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ббрендинг (сімейний, дочірній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бренд, що представляє окремий товар (або лінію товарів), відмінний від материнського, але який зберігає безпосередній зв’язок з 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-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або спільний бренд, від англійсь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виникає тоді, коли два або більше бренда вирішують об’єднати свої зусилля та одержати від цього додаткову вигоду (спонсорство, виробниче співробітництво, спільні акції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расольков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оширюється на суміжні товарні категор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ульти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підтримка декількох самостійних (індивідуальних) брендів, які існують відокремле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1" lang="ru-RU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(brand identity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унікальний набір пов’язаних з брендом ознак, що описує, для чого існує бренд, і несе в собі обіцянку споживачеві з боку вироб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а характерних особливостей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є специфічною концепцією, яка має так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унк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фік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однозначне і точне розпізнавання бренду споживачами в реальному конкурентному середовищі на будь-якому ринку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диференці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істотні відмінності від конкурентних брендів і унікальні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плив на поведінку споживач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утримання існуючих та залучення потенційних споживачів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26920" y="731880"/>
            <a:ext cx="7490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and Identity System 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аке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бренду вивчаються на двох рівнях за 12 позиціями, згрупованими за чотирма напрямками: бренд як продукт, бренд як організація, бренд як особистість і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ижнев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ширен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Бренд як продук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Меж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2. Властивост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 Якість / цін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 Сфери використа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5. Користувачі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6. Країна походже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Бренд як орган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Атрибути організації (наприклад, інноваційність, орієнтація на покупця, забезпечення довіри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Локалізація / глобал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Бренд як індивідуаль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 Індивідуальність (наприклад, щира, енергійна, прямодушному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 Взаємини між брендом і покупцем (наприклад, «друг», «порадник»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1. Візуальні образи і метафор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2. Спадщина бренду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488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520"/>
            <a:ext cx="6958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ідентичності бренду Чернатоні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 де Чернатоні, Великобританія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ор по бренд-маркетингу Л. де Чернатоні пропонує модель ідентичності бренду, яка складається з п’яти елементів; кожен попередній рівень створює основу для подальшого рів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трибути бренд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игод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емоційне винагород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цінності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собистісні як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0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84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58560" y="691920"/>
            <a:ext cx="7102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BrandWorks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earch Business International, Великобритані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ька дослідницька фірма Research Business International пропонує модель, що включає в себе шість гра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користувач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повідає уявленню про своїх потенційних споживачів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родукт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ображає те, як споживачі сприймають функціональні атрибути бренд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слуг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арактеризує те, як бренд взаємодіє зі споживачем: як він ставиться до клієнту і як він функціонує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дії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аховує контекст, в якому відбувається взаємодія споживача з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сть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яснює емоційні та раціональні цінності бренду і допомагає виразити зв’язок між споживачем і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бут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’язує п’ять інших елементів системи характерних особливостей бренду як цілісний і емоційно близький образ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142640" y="731880"/>
            <a:ext cx="7101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відчутна сума властивостей продукту: його імені, упаковки і ціни, його історії, репутації і способу рекламування. Бренд також є поєднанням враження, яке він справляє на споживачів, і результатом їх досвіду у використанні бренду». (Д. Огилві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те, що споживачі відчувають по відношенню до продукту; це прихильність до нього; ті персональні якості, які вони приписують продукту, довіра і відданість, які вони відчувають до нього». (Рекламне агентство Ogilvy&amp;Math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201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403280" y="731880"/>
            <a:ext cx="6264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43000" y="731520"/>
            <a:ext cx="69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Вrand Рyrami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Ш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нтичність бренду складається з 7 елементів, причому кожен попередній рівень створює основу для подальш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рибути бренду – зовнішні ознаки, за якими він ідентифікується споживач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іональні вигоди – раціональні вигоди від бренд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моційні переваги – емоції та почуття від використання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Цінності споживача, які підтримує брен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Індивідуальність бренду описує його характер та відмітні якості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нікальна торговельна пропозиція (УТП) – головна причина для покупки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уть бренду – ключова ідея, змістовне ядро, яке виражене двома-трьома слов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26560" y="731880"/>
            <a:ext cx="7705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 річ, продукт, компанія або організація. Бренди не існують в реальному світі – це ментальні конструкції. Бренд найкраще описати як суму всього досвіду людини, його сприйняття речі, продукту, компанії або організації. Бренди існують у вигляді свідомості або конкретних людей, або суспільства» (цитата по книзі James R. Gregory «Leveraging the Corporate Brand»McGraw-Hill, 1997, USA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Переваги використання бренду. Функції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споживачі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витрат клієнтів на пошук товарів шляхом забезпечення їх швидкої і точної ідентифікац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сприйняття ризику, забезпечення гарантії якості та послідовності (в тому числі для нових товарів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абезпечення додаткової впевненості, психологічної винагороди від купівл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підкреслення певного суспільного статусу та престижу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99640" y="731880"/>
            <a:ext cx="7272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виробник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зволяє отримувати додатковий прибуто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хищає виробника в процесі роботи з партнер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процедуру вибору товару споживачем, оскільки саме брендові товари споживачі вважають найбільш якісни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фікує компанію-виробника та її товари серед товарів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вихід виробника з новими товарами на суміжні рин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жливість робити інвестиції в майбутнє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безпечує емоційний зв’язок з покупц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6512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новні функції бренда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41672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інформативна (захисна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саме бренд дає змогу споживачу чітко визначити основні цінності підприємства; донести до споживача інформацію про унікальність товару; матеріальну та нематеріальну користь, позиціонуючи таким чином товар на ринк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естижн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статус товару, гарантія якості, задоволення споживачів, імідж вироб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економіч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додаткова вартість підприємства та його акцій за рахунок бренда; додаткова вартість у ціні товару; потужний бренд є інструментом інвестицій у маркетинг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бар’єрн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захист від імітацій і копіювання; укріплення позицій щодо товарів субститутів; ускладнення процесу проникнення конкурентів на ринок; створення емоційних і раціональних передумов для повторних покупок лояльної аудиторі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6801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Види брендів</a:t>
            </a: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85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) товарні бренди (Product Brands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) сервісні бренди (Service Brands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) бренди організацій (корпоративні бренд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) бренд подій (Event В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) бренди осіб (Personal B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) географічні бренди (Geographical Вrands).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5:45:33Z</dcterms:created>
  <dc:creator>Dvyhun</dc:creator>
  <dc:description/>
  <dc:language>en-US</dc:language>
  <cp:lastModifiedBy>Olya</cp:lastModifiedBy>
  <dcterms:modified xsi:type="dcterms:W3CDTF">2019-01-30T08:34:54Z</dcterms:modified>
  <cp:revision>47</cp:revision>
  <dc:subject/>
  <dc:title>Тема 1. Поняття і сутність бренду</dc:title>
</cp:coreProperties>
</file>