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7406-DEE7-4DD0-BB2F-946A839C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5A42-408C-45EB-8C1A-14B3BE04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13CA-F1BA-4BC2-A039-901A8DDC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C583-1C51-47FF-88BB-FDCD9663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82B0-B511-4079-961F-17F375C1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4A52-6082-44AC-940A-EC567173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778E-609A-4C02-8FB3-2A885AFF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EB8C-646F-440C-B72F-924B4125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587A-BF7B-4013-AF68-5D59C6B8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2741-A6AB-4467-A3B4-080206D5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2B32-F68F-4E40-A56E-C9816164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8CFC-B3CE-49DC-B44B-ED01577F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9E2F-FE47-467B-A36C-31710360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D905-3C79-4573-9BAC-AA8E3E70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2359-D8EB-423F-B9EE-C8224A8D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4C95-BD30-4425-A92E-A1A07E91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E1CF-73F9-4A38-B38F-5ACFD4B0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DBEFE-24DB-42A9-9828-71D1DD96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98897-E168-44A2-AD58-517E7DC9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8FEA5-9894-435D-897C-02357627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790EC-EA1A-452B-B998-F304D37E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202EC-61D9-4B22-85F6-C1264DD9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62F7-96D4-4EDE-A636-A6919B1C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9CA02-B89F-4B78-8279-00C81C31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20675-9987-4D82-B72E-259A220E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95A43-86B5-4888-AEFA-666650D6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27BD5-43F4-4B00-B2B0-2F06C85D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8BD30-1537-4952-AD87-7329349B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91EF4-EC70-4B54-BE31-0BF6BE56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AD7A9-63F4-4622-9529-69085C20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48FCD-064A-469E-B392-76AC4507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6FB1F-4CB8-4752-B9BD-47510852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2BD63-20AA-424C-A77A-2667E6F4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847A-A1C1-45E7-A742-287E0B9A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8257A-FD99-4C59-BFC9-42D3FFF3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A22D3-5A4B-44C8-966C-ABFDF969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85699-82B0-42C1-A96C-5A68414D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97DFA-D759-4D17-AE01-53D67891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E4188-9E9C-422F-AA28-FE66774C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42E5C-05DB-4ACE-BC21-F8967A70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C4999-42E3-43F6-9BD0-CAC9C018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FF7AD-9D34-4D2C-B407-965BDD54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F0F02-1383-47CB-99D9-52FBAFB5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EFE-3692-462E-8B12-A353C02F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5C16-583C-44D0-804A-8C880E39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AFA0-B9F8-42CC-8F35-E55789D5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D886-D8E2-4615-9763-5BD64436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D431-0298-4675-B40E-902ED1FA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7E6F-C844-46D8-AE60-A042E1740F3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DE29-CE20-4924-ABCB-F238C3BB77C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E669-6A89-48C7-A81F-EDDA74D2653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71E6-19BD-4C00-871B-DD7EA890A69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705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іввідношення термінів бренд, товарна марка та товарний знак. Визначення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аги використання бренду. Функції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и бренді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Ідентичність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48512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200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" descr="ÐÐ¾Ð³Ð¾ÑÐ¸Ð¿ Nestle"/>
          <p:cNvPicPr/>
          <p:nvPr/>
        </p:nvPicPr>
        <p:blipFill>
          <a:blip r:embed="rId2"/>
          <a:stretch/>
        </p:blipFill>
        <p:spPr>
          <a:xfrm>
            <a:off x="2050920" y="765000"/>
            <a:ext cx="511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34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" descr="Ð¤Ð°Ð¹Ð»:Motor Sich logo.png"/>
          <p:cNvPicPr/>
          <p:nvPr/>
        </p:nvPicPr>
        <p:blipFill>
          <a:blip r:embed="rId2"/>
          <a:stretch/>
        </p:blipFill>
        <p:spPr>
          <a:xfrm>
            <a:off x="1979640" y="907920"/>
            <a:ext cx="5184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40328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91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71280" y="1483920"/>
            <a:ext cx="71737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691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7101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" descr="ÐÐ¾Ð»Ð¸Ð·ÐµÐ¹ Ð² Ð Ð¸Ð¼Ðµ"/>
          <p:cNvPicPr/>
          <p:nvPr/>
        </p:nvPicPr>
        <p:blipFill>
          <a:blip r:embed="rId2"/>
          <a:stretch/>
        </p:blipFill>
        <p:spPr>
          <a:xfrm>
            <a:off x="1476360" y="1268280"/>
            <a:ext cx="662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47636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" descr="Image"/>
          <p:cNvPicPr/>
          <p:nvPr/>
        </p:nvPicPr>
        <p:blipFill>
          <a:blip r:embed="rId2"/>
          <a:stretch/>
        </p:blipFill>
        <p:spPr>
          <a:xfrm>
            <a:off x="1403280" y="1484280"/>
            <a:ext cx="640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6669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" descr="Oscar statuette for Oscar records.jpg"/>
          <p:cNvPicPr/>
          <p:nvPr/>
        </p:nvPicPr>
        <p:blipFill>
          <a:blip r:embed="rId2"/>
          <a:stretch/>
        </p:blipFill>
        <p:spPr>
          <a:xfrm>
            <a:off x="2916360" y="765000"/>
            <a:ext cx="367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101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12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2640" y="731520"/>
            <a:ext cx="68137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48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6912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24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43000" y="731880"/>
            <a:ext cx="6958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а мар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назва, поняття, знак, символ, дизайн або їх комбінація, які призначені для ідентифікації запропонованих продавцем товарів або послуг, а також для встановлення їх відмінностей від товарів і послуг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ий знак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зареєстрована торгова марка, яка забезпечена правовим захистом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7201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лежно від контролю та маркетингової підтрим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бренд виробни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власний бренд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label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торгівельна марка продавц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 географічною ознако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а характеризує ступінь поширення бренду, розрізняють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глоб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лок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аціон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490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ди брендингу у залежності від стратегії розшире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онобрендинг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рпоративний брен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єдиний бренд, під яким випускається продукція компан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ббрендинг (сімейний, дочірній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бренд, що представляє окремий товар (або лінію товарів), відмінний від материнського, але який зберігає безпосередній зв’язок з 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-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або спільний бренд, від англійсь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виникає тоді, коли два або більше бренда вирішують об’єднати свої зусилля та одержати від цього додаткову вигоду (спонсорство, виробниче співробітництво, спільні акції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расольков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оширюється на суміжні товарні категор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ульти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підтримка декількох самостійних (індивідуальних) брендів, які існують відокремле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1" lang="ru-RU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(brand identity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унікальний набір пов’язаних з брендом ознак, що описує, для чого існує бренд, і несе в собі обіцянку споживачеві з боку вироб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а характерних особливостей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є специфічною концепцією, яка має так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унк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фік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однозначне і точне розпізнавання бренду споживачами в реальному конкурентному середовищі на будь-якому ринку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диференці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істотні відмінності від конкурентних брендів і унікальні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плив на поведінку споживач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утримання існуючих та залучення потенційних споживачів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26920" y="731880"/>
            <a:ext cx="7490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and Identity System 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аке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бренду вивчаються на двох рівнях за 12 позиціями, згрупованими за чотирма напрямками: бренд як продукт, бренд як організація, бренд як особистість і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ижнев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ширен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Бренд як продук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Меж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2. Властивост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 Якість / цін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 Сфери використа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5. Користувачі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6. Країна походже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Бренд як орган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Атрибути організації (наприклад, інноваційність, орієнтація на покупця, забезпечення довіри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Локалізація / глобал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Бренд як індивідуаль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 Індивідуальність (наприклад, щира, енергійна, прямодушному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 Взаємини між брендом і покупцем (наприклад, «друг», «порадник»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1. Візуальні образи і метафор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2. Спадщина бренду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488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520"/>
            <a:ext cx="6958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ідентичності бренду Чернатоні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 де Чернатоні, Великобританія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ор по бренд-маркетингу Л. де Чернатоні пропонує модель ідентичності бренду, яка складається з п’яти елементів; кожен попередній рівень створює основу для подальшого рів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трибути бренд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игод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емоційне винагород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цінності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собистісні як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0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84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58560" y="691920"/>
            <a:ext cx="7102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BrandWorks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earch Business International, Великобритані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ька дослідницька фірма Research Business International пропонує модель, що включає в себе шість гра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користувач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повідає уявленню про своїх потенційних споживачів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родукт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ображає те, як споживачі сприймають функціональні атрибути бренд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слуг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арактеризує те, як бренд взаємодіє зі споживачем: як він ставиться до клієнту і як він функціонує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дії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аховує контекст, в якому відбувається взаємодія споживача з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сть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яснює емоційні та раціональні цінності бренду і допомагає виразити зв’язок між споживачем і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бут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’язує п’ять інших елементів системи характерних особливостей бренду як цілісний і емоційно близький образ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142640" y="731880"/>
            <a:ext cx="7101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відчутна сума властивостей продукту: його імені, упаковки і ціни, його історії, репутації і способу рекламування. Бренд також є поєднанням враження, яке він справляє на споживачів, і результатом їх досвіду у використанні бренду». (Д. Огилві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те, що споживачі відчувають по відношенню до продукту; це прихильність до нього; ті персональні якості, які вони приписують продукту, довіра і відданість, які вони відчувають до нього». (Рекламне агентство Ogilvy&amp;Math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201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403280" y="731880"/>
            <a:ext cx="6264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43000" y="731520"/>
            <a:ext cx="69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Вrand Рyrami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Ш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нтичність бренду складається з 7 елементів, причому кожен попередній рівень створює основу для подальш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рибути бренду – зовнішні ознаки, за якими він ідентифікується споживач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іональні вигоди – раціональні вигоди від бренд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моційні переваги – емоції та почуття від використання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Цінності споживача, які підтримує брен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Індивідуальність бренду описує його характер та відмітні якості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нікальна торговельна пропозиція (УТП) – головна причина для покупки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уть бренду – ключова ідея, змістовне ядро, яке виражене двома-трьома слов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26560" y="731880"/>
            <a:ext cx="7705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 річ, продукт, компанія або організація. Бренди не існують в реальному світі – це ментальні конструкції. Бренд найкраще описати як суму всього досвіду людини, його сприйняття речі, продукту, компанії або організації. Бренди існують у вигляді свідомості або конкретних людей, або суспільства» (цитата по книзі James R. Gregory «Leveraging the Corporate Brand»McGraw-Hill, 1997, USA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Переваги використання бренду. Функції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споживачі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витрат клієнтів на пошук товарів шляхом забезпечення їх швидкої і точної ідентифікац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сприйняття ризику, забезпечення гарантії якості та послідовності (в тому числі для нових товарів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абезпечення додаткової впевненості, психологічної винагороди від купівл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підкреслення певного суспільного статусу та престижу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99640" y="731880"/>
            <a:ext cx="7272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виробник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зволяє отримувати додатковий прибуто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хищає виробника в процесі роботи з партнер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процедуру вибору товару споживачем, оскільки саме брендові товари споживачі вважають найбільш якісни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фікує компанію-виробника та її товари серед товарів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вихід виробника з новими товарами на суміжні рин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жливість робити інвестиції в майбутнє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безпечує емоційний зв’язок з покупц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6512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новні функції бренда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41672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інформативна (захисна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саме бренд дає змогу споживачу чітко визначити основні цінності підприємства; донести до споживача інформацію про унікальність товару; матеріальну та нематеріальну користь, позиціонуючи таким чином товар на ринк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естижн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статус товару, гарантія якості, задоволення споживачів, імідж вироб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економіч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додаткова вартість підприємства та його акцій за рахунок бренда; додаткова вартість у ціні товару; потужний бренд є інструментом інвестицій у маркетинг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бар’єрн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захист від імітацій і копіювання; укріплення позицій щодо товарів субститутів; ускладнення процесу проникнення конкурентів на ринок; створення емоційних і раціональних передумов для повторних покупок лояльної аудиторі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6801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Види брендів</a:t>
            </a: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85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) товарні бренди (Product Brands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) сервісні бренди (Service Brands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) бренди організацій (корпоративні бренд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) бренд подій (Event В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) бренди осіб (Personal B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) географічні бренди (Geographical Вrands).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5:45:33Z</dcterms:created>
  <dc:creator>Dvyhun</dc:creator>
  <dc:description/>
  <dc:language>en-US</dc:language>
  <cp:lastModifiedBy>Olya</cp:lastModifiedBy>
  <dcterms:modified xsi:type="dcterms:W3CDTF">2019-01-30T08:34:54Z</dcterms:modified>
  <cp:revision>47</cp:revision>
  <dc:subject/>
  <dc:title>Тема 1. Поняття і сутність бренду</dc:title>
</cp:coreProperties>
</file>