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FB6-3E70-4C9B-BCAD-324F5C48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434-03F4-4261-AAEB-D049968B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39B-D4E9-4BCF-9411-352C8937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FA6-DBCC-4F11-90C7-DAB19FBC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8EB-92B6-4472-B821-DAE97D6A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3C51-CBB2-4A9A-9B02-EF9395A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5E08-4C41-4B36-8511-2524E4B0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D8DC-75B9-48AE-8EF4-BDCDBAAC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946B-A576-4183-AB3B-6BF47A0C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21C-5ED3-449F-AAED-7295CEBC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E519-6010-4F29-A16D-EC5A9C0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C68-8BB3-473E-B6A5-321DF8C0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DEE0-C3A9-4EE0-B083-B4DD608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58FA-6C20-42BE-8C07-97702DD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E2A0-BDE2-41BC-9EA5-78625785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6BD3-9B52-4A3E-936C-A6F6BDFA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E4F5-4D52-4A7C-B2DE-F58B6263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1EBE-FF52-4A3E-810A-14EAEAE3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8CB3-CD61-43FD-9F20-C10657F9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80F2-8842-4041-BF46-51E7297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CDAA-FAF8-4CBB-BC98-FF559D54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DDC8-5FBF-4B38-B02E-736B5DF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7CB-B012-45DE-B964-80392EF5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246A-128A-49FC-B908-4E29A27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072D-4206-4554-B657-15321CC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60E0-FE53-4037-8E00-F632DD8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4705-1F5B-4E04-8B9E-1F050C07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B4C9-9961-4718-9529-149747D7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C46F-DB34-4CC4-B387-25F6E03B3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2C516-B95B-4744-A850-CFFFDA7D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89BB7-E6F3-4B32-A356-01BF4693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1D943-36EB-464B-8702-67931E64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627A-37D5-472E-96F8-5A74B74B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FB0-BA52-4F8B-A39D-63DF6C2F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C7D5-9B67-42AC-B18D-25BB0BA1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B0311-BD0B-4A64-B407-2692B155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14D64-1711-42F2-9C88-8A92DDCA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E6C5-76B4-412C-9C0B-58B7A0D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0FCF-4A84-4C10-AA71-1A3CAC06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3499-8EE1-45B3-AB2A-F661BB6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7F2A-EBFA-41A8-97A3-EA74DD05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106E-6138-4375-A4A0-5ECD64DA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E2D02-C247-4B65-ACF9-6777027F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02D-B8FC-468D-85FD-23E9ECB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1B3-FC37-444C-B84F-41411484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D35-F257-4228-BFAC-0BEE559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AFA-5458-48C0-AE4A-A9350B04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FBB-8B0D-4660-B944-E0AB20D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A2F-DE2A-4697-B480-F0226EB04A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528-43B4-4D86-81D8-0CB22F92FDC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08FA-1704-4A0F-BA28-DABE5C652C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031A-DC76-4BFC-82B1-EDDB33933B0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7058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значення позиціонування бренду. Основні задачі та правила позиціонува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цес позиціонування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зиціонування на міжнародних ринк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116000" y="822240"/>
            <a:ext cx="71740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637400" cy="101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26920" y="2133720"/>
            <a:ext cx="74901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відбираються не всі марки, присутні на ринку, а лише ті, які належать до певної цільової аудиторії за своїми об’єктивними даними, та такі, що розглядаються цільовими споживачами як марки-конкурен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869160" cy="1176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971640" y="1628280"/>
            <a:ext cx="7345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озицій конкурентів – це один з найбільш критичних етапів, у ході якого необхідно виявити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співвідносяться між собою конкуруюч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 них є схожими, а які відрізняютьс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ільки для кожної з конкуруючих марок характерна наявність обраних раніше атрибуті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езультатом такого аналізу є побудова карт (схем) сприйняття. У найпростішому випадку карта сприйняття є двомірною системою координат, на якій точками позначені позиції конкуруючих марок залежно від того, як їх сприймає споживач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1401840" y="701640"/>
            <a:ext cx="6516720" cy="785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755640" y="1483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завершення процедури побудови схем позиціонування переходять до їх аналізу. Для цього опрацьовуються такі пита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відмінності між об’єктивним і суб’єктивним позиціонуванням товару на ринку? Залежно від цього обирається одна з можливих стратегій за матрицею Дж. Саймо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споживач відмінність між пропонованим товаром і товаром конкурентів, чи істотна вона?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конкурентні переваги пропонованого товар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1695600" y="633240"/>
            <a:ext cx="669276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" descr=""/>
          <p:cNvPicPr/>
          <p:nvPr/>
        </p:nvPicPr>
        <p:blipFill>
          <a:blip r:embed="rId3"/>
          <a:stretch/>
        </p:blipFill>
        <p:spPr>
          <a:xfrm>
            <a:off x="1322280" y="1274760"/>
            <a:ext cx="6926400" cy="44067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1332000" y="261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7272360" cy="780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15640" y="1268280"/>
            <a:ext cx="72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типів стратегій позиціонуванн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пом властивостей товару, за якими відбувається позиціонува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ідмінними відчутними особливостями товару (позиціонування на основі раціональних критеріїв). У цьому випадку фірма шукає шляхи створення у свідомості споживача стійкого взаємозв’язку між продуктом, його визначальними характеристиками і вигодами від використанн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ідчутними особливостями товару (імідж). (Категорія позиціонування на основі емоційних, суб’єктивних критеріїв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нкурентним положенням на ринку (передбачає чітке узгодження позиціонування з місцем, що займає компанія на ринку). Наприклад, «… - №1 в Україні», «Кожен другий споживач користується …», «Вибір року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4640"/>
            <a:ext cx="69134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зміщення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ова відокремлена марк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 існуючої мар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ісцем щодо конкуренті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д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н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ш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снуючої позиці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озиціон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1042920" y="426960"/>
            <a:ext cx="763128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1116000" y="1413000"/>
          <a:ext cx="7416720" cy="4724280"/>
        </p:xfrm>
        <a:graphic>
          <a:graphicData uri="http://schemas.openxmlformats.org/drawingml/2006/table">
            <a:tbl>
              <a:tblPr/>
              <a:tblGrid>
                <a:gridCol w="1790640"/>
                <a:gridCol w="3740400"/>
                <a:gridCol w="188568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стратег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езп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ер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ймається місце біля 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дається виклик його позиції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марки компанії порівнянна з ціною лідера рин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уже високі витрати на рекла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і витрати на рекламу і ризик контратаки з боку лідируючої ма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на основі відмінностей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исокі витрати на рекла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товару висо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ворення образу високоякісного брен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і витрати на рекламу і недостатня диференціаці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а ви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далеко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ильний акцент на відмітні характеристи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я є ефективною лише у ніші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ід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арка позиціонується біля домінуючої мар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арактеристики подібні з маркою-лідер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рідко дозволяє захопити істотну частку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1189080" y="573120"/>
            <a:ext cx="7412040" cy="646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042920" y="119664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цьому етапі необхідно визначитися з типом позиціонування марки на ринку, тобто як фірма буде працювати зі свідомістю цільових споживачів, щоб формувати позитивне ставлення до не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тичному рівні типи позиціонування торговельних марок на споживчому ринку можна класифікувати за таким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я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кладовою впливу, що формує ставлення людини до торговельної марки та до якої апелюют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подолання перешкод у свідомості споживача, які перешкоджають формуванню позиціонуванн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маніпулювання свідомістю споживач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1023840" y="500040"/>
            <a:ext cx="730908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042920" y="1197000"/>
          <a:ext cx="7148520" cy="4675320"/>
        </p:xfrm>
        <a:graphic>
          <a:graphicData uri="http://schemas.openxmlformats.org/drawingml/2006/table">
            <a:tbl>
              <a:tblPr/>
              <a:tblGrid>
                <a:gridCol w="2108160"/>
                <a:gridCol w="2157480"/>
                <a:gridCol w="2882880"/>
              </a:tblGrid>
              <a:tr h="22716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альні 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кладовою впливу, що формує ставлення людини до торговельної м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подолання перешкод у свідомості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маніпулювання свідомістю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позиціон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14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р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ат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гестив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іж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якістю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співвідношенням «ціна - якість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ими властивостями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остями використання, зручністю використання, зручністю упаков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культурними традиц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новітніми технолог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іміджем тощ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699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712800"/>
            <a:ext cx="7113600" cy="1012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899640" y="1699920"/>
            <a:ext cx="7417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не те, що ви робите з товаром, а те, що ви робите зі свідомістю споживача. (Джек Траут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шук місця в свідомості цільової аудиторії і створення таких образів і атрибутів торгової марки, які найбільш вигідно відрізнялися б від марок конкурентів, були для цільового споживача значущими і відповідали його потребам або споживчим очікуванням найкращим чин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142640" y="1196640"/>
            <a:ext cx="7389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і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є знання відносно товару на основі особистого досвіду або інформації, отриманої із зовнішніх джере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ек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повідає за емоційне сприйняття товару, вона пов’язана з асоціаціями та почуттями, що викликає товар у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ес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’язана з упередженнями споживача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є за ймовірність здійснення купівлі това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1328760" y="353880"/>
            <a:ext cx="6986520" cy="646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971640" y="836640"/>
            <a:ext cx="74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позиціонування апеляція йде до раціональних мотивів і моделей споживчої поведінки. Під час реалізації стратегії ринкового позиціонування працюють із когнітивною складовою ставлення споживача до марк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Ір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тип позиціонування передбачає формування у свідомості споживача позитивного ставлення до товару чи марки за рахунок роботи з афективною (емоційною) складовою. Цей тип позиціонування доцільно передусім використовувати, якщо обрано стратегію позиціонування за імідж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920" y="475920"/>
            <a:ext cx="75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атив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поживач до кінця не усвідомлює власну потребу або вольовий компонент, відповідальний за трансформацію потреби у попит, слабк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й тип позиціонування передбачає, зокрема, посилення тривоги, використовуючи у тому числі доробки психоаналізу, задля усвідомлення проблеми, її важливості для споживача з метою підштовхування до покупки чи іншої запрограмованої поведін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угестив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мов, якщо потрібно подолати певні негативні стереотипи або, навпаки, сформувати стереотип, який базується переважно на ірраціональних мотивах, використовують даний тип позиціонування. Метою рекламних кампаній, спрямованих на реалізацію даного типу позиціонування, є формування, посилення або ослаблення певних позицій (ставлення) споживача, які ґрунтуються на його упередження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731520"/>
            <a:ext cx="741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 вимагає подолання трьох бар’єрів у свідомості споживача: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ковості уваг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нятт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м’ятов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1. Агресив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ий тип характеризується агресивністю у подоланні захисних бар’єрів свідомості спожива, масованою рекламою, як правило, порівняльного характеру. Для реалізації використовуються ATL та BTL–кампанії просування, в тому числі, інтерактивного тип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2. Допоміж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ипадку, коли споживач не до кінця усвідомлює власні потреби та/або переваги товару чи марки, що позиціонуються на ринку, доцільно використовувати даний тип позиціонування. Головна ідея – ненав’язливо допомогти споживачу усвідомити потреби та, як наслідок переваги товару чи марки, важливість яких він не до кінця усвідомлює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центуація в даному випадку йде не на товарі, а на проблемі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880"/>
            <a:ext cx="72453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атент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ений тип позиціонування передбачає, що під час реалізації акцент має робитися не на рекламованому товарі або безпосередньо проблемі споживача, а на фоновому переліку недоліків товарів чи марок-конкурентів. Це дозволяє сформувати у споживача відчуття безальтернативності та у латентний спосіб підштовхнути до усвідомлення переваг нашого товар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950760" y="646200"/>
            <a:ext cx="738828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971640" y="155700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якістю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співвідношенням «ціна - які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ими властивостями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остями використання, зручністю використання, зручністю упаков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культурними традиц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новітніми технолог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іміджем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7316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компанія з метою реалізації розробленого позиціонування має запровадити комплекс організаційно-правових, виробничо-збутових та науково-дослідних заходів, а також заходів із прос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та аналіз, аудит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часом під впливом некерованих факторів ринкового середовища та дій фірм-конкурентів відбуваються зміни у поведінці споживачів, компанія може почати втрачати ринкову позицію. Це вимагає від підприємства постійного моніторингу ринкового середовища, контролю та аналізу власного позиціонування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826920" y="1052280"/>
            <a:ext cx="7777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ін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 цільовий ринок сприймає позицію бренд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вернена позиція до ключових потреб цільових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агає вона тривалий час зберігати лояльність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цінову премію дозволяє встановити позиція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ікаль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кільки позиція виділяє марку серед конкурент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ринок позицію як таку, що належить саме цій марці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чіткі відмінності позиції марки від конкуруючих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ми пояснюємо свою позицію цільовим споживачам, чи виникає у них думка про конкуруючі мар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віра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розглядає цільовий ринок позицію марки як таку, що відповідає її характеристика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арта позиція планованих інвестиці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датні ми виконувати марочні обіцян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важають споживачі, що позиції інших марок більш відповідають їх реальним властивостя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99640" y="76464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ійк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збережемо ми зайняті позиції протягом тривалого час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цільним буде збереження поточної позиції через 3-5 років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можуть цю позицію зайняти конкурент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ідповідн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відповідає позиція нашої марки нашій компанії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дповідають зайняті позиції корпоративним ціля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будуть вони сприяти підвищенню рентабельності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оже позиціонування сфокусувати планування і поточну діяльніст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1547640" y="646200"/>
            <a:ext cx="6480360" cy="695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115640" y="1268280"/>
            <a:ext cx="7201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озиціонуванн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ситуація виникає тоді, коли споживачі не мають чіткого уявлення про марку, переваги, які б виділяли її із загального ряду. Це може спричинятися недоліками самого товару, поганою реалізацією рекламного звернення через непрофесіоналізм рекламного агентства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мір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покупці мають дуже вузьке уявлення про марку. У цьому разі марка товару занадто асоціюється з однією зі своїх властивос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99640" y="731520"/>
            <a:ext cx="7488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мета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могтися сталого уявлення в свідомості покупців про бренд як про кращий товар для конкретних ум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завдання позиціонуванн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иференціюватися від конкуренті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ворити бренд на основі раціональних і / або емоційних вигод, які є значущими для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ворити напрямок для розробки атрибутів бренду – імені та дизайну, які покликані доносити позиціонування до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творити додатковий захисний бар’єр від атак конкурентів на позиції бренд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«заточувати» і створювати маркетингові комунікації на основі обраної стратегії позиціон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15640" y="1052280"/>
            <a:ext cx="7101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ливчат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я робить дуже багато різних заяв про властивості марки або часто змінює позиціонування, що призводить до втрати фокус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нів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ї у своїх зверненнях роблять заяви, в які споживачам важко повірити. Невиправдані очікування в цьому випадку викликають протилежну реакцію з боку споживач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899640" y="134100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культурне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ють тоді, коли між споживачами різних країн не виявлено значних розбіжностей щодо сприйняття ними певних товарів чи послуг підприємства, немає суттєвих розбіжностей у поведінці споживачів та специфіці функціонування ринку. Така стратегія позиціонування є ідентичною на усіх ринках, в тому числі й національному. Міжкультурне позиціонування зазвичай спрямоване на формування єдиного іміджу товару на зовнішніх ринках, на пропагування якоїсь спільної ідеї чи певного способу житт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142640" y="764640"/>
            <a:ext cx="71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ре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ється тоді, коли між країнами є певні відмінності у поведінці покупців, але, як правило, незначні. В цьому випадку сама стратегія залишається незмінною, проте може відрізнятися творча концепція реалізації стратегії, може змінюватися назва товару на певному ринку, його упаковка чи її певні атрибут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унікального 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жному ринку застосовується тоді, коли товар не може бути адаптований одночасно під потреби споживачів у кожній країні або коли ринки таких країн дуже відрізняються між собою. Така стратегія буде абсолютно різною в межах певних країн; на різних ринках товар може позиціонуватися за різними критерія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1189080" y="712800"/>
            <a:ext cx="6985080" cy="64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27"/>
          <p:cNvPicPr/>
          <p:nvPr/>
        </p:nvPicPr>
        <p:blipFill>
          <a:blip r:embed="rId3"/>
          <a:stretch/>
        </p:blipFill>
        <p:spPr>
          <a:xfrm>
            <a:off x="1403280" y="1608120"/>
            <a:ext cx="633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28"/>
          <p:cNvPicPr/>
          <p:nvPr/>
        </p:nvPicPr>
        <p:blipFill>
          <a:blip r:embed="rId2"/>
          <a:stretch/>
        </p:blipFill>
        <p:spPr>
          <a:xfrm>
            <a:off x="826920" y="404640"/>
            <a:ext cx="4681800" cy="295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&amp;Mcy;&amp;ocy;&amp;lcy;&amp;ocy;&amp;dcy;&amp;ocy;&amp;jcy; &amp;dcy;&amp;icy;&amp;zcy;&amp;acy;&amp;jcy;&amp;ncy;&amp;iecy;&amp;rcy; Christian Louboutin"/>
          <p:cNvPicPr/>
          <p:nvPr/>
        </p:nvPicPr>
        <p:blipFill>
          <a:blip r:embed="rId3"/>
          <a:stretch/>
        </p:blipFill>
        <p:spPr>
          <a:xfrm>
            <a:off x="4140360" y="3357720"/>
            <a:ext cx="46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img_384979887" descr="384979887"/>
          <p:cNvPicPr/>
          <p:nvPr/>
        </p:nvPicPr>
        <p:blipFill>
          <a:blip r:embed="rId2"/>
          <a:stretch/>
        </p:blipFill>
        <p:spPr>
          <a:xfrm>
            <a:off x="1258920" y="1052640"/>
            <a:ext cx="3313080" cy="2160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Obuv-Kristian-Labuten2"/>
          <p:cNvPicPr/>
          <p:nvPr/>
        </p:nvPicPr>
        <p:blipFill>
          <a:blip r:embed="rId3"/>
          <a:stretch/>
        </p:blipFill>
        <p:spPr>
          <a:xfrm>
            <a:off x="4859280" y="1268280"/>
            <a:ext cx="3772080" cy="457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ymadam.ru/wp-content/uploads/2012/09/Christian-Louboutin1.jpg"/>
          <p:cNvPicPr/>
          <p:nvPr/>
        </p:nvPicPr>
        <p:blipFill>
          <a:blip r:embed="rId4"/>
          <a:stretch/>
        </p:blipFill>
        <p:spPr>
          <a:xfrm>
            <a:off x="611280" y="3141720"/>
            <a:ext cx="40575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4360" y="731880"/>
            <a:ext cx="770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 Christian Louboutin это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ящные лодочки, подчеркивающие всю красоту женских ног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изменно красная подошва, ставшая визитной карточко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чные лекала и очень комфортная колодка, благодаря которой походка на самых высоких каблуках не доставляет ни малейшего дискомфорта. Самое пристальное внимание направленно именно на удобств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ые роскошные натуральные материалы: кожа буйвола, ската, питона, ящерицы, замша, бархат, шифон, атлас и т.д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24536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eox – бренд, подаривший миру дышащую обув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мпания Geox является одним из ведущих мировых брендов в категории International Lifestyle Casual Footwear Market (Shoe Intelligence, 2014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вь, которая дышит» – это идея, особый подход и обещание хорошего самочувствия и абсолютного комфорта, ставшие миссией Geox со дня его основани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мя бренда отражает его связь с природой и жизнью. Название Geox образовано из древнегреческого слова Geo («земля») и буквы «x», которая символизирует собой современные технологии, разработанные в итальянских лабораториях и защищённые международными патентами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7174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лоті правила» позиціонування бренду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зиціонування має бути унікальним і впізнава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зиціонування має відповідати явним і прихованим потребам цільових споживач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зиціонування має бути підкріплено реальними факт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зиціонування має бути незмінним у всіх елементах marketing mix і проходити через нього червоною ниткою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зиціонування має бу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99640" y="90792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складена концепція позиціонування бренду може бути сформульована у вигляді одного речення: «[Товарна категорія] [назва бренду], призначена для [функціональне призначення], найкраще підходить для [цільова група споживачів], тому що він [основна перевага] у порівнянні з [конкурентний товар / усереднений товар / товар-замінник / штучне порівняння]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272360" cy="64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99640" y="1483920"/>
            <a:ext cx="7488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явлення основи позиціонування конкретного бренду в свідомості споживачів необхідно відповісти на наступні питанн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кого призначений даний продук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ми словами, мова йде про визначення цільової групи, що включає в себе не тільки соціально-демографічні характеристики споживачів, але й уявлення про їхній стиль життя, мотиваційні уподобання, значущі атрибутивні складові побуту, що визначають стилістику сприйнятт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ому і навіщо він був створени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 на це питання вказує мета створення конкретного бренду: в чому полягає його унікальність і привабливість для представників конкретної цільової груп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 і як він може бути використаний споживачам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ва йде про виявлення особливостей споживчої поведінки і типових ситуацій використання продукту і його аналогі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яку нішу може претендуват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часному контексті це питання вказує, як правило, на основних конкурентів, на ті бренди, чию клієнтуру дуже хотілося б переман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1189080" y="560520"/>
            <a:ext cx="683892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971640" y="1268280"/>
          <a:ext cx="7415280" cy="4394160"/>
        </p:xfrm>
        <a:graphic>
          <a:graphicData uri="http://schemas.openxmlformats.org/drawingml/2006/table">
            <a:tbl>
              <a:tblPr/>
              <a:tblGrid>
                <a:gridCol w="2846160"/>
                <a:gridCol w="456912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і позиціон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би та інструм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о-демографіч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 ніші за рахунок акценту на соціально-демографічних характеристиках споживача: стать, вік, дохід, освіта, соціальний стан і т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якості продукту, особливостях смаку, складу, технологій і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перевагах зручності використання продукту, в тому числі на функціональних особливостях упаков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оцій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емоційної атмосфери навколо марки за рахунок використання асоціацій з продуктом і ситуацією його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с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тинання цінностей, що стоять за образом продукту, зі значущими цінностями його споживач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262160" y="701640"/>
            <a:ext cx="6912000" cy="749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99640" y="141264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із поведінки споживачів та визначення параметрів, за якими буде проводитис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значення релевантних фірм, їх товарів і марок, які належать до даного сегмен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удова схем позиціонування та карти сприйнятт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із схем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значення стратегії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изначення тактики позиціонування мар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ізаці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онтроль та аналіз, аудит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1042920" y="646200"/>
            <a:ext cx="7418520" cy="137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99640" y="1989000"/>
            <a:ext cx="75596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живачі, виходячи з власних мотивів, мають свій погляд на відмітні характеристики (характерні риси) товару, на основі яких вони вибирають ту чи іншу марку. Відповідно процес позиціонування включає в себе визначення потенційно важливих атрибутів і вибір серед них найбільш значущи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ливо пам’ятати, що перелік характеристик, якими керуються споживачі та виробники товарів, відрізняються між соб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2:41:55Z</dcterms:created>
  <dc:creator>Dvyhun</dc:creator>
  <dc:description/>
  <dc:language>en-US</dc:language>
  <cp:lastModifiedBy>Olya</cp:lastModifiedBy>
  <dcterms:modified xsi:type="dcterms:W3CDTF">2019-02-13T08:43:48Z</dcterms:modified>
  <cp:revision>34</cp:revision>
  <dc:subject/>
  <dc:title>Тема 3. Позиціонування бренду</dc:title>
</cp:coreProperties>
</file>