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C95B4-1977-4DC6-A336-DD5A54C8F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154A4-D278-4717-BB3F-2BA17F959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E1AC3-BD76-4B7C-A372-884567A2B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252FF-71F1-4DDE-A2A1-C364A2D65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7A3B5-1341-472F-BE3E-5CDE4AE6D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48AF7-47AA-458A-B401-805801F6F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9B3F1-D82D-4EB8-A8AA-52D83745C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57DE1-F53E-4BA5-A916-D2FFCB64A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F59CA-C642-4B35-A364-2DAC10A64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BD9BA-5959-4F7E-9144-5286F1AF9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0D681-5DD3-483F-A1A5-7A11D7C0C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5516A-FDE8-49A5-86BE-45F94C2DB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8408C-231C-41FE-8B8A-7392D88ED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47DDA-D7CA-48E6-A213-47F1425B9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56521-A256-4F7C-8BF2-B1E009926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DAD45-3C59-44C5-8B10-1968077E5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E127E-57D2-43A1-914E-3CDCE4318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C10613-6ABB-4450-9468-713B18CBE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F8A51D-7BE3-4D6E-914B-3D430F93D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6C9D37-508B-400F-AAE0-4AE88EE0E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B12C2A-3DFF-4B02-996C-EB3B66709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13FEC7-BF5B-4DB7-8506-6D5219AFE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5E8FA-8293-4934-A350-03B65082B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0784A6-53E4-45BE-8731-4F205A09F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16CA1F-6A29-40EA-B14D-7EDB87A59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A56D60-2AD1-49B7-A745-18F3DDA9C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223209-99EB-4B71-B815-9822F1443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B34B42-6E56-4E7B-9C6E-E27D9A006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29E914-8AF0-40AF-9583-7AD2BD454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7336AA-AD5D-4E21-93A8-C98EE6E43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47D526-5FBF-4B27-917C-9B1F31512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DC24A7-C15B-4EB9-9CEB-A5E0774E4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3FCC93-0327-4D6B-A0CD-3F82D116E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B8851-66E6-4AA5-9986-1BFD63B9E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BA25F3-BBEA-43E1-A725-AE7629863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47D9B5-6D62-473D-8332-329C415C8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F75297-BD4B-4798-BCAE-DC0A4D15F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9E9E28-67A6-4A24-AA8E-F078FA56B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4D76F7-9C46-4C99-8C1E-2962EC06B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DC158C-99D3-47BE-99BE-AFB3E8E30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CD12F5-ECF8-4F4B-85ED-B3E51B747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2286F6-465B-404D-8EFC-77A8873CD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E40C72-F162-46C9-801D-321E748F7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92A57-B29F-46FE-9AA0-805561258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66EFD-A3F6-42CC-9E15-6DDB44EE7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51E0B-9AA6-40F5-88EA-F721823BE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9489B-A087-4A02-8B94-DCB9C12FD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1272A-C63E-45DD-BBC3-5C5EAF3C3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02256-30CA-4767-95CC-4EBCDE2E3AF9}" type="slidenum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4D106-DE93-4DB4-839D-39ACB3D730C2}" type="slidenum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2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13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16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20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AA8BA-0273-4302-A56B-F4D39DB1BF00}" type="slidenum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6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66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67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70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71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922BA-93AA-42D3-AC49-1978EBA71FFF}" type="slidenum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1042920" y="1989000"/>
            <a:ext cx="712944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Сутність бренд-менеджменту.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Портфель брендів. Архітектура брендів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Стратегії розвитку бренду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15" name="Заголовок 1" descr=""/>
          <p:cNvPicPr/>
          <p:nvPr/>
        </p:nvPicPr>
        <p:blipFill>
          <a:blip r:embed="rId2"/>
          <a:stretch/>
        </p:blipFill>
        <p:spPr>
          <a:xfrm>
            <a:off x="1042920" y="384120"/>
            <a:ext cx="727236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Прямоугольник 3"/>
          <p:cNvSpPr/>
          <p:nvPr/>
        </p:nvSpPr>
        <p:spPr>
          <a:xfrm>
            <a:off x="868320" y="706320"/>
            <a:ext cx="7777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практиці для характеристики портфеля брендів найчастіше застосовують варіанти архітектури марок (брендів), запропоновані видатним американським експертом Девідом Аакером, такі як: 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use of Brands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будинок брендів) і 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nded House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будинок-бренд, або брендований будинок)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ичним рішенням в рамках стратегії 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nded House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є випуск всієї продукції підприємства під одним корпоративним брендом, а 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use of Brands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впаки, використовує групу автономних брендів (мультибрендінг), які існують незалежно й орієнтовані на збільшення ринкової частки та максимізацію прибутку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900000" y="731880"/>
            <a:ext cx="73440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algn="just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 переваг моделі </a:t>
            </a:r>
            <a:r>
              <a:rPr b="1" i="1" lang="uk-UA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nded House</a:t>
            </a:r>
            <a:r>
              <a:rPr b="1" lang="uk-UA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ідносять: перенесення знання і сприйняття бренду на нові товари, фокус маркетингових бюджетів на одному бренді, концентрація зусиль компаній в одному напрямку. Недоліки: загроза розмивання іміджу і сприйняття бренду.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вагами моделі </a:t>
            </a:r>
            <a:r>
              <a:rPr b="1" i="1" lang="uk-UA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use of Brands</a:t>
            </a:r>
            <a:r>
              <a:rPr b="0" i="1" lang="uk-UA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є: індивідуалізація кожного бренду і концентрація іміджу, відсутність залежності брендів один від одного (зниження ризику кризових ситуацій), можливість максимального використання потенціалу ринку шляхом охоплення великої кількості споживчих сегментів. Недоліки або загрози: збільшення маркетингового бюджету прямо пропорційно збільшенню кількості брендів, велика ймовірність перетинання цільових сегментів і, як наслідок, канібалізму брендів.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4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Канібалізм» брендів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вий бренд переманює споживачів старого бренду того ж підприємства, а не конкуруючих (перерозподіл споживачів). Це призводить до ослаблення позицій одного з брендів.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100000"/>
              </a:lnSpc>
              <a:spcBef>
                <a:spcPts val="45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826920" y="731520"/>
            <a:ext cx="756144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3. Стратегії розвитку бренду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Розвиток бренду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– це збільшення сукупного марочного капіталу за допомогою охоплення більш широких груп споживачів, експансії в нові продукти і поширення впливу на нові ринки і/або категорії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У брендингу прийнято виділяти дві основні стратегії розвитку бренду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Brand extension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– розтягнення бренду, якщо при появі нового товару під тим же ім’ям залишаються незмінними товарна категорія, призначення, цільова аудиторія, ідентичність бренду, а змінюється лише вигода для споживача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1115640" y="1267920"/>
            <a:ext cx="7172280" cy="399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Основними видами розтягування марки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є: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нова кількість товару (розфасовка);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товар більшої кількості за колишню ціну;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товар в новій упаковці;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новий смак, склад, технологія виготовлення;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нові вигоди і переваги для тих же споживачів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826920" y="731520"/>
            <a:ext cx="749016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algn="just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Brand expansion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– розширення бренду, коли марка поширюється на новий сегмент споживачів або суміжну товарну категорію і ідентичність бренду при цьому залишається незмінною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442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Розширення бренду включає в себе наступні різновиди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442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випуск товарів, що доповнюють базову марку (наприклад, зубні щітки на додаток до зубної пасти)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442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нова цільова аудиторія споживачів (наприклад, крем Nivea для чоловіків)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442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нове призначення товару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442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перенесення іміджу бренду на суміжну товарну категорію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Объект 3" descr=""/>
          <p:cNvPicPr/>
          <p:nvPr/>
        </p:nvPicPr>
        <p:blipFill>
          <a:blip r:embed="rId2"/>
          <a:stretch/>
        </p:blipFill>
        <p:spPr>
          <a:xfrm>
            <a:off x="1182600" y="731880"/>
            <a:ext cx="7139160" cy="4297320"/>
          </a:xfrm>
          <a:prstGeom prst="rect">
            <a:avLst/>
          </a:prstGeom>
          <a:ln w="0">
            <a:noFill/>
          </a:ln>
        </p:spPr>
      </p:pic>
      <p:sp>
        <p:nvSpPr>
          <p:cNvPr id="236" name="Прямоугольник 4"/>
          <p:cNvSpPr/>
          <p:nvPr/>
        </p:nvSpPr>
        <p:spPr>
          <a:xfrm>
            <a:off x="1187280" y="544500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с. 4.3 Стратегічний розвиток портфеля брендів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684000" y="731880"/>
            <a:ext cx="784836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Розтягування і розширення бренду мають ряд переваг: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якщо бренд має сильні позиції, у нього створені відносини довіри і лояльності, то ці якості бренду споживач переносить на нові товари під колишньою маркою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сування ряду товарів під однією маркою дозволяє заощадити кошти, використовуючи загальні канали дистрибуції і просування товару (реклама в ЗМІ, виставки і спеціальні заходи, BTL-реклама, заходи щодо стимулювання збуту і т.п.)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виведення нового товару під старою маркою займає істотно менше часу і зберігає кошти на його розробку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 недоліків або обмежень застосування даної стратегії відносяться: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розмивання бренду в свідомості споживачів, спочатку сфокусованого на одній товарній категорії, одному призначенні, одній пропозиції покупцям, одній вигоді і конкретних перевагах по відношенню до конкурентних брендів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втрачена репутація, повага і підірвана довіра до одного виду товару автоматично пошириться на все марочне сімейство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611280" y="731880"/>
            <a:ext cx="792144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Умови застосування стратегії розвитку: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1. Розширення бренду не повинно змінювати його ідентичність, інакше споживачі можуть не впізнати марку в той момент, коли треба робити вибір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2. Не можна розширювати бренд на більш низькі цінові ніші. Споживачі сприймають це як «демарш батьківського бренду в напрямку погіршення якості»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3. Master-brand (марка, яка занадто міцно асоціюється з будь-якою товарною категорією) не може бути розширена на інші категорії: споживачі просто не сприймають подібні розширення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4. Розширення життєздатне лише в тому випадку, якщо воно посилює марку або, як мінімум, не шкодить їй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5. Якщо на ринку занадто високий рівень конкуренції, то виграє дуже чітко сфокусований новий бренд.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6. Рішення про розширення бренду має прийматися, коли він уже зайняв гідну частку ринку і придбав лояльних покупців. Мінімальний показник популярності марки серед цільової аудиторії, за оцінками експертів, має становити не менше 50%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Заголовок 1" descr=""/>
          <p:cNvPicPr/>
          <p:nvPr/>
        </p:nvPicPr>
        <p:blipFill>
          <a:blip r:embed="rId2"/>
          <a:stretch/>
        </p:blipFill>
        <p:spPr>
          <a:xfrm>
            <a:off x="1116000" y="560520"/>
            <a:ext cx="6912000" cy="75060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 txBox="1"/>
          <p:nvPr/>
        </p:nvSpPr>
        <p:spPr>
          <a:xfrm>
            <a:off x="1115640" y="1341360"/>
            <a:ext cx="7201080" cy="43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енд-менеджмент</a:t>
            </a: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це управління, управлінська діяльність, предметом якої в умовах маркетингової орієнтації виступає бренд підприємства, який складається з бренду товару та іміджу підприємства. 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енд-менеджмент</a:t>
            </a: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діяльність з управління брендами відповідно до поставлених цілей (зокрема, збільшення довгострокового споживчого капіталу бренду, вартості бренду, захисту позицій інших брендів тощо). 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100000"/>
              </a:lnSpc>
              <a:spcBef>
                <a:spcPts val="64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Заголовок 1" descr=""/>
          <p:cNvPicPr/>
          <p:nvPr/>
        </p:nvPicPr>
        <p:blipFill>
          <a:blip r:embed="rId2"/>
          <a:stretch/>
        </p:blipFill>
        <p:spPr>
          <a:xfrm>
            <a:off x="1116000" y="414360"/>
            <a:ext cx="7272360" cy="749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9" name=""/>
          <p:cNvGraphicFramePr/>
          <p:nvPr/>
        </p:nvGraphicFramePr>
        <p:xfrm>
          <a:off x="900000" y="1052640"/>
          <a:ext cx="7632720" cy="4962240"/>
        </p:xfrm>
        <a:graphic>
          <a:graphicData uri="http://schemas.openxmlformats.org/drawingml/2006/table">
            <a:tbl>
              <a:tblPr/>
              <a:tblGrid>
                <a:gridCol w="1843200"/>
                <a:gridCol w="2846520"/>
                <a:gridCol w="2943000"/>
              </a:tblGrid>
              <a:tr h="236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зна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асична концепці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цепція бренд-лідерст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20">
                <a:tc gridSpan="3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ід тактичного бренд-менеджменту до стратегічно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6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спекти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актична і реагуюч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атегічна та прозо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тус бренд-менедже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ідповідальність за короткострокові програ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ідповідальність за довгострокові програ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51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цептуальна моде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Імідж брен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пітал брен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ку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роткострокові фінансові показни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вгострокові фінансові показни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20">
                <a:tc gridSpan="3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ід обмеженого фокусу до широкого фокусу використання брен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68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аниці брен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дин продукт і рино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лика кількість продуктів і ринкі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ількість бренді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кусування на одному бренд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кусування на великій кількості бренді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еографічні границі брен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дна краї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лобальна перспекти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унікативна роль бренд-менедже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ординатор з обмеженими можливостя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ідер команди із великою кількістю комунікативних можливост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унікативний фоку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овнішній (споживачі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к зовнішній (споживачі) так і внутрішній (організація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20">
                <a:tc gridSpan="3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дуча стратегія – від продажу до ідентичності брен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6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дуча стратегі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дажі і частка ринк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Ідентичність брен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2" descr="999"/>
          <p:cNvPicPr/>
          <p:nvPr/>
        </p:nvPicPr>
        <p:blipFill>
          <a:blip r:embed="rId2"/>
          <a:stretch/>
        </p:blipFill>
        <p:spPr>
          <a:xfrm>
            <a:off x="1619280" y="404640"/>
            <a:ext cx="5905440" cy="5688360"/>
          </a:xfrm>
          <a:prstGeom prst="rect">
            <a:avLst/>
          </a:prstGeom>
          <a:ln w="0">
            <a:noFill/>
          </a:ln>
        </p:spPr>
      </p:pic>
      <p:sp>
        <p:nvSpPr>
          <p:cNvPr id="221" name="Прямоугольник 3"/>
          <p:cNvSpPr/>
          <p:nvPr/>
        </p:nvSpPr>
        <p:spPr>
          <a:xfrm>
            <a:off x="1763640" y="6093000"/>
            <a:ext cx="57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с. 4.1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Модель бренд-менеджменту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Заголовок 1" descr=""/>
          <p:cNvPicPr/>
          <p:nvPr/>
        </p:nvPicPr>
        <p:blipFill>
          <a:blip r:embed="rId2"/>
          <a:stretch/>
        </p:blipFill>
        <p:spPr>
          <a:xfrm>
            <a:off x="1042920" y="549360"/>
            <a:ext cx="7345440" cy="750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3" name=""/>
          <p:cNvGraphicFramePr/>
          <p:nvPr/>
        </p:nvGraphicFramePr>
        <p:xfrm>
          <a:off x="826920" y="1793880"/>
          <a:ext cx="7705800" cy="4083120"/>
        </p:xfrm>
        <a:graphic>
          <a:graphicData uri="http://schemas.openxmlformats.org/drawingml/2006/table">
            <a:tbl>
              <a:tblPr/>
              <a:tblGrid>
                <a:gridCol w="2135520"/>
                <a:gridCol w="5570280"/>
              </a:tblGrid>
              <a:tr h="2556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вто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значення поняття «портфель брендів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50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. Ааке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і бренди або суббренди, приєднані до ринково-орієнтованих пропозицій продукту, враховуючи спільні бренди з іншими фірмам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765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.-Н. Капфере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бінації міжнародних та локальних, слабких та сильних, нових та зрілих брендів; відповідь на особливі цілі домінування у товарній категорії, створення бар’єрів на шляху проникнення конкурентів у мережу розподілення, привертання уваги та формування лояльності споживачів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50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. Котле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цінка становища всіх «виробництв», котрі входять до складу фірми (під «виробництвом» можна розуміти товарний асортимент, бренди, відділи)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12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. Ванеке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купність брендів та суббрендів, які належать одній організації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97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. Зозуль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купність усіх торгових марок та марочних ліній, котрі пропонує підприємство в рамках певної товарної категорії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4" name="Rectangle 1"/>
          <p:cNvSpPr/>
          <p:nvPr/>
        </p:nvSpPr>
        <p:spPr>
          <a:xfrm>
            <a:off x="971640" y="1128240"/>
            <a:ext cx="720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із літературних джерел щодо визначення поняття «портфель брендів»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Прямоугольник 3"/>
          <p:cNvSpPr/>
          <p:nvPr/>
        </p:nvSpPr>
        <p:spPr>
          <a:xfrm>
            <a:off x="826920" y="765000"/>
            <a:ext cx="76327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тфель брендів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це поєднання брендів або суббрендів у портфелі підприємства, які структуровані за певною ознакою, орієнтовані на різні цільові групи і цінові сегменти та здатні адаптуватися під ринкову ситуацію з метою забезпечення конкурентної стійкості на ринку, привернення уваги та формування позитивного іміджу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хітектура брендів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це система організації та управління торговими марками компанії, з якими вона вийшла на ринок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хітектура брендів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значення ролі кожного бренда і системи відношень між брендами в рамках портфеля однієї компанії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Прямоугольник 3"/>
          <p:cNvSpPr/>
          <p:nvPr/>
        </p:nvSpPr>
        <p:spPr>
          <a:xfrm>
            <a:off x="1042920" y="981000"/>
            <a:ext cx="756144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ворення архітектури брендів складається з чотирьох основних етапів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значення ролі кожного бренду всередині портфеля;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значення ролі кожного бренду в контексті «продукт-ринок»;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а портфеля;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фічне і вербальне втілення архітектури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Прямоугольник 3"/>
          <p:cNvSpPr/>
          <p:nvPr/>
        </p:nvSpPr>
        <p:spPr>
          <a:xfrm>
            <a:off x="826920" y="692280"/>
            <a:ext cx="763272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1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ндидат на ліквідацію» (divestment candidate)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це бренд зі слабким позиціонуванням на непривабливому ринку або розходиться зі стратегічним напрямком розвитку фірми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Дійна корова» (milker)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це бренд, що володіє, незважаючи на «втому», досить реальною силою. В зв’язку з тим, що на підтримку такого бренду витрачатися мінімум коштів, він може стати стабільним джерелом фінансування інших брендів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Стратегічний бренд»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марочний товар, важливий для вирішення майбутніх завдань організації. По-перше, якщо він здатний забезпечити вагомий обсяг майбутніх продажів і прибутків. Ймовірно, це вже зараз потужний домінуючий бренд, для якого плануються утримання і розширення позицій; або це другорядний бренд, який слід вивести на роль головного. По-друге, коли це 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бренд-опора» (lincpin)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здатний стати елементом, на якому тримається вся структура бізнесу або ґрунтується майбутній напрямок розвитку фірми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8" name=""/>
          <p:cNvGraphicFramePr/>
          <p:nvPr/>
        </p:nvGraphicFramePr>
        <p:xfrm>
          <a:off x="1042920" y="965160"/>
          <a:ext cx="7404120" cy="4489560"/>
        </p:xfrm>
        <a:graphic>
          <a:graphicData uri="http://schemas.openxmlformats.org/drawingml/2006/table">
            <a:tbl>
              <a:tblPr/>
              <a:tblGrid>
                <a:gridCol w="2468520"/>
                <a:gridCol w="2467080"/>
                <a:gridCol w="2468520"/>
              </a:tblGrid>
              <a:tr h="119700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точна віддача низь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точна віддача висо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9160"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спективний (високий потенціал майбутнього прибутку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ренд-опора (lincpin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атегічний брен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3400"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роткострокова або низька перспектива зростанн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ндидат на ліквідацію (divestment candidate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ренд-дійна корова (milker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9" name="Rectangle 1"/>
          <p:cNvSpPr/>
          <p:nvPr/>
        </p:nvSpPr>
        <p:spPr>
          <a:xfrm>
            <a:off x="922320" y="5446080"/>
            <a:ext cx="75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с. 4.2 Ролі провідних брендів в портфелі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5T15:45:23Z</dcterms:created>
  <dc:creator>Dvyhun</dc:creator>
  <dc:description/>
  <dc:language>en-US</dc:language>
  <cp:lastModifiedBy>Olya</cp:lastModifiedBy>
  <dcterms:modified xsi:type="dcterms:W3CDTF">2019-02-26T06:45:09Z</dcterms:modified>
  <cp:revision>10</cp:revision>
  <dc:subject/>
  <dc:title>Тема 4. Бренд-менеджмент</dc:title>
</cp:coreProperties>
</file>