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EB1-8BF7-458C-88AE-B4996B7E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1FA-36DA-4937-8CCB-13A15BFB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6E3-4A11-495C-9ABF-4033A552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F0D-1A05-4E2D-A640-61CCBD00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367F-3D70-43A8-AB43-F4C4AF5D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02C-A4DF-4CC5-A0F5-4B6F82D2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69B-F843-47DE-8BD9-D2FE1EC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ECBC-8F8A-469E-B795-832BE2C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67B-F33D-4ACE-9381-845070B3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241E-771D-430C-B9DA-41E5677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D05-A24D-41C5-8455-084C0DD4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292-6F81-4784-8D77-CC6783E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860-40CB-4531-9B57-0882865E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5927-CF9B-4072-9BD7-C75DA65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73A8-5047-4E04-BDF4-4906CAA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3882-2D76-4000-BB2B-531E42FA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F262-0A0C-43E5-81BF-DCF74795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7DE-C1A2-46CE-9F5C-D80CA4FA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319-CC88-4B9E-9596-F846E9AD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4FA-3780-4656-80D4-55069C2F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20F-E130-46D2-904E-70847B3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A06-CA76-4AF0-8A0C-F8382BD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2C7-806F-4B80-9B59-E0B9418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BF6-ABFA-4F17-8824-EEC6C3BC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7C8B-CF28-455B-B035-5DF7E44132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0A48-7525-4A02-A7A0-3618FDC1E0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55640" y="785520"/>
            <a:ext cx="7817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Bookman Old Style"/>
              </a:rPr>
              <a:t>Фандрейзинг: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Bookman Old Style"/>
              </a:rPr>
              <a:t>основні поняття та принцип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Мотивація вітчизняних благодійників, спонсорів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треба допомогти, зробити добру справ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ідвищити власній імідж серед своїх партнерів(участь у благодійних аукціонах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дин з інструментів маркетингу компанії 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-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акції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Як працювати з фонд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ерший етап – визначення потре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водиться визначення та з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сування проблеми,формується її актуальність, визначаються шляхи вирішення проблем, очікувані результати та необхідні ресурс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ругий етап – пошук джерел фінансуваня та ресурс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водиться аналіз потенційних донорів, визначається їх потенціал та інтереси, через направлення листа-запита визначається можливість підтримки вашої іде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Третій етап – звернення до фон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готовка та направлення заявки до відповідного фон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Четвертий етап – аналіз результат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цінюється проведена робота, визначається, що було зроблено вдало, а що – потребує доопрацю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роцедура розгляду заявок донорськими організаціям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голошення конкурс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іоритети, структура заявки (форма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даткові документи, учас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ди заходів, час прийому заяв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бір заяво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гляд на засіданні програмної рад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несення рішень щодо фінансуванн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писання грантової угод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Хто може брати участь у конкурса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ргани місцевого самоврядув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прибуткові (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n-profit)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організації – громадські організації, благодійні фонди, добровільні об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єд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туденти, аспіранти, викладачі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Заклади освіти, бібліоте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Як приймають участь у конкурсі на отримання гранту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Типова структура заяв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Титульний лист (назва проект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Коротка анотація (до 1 листа: виконавець проекту, опис проблем, очікуваний результат, необхідне фінансуванн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ступ (інформація про організацію та її досвід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пис пробле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Цілі та завдання проек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ходи (методи), які будуть виконані для досягнення поставлених ціл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процес організації роботи, календарний план, залучені виконавці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148428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Оцінка ефективності проек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одальше фінансування (самодостатність проекту після закінчення фінансування з боку грантодавця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Бюджет – перелік ресурсів, необхідних для проведення проектних заходів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інансування від фонду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ласний вклад організації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інансування з інших джере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датки: устав організації, довідка про статус неприбутковості, інформація про виконавців (резюме), листи підтрим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За якими критеріями донори  оцінюють заявки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дповідність аплікаційн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форми умовам конкурс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пис проблеми та ідеї проекту – яким чином буде вирішуватись пробле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ожливість організації реалізувати проект – досвід проектної діяльності у організації, досвід керівника та бухгалтеру проекту, Рекомендації від інших НГО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та устан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кість підготовки проектної заявки (змістовність, лаконічність…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лість результатів – що може залишитись після реалізації проек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Зовнішні джерела фінансування, які доступні українським громада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сновні організації та програми, які працюють в Україні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вітовий бан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грами Європейської Комісії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екти розвитку ОО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Агенції з міжнародного розвитку (Німеччини, США, Канади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грами малих гранті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Фонд сприяння місцевому самоврядуванню   в Україн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1.Проекти Світового банк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62864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ітовий банк розробляє та фінансує проекти на прохання Уряду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ісля оцінки проекту та умов надання позики наступними є переговори, затвердження радою директорів та підписання кредитної угоди. Позика набуває чинності після її ратифікації Верховною Радо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ітовий банк затвердив для України більше 4,5 млрд. доларів США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, загалом для інфраструктурних проектів (33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Близько десяти нових проектів перебувають на різних етапах підготов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3152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Фандрей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інг – залучення додаткових ресурсів для підтримки локальних ініціатив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Содержимое 2" descr=""/>
          <p:cNvPicPr/>
          <p:nvPr/>
        </p:nvPicPr>
        <p:blipFill>
          <a:blip r:embed="rId1"/>
          <a:stretch/>
        </p:blipFill>
        <p:spPr>
          <a:xfrm>
            <a:off x="1420920" y="4022640"/>
            <a:ext cx="704664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оточний портфель проектів Світового банку в Україні (1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ектор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ума позик          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в еквіваленті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 млн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доларів СШ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ержав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33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модернізації державної податкової       4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лужб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дернізація державної системи статистик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и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3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Енергетика та інфраструктура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33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реабілітації гідроелектростанцій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1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покращення теплопостачання у м. Києві       2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покращення водопостачання м. Львова          2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оточний портфель проектів Світового банку в Україні (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ума позик в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млн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дол. </a:t>
            </a:r>
            <a:r>
              <a:rPr b="0" lang="uk-UA" sz="19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Ш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оціаль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19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Фонд соціальних інвестицій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5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контролю за епідеміями ТБ та СНІД       6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івний доступ до якісної освіти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 8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озвиток села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 19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идача земельних актів та створення системи кадастру                                                           19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ватний сектор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           3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країна: Розвиток через Інтернет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ект розвитку приватного сектору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      3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2.Програми технічної допомоги Європейської Комісії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(ТАСІС) – Програма технічної допомоги Європейського Союзу (замінено на Європейський Інструмент сусідства та партнерств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PI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ISTRO/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(БІСТРО/ТАСІС) – Програма Малих Проект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MPUS/TACIS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(ТЕМПУС/ТАСІС) – програма обміну студентами університетів Євро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mus Mundus Tacis Nuclear Safety Programme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– Програма Тасіс у галузі ядерної безпе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IDHR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– Європейська програма “Демократія та права людини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2.Програми Технічної допомоги Європейської Комісії (продовження</a:t>
            </a:r>
            <a:r>
              <a:rPr b="0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ВС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oss-Border Co-operation Programme)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Програма прикордонного співробітниц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BPP (Institution Building Partnership Programme)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acic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з партнерства в інституційному розвитк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OGATE( Interstate Oil and Gas Transport to Europe)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ждержавна програма постачання нафти та газу до Європ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el Gap Programme –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компенсації паливного дефіцит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Програма Розвитку ООН в Україні (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NDP)</a:t>
            </a:r>
            <a:br>
              <a:rPr sz="24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ww.undp.org.u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яльність Програми розвитку ООН (основні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Енергія та навколишнє середовище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Л/СНІД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е управління за участю громадя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уніципальна програма сталого розвит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сцевий розвиток орієнтований на громаду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оброчесність на практиці: програма врядуванн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рівних можливост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апобігання кризи та її подола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долання бідност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Bookman Old Style"/>
              </a:rPr>
              <a:t>4.Агенції з міжнародного розвитк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Німецьке товариство технічного співробітництва (GTZ) в Україні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знаходиться у м. Ешборн, ФР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GTZ - це державна агенція, заснована 1975 року згідно з нормами права Німеччи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Bookman Old Style"/>
              </a:rPr>
              <a:t>Основною метою діяльності GTZ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є розбудова міжнародної співпраці, забезпечення сталого світового політичного, економічного, екологічного та соціального розвитку, а також сприяння Урядові ФРН у досягненні цілей національної політики розви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71280" y="1176480"/>
            <a:ext cx="799308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сновним замовником GTZ виступає Федеральне міністерство економічної співпраці та розвитку (BMZ), але крім нього GTZ також активно співпрацює з іншими федеральними міністерствами ФРН, урядами інших країн Європи та світу, численними міжнародними організаціями (Європейською Комісією, ООН, Світовим Банком) та приватними компанія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яльність GTZ побудована на засадах забезпечення суспільної користі та сталого розвитку: усі нерозподілені прибутки, утворені в результаті роботи, одразу ж перенаправляються на інші проекти міжнародної співпраці задля забезпечення сталого розвитку. Станом на сьогодні портфель GTZ налічує близько 2500 проектів, які виконуються у більш ніж 100 країнах. В офісах та проектах GTZ працює понад 10000 співробітник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560" y="620280"/>
            <a:ext cx="813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На даний момент в Україні виконуються наступні проект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професійної освіти з акцентом на питання енергоефективнос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прияння економічному розвитку та зайнятост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Інституційна реформа Міністерства фінансів У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публічного управління та підтримка процесів децентраліз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ідтримка фінансової діяльності на сел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нергоефективність у будівля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форма у галузі охорони здоров'я та профілактика СНІД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оротьба із ВІЛ/СНІД у Східній Європ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прияння німецько-українській кооперації між державними та недержавними учасниками та ініціативами з ВІЛ/СНІ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омунальний розвиток та санація історичної частини міста Льво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алий економічний розвиток у вибраних регіона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4.2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Агентство з міжнародного розвитку США (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USAID)</a:t>
            </a:r>
            <a:r>
              <a:rPr b="1" lang="uk-UA" sz="2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ww.ukraine.usaid.gov/uk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Економічний розвиток українських міст” (ЕРУ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Ініціатива сприянню кредитуванню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Реформа місцевих бюджетів в Україні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Розширення освітніх послуг Асоціації міст України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Сприяння торгівлі та інвестиціям” (ТІВ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 “Партнерства громад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4.3. Агентство з міжнародного розвитку Канади (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IDA)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ект “Голос громадськості”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ww.pvp.org.ua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ект “Регіональне врядування та розвиток”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(2005-2010)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ww.rgd.org.ua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ілотні регіони: Закарпатська та Запорізька облас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грама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ARM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Канадська підтримка реформи сільськогосподарського сектору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Пілотні регіони: Волинська, Рівненська, Сумська та Дніпропетровська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uk-UA" sz="1900" spc="-1" strike="noStrike">
                <a:solidFill>
                  <a:srgbClr val="000000"/>
                </a:solidFill>
                <a:latin typeface="Verdana"/>
              </a:rPr>
              <a:t>області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farm.sasktrade.com</a:t>
            </a:r>
            <a:r>
              <a:rPr b="0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Як профінансувати важливі для громади проекти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ожливо через…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ержавний бюдж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ісцевий бюдж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понсорів - місцевих підприємці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реди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900" spc="-1" strike="noStrike">
                <a:solidFill>
                  <a:srgbClr val="000000"/>
                </a:solidFill>
                <a:latin typeface="Verdana"/>
              </a:rPr>
              <a:t>А якщо коштів не вистачає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 Програми малих гранті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ограмні відділи при Посольствах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іжнародний фонд “Відродження” (МФВ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льсько-Американсько-Українська Ініціатива про співпрацю (ПАУС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Фонд “Східна Європа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режа громадської дії в Україні 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UCA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Творчий центр Каунтерпа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Благодійний фонд “Хайфер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1 Програмні відділи при Посольства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США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kiev.usembassy.gov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Корпус миру: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pcukraine.org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Королівства Нідерландів в Україні (МАТР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netherlands-embassy.com.ua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Канади в Україні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www.kyiv.gc.ca)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dfait-maeci.gc.ca/canada%2Deuropa/ukraine/menu-uk.asp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осольство Німеччини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едставництва політичних фондів в Україн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kiew.diplo.de/Vertretung/kiew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2 Міжнародний фонд “Відродження”</a:t>
            </a:r>
            <a:br>
              <a:rPr sz="2800"/>
            </a:b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http://www.irf.kiev.ua</a:t>
            </a:r>
            <a:r>
              <a:rPr b="1" lang="ru-RU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-     благочинна організація, місія якої є фінансове та організаційне сприяння становленню демократичного, відкритого суспільства через підтримку значущих для його розвитку громадських ініціатив (частина мережі фондів Сорос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ограмна діяльність МФВ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здійснюється як через 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адання грантів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недержавним організаціям, освітнім, просвітницьким та культурним закладам і підприємствам (видавництв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Учасники конкурсу – громадські організаці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ередній розмір гранту – 5000 – 7000 дол. СШ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Програмні напрямки МФ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озвиток громадянського суспіль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Посилення впливу громадянського суспільства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 Роми України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ерховенство пра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омпонент “права людини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омпонент “Сприяння реформі правосуддя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Європейськ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Європейська програм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грама “Схід-Схід”: Партнерство без кордонів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Засоби масової інформ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Соціальний капітал і академічні публік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світн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ольсько-Американсько-Українська Ініціатива про Співпрацю (ПАУСІ)</a:t>
            </a:r>
            <a:br>
              <a:rPr sz="2000"/>
            </a:b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</a:rPr>
              <a:t>www.pauci.org/ua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ета: сприяння розвитку 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ків між Україною та Польшею через розширення та поглиблення міждержавних 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ків задля прискорення перебігу економічних і демократичних перетворень в Україні та передбачає створення механізму, який дозволить поширювати та використовувати спільний досвід проведення рефор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іоритетні напрям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алізація програм на підтримку євроатлантичного курсу У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Запровадження міжнародних та,зокрема, європейських стандартів бізнес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тидія корупції та запровадження міжнародних етичних стандартів у громадському житт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Активізація участі молоді у громадському житті країн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5.4 Фонд “Східна Європа” (“Євразія”) </a:t>
            </a:r>
            <a:br>
              <a:rPr sz="2400"/>
            </a:b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6666"/>
                </a:solidFill>
                <a:uFillTx/>
                <a:latin typeface="Arial"/>
              </a:rPr>
              <a:t>http://www.eef.org.ua/ua</a:t>
            </a:r>
            <a:r>
              <a:rPr b="1" lang="uk-UA" sz="1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: допомога громадянам власними силами створити умови для побудови свого майбутнього, мобілізуючи ресурси, змінюючи громади та підтримуючи партнерство громад, влади та бізнес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іоритетні  напрямк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Корпоративна соціальна відповідальні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оціальні програ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ісцевий економічний розвито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е управління та місцеве самоврядуванн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Енергоефективніст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дкриті двері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іє з 01.01.2008 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uk-UA" sz="1800" spc="-1" strike="noStrike">
                <a:solidFill>
                  <a:srgbClr val="006666"/>
                </a:solidFill>
                <a:latin typeface="Arial"/>
              </a:rPr>
              <a:t>.5 “Мережа громадянської дії Україні”</a:t>
            </a:r>
            <a:br>
              <a:rPr sz="1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UCAN)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www.ucan-isic.org.ua/ukr</a:t>
            </a:r>
            <a:r>
              <a:rPr b="1" lang="uk-UA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: підтримання розвитку громадянського суспільства в Україні, підвищення громадської відповідальності, сприяючи активному залученню українців до усіх сфер суспільного житт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апрямки діяльності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етичних зас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Адвокасі (представництво прав та захист інтересі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Центр розвитку громадської філантропі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оціальне підприємництв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Український Фонд Корпоративної доброчинності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ВІЛ/СНІ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ртал відкритих ресурсі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5.6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 “Творчий центр Каунтерпат”</a:t>
            </a:r>
            <a:br>
              <a:rPr sz="2800"/>
            </a:b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6666"/>
                </a:solidFill>
                <a:uFillTx/>
                <a:latin typeface="Arial"/>
              </a:rPr>
              <a:t>http://www.ccc.kiev.ua</a:t>
            </a:r>
            <a:r>
              <a:rPr b="1" lang="uk-UA" sz="14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ета діяльності благодійного фонду (ТЦК) – сприяння розвитку громадських ініціатив спрямованих на розбудову та зміцнення громадянського суспільства в Україні через творчу розробку і реалізацію благодійних програм та через підтримку громадських організацій, органів місцевого самоврядування і ініціативних груп та задоволення їх потреб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прямки діяльності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дання тренінгових та консультативних послуг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дання інформації та випуск публікаці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оведення досліджень та оцін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Адміністрування грантових програ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едставлення, лобіювання та захист інтересів громадянського суспіль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5.7 </a:t>
            </a: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Фундація “Хайфер”</a:t>
            </a:r>
            <a:br>
              <a:rPr sz="2800"/>
            </a:b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http://www.heifer.org.ua/ukr</a:t>
            </a:r>
            <a:r>
              <a:rPr b="1" lang="uk-UA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Хайфер Інтернешенл (Хайфер)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– це неприбуткова благодійна організація, віддана справі подолання голоду і бідності у світі та турботи про Землю, шляхом надання допомоги у вигляді тварин, рослин, знань, навичок, а також інших ресурсів бідним сі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ям для того, щоб вони здобули впевненість в своїх сил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Станом на липень 2006 року, більш ніж 1907 сільських родин з багатьох регіонів України отримали племінну худобу, тренінги та іншу технічну допомог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5.8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Інші фонди та проект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Український Жіночий Фон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ета конкурсів – підвищення ролі українських жіночих громадських організацій і створення сприятливого клімату для активної участі жінок у суспільному житті к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uwf.kiev.ua/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Представництва політичних фонд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http://www.kiev.diplo.de/Vertretung/kiev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Конарда Аденау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Фрідріха Еберт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Фрідріха Науман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 Ганнса Зайдел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328680" y="841320"/>
            <a:ext cx="10223280" cy="5754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395280" y="2428920"/>
            <a:ext cx="2033640" cy="10713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понсорська допомо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5357880" y="150012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Членські внес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6858000" y="2214720"/>
            <a:ext cx="2106720" cy="78552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ранти від міжнародних фонд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492360" y="2357280"/>
            <a:ext cx="193680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Збір Пожертвува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2428920" y="1268280"/>
            <a:ext cx="1782720" cy="94644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роведення благодійних аукціон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6858000" y="442908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ромадські акції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5796000" y="5229360"/>
            <a:ext cx="171432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дання консультаці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3786120" y="4500720"/>
            <a:ext cx="1938240" cy="87300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Фінансування мікропроект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2286000" y="5072040"/>
            <a:ext cx="1428840" cy="7858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Соціальна робота з підлітк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785880" y="4286160"/>
            <a:ext cx="1428840" cy="64296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edffff"/>
              </a:gs>
            </a:gsLst>
            <a:lin ang="16200000"/>
          </a:gradFill>
          <a:ln w="9360">
            <a:solidFill>
              <a:srgbClr val="a8de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Адресна допомог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2786040" y="3214800"/>
            <a:ext cx="3286080" cy="1071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ісцева громадська організація або місцевий благодійний фон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Стрелка вниз 14"/>
          <p:cNvSpPr/>
          <p:nvPr/>
        </p:nvSpPr>
        <p:spPr>
          <a:xfrm>
            <a:off x="2571840" y="257184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Стрелка вниз 15"/>
          <p:cNvSpPr/>
          <p:nvPr/>
        </p:nvSpPr>
        <p:spPr>
          <a:xfrm>
            <a:off x="5572080" y="257184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Стрелка вниз 16"/>
          <p:cNvSpPr/>
          <p:nvPr/>
        </p:nvSpPr>
        <p:spPr>
          <a:xfrm>
            <a:off x="2571840" y="450072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Стрелка вниз 17"/>
          <p:cNvSpPr/>
          <p:nvPr/>
        </p:nvSpPr>
        <p:spPr>
          <a:xfrm>
            <a:off x="5929200" y="4643280"/>
            <a:ext cx="785880" cy="357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Проект “Гідна Україна” – Сприяння активній участі громадян у протидії корупції в Україні</a:t>
            </a:r>
            <a:br>
              <a:rPr sz="2000"/>
            </a:b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uk-UA" sz="1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http;//www.pace.org.ua</a:t>
            </a:r>
            <a:r>
              <a:rPr b="1" lang="uk-UA" sz="1200" spc="-1" strike="noStrike" u="sng">
                <a:solidFill>
                  <a:srgbClr val="006666"/>
                </a:solidFill>
                <a:uFillTx/>
                <a:latin typeface="Arial"/>
              </a:rPr>
              <a:t>   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та проекту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підтримка незалежного громадянського моніторингу й представництво та захист громадських інтересів в пріоритетних сферах боротьби з корупцією, що були визначені Урядом України у програмі співробітництва із Корпорацією “Виклики тисячоліття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Компоненти проекту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тримка представництва та захисту громадських інтерес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Журналістські розслідування та інші антикорупційні ініціативи з боку засобів масової інформації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ніторинг стану корупції та результатів антикорупційних ініціатив українського уряду та організацій громадянського суспі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Було започатковано в грудні 20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6. Фонд сприяння місцевому самоврядуванню України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Фонд є центрального науково – методичною, консультативною та координуючою установою, створеною при Президентові України для підтримки місцевого самоврядування в Україні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ета Конкурсу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вибір проектів та програм розвитку місцевого самоврядування, спрямованих на роз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зання актуальних проблем розвитку місцевого самоврядування та поширення позитивного досвіду, набутого у процесі їх реалізації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Основ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каз Президента України “Про Всеукраїнський конкурс проектів та програм розвитку місцевого самоврядування” (№ 952/2002 від 28 жовтня 2002 року)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Учасники конкурсу – органи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Учасники конкурсу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1-а категорія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и (програми) органів місцевого самоврядування сіл, селищ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1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2-а категорія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екти (програми) органів місцевого самоврядування міст, районів, районів в містах з населенням до 50 тис. жител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2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3-я категорія.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Проекти (програми) органів місцевого самоврядування міст, районів, районів в містах з населенням від 50 тис. до 100 тис. жител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 u="sng">
                <a:solidFill>
                  <a:srgbClr val="000000"/>
                </a:solidFill>
                <a:uFillTx/>
                <a:latin typeface="Verdana"/>
              </a:rPr>
              <a:t>4-а категорія.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Проекти (програми) органів місцевого самоврядування міст , районів, районів в містах з населенням понад 100 тис. жителі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аксимальний розмір гранту – до 1 000 000 гр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рієнтована тематика проектів (програм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рганізація ефективної системи надання соціальних послуг населенн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ефективних механізмів управлі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досконалення процедури прийняття рішень органами місцевого самоврядуванн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пропозицій щодо розмежування повноважень між органами місцевого самоврядування різних рівн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та реалізація інвестиційної політики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системи житлово-комунального господарс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мережі громадського транспорт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Удосконалення системи планування, забудови та благоустрою населених пунктів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туристичної діяльності та курортної справ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Орієнтована тематика проектів (програм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Впровадження механізмів ефективного використання фінансових, земельних,ю майнових та інших ресурсів розвитку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робка та реалізація проектів (програм) з енерго- та ресурсозбереження, у тому числі у житлово-комунальній сфер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озвиток підприємництв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дернізація інженерної інфраструктур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ідвищення безпеки життя, зменшення ризику виникнення природних  та техногенних катастроф на території адміністративно-територіальної одиниці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Реформування системи охорони здоров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я, освіти та соціального забезпече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Освітнє, наукове та інформаційне забезпечення розвитку місцевого самоврядуван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Пріоритетні напрями проведення Всеукраїнського конкурсу проектів та програм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148428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ефективних механізмів управління, зокрема, електронного врядування, запровадження європейських стандартів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O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9001:2000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робка та реалізація інвестиційної політики місцевого самоврядування шляхом підвищення ефективності використання земель територіальних громад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еформування системи житлово-комунального господарств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міжнародного співробітництва в контексті запровадження європейських стандартів в галузі місцевої і регіональної демократії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Розвиток транскордонного та прикордонного співробітництва в контексті євро інтеграції Украї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айти ресурсних центрів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Громадський прості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www.civicua.org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Ресурсний центр “Гурт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www.gurt.org.ua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Громадський інформаційно-аналітичний центр для молоді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http://ciacy.org.ua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Bookman Old Style"/>
              </a:rPr>
              <a:t>Стратегічне планування (практичні занятт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6666"/>
                </a:solidFill>
                <a:latin typeface="Bookman Old Style"/>
              </a:rPr>
              <a:t>Основні завдання процесу підготовки Стратегічного плану</a:t>
            </a:r>
            <a:r>
              <a:rPr b="0" lang="en-US" sz="2900" spc="-1" strike="noStrike">
                <a:solidFill>
                  <a:srgbClr val="006666"/>
                </a:solidFill>
                <a:latin typeface="Bookman Old Style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Поділення учасників семінару на груп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Командна розробка стислого проекту Стратегічного план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Презентація групами розробленого стислого проекту Стратегічного план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Bookman Old Style"/>
              </a:rPr>
              <a:t>Загальне обговорення та дискусія з питань представлених проектів Стратегічних плані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6666"/>
                </a:solidFill>
                <a:latin typeface="Bookman Old Style"/>
              </a:rPr>
              <a:t>ДЯКУЮ ЗА УВАГУ 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69800" y="1827360"/>
            <a:ext cx="721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Фандрейзінг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– цілеспрямований систематичний пошук та залучення ресурсів для реалізації проектів, які спрямовані на вирішення соціально значущих проблем або підтримки соціально-спрямованих груп та організаці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500" spc="-1" strike="noStrike">
                <a:solidFill>
                  <a:srgbClr val="000000"/>
                </a:solidFill>
                <a:latin typeface="Verdana"/>
              </a:rPr>
              <a:t>Тобто потрібні донори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525240"/>
            <a:ext cx="7313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Arial"/>
              </a:rPr>
              <a:t>Донори – хто вони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онорська організація – установа, яка надає постійну благодійну фінансову, матеріальну чи технічну допомогу на вирішення соціальник проблем іншим організаціям за чітко визначеними правилами та пріоритет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ид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Державні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иватні (іменні)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осередницькі фонд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Фонди територіальних громад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munity Found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Види донорських організацій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5892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Міждержавні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діяльність фінансують декілька держав (Світовий банк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ержавні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- фонди, які фінансуються з державного бюджету (американський –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AID,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канадський – СІДА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ватні 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– недержавні некомерційні організації, які засновані приватними особами або компаніями, та існують, в основному, на дивіденди від капіталу та благодійні внески (Фонд Дж.Сороса, Фонд Мак Артуров, Фонд Форда, </a:t>
            </a:r>
            <a:r>
              <a:rPr b="0" lang="uk-UA" sz="1900" spc="-1" strike="noStrike" u="sng">
                <a:solidFill>
                  <a:srgbClr val="000000"/>
                </a:solidFill>
                <a:uFillTx/>
                <a:latin typeface="Verdana"/>
              </a:rPr>
              <a:t>Фонд Пінчука,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Фонд Катерини Ющенко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середницькі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– громадські організації, які фінансуються державними або приватними фондами, та розподіляють (Фонд Євразія, Каунтерпарт, ПАУС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Фонд терито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альної громад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и – установа,що сприяє і підтримує благодійну та громадську діяльність на місцевому рівні для підтримання її життєдіяльності через розподіл безповоротної допомоги на конкурсній основ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Ключові ознаки ФТГ –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Працюють у конкретному географічному регіоні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ають фінансову основу – “евдамент”(недоторканий капітал),щоб фінансувати довгострокові програм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Накопичення благодійних коштів направляються для фінансування соціальних проектів та програ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ають орган управління, до якого входять представники широких кіл місцевої громад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За укр.Законод. – ФГТ може створити недержавна організація або об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єднання громадян(ст.5 ЗУ”Про благодійництвота благодійні організації”),однак система</a:t>
            </a:r>
            <a:r>
              <a:rPr b="0" lang="uk-U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оподаткування не дає можливості накопичувати “евдамент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66"/>
                </a:solidFill>
                <a:latin typeface="Arial"/>
              </a:rPr>
              <a:t>Чому фонди допомагають вирішувати наші проблеми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Мотивація Міжнародних донорських організацій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низити потенційну загрозу для своїх країн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нелегальну міграцію,поширення захворювань,наслідки бойових дій та терактів, екологічні катастрофи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оширити ідеї,в т.ч.ведення справ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підтримка реформ, демократії-прозорість рішень, свобода ЗМІ, зниження корупції, раціональне використання енергії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Допомогти компаніям отримати нових співробітників, наукову інформацію та розробки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стипендіальні програми для студентів та науковців, фінансування індивідуальних досліджень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багатити культурний та творчий світ</a:t>
            </a:r>
            <a:r>
              <a:rPr b="0" lang="uk-UA" sz="1900" spc="-1" strike="noStrike">
                <a:solidFill>
                  <a:srgbClr val="000000"/>
                </a:solidFill>
                <a:latin typeface="Verdana"/>
              </a:rPr>
              <a:t>(культурні обміни,фестивалі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700" spc="-1" strike="noStrike">
                <a:solidFill>
                  <a:srgbClr val="000000"/>
                </a:solidFill>
                <a:latin typeface="Verdana"/>
              </a:rPr>
              <a:t>Прим. За різними даними, міжнародні донори щорічно вкладають тільки в українські неприбуткові організації від 40 до 90 млн. дол. СШ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2:52:15Z</dcterms:created>
  <dc:creator>Олег</dc:creator>
  <dc:description/>
  <dc:language>en-US</dc:language>
  <cp:lastModifiedBy>Владелец</cp:lastModifiedBy>
  <dcterms:modified xsi:type="dcterms:W3CDTF">2020-10-16T18:33:40Z</dcterms:modified>
  <cp:revision>71</cp:revision>
  <dc:subject/>
  <dc:title>Слайд 1</dc:title>
</cp:coreProperties>
</file>