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092-DB13-4B00-8638-ECEE250D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723-3B26-4BC3-9346-223A9A3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58D-B1BA-4CF1-83C1-FFFD24F7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818-FA7E-432B-B30B-D093EB28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7C83-0A0B-4CFB-A325-674B11C3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19BD-0439-444B-83C5-1EEF9149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B9F7-1ED2-4948-AA56-51FCE9B8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0333-A3AB-4901-BCAC-9D659EC6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8901-286E-4090-82FE-8BECC806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E270-90F8-4CC1-A4AE-640F7BD2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6576-53A7-401F-96AE-2B028CDB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D1B-4929-4F86-8324-6C6E9031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CCEF-CC16-4040-ACB4-1CFA046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B544-1833-4C29-A39E-2D510D2F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66AE-6827-42AD-9E3D-AB90CCC0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AF4D-7344-460E-A2D3-386A94C2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11D2-0EA3-46E1-B5AF-E1A7B5F2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469-A434-4296-938A-DB088830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188-FEA7-4066-AF0B-237476CD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BCE-0808-4AED-9E81-480A7AB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9A2-262A-4E3B-92C1-F557E598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280-4285-41E8-8115-080CC938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09B-6E3A-4499-95C7-E8C821C9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DF3-D341-4003-B578-B382FD0F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D6C2-81C5-46A8-8995-34B386F2FE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9384-637D-470B-ABC0-9BEA5506499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55640" y="785520"/>
            <a:ext cx="7817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0000"/>
                </a:solidFill>
                <a:latin typeface="Bookman Old Style"/>
              </a:rPr>
              <a:t>Фандрейзинг: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0000"/>
                </a:solidFill>
                <a:latin typeface="Bookman Old Style"/>
              </a:rPr>
              <a:t>основні поняття та принцип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Мотивація вітчизняних благодійників, спонсорів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отреба допомогти, зробити добру справ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ідвищити власній імідж серед своїх партнерів(участь у благодійних аукціонах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Один з інструментів маркетингу компанії 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-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акції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Як працювати з фонда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ерший етап – визначення потреб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водиться визначення та з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сування проблеми,формується її актуальність, визначаються шляхи вирішення проблем, очікувані результати та необхідні ресурс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Другий етап – пошук джерел фінансуваня та ресурс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водиться аналіз потенційних донорів, визначається їх потенціал та інтереси, через направлення листа-запита визначається можливість підтримки вашої іде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Третій етап – звернення до фонд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ідготовка та направлення заявки до відповідного фонд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Четвертий етап – аналіз результат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цінюється проведена робота, визначається, що було зроблено вдало, а що – потребує доопрацю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Процедура розгляду заявок донорськими організаціям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Оголошення конкурс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іоритети, структура заявки (форма)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даткові документи, учасники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иди заходів, час прийому заяв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бір заяв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озгляд на засіданні програмної рад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инесення рішень щодо фінансуванн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писання грантової угод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Хто може брати участь у конкурса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Органи місцевого самоврядув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еприбуткові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-profit)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організації – громадські організації, благодійні фонди, добровільні об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єдн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Студенти, аспіранти, викладачі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Заклади освіти, бібліоте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Як приймають участь у конкурсі на отримання гранту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Типова структура заяв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Титульний лист (назва проект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Коротка анотація (до 1 листа: виконавець проекту, опис проблем, очікуваний результат, необхідне фінансування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ступ (інформація про організацію та її досвід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пис пробле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Цілі та завдання проект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Заходи (методи), які будуть виконані для досягнення поставлених ціл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- процес організації роботи, календарний план, залучені виконавці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148428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Оцінка ефективності проек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одальше фінансування (самодостатність проекту після закінчення фінансування з боку грантодавця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Бюджет – перелік ресурсів, необхідних для проведення проектних заходів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інансування від фонду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ласний вклад організації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інансування з інших джере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10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датки: устав організації, довідка про статус неприбутковості, інформація про виконавців (резюме), листи підтрим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За якими критеріями донори  оцінюють заявки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ідповідність аплікаційн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форми умовам конкурс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пис проблеми та ідеї проекту – яким чином буде вирішуватись пробле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ожливість організації реалізувати проект – досвід проектної діяльності у організації, досвід керівника та бухгалтеру проекту, Рекомендації від інших НГ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та устан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Якість підготовки проектної заявки (змістовність, лаконічність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талість результатів – що може залишитись після реалізації проект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Зовнішні джерела фінансування, які доступні українським громада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Основні організації та програми, які працюють в Україні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Світовий бан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грами Європейської Комісії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екти розвитку ОО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Агенції з міжнародного розвитку (Німеччини, США, Канади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грами малих гранті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Фонд сприяння місцевому самоврядуванню   в Україні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1.Проекти Світового банк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62864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вітовий банк розробляє та фінансує проекти на прохання Уряду Украї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ісля оцінки проекту та умов надання позики наступними є переговори, затвердження радою директорів та підписання кредитної угоди. Позика набуває чинності після її ратифікації Верховною Радою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вітовий банк затвердив для України більше 4,5 млрд. доларів США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, загалом для інфраструктурних проектів (33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Близько десяти нових проектів перебувають на різних етапах підготов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3152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Фандрей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інг – залучення додаткових ресурсів для підтримки локальних ініціатив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Содержимое 2" descr=""/>
          <p:cNvPicPr/>
          <p:nvPr/>
        </p:nvPicPr>
        <p:blipFill>
          <a:blip r:embed="rId1"/>
          <a:stretch/>
        </p:blipFill>
        <p:spPr>
          <a:xfrm>
            <a:off x="1420920" y="4022640"/>
            <a:ext cx="704664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Поточний портфель проектів Світового банку в Україні (1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ектор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ума позик                 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в еквіваленті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млн.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доларів СШ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Державний сектор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338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грама модернізації державної податкової       4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лужб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одернізація державної системи статистик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и       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Енергетика та інфраструктура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 33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реабілітації гідроелектростанцій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     10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покращення теплопостачання у м. Києві       20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покращення водопостачання м. Львова          2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Поточний портфель проектів Світового банку в Україні (2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ума позик в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млн.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дол.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Ш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оціальний сектор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 19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Фонд соціальних інвестицій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      5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контролю за епідеміями ТБ та СНІД       6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івний доступ до якісної освіти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       8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озвиток села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  19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Видача земельних актів та створення системи кадастру                                                           19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ватний сектор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   3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Україна: Розвиток через Інтернет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розвитку приватного сектору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      3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6666"/>
                </a:solidFill>
                <a:uFillTx/>
                <a:latin typeface="Arial"/>
              </a:rPr>
              <a:t>2.Програми технічної допомоги Європейської Комісії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CIS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(ТАСІС) – Програма технічної допомоги Європейського Союзу (замінено на Європейський Інструмент сусідства та партнерства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PI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ISTRO/TACIS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(БІСТРО/ТАСІС) – Програма Малих Проекті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MPUS/TACIS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(ТЕМПУС/ТАСІС) – програма обміну студентами університетів Європ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asmus Mundus Tacis Nuclear Safety Programme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– Програма Тасіс у галузі ядерної безпе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IDHR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– Європейська програма “Демократія та права людини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6666"/>
                </a:solidFill>
                <a:uFillTx/>
                <a:latin typeface="Arial"/>
              </a:rPr>
              <a:t>2.Програми Технічної допомоги Європейської Комісії (продовження</a:t>
            </a:r>
            <a:r>
              <a:rPr b="0" lang="uk-UA" sz="2800" spc="-1" strike="noStrike" u="sng">
                <a:solidFill>
                  <a:srgbClr val="006666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ВС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oss-Border Co-operation Programme)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- Програма прикордонного співробітниц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BPP (Institution Building Partnership Programme) –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грама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cic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з партнерства в інституційному розвитк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OGATE( Interstate Oil and Gas Transport to Europe) –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іждержавна програма постачання нафти та газу до Європ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el Gap Programme –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грама компенсації паливного дефіцит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Програма Розвитку ООН в Україні (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UNDP)</a:t>
            </a:r>
            <a:br>
              <a:rPr sz="24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ww.undp.org.u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іяльність Програми розвитку ООН (основні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Енергія та навколишнє середовище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ІЛ/СНІД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ержавне управління за участю громадян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уніципальна програма сталого розвит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ісцевий розвиток орієнтований на громаду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оброчесність на практиці: програма врядуванн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грама рівних можливост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Запобігання кризи та її подола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одолання бідност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Bookman Old Style"/>
              </a:rPr>
              <a:t>4.Агенції з міжнародного розвитк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Німецьке товариство технічного співробітництва (GTZ) в Україн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знаходиться у м. Ешборн, ФР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GTZ - це державна агенція, заснована 1975 року згідно з нормами права Німеччи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Основною метою діяльності GTZ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 є розбудова міжнародної співпраці, забезпечення сталого світового політичного, економічного, екологічного та соціального розвитку, а також сприяння Урядові ФРН у досягненні цілей національної політики розвит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71280" y="1176480"/>
            <a:ext cx="799308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сновним замовником GTZ виступає Федеральне міністерство економічної співпраці та розвитку (BMZ), але крім нього GTZ також активно співпрацює з іншими федеральними міністерствами ФРН, урядами інших країн Європи та світу, численними міжнародними організаціями (Європейською Комісією, ООН, Світовим Банком) та приватними компанія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іяльність GTZ побудована на засадах забезпечення суспільної користі та сталого розвитку: усі нерозподілені прибутки, утворені в результаті роботи, одразу ж перенаправляються на інші проекти міжнародної співпраці задля забезпечення сталого розвитку. Станом на сьогодні портфель GTZ налічує близько 2500 проектів, які виконуються у більш ніж 100 країнах. В офісах та проектах GTZ працює понад 10000 співробітникі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26560" y="620280"/>
            <a:ext cx="8137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На даний момент в Україні виконуються наступні проект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форма професійної освіти з акцентом на питання енергоефективност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прияння економічному розвитку та зайнят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Інституційна реформа Міністерства фінансів Украї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форма публічного управління та підтримка процесів децентралізаці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ідтримка фінансової діяльності на сел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Енергоефективність у будівля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форма у галузі охорони здоров'я та профілактика СНІД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оротьба із ВІЛ/СНІД у Східній Європ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прияння німецько-українській кооперації між державними та недержавними учасниками та ініціативами з ВІЛ/СНІ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омунальний розвиток та санація історичної частини міста Льво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алий економічний розвиток у вибраних регіона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4.2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Агентство з міжнародного розвитку США (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USAID)</a:t>
            </a:r>
            <a:r>
              <a:rPr b="1" lang="uk-UA" sz="2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www.ukraine.usaid.gov/uk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Економічний розвиток українських міст” (ЕРУМ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Ініціатива сприянню кредитуванню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Реформа місцевих бюджетів в Україні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Розширення освітніх послуг Асоціації міст України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Сприяння торгівлі та інвестиціям” (ТІВ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Партнерства громад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4.3. Агентство з міжнародного розвитку Канади (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IDA)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оект “Голос громадськості”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ww.pvp.org.ua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оект “Регіональне врядування та розвиток”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(2005-2010)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ww.rgd.org.ua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000000"/>
                </a:solidFill>
                <a:latin typeface="Verdana"/>
              </a:rPr>
              <a:t>Пілотні регіони: Закарпатська та Запорізька област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грама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RM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. Канадська підтримка реформи сільськогосподарського сектору Украї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000000"/>
                </a:solidFill>
                <a:latin typeface="Verdana"/>
              </a:rPr>
              <a:t>Пілотні регіони: Волинська, Рівненська, Сумська та Дніпропетровська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1900" spc="-1" strike="noStrike">
                <a:solidFill>
                  <a:srgbClr val="000000"/>
                </a:solidFill>
                <a:latin typeface="Verdana"/>
              </a:rPr>
              <a:t>області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farm.sasktrade.com</a:t>
            </a:r>
            <a:r>
              <a:rPr b="0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Як профінансувати важливі для громади проекти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Можливо через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ержавний бюдж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Місцевий бюдж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Спонсорів - місцевих підприємці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реди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А якщо коштів не вистачає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5. Програми малих гранті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ограмні відділи при Посольства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іжнародний фонд “Відродження” (МФВ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ольсько-Американсько-Українська Ініціатива про співпрацю (ПАУСІ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Фонд “Східна Європа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ережа громадської дії в Україні (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UCA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Творчий центр Каунтерпа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Благодійний фонд “Хайфер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5.1 Програмні відділи при Посольствах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55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осольство США в Україн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kiev.usembassy.gov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Корпус миру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pcukraine.org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осольство Королівства Нідерландів в Україні (МАТР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netherlands-embassy.com.ua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осольство Канади в Україні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www.kyiv.gc.ca)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dfait-maeci.gc.ca/canada%2Deuropa/ukraine/menu-uk.asp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осольство Німеччини в Україн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едставництва політичних фондів в Україн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kiew.diplo.de/Vertretung/kiew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5.2 Міжнародний фонд “Відродження”</a:t>
            </a:r>
            <a:br>
              <a:rPr sz="2800"/>
            </a:b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6666"/>
                </a:solidFill>
                <a:uFillTx/>
                <a:latin typeface="Arial"/>
              </a:rPr>
              <a:t>http://www.irf.kiev.ua</a:t>
            </a:r>
            <a:r>
              <a:rPr b="1" lang="ru-RU" sz="14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-     благочинна організація, місія якої є фінансове та організаційне сприяння становленню демократичного, відкритого суспільства через підтримку значущих для його розвитку громадських ініціатив (частина мережі фондів Сорос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ограмна діяльність МФВ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здійснюється як через 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адання грантів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недержавним організаціям, освітнім, просвітницьким та культурним закладам і підприємствам (видавництв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Учасники конкурсу – громадські організації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ередній розмір гранту – 5000 – 7000 дол. СШ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Програмні напрямки МФ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озвиток громадянського суспільс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грама “Посилення впливу громадянського суспільства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грама “ Роми України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ерховенство пра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Компонент “права людини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Компонент “Сприяння реформі правосуддя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Європейські програм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Європейська програм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грама “Схід-Схід”: Партнерство без кордонів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Засоби масової інформаці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оціальний капітал і академічні публікаці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світні програм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Польсько-Американсько-Українська Ініціатива про Співпрацю (ПАУСІ)</a:t>
            </a:r>
            <a:br>
              <a:rPr sz="2000"/>
            </a:b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www.pauci.org/ua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ета: сприяння розвитку з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зків між Україною та Польшею через розширення та поглиблення міждержавних з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зків задля прискорення перебігу економічних і демократичних перетворень в Україні та передбачає створення механізму, який дозволить поширювати та використовувати спільний досвід проведення рефор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іоритетні напрям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еалізація програм на підтримку євроатлантичного курсу Украї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еформування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Запровадження міжнародних та,зокрема, європейських стандартів бізнес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тидія корупції та запровадження міжнародних етичних стандартів у громадському житт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Активізація участі молоді у громадському житті краї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5.4 Фонд “Східна Європа” (“Євразія”) </a:t>
            </a:r>
            <a:br>
              <a:rPr sz="2400"/>
            </a:b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6666"/>
                </a:solidFill>
                <a:uFillTx/>
                <a:latin typeface="Arial"/>
              </a:rPr>
              <a:t>http://www.eef.org.ua/ua</a:t>
            </a:r>
            <a:r>
              <a:rPr b="1" lang="uk-UA" sz="1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ета: допомога громадянам власними силами створити умови для побудови свого майбутнього, мобілізуючи ресурси, змінюючи громади та підтримуючи партнерство громад, влади та бізнес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іоритетні  напрямк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Корпоративна соціальна відповідальніс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оціальні програ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ісцевий економічний розвито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ержавне управління та місцеве самоврядува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Енергоефективніс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ідкриті двері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іє з 01.01.2008 р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1" lang="uk-UA" sz="1800" spc="-1" strike="noStrike">
                <a:solidFill>
                  <a:srgbClr val="006666"/>
                </a:solidFill>
                <a:latin typeface="Arial"/>
              </a:rPr>
              <a:t>.5 “Мережа громадянської дії Україні”</a:t>
            </a:r>
            <a:br>
              <a:rPr sz="1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UCAN)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6666"/>
                </a:solidFill>
                <a:uFillTx/>
                <a:latin typeface="Arial"/>
              </a:rPr>
              <a:t>www.ucan-isic.org.ua/ukr</a:t>
            </a:r>
            <a:r>
              <a:rPr b="1" lang="uk-UA" sz="14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ета: підтримання розвитку громадянського суспільства в Україні, підвищення громадської відповідальності, сприяючи активному залученню українців до усіх сфер суспільного житт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апрямки діяльності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виток етичних заса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Адвокасі (представництво прав та захист інтересі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Центр розвитку громадської філантропії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оціальне підприємницт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Український Фонд Корпоративної доброчинност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ІЛ/СНІ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ортал відкритих ресурсів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5.6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 “Творчий центр Каунтерпат”</a:t>
            </a:r>
            <a:br>
              <a:rPr sz="2800"/>
            </a:b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6666"/>
                </a:solidFill>
                <a:uFillTx/>
                <a:latin typeface="Arial"/>
              </a:rPr>
              <a:t>http://www.ccc.kiev.ua</a:t>
            </a:r>
            <a:r>
              <a:rPr b="1" lang="uk-UA" sz="14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ета діяльності благодійного фонду (ТЦК) – сприяння розвитку громадських ініціатив спрямованих на розбудову та зміцнення громадянського суспільства в Україні через творчу розробку і реалізацію благодійних програм та через підтримку громадських організацій, органів місцевого самоврядування і ініціативних груп та задоволення їх потреб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прямки діяльності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Надання тренінгових та консультативних послуг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Надання інформації та випуск публікаці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ведення досліджень та оціно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Адміністрування грантових програ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едставлення, лобіювання та захист інтересів громадянського суспільс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5.7 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Фундація “Хайфер”</a:t>
            </a:r>
            <a:br>
              <a:rPr sz="2800"/>
            </a:b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http://www.heifer.org.ua/ukr</a:t>
            </a:r>
            <a:r>
              <a:rPr b="1" lang="uk-UA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Хайфер Інтернешенл (Хайфер)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– це неприбуткова благодійна організація, віддана справі подолання голоду і бідності у світі та турботи про Землю, шляхом надання допомоги у вигляді тварин, рослин, знань, навичок, а також інших ресурсів бідним сі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ям для того, щоб вони здобули впевненість в своїх сила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таном на липень 2006 року, більш ніж 1907 сільських родин з багатьох регіонів України отримали племінну худобу, тренінги та іншу технічну допомог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5.8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Інші фонди та проект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Український Жіночий Фон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ета конкурсів – підвищення ролі українських жіночих громадських організацій і створення сприятливого клімату для активної участі жінок у суспільному житті каї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uwf.kiev.ua/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едставництва політичних фонді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kiev.diplo.de/Vertretung/kiev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 Конарда Аденау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 Фрідріха Ебер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 Фрідріха Науман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 Ганнса Зайдел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2" descr=""/>
          <p:cNvPicPr/>
          <p:nvPr/>
        </p:nvPicPr>
        <p:blipFill>
          <a:blip r:embed="rId1"/>
          <a:stretch/>
        </p:blipFill>
        <p:spPr>
          <a:xfrm>
            <a:off x="328680" y="841320"/>
            <a:ext cx="10223280" cy="57546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395280" y="2428920"/>
            <a:ext cx="2033640" cy="10713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Спонсорська допомог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5357880" y="1500120"/>
            <a:ext cx="142884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Членські внес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6858000" y="2214720"/>
            <a:ext cx="2106720" cy="78552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ранти від міжнародних фонд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492360" y="2357280"/>
            <a:ext cx="193680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бір Пожертвува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2428920" y="1268280"/>
            <a:ext cx="1782720" cy="9464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роведення благодійних аукціон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6858000" y="4429080"/>
            <a:ext cx="142884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ромадські акції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5796000" y="5229360"/>
            <a:ext cx="171432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дання консультаці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3786120" y="4500720"/>
            <a:ext cx="1938240" cy="87300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інансування мікропроект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2286000" y="5072040"/>
            <a:ext cx="1428840" cy="7858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Соціальна робота з підлітк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785880" y="4286160"/>
            <a:ext cx="142884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Адресна допомог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2786040" y="3214800"/>
            <a:ext cx="3286080" cy="1071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ісцева громадська організація або місцевий благодійний фо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Стрелка вниз 14"/>
          <p:cNvSpPr/>
          <p:nvPr/>
        </p:nvSpPr>
        <p:spPr>
          <a:xfrm>
            <a:off x="2571840" y="257184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Стрелка вниз 15"/>
          <p:cNvSpPr/>
          <p:nvPr/>
        </p:nvSpPr>
        <p:spPr>
          <a:xfrm>
            <a:off x="5572080" y="257184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Стрелка вниз 16"/>
          <p:cNvSpPr/>
          <p:nvPr/>
        </p:nvSpPr>
        <p:spPr>
          <a:xfrm>
            <a:off x="2571840" y="450072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Стрелка вниз 17"/>
          <p:cNvSpPr/>
          <p:nvPr/>
        </p:nvSpPr>
        <p:spPr>
          <a:xfrm>
            <a:off x="5929200" y="4643280"/>
            <a:ext cx="7858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Проект “Гідна Україна” – Сприяння активній участі громадян у протидії корупції в Україні</a:t>
            </a:r>
            <a:br>
              <a:rPr sz="2000"/>
            </a:b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http;//www.pace.org.ua</a:t>
            </a:r>
            <a:r>
              <a:rPr b="1" lang="uk-UA" sz="1200" spc="-1" strike="noStrike" u="sng">
                <a:solidFill>
                  <a:srgbClr val="006666"/>
                </a:solidFill>
                <a:uFillTx/>
                <a:latin typeface="Arial"/>
              </a:rPr>
              <a:t>   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ета проекту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– підтримка незалежного громадянського моніторингу й представництво та захист громадських інтересів в пріоритетних сферах боротьби з корупцією, що були визначені Урядом України у програмі співробітництва із Корпорацією “Виклики тисячоліття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Компоненти проекту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ідтримка представництва та захисту громадських інтерес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Журналістські розслідування та інші антикорупційні ініціативи з боку засобів масової інформаці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оніторинг стану корупції та результатів антикорупційних ініціатив українського уряду та організацій громадянського суспі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Було започатковано в грудні 200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6. Фонд сприяння місцевому самоврядуванню Україн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Фонд є центрального науково – методичною, консультативною та координуючою установою, створеною при Президентові України для підтримки місцевого самоврядування в Україні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ета Конкурсу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– вибір проектів та програм розвитку місцевого самоврядування, спрямованих на роз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зання актуальних проблем розвитку місцевого самоврядування та поширення позитивного досвіду, набутого у процесі їх реалізації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Основ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Указ Президента України “Про Всеукраїнський конкурс проектів та програм розвитку місцевого самоврядування” (№ 952/2002 від 28 жовтня 2002 року)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Учасники конкурсу – органи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Учасники конкурсу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1-а категорія.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и (програми) органів місцевого самоврядування сіл, селищ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аксимальний розмір гранту – до 100 000 гр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2-а категорія.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и (програми) органів місцевого самоврядування міст, районів, районів в містах з населенням до 50 тис. жителі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аксимальний розмір гранту – до 200 000 гр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3-я категорія.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Проекти (програми) органів місцевого самоврядування міст, районів, районів в містах з населенням від 50 тис. до 100 тис. жителі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4-а категорія.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Проекти (програми) органів місцевого самоврядування міст , районів, районів в містах з населенням понад 100 тис. жителі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аксимальний розмір гранту – до 1 000 000 гр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Орієнтована тематика проектів (програм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рганізація ефективної системи надання соціальних послуг населенню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виток ефективних механізмів управлі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Удосконалення процедури прийняття рішень органами місцевого самоврядуванн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робка пропозицій щодо розмежування повноважень між органами місцевого самоврядування різних рівн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робка та реалізація інвестиційної політики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еформування системи житлово-комунального господарс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виток мережі громадського транспорт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Удосконалення системи планування, забудови та благоустрою населених пункт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виток туристичної діяльності та курортної справ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Орієнтована тематика проектів (програм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Впровадження механізмів ефективного використання фінансових, земельних,ю майнових та інших ресурсів розвитку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робка та реалізація проектів (програм) з енерго- та ресурсозбереження, у тому числі у житлово-комунальній сфер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виток підприємниц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одернізація інженерної інфраструктур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ідвищення безпеки життя, зменшення ризику виникнення природних  та техногенних катастроф на території адміністративно-територіальної одиниці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еформування системи охорони здоро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, освіти та соціального забезпече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світнє, наукове та інформаційне забезпечення розвитку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Пріоритетні напрями проведення Всеукраїнського конкурсу проектів та програм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1484280"/>
            <a:ext cx="796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виток ефективних механізмів управління, зокрема, електронного врядування, запровадження європейських стандартів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SO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9001:2000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робка та реалізація інвестиційної політики місцевого самоврядування шляхом підвищення ефективності використання земель територіальних громад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еформування системи житлово-комунального господарств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виток міжнародного співробітництва в контексті запровадження європейських стандартів в галузі місцевої і регіональної демократії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виток транскордонного та прикордонного співробітництва в контексті євро інтеграції Украї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айти ресурсних центрів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Громадський прості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http://www.civicua.org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Ресурсний центр “Гурт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http://www.gurt.org.ua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Громадський інформаційно-аналітичний центр для молоді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http://ciacy.org.ua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Bookman Old Style"/>
              </a:rPr>
              <a:t>Стратегічне планування (практичні занятт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6666"/>
                </a:solidFill>
                <a:latin typeface="Bookman Old Style"/>
              </a:rPr>
              <a:t>Основні завдання процесу підготовки Стратегічного плану</a:t>
            </a:r>
            <a:r>
              <a:rPr b="0" lang="en-US" sz="2900" spc="-1" strike="noStrike">
                <a:solidFill>
                  <a:srgbClr val="006666"/>
                </a:solidFill>
                <a:latin typeface="Bookman Old Style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Bookman Old Style"/>
              </a:rPr>
              <a:t>Поділення учасників семінару на груп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Bookman Old Style"/>
              </a:rPr>
              <a:t>Командна розробка стислого проекту Стратегічного план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Bookman Old Style"/>
              </a:rPr>
              <a:t>Презентація групами розробленого стислого проекту Стратегічного план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Bookman Old Style"/>
              </a:rPr>
              <a:t>Загальне обговорення та дискусія з питань представлених проектів Стратегічних плані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6666"/>
                </a:solidFill>
                <a:latin typeface="Bookman Old Style"/>
              </a:rPr>
              <a:t>ДЯКУЮ ЗА УВАГУ 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69800" y="18273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Фандрейзінг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– цілеспрямований систематичний пошук та залучення ресурсів для реалізації проектів, які спрямовані на вирішення соціально значущих проблем або підтримки соціально-спрямованих груп та організаці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500" spc="-1" strike="noStrike">
                <a:solidFill>
                  <a:srgbClr val="000000"/>
                </a:solidFill>
                <a:latin typeface="Verdana"/>
              </a:rPr>
              <a:t>Тобто потрібні донори…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525240"/>
            <a:ext cx="7313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Донори – хто вони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онорська організація – установа, яка надає постійну благодійну фінансову, матеріальну чи технічну допомогу на вирішення соціальник проблем іншим організаціям за чітко визначеними правилами та пріоритета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ид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ержавні фонд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иватні (іменні) фонд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осередницькі фонд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и територіальних громад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munity Found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Види донорських організацій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58920" y="155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іждержавні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– діяльність фінансують декілька держав (Світовий банк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Державні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- фонди, які фінансуються з державного бюджету (американський –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AID,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канадський – СІДА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ватні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– недержавні некомерційні організації, які засновані приватними особами або компаніями, та існують, в основному, на дивіденди від капіталу та благодійні внески (Фонд Дж.Сороса, Фонд Мак Артуров, Фонд Форда, </a:t>
            </a:r>
            <a:r>
              <a:rPr b="0" lang="uk-UA" sz="1900" spc="-1" strike="noStrike" u="sng">
                <a:solidFill>
                  <a:srgbClr val="000000"/>
                </a:solidFill>
                <a:uFillTx/>
                <a:latin typeface="Verdana"/>
              </a:rPr>
              <a:t>Фонд Пінчука,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Фонд Катерини Ющенко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осередницькі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– громадські організації, які фінансуються державними або приватними фондами, та розподіляють (Фонд Євразія, Каунтерпарт, ПАУСІ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Фонд терито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альної громад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и – установа,що сприяє і підтримує благодійну та громадську діяльність на місцевому рівні для підтримання її життєдіяльності через розподіл безповоротної допомоги на конкурсній основ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Ключові ознаки ФТГ –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ацюють у конкретному географічному регіон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ають фінансову основу – “евдамент”(недоторканий капітал),щоб фінансувати довгострокові програм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Накопичення благодійних коштів направляються для фінансування соціальних проектів та програ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ають орган управління, до якого входять представники широких кіл місцевої громад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За укр.Законод. – ФГТ може створити недержавна організація або об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єднання громадян(ст.5 ЗУ”Про благодійництвота благодійні організації”),однак система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оподаткування не дає можливості накопичувати “евдамент”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Чому фонди допомагають вирішувати наші проблем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отивація Міжнародних донорських організацій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Знизити потенційну загрозу для своїх країн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(нелегальну міграцію,поширення захворювань,наслідки бойових дій та терактів, екологічні катастрофи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оширити ідеї,в т.ч.ведення справ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(підтримка реформ, демократії-прозорість рішень, свобода ЗМІ, зниження корупції, раціональне використання енергії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Допомогти компаніям отримати нових співробітників, наукову інформацію та розробки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(стипендіальні програми для студентів та науковців, фінансування індивідуальних досліджень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Збагатити культурний та творчий світ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(культурні обміни,фестивалі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Verdana"/>
              </a:rPr>
              <a:t>Прим. За різними даними, міжнародні донори щорічно вкладають тільки в українські неприбуткові організації від 40 до 90 млн. дол. СШ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2:52:15Z</dcterms:created>
  <dc:creator>Олег</dc:creator>
  <dc:description/>
  <dc:language>en-US</dc:language>
  <cp:lastModifiedBy>Владелец</cp:lastModifiedBy>
  <dcterms:modified xsi:type="dcterms:W3CDTF">2020-10-16T18:33:40Z</dcterms:modified>
  <cp:revision>71</cp:revision>
  <dc:subject/>
  <dc:title>Слайд 1</dc:title>
</cp:coreProperties>
</file>