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12.wmf" ContentType="image/x-wmf"/>
  <Override PartName="/ppt/media/image7.jpeg" ContentType="image/jpeg"/>
  <Override PartName="/ppt/media/image9.png" ContentType="image/png"/>
  <Override PartName="/ppt/media/image13.wmf" ContentType="image/x-wmf"/>
  <Override PartName="/ppt/media/image10.jpeg" ContentType="image/jpeg"/>
  <Override PartName="/ppt/media/image11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71E4-20C6-4EFA-9574-EBDFD71B3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3BF9-B762-4B39-85F9-56A5CE43F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ECE1-F314-4DC5-8894-47F93CE50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1748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82840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0656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1748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82840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BC7A-7059-4612-A509-01E47FDD1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006560" y="264600"/>
            <a:ext cx="7130880" cy="50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E448-CE0E-4A5A-8CA0-1016D5C75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1748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82840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00656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1748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82840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33F03-8921-4626-868D-E18BF10ED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494AD-AC4F-4EBF-9E7D-34F11F467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61B3F-D66D-4B79-8973-E255B81DD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0BD7B-87FE-401F-872D-4B30C1566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22DDC-C852-4D31-ACA4-10980E384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D84D-BDD5-468A-8A9C-48AC9B6DE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006560" y="264600"/>
            <a:ext cx="7130880" cy="50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A3151-5965-4948-BCA0-D7D063DE7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DC7D4-413F-4792-9557-A99818965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E60B0-85A4-419A-BD19-DF35E58F7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20413-D6C5-4FCD-A7D5-CB2B64D0F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AB34E-22E7-412F-976E-EE6C726CE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89768-276E-4848-ABF8-FC395F329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41748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82840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00656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41748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82840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23115-5C94-4D4A-976B-9028C3097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B68D9-95B4-49D2-A855-51881597A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F3B4D-CCD1-4855-9043-9AA09704B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0C06A-E96A-404D-8682-1C474E81B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EB10-0528-472E-9F6D-45282CE1A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33E46-BB3A-4E9D-8C45-A668A28E9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9B71C-00DA-4584-A60D-52E56158A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1006560" y="264600"/>
            <a:ext cx="7130880" cy="50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217B9-650F-45BE-8EFF-C28A48EFC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81105-8D68-494A-AF14-5D34EF105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0491D-B8ED-411A-BD64-3D994A978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142CA-8A2B-43F6-A9C4-9DA05A9C4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2A701-DC4A-40DB-B5A8-CAFB1F2EE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66D6E-7874-4EBC-B3CD-1D4B7A905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41748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82840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100656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41748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582840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59F08-7B8D-450A-8682-3B820B217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E5E5-C7EC-4A19-9C4D-46E2F09F9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06560" y="264600"/>
            <a:ext cx="7130880" cy="50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18AF-6419-42D2-8187-6F3D04F58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2F52-6982-4DF0-908E-ECA9B38F4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91D7-E985-40AD-A5AD-BED18F90A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8365-0204-4F88-90E3-3FD43E98D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Небо"/>
          <p:cNvSpPr/>
          <p:nvPr/>
        </p:nvSpPr>
        <p:spPr>
          <a:xfrm>
            <a:off x="1440" y="0"/>
            <a:ext cx="9142560" cy="6858000"/>
          </a:xfrm>
          <a:prstGeom prst="rect">
            <a:avLst/>
          </a:prstGeom>
          <a:gradFill rotWithShape="0">
            <a:gsLst>
              <a:gs pos="0">
                <a:srgbClr val="7dc2d6">
                  <a:alpha val="65098"/>
                </a:srgbClr>
              </a:gs>
              <a:gs pos="100000">
                <a:srgbClr val="d4ebf1">
                  <a:alpha val="5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296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Вода3"/>
          <p:cNvGrpSpPr/>
          <p:nvPr/>
        </p:nvGrpSpPr>
        <p:grpSpPr>
          <a:xfrm>
            <a:off x="0" y="6066000"/>
            <a:ext cx="9144000" cy="792000"/>
            <a:chOff x="0" y="6066000"/>
            <a:chExt cx="9144000" cy="792000"/>
          </a:xfrm>
        </p:grpSpPr>
        <p:pic>
          <p:nvPicPr>
            <p:cNvPr id="2" name="Вода3" descr=""/>
            <p:cNvPicPr/>
            <p:nvPr/>
          </p:nvPicPr>
          <p:blipFill>
            <a:blip r:embed="rId2"/>
            <a:stretch/>
          </p:blipFill>
          <p:spPr>
            <a:xfrm>
              <a:off x="0" y="6067440"/>
              <a:ext cx="9144000" cy="79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440" y="6066000"/>
              <a:ext cx="914256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" name="Вода2" descr=""/>
          <p:cNvPicPr/>
          <p:nvPr/>
        </p:nvPicPr>
        <p:blipFill>
          <a:blip r:embed="rId3"/>
          <a:srcRect l="2673" t="0" r="9903" b="0"/>
          <a:stretch/>
        </p:blipFill>
        <p:spPr>
          <a:xfrm>
            <a:off x="-1440" y="6256440"/>
            <a:ext cx="9142200" cy="463320"/>
          </a:xfrm>
          <a:prstGeom prst="rect">
            <a:avLst/>
          </a:prstGeom>
          <a:ln w="0">
            <a:noFill/>
          </a:ln>
        </p:spPr>
      </p:pic>
      <p:pic>
        <p:nvPicPr>
          <p:cNvPr id="5" name="Вода1" descr=""/>
          <p:cNvPicPr/>
          <p:nvPr/>
        </p:nvPicPr>
        <p:blipFill>
          <a:blip r:embed="rId4"/>
          <a:stretch/>
        </p:blipFill>
        <p:spPr>
          <a:xfrm>
            <a:off x="0" y="5979960"/>
            <a:ext cx="9137520" cy="26856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b4855"/>
                </a:solidFill>
                <a:latin typeface="Georgia"/>
              </a:rPr>
              <a:t>Click to edit the title text format</a:t>
            </a: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Click to edit the outline text format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1" marL="54756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3" marL="109692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4" marL="137160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5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6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656400" y="6602040"/>
            <a:ext cx="72072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1006200" y="6602040"/>
            <a:ext cx="536868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657920" y="6602040"/>
            <a:ext cx="47916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7244F-3A29-4CD2-95D6-C662E9867DE0}" type="slidenum">
              <a:rPr b="0" lang="ru-RU" sz="8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Вода3"/>
          <p:cNvGrpSpPr/>
          <p:nvPr/>
        </p:nvGrpSpPr>
        <p:grpSpPr>
          <a:xfrm>
            <a:off x="0" y="5241960"/>
            <a:ext cx="9144000" cy="1616040"/>
            <a:chOff x="0" y="5241960"/>
            <a:chExt cx="9144000" cy="1616040"/>
          </a:xfrm>
        </p:grpSpPr>
        <p:pic>
          <p:nvPicPr>
            <p:cNvPr id="48" name="Вода3" descr=""/>
            <p:cNvPicPr/>
            <p:nvPr/>
          </p:nvPicPr>
          <p:blipFill>
            <a:blip r:embed="rId2"/>
            <a:stretch/>
          </p:blipFill>
          <p:spPr>
            <a:xfrm>
              <a:off x="0" y="5241960"/>
              <a:ext cx="9144000" cy="161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1440" y="5243400"/>
              <a:ext cx="9142560" cy="16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Небо"/>
          <p:cNvSpPr/>
          <p:nvPr/>
        </p:nvSpPr>
        <p:spPr>
          <a:xfrm>
            <a:off x="1440" y="0"/>
            <a:ext cx="9142560" cy="5334120"/>
          </a:xfrm>
          <a:prstGeom prst="rect">
            <a:avLst/>
          </a:prstGeom>
          <a:gradFill rotWithShape="0">
            <a:gsLst>
              <a:gs pos="0">
                <a:srgbClr val="7dc2d6">
                  <a:alpha val="65098"/>
                </a:srgbClr>
              </a:gs>
              <a:gs pos="100000">
                <a:srgbClr val="d4ebf1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Вода2" descr=""/>
          <p:cNvPicPr/>
          <p:nvPr/>
        </p:nvPicPr>
        <p:blipFill>
          <a:blip r:embed="rId3"/>
          <a:srcRect l="2673" t="0" r="9903" b="0"/>
          <a:stretch/>
        </p:blipFill>
        <p:spPr>
          <a:xfrm>
            <a:off x="-1440" y="5497560"/>
            <a:ext cx="9142200" cy="463680"/>
          </a:xfrm>
          <a:prstGeom prst="rect">
            <a:avLst/>
          </a:prstGeom>
          <a:ln w="0">
            <a:noFill/>
          </a:ln>
        </p:spPr>
      </p:pic>
      <p:pic>
        <p:nvPicPr>
          <p:cNvPr id="52" name="Вода1" descr=""/>
          <p:cNvPicPr/>
          <p:nvPr/>
        </p:nvPicPr>
        <p:blipFill>
          <a:blip r:embed="rId4"/>
          <a:stretch/>
        </p:blipFill>
        <p:spPr>
          <a:xfrm>
            <a:off x="0" y="5218200"/>
            <a:ext cx="9137520" cy="268200"/>
          </a:xfrm>
          <a:prstGeom prst="rect">
            <a:avLst/>
          </a:prstGeom>
          <a:ln w="0">
            <a:noFill/>
          </a:ln>
        </p:spPr>
      </p:pic>
      <p:grpSp>
        <p:nvGrpSpPr>
          <p:cNvPr id="53" name="Прямоугольник 14"/>
          <p:cNvGrpSpPr/>
          <p:nvPr/>
        </p:nvGrpSpPr>
        <p:grpSpPr>
          <a:xfrm>
            <a:off x="0" y="5962680"/>
            <a:ext cx="9137520" cy="895320"/>
            <a:chOff x="0" y="5962680"/>
            <a:chExt cx="9137520" cy="895320"/>
          </a:xfrm>
        </p:grpSpPr>
        <p:pic>
          <p:nvPicPr>
            <p:cNvPr id="54" name="Прямоугольник 14" descr=""/>
            <p:cNvPicPr/>
            <p:nvPr/>
          </p:nvPicPr>
          <p:blipFill>
            <a:blip r:embed="rId5"/>
            <a:stretch/>
          </p:blipFill>
          <p:spPr>
            <a:xfrm>
              <a:off x="1080" y="5963760"/>
              <a:ext cx="9132840" cy="89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0" y="5962680"/>
              <a:ext cx="9137520" cy="89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b4855"/>
                </a:solidFill>
                <a:latin typeface="Georgia"/>
              </a:rPr>
              <a:t>Click to edit the title text format</a:t>
            </a: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Click to edit the outline text format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1" marL="54756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3" marL="109692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4" marL="137160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5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6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Небо"/>
          <p:cNvSpPr/>
          <p:nvPr/>
        </p:nvSpPr>
        <p:spPr>
          <a:xfrm>
            <a:off x="1440" y="0"/>
            <a:ext cx="9142560" cy="6858000"/>
          </a:xfrm>
          <a:prstGeom prst="rect">
            <a:avLst/>
          </a:prstGeom>
          <a:gradFill rotWithShape="0">
            <a:gsLst>
              <a:gs pos="0">
                <a:srgbClr val="7dc2d6">
                  <a:alpha val="0"/>
                </a:srgbClr>
              </a:gs>
              <a:gs pos="100000">
                <a:srgbClr val="d4ebf1">
                  <a:alpha val="8000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296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b4855"/>
                </a:solidFill>
                <a:latin typeface="Georgia"/>
              </a:rPr>
              <a:t>Click to edit the title text format</a:t>
            </a: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Click to edit the outline text format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1" marL="54756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3" marL="109692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4" marL="137160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5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6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656400" y="6602040"/>
            <a:ext cx="72072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1006200" y="6602040"/>
            <a:ext cx="536868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7657920" y="6602040"/>
            <a:ext cx="47916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BB6E6-CFE0-46B4-B0A8-E212C427F2A4}" type="slidenum">
              <a:rPr b="0" lang="ru-RU" sz="8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Небо"/>
          <p:cNvSpPr/>
          <p:nvPr/>
        </p:nvSpPr>
        <p:spPr>
          <a:xfrm>
            <a:off x="1440" y="0"/>
            <a:ext cx="9142560" cy="6858000"/>
          </a:xfrm>
          <a:prstGeom prst="rect">
            <a:avLst/>
          </a:prstGeom>
          <a:gradFill rotWithShape="0">
            <a:gsLst>
              <a:gs pos="0">
                <a:srgbClr val="7dc2d6">
                  <a:alpha val="0"/>
                </a:srgbClr>
              </a:gs>
              <a:gs pos="100000">
                <a:srgbClr val="d4ebf1">
                  <a:alpha val="8000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296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b4855"/>
                </a:solidFill>
                <a:latin typeface="Georgia"/>
              </a:rPr>
              <a:t>Click to edit the title text format</a:t>
            </a: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Click to edit the outline text format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1" marL="54756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3" marL="109692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4" marL="137160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5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6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7"/>
          </p:nvPr>
        </p:nvSpPr>
        <p:spPr>
          <a:xfrm>
            <a:off x="6656400" y="6602040"/>
            <a:ext cx="72072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8"/>
          </p:nvPr>
        </p:nvSpPr>
        <p:spPr>
          <a:xfrm>
            <a:off x="1006200" y="6602040"/>
            <a:ext cx="536868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9"/>
          </p:nvPr>
        </p:nvSpPr>
        <p:spPr>
          <a:xfrm>
            <a:off x="7657920" y="6602040"/>
            <a:ext cx="47916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C535F-DC3C-4261-A86B-351BD16F82BD}" type="slidenum">
              <a:rPr b="0" lang="ru-RU" sz="8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Рисунок 5" descr="Alessandra+Ambrosio+Alessandra+Ambrosio+Playing+QbFt6hZLQWRl.jpg"/>
          <p:cNvPicPr/>
          <p:nvPr/>
        </p:nvPicPr>
        <p:blipFill>
          <a:blip r:embed="rId1"/>
          <a:stretch/>
        </p:blipFill>
        <p:spPr>
          <a:xfrm>
            <a:off x="214200" y="1357200"/>
            <a:ext cx="2233800" cy="31435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Georgia"/>
              </a:rPr>
              <a:t>Write a reply to Emily. Answer her questions and ask her 3 questions on her favourite autumn activities</a:t>
            </a:r>
            <a:r>
              <a:rPr b="0" lang="en-GB" sz="3400" spc="-1" strike="noStrike">
                <a:solidFill>
                  <a:srgbClr val="1b4855"/>
                </a:solidFill>
                <a:latin typeface="Georgia"/>
              </a:rPr>
              <a:t>.</a:t>
            </a:r>
            <a:endParaRPr b="0" lang="en-US" sz="34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2142720" y="1071720"/>
            <a:ext cx="6543720" cy="53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17080" algn="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Orlando Fl</a:t>
            </a:r>
            <a:r>
              <a:rPr b="1" lang="en-GB" sz="1400" spc="-1" strike="noStrike">
                <a:solidFill>
                  <a:srgbClr val="286d7f"/>
                </a:solidFill>
                <a:latin typeface="바탕"/>
                <a:ea typeface="바탕"/>
              </a:rPr>
              <a:t>.</a:t>
            </a:r>
            <a:endParaRPr b="0" lang="en-US" sz="14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86d7f"/>
                </a:solidFill>
                <a:latin typeface="바탕"/>
                <a:ea typeface="바탕"/>
              </a:rPr>
              <a:t>USA</a:t>
            </a:r>
            <a:endParaRPr b="0" lang="en-US" sz="14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13.08.2012</a:t>
            </a:r>
            <a:endParaRPr b="0" lang="en-US" sz="18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just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Dear friend,</a:t>
            </a:r>
            <a:endParaRPr b="0" lang="en-US" sz="18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just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How are you? Sorry for not writing for such a long time. It’s summer now. We have a terrible heat in here. The temperature is about 102°F (39°C). In the afternoons I’m trying to stay in, but it’s still not boring because I’ve lots of things to do. I usually read comics, watch series, draw sketches or chat with my friends in social nets. In the evenings me and my friends go to the beach and play volleyball there.  </a:t>
            </a:r>
            <a:endParaRPr b="0" lang="en-US" sz="18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just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What about the weather in your place? ? I’ve heard that Russia is an extremely cold country and it’s always winter there! Is it true? What season do you like most of all and what are your preferable activities?</a:t>
            </a:r>
            <a:endParaRPr b="0" lang="en-US" sz="18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just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Hope to get your letter soon.</a:t>
            </a:r>
            <a:endParaRPr b="0" lang="en-US" sz="18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just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Yours,</a:t>
            </a:r>
            <a:endParaRPr b="0" lang="en-US" sz="18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just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Emily</a:t>
            </a:r>
            <a:endParaRPr b="0" lang="en-US" sz="18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Рисунок 3" descr="https://pbs.twimg.com/media/Cc7txu2WoAAbe0Z.jpg"/>
          <p:cNvPicPr/>
          <p:nvPr/>
        </p:nvPicPr>
        <p:blipFill>
          <a:blip r:embed="rId1"/>
          <a:srcRect l="0" t="0" r="0" b="7538"/>
          <a:stretch/>
        </p:blipFill>
        <p:spPr>
          <a:xfrm>
            <a:off x="1979640" y="190440"/>
            <a:ext cx="5256360" cy="6191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Рисунок 3" descr="C:\Users\Admin\Downloads\IMG_0352.JPG"/>
          <p:cNvPicPr/>
          <p:nvPr/>
        </p:nvPicPr>
        <p:blipFill>
          <a:blip r:embed="rId1"/>
          <a:stretch/>
        </p:blipFill>
        <p:spPr>
          <a:xfrm>
            <a:off x="2195640" y="260280"/>
            <a:ext cx="4608360" cy="6048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Рисунок 3" descr="C:\Users\Admin\Downloads\IMG_0346.PNG"/>
          <p:cNvPicPr/>
          <p:nvPr/>
        </p:nvPicPr>
        <p:blipFill>
          <a:blip r:embed="rId1"/>
          <a:srcRect l="2016" t="5623" r="2180" b="3553"/>
          <a:stretch/>
        </p:blipFill>
        <p:spPr>
          <a:xfrm>
            <a:off x="609480" y="81000"/>
            <a:ext cx="7777440" cy="674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Рисунок 3" descr="C:\Users\Admin\Downloads\IMG_0343.JPG"/>
          <p:cNvPicPr/>
          <p:nvPr/>
        </p:nvPicPr>
        <p:blipFill>
          <a:blip r:embed="rId1"/>
          <a:srcRect l="0" t="0" r="3272" b="0"/>
          <a:stretch/>
        </p:blipFill>
        <p:spPr>
          <a:xfrm>
            <a:off x="1116000" y="189000"/>
            <a:ext cx="6912000" cy="6335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3" descr=""/>
          <p:cNvPicPr/>
          <p:nvPr/>
        </p:nvPicPr>
        <p:blipFill>
          <a:blip r:embed="rId1"/>
          <a:stretch/>
        </p:blipFill>
        <p:spPr>
          <a:xfrm>
            <a:off x="1332000" y="476280"/>
            <a:ext cx="6624720" cy="597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7345440" cy="6048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611280" y="189000"/>
            <a:ext cx="7993080" cy="6480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8T17:29:14Z</dcterms:created>
  <dc:creator>Наталия</dc:creator>
  <dc:description/>
  <dc:language>en-US</dc:language>
  <cp:lastModifiedBy>Admin</cp:lastModifiedBy>
  <dcterms:modified xsi:type="dcterms:W3CDTF">2021-09-20T19:17:09Z</dcterms:modified>
  <cp:revision>5</cp:revision>
  <dc:subject/>
  <dc:title>Слайд 1</dc:title>
</cp:coreProperties>
</file>