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2.wmf" ContentType="image/x-wmf"/>
  <Override PartName="/ppt/media/image7.jpeg" ContentType="image/jpeg"/>
  <Override PartName="/ppt/media/image9.png" ContentType="image/png"/>
  <Override PartName="/ppt/media/image13.wmf" ContentType="image/x-wmf"/>
  <Override PartName="/ppt/media/image10.jpeg" ContentType="image/jpeg"/>
  <Override PartName="/ppt/media/image11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F398-8434-47B4-A9D8-C5D52B067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E245-56D2-4BEB-AA83-5E5A83CC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C3AA-D0A5-4126-8A27-974BAF688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1748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2840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0656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1748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2840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7407-A6B0-4576-BACA-6451BF708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006560" y="264600"/>
            <a:ext cx="7130880" cy="50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B261-B5DF-42E9-90BC-6028BBDCF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1748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82840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00656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1748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82840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B0E3C-F8EE-450B-927A-018C46007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63ADB-9C30-4FC2-9C88-E39BFBD30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5910F-9AAF-4F9B-9D63-9A5E50FF4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9D67D-4396-46D3-9441-E1F958E48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8D674-D239-4129-8D50-64157418D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9D4C-EE82-4C4E-BA07-F34EAE71A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006560" y="264600"/>
            <a:ext cx="7130880" cy="50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82584-9EBA-447C-BA1C-C5218E797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1B578-4B8A-4A00-9348-509A40CB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1A5EB-5932-434F-AF50-40F194F9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D2A71-EE97-416C-9E10-B5A8589A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6DDFC-C5A9-4BD6-A6F8-CEA78A706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BE698-45C9-4EE1-8919-96810888B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1748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82840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00656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1748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82840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00D9D-8C88-4F69-B17B-991AE21AE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07874-8D4E-4AD1-846A-C1AC9392F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9BD31-0737-4A3E-AF82-B803E0CCB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C2225-2AA5-4C99-870A-2BBEE764F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50AA-AD9C-4187-8CD3-BDAEB5264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279C5-7794-4872-8042-406235AFE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A103D-10E2-49E8-9142-8133EADCF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1006560" y="264600"/>
            <a:ext cx="7130880" cy="50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9CDC2-E92D-4B28-BEDA-F77AC3599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945A0-991F-4343-869A-C1C9B915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1C13D-5C5F-44F8-BC26-1282CD85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D2148-322A-438B-BDA0-E548191C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79ED6-493B-45D6-8B3F-9BAE3E508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F74C7-AE43-4492-8BA0-3D8B82149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41748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82840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100656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41748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82840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16D86-3F25-4F35-A3DC-65CDAB932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2D04-4D8B-457C-A5E8-D33A04A83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06560" y="264600"/>
            <a:ext cx="7130880" cy="50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49D8-D217-4822-B493-63E16C78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1C0E-9FDC-4D17-8A30-97AFA03B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3C83-4E04-42E8-AF4D-A8667D42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B811-BA6F-48D9-900E-B9C13E7E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Небо"/>
          <p:cNvSpPr/>
          <p:nvPr/>
        </p:nvSpPr>
        <p:spPr>
          <a:xfrm>
            <a:off x="1440" y="0"/>
            <a:ext cx="9142560" cy="6858000"/>
          </a:xfrm>
          <a:prstGeom prst="rect">
            <a:avLst/>
          </a:prstGeom>
          <a:gradFill rotWithShape="0">
            <a:gsLst>
              <a:gs pos="0">
                <a:srgbClr val="7dc2d6">
                  <a:alpha val="65098"/>
                </a:srgbClr>
              </a:gs>
              <a:gs pos="100000">
                <a:srgbClr val="d4ebf1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296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Вода3"/>
          <p:cNvGrpSpPr/>
          <p:nvPr/>
        </p:nvGrpSpPr>
        <p:grpSpPr>
          <a:xfrm>
            <a:off x="0" y="6066000"/>
            <a:ext cx="9144000" cy="792000"/>
            <a:chOff x="0" y="6066000"/>
            <a:chExt cx="9144000" cy="792000"/>
          </a:xfrm>
        </p:grpSpPr>
        <p:pic>
          <p:nvPicPr>
            <p:cNvPr id="2" name="Вода3" descr=""/>
            <p:cNvPicPr/>
            <p:nvPr/>
          </p:nvPicPr>
          <p:blipFill>
            <a:blip r:embed="rId2"/>
            <a:stretch/>
          </p:blipFill>
          <p:spPr>
            <a:xfrm>
              <a:off x="0" y="6067440"/>
              <a:ext cx="9144000" cy="79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440" y="6066000"/>
              <a:ext cx="914256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" name="Вода2" descr=""/>
          <p:cNvPicPr/>
          <p:nvPr/>
        </p:nvPicPr>
        <p:blipFill>
          <a:blip r:embed="rId3"/>
          <a:srcRect l="2673" t="0" r="9903" b="0"/>
          <a:stretch/>
        </p:blipFill>
        <p:spPr>
          <a:xfrm>
            <a:off x="-1440" y="6256440"/>
            <a:ext cx="9142200" cy="463320"/>
          </a:xfrm>
          <a:prstGeom prst="rect">
            <a:avLst/>
          </a:prstGeom>
          <a:ln w="0">
            <a:noFill/>
          </a:ln>
        </p:spPr>
      </p:pic>
      <p:pic>
        <p:nvPicPr>
          <p:cNvPr id="5" name="Вода1" descr=""/>
          <p:cNvPicPr/>
          <p:nvPr/>
        </p:nvPicPr>
        <p:blipFill>
          <a:blip r:embed="rId4"/>
          <a:stretch/>
        </p:blipFill>
        <p:spPr>
          <a:xfrm>
            <a:off x="0" y="5979960"/>
            <a:ext cx="9137520" cy="26856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b4855"/>
                </a:solidFill>
                <a:latin typeface="Georgia"/>
              </a:rPr>
              <a:t>Click to edit the title text format</a:t>
            </a: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1" marL="54756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4" marL="137160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5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6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656400" y="6602040"/>
            <a:ext cx="72072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1006200" y="6602040"/>
            <a:ext cx="536868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657920" y="6602040"/>
            <a:ext cx="47916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7638E-0DBF-4817-A5F6-ADB77A4DC616}" type="slidenum">
              <a:rPr b="0" lang="ru-RU" sz="8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Вода3"/>
          <p:cNvGrpSpPr/>
          <p:nvPr/>
        </p:nvGrpSpPr>
        <p:grpSpPr>
          <a:xfrm>
            <a:off x="0" y="5241960"/>
            <a:ext cx="9144000" cy="1616040"/>
            <a:chOff x="0" y="5241960"/>
            <a:chExt cx="9144000" cy="1616040"/>
          </a:xfrm>
        </p:grpSpPr>
        <p:pic>
          <p:nvPicPr>
            <p:cNvPr id="48" name="Вода3" descr=""/>
            <p:cNvPicPr/>
            <p:nvPr/>
          </p:nvPicPr>
          <p:blipFill>
            <a:blip r:embed="rId2"/>
            <a:stretch/>
          </p:blipFill>
          <p:spPr>
            <a:xfrm>
              <a:off x="0" y="5241960"/>
              <a:ext cx="9144000" cy="16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1440" y="5243400"/>
              <a:ext cx="9142560" cy="16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Небо"/>
          <p:cNvSpPr/>
          <p:nvPr/>
        </p:nvSpPr>
        <p:spPr>
          <a:xfrm>
            <a:off x="1440" y="0"/>
            <a:ext cx="9142560" cy="5334120"/>
          </a:xfrm>
          <a:prstGeom prst="rect">
            <a:avLst/>
          </a:prstGeom>
          <a:gradFill rotWithShape="0">
            <a:gsLst>
              <a:gs pos="0">
                <a:srgbClr val="7dc2d6">
                  <a:alpha val="65098"/>
                </a:srgbClr>
              </a:gs>
              <a:gs pos="100000">
                <a:srgbClr val="d4ebf1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Вода2" descr=""/>
          <p:cNvPicPr/>
          <p:nvPr/>
        </p:nvPicPr>
        <p:blipFill>
          <a:blip r:embed="rId3"/>
          <a:srcRect l="2673" t="0" r="9903" b="0"/>
          <a:stretch/>
        </p:blipFill>
        <p:spPr>
          <a:xfrm>
            <a:off x="-1440" y="5497560"/>
            <a:ext cx="9142200" cy="463680"/>
          </a:xfrm>
          <a:prstGeom prst="rect">
            <a:avLst/>
          </a:prstGeom>
          <a:ln w="0">
            <a:noFill/>
          </a:ln>
        </p:spPr>
      </p:pic>
      <p:pic>
        <p:nvPicPr>
          <p:cNvPr id="52" name="Вода1" descr=""/>
          <p:cNvPicPr/>
          <p:nvPr/>
        </p:nvPicPr>
        <p:blipFill>
          <a:blip r:embed="rId4"/>
          <a:stretch/>
        </p:blipFill>
        <p:spPr>
          <a:xfrm>
            <a:off x="0" y="5218200"/>
            <a:ext cx="9137520" cy="268200"/>
          </a:xfrm>
          <a:prstGeom prst="rect">
            <a:avLst/>
          </a:prstGeom>
          <a:ln w="0">
            <a:noFill/>
          </a:ln>
        </p:spPr>
      </p:pic>
      <p:grpSp>
        <p:nvGrpSpPr>
          <p:cNvPr id="53" name="Прямоугольник 14"/>
          <p:cNvGrpSpPr/>
          <p:nvPr/>
        </p:nvGrpSpPr>
        <p:grpSpPr>
          <a:xfrm>
            <a:off x="0" y="5962680"/>
            <a:ext cx="9137520" cy="895320"/>
            <a:chOff x="0" y="5962680"/>
            <a:chExt cx="9137520" cy="895320"/>
          </a:xfrm>
        </p:grpSpPr>
        <p:pic>
          <p:nvPicPr>
            <p:cNvPr id="54" name="Прямоугольник 14" descr=""/>
            <p:cNvPicPr/>
            <p:nvPr/>
          </p:nvPicPr>
          <p:blipFill>
            <a:blip r:embed="rId5"/>
            <a:stretch/>
          </p:blipFill>
          <p:spPr>
            <a:xfrm>
              <a:off x="1080" y="5963760"/>
              <a:ext cx="9132840" cy="8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5962680"/>
              <a:ext cx="9137520" cy="89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b4855"/>
                </a:solidFill>
                <a:latin typeface="Georgia"/>
              </a:rPr>
              <a:t>Click to edit the title text format</a:t>
            </a: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1" marL="54756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4" marL="137160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5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6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Небо"/>
          <p:cNvSpPr/>
          <p:nvPr/>
        </p:nvSpPr>
        <p:spPr>
          <a:xfrm>
            <a:off x="1440" y="0"/>
            <a:ext cx="9142560" cy="6858000"/>
          </a:xfrm>
          <a:prstGeom prst="rect">
            <a:avLst/>
          </a:prstGeom>
          <a:gradFill rotWithShape="0">
            <a:gsLst>
              <a:gs pos="0">
                <a:srgbClr val="7dc2d6">
                  <a:alpha val="0"/>
                </a:srgbClr>
              </a:gs>
              <a:gs pos="100000">
                <a:srgbClr val="d4ebf1">
                  <a:alpha val="8000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296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b4855"/>
                </a:solidFill>
                <a:latin typeface="Georgia"/>
              </a:rPr>
              <a:t>Click to edit the title text format</a:t>
            </a: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1" marL="54756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4" marL="137160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5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6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656400" y="6602040"/>
            <a:ext cx="72072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1006200" y="6602040"/>
            <a:ext cx="536868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7657920" y="6602040"/>
            <a:ext cx="47916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1495A-A7BE-441B-AA7F-2FD906AA692D}" type="slidenum">
              <a:rPr b="0" lang="ru-RU" sz="8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ебо"/>
          <p:cNvSpPr/>
          <p:nvPr/>
        </p:nvSpPr>
        <p:spPr>
          <a:xfrm>
            <a:off x="1440" y="0"/>
            <a:ext cx="9142560" cy="6858000"/>
          </a:xfrm>
          <a:prstGeom prst="rect">
            <a:avLst/>
          </a:prstGeom>
          <a:gradFill rotWithShape="0">
            <a:gsLst>
              <a:gs pos="0">
                <a:srgbClr val="7dc2d6">
                  <a:alpha val="0"/>
                </a:srgbClr>
              </a:gs>
              <a:gs pos="100000">
                <a:srgbClr val="d4ebf1">
                  <a:alpha val="8000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296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b4855"/>
                </a:solidFill>
                <a:latin typeface="Georgia"/>
              </a:rPr>
              <a:t>Click to edit the title text format</a:t>
            </a: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1" marL="54756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4" marL="137160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5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6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6656400" y="6602040"/>
            <a:ext cx="72072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8"/>
          </p:nvPr>
        </p:nvSpPr>
        <p:spPr>
          <a:xfrm>
            <a:off x="1006200" y="6602040"/>
            <a:ext cx="536868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9"/>
          </p:nvPr>
        </p:nvSpPr>
        <p:spPr>
          <a:xfrm>
            <a:off x="7657920" y="6602040"/>
            <a:ext cx="47916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45822-320B-4595-BAA5-A6C9113F864E}" type="slidenum">
              <a:rPr b="0" lang="ru-RU" sz="8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Рисунок 5" descr="Alessandra+Ambrosio+Alessandra+Ambrosio+Playing+QbFt6hZLQWRl.jpg"/>
          <p:cNvPicPr/>
          <p:nvPr/>
        </p:nvPicPr>
        <p:blipFill>
          <a:blip r:embed="rId1"/>
          <a:stretch/>
        </p:blipFill>
        <p:spPr>
          <a:xfrm>
            <a:off x="214200" y="1357200"/>
            <a:ext cx="2233800" cy="31435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Georgia"/>
              </a:rPr>
              <a:t>Write a reply to Emily. Answer her questions and ask her 3 questions on her favourite autumn activities</a:t>
            </a:r>
            <a:r>
              <a:rPr b="0" lang="en-GB" sz="3400" spc="-1" strike="noStrike">
                <a:solidFill>
                  <a:srgbClr val="1b4855"/>
                </a:solidFill>
                <a:latin typeface="Georgia"/>
              </a:rPr>
              <a:t>.</a:t>
            </a:r>
            <a:endParaRPr b="0" lang="en-US" sz="34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142720" y="1071720"/>
            <a:ext cx="6543720" cy="53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17080" algn="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Orlando Fl</a:t>
            </a:r>
            <a:r>
              <a:rPr b="1" lang="en-GB" sz="1400" spc="-1" strike="noStrike">
                <a:solidFill>
                  <a:srgbClr val="286d7f"/>
                </a:solidFill>
                <a:latin typeface="바탕"/>
                <a:ea typeface="바탕"/>
              </a:rPr>
              <a:t>.</a:t>
            </a:r>
            <a:endParaRPr b="0" lang="en-US" sz="14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86d7f"/>
                </a:solidFill>
                <a:latin typeface="바탕"/>
                <a:ea typeface="바탕"/>
              </a:rPr>
              <a:t>USA</a:t>
            </a:r>
            <a:endParaRPr b="0" lang="en-US" sz="14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13.08.2012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Dear friend,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How are you? Sorry for not writing for such a long time. It’s summer now. We have a terrible heat in here. The temperature is about 102°F (39°C). In the afternoons I’m trying to stay in, but it’s still not boring because I’ve lots of things to do. I usually read comics, watch series, draw sketches or chat with my friends in social nets. In the evenings me and my friends go to the beach and play volleyball there.  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What about the weather in your place? ? I’ve heard that Russia is an extremely cold country and it’s always winter there! Is it true? What season do you like most of all and what are your preferable activities?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Hope to get your letter soon.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Yours,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marL="259200" indent="-217080"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86d7f"/>
                </a:solidFill>
                <a:latin typeface="바탕"/>
                <a:ea typeface="바탕"/>
              </a:rPr>
              <a:t>Emily</a:t>
            </a: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Рисунок 3" descr="https://pbs.twimg.com/media/Cc7txu2WoAAbe0Z.jpg"/>
          <p:cNvPicPr/>
          <p:nvPr/>
        </p:nvPicPr>
        <p:blipFill>
          <a:blip r:embed="rId1"/>
          <a:srcRect l="0" t="0" r="0" b="7538"/>
          <a:stretch/>
        </p:blipFill>
        <p:spPr>
          <a:xfrm>
            <a:off x="1979640" y="190440"/>
            <a:ext cx="5256360" cy="6191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Рисунок 3" descr="C:\Users\Admin\Downloads\IMG_0352.JPG"/>
          <p:cNvPicPr/>
          <p:nvPr/>
        </p:nvPicPr>
        <p:blipFill>
          <a:blip r:embed="rId1"/>
          <a:stretch/>
        </p:blipFill>
        <p:spPr>
          <a:xfrm>
            <a:off x="2195640" y="260280"/>
            <a:ext cx="4608360" cy="604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Рисунок 3" descr="C:\Users\Admin\Downloads\IMG_0346.PNG"/>
          <p:cNvPicPr/>
          <p:nvPr/>
        </p:nvPicPr>
        <p:blipFill>
          <a:blip r:embed="rId1"/>
          <a:srcRect l="2016" t="5623" r="2180" b="3553"/>
          <a:stretch/>
        </p:blipFill>
        <p:spPr>
          <a:xfrm>
            <a:off x="609480" y="81000"/>
            <a:ext cx="7777440" cy="674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Рисунок 3" descr="C:\Users\Admin\Downloads\IMG_0343.JPG"/>
          <p:cNvPicPr/>
          <p:nvPr/>
        </p:nvPicPr>
        <p:blipFill>
          <a:blip r:embed="rId1"/>
          <a:srcRect l="0" t="0" r="3272" b="0"/>
          <a:stretch/>
        </p:blipFill>
        <p:spPr>
          <a:xfrm>
            <a:off x="1116000" y="189000"/>
            <a:ext cx="6912000" cy="6335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3" descr=""/>
          <p:cNvPicPr/>
          <p:nvPr/>
        </p:nvPicPr>
        <p:blipFill>
          <a:blip r:embed="rId1"/>
          <a:stretch/>
        </p:blipFill>
        <p:spPr>
          <a:xfrm>
            <a:off x="1332000" y="476280"/>
            <a:ext cx="6624720" cy="597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345440" cy="604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799308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17:29:14Z</dcterms:created>
  <dc:creator>Наталия</dc:creator>
  <dc:description/>
  <dc:language>en-US</dc:language>
  <cp:lastModifiedBy>Admin</cp:lastModifiedBy>
  <dcterms:modified xsi:type="dcterms:W3CDTF">2021-09-20T19:17:09Z</dcterms:modified>
  <cp:revision>5</cp:revision>
  <dc:subject/>
  <dc:title>Слайд 1</dc:title>
</cp:coreProperties>
</file>