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2.wmf" ContentType="image/x-wmf"/>
  <Override PartName="/ppt/media/image7.jpeg" ContentType="image/jpeg"/>
  <Override PartName="/ppt/media/image9.png" ContentType="image/png"/>
  <Override PartName="/ppt/media/image13.wmf" ContentType="image/x-wmf"/>
  <Override PartName="/ppt/media/image10.jpeg" ContentType="image/jpeg"/>
  <Override PartName="/ppt/media/image1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C7B6-9CC2-4BAD-B417-F123743EA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8DD6-B659-45D8-8343-DB4868BA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9FC1-BE50-459F-95DE-790A07EC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CEF7-B317-40A0-B07D-F43F53E5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58B2-AB70-4D66-9F67-22BE4103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5F84-3310-4FEF-B49A-636193837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C9FA-3857-4B23-9151-BEC86BE2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E66D-AC3C-461B-B3B1-B996FEAF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1150-6A01-4741-BDA5-410E6812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1A3A-EA18-4F0A-AC69-AD295887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35EA-0459-48A7-816D-E816AF3D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2A6E-C220-4D31-BC69-D66AF4B7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9211-2F1C-43B3-9E31-39B2343A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96B7-55DC-41CE-95B1-204A1A3D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11C8-0B85-4938-8B2E-6997AD9E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A9C5-61B6-4283-BA5D-2CA1136E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5645-DC88-4264-B800-DC01FA6B2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5D11-36A0-4E3E-84EC-3B24B015C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76461-7268-4272-A22A-62D346381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CBA04-28EA-4371-A6DB-3D50686B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01CF5-E1CE-4FF2-BC73-9241BA78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C60D-B867-47F8-9B61-BB25FB59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6710B-E687-4752-8C78-18089696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58E6F-903E-44C1-9B04-74AD2A4D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35051-295D-4B97-A088-A4351458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2685E-A47C-4CA7-8991-C6F98818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A803E-9628-4171-9ECE-2D5A22F1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2F7DA-D770-4FAB-86EC-8EA44121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288CE-0CF5-49F1-9BAF-96AFD346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31E21-CAF2-43BA-BB6E-C6D0BDE01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3462E-5D50-435F-BC64-5451F4CB7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9D1D-93A9-4723-BC3F-B3AF8318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DBE0-1709-41DB-B114-B657679F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2855-1169-467F-A60C-92FDB191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22DF-9812-46B8-A845-90E28576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B99C-AFD2-42ED-8A0D-0D1A94FB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65098"/>
                </a:srgbClr>
              </a:gs>
              <a:gs pos="100000">
                <a:srgbClr val="d4ebf1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Вода3"/>
          <p:cNvGrpSpPr/>
          <p:nvPr/>
        </p:nvGrpSpPr>
        <p:grpSpPr>
          <a:xfrm>
            <a:off x="0" y="6066000"/>
            <a:ext cx="9144000" cy="792000"/>
            <a:chOff x="0" y="6066000"/>
            <a:chExt cx="9144000" cy="792000"/>
          </a:xfrm>
        </p:grpSpPr>
        <p:pic>
          <p:nvPicPr>
            <p:cNvPr id="2" name="Вода3" descr=""/>
            <p:cNvPicPr/>
            <p:nvPr/>
          </p:nvPicPr>
          <p:blipFill>
            <a:blip r:embed="rId2"/>
            <a:stretch/>
          </p:blipFill>
          <p:spPr>
            <a:xfrm>
              <a:off x="0" y="6067440"/>
              <a:ext cx="9144000" cy="79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440" y="6066000"/>
              <a:ext cx="914256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" name="Вода2" descr=""/>
          <p:cNvPicPr/>
          <p:nvPr/>
        </p:nvPicPr>
        <p:blipFill>
          <a:blip r:embed="rId3"/>
          <a:srcRect l="2673" t="0" r="9903" b="0"/>
          <a:stretch/>
        </p:blipFill>
        <p:spPr>
          <a:xfrm>
            <a:off x="-1440" y="6256440"/>
            <a:ext cx="9142200" cy="463320"/>
          </a:xfrm>
          <a:prstGeom prst="rect">
            <a:avLst/>
          </a:prstGeom>
          <a:ln w="0">
            <a:noFill/>
          </a:ln>
        </p:spPr>
      </p:pic>
      <p:pic>
        <p:nvPicPr>
          <p:cNvPr id="5" name="Вода1" descr=""/>
          <p:cNvPicPr/>
          <p:nvPr/>
        </p:nvPicPr>
        <p:blipFill>
          <a:blip r:embed="rId4"/>
          <a:stretch/>
        </p:blipFill>
        <p:spPr>
          <a:xfrm>
            <a:off x="0" y="5979960"/>
            <a:ext cx="9137520" cy="2685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B832-0583-48C5-8184-BBA696D7C9CD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Вода3"/>
          <p:cNvGrpSpPr/>
          <p:nvPr/>
        </p:nvGrpSpPr>
        <p:grpSpPr>
          <a:xfrm>
            <a:off x="0" y="5241960"/>
            <a:ext cx="9144000" cy="1616040"/>
            <a:chOff x="0" y="5241960"/>
            <a:chExt cx="9144000" cy="1616040"/>
          </a:xfrm>
        </p:grpSpPr>
        <p:pic>
          <p:nvPicPr>
            <p:cNvPr id="48" name="Вода3" descr=""/>
            <p:cNvPicPr/>
            <p:nvPr/>
          </p:nvPicPr>
          <p:blipFill>
            <a:blip r:embed="rId2"/>
            <a:stretch/>
          </p:blipFill>
          <p:spPr>
            <a:xfrm>
              <a:off x="0" y="5241960"/>
              <a:ext cx="914400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440" y="5243400"/>
              <a:ext cx="9142560" cy="16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Небо"/>
          <p:cNvSpPr/>
          <p:nvPr/>
        </p:nvSpPr>
        <p:spPr>
          <a:xfrm>
            <a:off x="1440" y="0"/>
            <a:ext cx="9142560" cy="5334120"/>
          </a:xfrm>
          <a:prstGeom prst="rect">
            <a:avLst/>
          </a:prstGeom>
          <a:gradFill rotWithShape="0">
            <a:gsLst>
              <a:gs pos="0">
                <a:srgbClr val="7dc2d6">
                  <a:alpha val="65098"/>
                </a:srgbClr>
              </a:gs>
              <a:gs pos="100000">
                <a:srgbClr val="d4ebf1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Вода2" descr=""/>
          <p:cNvPicPr/>
          <p:nvPr/>
        </p:nvPicPr>
        <p:blipFill>
          <a:blip r:embed="rId3"/>
          <a:srcRect l="2673" t="0" r="9903" b="0"/>
          <a:stretch/>
        </p:blipFill>
        <p:spPr>
          <a:xfrm>
            <a:off x="-1440" y="5497560"/>
            <a:ext cx="9142200" cy="463680"/>
          </a:xfrm>
          <a:prstGeom prst="rect">
            <a:avLst/>
          </a:prstGeom>
          <a:ln w="0">
            <a:noFill/>
          </a:ln>
        </p:spPr>
      </p:pic>
      <p:pic>
        <p:nvPicPr>
          <p:cNvPr id="52" name="Вода1" descr=""/>
          <p:cNvPicPr/>
          <p:nvPr/>
        </p:nvPicPr>
        <p:blipFill>
          <a:blip r:embed="rId4"/>
          <a:stretch/>
        </p:blipFill>
        <p:spPr>
          <a:xfrm>
            <a:off x="0" y="5218200"/>
            <a:ext cx="9137520" cy="268200"/>
          </a:xfrm>
          <a:prstGeom prst="rect">
            <a:avLst/>
          </a:prstGeom>
          <a:ln w="0">
            <a:noFill/>
          </a:ln>
        </p:spPr>
      </p:pic>
      <p:grpSp>
        <p:nvGrpSpPr>
          <p:cNvPr id="53" name="Прямоугольник 14"/>
          <p:cNvGrpSpPr/>
          <p:nvPr/>
        </p:nvGrpSpPr>
        <p:grpSpPr>
          <a:xfrm>
            <a:off x="0" y="5962680"/>
            <a:ext cx="9137520" cy="895320"/>
            <a:chOff x="0" y="5962680"/>
            <a:chExt cx="9137520" cy="895320"/>
          </a:xfrm>
        </p:grpSpPr>
        <p:pic>
          <p:nvPicPr>
            <p:cNvPr id="54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1080" y="5963760"/>
              <a:ext cx="9132840" cy="8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5962680"/>
              <a:ext cx="913752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0"/>
                </a:srgbClr>
              </a:gs>
              <a:gs pos="100000">
                <a:srgbClr val="d4ebf1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7423-6372-4892-914C-622AA046E25B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0"/>
                </a:srgbClr>
              </a:gs>
              <a:gs pos="100000">
                <a:srgbClr val="d4ebf1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7846-592F-486E-955E-E2BB32B24A2F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Рисунок 5" descr="Alessandra+Ambrosio+Alessandra+Ambrosio+Playing+QbFt6hZLQWRl.jpg"/>
          <p:cNvPicPr/>
          <p:nvPr/>
        </p:nvPicPr>
        <p:blipFill>
          <a:blip r:embed="rId1"/>
          <a:stretch/>
        </p:blipFill>
        <p:spPr>
          <a:xfrm>
            <a:off x="214200" y="1357200"/>
            <a:ext cx="2233800" cy="31435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Georgia"/>
              </a:rPr>
              <a:t>Write a reply to Emily. Answer her questions and ask her 3 questions on her favourite autumn activities</a:t>
            </a:r>
            <a:r>
              <a:rPr b="0" lang="en-GB" sz="3400" spc="-1" strike="noStrike">
                <a:solidFill>
                  <a:srgbClr val="1b4855"/>
                </a:solidFill>
                <a:latin typeface="Georgia"/>
              </a:rPr>
              <a:t>.</a:t>
            </a:r>
            <a:endParaRPr b="0" lang="en-US" sz="34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142720" y="1071720"/>
            <a:ext cx="654372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Orlando Fl</a:t>
            </a:r>
            <a:r>
              <a:rPr b="1" lang="en-GB" sz="1400" spc="-1" strike="noStrike">
                <a:solidFill>
                  <a:srgbClr val="286d7f"/>
                </a:solidFill>
                <a:latin typeface="바탕"/>
                <a:ea typeface="바탕"/>
              </a:rPr>
              <a:t>.</a:t>
            </a:r>
            <a:endParaRPr b="0" lang="en-US" sz="14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86d7f"/>
                </a:solidFill>
                <a:latin typeface="바탕"/>
                <a:ea typeface="바탕"/>
              </a:rPr>
              <a:t>USA</a:t>
            </a:r>
            <a:endParaRPr b="0" lang="en-US" sz="14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13.08.2012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Dear friend,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How are you? Sorry for not writing for such a long time. It’s summer now. We have a terrible heat in here. The temperature is about 102°F (39°C). In the afternoons I’m trying to stay in, but it’s still not boring because I’ve lots of things to do. I usually read comics, watch series, draw sketches or chat with my friends in social nets. In the evenings me and my friends go to the beach and play volleyball there.  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What about the weather in your place? ? I’ve heard that Russia is an extremely cold country and it’s always winter there! Is it true? What season do you like most of all and what are your preferable activities?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Hope to get your letter soon.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Yours,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Emily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3" descr="https://pbs.twimg.com/media/Cc7txu2WoAAbe0Z.jpg"/>
          <p:cNvPicPr/>
          <p:nvPr/>
        </p:nvPicPr>
        <p:blipFill>
          <a:blip r:embed="rId1"/>
          <a:srcRect l="0" t="0" r="0" b="7538"/>
          <a:stretch/>
        </p:blipFill>
        <p:spPr>
          <a:xfrm>
            <a:off x="1979640" y="190440"/>
            <a:ext cx="5256360" cy="619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Рисунок 3" descr="C:\Users\Admin\Downloads\IMG_0352.JPG"/>
          <p:cNvPicPr/>
          <p:nvPr/>
        </p:nvPicPr>
        <p:blipFill>
          <a:blip r:embed="rId1"/>
          <a:stretch/>
        </p:blipFill>
        <p:spPr>
          <a:xfrm>
            <a:off x="2195640" y="260280"/>
            <a:ext cx="460836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Рисунок 3" descr="C:\Users\Admin\Downloads\IMG_0346.PNG"/>
          <p:cNvPicPr/>
          <p:nvPr/>
        </p:nvPicPr>
        <p:blipFill>
          <a:blip r:embed="rId1"/>
          <a:srcRect l="2016" t="5623" r="2180" b="3553"/>
          <a:stretch/>
        </p:blipFill>
        <p:spPr>
          <a:xfrm>
            <a:off x="609480" y="81000"/>
            <a:ext cx="7777440" cy="674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3" descr="C:\Users\Admin\Downloads\IMG_0343.JPG"/>
          <p:cNvPicPr/>
          <p:nvPr/>
        </p:nvPicPr>
        <p:blipFill>
          <a:blip r:embed="rId1"/>
          <a:srcRect l="0" t="0" r="3272" b="0"/>
          <a:stretch/>
        </p:blipFill>
        <p:spPr>
          <a:xfrm>
            <a:off x="1116000" y="189000"/>
            <a:ext cx="6912000" cy="633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624720" cy="597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34544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99308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7:29:14Z</dcterms:created>
  <dc:creator>Наталия</dc:creator>
  <dc:description/>
  <dc:language>en-US</dc:language>
  <cp:lastModifiedBy>Admin</cp:lastModifiedBy>
  <dcterms:modified xsi:type="dcterms:W3CDTF">2021-09-20T19:17:09Z</dcterms:modified>
  <cp:revision>5</cp:revision>
  <dc:subject/>
  <dc:title>Слайд 1</dc:title>
</cp:coreProperties>
</file>