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2.wmf" ContentType="image/x-wmf"/>
  <Override PartName="/ppt/media/image7.jpeg" ContentType="image/jpeg"/>
  <Override PartName="/ppt/media/image9.png" ContentType="image/png"/>
  <Override PartName="/ppt/media/image13.wmf" ContentType="image/x-wmf"/>
  <Override PartName="/ppt/media/image10.jpeg" ContentType="image/jpeg"/>
  <Override PartName="/ppt/media/image1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F94E-3D10-4912-A97D-16CA623C8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4A6E-E8FF-4F80-86FE-EC2E3334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9E1D-8BB0-4098-A398-A116E2ECE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25E5-2695-4A85-9B93-695A7003F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278E-DCD3-4362-931B-CA8215F3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B780-F162-421E-A95E-60E77CE4B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D540-87AD-46B4-B8F9-C6C77902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6721-A7CB-48F3-9E94-35093EC0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2A49-2168-40E7-B05D-E693BB00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727E-B32A-46FB-8D73-6D128818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6AC5-7C55-4152-8267-B1728E60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A621-43A0-498B-BD56-6332F46E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B93D-D778-4A4D-8884-1558292A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1AF3-A3EA-41D3-B3A5-0911F039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44D6-1E3C-4205-995D-164D9A4D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1222-70AB-40E1-9049-1BAF48D4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0E50-8F9F-4969-9802-2F8553522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AAEB-9F92-4AFC-A7C7-02D1DC51A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BB668-404C-4089-80BA-A4C2B6DE9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DBEAC-A042-47EF-AF0C-A64E5920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B4B0E-7D8E-423F-A27F-1C21F7FC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014B-7170-4BE2-BAD5-5E3B365C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515BE-DB09-49E5-8633-83C171AE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9154E-8145-4660-882A-4F736EFC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1FE7E-584E-4976-9E1C-EBFBE5C3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86207-3CDD-4758-BF54-AC755569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84E2F-6ABE-4A72-B292-E327332A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D50F1-4632-4202-8075-D270C31F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C113A-6E90-420B-89BD-FD73BEF9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657EC-84B6-4715-AF9A-6EA373B4B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DF3B2-854B-41C0-A271-C4F56304C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5732-1C5C-4538-A4C4-97ECDADB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37DB-7934-44F7-8EED-900F4767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5ED1-D6EB-49AA-BB6E-2EFEC731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AE59-D1AF-4FF4-87BD-79309A9C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C21B-84BF-4184-9326-AD7AA0D4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65098"/>
                </a:srgbClr>
              </a:gs>
              <a:gs pos="100000">
                <a:srgbClr val="d4ebf1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Вода3"/>
          <p:cNvGrpSpPr/>
          <p:nvPr/>
        </p:nvGrpSpPr>
        <p:grpSpPr>
          <a:xfrm>
            <a:off x="0" y="6066000"/>
            <a:ext cx="9144000" cy="792000"/>
            <a:chOff x="0" y="6066000"/>
            <a:chExt cx="9144000" cy="792000"/>
          </a:xfrm>
        </p:grpSpPr>
        <p:pic>
          <p:nvPicPr>
            <p:cNvPr id="2" name="Вода3" descr=""/>
            <p:cNvPicPr/>
            <p:nvPr/>
          </p:nvPicPr>
          <p:blipFill>
            <a:blip r:embed="rId2"/>
            <a:stretch/>
          </p:blipFill>
          <p:spPr>
            <a:xfrm>
              <a:off x="0" y="6067440"/>
              <a:ext cx="9144000" cy="79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440" y="6066000"/>
              <a:ext cx="914256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" name="Вода2" descr=""/>
          <p:cNvPicPr/>
          <p:nvPr/>
        </p:nvPicPr>
        <p:blipFill>
          <a:blip r:embed="rId3"/>
          <a:srcRect l="2673" t="0" r="9903" b="0"/>
          <a:stretch/>
        </p:blipFill>
        <p:spPr>
          <a:xfrm>
            <a:off x="-1440" y="6256440"/>
            <a:ext cx="9142200" cy="463320"/>
          </a:xfrm>
          <a:prstGeom prst="rect">
            <a:avLst/>
          </a:prstGeom>
          <a:ln w="0">
            <a:noFill/>
          </a:ln>
        </p:spPr>
      </p:pic>
      <p:pic>
        <p:nvPicPr>
          <p:cNvPr id="5" name="Вода1" descr=""/>
          <p:cNvPicPr/>
          <p:nvPr/>
        </p:nvPicPr>
        <p:blipFill>
          <a:blip r:embed="rId4"/>
          <a:stretch/>
        </p:blipFill>
        <p:spPr>
          <a:xfrm>
            <a:off x="0" y="5979960"/>
            <a:ext cx="9137520" cy="2685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6179-BAD6-47DA-AC76-E36DC6D38FC8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Вода3"/>
          <p:cNvGrpSpPr/>
          <p:nvPr/>
        </p:nvGrpSpPr>
        <p:grpSpPr>
          <a:xfrm>
            <a:off x="0" y="5241960"/>
            <a:ext cx="9144000" cy="1616040"/>
            <a:chOff x="0" y="5241960"/>
            <a:chExt cx="9144000" cy="1616040"/>
          </a:xfrm>
        </p:grpSpPr>
        <p:pic>
          <p:nvPicPr>
            <p:cNvPr id="48" name="Вода3" descr=""/>
            <p:cNvPicPr/>
            <p:nvPr/>
          </p:nvPicPr>
          <p:blipFill>
            <a:blip r:embed="rId2"/>
            <a:stretch/>
          </p:blipFill>
          <p:spPr>
            <a:xfrm>
              <a:off x="0" y="5241960"/>
              <a:ext cx="914400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440" y="5243400"/>
              <a:ext cx="9142560" cy="16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Небо"/>
          <p:cNvSpPr/>
          <p:nvPr/>
        </p:nvSpPr>
        <p:spPr>
          <a:xfrm>
            <a:off x="1440" y="0"/>
            <a:ext cx="9142560" cy="5334120"/>
          </a:xfrm>
          <a:prstGeom prst="rect">
            <a:avLst/>
          </a:prstGeom>
          <a:gradFill rotWithShape="0">
            <a:gsLst>
              <a:gs pos="0">
                <a:srgbClr val="7dc2d6">
                  <a:alpha val="65098"/>
                </a:srgbClr>
              </a:gs>
              <a:gs pos="100000">
                <a:srgbClr val="d4ebf1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Вода2" descr=""/>
          <p:cNvPicPr/>
          <p:nvPr/>
        </p:nvPicPr>
        <p:blipFill>
          <a:blip r:embed="rId3"/>
          <a:srcRect l="2673" t="0" r="9903" b="0"/>
          <a:stretch/>
        </p:blipFill>
        <p:spPr>
          <a:xfrm>
            <a:off x="-1440" y="5497560"/>
            <a:ext cx="9142200" cy="463680"/>
          </a:xfrm>
          <a:prstGeom prst="rect">
            <a:avLst/>
          </a:prstGeom>
          <a:ln w="0">
            <a:noFill/>
          </a:ln>
        </p:spPr>
      </p:pic>
      <p:pic>
        <p:nvPicPr>
          <p:cNvPr id="52" name="Вода1" descr=""/>
          <p:cNvPicPr/>
          <p:nvPr/>
        </p:nvPicPr>
        <p:blipFill>
          <a:blip r:embed="rId4"/>
          <a:stretch/>
        </p:blipFill>
        <p:spPr>
          <a:xfrm>
            <a:off x="0" y="5218200"/>
            <a:ext cx="9137520" cy="268200"/>
          </a:xfrm>
          <a:prstGeom prst="rect">
            <a:avLst/>
          </a:prstGeom>
          <a:ln w="0">
            <a:noFill/>
          </a:ln>
        </p:spPr>
      </p:pic>
      <p:grpSp>
        <p:nvGrpSpPr>
          <p:cNvPr id="53" name="Прямоугольник 14"/>
          <p:cNvGrpSpPr/>
          <p:nvPr/>
        </p:nvGrpSpPr>
        <p:grpSpPr>
          <a:xfrm>
            <a:off x="0" y="5962680"/>
            <a:ext cx="9137520" cy="895320"/>
            <a:chOff x="0" y="5962680"/>
            <a:chExt cx="9137520" cy="895320"/>
          </a:xfrm>
        </p:grpSpPr>
        <p:pic>
          <p:nvPicPr>
            <p:cNvPr id="54" name="Прямоугольник 14" descr=""/>
            <p:cNvPicPr/>
            <p:nvPr/>
          </p:nvPicPr>
          <p:blipFill>
            <a:blip r:embed="rId5"/>
            <a:stretch/>
          </p:blipFill>
          <p:spPr>
            <a:xfrm>
              <a:off x="1080" y="5963760"/>
              <a:ext cx="9132840" cy="8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5962680"/>
              <a:ext cx="913752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0"/>
                </a:srgbClr>
              </a:gs>
              <a:gs pos="100000">
                <a:srgbClr val="d4ebf1">
                  <a:alpha val="8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76BC-7D33-44D7-831C-BDAE9F0CD372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0"/>
                </a:srgbClr>
              </a:gs>
              <a:gs pos="100000">
                <a:srgbClr val="d4ebf1">
                  <a:alpha val="8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496A-D350-48E5-8648-DF38EE1DF6D7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Рисунок 5" descr="Alessandra+Ambrosio+Alessandra+Ambrosio+Playing+QbFt6hZLQWRl.jpg"/>
          <p:cNvPicPr/>
          <p:nvPr/>
        </p:nvPicPr>
        <p:blipFill>
          <a:blip r:embed="rId1"/>
          <a:stretch/>
        </p:blipFill>
        <p:spPr>
          <a:xfrm>
            <a:off x="214200" y="1357200"/>
            <a:ext cx="2233800" cy="31435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Georgia"/>
              </a:rPr>
              <a:t>Write a reply to Emily. Answer her questions and ask her 3 questions on her favourite autumn activities</a:t>
            </a:r>
            <a:r>
              <a:rPr b="0" lang="en-GB" sz="3400" spc="-1" strike="noStrike">
                <a:solidFill>
                  <a:srgbClr val="1b4855"/>
                </a:solidFill>
                <a:latin typeface="Georgia"/>
              </a:rPr>
              <a:t>.</a:t>
            </a:r>
            <a:endParaRPr b="0" lang="en-US" sz="34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142720" y="1071720"/>
            <a:ext cx="654372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Orlando Fl</a:t>
            </a:r>
            <a:r>
              <a:rPr b="1" lang="en-GB" sz="1400" spc="-1" strike="noStrike">
                <a:solidFill>
                  <a:srgbClr val="286d7f"/>
                </a:solidFill>
                <a:latin typeface="바탕"/>
                <a:ea typeface="바탕"/>
              </a:rPr>
              <a:t>.</a:t>
            </a:r>
            <a:endParaRPr b="0" lang="en-US" sz="14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86d7f"/>
                </a:solidFill>
                <a:latin typeface="바탕"/>
                <a:ea typeface="바탕"/>
              </a:rPr>
              <a:t>USA</a:t>
            </a:r>
            <a:endParaRPr b="0" lang="en-US" sz="14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13.08.2012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Dear friend,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How are you? Sorry for not writing for such a long time. It’s summer now. We have a terrible heat in here. The temperature is about 102°F (39°C). In the afternoons I’m trying to stay in, but it’s still not boring because I’ve lots of things to do. I usually read comics, watch series, draw sketches or chat with my friends in social nets. In the evenings me and my friends go to the beach and play volleyball there.  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What about the weather in your place? ? I’ve heard that Russia is an extremely cold country and it’s always winter there! Is it true? What season do you like most of all and what are your preferable activities?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Hope to get your letter soon.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Yours,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Emily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3" descr="https://pbs.twimg.com/media/Cc7txu2WoAAbe0Z.jpg"/>
          <p:cNvPicPr/>
          <p:nvPr/>
        </p:nvPicPr>
        <p:blipFill>
          <a:blip r:embed="rId1"/>
          <a:srcRect l="0" t="0" r="0" b="7538"/>
          <a:stretch/>
        </p:blipFill>
        <p:spPr>
          <a:xfrm>
            <a:off x="1979640" y="190440"/>
            <a:ext cx="5256360" cy="619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Рисунок 3" descr="C:\Users\Admin\Downloads\IMG_0352.JPG"/>
          <p:cNvPicPr/>
          <p:nvPr/>
        </p:nvPicPr>
        <p:blipFill>
          <a:blip r:embed="rId1"/>
          <a:stretch/>
        </p:blipFill>
        <p:spPr>
          <a:xfrm>
            <a:off x="2195640" y="260280"/>
            <a:ext cx="460836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Рисунок 3" descr="C:\Users\Admin\Downloads\IMG_0346.PNG"/>
          <p:cNvPicPr/>
          <p:nvPr/>
        </p:nvPicPr>
        <p:blipFill>
          <a:blip r:embed="rId1"/>
          <a:srcRect l="2016" t="5623" r="2180" b="3553"/>
          <a:stretch/>
        </p:blipFill>
        <p:spPr>
          <a:xfrm>
            <a:off x="609480" y="81000"/>
            <a:ext cx="7777440" cy="674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Рисунок 3" descr="C:\Users\Admin\Downloads\IMG_0343.JPG"/>
          <p:cNvPicPr/>
          <p:nvPr/>
        </p:nvPicPr>
        <p:blipFill>
          <a:blip r:embed="rId1"/>
          <a:srcRect l="0" t="0" r="3272" b="0"/>
          <a:stretch/>
        </p:blipFill>
        <p:spPr>
          <a:xfrm>
            <a:off x="1116000" y="189000"/>
            <a:ext cx="6912000" cy="6335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624720" cy="597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34544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99308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7:29:14Z</dcterms:created>
  <dc:creator>Наталия</dc:creator>
  <dc:description/>
  <dc:language>en-US</dc:language>
  <cp:lastModifiedBy>Admin</cp:lastModifiedBy>
  <dcterms:modified xsi:type="dcterms:W3CDTF">2021-09-20T19:17:09Z</dcterms:modified>
  <cp:revision>5</cp:revision>
  <dc:subject/>
  <dc:title>Слайд 1</dc:title>
</cp:coreProperties>
</file>