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98B-6DB8-4A66-B356-2B0207A2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D70-501E-47E6-9EED-46F22D2F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8B1-7FDA-4FD3-AF90-ED18BDFB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947F-0B26-4A4B-B625-90B04622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9F3D-F994-49D9-906C-CA222BEF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F84E-62F5-455D-9F6C-CAE8B92B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D14C-B302-412C-B5AC-B4007336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EEAE-C5A1-498E-B00D-88957707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ADED-9326-4A4C-B007-A66CB802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1285-2533-4913-8D52-E143EBC9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1C6D-5B90-453D-A908-154066DE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47D2-760C-48F6-AC04-EEC8E59C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8E5E-649F-47D9-9802-F2F7DC93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4BF5-E3C8-4889-B956-BF3EC049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602E-4274-4DBC-8A5F-64C6733B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D93A-0739-410B-A52A-20C4E4BB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D7DD-35AA-428C-AE89-6D6683FD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7503-58E4-46A0-80AD-322B4085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B5747-EAA9-42A1-96E5-7BBF0B22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EBF58-5183-4FB9-ACCD-DE3D299E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B8790-1717-4A84-A227-6C00A3C7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84A3-99A5-4485-A1E8-7331A009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33E28-872C-4B9D-80E1-A63541AB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AE904-6F56-41B8-A493-4416DDDF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AD572-42C5-4382-92D4-14462B58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35B18-C44D-44BA-A357-02D37BFD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8C7B7-BDEA-4EE4-9E98-E193E6EE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535FE-3DEF-406E-821D-230CDCAD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E1901-E8FD-4EA7-8D30-66D646C2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B9789-D3BE-4E09-96D5-A222261B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EC475-CC4F-4CC5-8376-8D47A918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9DB3-C5AD-48BF-A5D8-F618E709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0366-8C62-4815-B51A-CB682CA1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71E-8405-46E8-AE7C-84A218E5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601-206D-4921-97C2-8F107EC4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1C4-4D0C-4668-884A-D950504F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Вода3"/>
          <p:cNvGrpSpPr/>
          <p:nvPr/>
        </p:nvGrpSpPr>
        <p:grpSpPr>
          <a:xfrm>
            <a:off x="0" y="6066000"/>
            <a:ext cx="9144000" cy="792000"/>
            <a:chOff x="0" y="6066000"/>
            <a:chExt cx="9144000" cy="792000"/>
          </a:xfrm>
        </p:grpSpPr>
        <p:pic>
          <p:nvPicPr>
            <p:cNvPr id="2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6067440"/>
              <a:ext cx="9144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6066000"/>
              <a:ext cx="9142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Вода1" descr=""/>
          <p:cNvPicPr/>
          <p:nvPr/>
        </p:nvPicPr>
        <p:blipFill>
          <a:blip r:embed="rId4"/>
          <a:stretch/>
        </p:blipFill>
        <p:spPr>
          <a:xfrm>
            <a:off x="0" y="5979960"/>
            <a:ext cx="9137520" cy="26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838D-879C-4327-BBB9-0867452115D6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Вода3"/>
          <p:cNvGrpSpPr/>
          <p:nvPr/>
        </p:nvGrpSpPr>
        <p:grpSpPr>
          <a:xfrm>
            <a:off x="0" y="5241960"/>
            <a:ext cx="9144000" cy="1616040"/>
            <a:chOff x="0" y="5241960"/>
            <a:chExt cx="9144000" cy="1616040"/>
          </a:xfrm>
        </p:grpSpPr>
        <p:pic>
          <p:nvPicPr>
            <p:cNvPr id="48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5241960"/>
              <a:ext cx="91440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40" y="5243400"/>
              <a:ext cx="914256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Небо"/>
          <p:cNvSpPr/>
          <p:nvPr/>
        </p:nvSpPr>
        <p:spPr>
          <a:xfrm>
            <a:off x="1440" y="0"/>
            <a:ext cx="9142560" cy="533412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5497560"/>
            <a:ext cx="91422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Вода1" descr=""/>
          <p:cNvPicPr/>
          <p:nvPr/>
        </p:nvPicPr>
        <p:blipFill>
          <a:blip r:embed="rId4"/>
          <a:stretch/>
        </p:blipFill>
        <p:spPr>
          <a:xfrm>
            <a:off x="0" y="5218200"/>
            <a:ext cx="9137520" cy="2682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4"/>
          <p:cNvGrpSpPr/>
          <p:nvPr/>
        </p:nvGrpSpPr>
        <p:grpSpPr>
          <a:xfrm>
            <a:off x="0" y="5962680"/>
            <a:ext cx="9137520" cy="895320"/>
            <a:chOff x="0" y="5962680"/>
            <a:chExt cx="9137520" cy="895320"/>
          </a:xfrm>
        </p:grpSpPr>
        <p:pic>
          <p:nvPicPr>
            <p:cNvPr id="5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1080" y="5963760"/>
              <a:ext cx="91328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5962680"/>
              <a:ext cx="91375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1380-0E75-4BD5-96C9-0616C8470BDD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62A2-52E8-4377-8362-7C7D8DCD7F9E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Alessandra+Ambrosio+Alessandra+Ambrosio+Playing+QbFt6hZLQWRl.jpg"/>
          <p:cNvPicPr/>
          <p:nvPr/>
        </p:nvPicPr>
        <p:blipFill>
          <a:blip r:embed="rId1"/>
          <a:stretch/>
        </p:blipFill>
        <p:spPr>
          <a:xfrm>
            <a:off x="214200" y="1357200"/>
            <a:ext cx="2233800" cy="3143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Write a reply to Emily. Answer her questions and ask her 3 questions on her favourite autumn activities</a:t>
            </a:r>
            <a:r>
              <a:rPr b="0" lang="en-GB" sz="3400" spc="-1" strike="noStrike">
                <a:solidFill>
                  <a:srgbClr val="1b4855"/>
                </a:solidFill>
                <a:latin typeface="Georgia"/>
              </a:rPr>
              <a:t>.</a:t>
            </a:r>
            <a:endParaRPr b="0" lang="en-US" sz="3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42720" y="1071720"/>
            <a:ext cx="6543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Orlando Fl</a:t>
            </a: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.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USA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13.08.2012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Dear friend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w are you? Sorry for not writing for such a long time. It’s summer now. We have a terrible heat in here. The temperature is about 102°F (39°C). In the afternoons I’m trying to stay in, but it’s still not boring because I’ve lots of things to do. I usually read comics, watch series, draw sketches or chat with my friends in social nets. In the evenings me and my friends go to the beach and play volleyball there.  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What about the weather in your place? ? I’ve heard that Russia is an extremely cold country and it’s always winter there! Is it true? What season do you like most of all and what are your preferable activities?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pe to get your letter soon.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Yours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Emily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https://pbs.twimg.com/media/Cc7txu2WoAAbe0Z.jpg"/>
          <p:cNvPicPr/>
          <p:nvPr/>
        </p:nvPicPr>
        <p:blipFill>
          <a:blip r:embed="rId1"/>
          <a:srcRect l="0" t="0" r="0" b="7538"/>
          <a:stretch/>
        </p:blipFill>
        <p:spPr>
          <a:xfrm>
            <a:off x="1979640" y="190440"/>
            <a:ext cx="525636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C:\Users\Admin\Downloads\IMG_0352.JPG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3" descr="C:\Users\Admin\Downloads\IMG_0346.PNG"/>
          <p:cNvPicPr/>
          <p:nvPr/>
        </p:nvPicPr>
        <p:blipFill>
          <a:blip r:embed="rId1"/>
          <a:srcRect l="2016" t="5623" r="2180" b="3553"/>
          <a:stretch/>
        </p:blipFill>
        <p:spPr>
          <a:xfrm>
            <a:off x="609480" y="81000"/>
            <a:ext cx="777744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C:\Users\Admin\Downloads\IMG_0343.JPG"/>
          <p:cNvPicPr/>
          <p:nvPr/>
        </p:nvPicPr>
        <p:blipFill>
          <a:blip r:embed="rId1"/>
          <a:srcRect l="0" t="0" r="3272" b="0"/>
          <a:stretch/>
        </p:blipFill>
        <p:spPr>
          <a:xfrm>
            <a:off x="1116000" y="189000"/>
            <a:ext cx="6912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3454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7:29:14Z</dcterms:created>
  <dc:creator>Наталия</dc:creator>
  <dc:description/>
  <dc:language>en-US</dc:language>
  <cp:lastModifiedBy>Admin</cp:lastModifiedBy>
  <dcterms:modified xsi:type="dcterms:W3CDTF">2021-09-20T19:17:09Z</dcterms:modified>
  <cp:revision>5</cp:revision>
  <dc:subject/>
  <dc:title>Слайд 1</dc:title>
</cp:coreProperties>
</file>