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A827B3-D0EA-4445-BF4B-278424EA30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8415D-8397-40DA-B025-7410096C1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14B1C1-E73D-4B2B-B238-A4E0D2EDD0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0AECAB-1E48-4DAB-874C-5FF9B0A99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3E2908-E77A-42B4-A182-BD161A4C1C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74C969-C55D-4699-A82A-9515675440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242116-875A-40DD-9906-F8844F5A8C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1412CA-0688-400C-AAD0-9D556FD34E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815AD2-DDDA-47D5-8B53-AA19898936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5AD217-C124-4E37-B9FE-B21C3B3748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EDBFD-FEFA-4314-9CA3-18EF2A5BFE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6682C-F93C-412E-8797-4FBB2F21A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8C8E99-C36D-4BF5-810E-65FD4AE041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C98E7-71D1-4066-BD90-B3BD33BFAE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DED6E7-5AE3-4A0B-867A-A893BB4BBE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671FCC-199D-430C-97DF-2668AE7700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2D3FFE-D250-4369-9B45-BFC3421987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7"/>
          </p:nvPr>
        </p:nvSpPr>
        <p:spPr/>
        <p:txBody>
          <a:bodyPr/>
          <a:p>
            <a:fld id="{D7253620-DA55-4850-900E-B01C2AB321A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9"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62AFF0E9-0299-4AFA-9A9B-802A21E489F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A42E3388-5BFF-4007-A127-0BA583BD48E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6B7E4277-D143-4EBB-8936-C7EE167F437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54A97F89-5581-49CF-A2DC-86A2B46AD0C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CAFF4-052A-48BC-959C-56CDA9FF3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049FA67F-E9BE-433C-80F0-5A56D414327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CCD21DE2-DF10-411D-A591-FD76A56CAE2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FD330902-7DD3-4025-B9C3-BB58B56C4E0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6CE46700-71C2-4364-A482-175D456CE75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0"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E1416090-DEF9-4A62-9C7B-CB2A8BF4BA1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7"/>
          </p:nvPr>
        </p:nvSpPr>
        <p:spPr/>
        <p:txBody>
          <a:bodyPr/>
          <a:p>
            <a:fld id="{23304D30-6C17-41C9-AFBE-37A70EC1D40D}"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8"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7"/>
          </p:nvPr>
        </p:nvSpPr>
        <p:spPr/>
        <p:txBody>
          <a:bodyPr/>
          <a:p>
            <a:fld id="{5411B042-4E41-4BC8-A4ED-8714D3C771D8}"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390ABA-5A2D-4E66-80B3-462C60ED2E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B2B599-3A96-4405-8F48-66707383EE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B7C98A-469B-47B0-B9CC-24387E3D50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E1FB6-363D-41C6-A444-6B905E125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46B0C4-7790-4B6C-9A00-04CC5D98FC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457AC4-1376-4AE0-AE98-2882A912A7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F25315-F0E3-4324-BB5D-50D4200733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8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18C973-18CF-460A-A430-460E157908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8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F55C26-397F-44E8-8365-6617A3784B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C735DE-1A60-4E94-ADC0-0B44A3AB78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184627-92B0-4F32-8237-394B7EEF46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777AE4-2423-44B8-9B40-568BE3D1AC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0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3797ED-F618-422C-AB29-DBF2B284FA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8C4AC3-B5AF-49BE-9A30-541C97E515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BA461-F874-43D0-BB28-022FBA199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889CAF-C47A-4AFF-B3EA-F85E16A28E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4898A0-3133-4CE0-AC18-87B2C8D5B8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E5B6B5-1372-47DC-9B7B-0B5946B6C7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35309B-FD88-4016-B418-49ACAC7A7B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4E2324-EECA-4589-8057-17F02DACE2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E45957-0768-4E5B-A45F-B6036286CB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19D4E9-0D3B-4F88-AD0D-FD9A78511C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65BFF0-C365-4F22-BC4E-D45DF2EE5C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531B93-BB02-4D44-8136-A3E4728244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9C3A72-7C0C-48ED-B86A-EF1A52A180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511BC-EFD2-477E-A1DB-EC810C372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1EF18B-7BA4-40D6-ACAC-3DEC885926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1CCCAA-1564-45E2-8340-AA862931466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88"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1FF900-7F41-4C66-B595-B9B7D8A3BD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DC11B4-B4FE-429F-A505-5E630D701D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A744BB-C6C4-4B2D-83A1-6DFBD7A2E8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043571-8976-444F-9DF5-6C38CBCE15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CA3CF8-311B-41CD-980F-3A80519154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62F7A6-AEB5-428C-AD14-30ABF0E150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3"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6D2642-1AF1-4A8B-999C-73A08C7AAC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7"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FFD1DA-F22E-446B-8BD3-B65F27BC59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91E32-F7D9-4728-A3BF-60001AFBC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9"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0"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186ECE-997C-451F-A4BC-1F9EA9F725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5"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3733D6-7A43-44BF-89F1-4FB3122BF8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7"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8"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9"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0"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1"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2"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B7633C6-D518-451E-9D2A-D225D1EF85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7B2E3F7-34C4-4A93-8811-4152EB444A5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8E2667-D5DD-42EB-B7AF-C04F30B100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EBBF53-6D6A-4D9D-BA7A-E2529A459D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35534B-5294-4FE3-9100-D2C738F2FE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C243DE-D901-42C9-8F52-7046D21666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A0FA44-565D-45AC-9AD8-638A4EE21C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92BCED-8D62-431B-ACD5-0D521C946E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13278-700F-414D-AEAD-39FF15F16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8ED131-EC5F-47AE-B803-8F84251A4C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AB7658-B33B-4466-804E-3132C8F7ED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52E121-DE85-4E76-AC19-34F195A553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3002E8D-37FE-4279-B595-61ABB54CD4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6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1A5D16D-B3C8-444B-916A-EDACF77D883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6289340-CC55-4479-B03D-EC7F9ED8B6E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4"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8F792F-82F7-4021-965B-C036C046449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BA99AE-79AB-4BC0-A719-B5AFEBE482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D8B688-D40D-40DA-B9C8-F7ADED078A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640949-AB66-4423-86D9-6DF2EA7ED2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F6B3E-DB6C-437D-9B57-998013D26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293BFE-FA57-444D-9B27-D56C73F20F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F0CFEF-DBDA-4E10-8859-8DAA6B553E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9"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CA0574-ADA5-421A-8398-B963318922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3"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4AC129-3DF8-4B07-B6B5-9DD704C957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5"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6"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286E8F-3869-4F35-B628-60AC4FFFB3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1"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AF8BE37-E27A-48C7-9A7F-D7CCD9C6157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13"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4"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5"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6"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7"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8"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0C0AA67-FF8A-44EE-BCC4-C9A1B9A3F0E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E00DF-221C-43DA-BFD3-CA149F771B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810BD-F934-4F57-A16B-E9DF103214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97" name=""/>
          <p:cNvGrpSpPr/>
          <p:nvPr/>
        </p:nvGrpSpPr>
        <p:grpSpPr>
          <a:xfrm>
            <a:off x="-103320" y="1308240"/>
            <a:ext cx="9350640" cy="5632560"/>
            <a:chOff x="-103320" y="1308240"/>
            <a:chExt cx="9350640" cy="5632560"/>
          </a:xfrm>
        </p:grpSpPr>
        <p:sp>
          <p:nvSpPr>
            <p:cNvPr id="98"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1"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2"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43"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4"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5"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6"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47"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8"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9"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1"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2"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53"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4"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5"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6"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7"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8"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9"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60"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61"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2"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3"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4"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5"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6"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68"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69"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0"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1"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2"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3"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4"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5"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6"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7"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8"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9"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0"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1"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2"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3"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4"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85"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86"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7"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8"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9"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97"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98"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9"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0"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1"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02"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3"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04"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05"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6"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7"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8"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09"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10"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11"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2"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3"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14"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15"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6"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7"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18"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19"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0"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21"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22"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3"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4"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5"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6"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7"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8"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9"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0"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1"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2"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3"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4"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5"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36"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7"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38"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9"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0"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41"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2"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3"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4"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5"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6"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7"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8"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9"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0"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51"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52"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53"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4"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5"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6"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7"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58"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9"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60"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1"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2"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3"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4"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5"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6"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67"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8"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9"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0"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1"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2"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3"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4"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5"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6"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284"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85"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6"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7"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8"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89"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0"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1"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4"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5"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7"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8"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12"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3" name="PlaceHolder 1"/>
          <p:cNvSpPr>
            <a:spLocks noGrp="1"/>
          </p:cNvSpPr>
          <p:nvPr>
            <p:ph type="sldNum" idx="7"/>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DC7F3-A661-4C52-B6D8-BC7C2AEAF4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PlaceHolder 2"/>
          <p:cNvSpPr>
            <a:spLocks noGrp="1"/>
          </p:cNvSpPr>
          <p:nvPr>
            <p:ph type="dt" idx="8"/>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5" name="PlaceHolder 3"/>
          <p:cNvSpPr>
            <a:spLocks noGrp="1"/>
          </p:cNvSpPr>
          <p:nvPr>
            <p:ph type="ftr" idx="9"/>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17"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354" name=""/>
          <p:cNvGrpSpPr/>
          <p:nvPr/>
        </p:nvGrpSpPr>
        <p:grpSpPr>
          <a:xfrm>
            <a:off x="-105120" y="1311120"/>
            <a:ext cx="9350640" cy="5632560"/>
            <a:chOff x="-105120" y="1311120"/>
            <a:chExt cx="9350640" cy="5632560"/>
          </a:xfrm>
        </p:grpSpPr>
        <p:sp>
          <p:nvSpPr>
            <p:cNvPr id="355"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98"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9"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00"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1"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2"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3"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04"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05"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6"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8"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9"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10"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1"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2"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3"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4"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5"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6"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417"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18"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9"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0"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1"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2"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3"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25"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6"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27"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28"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9"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0"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1"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2"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3"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4"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5"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36"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7"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8"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9"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0"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1"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2"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3"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4"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45"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46"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54"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55"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6"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7"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8"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59"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0"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61"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2"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3"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4"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5"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6"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7"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68"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9"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0"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71"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72"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3"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4"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75"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6"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7"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8"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9"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0"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1"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2"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3"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4"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5"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6"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7"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8"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89"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0"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1"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2"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3"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4"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5"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6"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7"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8"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9"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0"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1"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2"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3"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4"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5"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6"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07"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8"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9"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10"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1"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2"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3"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4"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15"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6"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17"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8"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9"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20"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1"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2"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3"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24"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5"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6"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7"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8"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9"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30"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1"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2"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3"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41"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42"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3"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4"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5"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46"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7"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8"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61"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62"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3"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4"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5"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69"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0"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571"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2"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6E20C-27FC-44DD-8837-A17A815222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610" name=""/>
          <p:cNvGrpSpPr/>
          <p:nvPr/>
        </p:nvGrpSpPr>
        <p:grpSpPr>
          <a:xfrm>
            <a:off x="4716360" y="5345280"/>
            <a:ext cx="4427640" cy="1512720"/>
            <a:chOff x="4716360" y="5345280"/>
            <a:chExt cx="4427640" cy="1512720"/>
          </a:xfrm>
        </p:grpSpPr>
        <p:sp>
          <p:nvSpPr>
            <p:cNvPr id="61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1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1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627"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628"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29"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21148-FB1B-4419-B736-1A0878851E55}"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63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667" name=""/>
          <p:cNvGrpSpPr/>
          <p:nvPr/>
        </p:nvGrpSpPr>
        <p:grpSpPr>
          <a:xfrm>
            <a:off x="4716360" y="5345280"/>
            <a:ext cx="4427640" cy="1512720"/>
            <a:chOff x="4716360" y="5345280"/>
            <a:chExt cx="4427640" cy="1512720"/>
          </a:xfrm>
        </p:grpSpPr>
        <p:sp>
          <p:nvSpPr>
            <p:cNvPr id="66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7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7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684"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685"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86"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0A880-56E1-4816-BDB9-70BABD1ACD45}"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723" name=""/>
          <p:cNvGrpSpPr/>
          <p:nvPr/>
        </p:nvGrpSpPr>
        <p:grpSpPr>
          <a:xfrm>
            <a:off x="0" y="0"/>
            <a:ext cx="8686800" cy="4876920"/>
            <a:chOff x="0" y="0"/>
            <a:chExt cx="8686800" cy="4876920"/>
          </a:xfrm>
        </p:grpSpPr>
        <p:sp>
          <p:nvSpPr>
            <p:cNvPr id="724"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25" name=""/>
            <p:cNvGrpSpPr/>
            <p:nvPr/>
          </p:nvGrpSpPr>
          <p:grpSpPr>
            <a:xfrm>
              <a:off x="380880" y="1417680"/>
              <a:ext cx="8305920" cy="182520"/>
              <a:chOff x="380880" y="1417680"/>
              <a:chExt cx="8305920" cy="182520"/>
            </a:xfrm>
          </p:grpSpPr>
          <p:sp>
            <p:nvSpPr>
              <p:cNvPr id="726"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7"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729"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30" name="PlaceHolder 3"/>
          <p:cNvSpPr>
            <a:spLocks noGrp="1"/>
          </p:cNvSpPr>
          <p:nvPr>
            <p:ph type="dt" idx="19"/>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31" name="PlaceHolder 4"/>
          <p:cNvSpPr>
            <a:spLocks noGrp="1"/>
          </p:cNvSpPr>
          <p:nvPr>
            <p:ph type="ftr" idx="20"/>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32" name="PlaceHolder 5"/>
          <p:cNvSpPr>
            <a:spLocks noGrp="1"/>
          </p:cNvSpPr>
          <p:nvPr>
            <p:ph type="sldNum" idx="21"/>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F8BA2-851A-4D40-8BEE-C39B1398D11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33"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770" name=""/>
          <p:cNvGrpSpPr/>
          <p:nvPr/>
        </p:nvGrpSpPr>
        <p:grpSpPr>
          <a:xfrm>
            <a:off x="0" y="0"/>
            <a:ext cx="8763120" cy="5943600"/>
            <a:chOff x="0" y="0"/>
            <a:chExt cx="8763120" cy="5943600"/>
          </a:xfrm>
        </p:grpSpPr>
        <p:sp>
          <p:nvSpPr>
            <p:cNvPr id="771"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72" name=""/>
            <p:cNvGrpSpPr/>
            <p:nvPr/>
          </p:nvGrpSpPr>
          <p:grpSpPr>
            <a:xfrm>
              <a:off x="0" y="3505320"/>
              <a:ext cx="8763120" cy="2438280"/>
              <a:chOff x="0" y="3505320"/>
              <a:chExt cx="8763120" cy="2438280"/>
            </a:xfrm>
          </p:grpSpPr>
          <p:sp>
            <p:nvSpPr>
              <p:cNvPr id="773"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4"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5"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76" name=""/>
            <p:cNvGrpSpPr/>
            <p:nvPr/>
          </p:nvGrpSpPr>
          <p:grpSpPr>
            <a:xfrm>
              <a:off x="635040" y="533520"/>
              <a:ext cx="8077320" cy="304560"/>
              <a:chOff x="635040" y="533520"/>
              <a:chExt cx="8077320" cy="304560"/>
            </a:xfrm>
          </p:grpSpPr>
          <p:sp>
            <p:nvSpPr>
              <p:cNvPr id="777"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8"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79"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780" name="PlaceHolder 2"/>
          <p:cNvSpPr>
            <a:spLocks noGrp="1"/>
          </p:cNvSpPr>
          <p:nvPr>
            <p:ph type="dt" idx="22"/>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81" name="PlaceHolder 3"/>
          <p:cNvSpPr>
            <a:spLocks noGrp="1"/>
          </p:cNvSpPr>
          <p:nvPr>
            <p:ph type="ftr" idx="23"/>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2" name="PlaceHolder 4"/>
          <p:cNvSpPr>
            <a:spLocks noGrp="1"/>
          </p:cNvSpPr>
          <p:nvPr>
            <p:ph type="sldNum" idx="24"/>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2373F-C1DA-4F2E-9D9B-070AFFE6EF4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dfdef6"/>
                </a:solidFill>
                <a:latin typeface="Arial"/>
              </a:rPr>
              <a:t>Vier Seiten einer Nachricht nach Schulz von Thun</a:t>
            </a:r>
            <a:endParaRPr b="0" lang="en-US" sz="4000" spc="-1" strike="noStrike">
              <a:solidFill>
                <a:srgbClr val="dfdef6"/>
              </a:solidFill>
              <a:latin typeface="Arial"/>
            </a:endParaRPr>
          </a:p>
        </p:txBody>
      </p:sp>
      <p:sp>
        <p:nvSpPr>
          <p:cNvPr id="820" name="PlaceHolder 2"/>
          <p:cNvSpPr>
            <a:spLocks noGrp="1"/>
          </p:cNvSpPr>
          <p:nvPr>
            <p:ph/>
          </p:nvPr>
        </p:nvSpPr>
        <p:spPr>
          <a:xfrm>
            <a:off x="456840" y="2492280"/>
            <a:ext cx="8218440" cy="3641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   </a:t>
            </a:r>
            <a:r>
              <a:rPr b="0" lang="de-DE" sz="2800" spc="-1" strike="noStrike">
                <a:solidFill>
                  <a:srgbClr val="ffffff"/>
                </a:solidFill>
                <a:latin typeface="Arial"/>
              </a:rPr>
              <a:t>Im Mittelpunkt einer Kommunikation steht die </a:t>
            </a:r>
            <a:r>
              <a:rPr b="1" lang="de-DE" sz="2800" spc="-1" strike="noStrike" u="sng">
                <a:solidFill>
                  <a:srgbClr val="ffffff"/>
                </a:solidFill>
                <a:uFillTx/>
                <a:latin typeface="Arial"/>
              </a:rPr>
              <a:t>Nachricht</a:t>
            </a:r>
            <a:r>
              <a:rPr b="0" lang="de-DE" sz="2800" spc="-1" strike="noStrike">
                <a:solidFill>
                  <a:srgbClr val="ffffff"/>
                </a:solidFill>
                <a:latin typeface="Arial"/>
              </a:rPr>
              <a:t>, die der Sender an den Empfänger sendet. Eine Nachricht ist ein vielseitiges Paket mit sprachlichen und nicht-sprachlichen Anteilen. Sie kann gleichzeitig viele Botschaften enthalten. Jeder Sender, ob er dies beabsichtigt oder nicht, sendet immer gleichzeitig alle diese Botschaft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819"/>
                                        </p:tgtEl>
                                        <p:attrNameLst>
                                          <p:attrName>style.visibility</p:attrName>
                                        </p:attrNameLst>
                                      </p:cBhvr>
                                      <p:to>
                                        <p:strVal val="visible"/>
                                      </p:to>
                                    </p:set>
                                    <p:animEffect filter="dissolve" transition="in">
                                      <p:cBhvr additive="repl">
                                        <p:cTn id="7" dur="500"/>
                                        <p:tgtEl>
                                          <p:spTgt spid="81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820">
                                            <p:txEl>
                                              <p:pRg st="0" end="0"/>
                                            </p:txEl>
                                          </p:spTgt>
                                        </p:tgtEl>
                                        <p:attrNameLst>
                                          <p:attrName>style.visibility</p:attrName>
                                        </p:attrNameLst>
                                      </p:cBhvr>
                                      <p:to>
                                        <p:strVal val="visible"/>
                                      </p:to>
                                    </p:set>
                                    <p:animEffect filter="dissolve" transition="in">
                                      <p:cBhvr additive="repl">
                                        <p:cTn id="12" dur="500"/>
                                        <p:tgtEl>
                                          <p:spTgt spid="8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821" name="PlaceHolder 1"/>
          <p:cNvSpPr>
            <a:spLocks noGrp="1"/>
          </p:cNvSpPr>
          <p:nvPr>
            <p:ph/>
          </p:nvPr>
        </p:nvSpPr>
        <p:spPr>
          <a:xfrm>
            <a:off x="468000" y="3499920"/>
            <a:ext cx="8218440" cy="2808360"/>
          </a:xfrm>
          <a:prstGeom prst="rect">
            <a:avLst/>
          </a:prstGeom>
          <a:noFill/>
          <a:ln w="0">
            <a:noFill/>
          </a:ln>
        </p:spPr>
        <p:txBody>
          <a:bodyPr lIns="90000" rIns="90000" tIns="46800" bIns="46800" anchor="t">
            <a:normAutofit/>
          </a:bodyPr>
          <a:p>
            <a:pPr marL="343080" indent="-343080">
              <a:lnSpc>
                <a:spcPct val="80000"/>
              </a:lnSpc>
              <a:spcBef>
                <a:spcPts val="34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achinformation ist das, worüber Sie informieren - der Inhalt Ihrer Nachrich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elbstoffenbarung ist das, was Sie von sich kundgeben - Ihre Absichten und Gefühle</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3.   Die Beziehungsbotschaft ist das, was Sie von Ihrem Gesprächspartner halten und wie Sie zueinander stehen - ausgedrückt durch die Art der Formulierung und Ihren Tonfall.</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4.   Der Appell ist das, wozu Sie den Ihrem Gesprächspartner veranlassen möchten.</a:t>
            </a: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timme, Betonung, Aussprache, Mimik und Gestik des Senders entscheiden oft darüber, wie eine Nachricht interpretiert wird.</a:t>
            </a:r>
            <a:endParaRPr b="0" lang="en-US" sz="1400" spc="-1" strike="noStrike">
              <a:solidFill>
                <a:srgbClr val="eaeaea"/>
              </a:solidFill>
              <a:latin typeface="Verdana"/>
            </a:endParaRPr>
          </a:p>
        </p:txBody>
      </p:sp>
      <p:pic>
        <p:nvPicPr>
          <p:cNvPr id="822" name="" descr=""/>
          <p:cNvPicPr/>
          <p:nvPr/>
        </p:nvPicPr>
        <p:blipFill>
          <a:blip r:embed="rId1"/>
          <a:stretch/>
        </p:blipFill>
        <p:spPr>
          <a:xfrm>
            <a:off x="468360" y="476280"/>
            <a:ext cx="8207280" cy="29527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821">
                                            <p:txEl>
                                              <p:pRg st="0" end="0"/>
                                            </p:txEl>
                                          </p:spTgt>
                                        </p:tgtEl>
                                        <p:attrNameLst>
                                          <p:attrName>style.visibility</p:attrName>
                                        </p:attrNameLst>
                                      </p:cBhvr>
                                      <p:to>
                                        <p:strVal val="visible"/>
                                      </p:to>
                                    </p:set>
                                    <p:animEffect filter="fade" transition="in">
                                      <p:cBhvr additive="repl">
                                        <p:cTn id="19" dur="2000"/>
                                        <p:tgtEl>
                                          <p:spTgt spid="821">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821">
                                            <p:txEl>
                                              <p:pRg st="3" end="3"/>
                                            </p:txEl>
                                          </p:spTgt>
                                        </p:tgtEl>
                                        <p:attrNameLst>
                                          <p:attrName>style.visibility</p:attrName>
                                        </p:attrNameLst>
                                      </p:cBhvr>
                                      <p:to>
                                        <p:strVal val="visible"/>
                                      </p:to>
                                    </p:set>
                                    <p:animEffect filter="fade" transition="in">
                                      <p:cBhvr additive="repl">
                                        <p:cTn id="24" dur="2000"/>
                                        <p:tgtEl>
                                          <p:spTgt spid="821">
                                            <p:txEl>
                                              <p:pRg st="3" end="3"/>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821">
                                            <p:txEl>
                                              <p:pRg st="5" end="5"/>
                                            </p:txEl>
                                          </p:spTgt>
                                        </p:tgtEl>
                                        <p:attrNameLst>
                                          <p:attrName>style.visibility</p:attrName>
                                        </p:attrNameLst>
                                      </p:cBhvr>
                                      <p:to>
                                        <p:strVal val="visible"/>
                                      </p:to>
                                    </p:set>
                                    <p:animEffect filter="fade" transition="in">
                                      <p:cBhvr additive="repl">
                                        <p:cTn id="29" dur="2000"/>
                                        <p:tgtEl>
                                          <p:spTgt spid="821">
                                            <p:txEl>
                                              <p:pRg st="5" end="5"/>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821">
                                            <p:txEl>
                                              <p:pRg st="6" end="6"/>
                                            </p:txEl>
                                          </p:spTgt>
                                        </p:tgtEl>
                                        <p:attrNameLst>
                                          <p:attrName>style.visibility</p:attrName>
                                        </p:attrNameLst>
                                      </p:cBhvr>
                                      <p:to>
                                        <p:strVal val="visible"/>
                                      </p:to>
                                    </p:set>
                                    <p:animEffect filter="fade" transition="in">
                                      <p:cBhvr additive="repl">
                                        <p:cTn id="34" dur="2000"/>
                                        <p:tgtEl>
                                          <p:spTgt spid="821">
                                            <p:txEl>
                                              <p:pRg st="6" end="6"/>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821">
                                            <p:txEl>
                                              <p:pRg st="8" end="8"/>
                                            </p:txEl>
                                          </p:spTgt>
                                        </p:tgtEl>
                                        <p:attrNameLst>
                                          <p:attrName>style.visibility</p:attrName>
                                        </p:attrNameLst>
                                      </p:cBhvr>
                                      <p:to>
                                        <p:strVal val="visible"/>
                                      </p:to>
                                    </p:set>
                                    <p:animEffect filter="fade" transition="in">
                                      <p:cBhvr additive="repl">
                                        <p:cTn id="39" dur="2000"/>
                                        <p:tgtEl>
                                          <p:spTgt spid="82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823" name=""/>
          <p:cNvSpPr txBox="1"/>
          <p:nvPr/>
        </p:nvSpPr>
        <p:spPr>
          <a:xfrm>
            <a:off x="3428640" y="6244920"/>
            <a:ext cx="289548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4" name=""/>
          <p:cNvSpPr txBox="1"/>
          <p:nvPr/>
        </p:nvSpPr>
        <p:spPr>
          <a:xfrm>
            <a:off x="837720" y="6244920"/>
            <a:ext cx="190188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25" name="PlaceHolder 1"/>
          <p:cNvSpPr>
            <a:spLocks noGrp="1"/>
          </p:cNvSpPr>
          <p:nvPr>
            <p:ph type="title"/>
          </p:nvPr>
        </p:nvSpPr>
        <p:spPr>
          <a:xfrm>
            <a:off x="457200" y="244080"/>
            <a:ext cx="8075520" cy="1384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Die Vier Seiten einer Nachricht aus der Sicht des Empfängers</a:t>
            </a:r>
            <a:endParaRPr b="1" lang="en-US" sz="2400" spc="-1" strike="noStrike">
              <a:solidFill>
                <a:srgbClr val="ffffb7"/>
              </a:solidFill>
              <a:latin typeface="Arial Black"/>
            </a:endParaRPr>
          </a:p>
        </p:txBody>
      </p:sp>
      <p:sp>
        <p:nvSpPr>
          <p:cNvPr id="826" name="PlaceHolder 2"/>
          <p:cNvSpPr>
            <a:spLocks noGrp="1"/>
          </p:cNvSpPr>
          <p:nvPr>
            <p:ph/>
          </p:nvPr>
        </p:nvSpPr>
        <p:spPr>
          <a:xfrm>
            <a:off x="468000" y="1988640"/>
            <a:ext cx="8280360" cy="45817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er Empfänger nimmt eine Nachricht auf vier Ebenen oder mit "vier Ohren" wahr. Er kann sich beim Empfang einer Nachricht folgende Fragen stellen.</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ie ist der Sachverhalt zu verstehen?</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as ist das für einer? Was ist mit ihm?</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ie redet der eigentlich mit mir?</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as soll ich aufgrund seiner Mitteilung tun?</a:t>
            </a:r>
            <a:endParaRPr b="0" lang="en-US" sz="1800" spc="-1" strike="noStrike">
              <a:solidFill>
                <a:srgbClr val="ffffff"/>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er Empfänger bestimmt den Gesprächsverlauf entscheidend mit, je nachdem mit welchem der "vier Ohren" er vorrangig hör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r>
              <a:rPr b="0" lang="de-DE" sz="1800" spc="-1" strike="noStrike">
                <a:solidFill>
                  <a:srgbClr val="000000"/>
                </a:solidFill>
                <a:latin typeface="Times New Roman"/>
              </a:rPr>
              <a:t>Zu Kommunikationsstörungen kann es führen wenn der Empfänger mit einem Ohr besonders gut hört. Manchmal ist das "dritte Ohr", das "Beziehungs-Ohr", beim Empfänger besonders groß und überempfindlich. Solche Personen nehmen oft alles persönlich und sind schnell beleidigt.</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395280" y="8366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cc"/>
                </a:solidFill>
                <a:latin typeface="Arial"/>
              </a:rPr>
              <a:t>Kommunikationsmodell von Stefan Pfänder</a:t>
            </a:r>
            <a:r>
              <a:rPr b="0" lang="ru-RU" sz="3600" spc="-1" strike="noStrike">
                <a:solidFill>
                  <a:srgbClr val="ffffcc"/>
                </a:solidFill>
                <a:latin typeface="Arial"/>
              </a:rPr>
              <a:t>(</a:t>
            </a:r>
            <a:r>
              <a:rPr b="0" lang="de-DE" sz="3600" spc="-1" strike="noStrike">
                <a:solidFill>
                  <a:srgbClr val="ffffcc"/>
                </a:solidFill>
                <a:latin typeface="Arial"/>
              </a:rPr>
              <a:t>FRIAS</a:t>
            </a:r>
            <a:r>
              <a:rPr b="0" lang="ru-RU" sz="3600" spc="-1" strike="noStrike">
                <a:solidFill>
                  <a:srgbClr val="ffffcc"/>
                </a:solidFill>
                <a:latin typeface="Arial"/>
              </a:rPr>
              <a:t>-</a:t>
            </a:r>
            <a:r>
              <a:rPr b="0" lang="de-DE" sz="3600" spc="-1" strike="noStrike">
                <a:solidFill>
                  <a:srgbClr val="ffffcc"/>
                </a:solidFill>
                <a:latin typeface="Arial"/>
              </a:rPr>
              <a:t>Projekt</a:t>
            </a:r>
            <a:r>
              <a:rPr b="0" lang="ru-RU" sz="3600" spc="-1" strike="noStrike">
                <a:solidFill>
                  <a:srgbClr val="ffffcc"/>
                </a:solidFill>
                <a:latin typeface="Arial"/>
              </a:rPr>
              <a:t>) </a:t>
            </a:r>
            <a:br>
              <a:rPr sz="3600"/>
            </a:br>
            <a:r>
              <a:rPr b="0" lang="en-US" sz="1600" spc="-1" strike="noStrike">
                <a:solidFill>
                  <a:srgbClr val="ffffcc"/>
                </a:solidFill>
                <a:latin typeface="Arial"/>
              </a:rPr>
              <a:t>World languages – digital languages (English, French and Spanish)</a:t>
            </a:r>
            <a:r>
              <a:rPr b="0" lang="en-US" sz="4000" spc="-1" strike="noStrike">
                <a:solidFill>
                  <a:srgbClr val="ffffcc"/>
                </a:solidFill>
                <a:latin typeface="Arial"/>
              </a:rPr>
              <a:t> </a:t>
            </a:r>
            <a:endParaRPr b="0" lang="en-US" sz="4000" spc="-1" strike="noStrike">
              <a:solidFill>
                <a:srgbClr val="ffffcc"/>
              </a:solidFill>
              <a:latin typeface="Arial"/>
            </a:endParaRPr>
          </a:p>
        </p:txBody>
      </p:sp>
      <p:sp>
        <p:nvSpPr>
          <p:cNvPr id="828" name="PlaceHolder 2"/>
          <p:cNvSpPr>
            <a:spLocks noGrp="1"/>
          </p:cNvSpPr>
          <p:nvPr>
            <p:ph/>
          </p:nvPr>
        </p:nvSpPr>
        <p:spPr>
          <a:xfrm>
            <a:off x="324000" y="2392200"/>
            <a:ext cx="8424720" cy="3989520"/>
          </a:xfrm>
          <a:prstGeom prst="rect">
            <a:avLst/>
          </a:prstGeom>
          <a:noFill/>
          <a:ln w="0">
            <a:noFill/>
          </a:ln>
        </p:spPr>
        <p:txBody>
          <a:bodyPr lIns="90000" rIns="90000" tIns="46800" bIns="46800" anchor="t">
            <a:normAutofit/>
          </a:bodyPr>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Das FRIAS-Projekt verfolgt das Ziel gegenwärtige Prozesse der Diversifizierung sowie der plurizentrischen Standardisierung in den drei Weltsprachen Englisch, Französisch und Spanisch zu erforschen. </a:t>
            </a:r>
            <a:endParaRPr b="0" lang="en-US" sz="1600" spc="-1" strike="noStrike">
              <a:solidFill>
                <a:srgbClr val="eaeaea"/>
              </a:solidFill>
              <a:latin typeface="Verdana"/>
            </a:endParaRPr>
          </a:p>
          <a:p>
            <a:pPr marL="457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Traditionelle soziolinguistische und variationslinguistische Forschungsschwerpunkte, wie beispielsweise Variationsanalysen in spontaner Gesprächskommunikation oder Vergleiche des Sprachgebrauchs in unterschiedlichen Registern und Textsorten, erweitert er durch den Einbezug der computergestützten Kommunikation.</a:t>
            </a:r>
            <a:endParaRPr b="0" lang="en-US" sz="1600" spc="-1" strike="noStrike">
              <a:solidFill>
                <a:srgbClr val="eaeaea"/>
              </a:solidFill>
              <a:latin typeface="Verdana"/>
            </a:endParaRPr>
          </a:p>
          <a:p>
            <a:pPr marL="457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Insbesondere bezieht er bei den Arbeiten auch die bewusste rhetorisch-strategische und oft stilisierte Verwendung von nicht-standardisierten Varietäten mit ein, da diese Dimension essentiell ist für ein Verständnis unseres gegenwärtigen kommunikativen „Ökosystems“, das einerseits durch eine weltweite linguistische Homogenisierung, andererseits durch eine rasche Verbreitung und hohe Sichtbarkeit ausgewählter umgangssprachlicher Merkmale und Stile charakterisiert wird. </a:t>
            </a:r>
            <a:endParaRPr b="0" lang="en-US" sz="1600" spc="-1" strike="noStrike">
              <a:solidFill>
                <a:srgbClr val="eaeaea"/>
              </a:solidFill>
              <a:latin typeface="Verdana"/>
            </a:endParaRPr>
          </a:p>
        </p:txBody>
      </p:sp>
    </p:spTree>
  </p:cSld>
  <p:transition>
    <p:wipe dir="d"/>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37">
                                  <p:stCondLst>
                                    <p:cond delay="0"/>
                                  </p:stCondLst>
                                  <p:childTnLst>
                                    <p:set>
                                      <p:cBhvr>
                                        <p:cTn id="45" dur="1" fill="hold">
                                          <p:stCondLst>
                                            <p:cond delay="0"/>
                                          </p:stCondLst>
                                        </p:cTn>
                                        <p:tgtEl>
                                          <p:spTgt spid="827"/>
                                        </p:tgtEl>
                                        <p:attrNameLst>
                                          <p:attrName>style.visibility</p:attrName>
                                        </p:attrNameLst>
                                      </p:cBhvr>
                                      <p:to>
                                        <p:strVal val="visible"/>
                                      </p:to>
                                    </p:set>
                                    <p:animEffect filter="fade" transition="in">
                                      <p:cBhvr additive="repl">
                                        <p:cTn id="46" dur="1000"/>
                                        <p:tgtEl>
                                          <p:spTgt spid="827"/>
                                        </p:tgtEl>
                                      </p:cBhvr>
                                    </p:animEffect>
                                    <p:anim calcmode="lin" valueType="num">
                                      <p:cBhvr additive="repl">
                                        <p:cTn id="47" dur="1000" fill="hold"/>
                                        <p:tgtEl>
                                          <p:spTgt spid="827"/>
                                        </p:tgtEl>
                                        <p:attrNameLst>
                                          <p:attrName>ppt_x</p:attrName>
                                        </p:attrNameLst>
                                      </p:cBhvr>
                                      <p:tavLst>
                                        <p:tav tm="0">
                                          <p:val>
                                            <p:strVal val="#ppt_x"/>
                                          </p:val>
                                        </p:tav>
                                        <p:tav tm="100000">
                                          <p:val>
                                            <p:strVal val="#ppt_x"/>
                                          </p:val>
                                        </p:tav>
                                      </p:tavLst>
                                    </p:anim>
                                    <p:anim calcmode="lin" valueType="num">
                                      <p:cBhvr additive="repl">
                                        <p:cTn id="48" dur="898" fill="hold"/>
                                        <p:tgtEl>
                                          <p:spTgt spid="827"/>
                                        </p:tgtEl>
                                        <p:attrNameLst>
                                          <p:attrName>ppt_y</p:attrName>
                                        </p:attrNameLst>
                                      </p:cBhvr>
                                      <p:tavLst>
                                        <p:tav tm="0">
                                          <p:val>
                                            <p:strVal val="#ppt_y+1"/>
                                          </p:val>
                                        </p:tav>
                                        <p:tav tm="100000">
                                          <p:val>
                                            <p:strVal val="#ppt_y-.03"/>
                                          </p:val>
                                        </p:tav>
                                      </p:tavLst>
                                    </p:anim>
                                    <p:anim calcmode="lin" valueType="num">
                                      <p:cBhvr additive="repl">
                                        <p:cTn id="49" dur="100" fill="hold">
                                          <p:stCondLst>
                                            <p:cond delay="898"/>
                                          </p:stCondLst>
                                        </p:cTn>
                                        <p:tgtEl>
                                          <p:spTgt spid="82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179280" y="333000"/>
            <a:ext cx="8640720" cy="604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0033"/>
                </a:solidFill>
                <a:latin typeface="Times New Roman"/>
              </a:rPr>
              <a:t>4. Die Arbeit beruht außerdem auf der Überzeugung, dass der systematische Vergleich der Entwicklung von drei Weltsprachen unter den Bedingungen globaler bzw. globalisierter Kommunikation zu neuen und übergreifenden theoretischen Erkenntnissen führen wird, zumal vorangegangene Untersuchungen zum Englischen, Französischen oder Spanischen als Weltsprache weitestgehend in disziplinärer Isolation betrieben wurden.</a:t>
            </a:r>
            <a:br>
              <a:rPr sz="2000"/>
            </a:br>
            <a:br>
              <a:rPr sz="2000"/>
            </a:br>
            <a:r>
              <a:rPr b="0" lang="de-DE" sz="2000" spc="-1" strike="noStrike">
                <a:solidFill>
                  <a:srgbClr val="330033"/>
                </a:solidFill>
                <a:latin typeface="Times New Roman"/>
              </a:rPr>
              <a:t>5. Methodisch ist er der Überzeugung, dass für eine systematische und vollständige empirische Beschreibung der sprachlichen Variabilität, die ihn interessiert, die Nutzung von digitalisierten Textdaten und entsprechender Analysesoftware unumgänglich ist. </a:t>
            </a:r>
            <a:br>
              <a:rPr sz="2000"/>
            </a:br>
            <a:br>
              <a:rPr sz="2000"/>
            </a:br>
            <a:r>
              <a:rPr b="0" lang="de-DE" sz="2000" spc="-1" strike="noStrike">
                <a:solidFill>
                  <a:srgbClr val="330033"/>
                </a:solidFill>
                <a:latin typeface="Times New Roman"/>
              </a:rPr>
              <a:t>6. Unter digitalisierten Sprachdaten versteht er sowohl traditionelle Korpora (d.h. Datenbanken, die ausdrücklich zum Zweck der linguistischen Analyse zusammengestellt wurden) als auch weniger strukturierte digitale Textarchive – das World Wide Web mitinbegriffen.</a:t>
            </a:r>
            <a:endParaRPr b="0" lang="en-US" sz="2000" spc="-1" strike="noStrike">
              <a:solidFill>
                <a:srgbClr val="330033"/>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2T17:52:30Z</dcterms:created>
  <dc:creator>www.PHILka.RU</dc:creator>
  <dc:description/>
  <dc:language>en-US</dc:language>
  <cp:lastModifiedBy>www.PHILka.RU</cp:lastModifiedBy>
  <dcterms:modified xsi:type="dcterms:W3CDTF">2011-05-17T20:33:58Z</dcterms:modified>
  <cp:revision>7</cp:revision>
  <dc:subject/>
  <dc:title>Надання першої допомоги при ураженні електричним струмом</dc:title>
</cp:coreProperties>
</file>