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FC8912-9624-4C57-BF42-7739743615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692A5-A13F-462B-9511-1F2258887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44162D-023F-41DC-A637-D87C55AA31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05626D-59CE-43CD-A78B-57F823B59A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21E595-5115-4B36-AD54-0C85F55C40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F644DB-E5F7-4076-9A16-0AFA4AF8F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D76F56-192D-4B1C-9A69-B8D31F3E68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6C2BE7-B124-486C-8462-F06E5639C1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0B0BAB-D10B-4214-8BE8-864AA74E92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C03429-FA86-4F64-A610-022B29D538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6CD58-6D54-4E63-998A-A0BC79C8F7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1593C-F49D-4760-8821-089D7D70A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9AF1B-0553-4398-ABEF-8B0C246D7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D8BA3-5B14-4167-8B0C-60CEE7DE0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F062D6-E8A3-49DF-A71D-05CD4C7AC3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FCBADA-B92A-43A6-BFED-CD4E88B4D2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222179-0887-4F81-A3D8-4DB5DD5174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7"/>
          </p:nvPr>
        </p:nvSpPr>
        <p:spPr/>
        <p:txBody>
          <a:bodyPr/>
          <a:p>
            <a:fld id="{75E5020D-E4C9-4B0B-BE2C-8C7379CB9031}"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9"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BAB9A7DD-792C-446C-9360-1B21AF2FBCF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A1B6A6CD-89D5-427F-BC82-0EA0E615C71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966D72E8-3D33-4A03-973C-B6A3DE55547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7A1BA3CB-16B1-4228-B706-5E08B4ED9E6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713FE-E94F-4850-BC7C-D4AD675C6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4168C497-2A0B-404A-9516-9037D4E45A2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1232C9E0-F052-45CC-A11B-C54013B654A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B84FA131-A950-4903-9896-731AF8E2EB3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E8C8EC05-743F-45AB-9A10-FB69548D4B7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0"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2C62EE2C-2333-4013-8802-6B8C3257109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7"/>
          </p:nvPr>
        </p:nvSpPr>
        <p:spPr/>
        <p:txBody>
          <a:bodyPr/>
          <a:p>
            <a:fld id="{E138A571-CACF-4C75-BC93-69A42788558A}"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8"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7"/>
          </p:nvPr>
        </p:nvSpPr>
        <p:spPr/>
        <p:txBody>
          <a:bodyPr/>
          <a:p>
            <a:fld id="{33B36D35-5886-470A-8A6F-016B5F03106A}"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CD6A26-F6EE-4D99-86AC-68F13A1CEC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2F0D9A-EFBF-4C2F-BD35-E0B7DA9AFE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1DDFFA-E05C-4335-9998-6948EC146F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44318-50DB-4953-9130-176FCD72A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BB7F7D-1A5A-43CE-AAE5-B2C2DE15B8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270347-632B-4716-96C1-1A1A0B0911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60E6FF-7BBF-4DCE-9229-CB49CDBEEE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8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0651C4-1658-4D93-8256-B7365B195D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8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452E38-9106-4C86-85CA-941E19F7AD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16C853-3CF9-43B7-AE56-D81C587007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D1102B-3E5B-4FFA-9702-390819D015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63FD9B-8125-4D6F-BB62-3E0C1AE3C0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0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772FE5-B6B7-48B6-A7F5-77D21D7338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CA2CF5-4D67-4C33-9FB7-A8542D15CB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B9860-8FD9-4DEA-A9E6-CD7FBEF89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FFF244-C25E-466C-BBA7-5B2BCF1607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D4799E-D7FB-41E8-84ED-9D97EEE914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2E2A68-4816-4034-9D71-BED9936037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D4DB81-76C4-4565-A488-0F3B0D3F8D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C70E4A-EEB0-492D-83D5-D3A25968C8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AFF98E-4918-40DE-AA13-9534BDD41F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1BDC5E-B87A-45A5-BE5B-90BF69072D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C36B7C-EB17-4596-A76B-D8A820DD1B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3D000C-A15D-4A12-A1AC-009A18CFD9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19AF9B-A49A-4C47-9C3B-08C83E5DB0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66D1E-454A-4EE2-9DBF-05CD97639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F0FDB0-EDBB-49B5-A27B-3891165E1B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4B7CAB-CB8C-4F90-A1BB-0DD069EEFB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88"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707EB0-9EF1-43FB-AA75-29F923EED6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3A630D-AEED-4AFA-86A0-6C80B463FD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B59615-4BA9-4372-86BF-9CAF84127E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E0A179-1B5D-427A-987B-6EFAB69BA6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89C575-664C-4F11-A51E-A19EB8794D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FBBB71-056B-4BBD-B6F9-03486C3202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3"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263EB0-1C5B-4EE1-94AF-6B0364E19F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7"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9653E1-615C-424C-8208-3C2AB556FB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C69D0-63ED-4711-9FF6-E1ED840E7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9"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0"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C58D3C-2342-43AB-9F71-1FF6CAEE57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5"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89FC57-42A5-41C6-ABA5-B2DC19A409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7"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8"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9"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0"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1"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2"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0217A8-AAE2-4F24-816A-DD0CAE102C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827CAE-C4C9-4E96-B1AE-350713805D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4C6863-2750-48AF-B28C-946F5948A4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0174CF-E504-44B6-8AAE-4DAE9E64DB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EE35E4-5927-4C24-95F1-3649DD97EB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E70C0B-9AD4-40C5-B9F1-8364D92EA2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BDC5E0-2C63-4443-8DF4-B6CD17D755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1E1C7A-F592-4C48-8B69-C22E9B21F0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C7E4A-A694-428F-AC1C-CB9E6DD22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0BE73A-E7BC-4542-A98B-060FFF8AA7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D44A9D-ED2B-422A-8E28-E15829BDAD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266A7A-712C-4D0F-8BBF-C77F611C3E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86804D-83F0-403F-8A57-9D348F79950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6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7B32441-54ED-4EBB-A6B5-8756C26097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9103444-784B-4278-A042-476EECE1072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4"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4BE78F-D38A-402E-9CD9-9E9BA9C711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B7CC5E-E630-466E-8557-7704BF7C31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15D593-E526-4776-ADBD-0D904E516E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81CFF3-BB3F-4F6B-902D-F520C659A4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62C7C-E666-498E-A647-EE9F8A5A5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141C94-710B-40E5-8BC8-74808DD512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9E4485-7BAF-4846-9F3F-63C1A43800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9"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E493EE-7C3E-4F53-9180-1574ED1F8C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3"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F1FE8F-AEE6-44F7-AF43-B3FDB74682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5"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6"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FCBEC6-0769-4646-99A9-DAFFB418EF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1"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20F476C-309E-44FC-9B14-90A8947E4D6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13"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4"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5"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6"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7"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8"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F47963E-C5D9-4DF5-BBFA-23C9D1001C8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DEBAD-A786-4509-B6A2-966F3F89FB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68CDF-EA96-408D-A170-208EC6E1DD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97" name=""/>
          <p:cNvGrpSpPr/>
          <p:nvPr/>
        </p:nvGrpSpPr>
        <p:grpSpPr>
          <a:xfrm>
            <a:off x="-103320" y="1308240"/>
            <a:ext cx="9350640" cy="5632560"/>
            <a:chOff x="-103320" y="1308240"/>
            <a:chExt cx="9350640" cy="5632560"/>
          </a:xfrm>
        </p:grpSpPr>
        <p:sp>
          <p:nvSpPr>
            <p:cNvPr id="98"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1"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2"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43"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4"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5"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6"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47"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8"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9"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1"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2"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53"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4"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5"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6"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7"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8"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9"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60"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61"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2"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3"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4"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5"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6"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68"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9"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0"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1"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2"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3"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4"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5"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6"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7"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8"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9"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0"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1"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2"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3"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4"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85"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86"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7"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8"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9"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97"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98"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9"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0"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1"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02"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3"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04"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05"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6"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7"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8"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09"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10"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11"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2"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3"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14"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15"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6"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7"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18"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19"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0"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21"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22"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3"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4"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5"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6"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7"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8"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9"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0"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1"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2"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3"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4"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5"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36"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7"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38"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9"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0"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41"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2"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3"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4"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5"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6"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7"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8"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9"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0"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51"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52"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53"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4"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5"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6"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7"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58"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9"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60"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1"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2"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3"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4"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5"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6"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67"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8"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9"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0"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1"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2"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3"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4"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5"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6"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284"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85"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6"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7"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8"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89"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0"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1"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4"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5"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7"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8"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12"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3" name="PlaceHolder 1"/>
          <p:cNvSpPr>
            <a:spLocks noGrp="1"/>
          </p:cNvSpPr>
          <p:nvPr>
            <p:ph type="sldNum" idx="7"/>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5A8B9-8215-453F-A447-E4D6F53152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2"/>
          <p:cNvSpPr>
            <a:spLocks noGrp="1"/>
          </p:cNvSpPr>
          <p:nvPr>
            <p:ph type="dt" idx="8"/>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5" name="PlaceHolder 3"/>
          <p:cNvSpPr>
            <a:spLocks noGrp="1"/>
          </p:cNvSpPr>
          <p:nvPr>
            <p:ph type="ftr" idx="9"/>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17"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354" name=""/>
          <p:cNvGrpSpPr/>
          <p:nvPr/>
        </p:nvGrpSpPr>
        <p:grpSpPr>
          <a:xfrm>
            <a:off x="-105120" y="1311120"/>
            <a:ext cx="9350640" cy="5632560"/>
            <a:chOff x="-105120" y="1311120"/>
            <a:chExt cx="9350640" cy="5632560"/>
          </a:xfrm>
        </p:grpSpPr>
        <p:sp>
          <p:nvSpPr>
            <p:cNvPr id="355"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98"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9"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00"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1"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2"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3"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04"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05"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6"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8"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9"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10"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1"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2"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3"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4"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5"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6"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417"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18"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9"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0"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1"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2"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3"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25"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6"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7"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8"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9"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0"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1"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2"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3"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4"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5"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36"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7"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8"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9"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0"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1"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2"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3"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4"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45"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46"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54"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55"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6"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7"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8"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59"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0"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61"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2"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3"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4"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5"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6"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7"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68"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9"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0"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71"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72"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3"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4"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75"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6"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7"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8"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9"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0"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1"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2"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3"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4"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5"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6"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7"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8"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89"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0"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1"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2"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3"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4"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5"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6"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7"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8"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9"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0"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1"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2"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3"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4"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5"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6"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07"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8"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9"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10"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1"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2"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3"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4"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15"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6"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17"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8"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9"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20"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1"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2"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3"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24"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5"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6"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7"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8"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9"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30"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1"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2"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3"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41"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42"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3"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4"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5"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46"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7"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8"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61"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62"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3"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4"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5"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69"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0"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571"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2"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BA49A-7A21-4897-81F4-84A112FBC6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610" name=""/>
          <p:cNvGrpSpPr/>
          <p:nvPr/>
        </p:nvGrpSpPr>
        <p:grpSpPr>
          <a:xfrm>
            <a:off x="4716360" y="5345280"/>
            <a:ext cx="4427640" cy="1512720"/>
            <a:chOff x="4716360" y="5345280"/>
            <a:chExt cx="4427640" cy="1512720"/>
          </a:xfrm>
        </p:grpSpPr>
        <p:sp>
          <p:nvSpPr>
            <p:cNvPr id="61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1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1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627"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628"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29"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D8CAD-A685-4030-ADC6-6329D7B20C4E}"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63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667" name=""/>
          <p:cNvGrpSpPr/>
          <p:nvPr/>
        </p:nvGrpSpPr>
        <p:grpSpPr>
          <a:xfrm>
            <a:off x="4716360" y="5345280"/>
            <a:ext cx="4427640" cy="1512720"/>
            <a:chOff x="4716360" y="5345280"/>
            <a:chExt cx="4427640" cy="1512720"/>
          </a:xfrm>
        </p:grpSpPr>
        <p:sp>
          <p:nvSpPr>
            <p:cNvPr id="66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7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7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684"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685"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86"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3B525-D0EA-4E75-A409-929F34DB0216}"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723" name=""/>
          <p:cNvGrpSpPr/>
          <p:nvPr/>
        </p:nvGrpSpPr>
        <p:grpSpPr>
          <a:xfrm>
            <a:off x="0" y="0"/>
            <a:ext cx="8686800" cy="4876920"/>
            <a:chOff x="0" y="0"/>
            <a:chExt cx="8686800" cy="4876920"/>
          </a:xfrm>
        </p:grpSpPr>
        <p:sp>
          <p:nvSpPr>
            <p:cNvPr id="724"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25" name=""/>
            <p:cNvGrpSpPr/>
            <p:nvPr/>
          </p:nvGrpSpPr>
          <p:grpSpPr>
            <a:xfrm>
              <a:off x="380880" y="1417680"/>
              <a:ext cx="8305920" cy="182520"/>
              <a:chOff x="380880" y="1417680"/>
              <a:chExt cx="8305920" cy="182520"/>
            </a:xfrm>
          </p:grpSpPr>
          <p:sp>
            <p:nvSpPr>
              <p:cNvPr id="726"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7"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72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30" name="PlaceHolder 3"/>
          <p:cNvSpPr>
            <a:spLocks noGrp="1"/>
          </p:cNvSpPr>
          <p:nvPr>
            <p:ph type="dt" idx="19"/>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31" name="PlaceHolder 4"/>
          <p:cNvSpPr>
            <a:spLocks noGrp="1"/>
          </p:cNvSpPr>
          <p:nvPr>
            <p:ph type="ftr" idx="20"/>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32" name="PlaceHolder 5"/>
          <p:cNvSpPr>
            <a:spLocks noGrp="1"/>
          </p:cNvSpPr>
          <p:nvPr>
            <p:ph type="sldNum" idx="21"/>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14969-A796-4DB6-8FCA-2EB8A2FAE14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33"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770" name=""/>
          <p:cNvGrpSpPr/>
          <p:nvPr/>
        </p:nvGrpSpPr>
        <p:grpSpPr>
          <a:xfrm>
            <a:off x="0" y="0"/>
            <a:ext cx="8763120" cy="5943600"/>
            <a:chOff x="0" y="0"/>
            <a:chExt cx="8763120" cy="5943600"/>
          </a:xfrm>
        </p:grpSpPr>
        <p:sp>
          <p:nvSpPr>
            <p:cNvPr id="771"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72" name=""/>
            <p:cNvGrpSpPr/>
            <p:nvPr/>
          </p:nvGrpSpPr>
          <p:grpSpPr>
            <a:xfrm>
              <a:off x="0" y="3505320"/>
              <a:ext cx="8763120" cy="2438280"/>
              <a:chOff x="0" y="3505320"/>
              <a:chExt cx="8763120" cy="2438280"/>
            </a:xfrm>
          </p:grpSpPr>
          <p:sp>
            <p:nvSpPr>
              <p:cNvPr id="773"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4"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5"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76" name=""/>
            <p:cNvGrpSpPr/>
            <p:nvPr/>
          </p:nvGrpSpPr>
          <p:grpSpPr>
            <a:xfrm>
              <a:off x="635040" y="533520"/>
              <a:ext cx="8077320" cy="304560"/>
              <a:chOff x="635040" y="533520"/>
              <a:chExt cx="8077320" cy="304560"/>
            </a:xfrm>
          </p:grpSpPr>
          <p:sp>
            <p:nvSpPr>
              <p:cNvPr id="777"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8"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79"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780" name="PlaceHolder 2"/>
          <p:cNvSpPr>
            <a:spLocks noGrp="1"/>
          </p:cNvSpPr>
          <p:nvPr>
            <p:ph type="dt" idx="22"/>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81" name="PlaceHolder 3"/>
          <p:cNvSpPr>
            <a:spLocks noGrp="1"/>
          </p:cNvSpPr>
          <p:nvPr>
            <p:ph type="ftr" idx="23"/>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2" name="PlaceHolder 4"/>
          <p:cNvSpPr>
            <a:spLocks noGrp="1"/>
          </p:cNvSpPr>
          <p:nvPr>
            <p:ph type="sldNum" idx="24"/>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0A43D-E10E-4D2A-9440-9DC4AA32FC0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dfdef6"/>
                </a:solidFill>
                <a:latin typeface="Arial"/>
              </a:rPr>
              <a:t>Vier Seiten einer Nachricht nach Schulz von Thun</a:t>
            </a:r>
            <a:endParaRPr b="0" lang="en-US" sz="4000" spc="-1" strike="noStrike">
              <a:solidFill>
                <a:srgbClr val="dfdef6"/>
              </a:solidFill>
              <a:latin typeface="Arial"/>
            </a:endParaRPr>
          </a:p>
        </p:txBody>
      </p:sp>
      <p:sp>
        <p:nvSpPr>
          <p:cNvPr id="820" name="PlaceHolder 2"/>
          <p:cNvSpPr>
            <a:spLocks noGrp="1"/>
          </p:cNvSpPr>
          <p:nvPr>
            <p:ph/>
          </p:nvPr>
        </p:nvSpPr>
        <p:spPr>
          <a:xfrm>
            <a:off x="456840" y="2492280"/>
            <a:ext cx="8218440" cy="3641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   </a:t>
            </a:r>
            <a:r>
              <a:rPr b="0" lang="de-DE" sz="2800" spc="-1" strike="noStrike">
                <a:solidFill>
                  <a:srgbClr val="ffffff"/>
                </a:solidFill>
                <a:latin typeface="Arial"/>
              </a:rPr>
              <a:t>Im Mittelpunkt einer Kommunikation steht die </a:t>
            </a:r>
            <a:r>
              <a:rPr b="1" lang="de-DE" sz="2800" spc="-1" strike="noStrike" u="sng">
                <a:solidFill>
                  <a:srgbClr val="ffffff"/>
                </a:solidFill>
                <a:uFillTx/>
                <a:latin typeface="Arial"/>
              </a:rPr>
              <a:t>Nachricht</a:t>
            </a:r>
            <a:r>
              <a:rPr b="0" lang="de-DE" sz="2800" spc="-1" strike="noStrike">
                <a:solidFill>
                  <a:srgbClr val="ffffff"/>
                </a:solidFill>
                <a:latin typeface="Arial"/>
              </a:rPr>
              <a:t>, die der Sender an den Empfänger sendet. Eine Nachricht ist ein vielseitiges Paket mit sprachlichen und nicht-sprachlichen Anteilen. Sie kann gleichzeitig viele Botschaften enthalten. Jeder Sender, ob er dies beabsichtigt oder nicht, sendet immer gleichzeitig alle diese Botschaft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819"/>
                                        </p:tgtEl>
                                        <p:attrNameLst>
                                          <p:attrName>style.visibility</p:attrName>
                                        </p:attrNameLst>
                                      </p:cBhvr>
                                      <p:to>
                                        <p:strVal val="visible"/>
                                      </p:to>
                                    </p:set>
                                    <p:animEffect filter="dissolve" transition="in">
                                      <p:cBhvr additive="repl">
                                        <p:cTn id="7" dur="500"/>
                                        <p:tgtEl>
                                          <p:spTgt spid="81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820">
                                            <p:txEl>
                                              <p:pRg st="0" end="0"/>
                                            </p:txEl>
                                          </p:spTgt>
                                        </p:tgtEl>
                                        <p:attrNameLst>
                                          <p:attrName>style.visibility</p:attrName>
                                        </p:attrNameLst>
                                      </p:cBhvr>
                                      <p:to>
                                        <p:strVal val="visible"/>
                                      </p:to>
                                    </p:set>
                                    <p:animEffect filter="dissolve" transition="in">
                                      <p:cBhvr additive="repl">
                                        <p:cTn id="12" dur="500"/>
                                        <p:tgtEl>
                                          <p:spTgt spid="8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821" name="PlaceHolder 1"/>
          <p:cNvSpPr>
            <a:spLocks noGrp="1"/>
          </p:cNvSpPr>
          <p:nvPr>
            <p:ph/>
          </p:nvPr>
        </p:nvSpPr>
        <p:spPr>
          <a:xfrm>
            <a:off x="468000" y="3499920"/>
            <a:ext cx="8218440" cy="2808360"/>
          </a:xfrm>
          <a:prstGeom prst="rect">
            <a:avLst/>
          </a:prstGeom>
          <a:noFill/>
          <a:ln w="0">
            <a:noFill/>
          </a:ln>
        </p:spPr>
        <p:txBody>
          <a:bodyPr lIns="90000" rIns="90000" tIns="46800" bIns="46800" anchor="t">
            <a:normAutofit/>
          </a:bodyPr>
          <a:p>
            <a:pPr marL="343080" indent="-343080">
              <a:lnSpc>
                <a:spcPct val="80000"/>
              </a:lnSpc>
              <a:spcBef>
                <a:spcPts val="34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achinformation ist das, worüber Sie informieren - der Inhalt Ihrer Nachrich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elbstoffenbarung ist das, was Sie von sich kundgeben - Ihre Absichten und Gefühle</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3.   Die Beziehungsbotschaft ist das, was Sie von Ihrem Gesprächspartner halten und wie Sie zueinander stehen - ausgedrückt durch die Art der Formulierung und Ihren Tonfall.</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4.   Der Appell ist das, wozu Sie den Ihrem Gesprächspartner veranlassen möchten.</a:t>
            </a: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timme, Betonung, Aussprache, Mimik und Gestik des Senders entscheiden oft darüber, wie eine Nachricht interpretiert wird.</a:t>
            </a:r>
            <a:endParaRPr b="0" lang="en-US" sz="1400" spc="-1" strike="noStrike">
              <a:solidFill>
                <a:srgbClr val="eaeaea"/>
              </a:solidFill>
              <a:latin typeface="Verdana"/>
            </a:endParaRPr>
          </a:p>
        </p:txBody>
      </p:sp>
      <p:pic>
        <p:nvPicPr>
          <p:cNvPr id="822" name="" descr=""/>
          <p:cNvPicPr/>
          <p:nvPr/>
        </p:nvPicPr>
        <p:blipFill>
          <a:blip r:embed="rId1"/>
          <a:stretch/>
        </p:blipFill>
        <p:spPr>
          <a:xfrm>
            <a:off x="468360" y="476280"/>
            <a:ext cx="8207280" cy="29527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821">
                                            <p:txEl>
                                              <p:pRg st="0" end="0"/>
                                            </p:txEl>
                                          </p:spTgt>
                                        </p:tgtEl>
                                        <p:attrNameLst>
                                          <p:attrName>style.visibility</p:attrName>
                                        </p:attrNameLst>
                                      </p:cBhvr>
                                      <p:to>
                                        <p:strVal val="visible"/>
                                      </p:to>
                                    </p:set>
                                    <p:animEffect filter="fade" transition="in">
                                      <p:cBhvr additive="repl">
                                        <p:cTn id="19" dur="2000"/>
                                        <p:tgtEl>
                                          <p:spTgt spid="82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821">
                                            <p:txEl>
                                              <p:pRg st="3" end="3"/>
                                            </p:txEl>
                                          </p:spTgt>
                                        </p:tgtEl>
                                        <p:attrNameLst>
                                          <p:attrName>style.visibility</p:attrName>
                                        </p:attrNameLst>
                                      </p:cBhvr>
                                      <p:to>
                                        <p:strVal val="visible"/>
                                      </p:to>
                                    </p:set>
                                    <p:animEffect filter="fade" transition="in">
                                      <p:cBhvr additive="repl">
                                        <p:cTn id="24" dur="2000"/>
                                        <p:tgtEl>
                                          <p:spTgt spid="821">
                                            <p:txEl>
                                              <p:pRg st="3" end="3"/>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821">
                                            <p:txEl>
                                              <p:pRg st="5" end="5"/>
                                            </p:txEl>
                                          </p:spTgt>
                                        </p:tgtEl>
                                        <p:attrNameLst>
                                          <p:attrName>style.visibility</p:attrName>
                                        </p:attrNameLst>
                                      </p:cBhvr>
                                      <p:to>
                                        <p:strVal val="visible"/>
                                      </p:to>
                                    </p:set>
                                    <p:animEffect filter="fade" transition="in">
                                      <p:cBhvr additive="repl">
                                        <p:cTn id="29" dur="2000"/>
                                        <p:tgtEl>
                                          <p:spTgt spid="821">
                                            <p:txEl>
                                              <p:pRg st="5" end="5"/>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821">
                                            <p:txEl>
                                              <p:pRg st="6" end="6"/>
                                            </p:txEl>
                                          </p:spTgt>
                                        </p:tgtEl>
                                        <p:attrNameLst>
                                          <p:attrName>style.visibility</p:attrName>
                                        </p:attrNameLst>
                                      </p:cBhvr>
                                      <p:to>
                                        <p:strVal val="visible"/>
                                      </p:to>
                                    </p:set>
                                    <p:animEffect filter="fade" transition="in">
                                      <p:cBhvr additive="repl">
                                        <p:cTn id="34" dur="2000"/>
                                        <p:tgtEl>
                                          <p:spTgt spid="821">
                                            <p:txEl>
                                              <p:pRg st="6" end="6"/>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821">
                                            <p:txEl>
                                              <p:pRg st="8" end="8"/>
                                            </p:txEl>
                                          </p:spTgt>
                                        </p:tgtEl>
                                        <p:attrNameLst>
                                          <p:attrName>style.visibility</p:attrName>
                                        </p:attrNameLst>
                                      </p:cBhvr>
                                      <p:to>
                                        <p:strVal val="visible"/>
                                      </p:to>
                                    </p:set>
                                    <p:animEffect filter="fade" transition="in">
                                      <p:cBhvr additive="repl">
                                        <p:cTn id="39" dur="2000"/>
                                        <p:tgtEl>
                                          <p:spTgt spid="82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823" name=""/>
          <p:cNvSpPr txBox="1"/>
          <p:nvPr/>
        </p:nvSpPr>
        <p:spPr>
          <a:xfrm>
            <a:off x="3428640" y="6244920"/>
            <a:ext cx="289548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4" name=""/>
          <p:cNvSpPr txBox="1"/>
          <p:nvPr/>
        </p:nvSpPr>
        <p:spPr>
          <a:xfrm>
            <a:off x="837720" y="6244920"/>
            <a:ext cx="190188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25" name="PlaceHolder 1"/>
          <p:cNvSpPr>
            <a:spLocks noGrp="1"/>
          </p:cNvSpPr>
          <p:nvPr>
            <p:ph type="title"/>
          </p:nvPr>
        </p:nvSpPr>
        <p:spPr>
          <a:xfrm>
            <a:off x="457200" y="244080"/>
            <a:ext cx="8075520" cy="1384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Die Vier Seiten einer Nachricht aus der Sicht des Empfängers</a:t>
            </a:r>
            <a:endParaRPr b="1" lang="en-US" sz="2400" spc="-1" strike="noStrike">
              <a:solidFill>
                <a:srgbClr val="ffffb7"/>
              </a:solidFill>
              <a:latin typeface="Arial Black"/>
            </a:endParaRPr>
          </a:p>
        </p:txBody>
      </p:sp>
      <p:sp>
        <p:nvSpPr>
          <p:cNvPr id="826" name="PlaceHolder 2"/>
          <p:cNvSpPr>
            <a:spLocks noGrp="1"/>
          </p:cNvSpPr>
          <p:nvPr>
            <p:ph/>
          </p:nvPr>
        </p:nvSpPr>
        <p:spPr>
          <a:xfrm>
            <a:off x="468000" y="1988640"/>
            <a:ext cx="8280360" cy="45817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er Empfänger nimmt eine Nachricht auf vier Ebenen oder mit "vier Ohren" wahr. Er kann sich beim Empfang einer Nachricht folgende Fragen stellen.</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ie ist der Sachverhalt zu verstehen?</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as ist das für einer? Was ist mit ihm?</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ie redet der eigentlich mit mir?</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as soll ich aufgrund seiner Mitteilung tun?</a:t>
            </a:r>
            <a:endParaRPr b="0" lang="en-US" sz="1800" spc="-1" strike="noStrike">
              <a:solidFill>
                <a:srgbClr val="ffffff"/>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er Empfänger bestimmt den Gesprächsverlauf entscheidend mit, je nachdem mit welchem der "vier Ohren" er vorrangig hör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Zu Kommunikationsstörungen kann es führen wenn der Empfänger mit einem Ohr besonders gut hört. Manchmal ist das "dritte Ohr", das "Beziehungs-Ohr", beim Empfänger besonders groß und überempfindlich. Solche Personen nehmen oft alles persönlich und sind schnell beleidigt.</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395280" y="8366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cc"/>
                </a:solidFill>
                <a:latin typeface="Arial"/>
              </a:rPr>
              <a:t>Kommunikationsmodell von Stefan Pfänder</a:t>
            </a:r>
            <a:r>
              <a:rPr b="0" lang="ru-RU" sz="3600" spc="-1" strike="noStrike">
                <a:solidFill>
                  <a:srgbClr val="ffffcc"/>
                </a:solidFill>
                <a:latin typeface="Arial"/>
              </a:rPr>
              <a:t>(</a:t>
            </a:r>
            <a:r>
              <a:rPr b="0" lang="de-DE" sz="3600" spc="-1" strike="noStrike">
                <a:solidFill>
                  <a:srgbClr val="ffffcc"/>
                </a:solidFill>
                <a:latin typeface="Arial"/>
              </a:rPr>
              <a:t>FRIAS</a:t>
            </a:r>
            <a:r>
              <a:rPr b="0" lang="ru-RU" sz="3600" spc="-1" strike="noStrike">
                <a:solidFill>
                  <a:srgbClr val="ffffcc"/>
                </a:solidFill>
                <a:latin typeface="Arial"/>
              </a:rPr>
              <a:t>-</a:t>
            </a:r>
            <a:r>
              <a:rPr b="0" lang="de-DE" sz="3600" spc="-1" strike="noStrike">
                <a:solidFill>
                  <a:srgbClr val="ffffcc"/>
                </a:solidFill>
                <a:latin typeface="Arial"/>
              </a:rPr>
              <a:t>Projekt</a:t>
            </a:r>
            <a:r>
              <a:rPr b="0" lang="ru-RU" sz="3600" spc="-1" strike="noStrike">
                <a:solidFill>
                  <a:srgbClr val="ffffcc"/>
                </a:solidFill>
                <a:latin typeface="Arial"/>
              </a:rPr>
              <a:t>) </a:t>
            </a:r>
            <a:br>
              <a:rPr sz="3600"/>
            </a:br>
            <a:r>
              <a:rPr b="0" lang="en-US" sz="1600" spc="-1" strike="noStrike">
                <a:solidFill>
                  <a:srgbClr val="ffffcc"/>
                </a:solidFill>
                <a:latin typeface="Arial"/>
              </a:rPr>
              <a:t>World languages – digital languages (English, French and Spanish)</a:t>
            </a:r>
            <a:r>
              <a:rPr b="0" lang="en-US" sz="4000" spc="-1" strike="noStrike">
                <a:solidFill>
                  <a:srgbClr val="ffffcc"/>
                </a:solidFill>
                <a:latin typeface="Arial"/>
              </a:rPr>
              <a:t> </a:t>
            </a:r>
            <a:endParaRPr b="0" lang="en-US" sz="4000" spc="-1" strike="noStrike">
              <a:solidFill>
                <a:srgbClr val="ffffcc"/>
              </a:solidFill>
              <a:latin typeface="Arial"/>
            </a:endParaRPr>
          </a:p>
        </p:txBody>
      </p:sp>
      <p:sp>
        <p:nvSpPr>
          <p:cNvPr id="828" name="PlaceHolder 2"/>
          <p:cNvSpPr>
            <a:spLocks noGrp="1"/>
          </p:cNvSpPr>
          <p:nvPr>
            <p:ph/>
          </p:nvPr>
        </p:nvSpPr>
        <p:spPr>
          <a:xfrm>
            <a:off x="324000" y="2392200"/>
            <a:ext cx="8424720" cy="3989520"/>
          </a:xfrm>
          <a:prstGeom prst="rect">
            <a:avLst/>
          </a:prstGeom>
          <a:noFill/>
          <a:ln w="0">
            <a:noFill/>
          </a:ln>
        </p:spPr>
        <p:txBody>
          <a:bodyPr lIns="90000" rIns="90000" tIns="46800" bIns="46800" anchor="t">
            <a:normAutofit/>
          </a:bodyPr>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Das FRIAS-Projekt verfolgt das Ziel gegenwärtige Prozesse der Diversifizierung sowie der plurizentrischen Standardisierung in den drei Weltsprachen Englisch, Französisch und Spanisch zu erforschen. </a:t>
            </a:r>
            <a:endParaRPr b="0" lang="en-US" sz="1600" spc="-1" strike="noStrike">
              <a:solidFill>
                <a:srgbClr val="eaeaea"/>
              </a:solidFill>
              <a:latin typeface="Verdana"/>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Traditionelle soziolinguistische und variationslinguistische Forschungsschwerpunkte, wie beispielsweise Variationsanalysen in spontaner Gesprächskommunikation oder Vergleiche des Sprachgebrauchs in unterschiedlichen Registern und Textsorten, erweitert er durch den Einbezug der computergestützten Kommunikation.</a:t>
            </a:r>
            <a:endParaRPr b="0" lang="en-US" sz="1600" spc="-1" strike="noStrike">
              <a:solidFill>
                <a:srgbClr val="eaeaea"/>
              </a:solidFill>
              <a:latin typeface="Verdana"/>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Insbesondere bezieht er bei den Arbeiten auch die bewusste rhetorisch-strategische und oft stilisierte Verwendung von nicht-standardisierten Varietäten mit ein, da diese Dimension essentiell ist für ein Verständnis unseres gegenwärtigen kommunikativen „Ökosystems“, das einerseits durch eine weltweite linguistische Homogenisierung, andererseits durch eine rasche Verbreitung und hohe Sichtbarkeit ausgewählter umgangssprachlicher Merkmale und Stile charakterisiert wird. </a:t>
            </a:r>
            <a:endParaRPr b="0" lang="en-US" sz="1600" spc="-1" strike="noStrike">
              <a:solidFill>
                <a:srgbClr val="eaeaea"/>
              </a:solidFill>
              <a:latin typeface="Verdana"/>
            </a:endParaRPr>
          </a:p>
        </p:txBody>
      </p:sp>
    </p:spTree>
  </p:cSld>
  <p:transition>
    <p:wipe dir="d"/>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37">
                                  <p:stCondLst>
                                    <p:cond delay="0"/>
                                  </p:stCondLst>
                                  <p:childTnLst>
                                    <p:set>
                                      <p:cBhvr>
                                        <p:cTn id="45" dur="1" fill="hold">
                                          <p:stCondLst>
                                            <p:cond delay="0"/>
                                          </p:stCondLst>
                                        </p:cTn>
                                        <p:tgtEl>
                                          <p:spTgt spid="827"/>
                                        </p:tgtEl>
                                        <p:attrNameLst>
                                          <p:attrName>style.visibility</p:attrName>
                                        </p:attrNameLst>
                                      </p:cBhvr>
                                      <p:to>
                                        <p:strVal val="visible"/>
                                      </p:to>
                                    </p:set>
                                    <p:animEffect filter="fade" transition="in">
                                      <p:cBhvr additive="repl">
                                        <p:cTn id="46" dur="1000"/>
                                        <p:tgtEl>
                                          <p:spTgt spid="827"/>
                                        </p:tgtEl>
                                      </p:cBhvr>
                                    </p:animEffect>
                                    <p:anim calcmode="lin" valueType="num">
                                      <p:cBhvr additive="repl">
                                        <p:cTn id="47" dur="1000" fill="hold"/>
                                        <p:tgtEl>
                                          <p:spTgt spid="827"/>
                                        </p:tgtEl>
                                        <p:attrNameLst>
                                          <p:attrName>ppt_x</p:attrName>
                                        </p:attrNameLst>
                                      </p:cBhvr>
                                      <p:tavLst>
                                        <p:tav tm="0">
                                          <p:val>
                                            <p:strVal val="#ppt_x"/>
                                          </p:val>
                                        </p:tav>
                                        <p:tav tm="100000">
                                          <p:val>
                                            <p:strVal val="#ppt_x"/>
                                          </p:val>
                                        </p:tav>
                                      </p:tavLst>
                                    </p:anim>
                                    <p:anim calcmode="lin" valueType="num">
                                      <p:cBhvr additive="repl">
                                        <p:cTn id="48" dur="898" fill="hold"/>
                                        <p:tgtEl>
                                          <p:spTgt spid="827"/>
                                        </p:tgtEl>
                                        <p:attrNameLst>
                                          <p:attrName>ppt_y</p:attrName>
                                        </p:attrNameLst>
                                      </p:cBhvr>
                                      <p:tavLst>
                                        <p:tav tm="0">
                                          <p:val>
                                            <p:strVal val="#ppt_y+1"/>
                                          </p:val>
                                        </p:tav>
                                        <p:tav tm="100000">
                                          <p:val>
                                            <p:strVal val="#ppt_y-.03"/>
                                          </p:val>
                                        </p:tav>
                                      </p:tavLst>
                                    </p:anim>
                                    <p:anim calcmode="lin" valueType="num">
                                      <p:cBhvr additive="repl">
                                        <p:cTn id="49" dur="100" fill="hold">
                                          <p:stCondLst>
                                            <p:cond delay="898"/>
                                          </p:stCondLst>
                                        </p:cTn>
                                        <p:tgtEl>
                                          <p:spTgt spid="82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79280" y="333000"/>
            <a:ext cx="8640720" cy="604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0033"/>
                </a:solidFill>
                <a:latin typeface="Times New Roman"/>
              </a:rPr>
              <a:t>4. Die Arbeit beruht außerdem auf der Überzeugung, dass der systematische Vergleich der Entwicklung von drei Weltsprachen unter den Bedingungen globaler bzw. globalisierter Kommunikation zu neuen und übergreifenden theoretischen Erkenntnissen führen wird, zumal vorangegangene Untersuchungen zum Englischen, Französischen oder Spanischen als Weltsprache weitestgehend in disziplinärer Isolation betrieben wurden.</a:t>
            </a:r>
            <a:br>
              <a:rPr sz="2000"/>
            </a:br>
            <a:br>
              <a:rPr sz="2000"/>
            </a:br>
            <a:r>
              <a:rPr b="0" lang="de-DE" sz="2000" spc="-1" strike="noStrike">
                <a:solidFill>
                  <a:srgbClr val="330033"/>
                </a:solidFill>
                <a:latin typeface="Times New Roman"/>
              </a:rPr>
              <a:t>5. Methodisch ist er der Überzeugung, dass für eine systematische und vollständige empirische Beschreibung der sprachlichen Variabilität, die ihn interessiert, die Nutzung von digitalisierten Textdaten und entsprechender Analysesoftware unumgänglich ist. </a:t>
            </a:r>
            <a:br>
              <a:rPr sz="2000"/>
            </a:br>
            <a:br>
              <a:rPr sz="2000"/>
            </a:br>
            <a:r>
              <a:rPr b="0" lang="de-DE" sz="2000" spc="-1" strike="noStrike">
                <a:solidFill>
                  <a:srgbClr val="330033"/>
                </a:solidFill>
                <a:latin typeface="Times New Roman"/>
              </a:rPr>
              <a:t>6. Unter digitalisierten Sprachdaten versteht er sowohl traditionelle Korpora (d.h. Datenbanken, die ausdrücklich zum Zweck der linguistischen Analyse zusammengestellt wurden) als auch weniger strukturierte digitale Textarchive – das World Wide Web mitinbegriffen.</a:t>
            </a:r>
            <a:endParaRPr b="0" lang="en-US" sz="2000" spc="-1" strike="noStrike">
              <a:solidFill>
                <a:srgbClr val="330033"/>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2T17:52:30Z</dcterms:created>
  <dc:creator>www.PHILka.RU</dc:creator>
  <dc:description/>
  <dc:language>en-US</dc:language>
  <cp:lastModifiedBy>www.PHILka.RU</cp:lastModifiedBy>
  <dcterms:modified xsi:type="dcterms:W3CDTF">2011-05-17T20:33:58Z</dcterms:modified>
  <cp:revision>7</cp:revision>
  <dc:subject/>
  <dc:title>Надання першої допомоги при ураженні електричним струмом</dc:title>
</cp:coreProperties>
</file>