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82004-D3ED-4B05-8228-CABDC245F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93B0C-93CC-49A0-AC85-2ED12C7E0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A0449-974D-470C-8529-0BF08580F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7B2E4-A626-4C0D-A2BA-1545543BF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F43BE-84E4-4DEA-9C63-E427317CE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8334E-9427-4471-84CF-F31752E09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E2DF4-746E-4E59-B8D4-8891BD2B0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4B65D-B202-40DB-B1C9-D906A32E8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E5B87-D499-4843-A5AF-96AF0FE0D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EB463-D558-4454-AF9D-CFD4E8626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C046A-61B7-47FB-8274-6FB623ECA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03B5B-EAC5-4056-9DBD-C172B467F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48E54-CC31-4CD4-8027-385970551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F65CB-F391-422E-B1D2-E0D4CB025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71903-4F59-4CEE-8ABA-450F14297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2786A-3F75-4F47-AA57-B3D19C484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7DCE6-1C66-4251-B97F-DDACE3378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DDF5F530-B1E4-407E-8FBF-CF14BC5110F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B3759A34-82C3-4DF7-8A1C-BCEB051E18D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98E15327-5F6F-4ABE-941F-4FB588AB64B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5A4913DE-D5C7-4583-A40D-5EC511B21DC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BAC5C7B4-4034-4369-8253-AF4AB33F9E8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1BE22-8B8A-4710-AB5C-119E7E442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3C90FCA5-0127-473F-9F00-E3049D1591B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9CFA9BF0-ED56-4E04-B02B-8111F350D46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C4080E15-EFC7-4C69-B01D-A76A7DE5468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CA99590-E902-499C-A2C9-58EE6AC0C74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AAE2C807-DF7D-4C1C-981A-D6A28C8B2C7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33D5A6C2-7C4D-4128-80DD-B4C623C29C6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1862D639-6D2F-4DED-BD39-0FF0B44891E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64504F-B891-4152-9C71-705FCEDAA4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0E2246-144A-4075-8A63-DCC8B2A58D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5C7A2-E54E-4FA6-97E0-652130AD00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5089C-6FED-40EA-97F2-523A4FF75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0DCD02-C583-4245-A708-43F39A6F15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880D0-FB8C-4571-9701-8D3791A879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D97A7B-2E07-4BAC-8878-52C97A20E8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076E0F-C26E-485B-8DE7-BF8942CED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77BC8-CABF-40B5-A0EA-2A21F4D7E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7EFF73-2824-4AF8-91C6-9D43BDDB0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44DFAC-CE11-4B7C-9638-A0A338A6AB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1DDFEB-D25B-4048-8C6F-BDDB62E560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EF2C5F-C50C-4526-A43A-B0B8669618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59D336-6C69-4033-A008-2A4EA4424E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40A3E-CA25-478C-9B6E-7FE4985DD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849A6-ABA8-4447-9B67-D588EA73C3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D9252B-34ED-48FC-A570-E74AFEEA9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888B62-1BE3-4925-97EB-33D538D8EB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04E2A9-76AF-4BB3-8BFA-4BD98A64E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E322B-FD82-42F7-A83A-659BD2768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00E8E-229C-4ABD-A1D3-E3164BE7F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38474F-16A8-4233-8A89-0D58D0E56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BCC7D-0114-4E67-AAFD-004081CB6D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C345F0-CBA9-4067-865E-2248E3924C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BC0339-6DF7-48E0-AD33-FABBDE0B59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A5532-418D-4157-9F9D-73C10051E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AF6CC0-BC6B-4AE9-BBA1-CF5E8CDDFD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BB96D1-ECC3-4512-A4BC-15054E6230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6B32AE-676C-461A-918C-B95248A5C4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783F89-30EA-4020-A3AB-9E1EEA25C3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598503-2C2A-45F0-ADD8-3530F38861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7001F8-B9DD-4F10-930E-DEF211CA1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3A3AB5-2AC4-4E04-8353-F541C853FA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288305-336E-4EF9-9E84-2BC5F3891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BDDDE4-1E9C-4E48-9CCC-00A58A4E4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3C0DA9-9D60-4BE8-A416-439965434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AE8E8-AE00-4F73-96D1-93DB03599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26C1CA-A20D-4820-AD02-1B9ECD7FB5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0DA0F9-EEB2-4E77-B381-AE85108DF2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773D31-9365-43A3-B074-46235F16B8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4A172F-730A-4284-9C37-DA4329A1E3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CD0E02-5D3C-4D97-88F6-E8BE47746C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F17C4-0BCC-4DC1-9E71-54B5AEA079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EEA700-FD84-48C8-B87C-D75ABDF4D4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5CA742-750C-4109-8B03-75C2C5B700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A2C5CD-9774-4266-8657-AA7468D5B5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8E4EE-5A5A-4999-ACE2-5D255F4E52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0BB2C-4253-4340-B884-D5787DB9A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96DB92-4CEC-4EFB-AF41-08B26E301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F5BCC-390B-4190-BE72-1083492D1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D7F0C6-DDE7-4570-BD56-2123D896A2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C1C2AC-DB4F-4B30-A876-EA90835E84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57512F-DE60-40BB-9471-C9DB879B75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0143A6-C3A4-45B4-9A36-E396B4F933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D73F3A-39F0-4DE5-9B8D-DDA1AA8D4F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F86F47-D420-482D-82CD-C71E995213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731A16-04A8-4C15-8C66-F5BAA2707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F7DDBE-D90E-436E-B76B-130652B30C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C7383-26B4-438B-BE04-5511CEAA1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AFD3BA-F638-462E-99E9-5369701CC3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8FD2DC-B330-4253-B29F-0258BF3874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56733-79A0-4915-93DB-C7A8EE38B2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171FF9-EE6C-4C1F-B237-519C4FF07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2EC91E-0CE0-4846-9D8E-2195B20EE3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4B61E8-A208-42FE-8FFE-52989F0D07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90F1D7-0331-4CE6-94D1-01B534B6F9B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DE4C-B712-4F63-B728-0B9DD6AC1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799C-0154-4431-A5B3-C5574453B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97" name=""/>
          <p:cNvGrpSpPr/>
          <p:nvPr/>
        </p:nvGrpSpPr>
        <p:grpSpPr>
          <a:xfrm>
            <a:off x="-103320" y="1308240"/>
            <a:ext cx="9350640" cy="5632560"/>
            <a:chOff x="-103320" y="1308240"/>
            <a:chExt cx="9350640" cy="5632560"/>
          </a:xfrm>
        </p:grpSpPr>
        <p:sp>
          <p:nvSpPr>
            <p:cNvPr id="98"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1"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43"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4"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5"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8"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1"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2"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3"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6"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7"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8"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9"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60"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61"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2"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4"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5"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6"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68"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1"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2"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3"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4"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6"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7"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8"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9"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0"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1"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2"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4"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5"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6"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8"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9"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97"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98"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9"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0"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1"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2"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3"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04"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5"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6"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7"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8"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9"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0"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11"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2"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3"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4"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15"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6"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7"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18"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2"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3"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4"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5"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7"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9"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3"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4"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6"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7"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9"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0"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3"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4"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5"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6"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7"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8"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9"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0"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1"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2"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3"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4"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5"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6"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7"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58"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59"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60"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1"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2"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63"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4"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5"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66"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67"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8"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9"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0"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1"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2"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4"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5"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76"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84"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6"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7"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88"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9"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0"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1"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4"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5"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8"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12"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3"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A94B-E8BC-40C7-B433-A06DEAE80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105120" y="1311120"/>
            <a:ext cx="9350640" cy="5632560"/>
            <a:chOff x="-105120" y="1311120"/>
            <a:chExt cx="9350640" cy="5632560"/>
          </a:xfrm>
        </p:grpSpPr>
        <p:sp>
          <p:nvSpPr>
            <p:cNvPr id="355"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0"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4"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5"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8"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10"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1"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2"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3"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4"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5"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6"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417"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8"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0"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1"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2"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3"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25"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6"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7"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8"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9"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1"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2"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3"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5"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36"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7"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8"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9"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0"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1"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2"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3"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5"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6"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5"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8"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59"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1"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2"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3"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64"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5"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6"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67"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68"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9"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0"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1"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72"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3"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4"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75"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8"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9"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0"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4"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5"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6"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9"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0"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1"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3"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6"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7"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9"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0"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2"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3"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4"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5"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6"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7"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08"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9"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0"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1"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2"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3"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4"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6"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7"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8"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19"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0"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1"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2"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23"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24"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5"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6"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7"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8"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29"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30"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2"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3"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41"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2"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3"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4"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5"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6"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8"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1"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2"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3"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4"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5"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69"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71"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9BEC-034A-45BF-9B7A-1FC3AB11C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4716360" y="5345280"/>
            <a:ext cx="4427640" cy="1512720"/>
            <a:chOff x="4716360" y="5345280"/>
            <a:chExt cx="4427640" cy="1512720"/>
          </a:xfrm>
        </p:grpSpPr>
        <p:sp>
          <p:nvSpPr>
            <p:cNvPr id="61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1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1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27"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28"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29"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B695-EF47-4EBF-B58D-8317D20AEB9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4716360" y="5345280"/>
            <a:ext cx="4427640" cy="1512720"/>
            <a:chOff x="4716360" y="5345280"/>
            <a:chExt cx="4427640" cy="1512720"/>
          </a:xfrm>
        </p:grpSpPr>
        <p:sp>
          <p:nvSpPr>
            <p:cNvPr id="66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7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7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68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8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8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3376-475F-478B-89AD-DF69990DB0A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23" name=""/>
          <p:cNvGrpSpPr/>
          <p:nvPr/>
        </p:nvGrpSpPr>
        <p:grpSpPr>
          <a:xfrm>
            <a:off x="0" y="0"/>
            <a:ext cx="8686800" cy="4876920"/>
            <a:chOff x="0" y="0"/>
            <a:chExt cx="8686800" cy="4876920"/>
          </a:xfrm>
        </p:grpSpPr>
        <p:sp>
          <p:nvSpPr>
            <p:cNvPr id="72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25" name=""/>
            <p:cNvGrpSpPr/>
            <p:nvPr/>
          </p:nvGrpSpPr>
          <p:grpSpPr>
            <a:xfrm>
              <a:off x="380880" y="1417680"/>
              <a:ext cx="8305920" cy="182520"/>
              <a:chOff x="380880" y="1417680"/>
              <a:chExt cx="8305920" cy="182520"/>
            </a:xfrm>
          </p:grpSpPr>
          <p:sp>
            <p:nvSpPr>
              <p:cNvPr id="72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30" name="PlaceHolder 3"/>
          <p:cNvSpPr>
            <a:spLocks noGrp="1"/>
          </p:cNvSpPr>
          <p:nvPr>
            <p:ph type="dt" idx="19"/>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1" name="PlaceHolder 4"/>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3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90D1-4C64-4185-AF2A-3E75F3BB13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70" name=""/>
          <p:cNvGrpSpPr/>
          <p:nvPr/>
        </p:nvGrpSpPr>
        <p:grpSpPr>
          <a:xfrm>
            <a:off x="0" y="0"/>
            <a:ext cx="8763120" cy="5943600"/>
            <a:chOff x="0" y="0"/>
            <a:chExt cx="8763120" cy="5943600"/>
          </a:xfrm>
        </p:grpSpPr>
        <p:sp>
          <p:nvSpPr>
            <p:cNvPr id="77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2" name=""/>
            <p:cNvGrpSpPr/>
            <p:nvPr/>
          </p:nvGrpSpPr>
          <p:grpSpPr>
            <a:xfrm>
              <a:off x="0" y="3505320"/>
              <a:ext cx="8763120" cy="2438280"/>
              <a:chOff x="0" y="3505320"/>
              <a:chExt cx="8763120" cy="2438280"/>
            </a:xfrm>
          </p:grpSpPr>
          <p:sp>
            <p:nvSpPr>
              <p:cNvPr id="77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6" name=""/>
            <p:cNvGrpSpPr/>
            <p:nvPr/>
          </p:nvGrpSpPr>
          <p:grpSpPr>
            <a:xfrm>
              <a:off x="635040" y="533520"/>
              <a:ext cx="8077320" cy="304560"/>
              <a:chOff x="635040" y="533520"/>
              <a:chExt cx="8077320" cy="304560"/>
            </a:xfrm>
          </p:grpSpPr>
          <p:sp>
            <p:nvSpPr>
              <p:cNvPr id="77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780" name="PlaceHolder 2"/>
          <p:cNvSpPr>
            <a:spLocks noGrp="1"/>
          </p:cNvSpPr>
          <p:nvPr>
            <p:ph type="dt" idx="22"/>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1" name="PlaceHolder 3"/>
          <p:cNvSpPr>
            <a:spLocks noGrp="1"/>
          </p:cNvSpPr>
          <p:nvPr>
            <p:ph type="ftr" idx="23"/>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2" name="PlaceHolder 4"/>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64B0-8AEB-4A54-A61E-0C55BED153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dfdef6"/>
                </a:solidFill>
                <a:latin typeface="Arial"/>
              </a:rPr>
              <a:t>Vier Seiten einer Nachricht nach Schulz von Thun</a:t>
            </a:r>
            <a:endParaRPr b="0" lang="en-US" sz="4000" spc="-1" strike="noStrike">
              <a:solidFill>
                <a:srgbClr val="dfdef6"/>
              </a:solidFill>
              <a:latin typeface="Arial"/>
            </a:endParaRPr>
          </a:p>
        </p:txBody>
      </p:sp>
      <p:sp>
        <p:nvSpPr>
          <p:cNvPr id="820" name="PlaceHolder 2"/>
          <p:cNvSpPr>
            <a:spLocks noGrp="1"/>
          </p:cNvSpPr>
          <p:nvPr>
            <p:ph/>
          </p:nvPr>
        </p:nvSpPr>
        <p:spPr>
          <a:xfrm>
            <a:off x="456840" y="2492280"/>
            <a:ext cx="8218440" cy="3641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Im Mittelpunkt einer Kommunikation steht die </a:t>
            </a:r>
            <a:r>
              <a:rPr b="1" lang="de-DE" sz="2800" spc="-1" strike="noStrike" u="sng">
                <a:solidFill>
                  <a:srgbClr val="ffffff"/>
                </a:solidFill>
                <a:uFillTx/>
                <a:latin typeface="Arial"/>
              </a:rPr>
              <a:t>Nachricht</a:t>
            </a:r>
            <a:r>
              <a:rPr b="0" lang="de-DE" sz="2800" spc="-1" strike="noStrike">
                <a:solidFill>
                  <a:srgbClr val="ffffff"/>
                </a:solidFill>
                <a:latin typeface="Arial"/>
              </a:rPr>
              <a:t>, die der Sender an den Empfänger sendet. Eine Nachricht ist ein vielseitiges Paket mit sprachlichen und nicht-sprachlichen Anteilen. Sie kann gleichzeitig viele Botschaften enthalten. Jeder Sender, ob er dies beabsichtigt oder nicht, sendet immer gleichzeitig alle diese Botschaf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19"/>
                                        </p:tgtEl>
                                        <p:attrNameLst>
                                          <p:attrName>style.visibility</p:attrName>
                                        </p:attrNameLst>
                                      </p:cBhvr>
                                      <p:to>
                                        <p:strVal val="visible"/>
                                      </p:to>
                                    </p:set>
                                    <p:animEffect filter="dissolve" transition="in">
                                      <p:cBhvr additive="repl">
                                        <p:cTn id="7" dur="500"/>
                                        <p:tgtEl>
                                          <p:spTgt spid="8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20">
                                            <p:txEl>
                                              <p:pRg st="0" end="0"/>
                                            </p:txEl>
                                          </p:spTgt>
                                        </p:tgtEl>
                                        <p:attrNameLst>
                                          <p:attrName>style.visibility</p:attrName>
                                        </p:attrNameLst>
                                      </p:cBhvr>
                                      <p:to>
                                        <p:strVal val="visible"/>
                                      </p:to>
                                    </p:set>
                                    <p:animEffect filter="dissolve" transition="in">
                                      <p:cBhvr additive="repl">
                                        <p:cTn id="12" dur="500"/>
                                        <p:tgtEl>
                                          <p:spTgt spid="8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468000" y="3499920"/>
            <a:ext cx="821844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achinformation ist das, worüber Sie informieren - der Inhalt Ihrer Nachricht</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elbstoffenbarung ist das, was Sie von sich kundgeben - Ihre Absichten und Gefühle</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3.   Die Beziehungsbotschaft ist das, was Sie von Ihrem Gesprächspartner halten und wie Sie zueinander stehen - ausgedrückt durch die Art der Formulierung und Ihren Tonfall.</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4.   Der Appell ist das, wozu Sie den Ihrem Gesprächspartner veranlassen möchten.</a:t>
            </a: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eaeaea"/>
                </a:solidFill>
                <a:latin typeface="Verdana"/>
              </a:rPr>
              <a:t>Die Stimme, Betonung, Aussprache, Mimik und Gestik des Senders entscheiden oft darüber, wie eine Nachricht interpretiert wird.</a:t>
            </a:r>
            <a:endParaRPr b="0" lang="en-US" sz="1400" spc="-1" strike="noStrike">
              <a:solidFill>
                <a:srgbClr val="eaeaea"/>
              </a:solidFill>
              <a:latin typeface="Verdana"/>
            </a:endParaRPr>
          </a:p>
        </p:txBody>
      </p:sp>
      <p:pic>
        <p:nvPicPr>
          <p:cNvPr id="822" name="" descr=""/>
          <p:cNvPicPr/>
          <p:nvPr/>
        </p:nvPicPr>
        <p:blipFill>
          <a:blip r:embed="rId1"/>
          <a:stretch/>
        </p:blipFill>
        <p:spPr>
          <a:xfrm>
            <a:off x="468360" y="476280"/>
            <a:ext cx="8207280" cy="29527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21">
                                            <p:txEl>
                                              <p:pRg st="0" end="0"/>
                                            </p:txEl>
                                          </p:spTgt>
                                        </p:tgtEl>
                                        <p:attrNameLst>
                                          <p:attrName>style.visibility</p:attrName>
                                        </p:attrNameLst>
                                      </p:cBhvr>
                                      <p:to>
                                        <p:strVal val="visible"/>
                                      </p:to>
                                    </p:set>
                                    <p:animEffect filter="fade" transition="in">
                                      <p:cBhvr additive="repl">
                                        <p:cTn id="19" dur="2000"/>
                                        <p:tgtEl>
                                          <p:spTgt spid="82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21">
                                            <p:txEl>
                                              <p:pRg st="3" end="3"/>
                                            </p:txEl>
                                          </p:spTgt>
                                        </p:tgtEl>
                                        <p:attrNameLst>
                                          <p:attrName>style.visibility</p:attrName>
                                        </p:attrNameLst>
                                      </p:cBhvr>
                                      <p:to>
                                        <p:strVal val="visible"/>
                                      </p:to>
                                    </p:set>
                                    <p:animEffect filter="fade" transition="in">
                                      <p:cBhvr additive="repl">
                                        <p:cTn id="24" dur="2000"/>
                                        <p:tgtEl>
                                          <p:spTgt spid="821">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21">
                                            <p:txEl>
                                              <p:pRg st="5" end="5"/>
                                            </p:txEl>
                                          </p:spTgt>
                                        </p:tgtEl>
                                        <p:attrNameLst>
                                          <p:attrName>style.visibility</p:attrName>
                                        </p:attrNameLst>
                                      </p:cBhvr>
                                      <p:to>
                                        <p:strVal val="visible"/>
                                      </p:to>
                                    </p:set>
                                    <p:animEffect filter="fade" transition="in">
                                      <p:cBhvr additive="repl">
                                        <p:cTn id="29" dur="2000"/>
                                        <p:tgtEl>
                                          <p:spTgt spid="821">
                                            <p:txEl>
                                              <p:pRg st="5" end="5"/>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21">
                                            <p:txEl>
                                              <p:pRg st="6" end="6"/>
                                            </p:txEl>
                                          </p:spTgt>
                                        </p:tgtEl>
                                        <p:attrNameLst>
                                          <p:attrName>style.visibility</p:attrName>
                                        </p:attrNameLst>
                                      </p:cBhvr>
                                      <p:to>
                                        <p:strVal val="visible"/>
                                      </p:to>
                                    </p:set>
                                    <p:animEffect filter="fade" transition="in">
                                      <p:cBhvr additive="repl">
                                        <p:cTn id="34" dur="2000"/>
                                        <p:tgtEl>
                                          <p:spTgt spid="821">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21">
                                            <p:txEl>
                                              <p:pRg st="8" end="8"/>
                                            </p:txEl>
                                          </p:spTgt>
                                        </p:tgtEl>
                                        <p:attrNameLst>
                                          <p:attrName>style.visibility</p:attrName>
                                        </p:attrNameLst>
                                      </p:cBhvr>
                                      <p:to>
                                        <p:strVal val="visible"/>
                                      </p:to>
                                    </p:set>
                                    <p:animEffect filter="fade" transition="in">
                                      <p:cBhvr additive="repl">
                                        <p:cTn id="39" dur="2000"/>
                                        <p:tgtEl>
                                          <p:spTgt spid="8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823" name=""/>
          <p:cNvSpPr txBox="1"/>
          <p:nvPr/>
        </p:nvSpPr>
        <p:spPr>
          <a:xfrm>
            <a:off x="3428640" y="6244920"/>
            <a:ext cx="289548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4" name=""/>
          <p:cNvSpPr txBox="1"/>
          <p:nvPr/>
        </p:nvSpPr>
        <p:spPr>
          <a:xfrm>
            <a:off x="83772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457200" y="244080"/>
            <a:ext cx="807552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Vier Seiten einer Nachricht aus der Sicht des Empfängers</a:t>
            </a:r>
            <a:endParaRPr b="1" lang="en-US" sz="2400" spc="-1" strike="noStrike">
              <a:solidFill>
                <a:srgbClr val="ffffb7"/>
              </a:solidFill>
              <a:latin typeface="Arial Black"/>
            </a:endParaRPr>
          </a:p>
        </p:txBody>
      </p:sp>
      <p:sp>
        <p:nvSpPr>
          <p:cNvPr id="826" name="PlaceHolder 2"/>
          <p:cNvSpPr>
            <a:spLocks noGrp="1"/>
          </p:cNvSpPr>
          <p:nvPr>
            <p:ph/>
          </p:nvPr>
        </p:nvSpPr>
        <p:spPr>
          <a:xfrm>
            <a:off x="468000" y="1988640"/>
            <a:ext cx="8280360" cy="45817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nimmt eine Nachricht auf vier Ebenen oder mit "vier Ohren" wahr. Er kann sich beim Empfang einer Nachricht folgende Fragen stell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ist der Sachverhalt zu verstehen?</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ist das für einer? Was ist mit ihm?</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e redet der eigentlich mit mir?</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as soll ich aufgrund seiner Mitteilung tu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er Empfänger bestimmt den Gesprächsverlauf entscheidend mit, je nachdem mit welchem der "vier Ohren" er vorrangig hör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Times New Roman"/>
              </a:rPr>
              <a:t>Zu Kommunikationsstörungen kann es führen wenn der Empfänger mit einem Ohr besonders gut hört. Manchmal ist das "dritte Ohr", das "Beziehungs-Ohr", beim Empfänger besonders groß und überempfindlich. Solche Personen nehmen oft alles persönlich und sind schnell beleidig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95280" y="8366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cc"/>
                </a:solidFill>
                <a:latin typeface="Arial"/>
              </a:rPr>
              <a:t>Kommunikationsmodell von Stefan Pfänder</a:t>
            </a:r>
            <a:r>
              <a:rPr b="0" lang="ru-RU" sz="3600" spc="-1" strike="noStrike">
                <a:solidFill>
                  <a:srgbClr val="ffffcc"/>
                </a:solidFill>
                <a:latin typeface="Arial"/>
              </a:rPr>
              <a:t>(</a:t>
            </a:r>
            <a:r>
              <a:rPr b="0" lang="de-DE" sz="3600" spc="-1" strike="noStrike">
                <a:solidFill>
                  <a:srgbClr val="ffffcc"/>
                </a:solidFill>
                <a:latin typeface="Arial"/>
              </a:rPr>
              <a:t>FRIAS</a:t>
            </a:r>
            <a:r>
              <a:rPr b="0" lang="ru-RU" sz="3600" spc="-1" strike="noStrike">
                <a:solidFill>
                  <a:srgbClr val="ffffcc"/>
                </a:solidFill>
                <a:latin typeface="Arial"/>
              </a:rPr>
              <a:t>-</a:t>
            </a:r>
            <a:r>
              <a:rPr b="0" lang="de-DE" sz="3600" spc="-1" strike="noStrike">
                <a:solidFill>
                  <a:srgbClr val="ffffcc"/>
                </a:solidFill>
                <a:latin typeface="Arial"/>
              </a:rPr>
              <a:t>Projekt</a:t>
            </a:r>
            <a:r>
              <a:rPr b="0" lang="ru-RU" sz="3600" spc="-1" strike="noStrike">
                <a:solidFill>
                  <a:srgbClr val="ffffcc"/>
                </a:solidFill>
                <a:latin typeface="Arial"/>
              </a:rPr>
              <a:t>) </a:t>
            </a:r>
            <a:br>
              <a:rPr sz="3600"/>
            </a:br>
            <a:r>
              <a:rPr b="0" lang="en-US" sz="1600" spc="-1" strike="noStrike">
                <a:solidFill>
                  <a:srgbClr val="ffffcc"/>
                </a:solidFill>
                <a:latin typeface="Arial"/>
              </a:rPr>
              <a:t>World languages – digital languages (English, French and Spanish)</a:t>
            </a:r>
            <a:r>
              <a:rPr b="0" lang="en-US" sz="4000" spc="-1" strike="noStrike">
                <a:solidFill>
                  <a:srgbClr val="ffffcc"/>
                </a:solidFill>
                <a:latin typeface="Arial"/>
              </a:rPr>
              <a:t> </a:t>
            </a:r>
            <a:endParaRPr b="0" lang="en-US" sz="4000" spc="-1" strike="noStrike">
              <a:solidFill>
                <a:srgbClr val="ffffcc"/>
              </a:solidFill>
              <a:latin typeface="Arial"/>
            </a:endParaRPr>
          </a:p>
        </p:txBody>
      </p:sp>
      <p:sp>
        <p:nvSpPr>
          <p:cNvPr id="828" name="PlaceHolder 2"/>
          <p:cNvSpPr>
            <a:spLocks noGrp="1"/>
          </p:cNvSpPr>
          <p:nvPr>
            <p:ph/>
          </p:nvPr>
        </p:nvSpPr>
        <p:spPr>
          <a:xfrm>
            <a:off x="324000" y="2392200"/>
            <a:ext cx="8424720" cy="3989520"/>
          </a:xfrm>
          <a:prstGeom prst="rect">
            <a:avLst/>
          </a:prstGeom>
          <a:noFill/>
          <a:ln w="0">
            <a:noFill/>
          </a:ln>
        </p:spPr>
        <p:txBody>
          <a:bodyPr lIns="90000" rIns="90000" tIns="46800" bIns="46800" anchor="t">
            <a:normAutofit/>
          </a:bodyPr>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Das FRIAS-Projekt verfolgt das Ziel gegenwärtige Prozesse der Diversifizierung sowie der plurizentrischen Standardisierung in den drei Weltsprachen Englisch, Französisch und Spanisch zu erforschen. </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Traditionelle soziolinguistische und variationslinguistische Forschungsschwerpunkte, wie beispielsweise Variationsanalysen in spontaner Gesprächskommunikation oder Vergleiche des Sprachgebrauchs in unterschiedlichen Registern und Textsorten, erweitert er durch den Einbezug der computergestützten Kommunikation.</a:t>
            </a:r>
            <a:endParaRPr b="0" lang="en-US" sz="1600" spc="-1" strike="noStrike">
              <a:solidFill>
                <a:srgbClr val="eaeaea"/>
              </a:solidFill>
              <a:latin typeface="Verdana"/>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457200" indent="-457200">
              <a:lnSpc>
                <a:spcPct val="100000"/>
              </a:lnSpc>
              <a:spcBef>
                <a:spcPts val="400"/>
              </a:spcBef>
              <a:buClr>
                <a:srgbClr val="eec85e"/>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aeaea"/>
                </a:solidFill>
                <a:latin typeface="Times New Roman"/>
              </a:rPr>
              <a:t>Insbesondere bezieht er bei den Arbeiten auch die bewusste rhetorisch-strategische und oft stilisierte Verwendung von nicht-standardisierten Varietäten mit ein, da diese Dimension essentiell ist für ein Verständnis unseres gegenwärtigen kommunikativen „Ökosystems“, das einerseits durch eine weltweite linguistische Homogenisierung, andererseits durch eine rasche Verbreitung und hohe Sichtbarkeit ausgewählter umgangssprachlicher Merkmale und Stile charakterisiert wird. </a:t>
            </a:r>
            <a:endParaRPr b="0" lang="en-US" sz="1600" spc="-1" strike="noStrike">
              <a:solidFill>
                <a:srgbClr val="eaeaea"/>
              </a:solidFill>
              <a:latin typeface="Verdana"/>
            </a:endParaRPr>
          </a:p>
        </p:txBody>
      </p:sp>
    </p:spTree>
  </p:cSld>
  <p:transition>
    <p:wipe di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7">
                                  <p:stCondLst>
                                    <p:cond delay="0"/>
                                  </p:stCondLst>
                                  <p:childTnLst>
                                    <p:set>
                                      <p:cBhvr>
                                        <p:cTn id="45" dur="1" fill="hold">
                                          <p:stCondLst>
                                            <p:cond delay="0"/>
                                          </p:stCondLst>
                                        </p:cTn>
                                        <p:tgtEl>
                                          <p:spTgt spid="827"/>
                                        </p:tgtEl>
                                        <p:attrNameLst>
                                          <p:attrName>style.visibility</p:attrName>
                                        </p:attrNameLst>
                                      </p:cBhvr>
                                      <p:to>
                                        <p:strVal val="visible"/>
                                      </p:to>
                                    </p:set>
                                    <p:animEffect filter="fade" transition="in">
                                      <p:cBhvr additive="repl">
                                        <p:cTn id="46" dur="1000"/>
                                        <p:tgtEl>
                                          <p:spTgt spid="827"/>
                                        </p:tgtEl>
                                      </p:cBhvr>
                                    </p:animEffect>
                                    <p:anim calcmode="lin" valueType="num">
                                      <p:cBhvr additive="repl">
                                        <p:cTn id="47" dur="1000" fill="hold"/>
                                        <p:tgtEl>
                                          <p:spTgt spid="827"/>
                                        </p:tgtEl>
                                        <p:attrNameLst>
                                          <p:attrName>ppt_x</p:attrName>
                                        </p:attrNameLst>
                                      </p:cBhvr>
                                      <p:tavLst>
                                        <p:tav tm="0">
                                          <p:val>
                                            <p:strVal val="#ppt_x"/>
                                          </p:val>
                                        </p:tav>
                                        <p:tav tm="100000">
                                          <p:val>
                                            <p:strVal val="#ppt_x"/>
                                          </p:val>
                                        </p:tav>
                                      </p:tavLst>
                                    </p:anim>
                                    <p:anim calcmode="lin" valueType="num">
                                      <p:cBhvr additive="repl">
                                        <p:cTn id="48" dur="898" fill="hold"/>
                                        <p:tgtEl>
                                          <p:spTgt spid="827"/>
                                        </p:tgtEl>
                                        <p:attrNameLst>
                                          <p:attrName>ppt_y</p:attrName>
                                        </p:attrNameLst>
                                      </p:cBhvr>
                                      <p:tavLst>
                                        <p:tav tm="0">
                                          <p:val>
                                            <p:strVal val="#ppt_y+1"/>
                                          </p:val>
                                        </p:tav>
                                        <p:tav tm="100000">
                                          <p:val>
                                            <p:strVal val="#ppt_y-.03"/>
                                          </p:val>
                                        </p:tav>
                                      </p:tavLst>
                                    </p:anim>
                                    <p:anim calcmode="lin" valueType="num">
                                      <p:cBhvr additive="repl">
                                        <p:cTn id="49" dur="100" fill="hold">
                                          <p:stCondLst>
                                            <p:cond delay="898"/>
                                          </p:stCondLst>
                                        </p:cTn>
                                        <p:tgtEl>
                                          <p:spTgt spid="8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79280" y="333000"/>
            <a:ext cx="864072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0033"/>
                </a:solidFill>
                <a:latin typeface="Times New Roman"/>
              </a:rPr>
              <a:t>4. Die Arbeit beruht außerdem auf der Überzeugung, dass der systematische Vergleich der Entwicklung von drei Weltsprachen unter den Bedingungen globaler bzw. globalisierter Kommunikation zu neuen und übergreifenden theoretischen Erkenntnissen führen wird, zumal vorangegangene Untersuchungen zum Englischen, Französischen oder Spanischen als Weltsprache weitestgehend in disziplinärer Isolation betrieben wurden.</a:t>
            </a:r>
            <a:br>
              <a:rPr sz="2000"/>
            </a:br>
            <a:br>
              <a:rPr sz="2000"/>
            </a:br>
            <a:r>
              <a:rPr b="0" lang="de-DE" sz="2000" spc="-1" strike="noStrike">
                <a:solidFill>
                  <a:srgbClr val="330033"/>
                </a:solidFill>
                <a:latin typeface="Times New Roman"/>
              </a:rPr>
              <a:t>5. Methodisch ist er der Überzeugung, dass für eine systematische und vollständige empirische Beschreibung der sprachlichen Variabilität, die ihn interessiert, die Nutzung von digitalisierten Textdaten und entsprechender Analysesoftware unumgänglich ist. </a:t>
            </a:r>
            <a:br>
              <a:rPr sz="2000"/>
            </a:br>
            <a:br>
              <a:rPr sz="2000"/>
            </a:br>
            <a:r>
              <a:rPr b="0" lang="de-DE" sz="2000" spc="-1" strike="noStrike">
                <a:solidFill>
                  <a:srgbClr val="330033"/>
                </a:solidFill>
                <a:latin typeface="Times New Roman"/>
              </a:rPr>
              <a:t>6. Unter digitalisierten Sprachdaten versteht er sowohl traditionelle Korpora (d.h. Datenbanken, die ausdrücklich zum Zweck der linguistischen Analyse zusammengestellt wurden) als auch weniger strukturierte digitale Textarchive – das World Wide Web mitinbegriffen.</a:t>
            </a:r>
            <a:endParaRPr b="0" lang="en-US" sz="2000" spc="-1" strike="noStrike">
              <a:solidFill>
                <a:srgbClr val="3300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7:52:30Z</dcterms:created>
  <dc:creator>www.PHILka.RU</dc:creator>
  <dc:description/>
  <dc:language>en-US</dc:language>
  <cp:lastModifiedBy>www.PHILka.RU</cp:lastModifiedBy>
  <dcterms:modified xsi:type="dcterms:W3CDTF">2011-05-17T20:33:58Z</dcterms:modified>
  <cp:revision>7</cp:revision>
  <dc:subject/>
  <dc:title>Надання першої допомоги при ураженні електричним струмом</dc:title>
</cp:coreProperties>
</file>