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07DABC-C050-4E34-B5C6-6A213DB87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7199EF-5B9E-4E02-921A-72F82D36A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DD17F9-F7EF-464D-AFE7-D5C4EE506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089689-D3B4-480D-A264-D666CB264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4A7C9-74AA-4DBC-AA80-2648439EF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D595C-168E-4A7F-ADDC-52D6F8A35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EFA5A-F6C0-43E9-8237-1DB9537C4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CC113-FA0D-4A98-ADCA-0682D5AF5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386D4-4AC2-4DB8-A343-09F0D1810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8A699-0DE8-4479-BBFF-A5A615A7F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2C021-F948-43F7-A9F6-E409A4222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2D3185-BAE6-4328-B90C-BAF3242E5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CC874-6705-4FE0-9C91-7B2E124CC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C93B8-A4AF-4079-832C-3C549E1A6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89D1D-E3F7-402B-8799-239A670C9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00B32-5AEE-47A4-9124-C5841BFE0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83DD1-4BC7-495A-9090-F177AD5A0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EBD8B3-983E-49EE-8A0C-C2D1FF086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6733E0-79BE-477F-A197-81C35F667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519535-6F68-4021-827F-00891D396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632E93-2B0E-4C17-A858-700ABB700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1DE9ED-0DA5-4B93-B6B3-9030D7E33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3C1A7E-771A-4B0A-9B69-43E723DE6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B09156-9B3E-4488-B7D1-A227134C1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86F03-D7A4-4D7C-9EA7-2D1D1E842FD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00e7"/>
                  </a:gs>
                  <a:gs pos="100000">
                    <a:srgbClr val="66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00e7"/>
                  </a:gs>
                  <a:gs pos="100000">
                    <a:srgbClr val="6600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00d0"/>
                  </a:gs>
                  <a:gs pos="100000">
                    <a:srgbClr val="6600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66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00ff"/>
                  </a:gs>
                  <a:gs pos="100000">
                    <a:srgbClr val="5900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6600ff"/>
                </a:gs>
                <a:gs pos="100000">
                  <a:srgbClr val="5600d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660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00e7"/>
                  </a:gs>
                  <a:gs pos="100000">
                    <a:srgbClr val="66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00e7"/>
                  </a:gs>
                  <a:gs pos="100000">
                    <a:srgbClr val="6600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00d0"/>
                  </a:gs>
                  <a:gs pos="100000">
                    <a:srgbClr val="6600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66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00ff"/>
                  </a:gs>
                  <a:gs pos="100000">
                    <a:srgbClr val="5900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6600ff"/>
                </a:gs>
                <a:gs pos="100000">
                  <a:srgbClr val="5600d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660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0D40F-6253-425E-844A-421CC7EAE98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0" name=""/>
          <p:cNvSpPr/>
          <p:nvPr/>
        </p:nvSpPr>
        <p:spPr>
          <a:xfrm>
            <a:off x="1692360" y="0"/>
            <a:ext cx="7451640" cy="4121280"/>
          </a:xfrm>
          <a:prstGeom prst="cloudCallout">
            <a:avLst>
              <a:gd name="adj1" fmla="val -46444"/>
              <a:gd name="adj2" fmla="val 75384"/>
            </a:avLst>
          </a:prstGeom>
          <a:gradFill rotWithShape="0">
            <a:gsLst>
              <a:gs pos="0">
                <a:srgbClr val="6600ff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Franklin Gothic Demi"/>
              </a:rPr>
              <a:t>Theorie</a:t>
            </a:r>
            <a:r>
              <a:rPr b="1" lang="uk-UA" sz="4400" spc="-1" strike="noStrike">
                <a:solidFill>
                  <a:srgbClr val="ffff00"/>
                </a:solidFill>
                <a:latin typeface="Franklin Gothic Demi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ffff00"/>
                </a:solidFill>
                <a:latin typeface="Franklin Gothic Demi"/>
              </a:rPr>
              <a:t>       </a:t>
            </a:r>
            <a:r>
              <a:rPr b="1" lang="de-DE" sz="4400" spc="-1" strike="noStrike">
                <a:solidFill>
                  <a:srgbClr val="ffff00"/>
                </a:solidFill>
                <a:latin typeface="Franklin Gothic Demi"/>
              </a:rPr>
              <a:t>von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ff0066"/>
                </a:solidFill>
                <a:latin typeface="Franklin Gothic Demi"/>
              </a:rPr>
              <a:t>Naom Chomsk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5084640"/>
            <a:ext cx="2050920" cy="1773360"/>
          </a:xfrm>
          <a:prstGeom prst="rect">
            <a:avLst/>
          </a:prstGeom>
          <a:ln w="0">
            <a:noFill/>
          </a:ln>
        </p:spPr>
      </p:pic>
    </p:spTree>
  </p:cSld>
  <p:transition spd="med" advTm="17000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9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998"/>
                            </p:stCondLst>
                            <p:childTnLst>
                              <p:par>
                                <p:cTn id="1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3998"/>
                            </p:stCondLst>
                            <p:childTnLst>
                              <p:par>
                                <p:cTn id="2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998"/>
                            </p:stCondLst>
                            <p:childTnLst>
                              <p:par>
                                <p:cTn id="29" nodeType="afterEffect" fill="hold" presetClass="emph" presetID="2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3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3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447640" y="164160"/>
            <a:ext cx="4248360" cy="5094000"/>
            <a:chOff x="2447640" y="164160"/>
            <a:chExt cx="4248360" cy="5094000"/>
          </a:xfrm>
        </p:grpSpPr>
        <p:sp>
          <p:nvSpPr>
            <p:cNvPr id="103" name="_s50192"/>
            <p:cNvSpPr/>
            <p:nvPr/>
          </p:nvSpPr>
          <p:spPr>
            <a:xfrm flipH="1">
              <a:off x="3543480" y="3688200"/>
              <a:ext cx="518040" cy="3942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_s50191"/>
            <p:cNvSpPr/>
            <p:nvPr/>
          </p:nvSpPr>
          <p:spPr>
            <a:xfrm>
              <a:off x="2447640" y="3692880"/>
              <a:ext cx="1179000" cy="1565280"/>
            </a:xfrm>
            <a:prstGeom prst="ellipse">
              <a:avLst/>
            </a:prstGeom>
            <a:solidFill>
              <a:srgbClr val="006666">
                <a:alpha val="50000"/>
              </a:srgbClr>
            </a:solidFill>
            <a:ln w="5724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ffffff"/>
                  </a:solidFill>
                  <a:latin typeface="Adobe Heiti Std R"/>
                </a:rPr>
                <a:t>Ü</a:t>
              </a:r>
              <a:r>
                <a:rPr b="1" lang="de-DE" sz="1600" spc="-1" strike="noStrike">
                  <a:solidFill>
                    <a:srgbClr val="ffffff"/>
                  </a:solidFill>
                  <a:latin typeface="Franklin Gothic Book"/>
                </a:rPr>
                <a:t>bt auf das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ffffff"/>
                  </a:solidFill>
                  <a:latin typeface="Franklin Gothic Book"/>
                </a:rPr>
                <a:t>Gesprochene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ffffff"/>
                  </a:solidFill>
                  <a:latin typeface="Franklin Gothic Book"/>
                </a:rPr>
                <a:t>einen kausalen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ffffff"/>
                  </a:solidFill>
                  <a:latin typeface="Franklin Gothic Book"/>
                </a:rPr>
                <a:t>Einfluss au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_s50190"/>
            <p:cNvSpPr/>
            <p:nvPr/>
          </p:nvSpPr>
          <p:spPr>
            <a:xfrm>
              <a:off x="5080320" y="3688200"/>
              <a:ext cx="515880" cy="3967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_s50189"/>
            <p:cNvSpPr/>
            <p:nvPr/>
          </p:nvSpPr>
          <p:spPr>
            <a:xfrm>
              <a:off x="5517000" y="3692880"/>
              <a:ext cx="1179000" cy="1565280"/>
            </a:xfrm>
            <a:prstGeom prst="ellipse">
              <a:avLst/>
            </a:prstGeom>
            <a:solidFill>
              <a:srgbClr val="a886e0">
                <a:alpha val="50000"/>
              </a:srgbClr>
            </a:solidFill>
            <a:ln w="5724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e5e5ff"/>
                  </a:solidFill>
                  <a:latin typeface="Adobe Heiti Std R"/>
                </a:rPr>
                <a:t>quasi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e5e5ff"/>
                  </a:solidFill>
                  <a:latin typeface="Adobe Heiti Std R"/>
                </a:rPr>
                <a:t>unabhängig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e5e5ff"/>
                  </a:solidFill>
                  <a:latin typeface="Adobe Heiti Std R"/>
                </a:rPr>
                <a:t>von dem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e5e5ff"/>
                  </a:solidFill>
                  <a:latin typeface="Adobe Heiti Std R"/>
                </a:rPr>
                <a:t>Gesprochenen</a:t>
              </a:r>
              <a:r>
                <a:rPr b="0" lang="ru-RU" sz="1400" spc="-1" strike="noStrike">
                  <a:solidFill>
                    <a:srgbClr val="ffffff"/>
                  </a:solidFill>
                  <a:latin typeface="Garamond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50188"/>
            <p:cNvSpPr/>
            <p:nvPr/>
          </p:nvSpPr>
          <p:spPr>
            <a:xfrm flipV="1">
              <a:off x="4571280" y="1726920"/>
              <a:ext cx="0" cy="7905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50187"/>
            <p:cNvSpPr/>
            <p:nvPr/>
          </p:nvSpPr>
          <p:spPr>
            <a:xfrm>
              <a:off x="3981960" y="164160"/>
              <a:ext cx="1179000" cy="1564560"/>
            </a:xfrm>
            <a:prstGeom prst="ellipse">
              <a:avLst/>
            </a:prstGeom>
            <a:solidFill>
              <a:srgbClr val="ffcc00">
                <a:alpha val="50000"/>
              </a:srgbClr>
            </a:solidFill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e5e5ff"/>
                  </a:solidFill>
                  <a:latin typeface="Adobe Heiti Std R"/>
                </a:rPr>
                <a:t>wird</a:t>
              </a:r>
              <a:r>
                <a:rPr b="0" lang="ru-RU" sz="1400" spc="-1" strike="noStrike">
                  <a:solidFill>
                    <a:srgbClr val="e5e5ff"/>
                  </a:solidFill>
                  <a:latin typeface="Adobe Heiti Std R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e5e5ff"/>
                  </a:solidFill>
                  <a:latin typeface="Adobe Heiti Std R"/>
                </a:rPr>
                <a:t>durch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e5e5ff"/>
                  </a:solidFill>
                  <a:latin typeface="Adobe Heiti Std R"/>
                </a:rPr>
                <a:t>keinerlei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e5e5ff"/>
                  </a:solidFill>
                  <a:latin typeface="Adobe Heiti Std R"/>
                </a:rPr>
                <a:t>Input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e5e5ff"/>
                  </a:solidFill>
                  <a:latin typeface="Adobe Heiti Std R"/>
                </a:rPr>
                <a:t>erreich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_s50186"/>
            <p:cNvSpPr/>
            <p:nvPr/>
          </p:nvSpPr>
          <p:spPr>
            <a:xfrm>
              <a:off x="3981960" y="2517480"/>
              <a:ext cx="1179000" cy="1564560"/>
            </a:xfrm>
            <a:prstGeom prst="ellipse">
              <a:avLst/>
            </a:prstGeom>
            <a:solidFill>
              <a:srgbClr val="0099cc">
                <a:alpha val="50000"/>
              </a:srgbClr>
            </a:solidFill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300" spc="-1" strike="noStrike">
                  <a:solidFill>
                    <a:srgbClr val="ffcc00"/>
                  </a:solidFill>
                  <a:latin typeface="Arial Black"/>
                </a:rPr>
                <a:t>GRAMMATIK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 advTm="8000">
    <p:wheel spokes="8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4000"/>
                            </p:stCondLst>
                            <p:childTnLst>
                              <p:par>
                                <p:cTn id="5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6000"/>
                            </p:stCondLst>
                            <p:childTnLst>
                              <p:par>
                                <p:cTn id="5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8000"/>
                            </p:stCondLst>
                            <p:childTnLst>
                              <p:par>
                                <p:cTn id="66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7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8500"/>
                            </p:stCondLst>
                            <p:childTnLst>
                              <p:par>
                                <p:cTn id="72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7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7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9000"/>
                            </p:stCondLst>
                            <p:childTnLst>
                              <p:par>
                                <p:cTn id="78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7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8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9500"/>
                            </p:stCondLst>
                            <p:childTnLst>
                              <p:par>
                                <p:cTn id="84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8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8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457200" y="274680"/>
            <a:ext cx="8228160" cy="5850720"/>
            <a:chOff x="457200" y="274680"/>
            <a:chExt cx="8228160" cy="5850720"/>
          </a:xfrm>
        </p:grpSpPr>
        <p:cxnSp>
          <p:nvCxnSpPr>
            <p:cNvPr id="111" name="_s56340"/>
            <p:cNvCxnSpPr>
              <a:stCxn id="112" idx="1"/>
              <a:endCxn id="113" idx="2"/>
            </p:cNvCxnSpPr>
            <p:nvPr/>
          </p:nvCxnSpPr>
          <p:spPr>
            <a:xfrm rot="10800000">
              <a:off x="2925000" y="1337760"/>
              <a:ext cx="823320" cy="42559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4" name="_s56325"/>
            <p:cNvCxnSpPr>
              <a:stCxn id="115" idx="1"/>
              <a:endCxn id="113" idx="2"/>
            </p:cNvCxnSpPr>
            <p:nvPr/>
          </p:nvCxnSpPr>
          <p:spPr>
            <a:xfrm rot="10800000">
              <a:off x="2925000" y="1337760"/>
              <a:ext cx="823320" cy="26600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6" name="_s56326"/>
            <p:cNvCxnSpPr>
              <a:stCxn id="117" idx="1"/>
              <a:endCxn id="113" idx="2"/>
            </p:cNvCxnSpPr>
            <p:nvPr/>
          </p:nvCxnSpPr>
          <p:spPr>
            <a:xfrm rot="10800000">
              <a:off x="2925000" y="1337760"/>
              <a:ext cx="823320" cy="10645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3" name="_s56327"/>
            <p:cNvSpPr/>
            <p:nvPr/>
          </p:nvSpPr>
          <p:spPr>
            <a:xfrm>
              <a:off x="457200" y="274680"/>
              <a:ext cx="4937040" cy="1063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cc"/>
                </a:gs>
                <a:gs pos="100000">
                  <a:srgbClr val="0099cc"/>
                </a:gs>
              </a:gsLst>
              <a:lin ang="5400000"/>
            </a:gra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3200" spc="-1" strike="noStrike">
                  <a:solidFill>
                    <a:srgbClr val="ff0066"/>
                  </a:solidFill>
                  <a:latin typeface="Franklin Gothic Book"/>
                </a:rPr>
                <a:t>SPRACHERWERB</a:t>
              </a:r>
              <a:r>
                <a:rPr b="0" lang="uk-UA" sz="2300" spc="-1" strike="noStrike">
                  <a:solidFill>
                    <a:srgbClr val="ff0066"/>
                  </a:solidFill>
                  <a:latin typeface="Garamond"/>
                </a:rPr>
                <a:t> 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_s56328"/>
            <p:cNvSpPr/>
            <p:nvPr/>
          </p:nvSpPr>
          <p:spPr>
            <a:xfrm>
              <a:off x="3748320" y="1870200"/>
              <a:ext cx="4937040" cy="10638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200" spc="-1" strike="noStrike">
                  <a:solidFill>
                    <a:srgbClr val="000000"/>
                  </a:solidFill>
                  <a:latin typeface="Garamond"/>
                </a:rPr>
                <a:t>   </a:t>
              </a:r>
              <a:r>
                <a:rPr b="1" lang="de-DE" sz="2500" spc="-1" strike="noStrike">
                  <a:solidFill>
                    <a:srgbClr val="000514"/>
                  </a:solidFill>
                  <a:latin typeface="Adobe Heiti Std R"/>
                </a:rPr>
                <a:t>kein Lernprozess, sondern ein 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500" spc="-1" strike="noStrike">
                  <a:solidFill>
                    <a:srgbClr val="000514"/>
                  </a:solidFill>
                  <a:latin typeface="Adobe Heiti Std R"/>
                </a:rPr>
                <a:t>biologischer Reifevorgang</a:t>
              </a:r>
              <a:r>
                <a:rPr b="1" lang="ru-RU" sz="2500" spc="-1" strike="noStrike">
                  <a:solidFill>
                    <a:srgbClr val="000514"/>
                  </a:solidFill>
                  <a:latin typeface="Adobe Heiti Std R"/>
                </a:rPr>
                <a:t> 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_s56329"/>
            <p:cNvSpPr/>
            <p:nvPr/>
          </p:nvSpPr>
          <p:spPr>
            <a:xfrm>
              <a:off x="3748320" y="3466080"/>
              <a:ext cx="4937040" cy="10638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500" spc="-1" strike="noStrike">
                  <a:solidFill>
                    <a:srgbClr val="000514"/>
                  </a:solidFill>
                  <a:latin typeface="Adobe Heiti Std R"/>
                </a:rPr>
                <a:t>Ist genetisch bedingt</a:t>
              </a:r>
              <a:r>
                <a:rPr b="0" lang="de-DE" sz="2500" spc="-1" strike="noStrike">
                  <a:solidFill>
                    <a:srgbClr val="000514"/>
                  </a:solidFill>
                  <a:latin typeface="Garamond"/>
                </a:rPr>
                <a:t> 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500" spc="-1" strike="noStrike">
                  <a:solidFill>
                    <a:srgbClr val="000514"/>
                  </a:solidFill>
                  <a:latin typeface="Adobe Heiti Std R"/>
                </a:rPr>
                <a:t>und daher</a:t>
              </a:r>
              <a:r>
                <a:rPr b="1" lang="ru-RU" sz="2500" spc="-1" strike="noStrike">
                  <a:solidFill>
                    <a:srgbClr val="000514"/>
                  </a:solidFill>
                  <a:latin typeface="Adobe Heiti Std R"/>
                </a:rPr>
                <a:t> </a:t>
              </a:r>
              <a:r>
                <a:rPr b="1" lang="de-DE" sz="2500" spc="-1" strike="noStrike">
                  <a:solidFill>
                    <a:srgbClr val="000514"/>
                  </a:solidFill>
                  <a:latin typeface="Adobe Heiti Std R"/>
                </a:rPr>
                <a:t>bei 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514"/>
                  </a:solidFill>
                  <a:latin typeface="Adobe Heiti Std R"/>
                </a:rPr>
                <a:t>allen Menschen vorhande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554920" y="1914480"/>
              <a:ext cx="913320" cy="916200"/>
            </a:xfrm>
            <a:prstGeom prst="lightningBolt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554920" y="4940280"/>
              <a:ext cx="913320" cy="915480"/>
            </a:xfrm>
            <a:prstGeom prst="lightningBolt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628720" y="3643560"/>
              <a:ext cx="1057320" cy="919440"/>
            </a:xfrm>
            <a:prstGeom prst="lightningBolt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_s56339"/>
            <p:cNvSpPr/>
            <p:nvPr/>
          </p:nvSpPr>
          <p:spPr>
            <a:xfrm>
              <a:off x="3748320" y="5061600"/>
              <a:ext cx="4937040" cy="10638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514"/>
                  </a:solidFill>
                  <a:latin typeface="Adobe Heiti Std R"/>
                </a:rPr>
                <a:t>ein biologisch fertiges Schema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5919840" y="4757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7000">
    <p:wheel spokes="8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2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2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2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2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2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2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2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2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3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3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3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3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3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3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3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3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7T20:29:02Z</dcterms:created>
  <dc:creator>1</dc:creator>
  <dc:description/>
  <dc:language>en-US</dc:language>
  <cp:lastModifiedBy>UserXP</cp:lastModifiedBy>
  <dcterms:modified xsi:type="dcterms:W3CDTF">2011-05-17T12:52:31Z</dcterms:modified>
  <cp:revision>17</cp:revision>
  <dc:subject/>
  <dc:title>ПАМЯТЬ</dc:title>
</cp:coreProperties>
</file>