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FE233-4875-444F-8328-F114DA392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C3521-3DFF-4C6A-B699-A26CECEA8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4087A-F366-40AA-91FE-AFC7DEFD5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B7F49-5903-4AD6-A4AC-DA80FDC56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40C1F-0BD7-4AF9-9EDF-58D16EB1B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BDEA7-0F0E-4594-B095-97838317E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C5A5D-44E2-47B9-BBFC-D98600409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B5B79-FE12-4516-AA9A-39F95BDF8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5EB50-A8BA-4550-A690-91922D792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A7B49-9A59-4F4D-A249-C16440225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8EE99-468C-4262-A458-8217ACBD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5E6E7-A814-4A55-9E7D-2F85015F0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8B9A0-6978-4C0F-8642-B42B21C4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04130-A76F-478F-BC45-0AEB404F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52346-7C9F-46C0-862D-16B050B99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8743B-406F-4DBA-9B3C-5B8EF3C09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F319A-A7AE-45F8-9AF6-A4F982216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52C82-AA54-4F43-AC68-B850D054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76444-6EDC-47C9-A89E-F1BC36AFF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2631E-0199-4011-AAA1-F51E5428F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38E27-EF96-426A-AD02-5EA1E8116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3DEFC-1714-45AE-A55B-1FD0A9F4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B0020-2A9B-4811-B33D-F01D5E1B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CF398-09FD-4B46-8F1D-F23C0956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028D-95A3-4D86-9EBE-E112472C65D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00e7"/>
                  </a:gs>
                  <a:gs pos="100000">
                    <a:srgbClr val="66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00e7"/>
                  </a:gs>
                  <a:gs pos="100000">
                    <a:srgbClr val="6600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00d0"/>
                  </a:gs>
                  <a:gs pos="100000">
                    <a:srgbClr val="66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ff"/>
                  </a:gs>
                  <a:gs pos="100000">
                    <a:srgbClr val="5900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6600ff"/>
                </a:gs>
                <a:gs pos="100000">
                  <a:srgbClr val="5600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66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00e7"/>
                  </a:gs>
                  <a:gs pos="100000">
                    <a:srgbClr val="66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00e7"/>
                  </a:gs>
                  <a:gs pos="100000">
                    <a:srgbClr val="6600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00d0"/>
                  </a:gs>
                  <a:gs pos="100000">
                    <a:srgbClr val="66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ff"/>
                  </a:gs>
                  <a:gs pos="100000">
                    <a:srgbClr val="5900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6600ff"/>
                </a:gs>
                <a:gs pos="100000">
                  <a:srgbClr val="5600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66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056F0-FF6B-4196-9184-E1C3912839E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"/>
          <p:cNvSpPr/>
          <p:nvPr/>
        </p:nvSpPr>
        <p:spPr>
          <a:xfrm>
            <a:off x="1692360" y="0"/>
            <a:ext cx="7451640" cy="4121280"/>
          </a:xfrm>
          <a:prstGeom prst="cloudCallout">
            <a:avLst>
              <a:gd name="adj1" fmla="val -46444"/>
              <a:gd name="adj2" fmla="val 75384"/>
            </a:avLst>
          </a:prstGeom>
          <a:gradFill rotWithShape="0">
            <a:gsLst>
              <a:gs pos="0">
                <a:srgbClr val="6600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Franklin Gothic Demi"/>
              </a:rPr>
              <a:t>Theorie</a:t>
            </a:r>
            <a:r>
              <a:rPr b="1" lang="uk-UA" sz="4400" spc="-1" strike="noStrike">
                <a:solidFill>
                  <a:srgbClr val="ffff00"/>
                </a:solidFill>
                <a:latin typeface="Franklin Gothic Dem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00"/>
                </a:solidFill>
                <a:latin typeface="Franklin Gothic Demi"/>
              </a:rPr>
              <a:t>       </a:t>
            </a:r>
            <a:r>
              <a:rPr b="1" lang="de-DE" sz="4400" spc="-1" strike="noStrike">
                <a:solidFill>
                  <a:srgbClr val="ffff00"/>
                </a:solidFill>
                <a:latin typeface="Franklin Gothic Demi"/>
              </a:rPr>
              <a:t>v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0066"/>
                </a:solidFill>
                <a:latin typeface="Franklin Gothic Demi"/>
              </a:rPr>
              <a:t>Naom Chomsk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5084640"/>
            <a:ext cx="2050920" cy="1773360"/>
          </a:xfrm>
          <a:prstGeom prst="rect">
            <a:avLst/>
          </a:prstGeom>
          <a:ln w="0">
            <a:noFill/>
          </a:ln>
        </p:spPr>
      </p:pic>
    </p:spTree>
  </p:cSld>
  <p:transition spd="med" advTm="17000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998"/>
                            </p:stCondLst>
                            <p:childTnLst>
                              <p:par>
                                <p:cTn id="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998"/>
                            </p:stCondLst>
                            <p:childTnLst>
                              <p:par>
                                <p:cTn id="2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998"/>
                            </p:stCondLst>
                            <p:childTnLst>
                              <p:par>
                                <p:cTn id="29" nodeType="afterEffect" fill="hold" presetClass="emph" presetID="2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3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447640" y="164160"/>
            <a:ext cx="4248360" cy="5094000"/>
            <a:chOff x="2447640" y="164160"/>
            <a:chExt cx="4248360" cy="5094000"/>
          </a:xfrm>
        </p:grpSpPr>
        <p:sp>
          <p:nvSpPr>
            <p:cNvPr id="103" name="_s50192"/>
            <p:cNvSpPr/>
            <p:nvPr/>
          </p:nvSpPr>
          <p:spPr>
            <a:xfrm flipH="1">
              <a:off x="3543480" y="3688200"/>
              <a:ext cx="518040" cy="394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_s50191"/>
            <p:cNvSpPr/>
            <p:nvPr/>
          </p:nvSpPr>
          <p:spPr>
            <a:xfrm>
              <a:off x="2447640" y="3692880"/>
              <a:ext cx="1179000" cy="1565280"/>
            </a:xfrm>
            <a:prstGeom prst="ellipse">
              <a:avLst/>
            </a:prstGeom>
            <a:solidFill>
              <a:srgbClr val="006666">
                <a:alpha val="50000"/>
              </a:srgbClr>
            </a:solidFill>
            <a:ln w="5724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Adobe Heiti Std R"/>
                </a:rPr>
                <a:t>Ü</a:t>
              </a:r>
              <a:r>
                <a:rPr b="1" lang="de-DE" sz="1600" spc="-1" strike="noStrike">
                  <a:solidFill>
                    <a:srgbClr val="ffffff"/>
                  </a:solidFill>
                  <a:latin typeface="Franklin Gothic Book"/>
                </a:rPr>
                <a:t>bt auf das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Franklin Gothic Book"/>
                </a:rPr>
                <a:t>Gesprochene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Franklin Gothic Book"/>
                </a:rPr>
                <a:t>einen kausalen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Franklin Gothic Book"/>
                </a:rPr>
                <a:t>Einfluss au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_s50190"/>
            <p:cNvSpPr/>
            <p:nvPr/>
          </p:nvSpPr>
          <p:spPr>
            <a:xfrm>
              <a:off x="5080320" y="3688200"/>
              <a:ext cx="515880" cy="396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_s50189"/>
            <p:cNvSpPr/>
            <p:nvPr/>
          </p:nvSpPr>
          <p:spPr>
            <a:xfrm>
              <a:off x="5517000" y="3692880"/>
              <a:ext cx="1179000" cy="1565280"/>
            </a:xfrm>
            <a:prstGeom prst="ellipse">
              <a:avLst/>
            </a:prstGeom>
            <a:solidFill>
              <a:srgbClr val="a886e0">
                <a:alpha val="50000"/>
              </a:srgbClr>
            </a:solidFill>
            <a:ln w="572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quasi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unabhängig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von dem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Gesprochenen</a:t>
              </a:r>
              <a:r>
                <a:rPr b="0" lang="ru-RU" sz="14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50188"/>
            <p:cNvSpPr/>
            <p:nvPr/>
          </p:nvSpPr>
          <p:spPr>
            <a:xfrm flipV="1">
              <a:off x="4571280" y="1726920"/>
              <a:ext cx="0" cy="790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50187"/>
            <p:cNvSpPr/>
            <p:nvPr/>
          </p:nvSpPr>
          <p:spPr>
            <a:xfrm>
              <a:off x="3981960" y="164160"/>
              <a:ext cx="1179000" cy="1564560"/>
            </a:xfrm>
            <a:prstGeom prst="ellipse">
              <a:avLst/>
            </a:prstGeom>
            <a:solidFill>
              <a:srgbClr val="ffcc00">
                <a:alpha val="50000"/>
              </a:srgbClr>
            </a:solidFill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wird</a:t>
              </a:r>
              <a:r>
                <a:rPr b="0" lang="ru-RU" sz="1400" spc="-1" strike="noStrike">
                  <a:solidFill>
                    <a:srgbClr val="e5e5ff"/>
                  </a:solidFill>
                  <a:latin typeface="Adobe Heiti Std R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durch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keinerlei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Input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erreich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_s50186"/>
            <p:cNvSpPr/>
            <p:nvPr/>
          </p:nvSpPr>
          <p:spPr>
            <a:xfrm>
              <a:off x="3981960" y="2517480"/>
              <a:ext cx="1179000" cy="1564560"/>
            </a:xfrm>
            <a:prstGeom prst="ellipse">
              <a:avLst/>
            </a:prstGeom>
            <a:solidFill>
              <a:srgbClr val="0099cc">
                <a:alpha val="50000"/>
              </a:srgbClr>
            </a:solidFill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ffcc00"/>
                  </a:solidFill>
                  <a:latin typeface="Arial Black"/>
                </a:rPr>
                <a:t>GRAMMATIK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 advTm="8000">
    <p:wheel spokes="8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8000"/>
                            </p:stCondLst>
                            <p:childTnLst>
                              <p:par>
                                <p:cTn id="66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7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8500"/>
                            </p:stCondLst>
                            <p:childTnLst>
                              <p:par>
                                <p:cTn id="72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9000"/>
                            </p:stCondLst>
                            <p:childTnLst>
                              <p:par>
                                <p:cTn id="78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9500"/>
                            </p:stCondLst>
                            <p:childTnLst>
                              <p:par>
                                <p:cTn id="84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8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457200" y="274680"/>
            <a:ext cx="8228160" cy="5850720"/>
            <a:chOff x="457200" y="274680"/>
            <a:chExt cx="8228160" cy="5850720"/>
          </a:xfrm>
        </p:grpSpPr>
        <p:cxnSp>
          <p:nvCxnSpPr>
            <p:cNvPr id="111" name="_s56340"/>
            <p:cNvCxnSpPr>
              <a:stCxn id="112" idx="1"/>
              <a:endCxn id="113" idx="2"/>
            </p:cNvCxnSpPr>
            <p:nvPr/>
          </p:nvCxnSpPr>
          <p:spPr>
            <a:xfrm rot="10800000">
              <a:off x="2925000" y="1337760"/>
              <a:ext cx="823320" cy="4255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4" name="_s56325"/>
            <p:cNvCxnSpPr>
              <a:stCxn id="115" idx="1"/>
              <a:endCxn id="113" idx="2"/>
            </p:cNvCxnSpPr>
            <p:nvPr/>
          </p:nvCxnSpPr>
          <p:spPr>
            <a:xfrm rot="10800000">
              <a:off x="2925000" y="1337760"/>
              <a:ext cx="823320" cy="26600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6" name="_s56326"/>
            <p:cNvCxnSpPr>
              <a:stCxn id="117" idx="1"/>
              <a:endCxn id="113" idx="2"/>
            </p:cNvCxnSpPr>
            <p:nvPr/>
          </p:nvCxnSpPr>
          <p:spPr>
            <a:xfrm rot="10800000">
              <a:off x="2925000" y="1337760"/>
              <a:ext cx="823320" cy="1064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3" name="_s56327"/>
            <p:cNvSpPr/>
            <p:nvPr/>
          </p:nvSpPr>
          <p:spPr>
            <a:xfrm>
              <a:off x="457200" y="274680"/>
              <a:ext cx="4937040" cy="1063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0099cc"/>
                </a:gs>
              </a:gsLst>
              <a:lin ang="5400000"/>
            </a:gra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ff0066"/>
                  </a:solidFill>
                  <a:latin typeface="Franklin Gothic Book"/>
                </a:rPr>
                <a:t>SPRACHERWERB</a:t>
              </a:r>
              <a:r>
                <a:rPr b="0" lang="uk-UA" sz="2300" spc="-1" strike="noStrike">
                  <a:solidFill>
                    <a:srgbClr val="ff0066"/>
                  </a:solidFill>
                  <a:latin typeface="Garamond"/>
                </a:rPr>
                <a:t>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_s56328"/>
            <p:cNvSpPr/>
            <p:nvPr/>
          </p:nvSpPr>
          <p:spPr>
            <a:xfrm>
              <a:off x="3748320" y="1870200"/>
              <a:ext cx="4937040" cy="10638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Garamond"/>
                </a:rPr>
                <a:t>   </a:t>
              </a:r>
              <a:r>
                <a:rPr b="1" lang="de-DE" sz="2500" spc="-1" strike="noStrike">
                  <a:solidFill>
                    <a:srgbClr val="000514"/>
                  </a:solidFill>
                  <a:latin typeface="Adobe Heiti Std R"/>
                </a:rPr>
                <a:t>kein Lernprozess, sondern ein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500" spc="-1" strike="noStrike">
                  <a:solidFill>
                    <a:srgbClr val="000514"/>
                  </a:solidFill>
                  <a:latin typeface="Adobe Heiti Std R"/>
                </a:rPr>
                <a:t>biologischer Reifevorgang</a:t>
              </a:r>
              <a:r>
                <a:rPr b="1" lang="ru-RU" sz="2500" spc="-1" strike="noStrike">
                  <a:solidFill>
                    <a:srgbClr val="000514"/>
                  </a:solidFill>
                  <a:latin typeface="Adobe Heiti Std R"/>
                </a:rPr>
                <a:t>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_s56329"/>
            <p:cNvSpPr/>
            <p:nvPr/>
          </p:nvSpPr>
          <p:spPr>
            <a:xfrm>
              <a:off x="3748320" y="3466080"/>
              <a:ext cx="4937040" cy="10638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500" spc="-1" strike="noStrike">
                  <a:solidFill>
                    <a:srgbClr val="000514"/>
                  </a:solidFill>
                  <a:latin typeface="Adobe Heiti Std R"/>
                </a:rPr>
                <a:t>Ist genetisch bedingt</a:t>
              </a:r>
              <a:r>
                <a:rPr b="0" lang="de-DE" sz="2500" spc="-1" strike="noStrike">
                  <a:solidFill>
                    <a:srgbClr val="000514"/>
                  </a:solidFill>
                  <a:latin typeface="Garamond"/>
                </a:rPr>
                <a:t>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500" spc="-1" strike="noStrike">
                  <a:solidFill>
                    <a:srgbClr val="000514"/>
                  </a:solidFill>
                  <a:latin typeface="Adobe Heiti Std R"/>
                </a:rPr>
                <a:t>und daher</a:t>
              </a:r>
              <a:r>
                <a:rPr b="1" lang="ru-RU" sz="2500" spc="-1" strike="noStrike">
                  <a:solidFill>
                    <a:srgbClr val="000514"/>
                  </a:solidFill>
                  <a:latin typeface="Adobe Heiti Std R"/>
                </a:rPr>
                <a:t> </a:t>
              </a:r>
              <a:r>
                <a:rPr b="1" lang="de-DE" sz="2500" spc="-1" strike="noStrike">
                  <a:solidFill>
                    <a:srgbClr val="000514"/>
                  </a:solidFill>
                  <a:latin typeface="Adobe Heiti Std R"/>
                </a:rPr>
                <a:t>bei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514"/>
                  </a:solidFill>
                  <a:latin typeface="Adobe Heiti Std R"/>
                </a:rPr>
                <a:t>allen Menschen vorhande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554920" y="1914480"/>
              <a:ext cx="913320" cy="91620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554920" y="4940280"/>
              <a:ext cx="913320" cy="91548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628720" y="3643560"/>
              <a:ext cx="1057320" cy="91944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_s56339"/>
            <p:cNvSpPr/>
            <p:nvPr/>
          </p:nvSpPr>
          <p:spPr>
            <a:xfrm>
              <a:off x="3748320" y="5061600"/>
              <a:ext cx="4937040" cy="10638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514"/>
                  </a:solidFill>
                  <a:latin typeface="Adobe Heiti Std R"/>
                </a:rPr>
                <a:t>ein biologisch fertiges Schem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5919840" y="4757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7000">
    <p:wheel spokes="8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2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20:29:02Z</dcterms:created>
  <dc:creator>1</dc:creator>
  <dc:description/>
  <dc:language>en-US</dc:language>
  <cp:lastModifiedBy>UserXP</cp:lastModifiedBy>
  <dcterms:modified xsi:type="dcterms:W3CDTF">2011-05-17T12:52:31Z</dcterms:modified>
  <cp:revision>17</cp:revision>
  <dc:subject/>
  <dc:title>ПАМЯТЬ</dc:title>
</cp:coreProperties>
</file>