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3847A-7BE1-44DA-AE71-213AE53FC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EF2B4-5EA3-4C89-945D-F35662F8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75FE9-9ADF-43C5-9F0A-638BDE454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69C8A-274F-4FBB-AC2C-12D3A3B2A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086C-7073-45E6-B8A7-97500564D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B123-2E5E-4117-86E3-69776D12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9E55-8B70-4D43-BEFA-E44B736C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4901-A5B9-470D-81B7-992DB780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E909-14A4-458D-92D1-65B35A32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8A8C-FB03-4687-9CCC-81A9F1BC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6397-31D4-42E3-949D-E1C89053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EFB69-F82D-4FD3-B2BE-40149860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DFC3-64ED-4F14-A756-EA48B292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8B1F-D6C4-4C59-8EF8-4F93B711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1A05-9614-47D9-B1A4-36055A42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91C3-5367-43FE-9CE4-96274F13C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15F4-055B-4B70-94DC-B36CBCA9D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8CABD-3E6F-40DA-8038-22813416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7F38A-6665-4CD9-A942-77641544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93714-F10E-4E84-A958-DBDFF6CE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853C8-D3D3-47A8-8CA4-B1A3912C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7B814-0DFA-4807-8238-4D56921B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F7A5F-0863-4E67-B614-AA921362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A2051-0591-4FA0-B65C-71183648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E190-159B-4BAD-A770-D678990B49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00d0"/>
                  </a:gs>
                  <a:gs pos="100000">
                    <a:srgbClr val="66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ff"/>
                  </a:gs>
                  <a:gs pos="100000">
                    <a:srgbClr val="5900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00ff"/>
                </a:gs>
                <a:gs pos="100000">
                  <a:srgbClr val="560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00d0"/>
                  </a:gs>
                  <a:gs pos="100000">
                    <a:srgbClr val="66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ff"/>
                  </a:gs>
                  <a:gs pos="100000">
                    <a:srgbClr val="5900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00ff"/>
                </a:gs>
                <a:gs pos="100000">
                  <a:srgbClr val="560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F728-A8C5-4623-97FC-84C4DD07AB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0"/>
            <a:ext cx="7451640" cy="4121280"/>
          </a:xfrm>
          <a:prstGeom prst="cloudCallout">
            <a:avLst>
              <a:gd name="adj1" fmla="val -46444"/>
              <a:gd name="adj2" fmla="val 75384"/>
            </a:avLst>
          </a:prstGeom>
          <a:gradFill rotWithShape="0">
            <a:gsLst>
              <a:gs pos="0">
                <a:srgbClr val="6600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Franklin Gothic Demi"/>
              </a:rPr>
              <a:t>Theorie</a:t>
            </a:r>
            <a:r>
              <a:rPr b="1" lang="uk-UA" sz="4400" spc="-1" strike="noStrike">
                <a:solidFill>
                  <a:srgbClr val="ffff00"/>
                </a:solidFill>
                <a:latin typeface="Franklin Gothic Dem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00"/>
                </a:solidFill>
                <a:latin typeface="Franklin Gothic Demi"/>
              </a:rPr>
              <a:t>       </a:t>
            </a:r>
            <a:r>
              <a:rPr b="1" lang="de-DE" sz="4400" spc="-1" strike="noStrike">
                <a:solidFill>
                  <a:srgbClr val="ffff00"/>
                </a:solidFill>
                <a:latin typeface="Franklin Gothic Demi"/>
              </a:rPr>
              <a:t>v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66"/>
                </a:solidFill>
                <a:latin typeface="Franklin Gothic Demi"/>
              </a:rPr>
              <a:t>Naom Chomsk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5084640"/>
            <a:ext cx="2050920" cy="177336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998"/>
                            </p:stCondLst>
                            <p:childTnLst>
                              <p:par>
                                <p:cTn id="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998"/>
                            </p:stCondLst>
                            <p:childTnLst>
                              <p:par>
                                <p:cTn id="29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447640" y="164160"/>
            <a:ext cx="4248360" cy="5094000"/>
            <a:chOff x="2447640" y="164160"/>
            <a:chExt cx="4248360" cy="5094000"/>
          </a:xfrm>
        </p:grpSpPr>
        <p:sp>
          <p:nvSpPr>
            <p:cNvPr id="103" name="_s50192"/>
            <p:cNvSpPr/>
            <p:nvPr/>
          </p:nvSpPr>
          <p:spPr>
            <a:xfrm flipH="1">
              <a:off x="3543480" y="3688200"/>
              <a:ext cx="518040" cy="394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50191"/>
            <p:cNvSpPr/>
            <p:nvPr/>
          </p:nvSpPr>
          <p:spPr>
            <a:xfrm>
              <a:off x="2447640" y="3692880"/>
              <a:ext cx="1179000" cy="1565280"/>
            </a:xfrm>
            <a:prstGeom prst="ellipse">
              <a:avLst/>
            </a:prstGeom>
            <a:solidFill>
              <a:srgbClr val="006666">
                <a:alpha val="50000"/>
              </a:srgbClr>
            </a:solidFill>
            <a:ln w="572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dobe Heiti Std R"/>
                </a:rPr>
                <a:t>Ü</a:t>
              </a: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bt auf da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Gesprochene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einen kausalen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Einfluss au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50190"/>
            <p:cNvSpPr/>
            <p:nvPr/>
          </p:nvSpPr>
          <p:spPr>
            <a:xfrm>
              <a:off x="5080320" y="3688200"/>
              <a:ext cx="515880" cy="396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50189"/>
            <p:cNvSpPr/>
            <p:nvPr/>
          </p:nvSpPr>
          <p:spPr>
            <a:xfrm>
              <a:off x="5517000" y="3692880"/>
              <a:ext cx="1179000" cy="1565280"/>
            </a:xfrm>
            <a:prstGeom prst="ellipse">
              <a:avLst/>
            </a:prstGeom>
            <a:solidFill>
              <a:srgbClr val="a886e0">
                <a:alpha val="50000"/>
              </a:srgbClr>
            </a:solidFill>
            <a:ln w="572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quasi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unabhängig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von dem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Gesprochenen</a:t>
              </a:r>
              <a:r>
                <a:rPr b="0" lang="ru-RU" sz="14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50188"/>
            <p:cNvSpPr/>
            <p:nvPr/>
          </p:nvSpPr>
          <p:spPr>
            <a:xfrm flipV="1">
              <a:off x="4571280" y="1726920"/>
              <a:ext cx="0" cy="790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50187"/>
            <p:cNvSpPr/>
            <p:nvPr/>
          </p:nvSpPr>
          <p:spPr>
            <a:xfrm>
              <a:off x="3981960" y="164160"/>
              <a:ext cx="1179000" cy="156456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wird</a:t>
              </a:r>
              <a:r>
                <a:rPr b="0" lang="ru-RU" sz="1400" spc="-1" strike="noStrike">
                  <a:solidFill>
                    <a:srgbClr val="e5e5ff"/>
                  </a:solidFill>
                  <a:latin typeface="Adobe Heiti Std R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durch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keinerlei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Inpu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erreich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50186"/>
            <p:cNvSpPr/>
            <p:nvPr/>
          </p:nvSpPr>
          <p:spPr>
            <a:xfrm>
              <a:off x="3981960" y="2517480"/>
              <a:ext cx="1179000" cy="1564560"/>
            </a:xfrm>
            <a:prstGeom prst="ellipse">
              <a:avLst/>
            </a:prstGeom>
            <a:solidFill>
              <a:srgbClr val="0099cc">
                <a:alpha val="50000"/>
              </a:srgbClr>
            </a:solidFill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ffcc00"/>
                  </a:solidFill>
                  <a:latin typeface="Arial Black"/>
                </a:rPr>
                <a:t>GRAMMATIK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 advTm="8000">
    <p:wheel spokes="8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0"/>
                            </p:stCondLst>
                            <p:childTnLst>
                              <p:par>
                                <p:cTn id="66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500"/>
                            </p:stCondLst>
                            <p:childTnLst>
                              <p:par>
                                <p:cTn id="7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500"/>
                            </p:stCondLst>
                            <p:childTnLst>
                              <p:par>
                                <p:cTn id="84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457200" y="274680"/>
            <a:ext cx="8228160" cy="5850720"/>
            <a:chOff x="457200" y="274680"/>
            <a:chExt cx="8228160" cy="5850720"/>
          </a:xfrm>
        </p:grpSpPr>
        <p:cxnSp>
          <p:nvCxnSpPr>
            <p:cNvPr id="111" name="_s56340"/>
            <p:cNvCxnSpPr>
              <a:stCxn id="112" idx="1"/>
              <a:endCxn id="113" idx="2"/>
            </p:cNvCxnSpPr>
            <p:nvPr/>
          </p:nvCxnSpPr>
          <p:spPr>
            <a:xfrm rot="10800000">
              <a:off x="2925000" y="1337760"/>
              <a:ext cx="823320" cy="4255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56325"/>
            <p:cNvCxnSpPr>
              <a:stCxn id="115" idx="1"/>
              <a:endCxn id="113" idx="2"/>
            </p:cNvCxnSpPr>
            <p:nvPr/>
          </p:nvCxnSpPr>
          <p:spPr>
            <a:xfrm rot="10800000">
              <a:off x="2925000" y="1337760"/>
              <a:ext cx="823320" cy="2660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56326"/>
            <p:cNvCxnSpPr>
              <a:stCxn id="117" idx="1"/>
              <a:endCxn id="113" idx="2"/>
            </p:cNvCxnSpPr>
            <p:nvPr/>
          </p:nvCxnSpPr>
          <p:spPr>
            <a:xfrm rot="10800000">
              <a:off x="2925000" y="1337760"/>
              <a:ext cx="823320" cy="1064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3" name="_s56327"/>
            <p:cNvSpPr/>
            <p:nvPr/>
          </p:nvSpPr>
          <p:spPr>
            <a:xfrm>
              <a:off x="457200" y="274680"/>
              <a:ext cx="4937040" cy="1063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0099cc"/>
                </a:gs>
              </a:gsLst>
              <a:lin ang="5400000"/>
            </a:gra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ff0066"/>
                  </a:solidFill>
                  <a:latin typeface="Franklin Gothic Book"/>
                </a:rPr>
                <a:t>SPRACHERWERB</a:t>
              </a:r>
              <a:r>
                <a:rPr b="0" lang="uk-UA" sz="2300" spc="-1" strike="noStrike">
                  <a:solidFill>
                    <a:srgbClr val="ff0066"/>
                  </a:solidFill>
                  <a:latin typeface="Garamond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56328"/>
            <p:cNvSpPr/>
            <p:nvPr/>
          </p:nvSpPr>
          <p:spPr>
            <a:xfrm>
              <a:off x="3748320" y="187020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aramond"/>
                </a:rPr>
                <a:t>   </a:t>
              </a: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kein Lernprozess, sondern ein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biologischer Reifevorgang</a:t>
              </a:r>
              <a:r>
                <a:rPr b="1" lang="ru-RU" sz="2500" spc="-1" strike="noStrike">
                  <a:solidFill>
                    <a:srgbClr val="000514"/>
                  </a:solidFill>
                  <a:latin typeface="Adobe Heiti Std R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56329"/>
            <p:cNvSpPr/>
            <p:nvPr/>
          </p:nvSpPr>
          <p:spPr>
            <a:xfrm>
              <a:off x="3748320" y="346608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Ist genetisch bedingt</a:t>
              </a:r>
              <a:r>
                <a:rPr b="0" lang="de-DE" sz="2500" spc="-1" strike="noStrike">
                  <a:solidFill>
                    <a:srgbClr val="000514"/>
                  </a:solidFill>
                  <a:latin typeface="Garamond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und daher</a:t>
              </a:r>
              <a:r>
                <a:rPr b="1" lang="ru-RU" sz="2500" spc="-1" strike="noStrike">
                  <a:solidFill>
                    <a:srgbClr val="000514"/>
                  </a:solidFill>
                  <a:latin typeface="Adobe Heiti Std R"/>
                </a:rPr>
                <a:t> </a:t>
              </a: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bei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514"/>
                  </a:solidFill>
                  <a:latin typeface="Adobe Heiti Std R"/>
                </a:rPr>
                <a:t>allen Menschen vorhande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54920" y="1914480"/>
              <a:ext cx="913320" cy="91620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54920" y="4940280"/>
              <a:ext cx="913320" cy="91548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28720" y="3643560"/>
              <a:ext cx="1057320" cy="91944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56339"/>
            <p:cNvSpPr/>
            <p:nvPr/>
          </p:nvSpPr>
          <p:spPr>
            <a:xfrm>
              <a:off x="3748320" y="506160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514"/>
                  </a:solidFill>
                  <a:latin typeface="Adobe Heiti Std R"/>
                </a:rPr>
                <a:t>ein biologisch fertiges Schem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919840" y="4757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7000">
    <p:wheel spokes="8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20:29:02Z</dcterms:created>
  <dc:creator>1</dc:creator>
  <dc:description/>
  <dc:language>en-US</dc:language>
  <cp:lastModifiedBy>UserXP</cp:lastModifiedBy>
  <dcterms:modified xsi:type="dcterms:W3CDTF">2011-05-17T12:52:31Z</dcterms:modified>
  <cp:revision>17</cp:revision>
  <dc:subject/>
  <dc:title>ПАМЯТЬ</dc:title>
</cp:coreProperties>
</file>