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A7905-6AA4-4B22-AD14-DCDBEC71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9314E-BB42-4A97-9D11-A0EB5F2E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BC62D-A4F8-4A6B-99A1-0E28DDFE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B2F3C-5A36-46CF-BBF0-4736D3ABE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BB4F-7158-4437-8F55-31EE0BCAB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8C0D-DF2F-4D86-A2D7-24B28989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7E19-4014-4A0A-BD86-076FF447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810F-69D0-4B62-8735-009E8258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BF52-0E7F-4D6D-8355-62A4B161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00ED-9B6F-4454-BFA9-CCEE9959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D9B6-F959-481F-ACE3-08443941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7B512-D2E6-4687-BF3A-AF63990C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453A-5859-468B-AD9D-1142805F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A822-AC6F-40F9-A607-EA2503D4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2A63-3579-4808-B310-F85E3E13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F3A5-EC3D-420B-A756-B7D64F4F3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CAB6-5C50-4B67-BCA5-9884858EC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3FFCA-F45E-469B-9963-EE502514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1BC1B-68B9-43FE-896D-7987A8D2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54CF5-7623-4377-9D36-168449B9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21BE1-C8C1-4B1D-B59A-9F16676A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4A7C2-978D-4678-8CCB-11E69858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76445-B0A2-433E-B363-1E4FCCB2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54F96-5814-465B-BA10-DAF5EFAE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FB38-A65E-4701-AEDF-992F6F26AF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00d0"/>
                  </a:gs>
                  <a:gs pos="100000">
                    <a:srgbClr val="66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ff"/>
                  </a:gs>
                  <a:gs pos="100000">
                    <a:srgbClr val="5900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100000">
                  <a:srgbClr val="560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00d0"/>
                  </a:gs>
                  <a:gs pos="100000">
                    <a:srgbClr val="66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ff"/>
                  </a:gs>
                  <a:gs pos="100000">
                    <a:srgbClr val="5900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100000">
                  <a:srgbClr val="560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10D7-6FCD-434B-9570-6901912A65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0"/>
            <a:ext cx="7451640" cy="4121280"/>
          </a:xfrm>
          <a:prstGeom prst="cloudCallout">
            <a:avLst>
              <a:gd name="adj1" fmla="val -46444"/>
              <a:gd name="adj2" fmla="val 75384"/>
            </a:avLst>
          </a:prstGeom>
          <a:gradFill rotWithShape="0">
            <a:gsLst>
              <a:gs pos="0">
                <a:srgbClr val="6600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Franklin Gothic Demi"/>
              </a:rPr>
              <a:t>Theorie</a:t>
            </a:r>
            <a:r>
              <a:rPr b="1" lang="uk-UA" sz="4400" spc="-1" strike="noStrike">
                <a:solidFill>
                  <a:srgbClr val="ffff00"/>
                </a:solidFill>
                <a:latin typeface="Franklin Gothic Dem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00"/>
                </a:solidFill>
                <a:latin typeface="Franklin Gothic Demi"/>
              </a:rPr>
              <a:t>       </a:t>
            </a:r>
            <a:r>
              <a:rPr b="1" lang="de-DE" sz="4400" spc="-1" strike="noStrike">
                <a:solidFill>
                  <a:srgbClr val="ffff00"/>
                </a:solidFill>
                <a:latin typeface="Franklin Gothic Demi"/>
              </a:rPr>
              <a:t>v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66"/>
                </a:solidFill>
                <a:latin typeface="Franklin Gothic Demi"/>
              </a:rPr>
              <a:t>Naom Chomsk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5084640"/>
            <a:ext cx="2050920" cy="177336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998"/>
                            </p:stCondLst>
                            <p:childTnLst>
                              <p:par>
                                <p:cTn id="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998"/>
                            </p:stCondLst>
                            <p:childTnLst>
                              <p:par>
                                <p:cTn id="29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447640" y="164160"/>
            <a:ext cx="4248360" cy="5094000"/>
            <a:chOff x="2447640" y="164160"/>
            <a:chExt cx="4248360" cy="5094000"/>
          </a:xfrm>
        </p:grpSpPr>
        <p:sp>
          <p:nvSpPr>
            <p:cNvPr id="103" name="_s50192"/>
            <p:cNvSpPr/>
            <p:nvPr/>
          </p:nvSpPr>
          <p:spPr>
            <a:xfrm flipH="1">
              <a:off x="3543480" y="3688200"/>
              <a:ext cx="518040" cy="394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50191"/>
            <p:cNvSpPr/>
            <p:nvPr/>
          </p:nvSpPr>
          <p:spPr>
            <a:xfrm>
              <a:off x="2447640" y="3692880"/>
              <a:ext cx="1179000" cy="156528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572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dobe Heiti Std R"/>
                </a:rPr>
                <a:t>Ü</a:t>
              </a: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bt auf da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Gesprochen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einen kausalen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Einfluss au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50190"/>
            <p:cNvSpPr/>
            <p:nvPr/>
          </p:nvSpPr>
          <p:spPr>
            <a:xfrm>
              <a:off x="5080320" y="3688200"/>
              <a:ext cx="515880" cy="396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50189"/>
            <p:cNvSpPr/>
            <p:nvPr/>
          </p:nvSpPr>
          <p:spPr>
            <a:xfrm>
              <a:off x="5517000" y="3692880"/>
              <a:ext cx="1179000" cy="1565280"/>
            </a:xfrm>
            <a:prstGeom prst="ellipse">
              <a:avLst/>
            </a:prstGeom>
            <a:solidFill>
              <a:srgbClr val="a886e0">
                <a:alpha val="50000"/>
              </a:srgbClr>
            </a:solidFill>
            <a:ln w="572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quasi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unabhängig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von dem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Gesprochenen</a:t>
              </a:r>
              <a:r>
                <a:rPr b="0" lang="ru-RU" sz="14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50188"/>
            <p:cNvSpPr/>
            <p:nvPr/>
          </p:nvSpPr>
          <p:spPr>
            <a:xfrm flipV="1">
              <a:off x="4571280" y="1726920"/>
              <a:ext cx="0" cy="790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50187"/>
            <p:cNvSpPr/>
            <p:nvPr/>
          </p:nvSpPr>
          <p:spPr>
            <a:xfrm>
              <a:off x="3981960" y="164160"/>
              <a:ext cx="1179000" cy="156456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wird</a:t>
              </a:r>
              <a:r>
                <a:rPr b="0" lang="ru-RU" sz="1400" spc="-1" strike="noStrike">
                  <a:solidFill>
                    <a:srgbClr val="e5e5ff"/>
                  </a:solidFill>
                  <a:latin typeface="Adobe Heiti Std R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durch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keinerlei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Inpu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erreic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50186"/>
            <p:cNvSpPr/>
            <p:nvPr/>
          </p:nvSpPr>
          <p:spPr>
            <a:xfrm>
              <a:off x="3981960" y="2517480"/>
              <a:ext cx="1179000" cy="1564560"/>
            </a:xfrm>
            <a:prstGeom prst="ellipse">
              <a:avLst/>
            </a:prstGeom>
            <a:solidFill>
              <a:srgbClr val="0099cc">
                <a:alpha val="50000"/>
              </a:srgbClr>
            </a:solid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ffcc00"/>
                  </a:solidFill>
                  <a:latin typeface="Arial Black"/>
                </a:rPr>
                <a:t>GRAMMATIK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 advTm="8000">
    <p:wheel spokes="8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500"/>
                            </p:stCondLst>
                            <p:childTnLst>
                              <p:par>
                                <p:cTn id="7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500"/>
                            </p:stCondLst>
                            <p:childTnLst>
                              <p:par>
                                <p:cTn id="8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457200" y="274680"/>
            <a:ext cx="8228160" cy="5850720"/>
            <a:chOff x="457200" y="274680"/>
            <a:chExt cx="8228160" cy="5850720"/>
          </a:xfrm>
        </p:grpSpPr>
        <p:cxnSp>
          <p:nvCxnSpPr>
            <p:cNvPr id="111" name="_s56340"/>
            <p:cNvCxnSpPr>
              <a:stCxn id="112" idx="1"/>
              <a:endCxn id="113" idx="2"/>
            </p:cNvCxnSpPr>
            <p:nvPr/>
          </p:nvCxnSpPr>
          <p:spPr>
            <a:xfrm rot="10800000">
              <a:off x="2925000" y="1337760"/>
              <a:ext cx="823320" cy="4255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56325"/>
            <p:cNvCxnSpPr>
              <a:stCxn id="115" idx="1"/>
              <a:endCxn id="113" idx="2"/>
            </p:cNvCxnSpPr>
            <p:nvPr/>
          </p:nvCxnSpPr>
          <p:spPr>
            <a:xfrm rot="10800000">
              <a:off x="2925000" y="1337760"/>
              <a:ext cx="823320" cy="2660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56326"/>
            <p:cNvCxnSpPr>
              <a:stCxn id="117" idx="1"/>
              <a:endCxn id="113" idx="2"/>
            </p:cNvCxnSpPr>
            <p:nvPr/>
          </p:nvCxnSpPr>
          <p:spPr>
            <a:xfrm rot="10800000">
              <a:off x="2925000" y="1337760"/>
              <a:ext cx="823320" cy="1064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3" name="_s56327"/>
            <p:cNvSpPr/>
            <p:nvPr/>
          </p:nvSpPr>
          <p:spPr>
            <a:xfrm>
              <a:off x="457200" y="274680"/>
              <a:ext cx="4937040" cy="1063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0099cc"/>
                </a:gs>
              </a:gsLst>
              <a:lin ang="5400000"/>
            </a:gra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ff0066"/>
                  </a:solidFill>
                  <a:latin typeface="Franklin Gothic Book"/>
                </a:rPr>
                <a:t>SPRACHERWERB</a:t>
              </a:r>
              <a:r>
                <a:rPr b="0" lang="uk-UA" sz="2300" spc="-1" strike="noStrike">
                  <a:solidFill>
                    <a:srgbClr val="ff0066"/>
                  </a:solidFill>
                  <a:latin typeface="Garamond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56328"/>
            <p:cNvSpPr/>
            <p:nvPr/>
          </p:nvSpPr>
          <p:spPr>
            <a:xfrm>
              <a:off x="3748320" y="187020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aramond"/>
                </a:rPr>
                <a:t>   </a:t>
              </a: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kein Lernprozess, sondern ein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biologischer Reifevorgang</a:t>
              </a:r>
              <a:r>
                <a:rPr b="1" lang="ru-RU" sz="2500" spc="-1" strike="noStrike">
                  <a:solidFill>
                    <a:srgbClr val="000514"/>
                  </a:solidFill>
                  <a:latin typeface="Adobe Heiti Std R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56329"/>
            <p:cNvSpPr/>
            <p:nvPr/>
          </p:nvSpPr>
          <p:spPr>
            <a:xfrm>
              <a:off x="3748320" y="346608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Ist genetisch bedingt</a:t>
              </a:r>
              <a:r>
                <a:rPr b="0" lang="de-DE" sz="2500" spc="-1" strike="noStrike">
                  <a:solidFill>
                    <a:srgbClr val="000514"/>
                  </a:solidFill>
                  <a:latin typeface="Garamond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und daher</a:t>
              </a:r>
              <a:r>
                <a:rPr b="1" lang="ru-RU" sz="2500" spc="-1" strike="noStrike">
                  <a:solidFill>
                    <a:srgbClr val="000514"/>
                  </a:solidFill>
                  <a:latin typeface="Adobe Heiti Std R"/>
                </a:rPr>
                <a:t> </a:t>
              </a: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bei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514"/>
                  </a:solidFill>
                  <a:latin typeface="Adobe Heiti Std R"/>
                </a:rPr>
                <a:t>allen Menschen vorhande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54920" y="1914480"/>
              <a:ext cx="913320" cy="91620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54920" y="4940280"/>
              <a:ext cx="913320" cy="91548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28720" y="3643560"/>
              <a:ext cx="1057320" cy="91944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56339"/>
            <p:cNvSpPr/>
            <p:nvPr/>
          </p:nvSpPr>
          <p:spPr>
            <a:xfrm>
              <a:off x="3748320" y="506160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514"/>
                  </a:solidFill>
                  <a:latin typeface="Adobe Heiti Std R"/>
                </a:rPr>
                <a:t>ein biologisch fertiges Schem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919840" y="475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7000">
    <p:wheel spokes="8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20:29:02Z</dcterms:created>
  <dc:creator>1</dc:creator>
  <dc:description/>
  <dc:language>en-US</dc:language>
  <cp:lastModifiedBy>UserXP</cp:lastModifiedBy>
  <dcterms:modified xsi:type="dcterms:W3CDTF">2011-05-17T12:52:31Z</dcterms:modified>
  <cp:revision>17</cp:revision>
  <dc:subject/>
  <dc:title>ПАМЯТЬ</dc:title>
</cp:coreProperties>
</file>