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9799A-BFAC-4A67-BB08-DA4970544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42BA9-E46F-4935-84D3-3A6A5B485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5A0D1-6556-4EC3-A53C-1F8AE22BD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73BBE-99CF-4D69-8BD0-E8A7C6824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5E6B4-0947-4C3F-AC07-00FB13E98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61845-613E-4B4F-B070-66C6FA369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A6530-34B3-41CD-A76A-8B4CFB30A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1F034-74F4-443D-A44A-0D3FF8A0F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29BC1-5BC5-4299-AE92-D96D7E6A7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BA2BA-D979-4FF2-AFD1-1552D3814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A80EA-411C-45C3-A5F9-E1F8DDF53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F587B-DD00-44CD-A6E8-0AEA870D5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D24DD-EA27-4DC3-A9F3-965E1A1CE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90796-91DA-4DEE-9F87-1A7B74ED3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E6180-DE5C-424D-9B24-79F5AC786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AE257E-E210-4892-A56E-5747E7BF5D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E7014A-E90D-4DFB-A1BD-F9EB5C0FED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9A429F-4FF6-4A47-A1D8-D54B146C51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05C6D0-B341-4F39-9E15-184C7DF739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8ADED6-E07A-4B20-9239-0563C67E58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6DC8F2-AFE1-42DB-897D-91EA7EE123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5597CE-1CD7-4102-A950-4BD9D4B1AB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34A00-242E-4F9F-9AFD-DEE2289DD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4E782A-CC46-451C-8938-EA97249212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F3EAA9-8B55-494E-B9E0-C61F301A0A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2EF10C-1A6D-4D0D-93CB-80F5A8655F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93AD7A-04AD-4FAB-A2BA-B9C5A9F446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14E369-7B5D-4F70-AE3F-7C177F2320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769F17-354B-4D5B-A5C5-D797182D41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4F75C7-AE6C-4444-A820-EBFD348A13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B69B51-9834-4E87-992B-4BCB40876B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55AB12-8E63-4218-B116-81DC0F0E86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783E9A-DB1A-4B3A-8BD4-B08639DEC1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694E6-40D9-4843-B1A0-CAC2E0BF3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75E61D-42D1-4978-BA3D-E88FEC2FDF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8E8F4C-8E05-4A40-8BD0-0E217265FB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869A27-96B9-468B-B872-C841BC4FE5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2E87D5-EA84-4DA7-A78F-10013AF786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CC49A7-DBA3-49BA-B259-16699EF349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4AEC2C-FBFF-4F8D-8C23-9F8589EA4E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24328C-EEDD-424E-A0DD-1C037C4320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6D72B3-FC13-4AF4-BC08-4B775ED4AC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C34E80-B327-4B24-AC11-0828FB96C2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F8615-5B19-4A0B-9900-419F96922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CDC07-D277-4D3E-986B-E7E54A71B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D34FF-F97E-463B-A8B8-6F5C4A4D3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9B4CC-5AF0-4134-BCD0-AB7745062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7AC99-03F1-44D8-AC91-A7B95A523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B412-B90B-437E-931A-0E7E36DCA5E6}"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2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Freeform 3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Freeform 3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 name="Freeform 3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 name="Freeform 3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 name="Freeform 3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 name="Freeform 3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 name="Freeform 1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7FCB-C157-43F0-867B-2FC58C879933}"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AF878-C21A-435E-A909-5F48A8F5DB7D}"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3"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4B94-4104-4D0A-BA99-B0AC2FBDCE59}"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360"/>
            <a:ext cx="7772400" cy="21337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fcbef"/>
                </a:solidFill>
                <a:latin typeface="Trebuchet MS"/>
              </a:rPr>
              <a:t>LECTURE 2</a:t>
            </a:r>
            <a:br>
              <a:rPr sz="2400"/>
            </a:br>
            <a:r>
              <a:rPr b="1" lang="en-US" sz="2400" spc="-1" strike="noStrike">
                <a:solidFill>
                  <a:srgbClr val="5fcbef"/>
                </a:solidFill>
                <a:latin typeface="Trebuchet MS"/>
              </a:rPr>
              <a:t> Cross-cultural communication and cultural aspects</a:t>
            </a:r>
            <a:endParaRPr b="0" lang="en-US" sz="2400" spc="-1" strike="noStrike">
              <a:solidFill>
                <a:srgbClr val="5fcbef"/>
              </a:solidFill>
              <a:latin typeface="Trebuchet MS"/>
            </a:endParaRPr>
          </a:p>
        </p:txBody>
      </p:sp>
      <p:sp>
        <p:nvSpPr>
          <p:cNvPr id="213" name="PlaceHolder 2"/>
          <p:cNvSpPr>
            <a:spLocks noGrp="1"/>
          </p:cNvSpPr>
          <p:nvPr>
            <p:ph type="subTitle"/>
          </p:nvPr>
        </p:nvSpPr>
        <p:spPr>
          <a:xfrm>
            <a:off x="1371240" y="2276280"/>
            <a:ext cx="7088040" cy="3362040"/>
          </a:xfrm>
          <a:prstGeom prst="rect">
            <a:avLst/>
          </a:prstGeom>
          <a:noFill/>
          <a:ln w="0">
            <a:noFill/>
          </a:ln>
        </p:spPr>
        <p:txBody>
          <a:bodyPr anchor="t">
            <a:noAutofit/>
          </a:bodyPr>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ross-cultural communication peculiarities and Grice’s Theory of Implicature</a:t>
            </a:r>
            <a:endParaRPr b="0" lang="en-US" sz="2400" spc="-1" strike="noStrike">
              <a:solidFill>
                <a:srgbClr val="404040"/>
              </a:solidFill>
              <a:latin typeface="Trebuchet MS"/>
            </a:endParaRPr>
          </a:p>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ulture</a:t>
            </a:r>
            <a:endParaRPr b="0" lang="en-US" sz="24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Definition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ayer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evels of Culture Existenc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anifestation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easuring Cultural Difference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Reconciliation Of Cultural Differences</a:t>
            </a:r>
            <a:endParaRPr b="0" lang="en-US" sz="2200" spc="-1" strike="noStrike">
              <a:solidFill>
                <a:srgbClr val="404040"/>
              </a:solidFill>
              <a:latin typeface="Trebuchet MS"/>
            </a:endParaRPr>
          </a:p>
          <a:p>
            <a:pPr marL="609480" indent="0" algn="r">
              <a:lnSpc>
                <a:spcPct val="7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1"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n its broadest sense is cultivated behavior; that is the totality of a person's learned, accumulated experience which is socially transmitted, or more briefly, behavior through social learning.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A culture is a way of life of a group of people--the behaviors, beliefs, values, and symbols that they accept, generally without thinking about them, and that are passed along by communication and imitation from one generation to the next.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symbolic communication. Some of its symbols include a group's skills, knowledge, attitudes, values, and motives. The meanings of the symbols are learned and deliberately perpetuated in a society through its institutions.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3"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consists of patterns, explicit and implicit, of and for behavior acquired and transmitted by symbols, constituting the distinctive achievement of human groups, including their embodiments in artifacts; the essential core of culture consists of traditional ideas and especially their attached values; culture systems may, on the one hand, be considered as products of action, on the other hand, as conditioning influences upon further action.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um of total of the learned behavior of a group of people that are generally considered to be the tradition of that people and are transmitted from generation to generation.</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a collective programming of the mind that distinguishes the members of one group or category of people from another.</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892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Layers of Culture</a:t>
            </a:r>
            <a:endParaRPr b="0" lang="en-US" sz="3600" spc="-1" strike="noStrike">
              <a:solidFill>
                <a:srgbClr val="5fcbef"/>
              </a:solidFill>
              <a:latin typeface="Trebuchet MS"/>
            </a:endParaRPr>
          </a:p>
        </p:txBody>
      </p:sp>
      <p:sp>
        <p:nvSpPr>
          <p:cNvPr id="235" name=""/>
          <p:cNvSpPr txBox="1"/>
          <p:nvPr/>
        </p:nvSpPr>
        <p:spPr>
          <a:xfrm>
            <a:off x="566280" y="1341360"/>
            <a:ext cx="8001000" cy="467856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rPr>
              <a:t>1) cultural layer (shared language, traditions, and beliefs that set each of these peoples apart from others)</a:t>
            </a:r>
            <a:r>
              <a:rPr b="0" lang="ru-RU"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imes New Roman"/>
              </a:rPr>
              <a:t>2) subcultural layer (</a:t>
            </a:r>
            <a:r>
              <a:rPr b="1" lang="en-US" sz="1800" spc="-1" strike="noStrike">
                <a:solidFill>
                  <a:srgbClr val="404040"/>
                </a:solidFill>
                <a:latin typeface="Times New Roman"/>
              </a:rPr>
              <a:t>shared common identity, food tradition, dialect or language, and other cultural traits that come from their common ancestral background and experience)</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imes New Roman"/>
              </a:rPr>
              <a:t> </a:t>
            </a:r>
            <a:r>
              <a:rPr b="0" lang="en-US" sz="1800" spc="-1" strike="noStrike">
                <a:solidFill>
                  <a:srgbClr val="404040"/>
                </a:solidFill>
                <a:latin typeface="Times New Roman"/>
              </a:rPr>
              <a:t>3) </a:t>
            </a:r>
            <a:r>
              <a:rPr b="1" lang="en-US" sz="1800" spc="-1" strike="noStrike">
                <a:solidFill>
                  <a:srgbClr val="404040"/>
                </a:solidFill>
                <a:latin typeface="Times New Roman"/>
              </a:rPr>
              <a:t>cultural universals.</a:t>
            </a:r>
            <a:r>
              <a:rPr b="0" lang="en-US"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imes New Roman"/>
              </a:rPr>
              <a:t>cultural universals</a:t>
            </a:r>
            <a:endParaRPr b="0" lang="en-US" sz="3600" spc="-1" strike="noStrike">
              <a:solidFill>
                <a:srgbClr val="5fcbef"/>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 communicating with a verbal language consisting of a limited set of sounds and grammatical rules for constructing sentenc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2.using age and gender to classify people (e.g., teenager, senior citizen, woman, ma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3.classifying people based on marriage and descent relationships and having kinship terms to refer to them (e.g., wife, mother, uncle, cousi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4. raising children in some sort of family setting</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5.having a sexual division of labor (e.g., men's work versus women's work)</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6.having a concept of privacy</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7. having rules to regulate sexual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8. distinguishing between good and bad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9. having some sort of body ornamentatio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0. making jokes and playing gam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1. having art</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2. having some sort of leadership roles for the implementation of community decisions</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404640"/>
            <a:ext cx="8001000" cy="720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Levels of Culture Existence</a:t>
            </a:r>
            <a:endParaRPr b="0" lang="en-US" sz="3600" spc="-1" strike="noStrike">
              <a:solidFill>
                <a:srgbClr val="5fcbef"/>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ifferent layers of culture exist at the following levels:</a:t>
            </a:r>
            <a:r>
              <a:rPr b="0" lang="en-US" sz="1800" spc="-1" strike="noStrike">
                <a:solidFill>
                  <a:srgbClr val="404040"/>
                </a:solidFill>
                <a:latin typeface="Trebuchet MS"/>
              </a:rPr>
              <a:t> </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national level: Associated with the nation as a who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regional level: Associated with ethnic, linguistic, or religious differences that exist within a n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der level: Associated with gender differences (female vs. ma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eration level: Associated with the differences between grandparents and parents, parents and childre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social class level: Associated with educational opportunities and differences in occup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rporate level: Associated with the particular culture of an organization. Applicable to those who are employ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ANIFESTATIONS OF CULTURE</a:t>
            </a:r>
            <a:endParaRPr b="0" lang="en-US" sz="3400" spc="-1" strike="noStrike">
              <a:solidFill>
                <a:srgbClr val="5fcbef"/>
              </a:solidFill>
              <a:latin typeface="Trebuchet MS"/>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Symbols</a:t>
            </a:r>
            <a:r>
              <a:rPr b="0" lang="en-US" sz="1800" spc="-1" strike="noStrike">
                <a:solidFill>
                  <a:srgbClr val="404040"/>
                </a:solidFill>
                <a:latin typeface="Trebuchet MS"/>
              </a:rPr>
              <a:t> are words, gestures, pictures or objects that carry a particular meaning which is only recognized by those who share the culture. </a:t>
            </a:r>
            <a:endParaRPr b="0" lang="en-US" sz="18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ew symbols are easily developed and old ones disappear: symbols from one cultural group are regularly copied by others.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108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Heroes</a:t>
            </a:r>
            <a:endParaRPr b="0" lang="en-US" sz="3600" spc="-1" strike="noStrike">
              <a:solidFill>
                <a:srgbClr val="5fcbef"/>
              </a:solidFill>
              <a:latin typeface="Trebuchet MS"/>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re persons, alive or dead, real or imaginary, who possess characteristics which are highly prized in a culture, and who thus serve as models for behaviour.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Rituals</a:t>
            </a:r>
            <a:endParaRPr b="0" lang="en-US" sz="3600" spc="-1" strike="noStrike">
              <a:solidFill>
                <a:srgbClr val="5fcbef"/>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fontScale="96000"/>
          </a:bodyPr>
          <a:p>
            <a:pPr marL="329040" indent="-3290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re collective activities, technically superfluous in reaching desired ends, but which, within a culture, are considered as socially essential: they are therefore carried out for their own sake.  Ways of greeting and paying respect to others, social and religious ceremonies are examples. Business and political meetings organized for seemingly rational reasons often serve mainly ritual purposes, like allowing the leaders to assert themselves.</a:t>
            </a:r>
            <a:r>
              <a:rPr b="0" lang="ru-RU" sz="2400" spc="-1" strike="noStrike">
                <a:solidFill>
                  <a:srgbClr val="404040"/>
                </a:solidFill>
                <a:latin typeface="Trebuchet MS"/>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560"/>
            <a:ext cx="8001000" cy="1036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5fcbef"/>
                </a:solidFill>
                <a:latin typeface="Trebuchet MS"/>
              </a:rPr>
              <a:t>Manifestation of Culture at Different Levels of Depth</a:t>
            </a:r>
            <a:endParaRPr b="0" lang="en-US" sz="3100" spc="-1" strike="noStrike">
              <a:solidFill>
                <a:srgbClr val="5fcbef"/>
              </a:solidFill>
              <a:latin typeface="Trebuchet MS"/>
            </a:endParaRPr>
          </a:p>
        </p:txBody>
      </p:sp>
      <p:pic>
        <p:nvPicPr>
          <p:cNvPr id="247" name="Picture 4" descr=""/>
          <p:cNvPicPr/>
          <p:nvPr/>
        </p:nvPicPr>
        <p:blipFill>
          <a:blip r:embed="rId1"/>
          <a:stretch/>
        </p:blipFill>
        <p:spPr>
          <a:xfrm>
            <a:off x="1855800" y="2182680"/>
            <a:ext cx="3857760" cy="38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EASURING CULTURAL DIFFERENCES</a:t>
            </a:r>
            <a:endParaRPr b="0" lang="en-US" sz="3400" spc="-1" strike="noStrike">
              <a:solidFill>
                <a:srgbClr val="5fcbef"/>
              </a:solidFill>
              <a:latin typeface="Trebuchet MS"/>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ower distance index:  The index measures the degree of inequality that exists in a socie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ncertainty avoidance index: The index measures the extent to which a society feels threatened by uncertain or ambiguous situations.</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Conversational Implicature</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The aspect of meaning that a speaker conveys, implies, or suggests without directly expressing.</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2.  The process by which such a meaning is conveyed, implied, or suggested.</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51" name=""/>
          <p:cNvSpPr txBox="1"/>
          <p:nvPr/>
        </p:nvSpPr>
        <p:spPr>
          <a:xfrm>
            <a:off x="457200" y="476280"/>
            <a:ext cx="8229600" cy="564984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Individualism index: The index measure the extent to which a society is individualistic. </a:t>
            </a:r>
            <a:r>
              <a:rPr b="1" i="1" lang="en-US" sz="2100" spc="-1" strike="noStrike">
                <a:solidFill>
                  <a:srgbClr val="404040"/>
                </a:solidFill>
                <a:latin typeface="Trebuchet MS"/>
              </a:rPr>
              <a:t>Individualism</a:t>
            </a:r>
            <a:r>
              <a:rPr b="0" lang="en-US" sz="2100" spc="-1" strike="noStrike">
                <a:solidFill>
                  <a:srgbClr val="404040"/>
                </a:solidFill>
                <a:latin typeface="Trebuchet MS"/>
              </a:rPr>
              <a:t> refers to a loosely knit social framework in a society in which people are supposed to take care of themselves and their immediate families only. The other end of the spectrum would be </a:t>
            </a:r>
            <a:r>
              <a:rPr b="1" i="1" lang="en-US" sz="2100" spc="-1" strike="noStrike">
                <a:solidFill>
                  <a:srgbClr val="404040"/>
                </a:solidFill>
                <a:latin typeface="Trebuchet MS"/>
              </a:rPr>
              <a:t>collectivism</a:t>
            </a:r>
            <a:r>
              <a:rPr b="0" lang="en-US" sz="2100" spc="-1" strike="noStrike">
                <a:solidFill>
                  <a:srgbClr val="404040"/>
                </a:solidFill>
                <a:latin typeface="Trebuchet MS"/>
              </a:rPr>
              <a:t> that occurs when there is a tight social framework in which people distinguish between in-groups and out-groups; they expect their in-groups (relatives, clans, organizations) to look after them in exchange for absolute loyalty.</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Masculinity index (Achievement vs. Relationship): The index measures the extent to which the dominant values are assertiveness, money and things (achievement), not caring for others or for quality of life. The other end of the spectrum would be </a:t>
            </a:r>
            <a:r>
              <a:rPr b="1" i="1" lang="en-US" sz="2100" spc="-1" strike="noStrike">
                <a:solidFill>
                  <a:srgbClr val="404040"/>
                </a:solidFill>
                <a:latin typeface="Trebuchet MS"/>
              </a:rPr>
              <a:t>femininity</a:t>
            </a:r>
            <a:r>
              <a:rPr b="0" lang="en-US" sz="2100" spc="-1" strike="noStrike">
                <a:solidFill>
                  <a:srgbClr val="404040"/>
                </a:solidFill>
                <a:latin typeface="Trebuchet MS"/>
              </a:rPr>
              <a:t> (relationship).</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RECONCILIATION OF CULTURAL DIFFERENCES</a:t>
            </a:r>
            <a:endParaRPr b="0" lang="en-US" sz="3400" spc="-1" strike="noStrike">
              <a:solidFill>
                <a:srgbClr val="5fcbef"/>
              </a:solidFill>
              <a:latin typeface="Trebuchet MS"/>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ultural awareness: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it is necessary to identify the cultural differences that may exist between one's home country and the country of business operation.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ecide whether and to what extent the home-country practices may be adapted to the foreign environment.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ertain aspects of a culture may be learned 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some other differences are learned sub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iscussions and reading about other cultures helps build cultural awareness</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Clustering cultures: </a:t>
            </a:r>
            <a:br>
              <a:rPr sz="3400"/>
            </a:br>
            <a:endParaRPr b="0" lang="en-US" sz="3400" spc="-1" strike="noStrike">
              <a:solidFill>
                <a:srgbClr val="5fcbef"/>
              </a:solidFill>
              <a:latin typeface="Trebuchet MS"/>
            </a:endParaRPr>
          </a:p>
        </p:txBody>
      </p:sp>
      <p:sp>
        <p:nvSpPr>
          <p:cNvPr id="25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Some countries may share many attributes that help mold their cultures (the modifiers may be language, religion, geographical location, etc.). Based on this data obtained from past cross-cultural studies, countries may be grouped by similarities in values and attitudes. Fewer differences may be expected when moving within a cluster than when moving from one cluster to anothe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0" lang="en-US" sz="3100" spc="-1" strike="noStrike">
                <a:solidFill>
                  <a:srgbClr val="5fcbef"/>
                </a:solidFill>
                <a:latin typeface="Trebuchet MS"/>
              </a:rPr>
              <a:t>Determining the extent</a:t>
            </a:r>
            <a:br>
              <a:rPr sz="3100"/>
            </a:br>
            <a:r>
              <a:rPr b="0" lang="en-US" sz="3100" spc="-1" strike="noStrike">
                <a:solidFill>
                  <a:srgbClr val="5fcbef"/>
                </a:solidFill>
                <a:latin typeface="Trebuchet MS"/>
              </a:rPr>
              <a:t> of global involvement: </a:t>
            </a:r>
            <a:br>
              <a:rPr sz="3100"/>
            </a:br>
            <a:endParaRPr b="0" lang="en-US" sz="3100" spc="-1" strike="noStrike">
              <a:solidFill>
                <a:srgbClr val="5fcbef"/>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ll enterprises operating globally need not have the same degree of cultural awarenes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e further a company moves out from the sole role of doing domestic business, the more it needs to understand cultural difference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ving outward on more than one axis simultaneously makes the need for building cultural awareness even more essential.</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 Cultural Awareness and Extent of Global Involvement</a:t>
            </a:r>
            <a:r>
              <a:rPr b="0" lang="ru-RU" sz="3400" spc="-1" strike="noStrike">
                <a:solidFill>
                  <a:srgbClr val="5fcbef"/>
                </a:solidFill>
                <a:latin typeface="Trebuchet MS"/>
              </a:rPr>
              <a:t> </a:t>
            </a:r>
            <a:endParaRPr b="0" lang="en-US" sz="3400" spc="-1" strike="noStrike">
              <a:solidFill>
                <a:srgbClr val="5fcbef"/>
              </a:solidFill>
              <a:latin typeface="Trebuchet MS"/>
            </a:endParaRPr>
          </a:p>
        </p:txBody>
      </p:sp>
      <p:pic>
        <p:nvPicPr>
          <p:cNvPr id="259" name="Picture 4" descr=""/>
          <p:cNvPicPr/>
          <p:nvPr/>
        </p:nvPicPr>
        <p:blipFill>
          <a:blip r:embed="rId1"/>
          <a:stretch/>
        </p:blipFill>
        <p:spPr>
          <a:xfrm>
            <a:off x="1494000" y="2481120"/>
            <a:ext cx="4581360" cy="32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Cooperative principle </a:t>
            </a:r>
            <a:br>
              <a:rPr sz="3400"/>
            </a:br>
            <a:endParaRPr b="0" lang="en-US" sz="3400" spc="-1" strike="noStrike">
              <a:solidFill>
                <a:srgbClr val="5fcbef"/>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a:t>
            </a:r>
            <a:r>
              <a:rPr b="1" lang="en-US" sz="1800" spc="-1" strike="noStrike">
                <a:solidFill>
                  <a:srgbClr val="404040"/>
                </a:solidFill>
                <a:latin typeface="Trebuchet MS"/>
              </a:rPr>
              <a:t>Make your contribution such as it is required, at the stage at which it occurs, by the accepted purpose or direction of the talk exchange in which you are engag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Maxims of Conversation</a:t>
            </a:r>
            <a:endParaRPr b="0" lang="en-US" sz="3600" spc="-1" strike="noStrike">
              <a:solidFill>
                <a:srgbClr val="5fcbef"/>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Maxim of Quantity: Informat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Make your contribution as informative as is required for the current purposes of the exchang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o not make your contribution more informative than is requir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2. Maxim of Quality: Truth</a:t>
            </a:r>
            <a:endParaRPr b="0" lang="en-US" sz="3600" spc="-1" strike="noStrike">
              <a:solidFill>
                <a:srgbClr val="5fcbef"/>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what you believe to be fals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that for which you lack adequate evidenc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5fcbef"/>
                </a:solidFill>
                <a:latin typeface="Trebuchet MS"/>
              </a:rPr>
              <a:t>3. Maxim of Relation: Relevance</a:t>
            </a:r>
            <a:br>
              <a:rPr sz="3100"/>
            </a:br>
            <a:endParaRPr b="0" lang="en-US" sz="3100" spc="-1" strike="noStrike">
              <a:solidFill>
                <a:srgbClr val="5fcbef"/>
              </a:solidFill>
              <a:latin typeface="Trebuchet MS"/>
            </a:endParaRPr>
          </a:p>
        </p:txBody>
      </p:sp>
      <p:sp>
        <p:nvSpPr>
          <p:cNvPr id="223" name=""/>
          <p:cNvSpPr txBox="1"/>
          <p:nvPr/>
        </p:nvSpPr>
        <p:spPr>
          <a:xfrm>
            <a:off x="566280" y="2997360"/>
            <a:ext cx="8001000" cy="30225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relevan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477720"/>
            <a:ext cx="8001000" cy="1043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Maxim of Manner: Clarity (“be perspicuous”)</a:t>
            </a:r>
            <a:r>
              <a:rPr b="0" lang="en-US" sz="2900" spc="-1" strike="noStrike">
                <a:solidFill>
                  <a:srgbClr val="5fcbef"/>
                </a:solidFill>
                <a:latin typeface="Trebuchet MS"/>
              </a:rPr>
              <a:t> </a:t>
            </a:r>
            <a:br>
              <a:rPr sz="2900"/>
            </a:br>
            <a:br>
              <a:rPr sz="2900"/>
            </a:br>
            <a:br>
              <a:rPr sz="3100"/>
            </a:br>
            <a:br>
              <a:rPr sz="3100"/>
            </a:br>
            <a:br>
              <a:rPr sz="3100"/>
            </a:br>
            <a:br>
              <a:rPr sz="3100"/>
            </a:br>
            <a:br>
              <a:rPr sz="3100"/>
            </a:br>
            <a:br>
              <a:rPr sz="3100"/>
            </a:br>
            <a:endParaRPr b="0" lang="en-US" sz="2900" spc="-1" strike="noStrike">
              <a:solidFill>
                <a:srgbClr val="5fcbef"/>
              </a:solidFill>
              <a:latin typeface="Trebuchet MS"/>
            </a:endParaRPr>
          </a:p>
        </p:txBody>
      </p:sp>
      <p:sp>
        <p:nvSpPr>
          <p:cNvPr id="225" name=""/>
          <p:cNvSpPr txBox="1"/>
          <p:nvPr/>
        </p:nvSpPr>
        <p:spPr>
          <a:xfrm>
            <a:off x="609120" y="1521000"/>
            <a:ext cx="6348600" cy="45208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obscurity of express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ambigui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brief (avoid unnecessary prolixity).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orderly.</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2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onversational implicatures</a:t>
            </a:r>
            <a:r>
              <a:rPr b="0" lang="en-US" sz="1800" spc="-1" strike="noStrike">
                <a:solidFill>
                  <a:srgbClr val="404040"/>
                </a:solidFill>
                <a:latin typeface="Trebuchet MS"/>
              </a:rPr>
              <a:t> are made possible, according to Grice, by the fact that the participants in a conversation always </a:t>
            </a:r>
            <a:r>
              <a:rPr b="1" lang="en-US" sz="1800" spc="-1" strike="noStrike">
                <a:solidFill>
                  <a:srgbClr val="404040"/>
                </a:solidFill>
                <a:latin typeface="Trebuchet MS"/>
              </a:rPr>
              <a:t>assume each other to behave according to the maxims</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CULTURE is the full range of learned human behavior patterns</a:t>
            </a:r>
            <a:endParaRPr b="0" lang="en-US" sz="2900" spc="-1" strike="noStrike">
              <a:solidFill>
                <a:srgbClr val="5fcbef"/>
              </a:solidFill>
              <a:latin typeface="Trebuchet MS"/>
            </a:endParaRPr>
          </a:p>
        </p:txBody>
      </p:sp>
      <p:sp>
        <p:nvSpPr>
          <p:cNvPr id="229" name=""/>
          <p:cNvSpPr txBox="1"/>
          <p:nvPr/>
        </p:nvSpPr>
        <p:spPr>
          <a:xfrm>
            <a:off x="609120" y="2160360"/>
            <a:ext cx="6348600" cy="3881160"/>
          </a:xfrm>
          <a:prstGeom prst="rect">
            <a:avLst/>
          </a:prstGeom>
          <a:noFill/>
          <a:ln w="0">
            <a:noFill/>
          </a:ln>
        </p:spPr>
        <p:txBody>
          <a:bodyPr anchor="t">
            <a:normAutofit fontScale="97000"/>
          </a:bodyPr>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refers to the cumulative deposit of knowledge, experience, beliefs, values, attitudes, meanings, hierarchies, religion, notions of time, roles, spatial relations, concepts of the universe, and material objects and possessions acquired by a group of people in the course of generations through individual and group striving.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ystems of knowledge shared by a relatively large group of people.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communication, communication is culture.</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7:30:01Z</dcterms:created>
  <dc:creator>User U.</dc:creator>
  <dc:description/>
  <dc:language>en-US</dc:language>
  <cp:lastModifiedBy>Cветлана</cp:lastModifiedBy>
  <dcterms:modified xsi:type="dcterms:W3CDTF">2021-10-11T05:57:31Z</dcterms:modified>
  <cp:revision>8</cp:revision>
  <dc:subject/>
  <dc:title>LECTURE 2  Cross-cultural communication and cultural aspects</dc:title>
</cp:coreProperties>
</file>