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8F8-1354-46EC-B77D-2D0CFAC2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F12-10AB-4842-B6B5-C9DD3588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151-5C7C-4048-AF0C-FAA2E9E2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903-C12C-4ABD-A9D3-923834D7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A6AC-FA05-4B54-BE3F-4AE0B1C5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EB7D-E84B-44DF-8387-E7F115F2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13FC-62F2-4399-9DB5-43A40ED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16B5-6FE4-4BEA-AC0E-D69A6496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D0C1-7823-4188-838E-1C466827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7F32-BC8B-4218-9266-3382FFDC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12C8-7888-4863-B76E-513025EE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288-8C72-4215-A4F1-4EB679A6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F78A-6FA1-4C74-A401-386DFC5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6E28-9F76-43D6-97DF-200C415A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236A-4470-4897-98A2-76C3AB30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8820-C1EA-4559-8031-592AB1EF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34B4-D668-403A-8B38-6B7049BE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4548-48FE-403D-89FA-FD408132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9B8C9-B3A9-4BE0-9B96-2817095F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6D65-6848-4E48-85D1-81CAB011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3A02-37E4-4627-8C62-F4E11CEC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DA1C-0D79-43A9-8D2E-BB8C12BA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321-F239-43F4-B51C-0FFE3811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1F3A-7020-4468-A64F-0DDEA8DC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50D5-A9F2-4496-BCA5-C2FEEF9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642A-776C-47A9-B0BB-845B15FC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73CA1-A319-49B6-8253-E397789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785B6-663B-489B-A19C-F5289646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B8C1-B66E-4FEA-A8FD-3EED96FF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43A4-26D5-4D10-9FBB-23AFA634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4FF9-349F-493C-9C64-8C4676A7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022F-533B-456F-BF8E-019296B7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2EA0-A048-4E52-9859-C432470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737-2860-4996-844A-81ED7F75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9BC8-D081-43B4-A4F5-D734F63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6FD0-8B40-4CD8-9CBD-31BEB089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4FA3-999A-4915-8B6A-E9B55AA2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0D031-7E84-428A-AA3F-D27D1F5E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D007E-E434-4DF5-9D22-F3EA4F4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A5C56-334B-403B-9796-FBACFBF1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55A3-231E-475D-A138-92B22FF6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582C-CEE8-45A6-AFCA-8411A1EF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70AF-C060-40CB-BD44-EB693539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9DB-DF00-4F43-98D3-3BBE3231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40D-7EB9-4BAA-9D43-735D5517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E94-AFA3-49B2-9826-F6D03FC1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15A-6AD2-452C-ACBD-CAAB48E3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425-192E-4F24-A458-3439626E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5157-0D7F-49D2-8E71-D5B3316F4CF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C1E1-9715-4F67-9F2E-B7D49928E8A9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9C45-EE6C-4AA4-BE24-591AA40DD1DA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3EFA-AEF0-4A7F-93F4-15CA2562A79F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b3d9f"/>
                </a:solidFill>
                <a:latin typeface="Trebuchet MS"/>
              </a:rPr>
              <a:t>Lingual Cultural Component of Style</a:t>
            </a:r>
            <a:endParaRPr b="0" lang="en-US" sz="4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492280"/>
            <a:ext cx="6400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The choice of lingual form in certain situation is both conscious and unconscious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Trebuchet MS"/>
              </a:rPr>
              <a:t>It depends on  social and psychological background  and cultural traditions of the speaker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uphemism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ationalizing of the work for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ing nation, emerging natio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hilosophically-major, owning short-life proper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conomically disadvantage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entally challenge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https://www.elledecor.com/life-culture/travel/g9523621/city-nicknames/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ig App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ndy Cit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Bedroom of New Y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quirrel Cag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close friend is better than a faraway broth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man can leave at peace unless his neighbor lets h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 neighbor gets is not lo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e who prays for his neighbor will be heard himself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 hospital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Body languag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Illness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uperstitions and mysticis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Attitudes toward money and wealth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Ukrainians and public behavio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ome and family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Raising child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chooling and higher education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Friendship and making acquaintanc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ender roles in Ukra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Dress and appear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Grooming and personal hygie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values of the United State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individu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love of freedo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equalitari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verence of law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multicultural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uritan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frontier spirit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pragmatism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respect of science and technolog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404040"/>
                </a:solidFill>
                <a:latin typeface="Trebuchet MS"/>
              </a:rPr>
              <a:t>belief in the future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b3d9f"/>
                </a:solidFill>
                <a:latin typeface="Trebuchet MS"/>
              </a:rPr>
              <a:t>American characteristic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depende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Inform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actic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Optimist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Naï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Toleran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Dynamic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Straightforwar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ssert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Ag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Progressiv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eb3d9f"/>
                </a:solidFill>
                <a:latin typeface="Trebuchet MS"/>
              </a:rPr>
              <a:t>прекрасної Японії я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apan, the Beautiful, and Mysel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Японія прекрасна і 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расою Японії народжен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Active character, initiative, individualism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en you stop rowing, you start downstre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t’s always better to light a candle than to curse the darkne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rong character depends not so much upon chances tan upon choi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re you lean on somebody else the leaner your chances on success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3d9f"/>
                </a:solidFill>
                <a:latin typeface="Trebuchet MS"/>
              </a:rPr>
              <a:t>Passive character, absence of  initiative</a:t>
            </a:r>
            <a:r>
              <a:rPr b="0" lang="ru-RU" sz="40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так сталося, як гадало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Лови рибу, як лови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еретреться, перемнеться, та й так минеться.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Positive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off the gras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lease keep clea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r personnel only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o encourage all customers we are prepared to offer a special trade discount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Negative</a:t>
            </a:r>
            <a:r>
              <a:rPr b="0" lang="ru-RU" sz="3600" spc="-1" strike="noStrike">
                <a:solidFill>
                  <a:srgbClr val="eb3d9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о газонах не ход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Не смітит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ороннім вхід забороне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Щоб не втратити клієнтів, ми готові запропонувати знижки…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eep smi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voice with a smile always wi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lways win if you lose with a sm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are not fully dressed until you put on a smil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38:34Z</dcterms:created>
  <dc:creator>User U.</dc:creator>
  <dc:description/>
  <dc:language>en-US</dc:language>
  <cp:lastModifiedBy>Cветлана</cp:lastModifiedBy>
  <dcterms:modified xsi:type="dcterms:W3CDTF">2021-10-11T06:56:56Z</dcterms:modified>
  <cp:revision>5</cp:revision>
  <dc:subject/>
  <dc:title>Lingual Cultural Component of Style</dc:title>
</cp:coreProperties>
</file>