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34B2-B656-4F26-A0D4-BF84F62D1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7411-19F6-438D-94D8-A031E670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1BE2-054A-4280-ACB3-740D75DD8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2B07-BF75-4F52-B990-20936D09C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0025-C18F-46E2-BAD0-DA7652A5E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40F5-CB11-40E7-98DA-DA26987F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196B-72BC-4626-A394-8D282644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1A7D-FAEB-4E27-8117-B1EECC7E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0EDD-A64F-4806-A70C-0CCB7FFB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B31C-DB45-43E2-8D84-05A46383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881DE-1574-4F4F-8A63-535BDBA6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0766-6BDE-4B6F-BE65-FD763E33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AC31-0E40-4E87-969C-37CB9A1A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04A9-6B59-4C11-9501-DEE6861A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6BDC-DEA4-457B-9B80-39F896F1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A577-6E3C-4ECF-BDE7-FEF89DD2E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4BBA-6C33-48D6-9058-1D1B2945F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95AFC-596E-48F5-AF13-5A2D5D8C4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5CBBC-C626-4DC9-AD30-A1FF1E93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7B0AA-420E-4A76-B7F3-D438CF57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8B398-2EFC-4184-A85B-94289276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54C75-98C2-4845-ABAF-6CE4A7F5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9726-59CA-43C2-8B03-5D925627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3595A-F65C-4CA4-A08A-68333E95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84982-E214-4351-9B2A-354D10B6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953FE-9202-4E13-8DB7-A51376FC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44387-BA5F-4A12-B12E-04361518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95BAF-F435-46B7-BC2A-67091915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4CAAC-5869-4F6E-9F63-BE65DAFF7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0CDDC-0BD5-4824-A95F-74E3627F3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86030-F38B-4EC1-8FF1-D43084DFF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50F2D-663C-44A8-B516-ABD5E82C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91B95-AA3B-4EE6-971F-C0A4A6FE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C62D-3D07-4C96-A426-AA707BA3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B51EA-F40C-485A-AB36-221B00EC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3395A-0B62-43E3-8848-F0DF7D53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E12D5-8123-482D-8AC4-0D965EFB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D1CB8-ABA4-46E0-9A85-C931A9FB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25ADD-F571-44E8-90C3-97114162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41209-1BF1-48F1-9115-A63BFC28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E9937-014E-4ABA-9EB6-7BE15816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4473F-E57F-41CE-850E-126AFAEEB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D2CA0-7815-42FE-B3D5-D9F3BC156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C317-76F6-43AD-BE0A-37D9677F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2A78-5E8B-474E-808E-27D4CE53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9A38-A492-4D2D-9CDD-03F9EAB2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8DF1-8591-4477-BD2F-92BA1D7F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CF4C-5369-493F-86D3-A88D530F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525E-3535-4420-9D28-526555AF611C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6B78-9656-4181-BFBE-1E795A146995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D989-8CD0-4737-9349-A9CDD5779EF0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5CCB-3558-4917-ACF0-6536CE70405D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eb3d9f"/>
                </a:solidFill>
                <a:latin typeface="Trebuchet MS"/>
              </a:rPr>
              <a:t>Lingual Cultural Component of Style</a:t>
            </a:r>
            <a:endParaRPr b="0" lang="en-US" sz="4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403280" y="2492280"/>
            <a:ext cx="64008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Trebuchet MS"/>
              </a:rPr>
              <a:t>The choice of lingual form in certain situation is both conscious and unconscious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Trebuchet MS"/>
              </a:rPr>
              <a:t>It depends on  social and psychological background  and cultural traditions of the speaker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uphemism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ationalizing of the work forc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eveloping nation, emerging na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hilosophically-major, owning short-life propert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conomically disadvantag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entally challenged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https://www.elledecor.com/life-culture/travel/g9523621/city-nicknames/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ig Appl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indy Cit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edroom of New Yor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quirrel Cage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 close friend is better than a faraway broth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 man can leave at peace unless his neighbor lets hi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hat a neighbor gets is not lo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e who prays for his neighbor will be heard himself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Ukrainian hospitalit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Body languag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Illness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Superstitions and mysticis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Attitudes toward money and wealth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Ukrainians and public behavio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Home and family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Raising childr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Schooling and higher education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Friendship and making acquaintanc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Gender roles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Dress and appearanc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Grooming and personal hygie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eb3d9f"/>
                </a:solidFill>
                <a:latin typeface="Trebuchet MS"/>
              </a:rPr>
              <a:t>values of the United State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individual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love of freedo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equalitarian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reverence of laws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multicultural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Puritan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frontier spirit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pragmat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respect of science and technolog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belief in the future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eb3d9f"/>
                </a:solidFill>
                <a:latin typeface="Trebuchet MS"/>
              </a:rPr>
              <a:t>American characteristic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Independen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Informa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Practica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Optimistic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Naï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Toleran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Dynamic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Straightforwar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Asserti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Aggressi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Progressi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br>
              <a:rPr sz="3600"/>
            </a:br>
            <a:r>
              <a:rPr b="0" lang="uk-UA" sz="3600" spc="-1" strike="noStrike">
                <a:solidFill>
                  <a:srgbClr val="eb3d9f"/>
                </a:solidFill>
                <a:latin typeface="Trebuchet MS"/>
              </a:rPr>
              <a:t>прекрасної Японії я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Japan, the Beautiful, and Myself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Японія прекрасна і 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Красою Японії народжени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b3d9f"/>
                </a:solidFill>
                <a:latin typeface="Trebuchet MS"/>
              </a:rPr>
              <a:t>Active character, initiative, individualism</a:t>
            </a:r>
            <a:r>
              <a:rPr b="0" lang="ru-RU" sz="40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hen you stop rowing, you start downstrea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t’s always better to light a candle than to curse the darknes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trong character depends not so much upon chances tan upon choic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more you lean on somebody else the leaner your chances on success.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b3d9f"/>
                </a:solidFill>
                <a:latin typeface="Trebuchet MS"/>
              </a:rPr>
              <a:t>Passive character, absence of  initiative</a:t>
            </a:r>
            <a:r>
              <a:rPr b="0" lang="ru-RU" sz="40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Не так сталося, як гадалос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Лови рибу, як ловитьс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Перетреться, перемнеться, та й так минеться.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Positive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lease keep off the gras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lease keep clea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r personnel onl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o encourage all customers we are prepared to offer a special trade discount…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Negative</a:t>
            </a:r>
            <a:r>
              <a:rPr b="0" lang="ru-RU" sz="36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По газонах не ходит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Не смітит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Стороннім вхід заборонено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Щоб не втратити клієнтів, ми готові запропонувати знижки…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Keep smi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voice with a smile always win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ou always win if you lose with a smil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ou are not fully dressed until you put on a smile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6:38:34Z</dcterms:created>
  <dc:creator>User U.</dc:creator>
  <dc:description/>
  <dc:language>en-US</dc:language>
  <cp:lastModifiedBy>Cветлана</cp:lastModifiedBy>
  <dcterms:modified xsi:type="dcterms:W3CDTF">2021-10-11T06:56:56Z</dcterms:modified>
  <cp:revision>5</cp:revision>
  <dc:subject/>
  <dc:title>Lingual Cultural Component of Style</dc:title>
</cp:coreProperties>
</file>