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FEBD-7033-4744-B374-94EBD288A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7FBC-0229-47A4-A2B4-750E95D1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C71F-435A-408E-8ED4-C627806D1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B63C-0012-4EC9-B660-ACB5563D1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96F7-D8E1-44F6-9D6C-ACFE15177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FBC4-B3F0-4E74-B21B-B33D41CF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7FD3-A3B4-4014-9624-516D1308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2B6B-1DBB-47E8-BA52-4BCFD883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C3B4-20A1-4DE0-AA40-E57385A4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BDC1-EC18-452F-8D37-1770219B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88AB-D88F-4B4F-AA82-BDDDF7B1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BCC9-5CB0-4525-BF8B-D7DB2525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8B56-6D44-4154-9CF2-5ABE7392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AE5A-42A7-49D6-BDF7-5CCFB272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F981-BD3D-4C8D-BF42-BCC3F08C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A1B7-667D-49A0-A30F-AE7998186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88B0-B8E6-4AFC-8069-E6DC002B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CC0AE-FC3A-4E9B-AAC2-210239CDB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A91EB-AEA8-48F3-9128-F134A019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04E3D-3D6D-40FC-9E99-2BA95C9D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DA04D-19EA-4CFB-8CF7-14F0727B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0C3A3-FE3C-4523-ABB6-66A2E479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D638-D67A-4F12-AEB1-DD74BC89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6B38A-E1D8-41D6-BBCF-3482C0B0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9727C-F91D-4268-BF83-C3E777B9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ADF75-6EB8-4AC6-BDD8-0E9843DB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71316-CFF5-4D25-86AD-EDB952A2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C4F30-FC36-42AE-923D-B1E232CD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F6216-7D63-4E3E-91F6-97BE8ADB6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F21C8-ABBF-49D9-8AEB-C57B35A28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1CCE3-8CAE-41AE-874D-35A075835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865ED-9CFF-4572-AC98-5626CAA7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B3B55-4C8C-4896-91A3-53ADF448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7AC0-AF90-429D-8E87-97DD3297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71945-40D1-4F56-9FF8-91CD03C9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D78AC-76C3-43EA-BB1C-0C831B0A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28E66-7373-494E-99B6-2964112E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4261F-824E-4405-8B18-1F3A3CB4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74F16-5E6F-40FE-88EA-079C7015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61A06-FD51-45FE-9DC6-1930E93B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5730F-1EA0-4E9B-BAB4-FB83BF2A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3B8CF-A4F2-4B2C-87F7-0EA800E69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ECA3D-4361-46DE-9B16-65436EC19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B035-8A59-47D0-82FB-ADA3E102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2C49-E23B-4AFA-8EA3-AA70833C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21BA-F3DF-4951-8D76-D786E9E7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8607-35DF-4F88-8F8E-E086FB99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6C38-BBC4-4E38-85DF-104FE3B8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EA1B-EC51-4EF2-A42D-EAD0237815AD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2AAA-7840-4290-9E31-2658EBA79D69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E777-EB0C-4213-A8A1-51DDA8486B62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F46D-EE6D-4A4D-A08B-D7B68AEE1A02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eb3d9f"/>
                </a:solidFill>
                <a:latin typeface="Trebuchet MS"/>
              </a:rPr>
              <a:t>Lingual Cultural Component of Style</a:t>
            </a:r>
            <a:endParaRPr b="0" lang="en-US" sz="4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403280" y="2492280"/>
            <a:ext cx="64008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Trebuchet MS"/>
              </a:rPr>
              <a:t>The choice of lingual form in certain situation is both conscious and unconscious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Trebuchet MS"/>
              </a:rPr>
              <a:t>It depends on  social and psychological background  and cultural traditions of the speaker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uphemism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ationalizing of the work forc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eveloping nation, emerging na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hilosophically-major, owning short-life proper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conomically disadvantag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entally challenged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https://www.elledecor.com/life-culture/travel/g9523621/city-nicknames/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ig Appl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indy Ci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edroom of New Yor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quirrel Cage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 close friend is better than a faraway broth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 man can leave at peace unless his neighbor lets hi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at a neighbor gets is not lo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e who prays for his neighbor will be heard himself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Ukrainian hospitalit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Body languag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Illness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Superstitions and mysticis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Attitudes toward money and wealth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Ukrainians and public behavio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Home and family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Raising child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Schooling and higher education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Friendship and making acquaintanc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Gender roles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Dress and appearanc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Grooming and personal hygie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b3d9f"/>
                </a:solidFill>
                <a:latin typeface="Trebuchet MS"/>
              </a:rPr>
              <a:t>values of the United Stat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individual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love of freedo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equalitarian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reverence of law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multicultural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Puritan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frontier spirit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pragmat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respect of science and technolog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belief in the future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b3d9f"/>
                </a:solidFill>
                <a:latin typeface="Trebuchet MS"/>
              </a:rPr>
              <a:t>American characteristic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Independen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Informa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Practica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Optimistic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Naï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Toleran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Dynamic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Straightforwar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Assert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Aggress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Progress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r>
              <a:rPr b="0" lang="uk-UA" sz="3600" spc="-1" strike="noStrike">
                <a:solidFill>
                  <a:srgbClr val="eb3d9f"/>
                </a:solidFill>
                <a:latin typeface="Trebuchet MS"/>
              </a:rPr>
              <a:t>прекрасної Японії я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Japan, the Beautiful, and Myself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Японія прекрасна і 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Красою Японії народжени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b3d9f"/>
                </a:solidFill>
                <a:latin typeface="Trebuchet MS"/>
              </a:rPr>
              <a:t>Active character, initiative, individualism</a:t>
            </a:r>
            <a:r>
              <a:rPr b="0" lang="ru-RU" sz="40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en you stop rowing, you start downstrea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t’s always better to light a candle than to curse the darknes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trong character depends not so much upon chances tan upon choic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more you lean on somebody else the leaner your chances on success.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b3d9f"/>
                </a:solidFill>
                <a:latin typeface="Trebuchet MS"/>
              </a:rPr>
              <a:t>Passive character, absence of  initiative</a:t>
            </a:r>
            <a:r>
              <a:rPr b="0" lang="ru-RU" sz="40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Не так сталося, як гадалос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Лови рибу, як ловитьс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Перетреться, перемнеться, та й так минеться.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Positive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lease keep off the gras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lease keep clea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r personnel onl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o encourage all customers we are prepared to offer a special trade discount…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Negative</a:t>
            </a:r>
            <a:r>
              <a:rPr b="0" lang="ru-RU" sz="36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По газонах не ходит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Не смітит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Стороннім вхід заборонено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Щоб не втратити клієнтів, ми готові запропонувати знижки…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Keep smi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voice with a smile always wi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always win if you lose with a smil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are not fully dressed until you put on a smile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6:38:34Z</dcterms:created>
  <dc:creator>User U.</dc:creator>
  <dc:description/>
  <dc:language>en-US</dc:language>
  <cp:lastModifiedBy>Cветлана</cp:lastModifiedBy>
  <dcterms:modified xsi:type="dcterms:W3CDTF">2021-10-11T06:56:56Z</dcterms:modified>
  <cp:revision>5</cp:revision>
  <dc:subject/>
  <dc:title>Lingual Cultural Component of Style</dc:title>
</cp:coreProperties>
</file>