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6703-1CBC-41ED-89E8-FBEBBFD4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FAD1-AD35-4B9C-80E8-270FEF7B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85B2-A6F2-46A5-BB50-268554CA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970-4063-4A67-932C-CBE22542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A23D-A962-4947-BBD6-321C7AD3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C569-E549-420F-B6BF-12F5A62D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8CBF-F8B9-4781-AB98-1A25FD2D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9AA7-CE9E-4E55-B4C3-C5B69D2E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37BE-ECE1-4D2F-9055-98A1E982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8822-2FEA-4504-B6EC-102056F9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A14E-1A00-4637-AC3F-CA529803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B1E-336B-45CB-B97B-78C5F7A6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F8A4-7300-423C-B015-588C32A1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39C2-115C-49CE-87DB-09AC93E6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F073-D1FA-4503-BD77-D0BBCB24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930F-275E-48D8-B5BA-09AC4195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2461-50CC-43F8-9136-F59C54A8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127BA-F6EB-4059-A762-4606CB46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60F6C-1B07-40A7-96C6-22911447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513B5-A8F2-420F-A461-7E1749C8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AF2F0-2189-49D3-81BE-3C689CE7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EF14F-20F2-4AB9-9757-E81AF47E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A355-73D7-42EE-B718-5732EF93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36DEE-6FDD-4A3D-8B13-AC81FE9E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579EA-CE32-4715-8B74-70C7C828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9F475-8A21-433E-9581-1B90409B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9D084-2507-4AE6-8EEF-86A7537C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8A1D3-BEC4-48B0-A5B1-08D82654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401BC-580E-4DF9-873B-AC34AD22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AEFA5-B709-492A-AC2A-864E4D0F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23EDB-57A0-4AB7-902B-37451E1F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D5D57-4332-4236-AAB9-DE3ED261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94C62-2C1F-4B59-9FCE-082FEBEF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8DB-C244-4F24-9D4C-75F6F90E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1F321-AD00-46EF-B4B8-AD74D210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A3EB4-8909-48FC-AE4C-2E50290B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D76DF-1E02-4FE9-8CBF-C66AD9B9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727AD-0A41-4F76-B754-C0FC0729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16DD0-F399-41BE-B74D-D38BDA5F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36A4D-9C43-47B8-990F-79B5872F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F2720-A17C-487B-8940-F3D55AD0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52367-E0D2-477E-A018-DD742BD5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08F00-DA75-4170-AB36-EBF0DBFF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032-524F-45E0-AA7E-FA8504AF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1A73-D634-49DE-931F-935E5121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960C-E718-4CBA-B9A8-7AF2C06C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82B-5BAA-42F8-9870-FBD25537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605-4202-4B0C-B27D-2D5ABDC4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55D6-07E8-46B6-9C29-EC8BF601BBC1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4D29-DCED-4429-ABE3-3DA8455F04EB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EE07-C5D4-4565-B8D2-4BC7E4AA8F11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C377-EADD-46C3-BF40-546498AEB008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b3d9f"/>
                </a:solidFill>
                <a:latin typeface="Trebuchet MS"/>
              </a:rPr>
              <a:t>Lingual Cultural Component of Style</a:t>
            </a: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The choice of lingual form in certain situation is both conscious and unconscious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It depends on  social and psychological background  and cultural traditions of the speake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uphemis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ationalizing of the work for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veloping nation, emerging 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ilosophically-major, owning short-life prope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conomically disadvantag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ntally challenge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https://www.elledecor.com/life-culture/travel/g9523621/city-nicknames/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ig App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ndy C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droom of New Yo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quirrel Cag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close friend is better than a faraway bro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man can leave at peace unless his neighbor lets h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 neighbor gets is not lo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 who prays for his neighbor will be heard himself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 hospita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Body langu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uperstitions and mysticis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Attitudes toward money and wealth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s and public behavi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ome and family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aising child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chooling and higher education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Friendship and making acquain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ender roles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Dress and appear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rooming and personal hygie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values of the United Stat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individu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love of freedo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equalitari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verence of law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multicultur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urit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frontier spiri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ragmat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spect of science and technolog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belief in the futu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American characteristic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depend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form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actic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Optimist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Naï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oler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ynam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traightforwa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ssert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g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o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eb3d9f"/>
                </a:solidFill>
                <a:latin typeface="Trebuchet MS"/>
              </a:rPr>
              <a:t>прекрасної Японії 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apan, the Beautiful, and Mysel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Японія прекрасна і 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Красою Японії народжен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Active character, initiative, individualism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en you stop rowing, you start downstre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’s always better to light a candle than to curse the dark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rong character depends not so much upon chances tan upon cho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you lean on somebody else the leaner your chances on success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Passive character, absence of  initiative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так сталося, як гадало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Лови рибу, як ловить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еретреться, перемнеться, та й так минеться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Positive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off the gra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cle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ersonnel onl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o encourage all customers we are prepared to offer a special trade discount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Negative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о газонах не ход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смітит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Стороннім вхід забороне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Щоб не втратити клієнтів, ми готові запропонувати знижки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ep smi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voice with a smile always wi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lways win if you lose with a sm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re not fully dressed until you put on a smil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38:34Z</dcterms:created>
  <dc:creator>User U.</dc:creator>
  <dc:description/>
  <dc:language>en-US</dc:language>
  <cp:lastModifiedBy>Cветлана</cp:lastModifiedBy>
  <dcterms:modified xsi:type="dcterms:W3CDTF">2021-10-11T06:56:56Z</dcterms:modified>
  <cp:revision>5</cp:revision>
  <dc:subject/>
  <dc:title>Lingual Cultural Component of Style</dc:title>
</cp:coreProperties>
</file>