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E11A-C5C9-484E-8AD9-FEFCB5063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F413-6865-47AC-AB62-F4392DE9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2A39-9C7C-4AED-804C-791771499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BF56-29D8-481D-8E69-8BDF17624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FBB1-F708-4865-80F8-E3669870A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17E8-BE29-4ACF-8F1E-5FB54C40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3C78-FD40-41F9-8CA2-FA9E3D54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5F00-579F-4A07-B0DA-16B96766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E142-164B-4B16-93A9-F5108ED0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B262-C729-4DC8-A357-3B28A59C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B223-F0F4-4C98-BCF9-976AC462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ADC7-E9D2-4329-ADDD-B917CBB7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9A2B-9D57-4CB7-9693-C969AF0D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3144-0CB2-4A49-BC60-E534A891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2F78-D882-42EC-B296-B03538C4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EFD5-8DED-4556-8C64-04A9EB476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86C9-B90C-4593-93D0-C0E1556EC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C7B2F-7425-4CAB-BCA0-FAF047585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FB47F-F099-49D7-BD28-B3FEB584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22851-3D49-454B-80D0-119E2231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C37E3-5E2F-49DE-BBA0-2039C24A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0EDCD-8606-470C-A657-1018DDE3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EF68-A141-4EED-9FBF-72E4AE4E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304EC-7061-4BC6-B6F5-0471164F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C32E0-18F6-4C14-87C4-10347CC8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44040-BED2-4661-9F6C-7D5293E3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0CE7D-5464-457F-AF57-1ABEDF91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5C4F5-651F-499C-83C4-9FF311DE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A6ADF-204A-4B13-94A4-F5AE7BA78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F5FB4-0739-40DD-8697-B73619A8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EA960-4180-42C2-AA70-6D23972C2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FC751-8F63-42CC-94A9-949DEF81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62A41-CC59-4A77-8467-AF9C56F6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7F47-DCBE-4F51-ABFB-F592C8D0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5FA1C-4A42-44C6-BF78-C9C9B51A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49FA7-E1D0-4DE6-A690-7CD3BDD3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AE769-17C7-49F3-86A4-ED877C94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E9C8D-5482-43C2-85FE-7E25B1A9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18F15-BB08-465F-8FCE-FBC484FD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B87D9-7247-4134-94B3-04A4D878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22F2E-1312-4607-AF3D-D255647D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AFB77-08C0-4E3D-BCEE-AD3D71326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E271E-B441-415E-BE36-9B73859D8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2783-E0E8-44FE-9AE6-181A97B0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7B44-6AB7-4532-9D5F-BC42AC02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1915-E112-4EF7-8C91-8EE46D6B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CCA8-1EA4-4420-AA48-58BC4D63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956A-A735-4520-9121-FC9B6D1C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F201-2D43-4627-8D02-4FBDA260CF67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E4B3-34CB-43F2-8BB2-0F9ED6B1737A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37F9-D91C-457A-A0BC-9253D50C6D56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D42E-E179-466F-BAE3-B208D6AD00D4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eb3d9f"/>
                </a:solidFill>
                <a:latin typeface="Trebuchet MS"/>
              </a:rPr>
              <a:t>Lingual Cultural Component of Style</a:t>
            </a:r>
            <a:endParaRPr b="0" lang="en-US" sz="4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403280" y="2492280"/>
            <a:ext cx="64008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Trebuchet MS"/>
              </a:rPr>
              <a:t>The choice of lingual form in certain situation is both conscious and unconscious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Trebuchet MS"/>
              </a:rPr>
              <a:t>It depends on  social and psychological background  and cultural traditions of the speaker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uphemism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ationalizing of the work forc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eveloping nation, emerging na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hilosophically-major, owning short-life proper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conomically disadvantag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entally challenged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https://www.elledecor.com/life-culture/travel/g9523621/city-nicknames/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ig Appl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indy Ci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edroom of New Yor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quirrel Cage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 close friend is better than a faraway broth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 man can leave at peace unless his neighbor lets hi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hat a neighbor gets is not lo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e who prays for his neighbor will be heard himself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Ukrainian hospitalit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Body languag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Illness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Superstitions and mysticis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Attitudes toward money and wealth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Ukrainians and public behavio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Home and family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Raising childr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Schooling and higher education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Friendship and making acquaintanc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Gender roles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Dress and appearanc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Grooming and personal hygie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eb3d9f"/>
                </a:solidFill>
                <a:latin typeface="Trebuchet MS"/>
              </a:rPr>
              <a:t>values of the United Stat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individual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love of freedo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equalitarian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reverence of law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multicultural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Puritan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frontier spirit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pragmat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respect of science and technolog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belief in the future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eb3d9f"/>
                </a:solidFill>
                <a:latin typeface="Trebuchet MS"/>
              </a:rPr>
              <a:t>American characteristic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Independen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Informa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Practica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Optimistic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Naï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Toleran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Dynamic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Straightforwar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Assert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Aggress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Progress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r>
              <a:rPr b="0" lang="uk-UA" sz="3600" spc="-1" strike="noStrike">
                <a:solidFill>
                  <a:srgbClr val="eb3d9f"/>
                </a:solidFill>
                <a:latin typeface="Trebuchet MS"/>
              </a:rPr>
              <a:t>прекрасної Японії я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Japan, the Beautiful, and Myself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Японія прекрасна і 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Красою Японії народжени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b3d9f"/>
                </a:solidFill>
                <a:latin typeface="Trebuchet MS"/>
              </a:rPr>
              <a:t>Active character, initiative, individualism</a:t>
            </a:r>
            <a:r>
              <a:rPr b="0" lang="ru-RU" sz="40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hen you stop rowing, you start downstrea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t’s always better to light a candle than to curse the darknes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trong character depends not so much upon chances tan upon choic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more you lean on somebody else the leaner your chances on success.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b3d9f"/>
                </a:solidFill>
                <a:latin typeface="Trebuchet MS"/>
              </a:rPr>
              <a:t>Passive character, absence of  initiative</a:t>
            </a:r>
            <a:r>
              <a:rPr b="0" lang="ru-RU" sz="40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Не так сталося, як гадалос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Лови рибу, як ловитьс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Перетреться, перемнеться, та й так минеться.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Positive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lease keep off the gras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lease keep clea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r personnel onl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o encourage all customers we are prepared to offer a special trade discount…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Negative</a:t>
            </a:r>
            <a:r>
              <a:rPr b="0" lang="ru-RU" sz="36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По газонах не ходит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Не смітит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Стороннім вхід заборонено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Щоб не втратити клієнтів, ми готові запропонувати знижки…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Keep smi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voice with a smile always wi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always win if you lose with a smil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are not fully dressed until you put on a smile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6:38:34Z</dcterms:created>
  <dc:creator>User U.</dc:creator>
  <dc:description/>
  <dc:language>en-US</dc:language>
  <cp:lastModifiedBy>Cветлана</cp:lastModifiedBy>
  <dcterms:modified xsi:type="dcterms:W3CDTF">2021-10-11T06:56:56Z</dcterms:modified>
  <cp:revision>5</cp:revision>
  <dc:subject/>
  <dc:title>Lingual Cultural Component of Style</dc:title>
</cp:coreProperties>
</file>