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A66B2-5161-4B13-A995-90EA48999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BF5FA-1BB4-42DC-B890-C10959F3D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9FD4F-B3A4-481B-9287-9184CB6A4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DF0F5-FA38-4BD0-B98A-BD50CCF76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9B4C6-BB20-4DDD-9EC5-F55D2C2E9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02558-4847-43AA-B863-3EE5755C6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D3595-F61A-4068-B396-0B48452A3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4B8CD-9678-41EF-A0D5-E4EC4E0E5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0C860-2B6C-484C-8237-A8C1A6527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2A0B8-FB18-4844-A8AA-8A48FF8E6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F95D9-B99F-42C4-A97F-FDDDB882F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8FA0B-4018-42D6-AF1B-5155181C7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CC5F3-69F9-4275-BACA-B07C26ED2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2CEB8-496B-40B7-9453-E0F73997B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226EA-7DEA-490F-8FB6-74C4D4FAF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61075-E136-47BA-A0FE-D95A8C45A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9E631-CAFD-4AB5-8FB7-F1A8F6D4C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24780C-E89E-400E-ACA6-D9592FDF0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3B21F8-DC0D-4208-9831-60C69683A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599B22-E708-479C-AD14-60ED2AE94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1B51BA-A433-40F2-A353-E8FE1E991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346C9C-4C56-452A-9730-A167B5D1B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A5576-B6C8-4110-A588-8BD0E263B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A0899D-6955-45BB-9FEB-7300368E9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76954A-0D09-4959-BA3C-B78174094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B7F99A-E594-4DA7-AB0A-F5EA024A4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4CC7A7-B7FC-4ED5-9DB4-B6D60BA4A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C43FB1-3008-4356-8595-CDC2B0E74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D48017-54AF-4AB4-8DD1-508C3D365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5666EB-E3A0-414E-B0FC-2CD9CA945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14521C-DDB7-46AB-8293-8189E2541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3D8484-B034-4D9D-8892-BA8B4EF4E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954DB5-E275-4C02-B867-99FCAA696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D8035-6387-4176-830E-FC5746D72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2BA79B-74DE-4F23-BBAD-F31CD35FA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6DA29D-682F-48B4-A5C9-C12F645ED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4B14A0-22B0-4056-B814-FA9C3CD17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C46AA1-3969-41E4-9DA2-FA130650E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5974B0-9180-4459-8C4E-4881717BF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A57BC8-A4F6-4B8C-A7E1-51811571E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7F9F42-D16F-498C-9610-68998CDD2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D309EF-CCA0-4FFD-8FC5-FDFE55848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AC69FC-BB37-448F-9830-32D8F66FD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3447F-5E01-4C8C-9DFC-E4D73357B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0AA20-0EB4-4292-B52F-0A9261489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97167-6EE7-4FA5-A2A0-B928D0D0B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2BC14-EE18-4D6A-8553-8636B10B8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02BA1-3FE2-421E-93C4-AECB02942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1" name="Straight Connector 6"/>
            <p:cNvSpPr/>
            <p:nvPr/>
          </p:nvSpPr>
          <p:spPr>
            <a:xfrm flipV="1">
              <a:off x="5131080" y="4175640"/>
              <a:ext cx="4022280" cy="2682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8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720540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09460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6904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b3d9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0F5BD-2277-4ED1-A722-7ADE98CAE5DE}" type="slidenum">
              <a:rPr b="0" lang="ru-RU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53" name="Straight Connector 27"/>
            <p:cNvSpPr/>
            <p:nvPr/>
          </p:nvSpPr>
          <p:spPr>
            <a:xfrm flipV="1">
              <a:off x="5131080" y="4175640"/>
              <a:ext cx="4022280" cy="2682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Straight Connector 2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2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30"/>
            <p:cNvSpPr/>
            <p:nvPr/>
          </p:nvSpPr>
          <p:spPr>
            <a:xfrm>
              <a:off x="720540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3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3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3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34"/>
            <p:cNvSpPr/>
            <p:nvPr/>
          </p:nvSpPr>
          <p:spPr>
            <a:xfrm>
              <a:off x="809460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35"/>
            <p:cNvSpPr/>
            <p:nvPr/>
          </p:nvSpPr>
          <p:spPr>
            <a:xfrm>
              <a:off x="806904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17"/>
            <p:cNvSpPr/>
            <p:nvPr/>
          </p:nvSpPr>
          <p:spPr>
            <a:xfrm>
              <a:off x="-7920" y="-7920"/>
              <a:ext cx="863280" cy="569736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eb3d9f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ACEA5-A4C9-4E01-BC4E-836E45D856B0}" type="slidenum">
              <a:rPr b="0" lang="ru-RU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105" name="Straight Connector 6"/>
            <p:cNvSpPr/>
            <p:nvPr/>
          </p:nvSpPr>
          <p:spPr>
            <a:xfrm flipV="1">
              <a:off x="5131080" y="4175640"/>
              <a:ext cx="4022280" cy="2682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8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720540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09460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6904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b3d9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496cb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496cb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F9EA5-9C5B-46B0-850F-7FED622832F7}" type="slidenum">
              <a:rPr b="0" lang="ru-RU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159" name="Straight Connector 6"/>
            <p:cNvSpPr/>
            <p:nvPr/>
          </p:nvSpPr>
          <p:spPr>
            <a:xfrm flipV="1">
              <a:off x="5131080" y="4175640"/>
              <a:ext cx="4022280" cy="2682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8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720540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09460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6904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b3d9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496cb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496cb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51E90-F6C6-4344-8F67-85A8350442AE}" type="slidenum">
              <a:rPr b="0" lang="ru-RU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00000" y="981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eb3d9f"/>
                </a:solidFill>
                <a:latin typeface="Trebuchet MS"/>
              </a:rPr>
              <a:t>Lingual Cultural Component of Style</a:t>
            </a:r>
            <a:endParaRPr b="0" lang="en-US" sz="44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403280" y="2492280"/>
            <a:ext cx="6400800" cy="30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Trebuchet MS"/>
              </a:rPr>
              <a:t>The choice of lingual form in certain situation is both conscious and unconscious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indent="0" algn="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Trebuchet MS"/>
              </a:rPr>
              <a:t>It depends on  social and psychological background  and cultural traditions of the speaker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Euphemism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Rationalizing of the work forc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Developing nation, emerging natio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Philosophically-major, owning short-life property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Economically disadvantaged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Mentally challenged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1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https://www.elledecor.com/life-culture/travel/g9523621/city-nicknames/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Big Appl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Windy City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Bedroom of New York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quirrel Cage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A close friend is better than a faraway brother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No man can leave at peace unless his neighbor lets him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What a neighbor gets is not los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He who prays for his neighbor will be heard himself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Trebuchet MS"/>
              </a:rPr>
              <a:t>Ukrainian hospitality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Trebuchet MS"/>
              </a:rPr>
              <a:t>Body language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Trebuchet MS"/>
              </a:rPr>
              <a:t>Illnesses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Trebuchet MS"/>
              </a:rPr>
              <a:t>Superstitions and mysticism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Trebuchet MS"/>
              </a:rPr>
              <a:t>Attitudes toward money and wealth in Ukraine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Trebuchet MS"/>
              </a:rPr>
              <a:t>Ukrainians and public behavior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Trebuchet MS"/>
              </a:rPr>
              <a:t>Home and family in Ukraine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Trebuchet MS"/>
              </a:rPr>
              <a:t>Raising children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Trebuchet MS"/>
              </a:rPr>
              <a:t>Schooling and higher education in Ukraine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Trebuchet MS"/>
              </a:rPr>
              <a:t>Friendship and making acquaintances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Trebuchet MS"/>
              </a:rPr>
              <a:t>Gender roles in Ukraine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Trebuchet MS"/>
              </a:rPr>
              <a:t>Dress and appearance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Trebuchet MS"/>
              </a:rPr>
              <a:t>Grooming and personal hygiene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1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eb3d9f"/>
                </a:solidFill>
                <a:latin typeface="Trebuchet MS"/>
              </a:rPr>
              <a:t>values of the United States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6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1" lang="en-US" sz="2600" spc="-1" strike="noStrike">
                <a:solidFill>
                  <a:srgbClr val="404040"/>
                </a:solidFill>
                <a:latin typeface="Trebuchet MS"/>
              </a:rPr>
              <a:t>individualism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404040"/>
                </a:solidFill>
                <a:latin typeface="Trebuchet MS"/>
              </a:rPr>
              <a:t>love of freedom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404040"/>
                </a:solidFill>
                <a:latin typeface="Trebuchet MS"/>
              </a:rPr>
              <a:t>equalitarianism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404040"/>
                </a:solidFill>
                <a:latin typeface="Trebuchet MS"/>
              </a:rPr>
              <a:t>reverence of laws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404040"/>
                </a:solidFill>
                <a:latin typeface="Trebuchet MS"/>
              </a:rPr>
              <a:t>multiculturalism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404040"/>
                </a:solidFill>
                <a:latin typeface="Trebuchet MS"/>
              </a:rPr>
              <a:t>Puritanism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404040"/>
                </a:solidFill>
                <a:latin typeface="Trebuchet MS"/>
              </a:rPr>
              <a:t>frontier spirit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404040"/>
                </a:solidFill>
                <a:latin typeface="Trebuchet MS"/>
              </a:rPr>
              <a:t>pragmatism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404040"/>
                </a:solidFill>
                <a:latin typeface="Trebuchet MS"/>
              </a:rPr>
              <a:t>respect of science and technology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404040"/>
                </a:solidFill>
                <a:latin typeface="Trebuchet MS"/>
              </a:rPr>
              <a:t>belief in the future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eb3d9f"/>
                </a:solidFill>
                <a:latin typeface="Trebuchet MS"/>
              </a:rPr>
              <a:t>American characteristics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Trebuchet MS"/>
              </a:rPr>
              <a:t>Independent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Trebuchet MS"/>
              </a:rPr>
              <a:t>Informal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Trebuchet MS"/>
              </a:rPr>
              <a:t>Practical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Trebuchet MS"/>
              </a:rPr>
              <a:t>Optimistic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Trebuchet MS"/>
              </a:rPr>
              <a:t>Naïve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Trebuchet MS"/>
              </a:rPr>
              <a:t>Tolerant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Trebuchet MS"/>
              </a:rPr>
              <a:t>Dynamic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Trebuchet MS"/>
              </a:rPr>
              <a:t>Straightforward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Trebuchet MS"/>
              </a:rPr>
              <a:t>Assertive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Trebuchet MS"/>
              </a:rPr>
              <a:t>Aggressive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Trebuchet MS"/>
              </a:rPr>
              <a:t>Progressive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br>
              <a:rPr sz="3600"/>
            </a:br>
            <a:r>
              <a:rPr b="0" lang="uk-UA" sz="3600" spc="-1" strike="noStrike">
                <a:solidFill>
                  <a:srgbClr val="eb3d9f"/>
                </a:solidFill>
                <a:latin typeface="Trebuchet MS"/>
              </a:rPr>
              <a:t>прекрасної Японії я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Japan, the Beautiful, and Myself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Trebuchet MS"/>
              </a:rPr>
              <a:t>Японія прекрасна і я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Trebuchet MS"/>
              </a:rPr>
              <a:t>Красою Японії народжений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eb3d9f"/>
                </a:solidFill>
                <a:latin typeface="Trebuchet MS"/>
              </a:rPr>
              <a:t>Active character, initiative, individualism</a:t>
            </a:r>
            <a:r>
              <a:rPr b="0" lang="ru-RU" sz="4000" spc="-1" strike="noStrike">
                <a:solidFill>
                  <a:srgbClr val="eb3d9f"/>
                </a:solidFill>
                <a:latin typeface="Trebuchet MS"/>
              </a:rPr>
              <a:t> </a:t>
            </a:r>
            <a:endParaRPr b="0" lang="en-US" sz="40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When you stop rowing, you start downstream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It’s always better to light a candle than to curse the darkness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trong character depends not so much upon chances tan upon choices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e more you lean on somebody else the leaner your chances on success.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eb3d9f"/>
                </a:solidFill>
                <a:latin typeface="Trebuchet MS"/>
              </a:rPr>
              <a:t>Passive character, absence of  initiative</a:t>
            </a:r>
            <a:r>
              <a:rPr b="0" lang="ru-RU" sz="4000" spc="-1" strike="noStrike">
                <a:solidFill>
                  <a:srgbClr val="eb3d9f"/>
                </a:solidFill>
                <a:latin typeface="Trebuchet MS"/>
              </a:rPr>
              <a:t> </a:t>
            </a:r>
            <a:endParaRPr b="0" lang="en-US" sz="40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Trebuchet MS"/>
              </a:rPr>
              <a:t>Не так сталося, як гадалося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Trebuchet MS"/>
              </a:rPr>
              <a:t>Лови рибу, як ловиться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Trebuchet MS"/>
              </a:rPr>
              <a:t>Перетреться, перемнеться, та й так минеться.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Positive 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Please keep off the grass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Please keep clean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r personnel only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o encourage all customers we are prepared to offer a special trade discount…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Negative</a:t>
            </a:r>
            <a:r>
              <a:rPr b="0" lang="ru-RU" sz="3600" spc="-1" strike="noStrike">
                <a:solidFill>
                  <a:srgbClr val="eb3d9f"/>
                </a:solidFill>
                <a:latin typeface="Trebuchet MS"/>
              </a:rPr>
              <a:t> 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Trebuchet MS"/>
              </a:rPr>
              <a:t>По газонах не ходити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Trebuchet MS"/>
              </a:rPr>
              <a:t>Не смітити.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Trebuchet MS"/>
              </a:rPr>
              <a:t>Стороннім вхід заборонено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Trebuchet MS"/>
              </a:rPr>
              <a:t>Щоб не втратити клієнтів, ми готові запропонувати знижки…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Keep smiling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e voice with a smile always win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You always win if you lose with a smil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You are not fully dressed until you put on a smile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3T16:38:34Z</dcterms:created>
  <dc:creator>User U.</dc:creator>
  <dc:description/>
  <dc:language>en-US</dc:language>
  <cp:lastModifiedBy>Cветлана</cp:lastModifiedBy>
  <dcterms:modified xsi:type="dcterms:W3CDTF">2021-10-11T06:56:56Z</dcterms:modified>
  <cp:revision>5</cp:revision>
  <dc:subject/>
  <dc:title>Lingual Cultural Component of Style</dc:title>
</cp:coreProperties>
</file>