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1E8-3533-4413-89B0-16282181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8151-C296-4BB5-BAB3-FB28EAED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FA53-FCA2-4593-8F97-7B22B045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4C8-C39B-498C-9B08-1B857E28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0A15-05D6-4176-9667-92411341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1AF-75F8-4D2B-BB65-87E2D510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92AE-B177-4E46-A386-1C36C081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75CB-3EC4-48F2-8216-575C2840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8C9F-1D14-4E80-9624-58B32358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562-97FD-44AE-9647-F48EFB78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E79B-878F-4A5E-87DC-BD1A545E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5BB3-8C9C-4170-8592-7174E5A1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AD81-E82D-46AB-9CF9-68BE0532D4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обливості йонно-координаційної полімеризації при використанні  каталізаторів Циглера-Натт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. Особливості йонно-координаційної полімеризації при використанні π-алільних комплексів перехідних метал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3. Особливості йонно-координаційної полімеризації при використанні оксидно-металічних каталізатор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Област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 застосування каталізаторів Циглера-Нат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324000" y="3716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Рисунок 6 - Ріст ланцюга (координація наступних молекул мономе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і впровадження їх по з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язку Ті−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Таблиця - Данні про структуру поліізопрену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вміст ланок, %), отриманого в присутності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ізних каталізаторів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421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талізат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н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-приєд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7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(OR)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исунок 7 - Обрив ланцюга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а)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а рахунок переносу гідрид-йону з кінця ланцюга,який росте на противойо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) за рахунок передачі ланцюга на металалкі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3460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28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8 − Реакція ініціювання стабільного π-алільного комплексу ніке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 моном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9 – Формування ланцюг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цис-1,4-конфігур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0 – Координація мономе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випадку слабких доно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37159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1 – Ріст ланц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41760" y="3574800"/>
            <a:ext cx="73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2 – Обмеження росту ланц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каталітичний процес утворення макромолекул, в яких стадії розриву зв’язку у мономері передує виникнення координаційного комплексу між ним та активним центром.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357720"/>
            <a:ext cx="8686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ереоспецифічні каталізатори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− каталізатори, які викликають стереорегулювання в процесі приєднання мономерних ла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аталізатори </a:t>
            </a:r>
            <a:br>
              <a:rPr sz="3200"/>
            </a:b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йонно-координаційної полімериз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сполуки Циглера-Натта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м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лекси на основі алюмінійалкілів і похідних титану і ванад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Каталізатори Циглера-Натта </a:t>
            </a:r>
            <a:r>
              <a:rPr b="0" i="1" lang="uk-UA" sz="3000" spc="-1" strike="noStrike">
                <a:solidFill>
                  <a:srgbClr val="000000"/>
                </a:solidFill>
                <a:latin typeface="Calibri"/>
              </a:rPr>
              <a:t>–                               це каталітичні системи, які утворюються при взаємодії органічних  похідних металів І-ІІІ груп  ПС з солями перехідних металів ІV-VІІІ груп таблиці Д.І. Менделєє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57466" t="0" r="0" b="0"/>
          <a:stretch/>
        </p:blipFill>
        <p:spPr>
          <a:xfrm>
            <a:off x="1692360" y="2924280"/>
            <a:ext cx="575928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124000" y="2421000"/>
            <a:ext cx="509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π-алільні комплекси перехідних металі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X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де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галоген або інша електронегативна 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оксидо-металічні каталізатори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ктивовані оксиди хрому і молібд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237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296496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 – Схема утворення комплекс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iCl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l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350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326440" cy="2476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50920" y="5904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2 – Схема реакції полімериз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вінілових мономе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560" y="62028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3 – Схема реакції полімеризаці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інілових мономе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84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4 – Схема реакції полімеризації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ієнів: утворення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алільного компле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15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8200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560" y="314136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5 –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Відновлення вихідно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руктури компле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витіснення мономерної ланк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0:55Z</dcterms:created>
  <dc:creator>LEX-PEX.NET</dc:creator>
  <dc:description/>
  <dc:language>en-US</dc:language>
  <cp:lastModifiedBy>Viktoriia Gencheva</cp:lastModifiedBy>
  <dcterms:modified xsi:type="dcterms:W3CDTF">2020-11-25T19:50:10Z</dcterms:modified>
  <cp:revision>41</cp:revision>
  <dc:subject/>
  <dc:title>Слайд 1</dc:title>
</cp:coreProperties>
</file>