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95A-2DA5-4FF0-9EE5-E5D8DBFC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758-A6A2-482C-BA7C-D19B0001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124-1DF7-4D88-953A-E3582F35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70A-C68B-45A8-BB0F-0FE715DF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B0C-E774-4059-B2EF-9DCDF605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F08-8B6B-44DB-8DD7-7427520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19F-FBB8-4942-94A5-5B2A24E5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C7C-F963-431A-AC35-39D4252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5EC-90CA-40BA-8245-4790B80E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DC5-6CB7-4CBD-BD40-8A08FFE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D22-7625-41A7-B756-4B6E53D1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4D4-555A-405D-B695-2FADBDA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4864-B9EE-4E32-B3A7-12784B408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обливості йонно-координаційної полімеризації при використанні  каталізаторів Циглера-Натт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. Особливості йонно-координаційної полімеризації при використанні π-алільних комплексів перехідних метал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3. Особливості йонно-координаційної полімеризації при використанні оксидно-металічних каталізатор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Област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 застосування каталізаторів Циглера-Нат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324000" y="3716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Рисунок 6 - Ріст ланцюга (координація наступних молекул мономе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і впровадження їх по зв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язку Ті−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Таблиця - Данні про структуру поліізопрену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(вміст ланок, %), отриманого в присутності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ізних каталізаторів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421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тал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нс-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-приєд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77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Cl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(OR)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+ AlR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-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Рисунок 7 - Обрив ланцюга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а)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 рахунок переносу гідрид-йону з кінця ланцюга,який росте на противойо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) за рахунок передачі ланцюга на металалкі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3460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28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8 − Реакція ініціювання стабільного π-алільного комплексу ніке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 моном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9 – Формування ланцюг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цис-1,4-конфігур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0 – Координація мономе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 випадку слабких доно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37159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исунок 11 – Ріст ланц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41760" y="357480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2 – Обмеження росту ланц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Координаційно-йонна полімеризація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каталітичний процес утворення макромолекул, в яких стадії розриву зв’язку у мономері передує виникнення координаційного комплексу між ним та активним центром.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357720"/>
            <a:ext cx="8686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ереоспецифічні каталізатори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− каталізатори, які викликають стереорегулювання в процесі приєднання мономерних ла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аталізатори </a:t>
            </a:r>
            <a:br>
              <a:rPr sz="3200"/>
            </a:b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йонно-координаційної полімериз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сполуки Циглера-Натта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лекси на основі алюмінійалкілів і похідних титану і ванаді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Каталізатори Циглера-Натта 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–                               це каталітичні системи, які утворюються при взаємодії органічних  похідних металів І-ІІІ груп  ПС з солями перехідних металів ІV-VІІІ груп таблиці Д.І. Менделєє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57466" t="0" r="0" b="0"/>
          <a:stretch/>
        </p:blipFill>
        <p:spPr>
          <a:xfrm>
            <a:off x="1692360" y="2924280"/>
            <a:ext cx="5759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124000" y="2421000"/>
            <a:ext cx="509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π-алільні комплекси перехідних металі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 (С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Calibri"/>
              </a:rPr>
              <a:t>-1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X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, де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– галоген або інша електронегативна гру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оксидо-металічні каталізатори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ктивовані оксиди хрому і молібд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237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296496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1 – Схема утворення комплекс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iCl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l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8229600" cy="350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326440" cy="2476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50920" y="5904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сунок 2 – Схема реакції полімериз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вінілових моном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560" y="62028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3 – Схема реакції полімеризаці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інілових мономер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– Схема реакції полімеризації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ієнів: утворення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алільного компле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8820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0560" y="31413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5 –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Відновлення вихідно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структури комплекс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(витіснення мономерної ланк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0:55Z</dcterms:created>
  <dc:creator>LEX-PEX.NET</dc:creator>
  <dc:description/>
  <dc:language>en-US</dc:language>
  <cp:lastModifiedBy>Viktoriia Gencheva</cp:lastModifiedBy>
  <dcterms:modified xsi:type="dcterms:W3CDTF">2020-11-25T19:50:10Z</dcterms:modified>
  <cp:revision>41</cp:revision>
  <dc:subject/>
  <dc:title>Слайд 1</dc:title>
</cp:coreProperties>
</file>