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AA27-7282-4878-B724-39D877FA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6A59-AE6B-4049-81B4-F6501389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78F-9480-4F60-BB20-AC5303FA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0D60-0C01-44CB-9243-B1FD1735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1837-FD30-4843-9267-ADF114D3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0D35-0C8D-4D25-ADC8-DF309508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AEBA-9E0B-4CB4-9A94-AD38EF5B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BF49-C6AB-410A-A7BD-ACD4B40E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8EC5-59BB-400E-BA49-43205F61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F6FD-69D2-41FA-B852-B01C8365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2272-5409-4835-8B86-B2FE6D6C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C846-8C2B-4BDC-8BEA-495B004B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AD8E-A0D6-4094-A33E-E23B9C8D51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1599840"/>
            <a:ext cx="8785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собливості йонно-координаційної полімеризації при використанні  каталізаторів Циглера-Натт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. Особливості йонно-координаційної полімеризації при використанні π-алільних комплексів перехідних метал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3. Особливості йонно-координаційної полімеризації при використанні оксидно-металічних каталізатор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Област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 застосування каталізаторів Циглера-Нат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324000" y="3716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Рисунок 6 - Ріст ланцюга (координація наступних молекул мономер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і впровадження їх по зв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язку Ті−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Таблиця - Данні про структуру поліізопрену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(вміст ланок, %), отриманого в присутності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ізних каталізаторів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4421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талізато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ран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-приєдн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77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(OR)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530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исунок 7 - Обрив ланцюга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а)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за рахунок переносу гідрид-йону з кінця ланцюга,який росте на противойон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б) за рахунок передачі ланцюга на металалкі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34600" cy="280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8280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8 − Реакція ініціювання стабільного π-алільного комплексу нікел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 мономе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9 – Формування ланцюг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цис-1,4-конфігур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0 – Координація мономе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випадку слабких доно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4360" y="37159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1 – Ріст ланцю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0243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941760" y="3574800"/>
            <a:ext cx="73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2 – Обмеження росту ланц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каталітичний процес утворення макромолекул, в яких стадії розриву зв’язку у мономері передує виникнення координаційного комплексу між ним та активним центром.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3357720"/>
            <a:ext cx="86868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ереоспецифічні каталізатори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− каталізатори, які викликають стереорегулювання в процесі приєднання мономерних ла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Каталізатори </a:t>
            </a:r>
            <a:br>
              <a:rPr sz="3200"/>
            </a:b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йонно-координаційної полімериз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сполуки Циглера-Натта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ом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плекси на основі алюмінійалкілів і похідних титану і ванад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Каталізатори Циглера-Натта </a:t>
            </a:r>
            <a:r>
              <a:rPr b="0" i="1" lang="uk-UA" sz="3000" spc="-1" strike="noStrike">
                <a:solidFill>
                  <a:srgbClr val="000000"/>
                </a:solidFill>
                <a:latin typeface="Calibri"/>
              </a:rPr>
              <a:t>–                               це каталітичні системи, які утворюються при взаємодії органічних  похідних металів І-ІІІ груп  ПС з солями перехідних металів ІV-VІІІ груп таблиці Д.І. Менделєє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57466" t="0" r="0" b="0"/>
          <a:stretch/>
        </p:blipFill>
        <p:spPr>
          <a:xfrm>
            <a:off x="1692360" y="2924280"/>
            <a:ext cx="5759280" cy="180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124000" y="2421000"/>
            <a:ext cx="5095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π-алільні комплекси перехідних металі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бо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X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, де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галоген або інша електронегативна гру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оксидо-металічні каталізатори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ктивовані оксиди хрому і молібде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77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848720" cy="2374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0" y="2964960"/>
            <a:ext cx="9144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 – Схема утворення комплексу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iCl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·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l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68360" y="0"/>
            <a:ext cx="8229600" cy="350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8326440" cy="24768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250920" y="590400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2 – Схема реакції полімериз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вінілових мономер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560" y="620280"/>
            <a:ext cx="8713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3 – Схема реакції полімеризаці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інілових мономе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848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4 – Схема реакції полімеризації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ієнів: утворення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алільного компле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1568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88200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560" y="314136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5 –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Відновлення вихідно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руктури комплекс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витіснення мономерної ланки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8:20:55Z</dcterms:created>
  <dc:creator>LEX-PEX.NET</dc:creator>
  <dc:description/>
  <dc:language>en-US</dc:language>
  <cp:lastModifiedBy>Viktoriia Gencheva</cp:lastModifiedBy>
  <dcterms:modified xsi:type="dcterms:W3CDTF">2020-11-25T19:50:10Z</dcterms:modified>
  <cp:revision>41</cp:revision>
  <dc:subject/>
  <dc:title>Слайд 1</dc:title>
</cp:coreProperties>
</file>