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1FF5-F1E0-4391-B1B6-5DFCF8B8E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DF09-F172-42E0-B112-93AD971C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D167-2DD7-4451-BB86-6B2EC580D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B9EB-694C-4938-8B31-C53B5C27B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5DA4-1BB6-478F-8E06-11881D39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1AC0-10A4-47E0-BB6A-AA9ADA40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4284-3620-408A-AAEA-699241BA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AA2C-8EA3-4DD6-81EF-97536B9F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F992-710F-473A-A999-DAEEEB6F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2BB1-9E4D-4B8C-8020-68E8DD9F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5238-227F-4932-B26F-2D3A9ADE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A6E1-F6EF-4CA0-A798-841EBEEE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5B5C-4652-4334-AC42-D91929E0A2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alibri"/>
              </a:rPr>
              <a:t>Координаційно-йонна полімеризаці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9280" y="1599840"/>
            <a:ext cx="8785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Особливості йонно-координаційної полімеризації при використанні  каталізаторів Циглера-Натта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2. Особливості йонно-координаційної полімеризації при використанні π-алільних комплексів перехідних металі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3. Особливості йонно-координаційної полімеризації при використанні оксидно-металічних каталізаторі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 Област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 застосування каталізаторів Циглера-Нат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3"/>
          <p:cNvSpPr/>
          <p:nvPr/>
        </p:nvSpPr>
        <p:spPr>
          <a:xfrm>
            <a:off x="324000" y="371628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  <a:ea typeface="Arial"/>
              </a:rPr>
              <a:t>Рисунок 6 - Ріст ланцюга (координація наступних молекул мономер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  <a:ea typeface="Arial"/>
              </a:rPr>
              <a:t>і впровадження їх по зв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’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  <a:ea typeface="Arial"/>
              </a:rPr>
              <a:t>язку Ті−С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Таблиця - Данні про структуру поліізопрену 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(вміст ланок, %), отриманого в присутності 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різних каталізаторів 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600200"/>
          <a:ext cx="8229600" cy="44211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9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талізато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ис-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ранс-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,4-приєдн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76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iCl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AlR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77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Cl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AlR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0-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76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i(OR)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AlR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4-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5300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Рисунок 7 - Обрив ланцюга: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а) 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за рахунок переносу гідрид-йону з кінця ланцюга,який росте на противойон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б) за рахунок передачі ланцюга на металалкі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34600" cy="2808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539640" y="2997360"/>
            <a:ext cx="8280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4508280"/>
            <a:ext cx="8229600" cy="16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8 − Реакція ініціювання стабільного π-алільного комплексу нікелю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з мономер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3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4581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9 – Формування ланцюг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у цис-1,4-конфігураці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3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4292280"/>
            <a:ext cx="822960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10 – Координація мономер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у випадку слабких донор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84360" y="37159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11 – Ріст ланцю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3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30243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941760" y="3574800"/>
            <a:ext cx="73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Calibri"/>
              </a:rPr>
              <a:t>Рисунок 12 – Обмеження росту ланцю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713800" cy="25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Координаційно-йонна полімеризація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– каталітичний процес утворення макромолекул, в яких стадії розриву зв’язку у мономері передує виникнення координаційного комплексу між ним та активним центром.</a:t>
            </a: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3357720"/>
            <a:ext cx="86868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Стереоспецифічні каталізатори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− каталізатори, які викликають стереорегулювання в процесі приєднання мономерних лан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Каталізатори </a:t>
            </a:r>
            <a:br>
              <a:rPr sz="3200"/>
            </a:b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йонно-координаційної полімеризаці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5056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сполуки Циглера-Натта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ком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плекси на основі алюмінійалкілів і похідних титану і ванаді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uk-UA" sz="3000" spc="-1" strike="noStrike">
                <a:solidFill>
                  <a:srgbClr val="000000"/>
                </a:solidFill>
                <a:latin typeface="Calibri"/>
              </a:rPr>
              <a:t>Каталізатори Циглера-Натта </a:t>
            </a:r>
            <a:r>
              <a:rPr b="0" i="1" lang="uk-UA" sz="3000" spc="-1" strike="noStrike">
                <a:solidFill>
                  <a:srgbClr val="000000"/>
                </a:solidFill>
                <a:latin typeface="Calibri"/>
              </a:rPr>
              <a:t>–                               це каталітичні системи, які утворюються при взаємодії органічних  похідних металів І-ІІІ груп  ПС з солями перехідних металів ІV-VІІІ груп таблиці Д.І. Менделєєв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rcRect l="57466" t="0" r="0" b="0"/>
          <a:stretch/>
        </p:blipFill>
        <p:spPr>
          <a:xfrm>
            <a:off x="1692360" y="2924280"/>
            <a:ext cx="5759280" cy="1800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2124000" y="2421000"/>
            <a:ext cx="50958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7892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π-алільні комплекси перехідних металі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(С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-1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або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(С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-1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eX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, де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– галоген або інша електронегативна груп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оксидо-металічні каталізатори</a:t>
            </a:r>
            <a:r>
              <a:rPr b="0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активовані оксиди хрому і молібде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777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3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7848720" cy="2374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"/>
          <p:cNvSpPr/>
          <p:nvPr/>
        </p:nvSpPr>
        <p:spPr>
          <a:xfrm>
            <a:off x="0" y="2964960"/>
            <a:ext cx="914400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alibri"/>
                <a:ea typeface="Calibri"/>
              </a:rPr>
              <a:t>Рисунок 1 – Схема утворення комплексу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TiCl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·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Al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H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68360" y="0"/>
            <a:ext cx="8229600" cy="350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468360" y="3500280"/>
            <a:ext cx="8326440" cy="24768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5"/>
          <p:cNvSpPr/>
          <p:nvPr/>
        </p:nvSpPr>
        <p:spPr>
          <a:xfrm>
            <a:off x="250920" y="590400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Рисунок 2 – Схема реакції полімеризаці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вінілових мономер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50560" y="620280"/>
            <a:ext cx="8713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3 – Схема реакції полімеризації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інілових мономер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4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784872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501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4 – Схема реакції полімеризації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ієнів: утворення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алільного комплек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569080" cy="1568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324000" y="2133720"/>
            <a:ext cx="882000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50560" y="3141360"/>
            <a:ext cx="8569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5 –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Відновлення вихідної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структури комплекс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(витіснення мономерної ланки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4072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1T18:20:55Z</dcterms:created>
  <dc:creator>LEX-PEX.NET</dc:creator>
  <dc:description/>
  <dc:language>en-US</dc:language>
  <cp:lastModifiedBy>Viktoriia Gencheva</cp:lastModifiedBy>
  <dcterms:modified xsi:type="dcterms:W3CDTF">2020-11-25T19:50:10Z</dcterms:modified>
  <cp:revision>41</cp:revision>
  <dc:subject/>
  <dc:title>Слайд 1</dc:title>
</cp:coreProperties>
</file>