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79AA-05E4-406E-8C62-ACE7023F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119C-C4C2-4D10-A595-FB7AB348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151-F794-4183-BFDF-CE03E3DE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4E36-7D96-460B-ABA2-2E1CE209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301-29F6-4E9B-99A8-882E35DF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B66E-086F-4EDE-9A6A-7305F44B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2F8B-5761-40FE-BB40-A940F8C8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BE8F-E769-4A12-9FF0-9DFA454D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F48E-BD7A-467B-89FC-A1F90671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CDB1-E1B8-49D0-B7A1-A17CCEC7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3D4-13FC-4EB6-B79A-A3C43DF7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1E5-ADE4-40C7-946B-4EAA9F32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4BF3-BA53-4B95-8691-D40D0F407B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собливості йонно-координаційної полімеризації при використанні  каталізаторів Циглера-Натт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. Особливості йонно-координаційної полімеризації при використанні π-алільних комплексів перехідних метал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3. Особливості йонно-координаційної полімеризації при використанні оксидно-металічних каталізатор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Област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 застосування каталізаторів Циглера-Нат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324000" y="3716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Рисунок 6 - Ріст ланцюга (координація наступних молекул мономе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і впровадження їх по зв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язку Ті−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Таблиця - Данні про структуру поліізопрену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(вміст ланок, %), отриманого в присутності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ізних каталізаторів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421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талізат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ан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-приєдн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77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(OR)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30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исунок 7 - Обрив ланцюга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а)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за рахунок переносу гідрид-йону з кінця ланцюга,який росте на противойон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б) за рахунок передачі ланцюга на металалкі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34600" cy="280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8280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8 − Реакція ініціювання стабільного π-алільного комплексу нікел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 мономе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9 – Формування ланцюг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цис-1,4-конфігур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0 – Координація мономе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випадку слабких доно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4360" y="37159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1 – Ріст ланцю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941760" y="3574800"/>
            <a:ext cx="73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2 – Обмеження росту ланц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каталітичний процес утворення макромолекул, в яких стадії розриву зв’язку у мономері передує виникнення координаційного комплексу між ним та активним центром.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357720"/>
            <a:ext cx="8686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ереоспецифічні каталізатори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− каталізатори, які викликають стереорегулювання в процесі приєднання мономерних ла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Каталізатори </a:t>
            </a:r>
            <a:br>
              <a:rPr sz="3200"/>
            </a:b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йонно-координаційної полімериз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сполуки Циглера-Натта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м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лекси на основі алюмінійалкілів і похідних титану і ванад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Каталізатори Циглера-Натта </a:t>
            </a:r>
            <a:r>
              <a:rPr b="0" i="1" lang="uk-UA" sz="3000" spc="-1" strike="noStrike">
                <a:solidFill>
                  <a:srgbClr val="000000"/>
                </a:solidFill>
                <a:latin typeface="Calibri"/>
              </a:rPr>
              <a:t>–                               це каталітичні системи, які утворюються при взаємодії органічних  похідних металів І-ІІІ груп  ПС з солями перехідних металів ІV-VІІІ груп таблиці Д.І. Менделєє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57466" t="0" r="0" b="0"/>
          <a:stretch/>
        </p:blipFill>
        <p:spPr>
          <a:xfrm>
            <a:off x="1692360" y="2924280"/>
            <a:ext cx="5759280" cy="180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124000" y="2421000"/>
            <a:ext cx="509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π-алільні комплекси перехідних металі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бо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X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, де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галоген або інша електронегативна гру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оксидо-металічні каталізатори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ктивовані оксиди хрому і молібд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77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848720" cy="237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0" y="296496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 – Схема утворення комплексу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iCl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·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l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8229600" cy="350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8326440" cy="2476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250920" y="59040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2 – Схема реакції полімериз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вінілових мономе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560" y="620280"/>
            <a:ext cx="8713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3 – Схема реакції полімеризаці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інілових мономе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848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4 – Схема реакції полімеризації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ієнів: утворення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алільного компле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156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88200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560" y="314136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5 –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Відновлення вихідно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руктури компле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витіснення мономерної ланки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8:20:55Z</dcterms:created>
  <dc:creator>LEX-PEX.NET</dc:creator>
  <dc:description/>
  <dc:language>en-US</dc:language>
  <cp:lastModifiedBy>Viktoriia Gencheva</cp:lastModifiedBy>
  <dcterms:modified xsi:type="dcterms:W3CDTF">2020-11-25T19:50:10Z</dcterms:modified>
  <cp:revision>41</cp:revision>
  <dc:subject/>
  <dc:title>Слайд 1</dc:title>
</cp:coreProperties>
</file>