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15B-46B9-4919-B826-64D7C2C3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2FC-53A5-4AA4-9B32-299413AC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0B4-0BCC-4A9D-90DB-7306103B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9920-11A3-4382-83DC-A52F7BB1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9787-F06B-4293-A8B7-62F49517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2B40-F04D-4DEF-AE2D-D43BEBE0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B9F6-3C20-4906-A06A-97AFCB35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4523-DE55-462A-A8E9-7725C180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A1BC-7F69-4285-ADCB-0191FF93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8D23-AB38-485A-9A81-3331845F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4B46-5530-4000-ACEE-6959DC88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7FE-2090-4884-8345-DFE46324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221F-8313-4AB6-8674-B7F96CCC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68F1-F381-4A66-BBEE-B9EDCA9D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ADD6-3B85-4756-BF65-4C986806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E73E-9777-4A2E-A203-3C456F64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64B3-1A12-417C-991E-106F84D1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8FA-A843-4CE4-9C30-72BC940C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A59-18C5-4BEC-A682-AF0FBBD0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096-E6BC-4946-A9C9-D100947E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06F5-AA57-4063-9224-CDEAA003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8EC-51BF-4A2C-B89B-6C541CF9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1E2C-723F-461A-93D4-150DCEA8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BFC-C77F-4843-822A-ACEE66F2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41FC-2AFC-4435-A0E8-EC69916D83DB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5923-3B54-47E3-94B3-3A44B45D480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1905120"/>
            <a:ext cx="871380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2f5897"/>
                </a:solidFill>
                <a:latin typeface="Times New Roman"/>
              </a:rPr>
              <a:t>Національна ідея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227640" y="3962520"/>
            <a:ext cx="2376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минуле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Е. Ренан «Героїчне минуле, великі люди, слава (але справедлива) – ось головний капітал, на якому ґрунтується національна ідея»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міфологізація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Місія нації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Century Gothic"/>
              </a:rPr>
              <a:t>Її призначення у світовому суспільно-історичному процесі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Century Gothic"/>
              </a:rPr>
              <a:t>Г. Гегель «Філософія історії»: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Century Gothic"/>
              </a:rPr>
              <a:t>«Америка є країною майбутнього»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Види місії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2" name="Объект 3" descr=""/>
          <p:cNvPicPr/>
          <p:nvPr/>
        </p:nvPicPr>
        <p:blipFill>
          <a:blip r:embed="rId1"/>
          <a:stretch/>
        </p:blipFill>
        <p:spPr>
          <a:xfrm>
            <a:off x="341280" y="1603440"/>
            <a:ext cx="83883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Місія і месіанізм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f7f7f"/>
                </a:solidFill>
                <a:latin typeface="Century Gothic"/>
              </a:rPr>
              <a:t>Месіанізм – наявність лише однієї місії – світового володаря, богообраного народу, великої імперії, єдиного носія цивілізації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f7f7f"/>
                </a:solidFill>
                <a:latin typeface="Century Gothic"/>
              </a:rPr>
              <a:t>Місія – роль в історичному розвитку людства, що водночас не виключає такої ж ролі для інших народів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Типи місії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Century Gothic"/>
              </a:rPr>
              <a:t>«міст» – єднальна ланка між іншими народами, націями, культурами (чеське «будительство») – між слов’янським світом і німецьким народо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Century Gothic"/>
              </a:rPr>
              <a:t>В. Липинський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Century Gothic"/>
              </a:rPr>
              <a:t>«останній форпост цивілізації» – країна є останнім рубежем цивілізованого світу (ягелонська ідея в Польщі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Century Gothic"/>
              </a:rPr>
              <a:t>Д. Донцов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Типи місії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Імперська місія – народ – творець великої імперії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«носій свободи та демократії» – Франція, США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Національна ідея – явище культур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f7f7f"/>
                </a:solidFill>
                <a:latin typeface="Century Gothic"/>
              </a:rPr>
              <a:t>Створюється діяльністю певних верств, еліти – духовної та інтелектуальної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f7f7f"/>
                </a:solidFill>
                <a:latin typeface="Century Gothic"/>
              </a:rPr>
              <a:t>Е. Гелнер: інтелектуальні еліти створюють</a:t>
            </a: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 «пупок нації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3" descr="C:\Users\User\Desktop\Без названия (6).jpg"/>
          <p:cNvPicPr/>
          <p:nvPr/>
        </p:nvPicPr>
        <p:blipFill>
          <a:blip r:embed="rId1"/>
          <a:stretch/>
        </p:blipFill>
        <p:spPr>
          <a:xfrm>
            <a:off x="784080" y="3403440"/>
            <a:ext cx="18432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М. Грох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Дослідники виділяють три етапи розвитку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академічний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культурно-просвітницький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політичний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2" descr="C:\Users\User\Desktop\Без названия (5).jpg"/>
          <p:cNvPicPr/>
          <p:nvPr/>
        </p:nvPicPr>
        <p:blipFill>
          <a:blip r:embed="rId1"/>
          <a:stretch/>
        </p:blipFill>
        <p:spPr>
          <a:xfrm>
            <a:off x="5729400" y="3500280"/>
            <a:ext cx="27288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Значення національної ідеї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f7f7f"/>
                </a:solidFill>
                <a:latin typeface="Times New Roman"/>
              </a:rPr>
              <a:t>Країна без такої ідеї –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f7f7f"/>
                </a:solidFill>
                <a:latin typeface="Times New Roman"/>
              </a:rPr>
              <a:t>як людина без принципів і цілей, без розуміння того, що добре, а що ні, що і як вона хоче досягти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ru-RU" sz="3200" spc="-1" strike="noStrike">
                <a:solidFill>
                  <a:srgbClr val="2f5897"/>
                </a:solidFill>
                <a:latin typeface="Times New Roman"/>
              </a:rPr>
              <a:t>Вперше термін “українська ідея” в українській літературі ввів </a:t>
            </a:r>
            <a:r>
              <a:rPr b="1" i="1" lang="ru-RU" sz="3200" spc="-1" strike="noStrike" u="sng">
                <a:solidFill>
                  <a:srgbClr val="2f5897"/>
                </a:solidFill>
                <a:uFillTx/>
                <a:latin typeface="Times New Roman"/>
              </a:rPr>
              <a:t>П.Куліш.</a:t>
            </a:r>
            <a:r>
              <a:rPr b="0" lang="ru-RU" sz="3200" spc="-1" strike="noStrike">
                <a:solidFill>
                  <a:srgbClr val="2f5897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Ідея почала формуватися у кінці 18 – на початку 19 ст. – українське національне відродження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-32580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«Історія Русів» - провідна ідея – існування окремого народу, відмінного від інших, з власними культурними і державницькими традиціями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План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1. Сутність національної ідеї як елемента політичної культури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2. Національна ідея в Україні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Кирило-Мефодіївське товариство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f7f7f"/>
                </a:solidFill>
                <a:latin typeface="Century Gothic"/>
              </a:rPr>
              <a:t>Остаточно оформило національну ідею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f7f7f"/>
                </a:solidFill>
                <a:latin typeface="Century Gothic"/>
              </a:rPr>
              <a:t>М. Костомаров, Т. Шевченко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Тарас Шевченко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Century Gothic"/>
              </a:rPr>
              <a:t>«В своїй хаті – своя правда, і сила, і воля».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C:\Users\User\Desktop\Без названия (4).jpg"/>
          <p:cNvPicPr/>
          <p:nvPr/>
        </p:nvPicPr>
        <p:blipFill>
          <a:blip r:embed="rId1"/>
          <a:stretch/>
        </p:blipFill>
        <p:spPr>
          <a:xfrm>
            <a:off x="5219640" y="3000240"/>
            <a:ext cx="259236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971640" y="2274840"/>
            <a:ext cx="748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редині 20-х років український політичний діяч та публіцист В’ячеслав Липинський писав про національну ідею як реалізацію прагнення самого народу бути нацією. «Коли нема цього «хотіння», виявленого у форм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ідеї – немає нації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Users\User\Desktop\Без названия (7).jpg"/>
          <p:cNvPicPr/>
          <p:nvPr/>
        </p:nvPicPr>
        <p:blipFill>
          <a:blip r:embed="rId1"/>
          <a:stretch/>
        </p:blipFill>
        <p:spPr>
          <a:xfrm>
            <a:off x="6742080" y="4406760"/>
            <a:ext cx="20764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User\Desktop\slide-3 (1).jpg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Times New Roman"/>
              </a:rPr>
              <a:t>    </a:t>
            </a:r>
            <a:r>
              <a:rPr b="0" lang="ru-RU" sz="3200" spc="-1" strike="noStrike" u="sng">
                <a:solidFill>
                  <a:srgbClr val="2f5897"/>
                </a:solidFill>
                <a:uFillTx/>
                <a:latin typeface="Times New Roman"/>
              </a:rPr>
              <a:t>Специфіка сучасної </a:t>
            </a:r>
            <a:br>
              <a:rPr sz="3200"/>
            </a:br>
            <a:r>
              <a:rPr b="0" lang="ru-RU" sz="3200" spc="-1" strike="noStrike" u="sng">
                <a:solidFill>
                  <a:srgbClr val="2f5897"/>
                </a:solidFill>
                <a:uFillTx/>
                <a:latin typeface="Times New Roman"/>
              </a:rPr>
              <a:t>української національної ідеї</a:t>
            </a: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565000"/>
            <a:ext cx="8007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7f7f"/>
                </a:solidFill>
                <a:latin typeface="Times New Roman"/>
              </a:rPr>
              <a:t>Духовність як основа життя етносу;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7f7f"/>
                </a:solidFill>
                <a:latin typeface="Times New Roman"/>
              </a:rPr>
              <a:t>Незалежна держава;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7f7f"/>
                </a:solidFill>
                <a:latin typeface="Times New Roman"/>
              </a:rPr>
              <a:t>Соборність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User\Desktop\slide-4.jpg"/>
          <p:cNvPicPr/>
          <p:nvPr/>
        </p:nvPicPr>
        <p:blipFill>
          <a:blip r:embed="rId1"/>
          <a:stretch/>
        </p:blipFill>
        <p:spPr>
          <a:xfrm>
            <a:off x="539640" y="476280"/>
            <a:ext cx="784872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Відродження національної культури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Процес побудови громадянського суспільства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С. Томашівський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7f7f7f"/>
                </a:solidFill>
                <a:latin typeface="Century Gothic"/>
              </a:rPr>
              <a:t>«між ідеальною ціллю і реальною програмою така сама різниця, як в релігії між вірою і практикою заповідей і добрих діл»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Users\User\Desktop\4.jpg"/>
          <p:cNvPicPr/>
          <p:nvPr/>
        </p:nvPicPr>
        <p:blipFill>
          <a:blip r:embed="rId1"/>
          <a:stretch/>
        </p:blipFill>
        <p:spPr>
          <a:xfrm>
            <a:off x="826920" y="1484280"/>
            <a:ext cx="727416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М. Бубер, релігійний філософ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f7f7f"/>
                </a:solidFill>
                <a:latin typeface="Century Gothic"/>
              </a:rPr>
              <a:t>«Ми говоримо про національну ідею, коли який–небудь народ помічає свою єдність, свій внутрішній зв’язок, свій історичний характер, свої традиції, своє становлення і розвиток, свою долю і призначення, що робить їх предметом своєї свідомості, мотивуванням своєї волі»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Національна ідея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Відповідає на два питання: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7f7f7f"/>
                </a:solidFill>
                <a:uFillTx/>
                <a:latin typeface="Century Gothic"/>
              </a:rPr>
              <a:t>Хто ми такі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7f7f7f"/>
                </a:solidFill>
                <a:uFillTx/>
                <a:latin typeface="Century Gothic"/>
              </a:rPr>
              <a:t>Яке наше призначення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Національна ідея -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f7f7f"/>
                </a:solidFill>
                <a:latin typeface="Century Gothic"/>
              </a:rPr>
              <a:t>Це ідея самопізнання та самоствердження нації, яка формується на основі усвідомлення нею себе як єдиного цілого, її самоідентифікації через спільність історичної долі та культури і спрямована на вольове об’єднання нації заради досягнення спільної мет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ru-RU" sz="5400" spc="-1" strike="noStrike">
                <a:solidFill>
                  <a:srgbClr val="2f5897"/>
                </a:solidFill>
                <a:latin typeface="Times New Roman"/>
              </a:rPr>
              <a:t>Національна ідея</a:t>
            </a: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560" y="1628280"/>
            <a:ext cx="8893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7f7f7f"/>
                </a:solidFill>
                <a:latin typeface="Times New Roman"/>
              </a:rPr>
              <a:t>— </a:t>
            </a:r>
            <a:r>
              <a:rPr b="1" lang="ru-RU" sz="2800" spc="-1" strike="noStrike">
                <a:solidFill>
                  <a:srgbClr val="7f7f7f"/>
                </a:solidFill>
                <a:latin typeface="Times New Roman"/>
              </a:rPr>
              <a:t>це інтелектуально окреслені, тобто свідомо і чітко сформульовані духовні основи буття етносу — його автентичності, цілісності, історичної спрямованості, сенсу життя та місця поміж інших народів.</a:t>
            </a:r>
            <a:r>
              <a:rPr b="0" lang="ru-RU" sz="28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2484360" y="4149720"/>
            <a:ext cx="4392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національна ідея містить концентрований вираз національних інтересів, почуттів та прагнень. Це також форма духовного самоусвідомлення, показник того, як народ бачить себе, свою роль та місце у світі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Users\User\Desktop\thumb_3.jpg"/>
          <p:cNvPicPr/>
          <p:nvPr/>
        </p:nvPicPr>
        <p:blipFill>
          <a:blip r:embed="rId1"/>
          <a:stretch/>
        </p:blipFill>
        <p:spPr>
          <a:xfrm>
            <a:off x="611280" y="692280"/>
            <a:ext cx="7921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Складові національної ідеї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6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16:27Z</dcterms:created>
  <dc:creator>Alina</dc:creator>
  <dc:description/>
  <dc:language>en-US</dc:language>
  <cp:lastModifiedBy>User</cp:lastModifiedBy>
  <dcterms:modified xsi:type="dcterms:W3CDTF">2021-11-03T18:26:22Z</dcterms:modified>
  <cp:revision>23</cp:revision>
  <dc:subject/>
  <dc:title>Українська національна ідея</dc:title>
</cp:coreProperties>
</file>