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EED-4F9F-4875-92F6-43DC3656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C2F-442A-4671-BF07-43E4C2A0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AEE-F406-4780-B6D0-2780802D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0E4-3C15-46BA-BD33-40719C17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F04E-B548-47F6-AEE4-0B3B3195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9514-4949-459F-AA8A-B1E4417B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30E0-9827-4ED4-B42B-8C202781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F38D-6754-4D93-8DC3-7FF1A177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4F62-378E-46F1-B0D1-25F62972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1594-E40E-4B95-847B-98395950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0260-C3DD-4A83-A2BC-4D871A7A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BF1-56FD-4BE9-A089-96AFA778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E44C-AADA-4015-9BFA-3F3FF06B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9AD1-E23A-453A-BA57-6A30C473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2ACB-6696-4ACF-9973-ACAD3632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1AE3-EC86-48E3-A376-CADD2B93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9371-2599-4B03-B26E-BB7C7E98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68E-1CAC-45EE-9FE3-738E9E10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639-39B9-4E83-82B3-D395AA50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897-F156-4C2D-B014-2E6067A6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9D7-F8A0-43EB-9D13-985B8EBF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10A-9EB7-4EE7-BF3C-DE40929C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902-E0E5-4E50-9E0E-95777777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94B-35BC-43E7-98D4-3DEAA17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0B03-1D89-4DD2-B159-4118A1152C4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382F-EFD9-4078-986B-521613E7A21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1905120"/>
            <a:ext cx="871380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2f5897"/>
                </a:solidFill>
                <a:latin typeface="Times New Roman"/>
              </a:rPr>
              <a:t>Національна ідея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27640" y="3962520"/>
            <a:ext cx="2376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минул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Е. Ренан «Героїчне минуле, великі люди, слава (але справедлива) – ось головний капітал, на якому ґрунтується національна ідея»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міфологізація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Місія наці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Її призначення у світовому суспільно-історичному процесі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Г. Гегель «Філософія історії»: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«Америка є країною майбутнього»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Види місі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2" name="Объект 3" descr=""/>
          <p:cNvPicPr/>
          <p:nvPr/>
        </p:nvPicPr>
        <p:blipFill>
          <a:blip r:embed="rId1"/>
          <a:stretch/>
        </p:blipFill>
        <p:spPr>
          <a:xfrm>
            <a:off x="341280" y="1603440"/>
            <a:ext cx="8388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Місія і месіанізм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f7f7f"/>
                </a:solidFill>
                <a:latin typeface="Century Gothic"/>
              </a:rPr>
              <a:t>Месіанізм – наявність лише однієї місії – світового володаря, богообраного народу, великої імперії, єдиного носія цивілізації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f7f7f"/>
                </a:solidFill>
                <a:latin typeface="Century Gothic"/>
              </a:rPr>
              <a:t>Місія – роль в історичному розвитку людства, що водночас не виключає такої ж ролі для інших народів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Типи місі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«міст» – єднальна ланка між іншими народами, націями, культурами (чеське «будительство») – між слов’янським світом і німецьким народо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В. Липинський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«останній форпост цивілізації» – країна є останнім рубежем цивілізованого світу (ягелонська ідея в Польщі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f7f7f"/>
                </a:solidFill>
                <a:latin typeface="Century Gothic"/>
              </a:rPr>
              <a:t>Д. Донцов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Типи місі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Імперська місія – народ – творець великої імперії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«носій свободи та демократії» – Франція, США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Національна ідея – явище культур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f7f7f"/>
                </a:solidFill>
                <a:latin typeface="Century Gothic"/>
              </a:rPr>
              <a:t>Створюється діяльністю певних верств, еліти – духовної та інтелектуальної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f7f7f"/>
                </a:solidFill>
                <a:latin typeface="Century Gothic"/>
              </a:rPr>
              <a:t>Е. Гелнер: інтелектуальні еліти створюють</a:t>
            </a: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 «пупок нації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3" descr="C:\Users\User\Desktop\Без названия (6).jpg"/>
          <p:cNvPicPr/>
          <p:nvPr/>
        </p:nvPicPr>
        <p:blipFill>
          <a:blip r:embed="rId1"/>
          <a:stretch/>
        </p:blipFill>
        <p:spPr>
          <a:xfrm>
            <a:off x="784080" y="3403440"/>
            <a:ext cx="18432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М. Грох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Дослідники виділяють три етапи розвитку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академічний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культурно-просвітницький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політичний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2" descr="C:\Users\User\Desktop\Без названия (5).jpg"/>
          <p:cNvPicPr/>
          <p:nvPr/>
        </p:nvPicPr>
        <p:blipFill>
          <a:blip r:embed="rId1"/>
          <a:stretch/>
        </p:blipFill>
        <p:spPr>
          <a:xfrm>
            <a:off x="5729400" y="3500280"/>
            <a:ext cx="27288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Значення національної іде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</a:rPr>
              <a:t>Країна без такої ідеї –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Times New Roman"/>
              </a:rPr>
              <a:t>як людина без принципів і цілей, без розуміння того, що добре, а що ні, що і як вона хоче досягти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3200" spc="-1" strike="noStrike">
                <a:solidFill>
                  <a:srgbClr val="2f5897"/>
                </a:solidFill>
                <a:latin typeface="Times New Roman"/>
              </a:rPr>
              <a:t>Вперше термін “українська ідея” в українській літературі ввів </a:t>
            </a:r>
            <a:r>
              <a:rPr b="1" i="1" lang="ru-RU" sz="3200" spc="-1" strike="noStrike" u="sng">
                <a:solidFill>
                  <a:srgbClr val="2f5897"/>
                </a:solidFill>
                <a:uFillTx/>
                <a:latin typeface="Times New Roman"/>
              </a:rPr>
              <a:t>П.Куліш.</a:t>
            </a:r>
            <a:r>
              <a:rPr b="0" lang="ru-RU" sz="3200" spc="-1" strike="noStrike">
                <a:solidFill>
                  <a:srgbClr val="2f5897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Ідея почала формуватися у кінці 18 – на початку 19 ст. – українське національне відродження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5800" indent="-32580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«Історія Русів» - провідна ідея – існування окремого народу, відмінного від інших, з власними культурними і державницькими традиціям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План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1. Сутність національної ідеї як елемента політичної культури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2. Національна ідея в Україні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Кирило-Мефодіївське товариство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f7f7f"/>
                </a:solidFill>
                <a:latin typeface="Century Gothic"/>
              </a:rPr>
              <a:t>Остаточно оформило національну ідею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f7f7f"/>
                </a:solidFill>
                <a:latin typeface="Century Gothic"/>
              </a:rPr>
              <a:t>М. Костомаров, Т. Шевченко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Тарас Шевченко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7f7f"/>
                </a:solidFill>
                <a:latin typeface="Century Gothic"/>
              </a:rPr>
              <a:t>«В своїй хаті – своя правда, і сила, і воля»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C:\Users\User\Desktop\Без названия (4).jpg"/>
          <p:cNvPicPr/>
          <p:nvPr/>
        </p:nvPicPr>
        <p:blipFill>
          <a:blip r:embed="rId1"/>
          <a:stretch/>
        </p:blipFill>
        <p:spPr>
          <a:xfrm>
            <a:off x="5219640" y="3000240"/>
            <a:ext cx="25923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971640" y="2274840"/>
            <a:ext cx="748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ередині 20-х років український політичний діяч та публіцист В’ячеслав Липинський писав про національну ідею як реалізацію прагнення самого народу бути нацією. «Коли нема цього «хотіння», виявленого у форм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ідеї – немає нації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User\Desktop\Без названия (7).jpg"/>
          <p:cNvPicPr/>
          <p:nvPr/>
        </p:nvPicPr>
        <p:blipFill>
          <a:blip r:embed="rId1"/>
          <a:stretch/>
        </p:blipFill>
        <p:spPr>
          <a:xfrm>
            <a:off x="6742080" y="4406760"/>
            <a:ext cx="20764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User\Desktop\slide-3 (1).jpg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897"/>
                </a:solidFill>
                <a:latin typeface="Times New Roman"/>
              </a:rPr>
              <a:t>    </a:t>
            </a:r>
            <a:r>
              <a:rPr b="0" lang="ru-RU" sz="3200" spc="-1" strike="noStrike" u="sng">
                <a:solidFill>
                  <a:srgbClr val="2f5897"/>
                </a:solidFill>
                <a:uFillTx/>
                <a:latin typeface="Times New Roman"/>
              </a:rPr>
              <a:t>Специфіка сучасної </a:t>
            </a:r>
            <a:br>
              <a:rPr sz="3200"/>
            </a:br>
            <a:r>
              <a:rPr b="0" lang="ru-RU" sz="3200" spc="-1" strike="noStrike" u="sng">
                <a:solidFill>
                  <a:srgbClr val="2f5897"/>
                </a:solidFill>
                <a:uFillTx/>
                <a:latin typeface="Times New Roman"/>
              </a:rPr>
              <a:t>української національної ідеї</a:t>
            </a:r>
            <a:r>
              <a:rPr b="0" lang="ru-RU" sz="32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565000"/>
            <a:ext cx="8007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Times New Roman"/>
              </a:rPr>
              <a:t>Духовність як основа життя етносу;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Times New Roman"/>
              </a:rPr>
              <a:t>Незалежна держава;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f7f7f"/>
                </a:solidFill>
                <a:latin typeface="Times New Roman"/>
              </a:rPr>
              <a:t>Соборність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User\Desktop\slide-4.jpg"/>
          <p:cNvPicPr/>
          <p:nvPr/>
        </p:nvPicPr>
        <p:blipFill>
          <a:blip r:embed="rId1"/>
          <a:stretch/>
        </p:blipFill>
        <p:spPr>
          <a:xfrm>
            <a:off x="539640" y="476280"/>
            <a:ext cx="78487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Відродження національної культур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Процес побудови громадянського суспільства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С. Томашівськи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7f7f7f"/>
                </a:solidFill>
                <a:latin typeface="Century Gothic"/>
              </a:rPr>
              <a:t>«між ідеальною ціллю і реальною програмою така сама різниця, як в релігії між вірою і практикою заповідей і добрих діл»</a:t>
            </a:r>
            <a:endParaRPr b="0" lang="en-US" sz="4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User\Desktop\4.jpg"/>
          <p:cNvPicPr/>
          <p:nvPr/>
        </p:nvPicPr>
        <p:blipFill>
          <a:blip r:embed="rId1"/>
          <a:stretch/>
        </p:blipFill>
        <p:spPr>
          <a:xfrm>
            <a:off x="826920" y="1484280"/>
            <a:ext cx="727416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М. Бубер, релігійний філософ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f7f7f"/>
                </a:solidFill>
                <a:latin typeface="Century Gothic"/>
              </a:rPr>
              <a:t>«Ми говоримо про національну ідею, коли який–небудь народ помічає свою єдність, свій внутрішній зв’язок, свій історичний характер, свої традиції, своє становлення і розвиток, свою долю і призначення, що робить їх предметом своєї свідомості, мотивуванням своєї волі»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Національна ідея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f7f7f"/>
                </a:solidFill>
                <a:latin typeface="Century Gothic"/>
              </a:rPr>
              <a:t>Відповідає на два питання: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7f7f7f"/>
                </a:solidFill>
                <a:uFillTx/>
                <a:latin typeface="Century Gothic"/>
              </a:rPr>
              <a:t>Хто ми такі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7f7f7f"/>
                </a:solidFill>
                <a:uFillTx/>
                <a:latin typeface="Century Gothic"/>
              </a:rPr>
              <a:t>Яке наше призначення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Національна ідея -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f7f7f"/>
                </a:solidFill>
                <a:latin typeface="Century Gothic"/>
              </a:rPr>
              <a:t>Це ідея самопізнання та самоствердження нації, яка формується на основі усвідомлення нею себе як єдиного цілого, її самоідентифікації через спільність історичної долі та культури і спрямована на вольове об’єднання нації заради досягнення спільної мет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1" lang="ru-RU" sz="5400" spc="-1" strike="noStrike">
                <a:solidFill>
                  <a:srgbClr val="2f5897"/>
                </a:solidFill>
                <a:latin typeface="Times New Roman"/>
              </a:rPr>
              <a:t>Національна ідея</a:t>
            </a: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560" y="1628280"/>
            <a:ext cx="8893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7f7f7f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7f7f7f"/>
                </a:solidFill>
                <a:latin typeface="Times New Roman"/>
              </a:rPr>
              <a:t>це інтелектуально окреслені, тобто свідомо і чітко сформульовані духовні основи буття етносу — його автентичності, цілісності, історичної спрямованості, сенсу життя та місця поміж інших народів.</a:t>
            </a:r>
            <a:r>
              <a:rPr b="0" lang="ru-RU" sz="28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2484360" y="4149720"/>
            <a:ext cx="4392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національна ідея містить концентрований вираз національних інтересів, почуттів та прагнень. Це також форма духовного самоусвідомлення, показник того, як народ бачить себе, свою роль та місце у світі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User\Desktop\thumb_3.jpg"/>
          <p:cNvPicPr/>
          <p:nvPr/>
        </p:nvPicPr>
        <p:blipFill>
          <a:blip r:embed="rId1"/>
          <a:stretch/>
        </p:blipFill>
        <p:spPr>
          <a:xfrm>
            <a:off x="611280" y="692280"/>
            <a:ext cx="7921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2f5897"/>
                </a:solidFill>
                <a:latin typeface="Palatino Linotype"/>
              </a:rPr>
              <a:t>Складові національної ідеї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6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16:27Z</dcterms:created>
  <dc:creator>Alina</dc:creator>
  <dc:description/>
  <dc:language>en-US</dc:language>
  <cp:lastModifiedBy>User</cp:lastModifiedBy>
  <dcterms:modified xsi:type="dcterms:W3CDTF">2021-11-03T18:26:22Z</dcterms:modified>
  <cp:revision>23</cp:revision>
  <dc:subject/>
  <dc:title>Українська національна ідея</dc:title>
</cp:coreProperties>
</file>