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91F-012E-42B1-9127-5D31AEC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D79-806D-40C6-9C86-82DA618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13A-09EA-4D3E-BCC7-79BFDB2B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827-3A6D-4416-A2B4-87AA8E43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111-4644-4839-B8E9-57494B0E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634-A450-4473-9E60-02C6663B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C7F-8154-4EDA-9076-8995CF8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169-F9C2-4D28-AF60-999D279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37A-94AB-4E30-98F7-1EF6AB37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AEF-DD26-4077-9FF9-6BDF169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E55-C39F-4ABC-9F40-6CE50ED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5D2-3735-497F-BD81-9960EC99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A8B5-0FB4-4368-80D2-2476982CD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-55404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49000"/>
            <a:ext cx="814716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ПРЕЗЕНТАЦІЯ ДИСЦИПЛІНИ</a:t>
            </a:r>
            <a:br>
              <a:rPr sz="2800"/>
            </a:br>
            <a:r>
              <a:rPr b="0" i="1" lang="uk-UA" sz="2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«АКТУАЛЬНІ ПРОБЛЕМИ ІСТОРІЇ ГОЛОКОС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-900000" y="0"/>
            <a:ext cx="11299680" cy="7532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4480" y="11556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З повагою, твій викладач </a:t>
            </a:r>
            <a:br>
              <a:rPr sz="1800"/>
            </a:b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САВЧУК ТЕТЯНА ГРИГОРІВНА,</a:t>
            </a:r>
            <a:br>
              <a:rPr sz="1800"/>
            </a:br>
            <a:r>
              <a:rPr b="0" lang="uk-UA" sz="1800" spc="-1" strike="noStrike">
                <a:solidFill>
                  <a:srgbClr val="deded6"/>
                </a:solidFill>
                <a:latin typeface="Segoe UI Black"/>
                <a:ea typeface="Segoe UI Black"/>
              </a:rPr>
              <a:t>доцент кафедри історії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8" descr=""/>
          <p:cNvPicPr/>
          <p:nvPr/>
        </p:nvPicPr>
        <p:blipFill>
          <a:blip r:embed="rId2"/>
          <a:stretch/>
        </p:blipFill>
        <p:spPr>
          <a:xfrm>
            <a:off x="2992320" y="1878120"/>
            <a:ext cx="3365640" cy="45291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 rot="19923600">
            <a:off x="5586480" y="6230520"/>
            <a:ext cx="1282680" cy="345960"/>
          </a:xfrm>
          <a:prstGeom prst="rect">
            <a:avLst/>
          </a:pr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2637000" y="1593720"/>
            <a:ext cx="359064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ВИНИЩЕННЯ ЄВРЕЇ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ВІДНОСИНИ МІЖ ЛЮДЬМИ РІЗНИХ НАЦІ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87320" y="2565360"/>
            <a:ext cx="540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ЦЯ ДИСЦИПЛІНА ПРО ПОВАГУ ДО ПРЕДСТАВНИКІВ РІЗНИХ НАЦІ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hape 318"/>
          <p:cNvSpPr/>
          <p:nvPr/>
        </p:nvSpPr>
        <p:spPr>
          <a:xfrm>
            <a:off x="4140360" y="1714680"/>
            <a:ext cx="576000" cy="590400"/>
          </a:xfrm>
          <a:custGeom>
            <a:avLst/>
            <a:gdLst>
              <a:gd name="textAreaLeft" fmla="*/ 0 w 576000"/>
              <a:gd name="textAreaRight" fmla="*/ 576360 w 57600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741" h="17131">
                <a:moveTo>
                  <a:pt x="6570" y="5719"/>
                </a:moveTo>
                <a:lnTo>
                  <a:pt x="6692" y="5913"/>
                </a:lnTo>
                <a:lnTo>
                  <a:pt x="6619" y="5986"/>
                </a:lnTo>
                <a:lnTo>
                  <a:pt x="6351" y="6181"/>
                </a:lnTo>
                <a:lnTo>
                  <a:pt x="6059" y="6400"/>
                </a:lnTo>
                <a:lnTo>
                  <a:pt x="5816" y="6668"/>
                </a:lnTo>
                <a:lnTo>
                  <a:pt x="5718" y="6789"/>
                </a:lnTo>
                <a:lnTo>
                  <a:pt x="5621" y="6935"/>
                </a:lnTo>
                <a:lnTo>
                  <a:pt x="5499" y="6838"/>
                </a:lnTo>
                <a:lnTo>
                  <a:pt x="5353" y="6741"/>
                </a:lnTo>
                <a:lnTo>
                  <a:pt x="5499" y="6643"/>
                </a:lnTo>
                <a:lnTo>
                  <a:pt x="5645" y="6522"/>
                </a:lnTo>
                <a:lnTo>
                  <a:pt x="5913" y="6303"/>
                </a:lnTo>
                <a:lnTo>
                  <a:pt x="6570" y="5719"/>
                </a:lnTo>
                <a:close/>
                <a:moveTo>
                  <a:pt x="6959" y="6205"/>
                </a:moveTo>
                <a:lnTo>
                  <a:pt x="7057" y="6303"/>
                </a:lnTo>
                <a:lnTo>
                  <a:pt x="6789" y="6522"/>
                </a:lnTo>
                <a:lnTo>
                  <a:pt x="6473" y="6789"/>
                </a:lnTo>
                <a:lnTo>
                  <a:pt x="6205" y="7057"/>
                </a:lnTo>
                <a:lnTo>
                  <a:pt x="6083" y="7179"/>
                </a:lnTo>
                <a:lnTo>
                  <a:pt x="5986" y="7300"/>
                </a:lnTo>
                <a:lnTo>
                  <a:pt x="5864" y="7154"/>
                </a:lnTo>
                <a:lnTo>
                  <a:pt x="5986" y="7057"/>
                </a:lnTo>
                <a:lnTo>
                  <a:pt x="6108" y="6935"/>
                </a:lnTo>
                <a:lnTo>
                  <a:pt x="6351" y="6692"/>
                </a:lnTo>
                <a:lnTo>
                  <a:pt x="6619" y="6449"/>
                </a:lnTo>
                <a:lnTo>
                  <a:pt x="6911" y="6254"/>
                </a:lnTo>
                <a:lnTo>
                  <a:pt x="6959" y="6205"/>
                </a:lnTo>
                <a:close/>
                <a:moveTo>
                  <a:pt x="7397" y="6619"/>
                </a:moveTo>
                <a:lnTo>
                  <a:pt x="7665" y="6814"/>
                </a:lnTo>
                <a:lnTo>
                  <a:pt x="7324" y="7033"/>
                </a:lnTo>
                <a:lnTo>
                  <a:pt x="7008" y="7276"/>
                </a:lnTo>
                <a:lnTo>
                  <a:pt x="6862" y="7422"/>
                </a:lnTo>
                <a:lnTo>
                  <a:pt x="6716" y="7568"/>
                </a:lnTo>
                <a:lnTo>
                  <a:pt x="6594" y="7714"/>
                </a:lnTo>
                <a:lnTo>
                  <a:pt x="6497" y="7884"/>
                </a:lnTo>
                <a:lnTo>
                  <a:pt x="6229" y="7568"/>
                </a:lnTo>
                <a:lnTo>
                  <a:pt x="6327" y="7495"/>
                </a:lnTo>
                <a:lnTo>
                  <a:pt x="6424" y="7422"/>
                </a:lnTo>
                <a:lnTo>
                  <a:pt x="6619" y="7252"/>
                </a:lnTo>
                <a:lnTo>
                  <a:pt x="7008" y="6935"/>
                </a:lnTo>
                <a:lnTo>
                  <a:pt x="7397" y="6619"/>
                </a:lnTo>
                <a:close/>
                <a:moveTo>
                  <a:pt x="8030" y="7081"/>
                </a:moveTo>
                <a:lnTo>
                  <a:pt x="8127" y="7154"/>
                </a:lnTo>
                <a:lnTo>
                  <a:pt x="7762" y="7373"/>
                </a:lnTo>
                <a:lnTo>
                  <a:pt x="7397" y="7641"/>
                </a:lnTo>
                <a:lnTo>
                  <a:pt x="7057" y="7933"/>
                </a:lnTo>
                <a:lnTo>
                  <a:pt x="6911" y="8079"/>
                </a:lnTo>
                <a:lnTo>
                  <a:pt x="6765" y="8249"/>
                </a:lnTo>
                <a:lnTo>
                  <a:pt x="6619" y="8030"/>
                </a:lnTo>
                <a:lnTo>
                  <a:pt x="6643" y="8030"/>
                </a:lnTo>
                <a:lnTo>
                  <a:pt x="6838" y="7909"/>
                </a:lnTo>
                <a:lnTo>
                  <a:pt x="7008" y="7787"/>
                </a:lnTo>
                <a:lnTo>
                  <a:pt x="7324" y="7544"/>
                </a:lnTo>
                <a:lnTo>
                  <a:pt x="7689" y="7300"/>
                </a:lnTo>
                <a:lnTo>
                  <a:pt x="8030" y="7081"/>
                </a:lnTo>
                <a:close/>
                <a:moveTo>
                  <a:pt x="9879" y="8931"/>
                </a:moveTo>
                <a:lnTo>
                  <a:pt x="9952" y="9052"/>
                </a:lnTo>
                <a:lnTo>
                  <a:pt x="9757" y="9223"/>
                </a:lnTo>
                <a:lnTo>
                  <a:pt x="9563" y="9417"/>
                </a:lnTo>
                <a:lnTo>
                  <a:pt x="9198" y="9782"/>
                </a:lnTo>
                <a:lnTo>
                  <a:pt x="9027" y="9953"/>
                </a:lnTo>
                <a:lnTo>
                  <a:pt x="8930" y="10074"/>
                </a:lnTo>
                <a:lnTo>
                  <a:pt x="8833" y="10196"/>
                </a:lnTo>
                <a:lnTo>
                  <a:pt x="8589" y="10050"/>
                </a:lnTo>
                <a:lnTo>
                  <a:pt x="8711" y="9977"/>
                </a:lnTo>
                <a:lnTo>
                  <a:pt x="8833" y="9880"/>
                </a:lnTo>
                <a:lnTo>
                  <a:pt x="9027" y="9685"/>
                </a:lnTo>
                <a:lnTo>
                  <a:pt x="9879" y="8931"/>
                </a:lnTo>
                <a:close/>
                <a:moveTo>
                  <a:pt x="10317" y="5670"/>
                </a:moveTo>
                <a:lnTo>
                  <a:pt x="10585" y="5962"/>
                </a:lnTo>
                <a:lnTo>
                  <a:pt x="10220" y="6230"/>
                </a:lnTo>
                <a:lnTo>
                  <a:pt x="9879" y="6497"/>
                </a:lnTo>
                <a:lnTo>
                  <a:pt x="9198" y="7081"/>
                </a:lnTo>
                <a:lnTo>
                  <a:pt x="8541" y="7690"/>
                </a:lnTo>
                <a:lnTo>
                  <a:pt x="7908" y="8274"/>
                </a:lnTo>
                <a:lnTo>
                  <a:pt x="7276" y="8906"/>
                </a:lnTo>
                <a:lnTo>
                  <a:pt x="6643" y="9515"/>
                </a:lnTo>
                <a:lnTo>
                  <a:pt x="6108" y="10050"/>
                </a:lnTo>
                <a:lnTo>
                  <a:pt x="5962" y="10196"/>
                </a:lnTo>
                <a:lnTo>
                  <a:pt x="5864" y="10366"/>
                </a:lnTo>
                <a:lnTo>
                  <a:pt x="5767" y="10512"/>
                </a:lnTo>
                <a:lnTo>
                  <a:pt x="5694" y="10682"/>
                </a:lnTo>
                <a:lnTo>
                  <a:pt x="5378" y="10415"/>
                </a:lnTo>
                <a:lnTo>
                  <a:pt x="5524" y="10293"/>
                </a:lnTo>
                <a:lnTo>
                  <a:pt x="5670" y="10147"/>
                </a:lnTo>
                <a:lnTo>
                  <a:pt x="5913" y="9880"/>
                </a:lnTo>
                <a:lnTo>
                  <a:pt x="6424" y="9320"/>
                </a:lnTo>
                <a:lnTo>
                  <a:pt x="6935" y="8760"/>
                </a:lnTo>
                <a:lnTo>
                  <a:pt x="6984" y="8712"/>
                </a:lnTo>
                <a:lnTo>
                  <a:pt x="7008" y="8663"/>
                </a:lnTo>
                <a:lnTo>
                  <a:pt x="7008" y="8566"/>
                </a:lnTo>
                <a:lnTo>
                  <a:pt x="7519" y="8103"/>
                </a:lnTo>
                <a:lnTo>
                  <a:pt x="7762" y="7884"/>
                </a:lnTo>
                <a:lnTo>
                  <a:pt x="8054" y="7690"/>
                </a:lnTo>
                <a:lnTo>
                  <a:pt x="8370" y="7495"/>
                </a:lnTo>
                <a:lnTo>
                  <a:pt x="8516" y="7373"/>
                </a:lnTo>
                <a:lnTo>
                  <a:pt x="8541" y="7300"/>
                </a:lnTo>
                <a:lnTo>
                  <a:pt x="8565" y="7227"/>
                </a:lnTo>
                <a:lnTo>
                  <a:pt x="8735" y="7130"/>
                </a:lnTo>
                <a:lnTo>
                  <a:pt x="8906" y="6984"/>
                </a:lnTo>
                <a:lnTo>
                  <a:pt x="9246" y="6716"/>
                </a:lnTo>
                <a:lnTo>
                  <a:pt x="9782" y="6205"/>
                </a:lnTo>
                <a:lnTo>
                  <a:pt x="10317" y="5670"/>
                </a:lnTo>
                <a:close/>
                <a:moveTo>
                  <a:pt x="10195" y="9369"/>
                </a:moveTo>
                <a:lnTo>
                  <a:pt x="10439" y="9661"/>
                </a:lnTo>
                <a:lnTo>
                  <a:pt x="9928" y="10147"/>
                </a:lnTo>
                <a:lnTo>
                  <a:pt x="9660" y="10415"/>
                </a:lnTo>
                <a:lnTo>
                  <a:pt x="9514" y="10536"/>
                </a:lnTo>
                <a:lnTo>
                  <a:pt x="9417" y="10682"/>
                </a:lnTo>
                <a:lnTo>
                  <a:pt x="9222" y="10512"/>
                </a:lnTo>
                <a:lnTo>
                  <a:pt x="9052" y="10366"/>
                </a:lnTo>
                <a:lnTo>
                  <a:pt x="9198" y="10293"/>
                </a:lnTo>
                <a:lnTo>
                  <a:pt x="9319" y="10171"/>
                </a:lnTo>
                <a:lnTo>
                  <a:pt x="9538" y="9977"/>
                </a:lnTo>
                <a:lnTo>
                  <a:pt x="9879" y="9685"/>
                </a:lnTo>
                <a:lnTo>
                  <a:pt x="10195" y="9369"/>
                </a:lnTo>
                <a:close/>
                <a:moveTo>
                  <a:pt x="10852" y="6278"/>
                </a:moveTo>
                <a:lnTo>
                  <a:pt x="10901" y="6303"/>
                </a:lnTo>
                <a:lnTo>
                  <a:pt x="10609" y="6546"/>
                </a:lnTo>
                <a:lnTo>
                  <a:pt x="10341" y="6789"/>
                </a:lnTo>
                <a:lnTo>
                  <a:pt x="9806" y="7325"/>
                </a:lnTo>
                <a:lnTo>
                  <a:pt x="8565" y="8541"/>
                </a:lnTo>
                <a:lnTo>
                  <a:pt x="7300" y="9734"/>
                </a:lnTo>
                <a:lnTo>
                  <a:pt x="6643" y="10342"/>
                </a:lnTo>
                <a:lnTo>
                  <a:pt x="6473" y="10512"/>
                </a:lnTo>
                <a:lnTo>
                  <a:pt x="6327" y="10658"/>
                </a:lnTo>
                <a:lnTo>
                  <a:pt x="6181" y="10853"/>
                </a:lnTo>
                <a:lnTo>
                  <a:pt x="6083" y="11023"/>
                </a:lnTo>
                <a:lnTo>
                  <a:pt x="6083" y="11047"/>
                </a:lnTo>
                <a:lnTo>
                  <a:pt x="5791" y="10780"/>
                </a:lnTo>
                <a:lnTo>
                  <a:pt x="5937" y="10707"/>
                </a:lnTo>
                <a:lnTo>
                  <a:pt x="6083" y="10609"/>
                </a:lnTo>
                <a:lnTo>
                  <a:pt x="6327" y="10390"/>
                </a:lnTo>
                <a:lnTo>
                  <a:pt x="6765" y="9904"/>
                </a:lnTo>
                <a:lnTo>
                  <a:pt x="7397" y="9271"/>
                </a:lnTo>
                <a:lnTo>
                  <a:pt x="8054" y="8663"/>
                </a:lnTo>
                <a:lnTo>
                  <a:pt x="8735" y="8055"/>
                </a:lnTo>
                <a:lnTo>
                  <a:pt x="9441" y="7471"/>
                </a:lnTo>
                <a:lnTo>
                  <a:pt x="10171" y="6887"/>
                </a:lnTo>
                <a:lnTo>
                  <a:pt x="10852" y="6278"/>
                </a:lnTo>
                <a:close/>
                <a:moveTo>
                  <a:pt x="10731" y="9953"/>
                </a:moveTo>
                <a:lnTo>
                  <a:pt x="10901" y="10123"/>
                </a:lnTo>
                <a:lnTo>
                  <a:pt x="10658" y="10317"/>
                </a:lnTo>
                <a:lnTo>
                  <a:pt x="10463" y="10512"/>
                </a:lnTo>
                <a:lnTo>
                  <a:pt x="10147" y="10755"/>
                </a:lnTo>
                <a:lnTo>
                  <a:pt x="10001" y="10901"/>
                </a:lnTo>
                <a:lnTo>
                  <a:pt x="9879" y="11047"/>
                </a:lnTo>
                <a:lnTo>
                  <a:pt x="9709" y="10926"/>
                </a:lnTo>
                <a:lnTo>
                  <a:pt x="9611" y="10877"/>
                </a:lnTo>
                <a:lnTo>
                  <a:pt x="9879" y="10682"/>
                </a:lnTo>
                <a:lnTo>
                  <a:pt x="10122" y="10488"/>
                </a:lnTo>
                <a:lnTo>
                  <a:pt x="10731" y="9953"/>
                </a:lnTo>
                <a:close/>
                <a:moveTo>
                  <a:pt x="11193" y="6619"/>
                </a:moveTo>
                <a:lnTo>
                  <a:pt x="11315" y="6741"/>
                </a:lnTo>
                <a:lnTo>
                  <a:pt x="10852" y="7179"/>
                </a:lnTo>
                <a:lnTo>
                  <a:pt x="10439" y="7641"/>
                </a:lnTo>
                <a:lnTo>
                  <a:pt x="10001" y="8055"/>
                </a:lnTo>
                <a:lnTo>
                  <a:pt x="9806" y="8274"/>
                </a:lnTo>
                <a:lnTo>
                  <a:pt x="9733" y="8395"/>
                </a:lnTo>
                <a:lnTo>
                  <a:pt x="9684" y="8541"/>
                </a:lnTo>
                <a:lnTo>
                  <a:pt x="9684" y="8566"/>
                </a:lnTo>
                <a:lnTo>
                  <a:pt x="8857" y="9320"/>
                </a:lnTo>
                <a:lnTo>
                  <a:pt x="8565" y="9588"/>
                </a:lnTo>
                <a:lnTo>
                  <a:pt x="8419" y="9734"/>
                </a:lnTo>
                <a:lnTo>
                  <a:pt x="8346" y="9831"/>
                </a:lnTo>
                <a:lnTo>
                  <a:pt x="8297" y="9904"/>
                </a:lnTo>
                <a:lnTo>
                  <a:pt x="8224" y="9953"/>
                </a:lnTo>
                <a:lnTo>
                  <a:pt x="7713" y="10439"/>
                </a:lnTo>
                <a:lnTo>
                  <a:pt x="7203" y="10901"/>
                </a:lnTo>
                <a:lnTo>
                  <a:pt x="6886" y="11145"/>
                </a:lnTo>
                <a:lnTo>
                  <a:pt x="6716" y="11291"/>
                </a:lnTo>
                <a:lnTo>
                  <a:pt x="6570" y="11412"/>
                </a:lnTo>
                <a:lnTo>
                  <a:pt x="6254" y="11169"/>
                </a:lnTo>
                <a:lnTo>
                  <a:pt x="6424" y="11096"/>
                </a:lnTo>
                <a:lnTo>
                  <a:pt x="6570" y="10974"/>
                </a:lnTo>
                <a:lnTo>
                  <a:pt x="6886" y="10707"/>
                </a:lnTo>
                <a:lnTo>
                  <a:pt x="7446" y="10147"/>
                </a:lnTo>
                <a:lnTo>
                  <a:pt x="8711" y="8955"/>
                </a:lnTo>
                <a:lnTo>
                  <a:pt x="10001" y="7763"/>
                </a:lnTo>
                <a:lnTo>
                  <a:pt x="10609" y="7203"/>
                </a:lnTo>
                <a:lnTo>
                  <a:pt x="10901" y="6911"/>
                </a:lnTo>
                <a:lnTo>
                  <a:pt x="11193" y="6619"/>
                </a:lnTo>
                <a:close/>
                <a:moveTo>
                  <a:pt x="11120" y="10366"/>
                </a:moveTo>
                <a:lnTo>
                  <a:pt x="11290" y="10536"/>
                </a:lnTo>
                <a:lnTo>
                  <a:pt x="10998" y="10828"/>
                </a:lnTo>
                <a:lnTo>
                  <a:pt x="10706" y="11096"/>
                </a:lnTo>
                <a:lnTo>
                  <a:pt x="10487" y="11266"/>
                </a:lnTo>
                <a:lnTo>
                  <a:pt x="10244" y="11437"/>
                </a:lnTo>
                <a:lnTo>
                  <a:pt x="10171" y="11315"/>
                </a:lnTo>
                <a:lnTo>
                  <a:pt x="10074" y="11218"/>
                </a:lnTo>
                <a:lnTo>
                  <a:pt x="10220" y="11120"/>
                </a:lnTo>
                <a:lnTo>
                  <a:pt x="10366" y="11023"/>
                </a:lnTo>
                <a:lnTo>
                  <a:pt x="10633" y="10780"/>
                </a:lnTo>
                <a:lnTo>
                  <a:pt x="10877" y="10585"/>
                </a:lnTo>
                <a:lnTo>
                  <a:pt x="11120" y="10366"/>
                </a:lnTo>
                <a:close/>
                <a:moveTo>
                  <a:pt x="10220" y="5208"/>
                </a:moveTo>
                <a:lnTo>
                  <a:pt x="10122" y="5232"/>
                </a:lnTo>
                <a:lnTo>
                  <a:pt x="10049" y="5305"/>
                </a:lnTo>
                <a:lnTo>
                  <a:pt x="9952" y="5378"/>
                </a:lnTo>
                <a:lnTo>
                  <a:pt x="9344" y="6011"/>
                </a:lnTo>
                <a:lnTo>
                  <a:pt x="9027" y="6303"/>
                </a:lnTo>
                <a:lnTo>
                  <a:pt x="8687" y="6570"/>
                </a:lnTo>
                <a:lnTo>
                  <a:pt x="8419" y="6789"/>
                </a:lnTo>
                <a:lnTo>
                  <a:pt x="8005" y="6497"/>
                </a:lnTo>
                <a:lnTo>
                  <a:pt x="7592" y="6157"/>
                </a:lnTo>
                <a:lnTo>
                  <a:pt x="7373" y="5962"/>
                </a:lnTo>
                <a:lnTo>
                  <a:pt x="7178" y="5767"/>
                </a:lnTo>
                <a:lnTo>
                  <a:pt x="6984" y="5573"/>
                </a:lnTo>
                <a:lnTo>
                  <a:pt x="6740" y="5402"/>
                </a:lnTo>
                <a:lnTo>
                  <a:pt x="6716" y="5329"/>
                </a:lnTo>
                <a:lnTo>
                  <a:pt x="6643" y="5281"/>
                </a:lnTo>
                <a:lnTo>
                  <a:pt x="6594" y="5256"/>
                </a:lnTo>
                <a:lnTo>
                  <a:pt x="6448" y="5256"/>
                </a:lnTo>
                <a:lnTo>
                  <a:pt x="6400" y="5305"/>
                </a:lnTo>
                <a:lnTo>
                  <a:pt x="5621" y="6011"/>
                </a:lnTo>
                <a:lnTo>
                  <a:pt x="5280" y="6303"/>
                </a:lnTo>
                <a:lnTo>
                  <a:pt x="5134" y="6473"/>
                </a:lnTo>
                <a:lnTo>
                  <a:pt x="5086" y="6570"/>
                </a:lnTo>
                <a:lnTo>
                  <a:pt x="5037" y="6668"/>
                </a:lnTo>
                <a:lnTo>
                  <a:pt x="5037" y="6716"/>
                </a:lnTo>
                <a:lnTo>
                  <a:pt x="5037" y="6741"/>
                </a:lnTo>
                <a:lnTo>
                  <a:pt x="5086" y="6789"/>
                </a:lnTo>
                <a:lnTo>
                  <a:pt x="5110" y="6814"/>
                </a:lnTo>
                <a:lnTo>
                  <a:pt x="5183" y="6911"/>
                </a:lnTo>
                <a:lnTo>
                  <a:pt x="5256" y="7033"/>
                </a:lnTo>
                <a:lnTo>
                  <a:pt x="5426" y="7227"/>
                </a:lnTo>
                <a:lnTo>
                  <a:pt x="5791" y="7617"/>
                </a:lnTo>
                <a:lnTo>
                  <a:pt x="6156" y="8079"/>
                </a:lnTo>
                <a:lnTo>
                  <a:pt x="6521" y="8541"/>
                </a:lnTo>
                <a:lnTo>
                  <a:pt x="5694" y="9466"/>
                </a:lnTo>
                <a:lnTo>
                  <a:pt x="5256" y="9904"/>
                </a:lnTo>
                <a:lnTo>
                  <a:pt x="5159" y="10025"/>
                </a:lnTo>
                <a:lnTo>
                  <a:pt x="5061" y="10147"/>
                </a:lnTo>
                <a:lnTo>
                  <a:pt x="5013" y="10269"/>
                </a:lnTo>
                <a:lnTo>
                  <a:pt x="4988" y="10415"/>
                </a:lnTo>
                <a:lnTo>
                  <a:pt x="4988" y="10439"/>
                </a:lnTo>
                <a:lnTo>
                  <a:pt x="4988" y="10512"/>
                </a:lnTo>
                <a:lnTo>
                  <a:pt x="5013" y="10585"/>
                </a:lnTo>
                <a:lnTo>
                  <a:pt x="5159" y="10780"/>
                </a:lnTo>
                <a:lnTo>
                  <a:pt x="5305" y="10950"/>
                </a:lnTo>
                <a:lnTo>
                  <a:pt x="5670" y="11291"/>
                </a:lnTo>
                <a:lnTo>
                  <a:pt x="6035" y="11607"/>
                </a:lnTo>
                <a:lnTo>
                  <a:pt x="6424" y="11875"/>
                </a:lnTo>
                <a:lnTo>
                  <a:pt x="6473" y="11899"/>
                </a:lnTo>
                <a:lnTo>
                  <a:pt x="6521" y="11923"/>
                </a:lnTo>
                <a:lnTo>
                  <a:pt x="6594" y="11899"/>
                </a:lnTo>
                <a:lnTo>
                  <a:pt x="6619" y="11899"/>
                </a:lnTo>
                <a:lnTo>
                  <a:pt x="6692" y="11826"/>
                </a:lnTo>
                <a:lnTo>
                  <a:pt x="6740" y="11729"/>
                </a:lnTo>
                <a:lnTo>
                  <a:pt x="6911" y="11631"/>
                </a:lnTo>
                <a:lnTo>
                  <a:pt x="7057" y="11510"/>
                </a:lnTo>
                <a:lnTo>
                  <a:pt x="7349" y="11266"/>
                </a:lnTo>
                <a:lnTo>
                  <a:pt x="7859" y="10828"/>
                </a:lnTo>
                <a:lnTo>
                  <a:pt x="8370" y="10342"/>
                </a:lnTo>
                <a:lnTo>
                  <a:pt x="8468" y="10439"/>
                </a:lnTo>
                <a:lnTo>
                  <a:pt x="8784" y="10707"/>
                </a:lnTo>
                <a:lnTo>
                  <a:pt x="9076" y="10999"/>
                </a:lnTo>
                <a:lnTo>
                  <a:pt x="9198" y="11120"/>
                </a:lnTo>
                <a:lnTo>
                  <a:pt x="9319" y="11218"/>
                </a:lnTo>
                <a:lnTo>
                  <a:pt x="9587" y="11364"/>
                </a:lnTo>
                <a:lnTo>
                  <a:pt x="9709" y="11485"/>
                </a:lnTo>
                <a:lnTo>
                  <a:pt x="9830" y="11583"/>
                </a:lnTo>
                <a:lnTo>
                  <a:pt x="9928" y="11704"/>
                </a:lnTo>
                <a:lnTo>
                  <a:pt x="10001" y="11753"/>
                </a:lnTo>
                <a:lnTo>
                  <a:pt x="10074" y="11777"/>
                </a:lnTo>
                <a:lnTo>
                  <a:pt x="10098" y="11802"/>
                </a:lnTo>
                <a:lnTo>
                  <a:pt x="10220" y="11802"/>
                </a:lnTo>
                <a:lnTo>
                  <a:pt x="10317" y="11777"/>
                </a:lnTo>
                <a:lnTo>
                  <a:pt x="10414" y="11729"/>
                </a:lnTo>
                <a:lnTo>
                  <a:pt x="10512" y="11680"/>
                </a:lnTo>
                <a:lnTo>
                  <a:pt x="10706" y="11534"/>
                </a:lnTo>
                <a:lnTo>
                  <a:pt x="10877" y="11388"/>
                </a:lnTo>
                <a:lnTo>
                  <a:pt x="11096" y="11218"/>
                </a:lnTo>
                <a:lnTo>
                  <a:pt x="11315" y="10999"/>
                </a:lnTo>
                <a:lnTo>
                  <a:pt x="11704" y="10585"/>
                </a:lnTo>
                <a:lnTo>
                  <a:pt x="11753" y="10512"/>
                </a:lnTo>
                <a:lnTo>
                  <a:pt x="11753" y="10439"/>
                </a:lnTo>
                <a:lnTo>
                  <a:pt x="11728" y="10366"/>
                </a:lnTo>
                <a:lnTo>
                  <a:pt x="11680" y="10317"/>
                </a:lnTo>
                <a:lnTo>
                  <a:pt x="11631" y="10244"/>
                </a:lnTo>
                <a:lnTo>
                  <a:pt x="11339" y="9904"/>
                </a:lnTo>
                <a:lnTo>
                  <a:pt x="11047" y="9588"/>
                </a:lnTo>
                <a:lnTo>
                  <a:pt x="10731" y="9271"/>
                </a:lnTo>
                <a:lnTo>
                  <a:pt x="10439" y="8955"/>
                </a:lnTo>
                <a:lnTo>
                  <a:pt x="10414" y="8906"/>
                </a:lnTo>
                <a:lnTo>
                  <a:pt x="10366" y="8882"/>
                </a:lnTo>
                <a:lnTo>
                  <a:pt x="10195" y="8639"/>
                </a:lnTo>
                <a:lnTo>
                  <a:pt x="10220" y="8590"/>
                </a:lnTo>
                <a:lnTo>
                  <a:pt x="10220" y="8517"/>
                </a:lnTo>
                <a:lnTo>
                  <a:pt x="10220" y="8468"/>
                </a:lnTo>
                <a:lnTo>
                  <a:pt x="10195" y="8420"/>
                </a:lnTo>
                <a:lnTo>
                  <a:pt x="10463" y="8152"/>
                </a:lnTo>
                <a:lnTo>
                  <a:pt x="10706" y="7909"/>
                </a:lnTo>
                <a:lnTo>
                  <a:pt x="11193" y="7422"/>
                </a:lnTo>
                <a:lnTo>
                  <a:pt x="11461" y="7179"/>
                </a:lnTo>
                <a:lnTo>
                  <a:pt x="11680" y="6911"/>
                </a:lnTo>
                <a:lnTo>
                  <a:pt x="11728" y="6838"/>
                </a:lnTo>
                <a:lnTo>
                  <a:pt x="11728" y="6741"/>
                </a:lnTo>
                <a:lnTo>
                  <a:pt x="11753" y="6692"/>
                </a:lnTo>
                <a:lnTo>
                  <a:pt x="11753" y="6643"/>
                </a:lnTo>
                <a:lnTo>
                  <a:pt x="11753" y="6570"/>
                </a:lnTo>
                <a:lnTo>
                  <a:pt x="11728" y="6522"/>
                </a:lnTo>
                <a:lnTo>
                  <a:pt x="11607" y="6351"/>
                </a:lnTo>
                <a:lnTo>
                  <a:pt x="11461" y="6205"/>
                </a:lnTo>
                <a:lnTo>
                  <a:pt x="11169" y="5913"/>
                </a:lnTo>
                <a:lnTo>
                  <a:pt x="10852" y="5597"/>
                </a:lnTo>
                <a:lnTo>
                  <a:pt x="10536" y="5305"/>
                </a:lnTo>
                <a:lnTo>
                  <a:pt x="10463" y="5256"/>
                </a:lnTo>
                <a:lnTo>
                  <a:pt x="10366" y="5256"/>
                </a:lnTo>
                <a:lnTo>
                  <a:pt x="10341" y="5232"/>
                </a:lnTo>
                <a:lnTo>
                  <a:pt x="10220" y="5208"/>
                </a:lnTo>
                <a:close/>
                <a:moveTo>
                  <a:pt x="11631" y="536"/>
                </a:moveTo>
                <a:lnTo>
                  <a:pt x="11728" y="658"/>
                </a:lnTo>
                <a:lnTo>
                  <a:pt x="11801" y="779"/>
                </a:lnTo>
                <a:lnTo>
                  <a:pt x="12020" y="998"/>
                </a:lnTo>
                <a:lnTo>
                  <a:pt x="12483" y="1412"/>
                </a:lnTo>
                <a:lnTo>
                  <a:pt x="13164" y="2044"/>
                </a:lnTo>
                <a:lnTo>
                  <a:pt x="13797" y="2677"/>
                </a:lnTo>
                <a:lnTo>
                  <a:pt x="14429" y="3334"/>
                </a:lnTo>
                <a:lnTo>
                  <a:pt x="15062" y="3991"/>
                </a:lnTo>
                <a:lnTo>
                  <a:pt x="16278" y="5354"/>
                </a:lnTo>
                <a:lnTo>
                  <a:pt x="16303" y="5354"/>
                </a:lnTo>
                <a:lnTo>
                  <a:pt x="16254" y="5548"/>
                </a:lnTo>
                <a:lnTo>
                  <a:pt x="16230" y="5719"/>
                </a:lnTo>
                <a:lnTo>
                  <a:pt x="16181" y="6084"/>
                </a:lnTo>
                <a:lnTo>
                  <a:pt x="16181" y="6838"/>
                </a:lnTo>
                <a:lnTo>
                  <a:pt x="16157" y="7690"/>
                </a:lnTo>
                <a:lnTo>
                  <a:pt x="16157" y="8541"/>
                </a:lnTo>
                <a:lnTo>
                  <a:pt x="16181" y="10244"/>
                </a:lnTo>
                <a:lnTo>
                  <a:pt x="16230" y="11948"/>
                </a:lnTo>
                <a:lnTo>
                  <a:pt x="16230" y="11972"/>
                </a:lnTo>
                <a:lnTo>
                  <a:pt x="15938" y="12167"/>
                </a:lnTo>
                <a:lnTo>
                  <a:pt x="15646" y="12410"/>
                </a:lnTo>
                <a:lnTo>
                  <a:pt x="15354" y="12653"/>
                </a:lnTo>
                <a:lnTo>
                  <a:pt x="15086" y="12921"/>
                </a:lnTo>
                <a:lnTo>
                  <a:pt x="14551" y="13456"/>
                </a:lnTo>
                <a:lnTo>
                  <a:pt x="14016" y="13992"/>
                </a:lnTo>
                <a:lnTo>
                  <a:pt x="11509" y="16401"/>
                </a:lnTo>
                <a:lnTo>
                  <a:pt x="11461" y="16474"/>
                </a:lnTo>
                <a:lnTo>
                  <a:pt x="9830" y="16571"/>
                </a:lnTo>
                <a:lnTo>
                  <a:pt x="9027" y="16595"/>
                </a:lnTo>
                <a:lnTo>
                  <a:pt x="8200" y="16620"/>
                </a:lnTo>
                <a:lnTo>
                  <a:pt x="7349" y="16595"/>
                </a:lnTo>
                <a:lnTo>
                  <a:pt x="6521" y="16571"/>
                </a:lnTo>
                <a:lnTo>
                  <a:pt x="5840" y="16498"/>
                </a:lnTo>
                <a:lnTo>
                  <a:pt x="5329" y="16498"/>
                </a:lnTo>
                <a:lnTo>
                  <a:pt x="5159" y="16522"/>
                </a:lnTo>
                <a:lnTo>
                  <a:pt x="5110" y="16401"/>
                </a:lnTo>
                <a:lnTo>
                  <a:pt x="5037" y="16255"/>
                </a:lnTo>
                <a:lnTo>
                  <a:pt x="4940" y="16133"/>
                </a:lnTo>
                <a:lnTo>
                  <a:pt x="4842" y="16011"/>
                </a:lnTo>
                <a:lnTo>
                  <a:pt x="4429" y="15549"/>
                </a:lnTo>
                <a:lnTo>
                  <a:pt x="3772" y="14868"/>
                </a:lnTo>
                <a:lnTo>
                  <a:pt x="3431" y="14527"/>
                </a:lnTo>
                <a:lnTo>
                  <a:pt x="3090" y="14211"/>
                </a:lnTo>
                <a:lnTo>
                  <a:pt x="2750" y="13919"/>
                </a:lnTo>
                <a:lnTo>
                  <a:pt x="2385" y="13651"/>
                </a:lnTo>
                <a:lnTo>
                  <a:pt x="1679" y="13116"/>
                </a:lnTo>
                <a:lnTo>
                  <a:pt x="1338" y="12824"/>
                </a:lnTo>
                <a:lnTo>
                  <a:pt x="1022" y="12532"/>
                </a:lnTo>
                <a:lnTo>
                  <a:pt x="730" y="12191"/>
                </a:lnTo>
                <a:lnTo>
                  <a:pt x="487" y="11850"/>
                </a:lnTo>
                <a:lnTo>
                  <a:pt x="535" y="11704"/>
                </a:lnTo>
                <a:lnTo>
                  <a:pt x="560" y="11534"/>
                </a:lnTo>
                <a:lnTo>
                  <a:pt x="584" y="11218"/>
                </a:lnTo>
                <a:lnTo>
                  <a:pt x="584" y="10561"/>
                </a:lnTo>
                <a:lnTo>
                  <a:pt x="584" y="9612"/>
                </a:lnTo>
                <a:lnTo>
                  <a:pt x="584" y="8663"/>
                </a:lnTo>
                <a:lnTo>
                  <a:pt x="584" y="7714"/>
                </a:lnTo>
                <a:lnTo>
                  <a:pt x="535" y="6765"/>
                </a:lnTo>
                <a:lnTo>
                  <a:pt x="535" y="6132"/>
                </a:lnTo>
                <a:lnTo>
                  <a:pt x="511" y="5792"/>
                </a:lnTo>
                <a:lnTo>
                  <a:pt x="438" y="5475"/>
                </a:lnTo>
                <a:lnTo>
                  <a:pt x="511" y="5402"/>
                </a:lnTo>
                <a:lnTo>
                  <a:pt x="1046" y="4721"/>
                </a:lnTo>
                <a:lnTo>
                  <a:pt x="1582" y="4040"/>
                </a:lnTo>
                <a:lnTo>
                  <a:pt x="2141" y="3358"/>
                </a:lnTo>
                <a:lnTo>
                  <a:pt x="2725" y="2726"/>
                </a:lnTo>
                <a:lnTo>
                  <a:pt x="2993" y="2458"/>
                </a:lnTo>
                <a:lnTo>
                  <a:pt x="3285" y="2190"/>
                </a:lnTo>
                <a:lnTo>
                  <a:pt x="3869" y="1655"/>
                </a:lnTo>
                <a:lnTo>
                  <a:pt x="4429" y="1120"/>
                </a:lnTo>
                <a:lnTo>
                  <a:pt x="4696" y="852"/>
                </a:lnTo>
                <a:lnTo>
                  <a:pt x="4964" y="560"/>
                </a:lnTo>
                <a:lnTo>
                  <a:pt x="5305" y="609"/>
                </a:lnTo>
                <a:lnTo>
                  <a:pt x="5670" y="633"/>
                </a:lnTo>
                <a:lnTo>
                  <a:pt x="6400" y="633"/>
                </a:lnTo>
                <a:lnTo>
                  <a:pt x="8127" y="609"/>
                </a:lnTo>
                <a:lnTo>
                  <a:pt x="9003" y="609"/>
                </a:lnTo>
                <a:lnTo>
                  <a:pt x="9879" y="633"/>
                </a:lnTo>
                <a:lnTo>
                  <a:pt x="10779" y="609"/>
                </a:lnTo>
                <a:lnTo>
                  <a:pt x="11217" y="585"/>
                </a:lnTo>
                <a:lnTo>
                  <a:pt x="11631" y="536"/>
                </a:lnTo>
                <a:close/>
                <a:moveTo>
                  <a:pt x="10731" y="1"/>
                </a:moveTo>
                <a:lnTo>
                  <a:pt x="9855" y="25"/>
                </a:lnTo>
                <a:lnTo>
                  <a:pt x="8127" y="49"/>
                </a:lnTo>
                <a:lnTo>
                  <a:pt x="6400" y="74"/>
                </a:lnTo>
                <a:lnTo>
                  <a:pt x="5597" y="74"/>
                </a:lnTo>
                <a:lnTo>
                  <a:pt x="5207" y="98"/>
                </a:lnTo>
                <a:lnTo>
                  <a:pt x="4818" y="171"/>
                </a:lnTo>
                <a:lnTo>
                  <a:pt x="4769" y="195"/>
                </a:lnTo>
                <a:lnTo>
                  <a:pt x="4721" y="244"/>
                </a:lnTo>
                <a:lnTo>
                  <a:pt x="4696" y="293"/>
                </a:lnTo>
                <a:lnTo>
                  <a:pt x="4696" y="341"/>
                </a:lnTo>
                <a:lnTo>
                  <a:pt x="4331" y="536"/>
                </a:lnTo>
                <a:lnTo>
                  <a:pt x="4015" y="779"/>
                </a:lnTo>
                <a:lnTo>
                  <a:pt x="3674" y="1023"/>
                </a:lnTo>
                <a:lnTo>
                  <a:pt x="3382" y="1315"/>
                </a:lnTo>
                <a:lnTo>
                  <a:pt x="2774" y="1899"/>
                </a:lnTo>
                <a:lnTo>
                  <a:pt x="2239" y="2458"/>
                </a:lnTo>
                <a:lnTo>
                  <a:pt x="1655" y="3091"/>
                </a:lnTo>
                <a:lnTo>
                  <a:pt x="1071" y="3748"/>
                </a:lnTo>
                <a:lnTo>
                  <a:pt x="535" y="4429"/>
                </a:lnTo>
                <a:lnTo>
                  <a:pt x="49" y="5135"/>
                </a:lnTo>
                <a:lnTo>
                  <a:pt x="24" y="5208"/>
                </a:lnTo>
                <a:lnTo>
                  <a:pt x="0" y="5281"/>
                </a:lnTo>
                <a:lnTo>
                  <a:pt x="24" y="5354"/>
                </a:lnTo>
                <a:lnTo>
                  <a:pt x="49" y="5402"/>
                </a:lnTo>
                <a:lnTo>
                  <a:pt x="0" y="5694"/>
                </a:lnTo>
                <a:lnTo>
                  <a:pt x="0" y="5986"/>
                </a:lnTo>
                <a:lnTo>
                  <a:pt x="24" y="6570"/>
                </a:lnTo>
                <a:lnTo>
                  <a:pt x="73" y="8468"/>
                </a:lnTo>
                <a:lnTo>
                  <a:pt x="73" y="9417"/>
                </a:lnTo>
                <a:lnTo>
                  <a:pt x="73" y="10366"/>
                </a:lnTo>
                <a:lnTo>
                  <a:pt x="49" y="10755"/>
                </a:lnTo>
                <a:lnTo>
                  <a:pt x="0" y="11145"/>
                </a:lnTo>
                <a:lnTo>
                  <a:pt x="0" y="11339"/>
                </a:lnTo>
                <a:lnTo>
                  <a:pt x="0" y="11534"/>
                </a:lnTo>
                <a:lnTo>
                  <a:pt x="24" y="11729"/>
                </a:lnTo>
                <a:lnTo>
                  <a:pt x="97" y="11899"/>
                </a:lnTo>
                <a:lnTo>
                  <a:pt x="73" y="11948"/>
                </a:lnTo>
                <a:lnTo>
                  <a:pt x="73" y="11996"/>
                </a:lnTo>
                <a:lnTo>
                  <a:pt x="146" y="12191"/>
                </a:lnTo>
                <a:lnTo>
                  <a:pt x="219" y="12361"/>
                </a:lnTo>
                <a:lnTo>
                  <a:pt x="292" y="12532"/>
                </a:lnTo>
                <a:lnTo>
                  <a:pt x="414" y="12702"/>
                </a:lnTo>
                <a:lnTo>
                  <a:pt x="535" y="12848"/>
                </a:lnTo>
                <a:lnTo>
                  <a:pt x="681" y="12994"/>
                </a:lnTo>
                <a:lnTo>
                  <a:pt x="998" y="13286"/>
                </a:lnTo>
                <a:lnTo>
                  <a:pt x="1338" y="13554"/>
                </a:lnTo>
                <a:lnTo>
                  <a:pt x="1679" y="13797"/>
                </a:lnTo>
                <a:lnTo>
                  <a:pt x="1995" y="14040"/>
                </a:lnTo>
                <a:lnTo>
                  <a:pt x="2287" y="14259"/>
                </a:lnTo>
                <a:lnTo>
                  <a:pt x="2652" y="14576"/>
                </a:lnTo>
                <a:lnTo>
                  <a:pt x="2993" y="14916"/>
                </a:lnTo>
                <a:lnTo>
                  <a:pt x="3650" y="15598"/>
                </a:lnTo>
                <a:lnTo>
                  <a:pt x="3991" y="15987"/>
                </a:lnTo>
                <a:lnTo>
                  <a:pt x="4331" y="16376"/>
                </a:lnTo>
                <a:lnTo>
                  <a:pt x="4453" y="16547"/>
                </a:lnTo>
                <a:lnTo>
                  <a:pt x="4599" y="16693"/>
                </a:lnTo>
                <a:lnTo>
                  <a:pt x="4745" y="16814"/>
                </a:lnTo>
                <a:lnTo>
                  <a:pt x="4818" y="16863"/>
                </a:lnTo>
                <a:lnTo>
                  <a:pt x="4940" y="16887"/>
                </a:lnTo>
                <a:lnTo>
                  <a:pt x="5013" y="16887"/>
                </a:lnTo>
                <a:lnTo>
                  <a:pt x="5086" y="16863"/>
                </a:lnTo>
                <a:lnTo>
                  <a:pt x="5232" y="16912"/>
                </a:lnTo>
                <a:lnTo>
                  <a:pt x="5378" y="16960"/>
                </a:lnTo>
                <a:lnTo>
                  <a:pt x="5694" y="17009"/>
                </a:lnTo>
                <a:lnTo>
                  <a:pt x="6327" y="17058"/>
                </a:lnTo>
                <a:lnTo>
                  <a:pt x="7178" y="17106"/>
                </a:lnTo>
                <a:lnTo>
                  <a:pt x="8005" y="17106"/>
                </a:lnTo>
                <a:lnTo>
                  <a:pt x="8906" y="17131"/>
                </a:lnTo>
                <a:lnTo>
                  <a:pt x="9806" y="17106"/>
                </a:lnTo>
                <a:lnTo>
                  <a:pt x="10706" y="17033"/>
                </a:lnTo>
                <a:lnTo>
                  <a:pt x="11582" y="16936"/>
                </a:lnTo>
                <a:lnTo>
                  <a:pt x="11655" y="16912"/>
                </a:lnTo>
                <a:lnTo>
                  <a:pt x="11704" y="16887"/>
                </a:lnTo>
                <a:lnTo>
                  <a:pt x="11753" y="16839"/>
                </a:lnTo>
                <a:lnTo>
                  <a:pt x="11801" y="16790"/>
                </a:lnTo>
                <a:lnTo>
                  <a:pt x="11850" y="16741"/>
                </a:lnTo>
                <a:lnTo>
                  <a:pt x="14210" y="14454"/>
                </a:lnTo>
                <a:lnTo>
                  <a:pt x="14794" y="13919"/>
                </a:lnTo>
                <a:lnTo>
                  <a:pt x="15403" y="13383"/>
                </a:lnTo>
                <a:lnTo>
                  <a:pt x="15694" y="13091"/>
                </a:lnTo>
                <a:lnTo>
                  <a:pt x="15986" y="12799"/>
                </a:lnTo>
                <a:lnTo>
                  <a:pt x="16230" y="12507"/>
                </a:lnTo>
                <a:lnTo>
                  <a:pt x="16473" y="12191"/>
                </a:lnTo>
                <a:lnTo>
                  <a:pt x="16570" y="12191"/>
                </a:lnTo>
                <a:lnTo>
                  <a:pt x="16668" y="12142"/>
                </a:lnTo>
                <a:lnTo>
                  <a:pt x="16716" y="12069"/>
                </a:lnTo>
                <a:lnTo>
                  <a:pt x="16741" y="11948"/>
                </a:lnTo>
                <a:lnTo>
                  <a:pt x="16692" y="10244"/>
                </a:lnTo>
                <a:lnTo>
                  <a:pt x="16668" y="8541"/>
                </a:lnTo>
                <a:lnTo>
                  <a:pt x="16692" y="6838"/>
                </a:lnTo>
                <a:lnTo>
                  <a:pt x="16716" y="6084"/>
                </a:lnTo>
                <a:lnTo>
                  <a:pt x="16716" y="5694"/>
                </a:lnTo>
                <a:lnTo>
                  <a:pt x="16692" y="5500"/>
                </a:lnTo>
                <a:lnTo>
                  <a:pt x="16643" y="5329"/>
                </a:lnTo>
                <a:lnTo>
                  <a:pt x="16692" y="5232"/>
                </a:lnTo>
                <a:lnTo>
                  <a:pt x="16716" y="5159"/>
                </a:lnTo>
                <a:lnTo>
                  <a:pt x="16692" y="5062"/>
                </a:lnTo>
                <a:lnTo>
                  <a:pt x="16643" y="4989"/>
                </a:lnTo>
                <a:lnTo>
                  <a:pt x="16084" y="4332"/>
                </a:lnTo>
                <a:lnTo>
                  <a:pt x="15500" y="3675"/>
                </a:lnTo>
                <a:lnTo>
                  <a:pt x="14916" y="3042"/>
                </a:lnTo>
                <a:lnTo>
                  <a:pt x="14308" y="2434"/>
                </a:lnTo>
                <a:lnTo>
                  <a:pt x="13651" y="1801"/>
                </a:lnTo>
                <a:lnTo>
                  <a:pt x="12994" y="1169"/>
                </a:lnTo>
                <a:lnTo>
                  <a:pt x="12726" y="901"/>
                </a:lnTo>
                <a:lnTo>
                  <a:pt x="12434" y="633"/>
                </a:lnTo>
                <a:lnTo>
                  <a:pt x="12288" y="512"/>
                </a:lnTo>
                <a:lnTo>
                  <a:pt x="12142" y="390"/>
                </a:lnTo>
                <a:lnTo>
                  <a:pt x="11972" y="293"/>
                </a:lnTo>
                <a:lnTo>
                  <a:pt x="11801" y="244"/>
                </a:lnTo>
                <a:lnTo>
                  <a:pt x="11777" y="171"/>
                </a:lnTo>
                <a:lnTo>
                  <a:pt x="11728" y="98"/>
                </a:lnTo>
                <a:lnTo>
                  <a:pt x="11655" y="74"/>
                </a:lnTo>
                <a:lnTo>
                  <a:pt x="11582" y="49"/>
                </a:lnTo>
                <a:lnTo>
                  <a:pt x="11144" y="1"/>
                </a:lnTo>
                <a:lnTo>
                  <a:pt x="10731" y="1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232000" y="208584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0618e"/>
                </a:solidFill>
                <a:latin typeface="Segoe UI Semilight"/>
                <a:ea typeface="Segoe UI Semilight"/>
              </a:rPr>
              <a:t>ДЛЯ КОГО ЦЯ ДИСЦИПЛІН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hape 295"/>
          <p:cNvSpPr/>
          <p:nvPr/>
        </p:nvSpPr>
        <p:spPr>
          <a:xfrm>
            <a:off x="4121280" y="1895400"/>
            <a:ext cx="684000" cy="381240"/>
          </a:xfrm>
          <a:custGeom>
            <a:avLst/>
            <a:gdLst>
              <a:gd name="textAreaLeft" fmla="*/ 0 w 684000"/>
              <a:gd name="textAreaRight" fmla="*/ 684360 w 68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9881" h="11096">
                <a:moveTo>
                  <a:pt x="9636" y="1120"/>
                </a:moveTo>
                <a:lnTo>
                  <a:pt x="10099" y="1144"/>
                </a:lnTo>
                <a:lnTo>
                  <a:pt x="10561" y="1168"/>
                </a:lnTo>
                <a:lnTo>
                  <a:pt x="10537" y="1412"/>
                </a:lnTo>
                <a:lnTo>
                  <a:pt x="10512" y="1631"/>
                </a:lnTo>
                <a:lnTo>
                  <a:pt x="9685" y="1631"/>
                </a:lnTo>
                <a:lnTo>
                  <a:pt x="9661" y="1387"/>
                </a:lnTo>
                <a:lnTo>
                  <a:pt x="9636" y="1120"/>
                </a:lnTo>
                <a:close/>
                <a:moveTo>
                  <a:pt x="9198" y="1120"/>
                </a:moveTo>
                <a:lnTo>
                  <a:pt x="9223" y="1217"/>
                </a:lnTo>
                <a:lnTo>
                  <a:pt x="9223" y="1436"/>
                </a:lnTo>
                <a:lnTo>
                  <a:pt x="9223" y="1679"/>
                </a:lnTo>
                <a:lnTo>
                  <a:pt x="8785" y="1752"/>
                </a:lnTo>
                <a:lnTo>
                  <a:pt x="8347" y="1825"/>
                </a:lnTo>
                <a:lnTo>
                  <a:pt x="8298" y="1825"/>
                </a:lnTo>
                <a:lnTo>
                  <a:pt x="8225" y="1801"/>
                </a:lnTo>
                <a:lnTo>
                  <a:pt x="8128" y="1509"/>
                </a:lnTo>
                <a:lnTo>
                  <a:pt x="8055" y="1241"/>
                </a:lnTo>
                <a:lnTo>
                  <a:pt x="8468" y="1193"/>
                </a:lnTo>
                <a:lnTo>
                  <a:pt x="8882" y="1144"/>
                </a:lnTo>
                <a:lnTo>
                  <a:pt x="9198" y="1120"/>
                </a:lnTo>
                <a:close/>
                <a:moveTo>
                  <a:pt x="11023" y="1217"/>
                </a:moveTo>
                <a:lnTo>
                  <a:pt x="11583" y="1290"/>
                </a:lnTo>
                <a:lnTo>
                  <a:pt x="12118" y="1412"/>
                </a:lnTo>
                <a:lnTo>
                  <a:pt x="12045" y="1655"/>
                </a:lnTo>
                <a:lnTo>
                  <a:pt x="11997" y="1850"/>
                </a:lnTo>
                <a:lnTo>
                  <a:pt x="11486" y="1752"/>
                </a:lnTo>
                <a:lnTo>
                  <a:pt x="10975" y="1679"/>
                </a:lnTo>
                <a:lnTo>
                  <a:pt x="10999" y="1436"/>
                </a:lnTo>
                <a:lnTo>
                  <a:pt x="11023" y="1217"/>
                </a:lnTo>
                <a:close/>
                <a:moveTo>
                  <a:pt x="7665" y="1339"/>
                </a:moveTo>
                <a:lnTo>
                  <a:pt x="7714" y="1655"/>
                </a:lnTo>
                <a:lnTo>
                  <a:pt x="7811" y="1996"/>
                </a:lnTo>
                <a:lnTo>
                  <a:pt x="7446" y="2117"/>
                </a:lnTo>
                <a:lnTo>
                  <a:pt x="7082" y="2263"/>
                </a:lnTo>
                <a:lnTo>
                  <a:pt x="6984" y="2117"/>
                </a:lnTo>
                <a:lnTo>
                  <a:pt x="6887" y="1971"/>
                </a:lnTo>
                <a:lnTo>
                  <a:pt x="6765" y="1825"/>
                </a:lnTo>
                <a:lnTo>
                  <a:pt x="6668" y="1679"/>
                </a:lnTo>
                <a:lnTo>
                  <a:pt x="6644" y="1631"/>
                </a:lnTo>
                <a:lnTo>
                  <a:pt x="7155" y="1460"/>
                </a:lnTo>
                <a:lnTo>
                  <a:pt x="7665" y="1339"/>
                </a:lnTo>
                <a:close/>
                <a:moveTo>
                  <a:pt x="12532" y="1509"/>
                </a:moveTo>
                <a:lnTo>
                  <a:pt x="13067" y="1655"/>
                </a:lnTo>
                <a:lnTo>
                  <a:pt x="13627" y="1825"/>
                </a:lnTo>
                <a:lnTo>
                  <a:pt x="14211" y="2044"/>
                </a:lnTo>
                <a:lnTo>
                  <a:pt x="14065" y="2263"/>
                </a:lnTo>
                <a:lnTo>
                  <a:pt x="13870" y="2555"/>
                </a:lnTo>
                <a:lnTo>
                  <a:pt x="13262" y="2263"/>
                </a:lnTo>
                <a:lnTo>
                  <a:pt x="13165" y="2215"/>
                </a:lnTo>
                <a:lnTo>
                  <a:pt x="12824" y="2093"/>
                </a:lnTo>
                <a:lnTo>
                  <a:pt x="12459" y="1996"/>
                </a:lnTo>
                <a:lnTo>
                  <a:pt x="12483" y="1655"/>
                </a:lnTo>
                <a:lnTo>
                  <a:pt x="12532" y="1509"/>
                </a:lnTo>
                <a:close/>
                <a:moveTo>
                  <a:pt x="6254" y="1777"/>
                </a:moveTo>
                <a:lnTo>
                  <a:pt x="6425" y="2117"/>
                </a:lnTo>
                <a:lnTo>
                  <a:pt x="6522" y="2288"/>
                </a:lnTo>
                <a:lnTo>
                  <a:pt x="6668" y="2458"/>
                </a:lnTo>
                <a:lnTo>
                  <a:pt x="6035" y="2774"/>
                </a:lnTo>
                <a:lnTo>
                  <a:pt x="5427" y="3115"/>
                </a:lnTo>
                <a:lnTo>
                  <a:pt x="5305" y="3018"/>
                </a:lnTo>
                <a:lnTo>
                  <a:pt x="5184" y="2896"/>
                </a:lnTo>
                <a:lnTo>
                  <a:pt x="5086" y="2774"/>
                </a:lnTo>
                <a:lnTo>
                  <a:pt x="4989" y="2653"/>
                </a:lnTo>
                <a:lnTo>
                  <a:pt x="4843" y="2385"/>
                </a:lnTo>
                <a:lnTo>
                  <a:pt x="5476" y="2093"/>
                </a:lnTo>
                <a:lnTo>
                  <a:pt x="6254" y="1777"/>
                </a:lnTo>
                <a:close/>
                <a:moveTo>
                  <a:pt x="14503" y="2166"/>
                </a:moveTo>
                <a:lnTo>
                  <a:pt x="15087" y="2434"/>
                </a:lnTo>
                <a:lnTo>
                  <a:pt x="15671" y="2726"/>
                </a:lnTo>
                <a:lnTo>
                  <a:pt x="15622" y="2774"/>
                </a:lnTo>
                <a:lnTo>
                  <a:pt x="15427" y="3018"/>
                </a:lnTo>
                <a:lnTo>
                  <a:pt x="15306" y="3164"/>
                </a:lnTo>
                <a:lnTo>
                  <a:pt x="15209" y="3310"/>
                </a:lnTo>
                <a:lnTo>
                  <a:pt x="14698" y="2993"/>
                </a:lnTo>
                <a:lnTo>
                  <a:pt x="14187" y="2701"/>
                </a:lnTo>
                <a:lnTo>
                  <a:pt x="14406" y="2336"/>
                </a:lnTo>
                <a:lnTo>
                  <a:pt x="14503" y="2166"/>
                </a:lnTo>
                <a:close/>
                <a:moveTo>
                  <a:pt x="4502" y="2555"/>
                </a:moveTo>
                <a:lnTo>
                  <a:pt x="4624" y="2847"/>
                </a:lnTo>
                <a:lnTo>
                  <a:pt x="4794" y="3115"/>
                </a:lnTo>
                <a:lnTo>
                  <a:pt x="4916" y="3237"/>
                </a:lnTo>
                <a:lnTo>
                  <a:pt x="5038" y="3358"/>
                </a:lnTo>
                <a:lnTo>
                  <a:pt x="4381" y="3821"/>
                </a:lnTo>
                <a:lnTo>
                  <a:pt x="4332" y="3869"/>
                </a:lnTo>
                <a:lnTo>
                  <a:pt x="4259" y="3821"/>
                </a:lnTo>
                <a:lnTo>
                  <a:pt x="3943" y="3626"/>
                </a:lnTo>
                <a:lnTo>
                  <a:pt x="3675" y="3407"/>
                </a:lnTo>
                <a:lnTo>
                  <a:pt x="3529" y="3237"/>
                </a:lnTo>
                <a:lnTo>
                  <a:pt x="3821" y="2993"/>
                </a:lnTo>
                <a:lnTo>
                  <a:pt x="4162" y="2774"/>
                </a:lnTo>
                <a:lnTo>
                  <a:pt x="4502" y="2555"/>
                </a:lnTo>
                <a:close/>
                <a:moveTo>
                  <a:pt x="16036" y="2945"/>
                </a:moveTo>
                <a:lnTo>
                  <a:pt x="16547" y="3237"/>
                </a:lnTo>
                <a:lnTo>
                  <a:pt x="17033" y="3577"/>
                </a:lnTo>
                <a:lnTo>
                  <a:pt x="16766" y="3796"/>
                </a:lnTo>
                <a:lnTo>
                  <a:pt x="16571" y="3967"/>
                </a:lnTo>
                <a:lnTo>
                  <a:pt x="16352" y="4186"/>
                </a:lnTo>
                <a:lnTo>
                  <a:pt x="15963" y="3869"/>
                </a:lnTo>
                <a:lnTo>
                  <a:pt x="15573" y="3577"/>
                </a:lnTo>
                <a:lnTo>
                  <a:pt x="15744" y="3310"/>
                </a:lnTo>
                <a:lnTo>
                  <a:pt x="15938" y="3066"/>
                </a:lnTo>
                <a:lnTo>
                  <a:pt x="16036" y="2945"/>
                </a:lnTo>
                <a:close/>
                <a:moveTo>
                  <a:pt x="8736" y="5645"/>
                </a:moveTo>
                <a:lnTo>
                  <a:pt x="8833" y="5743"/>
                </a:lnTo>
                <a:lnTo>
                  <a:pt x="8809" y="5791"/>
                </a:lnTo>
                <a:lnTo>
                  <a:pt x="8736" y="5645"/>
                </a:lnTo>
                <a:close/>
                <a:moveTo>
                  <a:pt x="9831" y="3407"/>
                </a:moveTo>
                <a:lnTo>
                  <a:pt x="9588" y="3431"/>
                </a:lnTo>
                <a:lnTo>
                  <a:pt x="9369" y="3456"/>
                </a:lnTo>
                <a:lnTo>
                  <a:pt x="9150" y="3529"/>
                </a:lnTo>
                <a:lnTo>
                  <a:pt x="8931" y="3602"/>
                </a:lnTo>
                <a:lnTo>
                  <a:pt x="8736" y="3723"/>
                </a:lnTo>
                <a:lnTo>
                  <a:pt x="8517" y="3894"/>
                </a:lnTo>
                <a:lnTo>
                  <a:pt x="8298" y="4113"/>
                </a:lnTo>
                <a:lnTo>
                  <a:pt x="8128" y="4356"/>
                </a:lnTo>
                <a:lnTo>
                  <a:pt x="7982" y="4648"/>
                </a:lnTo>
                <a:lnTo>
                  <a:pt x="7884" y="4940"/>
                </a:lnTo>
                <a:lnTo>
                  <a:pt x="7811" y="5232"/>
                </a:lnTo>
                <a:lnTo>
                  <a:pt x="7787" y="5524"/>
                </a:lnTo>
                <a:lnTo>
                  <a:pt x="7811" y="5791"/>
                </a:lnTo>
                <a:lnTo>
                  <a:pt x="7909" y="6035"/>
                </a:lnTo>
                <a:lnTo>
                  <a:pt x="8006" y="6254"/>
                </a:lnTo>
                <a:lnTo>
                  <a:pt x="8152" y="6424"/>
                </a:lnTo>
                <a:lnTo>
                  <a:pt x="8322" y="6594"/>
                </a:lnTo>
                <a:lnTo>
                  <a:pt x="8420" y="6740"/>
                </a:lnTo>
                <a:lnTo>
                  <a:pt x="8541" y="6862"/>
                </a:lnTo>
                <a:lnTo>
                  <a:pt x="8663" y="6959"/>
                </a:lnTo>
                <a:lnTo>
                  <a:pt x="8809" y="7057"/>
                </a:lnTo>
                <a:lnTo>
                  <a:pt x="8955" y="7130"/>
                </a:lnTo>
                <a:lnTo>
                  <a:pt x="9125" y="7203"/>
                </a:lnTo>
                <a:lnTo>
                  <a:pt x="9296" y="7251"/>
                </a:lnTo>
                <a:lnTo>
                  <a:pt x="9466" y="7276"/>
                </a:lnTo>
                <a:lnTo>
                  <a:pt x="9636" y="7276"/>
                </a:lnTo>
                <a:lnTo>
                  <a:pt x="9807" y="7251"/>
                </a:lnTo>
                <a:lnTo>
                  <a:pt x="9953" y="7227"/>
                </a:lnTo>
                <a:lnTo>
                  <a:pt x="10099" y="7178"/>
                </a:lnTo>
                <a:lnTo>
                  <a:pt x="10245" y="7105"/>
                </a:lnTo>
                <a:lnTo>
                  <a:pt x="10391" y="7032"/>
                </a:lnTo>
                <a:lnTo>
                  <a:pt x="10512" y="6959"/>
                </a:lnTo>
                <a:lnTo>
                  <a:pt x="10634" y="6838"/>
                </a:lnTo>
                <a:lnTo>
                  <a:pt x="10683" y="6838"/>
                </a:lnTo>
                <a:lnTo>
                  <a:pt x="10902" y="6667"/>
                </a:lnTo>
                <a:lnTo>
                  <a:pt x="11121" y="6473"/>
                </a:lnTo>
                <a:lnTo>
                  <a:pt x="11291" y="6254"/>
                </a:lnTo>
                <a:lnTo>
                  <a:pt x="11413" y="5986"/>
                </a:lnTo>
                <a:lnTo>
                  <a:pt x="11510" y="5718"/>
                </a:lnTo>
                <a:lnTo>
                  <a:pt x="11583" y="5427"/>
                </a:lnTo>
                <a:lnTo>
                  <a:pt x="11607" y="5159"/>
                </a:lnTo>
                <a:lnTo>
                  <a:pt x="11583" y="4891"/>
                </a:lnTo>
                <a:lnTo>
                  <a:pt x="11559" y="4697"/>
                </a:lnTo>
                <a:lnTo>
                  <a:pt x="11534" y="4745"/>
                </a:lnTo>
                <a:lnTo>
                  <a:pt x="11486" y="4818"/>
                </a:lnTo>
                <a:lnTo>
                  <a:pt x="11413" y="4891"/>
                </a:lnTo>
                <a:lnTo>
                  <a:pt x="11340" y="4964"/>
                </a:lnTo>
                <a:lnTo>
                  <a:pt x="11242" y="5013"/>
                </a:lnTo>
                <a:lnTo>
                  <a:pt x="11145" y="5062"/>
                </a:lnTo>
                <a:lnTo>
                  <a:pt x="11048" y="5086"/>
                </a:lnTo>
                <a:lnTo>
                  <a:pt x="10950" y="5086"/>
                </a:lnTo>
                <a:lnTo>
                  <a:pt x="10780" y="5062"/>
                </a:lnTo>
                <a:lnTo>
                  <a:pt x="10610" y="5013"/>
                </a:lnTo>
                <a:lnTo>
                  <a:pt x="10537" y="4964"/>
                </a:lnTo>
                <a:lnTo>
                  <a:pt x="10488" y="4916"/>
                </a:lnTo>
                <a:lnTo>
                  <a:pt x="10391" y="4770"/>
                </a:lnTo>
                <a:lnTo>
                  <a:pt x="10318" y="4624"/>
                </a:lnTo>
                <a:lnTo>
                  <a:pt x="10293" y="4453"/>
                </a:lnTo>
                <a:lnTo>
                  <a:pt x="10293" y="4356"/>
                </a:lnTo>
                <a:lnTo>
                  <a:pt x="10318" y="4259"/>
                </a:lnTo>
                <a:lnTo>
                  <a:pt x="10366" y="4161"/>
                </a:lnTo>
                <a:lnTo>
                  <a:pt x="10415" y="4088"/>
                </a:lnTo>
                <a:lnTo>
                  <a:pt x="10561" y="3942"/>
                </a:lnTo>
                <a:lnTo>
                  <a:pt x="10731" y="3845"/>
                </a:lnTo>
                <a:lnTo>
                  <a:pt x="10756" y="3821"/>
                </a:lnTo>
                <a:lnTo>
                  <a:pt x="10829" y="3772"/>
                </a:lnTo>
                <a:lnTo>
                  <a:pt x="10877" y="3748"/>
                </a:lnTo>
                <a:lnTo>
                  <a:pt x="10707" y="3650"/>
                </a:lnTo>
                <a:lnTo>
                  <a:pt x="10512" y="3553"/>
                </a:lnTo>
                <a:lnTo>
                  <a:pt x="10269" y="3480"/>
                </a:lnTo>
                <a:lnTo>
                  <a:pt x="10050" y="3431"/>
                </a:lnTo>
                <a:lnTo>
                  <a:pt x="9831" y="3407"/>
                </a:lnTo>
                <a:close/>
                <a:moveTo>
                  <a:pt x="10050" y="2215"/>
                </a:moveTo>
                <a:lnTo>
                  <a:pt x="10391" y="2239"/>
                </a:lnTo>
                <a:lnTo>
                  <a:pt x="10439" y="2385"/>
                </a:lnTo>
                <a:lnTo>
                  <a:pt x="10488" y="2580"/>
                </a:lnTo>
                <a:lnTo>
                  <a:pt x="10512" y="2677"/>
                </a:lnTo>
                <a:lnTo>
                  <a:pt x="10585" y="2774"/>
                </a:lnTo>
                <a:lnTo>
                  <a:pt x="10610" y="2799"/>
                </a:lnTo>
                <a:lnTo>
                  <a:pt x="10683" y="2799"/>
                </a:lnTo>
                <a:lnTo>
                  <a:pt x="10707" y="2774"/>
                </a:lnTo>
                <a:lnTo>
                  <a:pt x="10780" y="2653"/>
                </a:lnTo>
                <a:lnTo>
                  <a:pt x="10829" y="2531"/>
                </a:lnTo>
                <a:lnTo>
                  <a:pt x="10829" y="2409"/>
                </a:lnTo>
                <a:lnTo>
                  <a:pt x="10829" y="2263"/>
                </a:lnTo>
                <a:lnTo>
                  <a:pt x="11291" y="2336"/>
                </a:lnTo>
                <a:lnTo>
                  <a:pt x="11315" y="2482"/>
                </a:lnTo>
                <a:lnTo>
                  <a:pt x="11388" y="2604"/>
                </a:lnTo>
                <a:lnTo>
                  <a:pt x="11461" y="2653"/>
                </a:lnTo>
                <a:lnTo>
                  <a:pt x="11559" y="2677"/>
                </a:lnTo>
                <a:lnTo>
                  <a:pt x="11607" y="2677"/>
                </a:lnTo>
                <a:lnTo>
                  <a:pt x="11656" y="2653"/>
                </a:lnTo>
                <a:lnTo>
                  <a:pt x="11680" y="2604"/>
                </a:lnTo>
                <a:lnTo>
                  <a:pt x="11705" y="2555"/>
                </a:lnTo>
                <a:lnTo>
                  <a:pt x="11729" y="2434"/>
                </a:lnTo>
                <a:lnTo>
                  <a:pt x="12264" y="2580"/>
                </a:lnTo>
                <a:lnTo>
                  <a:pt x="12191" y="2677"/>
                </a:lnTo>
                <a:lnTo>
                  <a:pt x="12143" y="2774"/>
                </a:lnTo>
                <a:lnTo>
                  <a:pt x="12118" y="2896"/>
                </a:lnTo>
                <a:lnTo>
                  <a:pt x="12118" y="2969"/>
                </a:lnTo>
                <a:lnTo>
                  <a:pt x="12118" y="3018"/>
                </a:lnTo>
                <a:lnTo>
                  <a:pt x="12143" y="3066"/>
                </a:lnTo>
                <a:lnTo>
                  <a:pt x="12216" y="3091"/>
                </a:lnTo>
                <a:lnTo>
                  <a:pt x="12264" y="3091"/>
                </a:lnTo>
                <a:lnTo>
                  <a:pt x="12289" y="3066"/>
                </a:lnTo>
                <a:lnTo>
                  <a:pt x="12362" y="2993"/>
                </a:lnTo>
                <a:lnTo>
                  <a:pt x="12483" y="2847"/>
                </a:lnTo>
                <a:lnTo>
                  <a:pt x="12581" y="2726"/>
                </a:lnTo>
                <a:lnTo>
                  <a:pt x="12654" y="2750"/>
                </a:lnTo>
                <a:lnTo>
                  <a:pt x="12800" y="2750"/>
                </a:lnTo>
                <a:lnTo>
                  <a:pt x="13092" y="2872"/>
                </a:lnTo>
                <a:lnTo>
                  <a:pt x="13165" y="2945"/>
                </a:lnTo>
                <a:lnTo>
                  <a:pt x="12946" y="3066"/>
                </a:lnTo>
                <a:lnTo>
                  <a:pt x="12751" y="3212"/>
                </a:lnTo>
                <a:lnTo>
                  <a:pt x="12581" y="3383"/>
                </a:lnTo>
                <a:lnTo>
                  <a:pt x="12508" y="3480"/>
                </a:lnTo>
                <a:lnTo>
                  <a:pt x="12483" y="3577"/>
                </a:lnTo>
                <a:lnTo>
                  <a:pt x="12483" y="3650"/>
                </a:lnTo>
                <a:lnTo>
                  <a:pt x="12508" y="3699"/>
                </a:lnTo>
                <a:lnTo>
                  <a:pt x="12556" y="3748"/>
                </a:lnTo>
                <a:lnTo>
                  <a:pt x="12629" y="3748"/>
                </a:lnTo>
                <a:lnTo>
                  <a:pt x="12727" y="3699"/>
                </a:lnTo>
                <a:lnTo>
                  <a:pt x="12824" y="3650"/>
                </a:lnTo>
                <a:lnTo>
                  <a:pt x="12994" y="3529"/>
                </a:lnTo>
                <a:lnTo>
                  <a:pt x="13335" y="3310"/>
                </a:lnTo>
                <a:lnTo>
                  <a:pt x="13408" y="3602"/>
                </a:lnTo>
                <a:lnTo>
                  <a:pt x="13457" y="3845"/>
                </a:lnTo>
                <a:lnTo>
                  <a:pt x="13481" y="3991"/>
                </a:lnTo>
                <a:lnTo>
                  <a:pt x="13213" y="4015"/>
                </a:lnTo>
                <a:lnTo>
                  <a:pt x="12970" y="4064"/>
                </a:lnTo>
                <a:lnTo>
                  <a:pt x="12873" y="4137"/>
                </a:lnTo>
                <a:lnTo>
                  <a:pt x="12775" y="4186"/>
                </a:lnTo>
                <a:lnTo>
                  <a:pt x="12702" y="4283"/>
                </a:lnTo>
                <a:lnTo>
                  <a:pt x="12678" y="4380"/>
                </a:lnTo>
                <a:lnTo>
                  <a:pt x="12678" y="4429"/>
                </a:lnTo>
                <a:lnTo>
                  <a:pt x="12702" y="4453"/>
                </a:lnTo>
                <a:lnTo>
                  <a:pt x="12800" y="4502"/>
                </a:lnTo>
                <a:lnTo>
                  <a:pt x="12897" y="4502"/>
                </a:lnTo>
                <a:lnTo>
                  <a:pt x="13116" y="4478"/>
                </a:lnTo>
                <a:lnTo>
                  <a:pt x="13530" y="4429"/>
                </a:lnTo>
                <a:lnTo>
                  <a:pt x="13554" y="4891"/>
                </a:lnTo>
                <a:lnTo>
                  <a:pt x="13554" y="5354"/>
                </a:lnTo>
                <a:lnTo>
                  <a:pt x="13432" y="5354"/>
                </a:lnTo>
                <a:lnTo>
                  <a:pt x="13092" y="5329"/>
                </a:lnTo>
                <a:lnTo>
                  <a:pt x="12897" y="5305"/>
                </a:lnTo>
                <a:lnTo>
                  <a:pt x="12727" y="5329"/>
                </a:lnTo>
                <a:lnTo>
                  <a:pt x="12654" y="5354"/>
                </a:lnTo>
                <a:lnTo>
                  <a:pt x="12629" y="5402"/>
                </a:lnTo>
                <a:lnTo>
                  <a:pt x="12605" y="5451"/>
                </a:lnTo>
                <a:lnTo>
                  <a:pt x="12654" y="5524"/>
                </a:lnTo>
                <a:lnTo>
                  <a:pt x="12800" y="5621"/>
                </a:lnTo>
                <a:lnTo>
                  <a:pt x="12946" y="5670"/>
                </a:lnTo>
                <a:lnTo>
                  <a:pt x="13116" y="5718"/>
                </a:lnTo>
                <a:lnTo>
                  <a:pt x="13286" y="5743"/>
                </a:lnTo>
                <a:lnTo>
                  <a:pt x="13530" y="5767"/>
                </a:lnTo>
                <a:lnTo>
                  <a:pt x="13505" y="6059"/>
                </a:lnTo>
                <a:lnTo>
                  <a:pt x="13457" y="6424"/>
                </a:lnTo>
                <a:lnTo>
                  <a:pt x="13189" y="6302"/>
                </a:lnTo>
                <a:lnTo>
                  <a:pt x="12897" y="6205"/>
                </a:lnTo>
                <a:lnTo>
                  <a:pt x="12727" y="6181"/>
                </a:lnTo>
                <a:lnTo>
                  <a:pt x="12459" y="6181"/>
                </a:lnTo>
                <a:lnTo>
                  <a:pt x="12313" y="6205"/>
                </a:lnTo>
                <a:lnTo>
                  <a:pt x="12264" y="6254"/>
                </a:lnTo>
                <a:lnTo>
                  <a:pt x="12264" y="6302"/>
                </a:lnTo>
                <a:lnTo>
                  <a:pt x="12289" y="6327"/>
                </a:lnTo>
                <a:lnTo>
                  <a:pt x="12435" y="6424"/>
                </a:lnTo>
                <a:lnTo>
                  <a:pt x="12581" y="6497"/>
                </a:lnTo>
                <a:lnTo>
                  <a:pt x="12873" y="6667"/>
                </a:lnTo>
                <a:lnTo>
                  <a:pt x="13116" y="6765"/>
                </a:lnTo>
                <a:lnTo>
                  <a:pt x="13359" y="6862"/>
                </a:lnTo>
                <a:lnTo>
                  <a:pt x="13213" y="7203"/>
                </a:lnTo>
                <a:lnTo>
                  <a:pt x="13067" y="7519"/>
                </a:lnTo>
                <a:lnTo>
                  <a:pt x="12824" y="7397"/>
                </a:lnTo>
                <a:lnTo>
                  <a:pt x="12581" y="7300"/>
                </a:lnTo>
                <a:lnTo>
                  <a:pt x="12264" y="7130"/>
                </a:lnTo>
                <a:lnTo>
                  <a:pt x="11972" y="6984"/>
                </a:lnTo>
                <a:lnTo>
                  <a:pt x="11924" y="6984"/>
                </a:lnTo>
                <a:lnTo>
                  <a:pt x="11899" y="7008"/>
                </a:lnTo>
                <a:lnTo>
                  <a:pt x="11875" y="7057"/>
                </a:lnTo>
                <a:lnTo>
                  <a:pt x="11899" y="7081"/>
                </a:lnTo>
                <a:lnTo>
                  <a:pt x="11972" y="7251"/>
                </a:lnTo>
                <a:lnTo>
                  <a:pt x="12070" y="7373"/>
                </a:lnTo>
                <a:lnTo>
                  <a:pt x="12191" y="7470"/>
                </a:lnTo>
                <a:lnTo>
                  <a:pt x="12337" y="7592"/>
                </a:lnTo>
                <a:lnTo>
                  <a:pt x="12556" y="7738"/>
                </a:lnTo>
                <a:lnTo>
                  <a:pt x="12824" y="7884"/>
                </a:lnTo>
                <a:lnTo>
                  <a:pt x="12605" y="8127"/>
                </a:lnTo>
                <a:lnTo>
                  <a:pt x="12410" y="8322"/>
                </a:lnTo>
                <a:lnTo>
                  <a:pt x="12410" y="8225"/>
                </a:lnTo>
                <a:lnTo>
                  <a:pt x="12386" y="8176"/>
                </a:lnTo>
                <a:lnTo>
                  <a:pt x="12313" y="8103"/>
                </a:lnTo>
                <a:lnTo>
                  <a:pt x="12045" y="7933"/>
                </a:lnTo>
                <a:lnTo>
                  <a:pt x="11899" y="7835"/>
                </a:lnTo>
                <a:lnTo>
                  <a:pt x="11778" y="7738"/>
                </a:lnTo>
                <a:lnTo>
                  <a:pt x="11680" y="7616"/>
                </a:lnTo>
                <a:lnTo>
                  <a:pt x="11583" y="7519"/>
                </a:lnTo>
                <a:lnTo>
                  <a:pt x="11437" y="7446"/>
                </a:lnTo>
                <a:lnTo>
                  <a:pt x="11388" y="7422"/>
                </a:lnTo>
                <a:lnTo>
                  <a:pt x="11291" y="7422"/>
                </a:lnTo>
                <a:lnTo>
                  <a:pt x="11267" y="7446"/>
                </a:lnTo>
                <a:lnTo>
                  <a:pt x="11267" y="7519"/>
                </a:lnTo>
                <a:lnTo>
                  <a:pt x="11267" y="7592"/>
                </a:lnTo>
                <a:lnTo>
                  <a:pt x="11340" y="7738"/>
                </a:lnTo>
                <a:lnTo>
                  <a:pt x="11437" y="7860"/>
                </a:lnTo>
                <a:lnTo>
                  <a:pt x="11534" y="7981"/>
                </a:lnTo>
                <a:lnTo>
                  <a:pt x="11656" y="8127"/>
                </a:lnTo>
                <a:lnTo>
                  <a:pt x="11826" y="8273"/>
                </a:lnTo>
                <a:lnTo>
                  <a:pt x="11972" y="8371"/>
                </a:lnTo>
                <a:lnTo>
                  <a:pt x="12167" y="8444"/>
                </a:lnTo>
                <a:lnTo>
                  <a:pt x="12240" y="8468"/>
                </a:lnTo>
                <a:lnTo>
                  <a:pt x="12289" y="8444"/>
                </a:lnTo>
                <a:lnTo>
                  <a:pt x="12021" y="8663"/>
                </a:lnTo>
                <a:lnTo>
                  <a:pt x="11705" y="8833"/>
                </a:lnTo>
                <a:lnTo>
                  <a:pt x="11388" y="9003"/>
                </a:lnTo>
                <a:lnTo>
                  <a:pt x="11048" y="9125"/>
                </a:lnTo>
                <a:lnTo>
                  <a:pt x="11072" y="9028"/>
                </a:lnTo>
                <a:lnTo>
                  <a:pt x="11072" y="8979"/>
                </a:lnTo>
                <a:lnTo>
                  <a:pt x="11048" y="8906"/>
                </a:lnTo>
                <a:lnTo>
                  <a:pt x="10999" y="8736"/>
                </a:lnTo>
                <a:lnTo>
                  <a:pt x="10926" y="8565"/>
                </a:lnTo>
                <a:lnTo>
                  <a:pt x="10853" y="8225"/>
                </a:lnTo>
                <a:lnTo>
                  <a:pt x="10780" y="7957"/>
                </a:lnTo>
                <a:lnTo>
                  <a:pt x="10731" y="7835"/>
                </a:lnTo>
                <a:lnTo>
                  <a:pt x="10683" y="7811"/>
                </a:lnTo>
                <a:lnTo>
                  <a:pt x="10634" y="7762"/>
                </a:lnTo>
                <a:lnTo>
                  <a:pt x="10585" y="7762"/>
                </a:lnTo>
                <a:lnTo>
                  <a:pt x="10537" y="7787"/>
                </a:lnTo>
                <a:lnTo>
                  <a:pt x="10488" y="7835"/>
                </a:lnTo>
                <a:lnTo>
                  <a:pt x="10464" y="7908"/>
                </a:lnTo>
                <a:lnTo>
                  <a:pt x="10439" y="8030"/>
                </a:lnTo>
                <a:lnTo>
                  <a:pt x="10464" y="8176"/>
                </a:lnTo>
                <a:lnTo>
                  <a:pt x="10464" y="8322"/>
                </a:lnTo>
                <a:lnTo>
                  <a:pt x="10561" y="8736"/>
                </a:lnTo>
                <a:lnTo>
                  <a:pt x="10610" y="8930"/>
                </a:lnTo>
                <a:lnTo>
                  <a:pt x="10707" y="9125"/>
                </a:lnTo>
                <a:lnTo>
                  <a:pt x="10731" y="9174"/>
                </a:lnTo>
                <a:lnTo>
                  <a:pt x="10780" y="9198"/>
                </a:lnTo>
                <a:lnTo>
                  <a:pt x="10391" y="9247"/>
                </a:lnTo>
                <a:lnTo>
                  <a:pt x="10147" y="9271"/>
                </a:lnTo>
                <a:lnTo>
                  <a:pt x="9636" y="9271"/>
                </a:lnTo>
                <a:lnTo>
                  <a:pt x="9393" y="9247"/>
                </a:lnTo>
                <a:lnTo>
                  <a:pt x="9442" y="9198"/>
                </a:lnTo>
                <a:lnTo>
                  <a:pt x="9490" y="9149"/>
                </a:lnTo>
                <a:lnTo>
                  <a:pt x="9588" y="8833"/>
                </a:lnTo>
                <a:lnTo>
                  <a:pt x="9661" y="8517"/>
                </a:lnTo>
                <a:lnTo>
                  <a:pt x="9685" y="8371"/>
                </a:lnTo>
                <a:lnTo>
                  <a:pt x="9661" y="8225"/>
                </a:lnTo>
                <a:lnTo>
                  <a:pt x="9612" y="7957"/>
                </a:lnTo>
                <a:lnTo>
                  <a:pt x="9588" y="7908"/>
                </a:lnTo>
                <a:lnTo>
                  <a:pt x="9515" y="7908"/>
                </a:lnTo>
                <a:lnTo>
                  <a:pt x="9490" y="7957"/>
                </a:lnTo>
                <a:lnTo>
                  <a:pt x="9442" y="8054"/>
                </a:lnTo>
                <a:lnTo>
                  <a:pt x="9393" y="8176"/>
                </a:lnTo>
                <a:lnTo>
                  <a:pt x="9296" y="8419"/>
                </a:lnTo>
                <a:lnTo>
                  <a:pt x="9198" y="8711"/>
                </a:lnTo>
                <a:lnTo>
                  <a:pt x="9125" y="9003"/>
                </a:lnTo>
                <a:lnTo>
                  <a:pt x="9125" y="9052"/>
                </a:lnTo>
                <a:lnTo>
                  <a:pt x="9150" y="9125"/>
                </a:lnTo>
                <a:lnTo>
                  <a:pt x="9174" y="9174"/>
                </a:lnTo>
                <a:lnTo>
                  <a:pt x="9223" y="9222"/>
                </a:lnTo>
                <a:lnTo>
                  <a:pt x="8931" y="9149"/>
                </a:lnTo>
                <a:lnTo>
                  <a:pt x="8614" y="9052"/>
                </a:lnTo>
                <a:lnTo>
                  <a:pt x="8322" y="8930"/>
                </a:lnTo>
                <a:lnTo>
                  <a:pt x="8055" y="8809"/>
                </a:lnTo>
                <a:lnTo>
                  <a:pt x="8103" y="8663"/>
                </a:lnTo>
                <a:lnTo>
                  <a:pt x="8152" y="8492"/>
                </a:lnTo>
                <a:lnTo>
                  <a:pt x="8249" y="8346"/>
                </a:lnTo>
                <a:lnTo>
                  <a:pt x="8347" y="8200"/>
                </a:lnTo>
                <a:lnTo>
                  <a:pt x="8541" y="7884"/>
                </a:lnTo>
                <a:lnTo>
                  <a:pt x="8541" y="7835"/>
                </a:lnTo>
                <a:lnTo>
                  <a:pt x="8517" y="7762"/>
                </a:lnTo>
                <a:lnTo>
                  <a:pt x="8468" y="7738"/>
                </a:lnTo>
                <a:lnTo>
                  <a:pt x="8420" y="7738"/>
                </a:lnTo>
                <a:lnTo>
                  <a:pt x="8249" y="7811"/>
                </a:lnTo>
                <a:lnTo>
                  <a:pt x="8128" y="7933"/>
                </a:lnTo>
                <a:lnTo>
                  <a:pt x="8006" y="8054"/>
                </a:lnTo>
                <a:lnTo>
                  <a:pt x="7909" y="8200"/>
                </a:lnTo>
                <a:lnTo>
                  <a:pt x="7787" y="8371"/>
                </a:lnTo>
                <a:lnTo>
                  <a:pt x="7690" y="8590"/>
                </a:lnTo>
                <a:lnTo>
                  <a:pt x="7446" y="8419"/>
                </a:lnTo>
                <a:lnTo>
                  <a:pt x="7203" y="8200"/>
                </a:lnTo>
                <a:lnTo>
                  <a:pt x="7276" y="8030"/>
                </a:lnTo>
                <a:lnTo>
                  <a:pt x="7398" y="7884"/>
                </a:lnTo>
                <a:lnTo>
                  <a:pt x="7592" y="7592"/>
                </a:lnTo>
                <a:lnTo>
                  <a:pt x="7811" y="7300"/>
                </a:lnTo>
                <a:lnTo>
                  <a:pt x="7811" y="7251"/>
                </a:lnTo>
                <a:lnTo>
                  <a:pt x="7811" y="7203"/>
                </a:lnTo>
                <a:lnTo>
                  <a:pt x="7763" y="7154"/>
                </a:lnTo>
                <a:lnTo>
                  <a:pt x="7714" y="7154"/>
                </a:lnTo>
                <a:lnTo>
                  <a:pt x="7519" y="7251"/>
                </a:lnTo>
                <a:lnTo>
                  <a:pt x="7349" y="7349"/>
                </a:lnTo>
                <a:lnTo>
                  <a:pt x="7203" y="7470"/>
                </a:lnTo>
                <a:lnTo>
                  <a:pt x="7057" y="7616"/>
                </a:lnTo>
                <a:lnTo>
                  <a:pt x="6984" y="7738"/>
                </a:lnTo>
                <a:lnTo>
                  <a:pt x="6887" y="7860"/>
                </a:lnTo>
                <a:lnTo>
                  <a:pt x="6717" y="7616"/>
                </a:lnTo>
                <a:lnTo>
                  <a:pt x="6571" y="7349"/>
                </a:lnTo>
                <a:lnTo>
                  <a:pt x="6790" y="7154"/>
                </a:lnTo>
                <a:lnTo>
                  <a:pt x="7057" y="6935"/>
                </a:lnTo>
                <a:lnTo>
                  <a:pt x="7203" y="6813"/>
                </a:lnTo>
                <a:lnTo>
                  <a:pt x="7301" y="6692"/>
                </a:lnTo>
                <a:lnTo>
                  <a:pt x="7301" y="6643"/>
                </a:lnTo>
                <a:lnTo>
                  <a:pt x="7082" y="6643"/>
                </a:lnTo>
                <a:lnTo>
                  <a:pt x="6863" y="6716"/>
                </a:lnTo>
                <a:lnTo>
                  <a:pt x="6668" y="6789"/>
                </a:lnTo>
                <a:lnTo>
                  <a:pt x="6498" y="6886"/>
                </a:lnTo>
                <a:lnTo>
                  <a:pt x="6425" y="6935"/>
                </a:lnTo>
                <a:lnTo>
                  <a:pt x="6400" y="6862"/>
                </a:lnTo>
                <a:lnTo>
                  <a:pt x="6327" y="6473"/>
                </a:lnTo>
                <a:lnTo>
                  <a:pt x="6644" y="6278"/>
                </a:lnTo>
                <a:lnTo>
                  <a:pt x="6936" y="6083"/>
                </a:lnTo>
                <a:lnTo>
                  <a:pt x="7082" y="5986"/>
                </a:lnTo>
                <a:lnTo>
                  <a:pt x="7179" y="5840"/>
                </a:lnTo>
                <a:lnTo>
                  <a:pt x="7179" y="5791"/>
                </a:lnTo>
                <a:lnTo>
                  <a:pt x="6960" y="5791"/>
                </a:lnTo>
                <a:lnTo>
                  <a:pt x="6790" y="5816"/>
                </a:lnTo>
                <a:lnTo>
                  <a:pt x="6619" y="5864"/>
                </a:lnTo>
                <a:lnTo>
                  <a:pt x="6449" y="5937"/>
                </a:lnTo>
                <a:lnTo>
                  <a:pt x="6279" y="5986"/>
                </a:lnTo>
                <a:lnTo>
                  <a:pt x="6279" y="5718"/>
                </a:lnTo>
                <a:lnTo>
                  <a:pt x="6303" y="5451"/>
                </a:lnTo>
                <a:lnTo>
                  <a:pt x="6498" y="5329"/>
                </a:lnTo>
                <a:lnTo>
                  <a:pt x="6692" y="5232"/>
                </a:lnTo>
                <a:lnTo>
                  <a:pt x="6984" y="5062"/>
                </a:lnTo>
                <a:lnTo>
                  <a:pt x="7106" y="4964"/>
                </a:lnTo>
                <a:lnTo>
                  <a:pt x="7203" y="4818"/>
                </a:lnTo>
                <a:lnTo>
                  <a:pt x="7228" y="4794"/>
                </a:lnTo>
                <a:lnTo>
                  <a:pt x="7203" y="4770"/>
                </a:lnTo>
                <a:lnTo>
                  <a:pt x="7203" y="4721"/>
                </a:lnTo>
                <a:lnTo>
                  <a:pt x="7155" y="4721"/>
                </a:lnTo>
                <a:lnTo>
                  <a:pt x="7009" y="4697"/>
                </a:lnTo>
                <a:lnTo>
                  <a:pt x="6838" y="4721"/>
                </a:lnTo>
                <a:lnTo>
                  <a:pt x="6692" y="4770"/>
                </a:lnTo>
                <a:lnTo>
                  <a:pt x="6546" y="4818"/>
                </a:lnTo>
                <a:lnTo>
                  <a:pt x="6376" y="4891"/>
                </a:lnTo>
                <a:lnTo>
                  <a:pt x="6522" y="4356"/>
                </a:lnTo>
                <a:lnTo>
                  <a:pt x="6522" y="4332"/>
                </a:lnTo>
                <a:lnTo>
                  <a:pt x="6741" y="4283"/>
                </a:lnTo>
                <a:lnTo>
                  <a:pt x="7057" y="4210"/>
                </a:lnTo>
                <a:lnTo>
                  <a:pt x="7203" y="4161"/>
                </a:lnTo>
                <a:lnTo>
                  <a:pt x="7276" y="4113"/>
                </a:lnTo>
                <a:lnTo>
                  <a:pt x="7325" y="4064"/>
                </a:lnTo>
                <a:lnTo>
                  <a:pt x="7349" y="4015"/>
                </a:lnTo>
                <a:lnTo>
                  <a:pt x="7325" y="3942"/>
                </a:lnTo>
                <a:lnTo>
                  <a:pt x="7276" y="3894"/>
                </a:lnTo>
                <a:lnTo>
                  <a:pt x="7203" y="3869"/>
                </a:lnTo>
                <a:lnTo>
                  <a:pt x="7057" y="3845"/>
                </a:lnTo>
                <a:lnTo>
                  <a:pt x="6717" y="3845"/>
                </a:lnTo>
                <a:lnTo>
                  <a:pt x="6887" y="3577"/>
                </a:lnTo>
                <a:lnTo>
                  <a:pt x="7106" y="3310"/>
                </a:lnTo>
                <a:lnTo>
                  <a:pt x="7203" y="3188"/>
                </a:lnTo>
                <a:lnTo>
                  <a:pt x="7228" y="3188"/>
                </a:lnTo>
                <a:lnTo>
                  <a:pt x="7398" y="3237"/>
                </a:lnTo>
                <a:lnTo>
                  <a:pt x="7568" y="3285"/>
                </a:lnTo>
                <a:lnTo>
                  <a:pt x="7738" y="3310"/>
                </a:lnTo>
                <a:lnTo>
                  <a:pt x="7933" y="3334"/>
                </a:lnTo>
                <a:lnTo>
                  <a:pt x="7982" y="3310"/>
                </a:lnTo>
                <a:lnTo>
                  <a:pt x="8006" y="3285"/>
                </a:lnTo>
                <a:lnTo>
                  <a:pt x="8030" y="3237"/>
                </a:lnTo>
                <a:lnTo>
                  <a:pt x="8006" y="3164"/>
                </a:lnTo>
                <a:lnTo>
                  <a:pt x="7933" y="3091"/>
                </a:lnTo>
                <a:lnTo>
                  <a:pt x="7860" y="2993"/>
                </a:lnTo>
                <a:lnTo>
                  <a:pt x="7763" y="2920"/>
                </a:lnTo>
                <a:lnTo>
                  <a:pt x="7641" y="2872"/>
                </a:lnTo>
                <a:lnTo>
                  <a:pt x="7982" y="2653"/>
                </a:lnTo>
                <a:lnTo>
                  <a:pt x="8006" y="2604"/>
                </a:lnTo>
                <a:lnTo>
                  <a:pt x="8006" y="2555"/>
                </a:lnTo>
                <a:lnTo>
                  <a:pt x="8322" y="2458"/>
                </a:lnTo>
                <a:lnTo>
                  <a:pt x="8371" y="2531"/>
                </a:lnTo>
                <a:lnTo>
                  <a:pt x="8468" y="2628"/>
                </a:lnTo>
                <a:lnTo>
                  <a:pt x="8590" y="2701"/>
                </a:lnTo>
                <a:lnTo>
                  <a:pt x="8687" y="2750"/>
                </a:lnTo>
                <a:lnTo>
                  <a:pt x="8809" y="2823"/>
                </a:lnTo>
                <a:lnTo>
                  <a:pt x="8833" y="2823"/>
                </a:lnTo>
                <a:lnTo>
                  <a:pt x="8858" y="2799"/>
                </a:lnTo>
                <a:lnTo>
                  <a:pt x="8882" y="2774"/>
                </a:lnTo>
                <a:lnTo>
                  <a:pt x="8882" y="2750"/>
                </a:lnTo>
                <a:lnTo>
                  <a:pt x="8833" y="2653"/>
                </a:lnTo>
                <a:lnTo>
                  <a:pt x="8809" y="2531"/>
                </a:lnTo>
                <a:lnTo>
                  <a:pt x="8712" y="2361"/>
                </a:lnTo>
                <a:lnTo>
                  <a:pt x="9296" y="2263"/>
                </a:lnTo>
                <a:lnTo>
                  <a:pt x="9296" y="2288"/>
                </a:lnTo>
                <a:lnTo>
                  <a:pt x="9369" y="2482"/>
                </a:lnTo>
                <a:lnTo>
                  <a:pt x="9393" y="2555"/>
                </a:lnTo>
                <a:lnTo>
                  <a:pt x="9466" y="2628"/>
                </a:lnTo>
                <a:lnTo>
                  <a:pt x="9563" y="2677"/>
                </a:lnTo>
                <a:lnTo>
                  <a:pt x="9636" y="2653"/>
                </a:lnTo>
                <a:lnTo>
                  <a:pt x="9709" y="2604"/>
                </a:lnTo>
                <a:lnTo>
                  <a:pt x="9734" y="2531"/>
                </a:lnTo>
                <a:lnTo>
                  <a:pt x="9734" y="2385"/>
                </a:lnTo>
                <a:lnTo>
                  <a:pt x="9709" y="2239"/>
                </a:lnTo>
                <a:lnTo>
                  <a:pt x="10050" y="2215"/>
                </a:lnTo>
                <a:close/>
                <a:moveTo>
                  <a:pt x="6595" y="3139"/>
                </a:moveTo>
                <a:lnTo>
                  <a:pt x="6449" y="3334"/>
                </a:lnTo>
                <a:lnTo>
                  <a:pt x="6327" y="3529"/>
                </a:lnTo>
                <a:lnTo>
                  <a:pt x="6206" y="3772"/>
                </a:lnTo>
                <a:lnTo>
                  <a:pt x="6084" y="4015"/>
                </a:lnTo>
                <a:lnTo>
                  <a:pt x="6035" y="4064"/>
                </a:lnTo>
                <a:lnTo>
                  <a:pt x="6011" y="4113"/>
                </a:lnTo>
                <a:lnTo>
                  <a:pt x="5987" y="4186"/>
                </a:lnTo>
                <a:lnTo>
                  <a:pt x="6011" y="4234"/>
                </a:lnTo>
                <a:lnTo>
                  <a:pt x="5889" y="4648"/>
                </a:lnTo>
                <a:lnTo>
                  <a:pt x="5816" y="5086"/>
                </a:lnTo>
                <a:lnTo>
                  <a:pt x="5768" y="5500"/>
                </a:lnTo>
                <a:lnTo>
                  <a:pt x="5743" y="5937"/>
                </a:lnTo>
                <a:lnTo>
                  <a:pt x="5768" y="6327"/>
                </a:lnTo>
                <a:lnTo>
                  <a:pt x="5816" y="6692"/>
                </a:lnTo>
                <a:lnTo>
                  <a:pt x="5889" y="7081"/>
                </a:lnTo>
                <a:lnTo>
                  <a:pt x="6011" y="7446"/>
                </a:lnTo>
                <a:lnTo>
                  <a:pt x="6011" y="7470"/>
                </a:lnTo>
                <a:lnTo>
                  <a:pt x="6011" y="7543"/>
                </a:lnTo>
                <a:lnTo>
                  <a:pt x="6084" y="7616"/>
                </a:lnTo>
                <a:lnTo>
                  <a:pt x="6206" y="7860"/>
                </a:lnTo>
                <a:lnTo>
                  <a:pt x="6352" y="8103"/>
                </a:lnTo>
                <a:lnTo>
                  <a:pt x="6571" y="8371"/>
                </a:lnTo>
                <a:lnTo>
                  <a:pt x="6790" y="8614"/>
                </a:lnTo>
                <a:lnTo>
                  <a:pt x="7057" y="8809"/>
                </a:lnTo>
                <a:lnTo>
                  <a:pt x="7325" y="9028"/>
                </a:lnTo>
                <a:lnTo>
                  <a:pt x="7617" y="9198"/>
                </a:lnTo>
                <a:lnTo>
                  <a:pt x="7909" y="9344"/>
                </a:lnTo>
                <a:lnTo>
                  <a:pt x="8201" y="9490"/>
                </a:lnTo>
                <a:lnTo>
                  <a:pt x="8517" y="9612"/>
                </a:lnTo>
                <a:lnTo>
                  <a:pt x="8833" y="9709"/>
                </a:lnTo>
                <a:lnTo>
                  <a:pt x="9150" y="9782"/>
                </a:lnTo>
                <a:lnTo>
                  <a:pt x="9466" y="9831"/>
                </a:lnTo>
                <a:lnTo>
                  <a:pt x="10123" y="9831"/>
                </a:lnTo>
                <a:lnTo>
                  <a:pt x="10439" y="9806"/>
                </a:lnTo>
                <a:lnTo>
                  <a:pt x="10756" y="9758"/>
                </a:lnTo>
                <a:lnTo>
                  <a:pt x="11072" y="9685"/>
                </a:lnTo>
                <a:lnTo>
                  <a:pt x="11388" y="9612"/>
                </a:lnTo>
                <a:lnTo>
                  <a:pt x="11680" y="9490"/>
                </a:lnTo>
                <a:lnTo>
                  <a:pt x="11972" y="9344"/>
                </a:lnTo>
                <a:lnTo>
                  <a:pt x="12264" y="9174"/>
                </a:lnTo>
                <a:lnTo>
                  <a:pt x="12532" y="9003"/>
                </a:lnTo>
                <a:lnTo>
                  <a:pt x="12775" y="8784"/>
                </a:lnTo>
                <a:lnTo>
                  <a:pt x="13019" y="8565"/>
                </a:lnTo>
                <a:lnTo>
                  <a:pt x="13213" y="8298"/>
                </a:lnTo>
                <a:lnTo>
                  <a:pt x="13432" y="8006"/>
                </a:lnTo>
                <a:lnTo>
                  <a:pt x="13627" y="7689"/>
                </a:lnTo>
                <a:lnTo>
                  <a:pt x="13773" y="7373"/>
                </a:lnTo>
                <a:lnTo>
                  <a:pt x="13895" y="7032"/>
                </a:lnTo>
                <a:lnTo>
                  <a:pt x="13968" y="6667"/>
                </a:lnTo>
                <a:lnTo>
                  <a:pt x="14041" y="6327"/>
                </a:lnTo>
                <a:lnTo>
                  <a:pt x="14089" y="5962"/>
                </a:lnTo>
                <a:lnTo>
                  <a:pt x="14114" y="5597"/>
                </a:lnTo>
                <a:lnTo>
                  <a:pt x="14114" y="5524"/>
                </a:lnTo>
                <a:lnTo>
                  <a:pt x="14114" y="5159"/>
                </a:lnTo>
                <a:lnTo>
                  <a:pt x="14114" y="4794"/>
                </a:lnTo>
                <a:lnTo>
                  <a:pt x="14041" y="4040"/>
                </a:lnTo>
                <a:lnTo>
                  <a:pt x="13992" y="3699"/>
                </a:lnTo>
                <a:lnTo>
                  <a:pt x="13895" y="3310"/>
                </a:lnTo>
                <a:lnTo>
                  <a:pt x="13968" y="3285"/>
                </a:lnTo>
                <a:lnTo>
                  <a:pt x="14649" y="3650"/>
                </a:lnTo>
                <a:lnTo>
                  <a:pt x="15184" y="3991"/>
                </a:lnTo>
                <a:lnTo>
                  <a:pt x="15671" y="4356"/>
                </a:lnTo>
                <a:lnTo>
                  <a:pt x="16157" y="4770"/>
                </a:lnTo>
                <a:lnTo>
                  <a:pt x="16620" y="5183"/>
                </a:lnTo>
                <a:lnTo>
                  <a:pt x="17058" y="5645"/>
                </a:lnTo>
                <a:lnTo>
                  <a:pt x="17471" y="6108"/>
                </a:lnTo>
                <a:lnTo>
                  <a:pt x="17861" y="6594"/>
                </a:lnTo>
                <a:lnTo>
                  <a:pt x="18226" y="7081"/>
                </a:lnTo>
                <a:lnTo>
                  <a:pt x="17788" y="7519"/>
                </a:lnTo>
                <a:lnTo>
                  <a:pt x="17350" y="7933"/>
                </a:lnTo>
                <a:lnTo>
                  <a:pt x="16887" y="8322"/>
                </a:lnTo>
                <a:lnTo>
                  <a:pt x="16425" y="8687"/>
                </a:lnTo>
                <a:lnTo>
                  <a:pt x="15938" y="9052"/>
                </a:lnTo>
                <a:lnTo>
                  <a:pt x="15427" y="9368"/>
                </a:lnTo>
                <a:lnTo>
                  <a:pt x="14892" y="9660"/>
                </a:lnTo>
                <a:lnTo>
                  <a:pt x="14333" y="9904"/>
                </a:lnTo>
                <a:lnTo>
                  <a:pt x="13773" y="10098"/>
                </a:lnTo>
                <a:lnTo>
                  <a:pt x="13213" y="10244"/>
                </a:lnTo>
                <a:lnTo>
                  <a:pt x="12654" y="10366"/>
                </a:lnTo>
                <a:lnTo>
                  <a:pt x="12070" y="10463"/>
                </a:lnTo>
                <a:lnTo>
                  <a:pt x="11510" y="10536"/>
                </a:lnTo>
                <a:lnTo>
                  <a:pt x="10926" y="10561"/>
                </a:lnTo>
                <a:lnTo>
                  <a:pt x="10342" y="10585"/>
                </a:lnTo>
                <a:lnTo>
                  <a:pt x="9758" y="10561"/>
                </a:lnTo>
                <a:lnTo>
                  <a:pt x="9174" y="10536"/>
                </a:lnTo>
                <a:lnTo>
                  <a:pt x="8614" y="10463"/>
                </a:lnTo>
                <a:lnTo>
                  <a:pt x="8030" y="10366"/>
                </a:lnTo>
                <a:lnTo>
                  <a:pt x="7471" y="10244"/>
                </a:lnTo>
                <a:lnTo>
                  <a:pt x="6911" y="10098"/>
                </a:lnTo>
                <a:lnTo>
                  <a:pt x="6352" y="9952"/>
                </a:lnTo>
                <a:lnTo>
                  <a:pt x="5792" y="9758"/>
                </a:lnTo>
                <a:lnTo>
                  <a:pt x="5257" y="9563"/>
                </a:lnTo>
                <a:lnTo>
                  <a:pt x="4648" y="9320"/>
                </a:lnTo>
                <a:lnTo>
                  <a:pt x="4040" y="9028"/>
                </a:lnTo>
                <a:lnTo>
                  <a:pt x="3748" y="8857"/>
                </a:lnTo>
                <a:lnTo>
                  <a:pt x="3456" y="8687"/>
                </a:lnTo>
                <a:lnTo>
                  <a:pt x="3188" y="8492"/>
                </a:lnTo>
                <a:lnTo>
                  <a:pt x="2921" y="8298"/>
                </a:lnTo>
                <a:lnTo>
                  <a:pt x="2750" y="8152"/>
                </a:lnTo>
                <a:lnTo>
                  <a:pt x="2604" y="8006"/>
                </a:lnTo>
                <a:lnTo>
                  <a:pt x="2337" y="7665"/>
                </a:lnTo>
                <a:lnTo>
                  <a:pt x="2069" y="7324"/>
                </a:lnTo>
                <a:lnTo>
                  <a:pt x="1899" y="7178"/>
                </a:lnTo>
                <a:lnTo>
                  <a:pt x="1753" y="7057"/>
                </a:lnTo>
                <a:lnTo>
                  <a:pt x="1874" y="7008"/>
                </a:lnTo>
                <a:lnTo>
                  <a:pt x="1972" y="6935"/>
                </a:lnTo>
                <a:lnTo>
                  <a:pt x="1996" y="6911"/>
                </a:lnTo>
                <a:lnTo>
                  <a:pt x="1996" y="6862"/>
                </a:lnTo>
                <a:lnTo>
                  <a:pt x="1996" y="6813"/>
                </a:lnTo>
                <a:lnTo>
                  <a:pt x="1972" y="6789"/>
                </a:lnTo>
                <a:lnTo>
                  <a:pt x="1947" y="6765"/>
                </a:lnTo>
                <a:lnTo>
                  <a:pt x="2239" y="6400"/>
                </a:lnTo>
                <a:lnTo>
                  <a:pt x="2531" y="6083"/>
                </a:lnTo>
                <a:lnTo>
                  <a:pt x="2872" y="5743"/>
                </a:lnTo>
                <a:lnTo>
                  <a:pt x="3213" y="5451"/>
                </a:lnTo>
                <a:lnTo>
                  <a:pt x="3943" y="4867"/>
                </a:lnTo>
                <a:lnTo>
                  <a:pt x="4673" y="4332"/>
                </a:lnTo>
                <a:lnTo>
                  <a:pt x="5135" y="4015"/>
                </a:lnTo>
                <a:lnTo>
                  <a:pt x="5622" y="3699"/>
                </a:lnTo>
                <a:lnTo>
                  <a:pt x="6108" y="3407"/>
                </a:lnTo>
                <a:lnTo>
                  <a:pt x="6595" y="3139"/>
                </a:lnTo>
                <a:close/>
                <a:moveTo>
                  <a:pt x="10853" y="0"/>
                </a:moveTo>
                <a:lnTo>
                  <a:pt x="10780" y="49"/>
                </a:lnTo>
                <a:lnTo>
                  <a:pt x="10707" y="171"/>
                </a:lnTo>
                <a:lnTo>
                  <a:pt x="10658" y="317"/>
                </a:lnTo>
                <a:lnTo>
                  <a:pt x="10634" y="487"/>
                </a:lnTo>
                <a:lnTo>
                  <a:pt x="10634" y="657"/>
                </a:lnTo>
                <a:lnTo>
                  <a:pt x="10099" y="633"/>
                </a:lnTo>
                <a:lnTo>
                  <a:pt x="9588" y="633"/>
                </a:lnTo>
                <a:lnTo>
                  <a:pt x="9539" y="390"/>
                </a:lnTo>
                <a:lnTo>
                  <a:pt x="9442" y="195"/>
                </a:lnTo>
                <a:lnTo>
                  <a:pt x="9393" y="146"/>
                </a:lnTo>
                <a:lnTo>
                  <a:pt x="9344" y="146"/>
                </a:lnTo>
                <a:lnTo>
                  <a:pt x="9271" y="171"/>
                </a:lnTo>
                <a:lnTo>
                  <a:pt x="9247" y="219"/>
                </a:lnTo>
                <a:lnTo>
                  <a:pt x="9198" y="414"/>
                </a:lnTo>
                <a:lnTo>
                  <a:pt x="9198" y="633"/>
                </a:lnTo>
                <a:lnTo>
                  <a:pt x="8687" y="657"/>
                </a:lnTo>
                <a:lnTo>
                  <a:pt x="8298" y="706"/>
                </a:lnTo>
                <a:lnTo>
                  <a:pt x="7933" y="779"/>
                </a:lnTo>
                <a:lnTo>
                  <a:pt x="7763" y="171"/>
                </a:lnTo>
                <a:lnTo>
                  <a:pt x="7763" y="146"/>
                </a:lnTo>
                <a:lnTo>
                  <a:pt x="7690" y="146"/>
                </a:lnTo>
                <a:lnTo>
                  <a:pt x="7617" y="317"/>
                </a:lnTo>
                <a:lnTo>
                  <a:pt x="7568" y="487"/>
                </a:lnTo>
                <a:lnTo>
                  <a:pt x="7568" y="657"/>
                </a:lnTo>
                <a:lnTo>
                  <a:pt x="7592" y="852"/>
                </a:lnTo>
                <a:lnTo>
                  <a:pt x="7009" y="998"/>
                </a:lnTo>
                <a:lnTo>
                  <a:pt x="6449" y="1168"/>
                </a:lnTo>
                <a:lnTo>
                  <a:pt x="6376" y="925"/>
                </a:lnTo>
                <a:lnTo>
                  <a:pt x="6327" y="682"/>
                </a:lnTo>
                <a:lnTo>
                  <a:pt x="6303" y="633"/>
                </a:lnTo>
                <a:lnTo>
                  <a:pt x="6230" y="609"/>
                </a:lnTo>
                <a:lnTo>
                  <a:pt x="6181" y="633"/>
                </a:lnTo>
                <a:lnTo>
                  <a:pt x="6157" y="682"/>
                </a:lnTo>
                <a:lnTo>
                  <a:pt x="6108" y="828"/>
                </a:lnTo>
                <a:lnTo>
                  <a:pt x="6084" y="998"/>
                </a:lnTo>
                <a:lnTo>
                  <a:pt x="6084" y="1144"/>
                </a:lnTo>
                <a:lnTo>
                  <a:pt x="6108" y="1290"/>
                </a:lnTo>
                <a:lnTo>
                  <a:pt x="5597" y="1509"/>
                </a:lnTo>
                <a:lnTo>
                  <a:pt x="5111" y="1728"/>
                </a:lnTo>
                <a:lnTo>
                  <a:pt x="4673" y="1947"/>
                </a:lnTo>
                <a:lnTo>
                  <a:pt x="4527" y="1631"/>
                </a:lnTo>
                <a:lnTo>
                  <a:pt x="4502" y="1631"/>
                </a:lnTo>
                <a:lnTo>
                  <a:pt x="4478" y="1606"/>
                </a:lnTo>
                <a:lnTo>
                  <a:pt x="4454" y="1631"/>
                </a:lnTo>
                <a:lnTo>
                  <a:pt x="4429" y="1655"/>
                </a:lnTo>
                <a:lnTo>
                  <a:pt x="4405" y="1874"/>
                </a:lnTo>
                <a:lnTo>
                  <a:pt x="4405" y="2093"/>
                </a:lnTo>
                <a:lnTo>
                  <a:pt x="3918" y="2385"/>
                </a:lnTo>
                <a:lnTo>
                  <a:pt x="3480" y="2701"/>
                </a:lnTo>
                <a:lnTo>
                  <a:pt x="3286" y="2872"/>
                </a:lnTo>
                <a:lnTo>
                  <a:pt x="3188" y="2628"/>
                </a:lnTo>
                <a:lnTo>
                  <a:pt x="3140" y="2531"/>
                </a:lnTo>
                <a:lnTo>
                  <a:pt x="3067" y="2434"/>
                </a:lnTo>
                <a:lnTo>
                  <a:pt x="3042" y="2434"/>
                </a:lnTo>
                <a:lnTo>
                  <a:pt x="2969" y="2482"/>
                </a:lnTo>
                <a:lnTo>
                  <a:pt x="2896" y="2555"/>
                </a:lnTo>
                <a:lnTo>
                  <a:pt x="2872" y="2653"/>
                </a:lnTo>
                <a:lnTo>
                  <a:pt x="2848" y="2726"/>
                </a:lnTo>
                <a:lnTo>
                  <a:pt x="2872" y="2823"/>
                </a:lnTo>
                <a:lnTo>
                  <a:pt x="2896" y="2920"/>
                </a:lnTo>
                <a:lnTo>
                  <a:pt x="2969" y="3139"/>
                </a:lnTo>
                <a:lnTo>
                  <a:pt x="2823" y="3285"/>
                </a:lnTo>
                <a:lnTo>
                  <a:pt x="2702" y="3456"/>
                </a:lnTo>
                <a:lnTo>
                  <a:pt x="2604" y="3650"/>
                </a:lnTo>
                <a:lnTo>
                  <a:pt x="2531" y="3845"/>
                </a:lnTo>
                <a:lnTo>
                  <a:pt x="2531" y="3894"/>
                </a:lnTo>
                <a:lnTo>
                  <a:pt x="2556" y="3942"/>
                </a:lnTo>
                <a:lnTo>
                  <a:pt x="2604" y="3991"/>
                </a:lnTo>
                <a:lnTo>
                  <a:pt x="2677" y="4015"/>
                </a:lnTo>
                <a:lnTo>
                  <a:pt x="2726" y="3991"/>
                </a:lnTo>
                <a:lnTo>
                  <a:pt x="2775" y="3967"/>
                </a:lnTo>
                <a:lnTo>
                  <a:pt x="3213" y="3529"/>
                </a:lnTo>
                <a:lnTo>
                  <a:pt x="3237" y="3577"/>
                </a:lnTo>
                <a:lnTo>
                  <a:pt x="3359" y="3723"/>
                </a:lnTo>
                <a:lnTo>
                  <a:pt x="3529" y="3869"/>
                </a:lnTo>
                <a:lnTo>
                  <a:pt x="3699" y="4040"/>
                </a:lnTo>
                <a:lnTo>
                  <a:pt x="3918" y="4161"/>
                </a:lnTo>
                <a:lnTo>
                  <a:pt x="3261" y="4672"/>
                </a:lnTo>
                <a:lnTo>
                  <a:pt x="3213" y="4648"/>
                </a:lnTo>
                <a:lnTo>
                  <a:pt x="2945" y="4575"/>
                </a:lnTo>
                <a:lnTo>
                  <a:pt x="2702" y="4478"/>
                </a:lnTo>
                <a:lnTo>
                  <a:pt x="2458" y="4356"/>
                </a:lnTo>
                <a:lnTo>
                  <a:pt x="2239" y="4186"/>
                </a:lnTo>
                <a:lnTo>
                  <a:pt x="2020" y="3991"/>
                </a:lnTo>
                <a:lnTo>
                  <a:pt x="1874" y="3772"/>
                </a:lnTo>
                <a:lnTo>
                  <a:pt x="1728" y="3529"/>
                </a:lnTo>
                <a:lnTo>
                  <a:pt x="1631" y="3285"/>
                </a:lnTo>
                <a:lnTo>
                  <a:pt x="1607" y="3237"/>
                </a:lnTo>
                <a:lnTo>
                  <a:pt x="1534" y="3237"/>
                </a:lnTo>
                <a:lnTo>
                  <a:pt x="1509" y="3285"/>
                </a:lnTo>
                <a:lnTo>
                  <a:pt x="1485" y="3407"/>
                </a:lnTo>
                <a:lnTo>
                  <a:pt x="1461" y="3553"/>
                </a:lnTo>
                <a:lnTo>
                  <a:pt x="1485" y="3699"/>
                </a:lnTo>
                <a:lnTo>
                  <a:pt x="1534" y="3845"/>
                </a:lnTo>
                <a:lnTo>
                  <a:pt x="1582" y="3967"/>
                </a:lnTo>
                <a:lnTo>
                  <a:pt x="1655" y="4113"/>
                </a:lnTo>
                <a:lnTo>
                  <a:pt x="1826" y="4380"/>
                </a:lnTo>
                <a:lnTo>
                  <a:pt x="2045" y="4599"/>
                </a:lnTo>
                <a:lnTo>
                  <a:pt x="2288" y="4794"/>
                </a:lnTo>
                <a:lnTo>
                  <a:pt x="2580" y="4940"/>
                </a:lnTo>
                <a:lnTo>
                  <a:pt x="2702" y="4989"/>
                </a:lnTo>
                <a:lnTo>
                  <a:pt x="2848" y="5037"/>
                </a:lnTo>
                <a:lnTo>
                  <a:pt x="2410" y="5427"/>
                </a:lnTo>
                <a:lnTo>
                  <a:pt x="2239" y="5621"/>
                </a:lnTo>
                <a:lnTo>
                  <a:pt x="2142" y="5573"/>
                </a:lnTo>
                <a:lnTo>
                  <a:pt x="2045" y="5524"/>
                </a:lnTo>
                <a:lnTo>
                  <a:pt x="1850" y="5475"/>
                </a:lnTo>
                <a:lnTo>
                  <a:pt x="1631" y="5451"/>
                </a:lnTo>
                <a:lnTo>
                  <a:pt x="1436" y="5402"/>
                </a:lnTo>
                <a:lnTo>
                  <a:pt x="1144" y="5305"/>
                </a:lnTo>
                <a:lnTo>
                  <a:pt x="877" y="5159"/>
                </a:lnTo>
                <a:lnTo>
                  <a:pt x="779" y="5062"/>
                </a:lnTo>
                <a:lnTo>
                  <a:pt x="682" y="4964"/>
                </a:lnTo>
                <a:lnTo>
                  <a:pt x="585" y="4891"/>
                </a:lnTo>
                <a:lnTo>
                  <a:pt x="487" y="4818"/>
                </a:lnTo>
                <a:lnTo>
                  <a:pt x="414" y="4818"/>
                </a:lnTo>
                <a:lnTo>
                  <a:pt x="390" y="4891"/>
                </a:lnTo>
                <a:lnTo>
                  <a:pt x="390" y="4964"/>
                </a:lnTo>
                <a:lnTo>
                  <a:pt x="390" y="5110"/>
                </a:lnTo>
                <a:lnTo>
                  <a:pt x="439" y="5232"/>
                </a:lnTo>
                <a:lnTo>
                  <a:pt x="536" y="5354"/>
                </a:lnTo>
                <a:lnTo>
                  <a:pt x="658" y="5475"/>
                </a:lnTo>
                <a:lnTo>
                  <a:pt x="779" y="5573"/>
                </a:lnTo>
                <a:lnTo>
                  <a:pt x="1023" y="5718"/>
                </a:lnTo>
                <a:lnTo>
                  <a:pt x="1193" y="5791"/>
                </a:lnTo>
                <a:lnTo>
                  <a:pt x="1412" y="5864"/>
                </a:lnTo>
                <a:lnTo>
                  <a:pt x="1655" y="5937"/>
                </a:lnTo>
                <a:lnTo>
                  <a:pt x="1899" y="5962"/>
                </a:lnTo>
                <a:lnTo>
                  <a:pt x="1777" y="6108"/>
                </a:lnTo>
                <a:lnTo>
                  <a:pt x="1655" y="6278"/>
                </a:lnTo>
                <a:lnTo>
                  <a:pt x="1558" y="6473"/>
                </a:lnTo>
                <a:lnTo>
                  <a:pt x="1485" y="6643"/>
                </a:lnTo>
                <a:lnTo>
                  <a:pt x="1144" y="6643"/>
                </a:lnTo>
                <a:lnTo>
                  <a:pt x="877" y="6594"/>
                </a:lnTo>
                <a:lnTo>
                  <a:pt x="609" y="6521"/>
                </a:lnTo>
                <a:lnTo>
                  <a:pt x="366" y="6400"/>
                </a:lnTo>
                <a:lnTo>
                  <a:pt x="122" y="6229"/>
                </a:lnTo>
                <a:lnTo>
                  <a:pt x="49" y="6229"/>
                </a:lnTo>
                <a:lnTo>
                  <a:pt x="1" y="6254"/>
                </a:lnTo>
                <a:lnTo>
                  <a:pt x="1" y="6302"/>
                </a:lnTo>
                <a:lnTo>
                  <a:pt x="74" y="6424"/>
                </a:lnTo>
                <a:lnTo>
                  <a:pt x="147" y="6546"/>
                </a:lnTo>
                <a:lnTo>
                  <a:pt x="220" y="6643"/>
                </a:lnTo>
                <a:lnTo>
                  <a:pt x="317" y="6740"/>
                </a:lnTo>
                <a:lnTo>
                  <a:pt x="439" y="6813"/>
                </a:lnTo>
                <a:lnTo>
                  <a:pt x="560" y="6862"/>
                </a:lnTo>
                <a:lnTo>
                  <a:pt x="804" y="6984"/>
                </a:lnTo>
                <a:lnTo>
                  <a:pt x="1071" y="7032"/>
                </a:lnTo>
                <a:lnTo>
                  <a:pt x="1363" y="7081"/>
                </a:lnTo>
                <a:lnTo>
                  <a:pt x="1680" y="7568"/>
                </a:lnTo>
                <a:lnTo>
                  <a:pt x="2020" y="8006"/>
                </a:lnTo>
                <a:lnTo>
                  <a:pt x="2410" y="8419"/>
                </a:lnTo>
                <a:lnTo>
                  <a:pt x="2848" y="8784"/>
                </a:lnTo>
                <a:lnTo>
                  <a:pt x="3286" y="9125"/>
                </a:lnTo>
                <a:lnTo>
                  <a:pt x="3772" y="9417"/>
                </a:lnTo>
                <a:lnTo>
                  <a:pt x="4283" y="9685"/>
                </a:lnTo>
                <a:lnTo>
                  <a:pt x="4819" y="9928"/>
                </a:lnTo>
                <a:lnTo>
                  <a:pt x="5403" y="10147"/>
                </a:lnTo>
                <a:lnTo>
                  <a:pt x="5987" y="10342"/>
                </a:lnTo>
                <a:lnTo>
                  <a:pt x="6571" y="10536"/>
                </a:lnTo>
                <a:lnTo>
                  <a:pt x="7155" y="10682"/>
                </a:lnTo>
                <a:lnTo>
                  <a:pt x="7763" y="10828"/>
                </a:lnTo>
                <a:lnTo>
                  <a:pt x="8371" y="10926"/>
                </a:lnTo>
                <a:lnTo>
                  <a:pt x="8979" y="11023"/>
                </a:lnTo>
                <a:lnTo>
                  <a:pt x="9612" y="11072"/>
                </a:lnTo>
                <a:lnTo>
                  <a:pt x="10220" y="11096"/>
                </a:lnTo>
                <a:lnTo>
                  <a:pt x="10829" y="11072"/>
                </a:lnTo>
                <a:lnTo>
                  <a:pt x="11461" y="11047"/>
                </a:lnTo>
                <a:lnTo>
                  <a:pt x="12070" y="10974"/>
                </a:lnTo>
                <a:lnTo>
                  <a:pt x="12678" y="10877"/>
                </a:lnTo>
                <a:lnTo>
                  <a:pt x="13286" y="10755"/>
                </a:lnTo>
                <a:lnTo>
                  <a:pt x="13870" y="10585"/>
                </a:lnTo>
                <a:lnTo>
                  <a:pt x="14454" y="10390"/>
                </a:lnTo>
                <a:lnTo>
                  <a:pt x="15063" y="10147"/>
                </a:lnTo>
                <a:lnTo>
                  <a:pt x="15622" y="9831"/>
                </a:lnTo>
                <a:lnTo>
                  <a:pt x="16182" y="9514"/>
                </a:lnTo>
                <a:lnTo>
                  <a:pt x="16693" y="9149"/>
                </a:lnTo>
                <a:lnTo>
                  <a:pt x="17204" y="8736"/>
                </a:lnTo>
                <a:lnTo>
                  <a:pt x="17690" y="8322"/>
                </a:lnTo>
                <a:lnTo>
                  <a:pt x="18153" y="7884"/>
                </a:lnTo>
                <a:lnTo>
                  <a:pt x="18615" y="7446"/>
                </a:lnTo>
                <a:lnTo>
                  <a:pt x="18639" y="7397"/>
                </a:lnTo>
                <a:lnTo>
                  <a:pt x="18761" y="7373"/>
                </a:lnTo>
                <a:lnTo>
                  <a:pt x="18858" y="7300"/>
                </a:lnTo>
                <a:lnTo>
                  <a:pt x="19029" y="7300"/>
                </a:lnTo>
                <a:lnTo>
                  <a:pt x="19175" y="7276"/>
                </a:lnTo>
                <a:lnTo>
                  <a:pt x="19321" y="7227"/>
                </a:lnTo>
                <a:lnTo>
                  <a:pt x="19467" y="7178"/>
                </a:lnTo>
                <a:lnTo>
                  <a:pt x="19613" y="7105"/>
                </a:lnTo>
                <a:lnTo>
                  <a:pt x="19734" y="7008"/>
                </a:lnTo>
                <a:lnTo>
                  <a:pt x="19807" y="6886"/>
                </a:lnTo>
                <a:lnTo>
                  <a:pt x="19880" y="6765"/>
                </a:lnTo>
                <a:lnTo>
                  <a:pt x="19880" y="6716"/>
                </a:lnTo>
                <a:lnTo>
                  <a:pt x="19880" y="6667"/>
                </a:lnTo>
                <a:lnTo>
                  <a:pt x="19832" y="6619"/>
                </a:lnTo>
                <a:lnTo>
                  <a:pt x="19807" y="6570"/>
                </a:lnTo>
                <a:lnTo>
                  <a:pt x="19710" y="6546"/>
                </a:lnTo>
                <a:lnTo>
                  <a:pt x="19661" y="6546"/>
                </a:lnTo>
                <a:lnTo>
                  <a:pt x="19613" y="6570"/>
                </a:lnTo>
                <a:lnTo>
                  <a:pt x="19467" y="6643"/>
                </a:lnTo>
                <a:lnTo>
                  <a:pt x="19369" y="6716"/>
                </a:lnTo>
                <a:lnTo>
                  <a:pt x="19248" y="6789"/>
                </a:lnTo>
                <a:lnTo>
                  <a:pt x="19102" y="6862"/>
                </a:lnTo>
                <a:lnTo>
                  <a:pt x="18858" y="6911"/>
                </a:lnTo>
                <a:lnTo>
                  <a:pt x="18566" y="6521"/>
                </a:lnTo>
                <a:lnTo>
                  <a:pt x="18250" y="6132"/>
                </a:lnTo>
                <a:lnTo>
                  <a:pt x="18420" y="6108"/>
                </a:lnTo>
                <a:lnTo>
                  <a:pt x="18664" y="6059"/>
                </a:lnTo>
                <a:lnTo>
                  <a:pt x="18956" y="5962"/>
                </a:lnTo>
                <a:lnTo>
                  <a:pt x="19077" y="5889"/>
                </a:lnTo>
                <a:lnTo>
                  <a:pt x="19199" y="5816"/>
                </a:lnTo>
                <a:lnTo>
                  <a:pt x="19272" y="5718"/>
                </a:lnTo>
                <a:lnTo>
                  <a:pt x="19321" y="5597"/>
                </a:lnTo>
                <a:lnTo>
                  <a:pt x="19321" y="5548"/>
                </a:lnTo>
                <a:lnTo>
                  <a:pt x="19321" y="5500"/>
                </a:lnTo>
                <a:lnTo>
                  <a:pt x="19296" y="5475"/>
                </a:lnTo>
                <a:lnTo>
                  <a:pt x="19248" y="5451"/>
                </a:lnTo>
                <a:lnTo>
                  <a:pt x="19150" y="5451"/>
                </a:lnTo>
                <a:lnTo>
                  <a:pt x="19053" y="5475"/>
                </a:lnTo>
                <a:lnTo>
                  <a:pt x="18858" y="5548"/>
                </a:lnTo>
                <a:lnTo>
                  <a:pt x="18688" y="5621"/>
                </a:lnTo>
                <a:lnTo>
                  <a:pt x="18493" y="5718"/>
                </a:lnTo>
                <a:lnTo>
                  <a:pt x="18226" y="5767"/>
                </a:lnTo>
                <a:lnTo>
                  <a:pt x="17958" y="5791"/>
                </a:lnTo>
                <a:lnTo>
                  <a:pt x="17496" y="5281"/>
                </a:lnTo>
                <a:lnTo>
                  <a:pt x="17690" y="5281"/>
                </a:lnTo>
                <a:lnTo>
                  <a:pt x="17885" y="5256"/>
                </a:lnTo>
                <a:lnTo>
                  <a:pt x="18080" y="5208"/>
                </a:lnTo>
                <a:lnTo>
                  <a:pt x="18274" y="5135"/>
                </a:lnTo>
                <a:lnTo>
                  <a:pt x="18591" y="4964"/>
                </a:lnTo>
                <a:lnTo>
                  <a:pt x="18761" y="4867"/>
                </a:lnTo>
                <a:lnTo>
                  <a:pt x="18931" y="4745"/>
                </a:lnTo>
                <a:lnTo>
                  <a:pt x="19077" y="4599"/>
                </a:lnTo>
                <a:lnTo>
                  <a:pt x="19199" y="4453"/>
                </a:lnTo>
                <a:lnTo>
                  <a:pt x="19272" y="4307"/>
                </a:lnTo>
                <a:lnTo>
                  <a:pt x="19296" y="4234"/>
                </a:lnTo>
                <a:lnTo>
                  <a:pt x="19296" y="4137"/>
                </a:lnTo>
                <a:lnTo>
                  <a:pt x="19296" y="4088"/>
                </a:lnTo>
                <a:lnTo>
                  <a:pt x="19272" y="4064"/>
                </a:lnTo>
                <a:lnTo>
                  <a:pt x="19199" y="4064"/>
                </a:lnTo>
                <a:lnTo>
                  <a:pt x="19077" y="4088"/>
                </a:lnTo>
                <a:lnTo>
                  <a:pt x="18956" y="4137"/>
                </a:lnTo>
                <a:lnTo>
                  <a:pt x="18737" y="4307"/>
                </a:lnTo>
                <a:lnTo>
                  <a:pt x="18518" y="4478"/>
                </a:lnTo>
                <a:lnTo>
                  <a:pt x="18323" y="4648"/>
                </a:lnTo>
                <a:lnTo>
                  <a:pt x="18031" y="4794"/>
                </a:lnTo>
                <a:lnTo>
                  <a:pt x="17763" y="4867"/>
                </a:lnTo>
                <a:lnTo>
                  <a:pt x="17447" y="4916"/>
                </a:lnTo>
                <a:lnTo>
                  <a:pt x="17155" y="4916"/>
                </a:lnTo>
                <a:lnTo>
                  <a:pt x="16620" y="4429"/>
                </a:lnTo>
                <a:lnTo>
                  <a:pt x="16839" y="4186"/>
                </a:lnTo>
                <a:lnTo>
                  <a:pt x="17058" y="3967"/>
                </a:lnTo>
                <a:lnTo>
                  <a:pt x="17277" y="3748"/>
                </a:lnTo>
                <a:lnTo>
                  <a:pt x="17593" y="3918"/>
                </a:lnTo>
                <a:lnTo>
                  <a:pt x="17909" y="4088"/>
                </a:lnTo>
                <a:lnTo>
                  <a:pt x="18031" y="4113"/>
                </a:lnTo>
                <a:lnTo>
                  <a:pt x="18128" y="4113"/>
                </a:lnTo>
                <a:lnTo>
                  <a:pt x="18201" y="4040"/>
                </a:lnTo>
                <a:lnTo>
                  <a:pt x="18274" y="3967"/>
                </a:lnTo>
                <a:lnTo>
                  <a:pt x="18299" y="3894"/>
                </a:lnTo>
                <a:lnTo>
                  <a:pt x="18299" y="3796"/>
                </a:lnTo>
                <a:lnTo>
                  <a:pt x="18250" y="3723"/>
                </a:lnTo>
                <a:lnTo>
                  <a:pt x="18177" y="3650"/>
                </a:lnTo>
                <a:lnTo>
                  <a:pt x="17885" y="3504"/>
                </a:lnTo>
                <a:lnTo>
                  <a:pt x="17593" y="3358"/>
                </a:lnTo>
                <a:lnTo>
                  <a:pt x="17690" y="3212"/>
                </a:lnTo>
                <a:lnTo>
                  <a:pt x="17763" y="3042"/>
                </a:lnTo>
                <a:lnTo>
                  <a:pt x="17763" y="3018"/>
                </a:lnTo>
                <a:lnTo>
                  <a:pt x="17739" y="2993"/>
                </a:lnTo>
                <a:lnTo>
                  <a:pt x="17690" y="2993"/>
                </a:lnTo>
                <a:lnTo>
                  <a:pt x="17423" y="3237"/>
                </a:lnTo>
                <a:lnTo>
                  <a:pt x="16376" y="2555"/>
                </a:lnTo>
                <a:lnTo>
                  <a:pt x="16693" y="2190"/>
                </a:lnTo>
                <a:lnTo>
                  <a:pt x="16717" y="2142"/>
                </a:lnTo>
                <a:lnTo>
                  <a:pt x="16693" y="2069"/>
                </a:lnTo>
                <a:lnTo>
                  <a:pt x="16668" y="2044"/>
                </a:lnTo>
                <a:lnTo>
                  <a:pt x="16595" y="2020"/>
                </a:lnTo>
                <a:lnTo>
                  <a:pt x="16449" y="2093"/>
                </a:lnTo>
                <a:lnTo>
                  <a:pt x="16303" y="2166"/>
                </a:lnTo>
                <a:lnTo>
                  <a:pt x="16036" y="2361"/>
                </a:lnTo>
                <a:lnTo>
                  <a:pt x="15914" y="2288"/>
                </a:lnTo>
                <a:lnTo>
                  <a:pt x="15354" y="2020"/>
                </a:lnTo>
                <a:lnTo>
                  <a:pt x="14795" y="1752"/>
                </a:lnTo>
                <a:lnTo>
                  <a:pt x="15087" y="1290"/>
                </a:lnTo>
                <a:lnTo>
                  <a:pt x="15087" y="1266"/>
                </a:lnTo>
                <a:lnTo>
                  <a:pt x="15063" y="1266"/>
                </a:lnTo>
                <a:lnTo>
                  <a:pt x="14795" y="1436"/>
                </a:lnTo>
                <a:lnTo>
                  <a:pt x="14552" y="1655"/>
                </a:lnTo>
                <a:lnTo>
                  <a:pt x="14089" y="1460"/>
                </a:lnTo>
                <a:lnTo>
                  <a:pt x="13603" y="1290"/>
                </a:lnTo>
                <a:lnTo>
                  <a:pt x="13140" y="1144"/>
                </a:lnTo>
                <a:lnTo>
                  <a:pt x="12702" y="1022"/>
                </a:lnTo>
                <a:lnTo>
                  <a:pt x="12775" y="706"/>
                </a:lnTo>
                <a:lnTo>
                  <a:pt x="12800" y="536"/>
                </a:lnTo>
                <a:lnTo>
                  <a:pt x="12800" y="365"/>
                </a:lnTo>
                <a:lnTo>
                  <a:pt x="12775" y="317"/>
                </a:lnTo>
                <a:lnTo>
                  <a:pt x="12751" y="292"/>
                </a:lnTo>
                <a:lnTo>
                  <a:pt x="12702" y="292"/>
                </a:lnTo>
                <a:lnTo>
                  <a:pt x="12654" y="341"/>
                </a:lnTo>
                <a:lnTo>
                  <a:pt x="12532" y="560"/>
                </a:lnTo>
                <a:lnTo>
                  <a:pt x="12337" y="925"/>
                </a:lnTo>
                <a:lnTo>
                  <a:pt x="11705" y="803"/>
                </a:lnTo>
                <a:lnTo>
                  <a:pt x="11072" y="706"/>
                </a:lnTo>
                <a:lnTo>
                  <a:pt x="11072" y="511"/>
                </a:lnTo>
                <a:lnTo>
                  <a:pt x="11072" y="317"/>
                </a:lnTo>
                <a:lnTo>
                  <a:pt x="11072" y="244"/>
                </a:lnTo>
                <a:lnTo>
                  <a:pt x="11048" y="146"/>
                </a:lnTo>
                <a:lnTo>
                  <a:pt x="10999" y="73"/>
                </a:lnTo>
                <a:lnTo>
                  <a:pt x="10950" y="25"/>
                </a:lnTo>
                <a:lnTo>
                  <a:pt x="10902" y="0"/>
                </a:lnTo>
                <a:lnTo>
                  <a:pt x="10853" y="0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хоче відчувати та діяти як активний громадянин Украї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хоче успішно взаємодіяти з представниками різних національностей у майбутній професійній діяльності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кого тема Голокосту стала частиною родинної історії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Для тих, хто не байдужий до власної історії та культу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Якщо це ТИ, то реєструйся на цей кур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-581040" y="0"/>
            <a:ext cx="10306080" cy="687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32000" y="2085840"/>
            <a:ext cx="4680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10618e"/>
                </a:solidFill>
                <a:latin typeface="Segoe UI Semilight"/>
                <a:ea typeface="Segoe UI Semilight"/>
              </a:rPr>
              <a:t>Що тебе чекає під час вивчення цієї дисциплі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hape 295"/>
          <p:cNvSpPr/>
          <p:nvPr/>
        </p:nvSpPr>
        <p:spPr>
          <a:xfrm>
            <a:off x="4121280" y="1895400"/>
            <a:ext cx="684000" cy="381240"/>
          </a:xfrm>
          <a:custGeom>
            <a:avLst/>
            <a:gdLst>
              <a:gd name="textAreaLeft" fmla="*/ 0 w 684000"/>
              <a:gd name="textAreaRight" fmla="*/ 684360 w 68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9881" h="11096">
                <a:moveTo>
                  <a:pt x="9636" y="1120"/>
                </a:moveTo>
                <a:lnTo>
                  <a:pt x="10099" y="1144"/>
                </a:lnTo>
                <a:lnTo>
                  <a:pt x="10561" y="1168"/>
                </a:lnTo>
                <a:lnTo>
                  <a:pt x="10537" y="1412"/>
                </a:lnTo>
                <a:lnTo>
                  <a:pt x="10512" y="1631"/>
                </a:lnTo>
                <a:lnTo>
                  <a:pt x="9685" y="1631"/>
                </a:lnTo>
                <a:lnTo>
                  <a:pt x="9661" y="1387"/>
                </a:lnTo>
                <a:lnTo>
                  <a:pt x="9636" y="1120"/>
                </a:lnTo>
                <a:close/>
                <a:moveTo>
                  <a:pt x="9198" y="1120"/>
                </a:moveTo>
                <a:lnTo>
                  <a:pt x="9223" y="1217"/>
                </a:lnTo>
                <a:lnTo>
                  <a:pt x="9223" y="1436"/>
                </a:lnTo>
                <a:lnTo>
                  <a:pt x="9223" y="1679"/>
                </a:lnTo>
                <a:lnTo>
                  <a:pt x="8785" y="1752"/>
                </a:lnTo>
                <a:lnTo>
                  <a:pt x="8347" y="1825"/>
                </a:lnTo>
                <a:lnTo>
                  <a:pt x="8298" y="1825"/>
                </a:lnTo>
                <a:lnTo>
                  <a:pt x="8225" y="1801"/>
                </a:lnTo>
                <a:lnTo>
                  <a:pt x="8128" y="1509"/>
                </a:lnTo>
                <a:lnTo>
                  <a:pt x="8055" y="1241"/>
                </a:lnTo>
                <a:lnTo>
                  <a:pt x="8468" y="1193"/>
                </a:lnTo>
                <a:lnTo>
                  <a:pt x="8882" y="1144"/>
                </a:lnTo>
                <a:lnTo>
                  <a:pt x="9198" y="1120"/>
                </a:lnTo>
                <a:close/>
                <a:moveTo>
                  <a:pt x="11023" y="1217"/>
                </a:moveTo>
                <a:lnTo>
                  <a:pt x="11583" y="1290"/>
                </a:lnTo>
                <a:lnTo>
                  <a:pt x="12118" y="1412"/>
                </a:lnTo>
                <a:lnTo>
                  <a:pt x="12045" y="1655"/>
                </a:lnTo>
                <a:lnTo>
                  <a:pt x="11997" y="1850"/>
                </a:lnTo>
                <a:lnTo>
                  <a:pt x="11486" y="1752"/>
                </a:lnTo>
                <a:lnTo>
                  <a:pt x="10975" y="1679"/>
                </a:lnTo>
                <a:lnTo>
                  <a:pt x="10999" y="1436"/>
                </a:lnTo>
                <a:lnTo>
                  <a:pt x="11023" y="1217"/>
                </a:lnTo>
                <a:close/>
                <a:moveTo>
                  <a:pt x="7665" y="1339"/>
                </a:moveTo>
                <a:lnTo>
                  <a:pt x="7714" y="1655"/>
                </a:lnTo>
                <a:lnTo>
                  <a:pt x="7811" y="1996"/>
                </a:lnTo>
                <a:lnTo>
                  <a:pt x="7446" y="2117"/>
                </a:lnTo>
                <a:lnTo>
                  <a:pt x="7082" y="2263"/>
                </a:lnTo>
                <a:lnTo>
                  <a:pt x="6984" y="2117"/>
                </a:lnTo>
                <a:lnTo>
                  <a:pt x="6887" y="1971"/>
                </a:lnTo>
                <a:lnTo>
                  <a:pt x="6765" y="1825"/>
                </a:lnTo>
                <a:lnTo>
                  <a:pt x="6668" y="1679"/>
                </a:lnTo>
                <a:lnTo>
                  <a:pt x="6644" y="1631"/>
                </a:lnTo>
                <a:lnTo>
                  <a:pt x="7155" y="1460"/>
                </a:lnTo>
                <a:lnTo>
                  <a:pt x="7665" y="1339"/>
                </a:lnTo>
                <a:close/>
                <a:moveTo>
                  <a:pt x="12532" y="1509"/>
                </a:moveTo>
                <a:lnTo>
                  <a:pt x="13067" y="1655"/>
                </a:lnTo>
                <a:lnTo>
                  <a:pt x="13627" y="1825"/>
                </a:lnTo>
                <a:lnTo>
                  <a:pt x="14211" y="2044"/>
                </a:lnTo>
                <a:lnTo>
                  <a:pt x="14065" y="2263"/>
                </a:lnTo>
                <a:lnTo>
                  <a:pt x="13870" y="2555"/>
                </a:lnTo>
                <a:lnTo>
                  <a:pt x="13262" y="2263"/>
                </a:lnTo>
                <a:lnTo>
                  <a:pt x="13165" y="2215"/>
                </a:lnTo>
                <a:lnTo>
                  <a:pt x="12824" y="2093"/>
                </a:lnTo>
                <a:lnTo>
                  <a:pt x="12459" y="1996"/>
                </a:lnTo>
                <a:lnTo>
                  <a:pt x="12483" y="1655"/>
                </a:lnTo>
                <a:lnTo>
                  <a:pt x="12532" y="1509"/>
                </a:lnTo>
                <a:close/>
                <a:moveTo>
                  <a:pt x="6254" y="1777"/>
                </a:moveTo>
                <a:lnTo>
                  <a:pt x="6425" y="2117"/>
                </a:lnTo>
                <a:lnTo>
                  <a:pt x="6522" y="2288"/>
                </a:lnTo>
                <a:lnTo>
                  <a:pt x="6668" y="2458"/>
                </a:lnTo>
                <a:lnTo>
                  <a:pt x="6035" y="2774"/>
                </a:lnTo>
                <a:lnTo>
                  <a:pt x="5427" y="3115"/>
                </a:lnTo>
                <a:lnTo>
                  <a:pt x="5305" y="3018"/>
                </a:lnTo>
                <a:lnTo>
                  <a:pt x="5184" y="2896"/>
                </a:lnTo>
                <a:lnTo>
                  <a:pt x="5086" y="2774"/>
                </a:lnTo>
                <a:lnTo>
                  <a:pt x="4989" y="2653"/>
                </a:lnTo>
                <a:lnTo>
                  <a:pt x="4843" y="2385"/>
                </a:lnTo>
                <a:lnTo>
                  <a:pt x="5476" y="2093"/>
                </a:lnTo>
                <a:lnTo>
                  <a:pt x="6254" y="1777"/>
                </a:lnTo>
                <a:close/>
                <a:moveTo>
                  <a:pt x="14503" y="2166"/>
                </a:moveTo>
                <a:lnTo>
                  <a:pt x="15087" y="2434"/>
                </a:lnTo>
                <a:lnTo>
                  <a:pt x="15671" y="2726"/>
                </a:lnTo>
                <a:lnTo>
                  <a:pt x="15622" y="2774"/>
                </a:lnTo>
                <a:lnTo>
                  <a:pt x="15427" y="3018"/>
                </a:lnTo>
                <a:lnTo>
                  <a:pt x="15306" y="3164"/>
                </a:lnTo>
                <a:lnTo>
                  <a:pt x="15209" y="3310"/>
                </a:lnTo>
                <a:lnTo>
                  <a:pt x="14698" y="2993"/>
                </a:lnTo>
                <a:lnTo>
                  <a:pt x="14187" y="2701"/>
                </a:lnTo>
                <a:lnTo>
                  <a:pt x="14406" y="2336"/>
                </a:lnTo>
                <a:lnTo>
                  <a:pt x="14503" y="2166"/>
                </a:lnTo>
                <a:close/>
                <a:moveTo>
                  <a:pt x="4502" y="2555"/>
                </a:moveTo>
                <a:lnTo>
                  <a:pt x="4624" y="2847"/>
                </a:lnTo>
                <a:lnTo>
                  <a:pt x="4794" y="3115"/>
                </a:lnTo>
                <a:lnTo>
                  <a:pt x="4916" y="3237"/>
                </a:lnTo>
                <a:lnTo>
                  <a:pt x="5038" y="3358"/>
                </a:lnTo>
                <a:lnTo>
                  <a:pt x="4381" y="3821"/>
                </a:lnTo>
                <a:lnTo>
                  <a:pt x="4332" y="3869"/>
                </a:lnTo>
                <a:lnTo>
                  <a:pt x="4259" y="3821"/>
                </a:lnTo>
                <a:lnTo>
                  <a:pt x="3943" y="3626"/>
                </a:lnTo>
                <a:lnTo>
                  <a:pt x="3675" y="3407"/>
                </a:lnTo>
                <a:lnTo>
                  <a:pt x="3529" y="3237"/>
                </a:lnTo>
                <a:lnTo>
                  <a:pt x="3821" y="2993"/>
                </a:lnTo>
                <a:lnTo>
                  <a:pt x="4162" y="2774"/>
                </a:lnTo>
                <a:lnTo>
                  <a:pt x="4502" y="2555"/>
                </a:lnTo>
                <a:close/>
                <a:moveTo>
                  <a:pt x="16036" y="2945"/>
                </a:moveTo>
                <a:lnTo>
                  <a:pt x="16547" y="3237"/>
                </a:lnTo>
                <a:lnTo>
                  <a:pt x="17033" y="3577"/>
                </a:lnTo>
                <a:lnTo>
                  <a:pt x="16766" y="3796"/>
                </a:lnTo>
                <a:lnTo>
                  <a:pt x="16571" y="3967"/>
                </a:lnTo>
                <a:lnTo>
                  <a:pt x="16352" y="4186"/>
                </a:lnTo>
                <a:lnTo>
                  <a:pt x="15963" y="3869"/>
                </a:lnTo>
                <a:lnTo>
                  <a:pt x="15573" y="3577"/>
                </a:lnTo>
                <a:lnTo>
                  <a:pt x="15744" y="3310"/>
                </a:lnTo>
                <a:lnTo>
                  <a:pt x="15938" y="3066"/>
                </a:lnTo>
                <a:lnTo>
                  <a:pt x="16036" y="2945"/>
                </a:lnTo>
                <a:close/>
                <a:moveTo>
                  <a:pt x="8736" y="5645"/>
                </a:moveTo>
                <a:lnTo>
                  <a:pt x="8833" y="5743"/>
                </a:lnTo>
                <a:lnTo>
                  <a:pt x="8809" y="5791"/>
                </a:lnTo>
                <a:lnTo>
                  <a:pt x="8736" y="5645"/>
                </a:lnTo>
                <a:close/>
                <a:moveTo>
                  <a:pt x="9831" y="3407"/>
                </a:moveTo>
                <a:lnTo>
                  <a:pt x="9588" y="3431"/>
                </a:lnTo>
                <a:lnTo>
                  <a:pt x="9369" y="3456"/>
                </a:lnTo>
                <a:lnTo>
                  <a:pt x="9150" y="3529"/>
                </a:lnTo>
                <a:lnTo>
                  <a:pt x="8931" y="3602"/>
                </a:lnTo>
                <a:lnTo>
                  <a:pt x="8736" y="3723"/>
                </a:lnTo>
                <a:lnTo>
                  <a:pt x="8517" y="3894"/>
                </a:lnTo>
                <a:lnTo>
                  <a:pt x="8298" y="4113"/>
                </a:lnTo>
                <a:lnTo>
                  <a:pt x="8128" y="4356"/>
                </a:lnTo>
                <a:lnTo>
                  <a:pt x="7982" y="4648"/>
                </a:lnTo>
                <a:lnTo>
                  <a:pt x="7884" y="4940"/>
                </a:lnTo>
                <a:lnTo>
                  <a:pt x="7811" y="5232"/>
                </a:lnTo>
                <a:lnTo>
                  <a:pt x="7787" y="5524"/>
                </a:lnTo>
                <a:lnTo>
                  <a:pt x="7811" y="5791"/>
                </a:lnTo>
                <a:lnTo>
                  <a:pt x="7909" y="6035"/>
                </a:lnTo>
                <a:lnTo>
                  <a:pt x="8006" y="6254"/>
                </a:lnTo>
                <a:lnTo>
                  <a:pt x="8152" y="6424"/>
                </a:lnTo>
                <a:lnTo>
                  <a:pt x="8322" y="6594"/>
                </a:lnTo>
                <a:lnTo>
                  <a:pt x="8420" y="6740"/>
                </a:lnTo>
                <a:lnTo>
                  <a:pt x="8541" y="6862"/>
                </a:lnTo>
                <a:lnTo>
                  <a:pt x="8663" y="6959"/>
                </a:lnTo>
                <a:lnTo>
                  <a:pt x="8809" y="7057"/>
                </a:lnTo>
                <a:lnTo>
                  <a:pt x="8955" y="7130"/>
                </a:lnTo>
                <a:lnTo>
                  <a:pt x="9125" y="7203"/>
                </a:lnTo>
                <a:lnTo>
                  <a:pt x="9296" y="7251"/>
                </a:lnTo>
                <a:lnTo>
                  <a:pt x="9466" y="7276"/>
                </a:lnTo>
                <a:lnTo>
                  <a:pt x="9636" y="7276"/>
                </a:lnTo>
                <a:lnTo>
                  <a:pt x="9807" y="7251"/>
                </a:lnTo>
                <a:lnTo>
                  <a:pt x="9953" y="7227"/>
                </a:lnTo>
                <a:lnTo>
                  <a:pt x="10099" y="7178"/>
                </a:lnTo>
                <a:lnTo>
                  <a:pt x="10245" y="7105"/>
                </a:lnTo>
                <a:lnTo>
                  <a:pt x="10391" y="7032"/>
                </a:lnTo>
                <a:lnTo>
                  <a:pt x="10512" y="6959"/>
                </a:lnTo>
                <a:lnTo>
                  <a:pt x="10634" y="6838"/>
                </a:lnTo>
                <a:lnTo>
                  <a:pt x="10683" y="6838"/>
                </a:lnTo>
                <a:lnTo>
                  <a:pt x="10902" y="6667"/>
                </a:lnTo>
                <a:lnTo>
                  <a:pt x="11121" y="6473"/>
                </a:lnTo>
                <a:lnTo>
                  <a:pt x="11291" y="6254"/>
                </a:lnTo>
                <a:lnTo>
                  <a:pt x="11413" y="5986"/>
                </a:lnTo>
                <a:lnTo>
                  <a:pt x="11510" y="5718"/>
                </a:lnTo>
                <a:lnTo>
                  <a:pt x="11583" y="5427"/>
                </a:lnTo>
                <a:lnTo>
                  <a:pt x="11607" y="5159"/>
                </a:lnTo>
                <a:lnTo>
                  <a:pt x="11583" y="4891"/>
                </a:lnTo>
                <a:lnTo>
                  <a:pt x="11559" y="4697"/>
                </a:lnTo>
                <a:lnTo>
                  <a:pt x="11534" y="4745"/>
                </a:lnTo>
                <a:lnTo>
                  <a:pt x="11486" y="4818"/>
                </a:lnTo>
                <a:lnTo>
                  <a:pt x="11413" y="4891"/>
                </a:lnTo>
                <a:lnTo>
                  <a:pt x="11340" y="4964"/>
                </a:lnTo>
                <a:lnTo>
                  <a:pt x="11242" y="5013"/>
                </a:lnTo>
                <a:lnTo>
                  <a:pt x="11145" y="5062"/>
                </a:lnTo>
                <a:lnTo>
                  <a:pt x="11048" y="5086"/>
                </a:lnTo>
                <a:lnTo>
                  <a:pt x="10950" y="5086"/>
                </a:lnTo>
                <a:lnTo>
                  <a:pt x="10780" y="5062"/>
                </a:lnTo>
                <a:lnTo>
                  <a:pt x="10610" y="5013"/>
                </a:lnTo>
                <a:lnTo>
                  <a:pt x="10537" y="4964"/>
                </a:lnTo>
                <a:lnTo>
                  <a:pt x="10488" y="4916"/>
                </a:lnTo>
                <a:lnTo>
                  <a:pt x="10391" y="4770"/>
                </a:lnTo>
                <a:lnTo>
                  <a:pt x="10318" y="4624"/>
                </a:lnTo>
                <a:lnTo>
                  <a:pt x="10293" y="4453"/>
                </a:lnTo>
                <a:lnTo>
                  <a:pt x="10293" y="4356"/>
                </a:lnTo>
                <a:lnTo>
                  <a:pt x="10318" y="4259"/>
                </a:lnTo>
                <a:lnTo>
                  <a:pt x="10366" y="4161"/>
                </a:lnTo>
                <a:lnTo>
                  <a:pt x="10415" y="4088"/>
                </a:lnTo>
                <a:lnTo>
                  <a:pt x="10561" y="3942"/>
                </a:lnTo>
                <a:lnTo>
                  <a:pt x="10731" y="3845"/>
                </a:lnTo>
                <a:lnTo>
                  <a:pt x="10756" y="3821"/>
                </a:lnTo>
                <a:lnTo>
                  <a:pt x="10829" y="3772"/>
                </a:lnTo>
                <a:lnTo>
                  <a:pt x="10877" y="3748"/>
                </a:lnTo>
                <a:lnTo>
                  <a:pt x="10707" y="3650"/>
                </a:lnTo>
                <a:lnTo>
                  <a:pt x="10512" y="3553"/>
                </a:lnTo>
                <a:lnTo>
                  <a:pt x="10269" y="3480"/>
                </a:lnTo>
                <a:lnTo>
                  <a:pt x="10050" y="3431"/>
                </a:lnTo>
                <a:lnTo>
                  <a:pt x="9831" y="3407"/>
                </a:lnTo>
                <a:close/>
                <a:moveTo>
                  <a:pt x="10050" y="2215"/>
                </a:moveTo>
                <a:lnTo>
                  <a:pt x="10391" y="2239"/>
                </a:lnTo>
                <a:lnTo>
                  <a:pt x="10439" y="2385"/>
                </a:lnTo>
                <a:lnTo>
                  <a:pt x="10488" y="2580"/>
                </a:lnTo>
                <a:lnTo>
                  <a:pt x="10512" y="2677"/>
                </a:lnTo>
                <a:lnTo>
                  <a:pt x="10585" y="2774"/>
                </a:lnTo>
                <a:lnTo>
                  <a:pt x="10610" y="2799"/>
                </a:lnTo>
                <a:lnTo>
                  <a:pt x="10683" y="2799"/>
                </a:lnTo>
                <a:lnTo>
                  <a:pt x="10707" y="2774"/>
                </a:lnTo>
                <a:lnTo>
                  <a:pt x="10780" y="2653"/>
                </a:lnTo>
                <a:lnTo>
                  <a:pt x="10829" y="2531"/>
                </a:lnTo>
                <a:lnTo>
                  <a:pt x="10829" y="2409"/>
                </a:lnTo>
                <a:lnTo>
                  <a:pt x="10829" y="2263"/>
                </a:lnTo>
                <a:lnTo>
                  <a:pt x="11291" y="2336"/>
                </a:lnTo>
                <a:lnTo>
                  <a:pt x="11315" y="2482"/>
                </a:lnTo>
                <a:lnTo>
                  <a:pt x="11388" y="2604"/>
                </a:lnTo>
                <a:lnTo>
                  <a:pt x="11461" y="2653"/>
                </a:lnTo>
                <a:lnTo>
                  <a:pt x="11559" y="2677"/>
                </a:lnTo>
                <a:lnTo>
                  <a:pt x="11607" y="2677"/>
                </a:lnTo>
                <a:lnTo>
                  <a:pt x="11656" y="2653"/>
                </a:lnTo>
                <a:lnTo>
                  <a:pt x="11680" y="2604"/>
                </a:lnTo>
                <a:lnTo>
                  <a:pt x="11705" y="2555"/>
                </a:lnTo>
                <a:lnTo>
                  <a:pt x="11729" y="2434"/>
                </a:lnTo>
                <a:lnTo>
                  <a:pt x="12264" y="2580"/>
                </a:lnTo>
                <a:lnTo>
                  <a:pt x="12191" y="2677"/>
                </a:lnTo>
                <a:lnTo>
                  <a:pt x="12143" y="2774"/>
                </a:lnTo>
                <a:lnTo>
                  <a:pt x="12118" y="2896"/>
                </a:lnTo>
                <a:lnTo>
                  <a:pt x="12118" y="2969"/>
                </a:lnTo>
                <a:lnTo>
                  <a:pt x="12118" y="3018"/>
                </a:lnTo>
                <a:lnTo>
                  <a:pt x="12143" y="3066"/>
                </a:lnTo>
                <a:lnTo>
                  <a:pt x="12216" y="3091"/>
                </a:lnTo>
                <a:lnTo>
                  <a:pt x="12264" y="3091"/>
                </a:lnTo>
                <a:lnTo>
                  <a:pt x="12289" y="3066"/>
                </a:lnTo>
                <a:lnTo>
                  <a:pt x="12362" y="2993"/>
                </a:lnTo>
                <a:lnTo>
                  <a:pt x="12483" y="2847"/>
                </a:lnTo>
                <a:lnTo>
                  <a:pt x="12581" y="2726"/>
                </a:lnTo>
                <a:lnTo>
                  <a:pt x="12654" y="2750"/>
                </a:lnTo>
                <a:lnTo>
                  <a:pt x="12800" y="2750"/>
                </a:lnTo>
                <a:lnTo>
                  <a:pt x="13092" y="2872"/>
                </a:lnTo>
                <a:lnTo>
                  <a:pt x="13165" y="2945"/>
                </a:lnTo>
                <a:lnTo>
                  <a:pt x="12946" y="3066"/>
                </a:lnTo>
                <a:lnTo>
                  <a:pt x="12751" y="3212"/>
                </a:lnTo>
                <a:lnTo>
                  <a:pt x="12581" y="3383"/>
                </a:lnTo>
                <a:lnTo>
                  <a:pt x="12508" y="3480"/>
                </a:lnTo>
                <a:lnTo>
                  <a:pt x="12483" y="3577"/>
                </a:lnTo>
                <a:lnTo>
                  <a:pt x="12483" y="3650"/>
                </a:lnTo>
                <a:lnTo>
                  <a:pt x="12508" y="3699"/>
                </a:lnTo>
                <a:lnTo>
                  <a:pt x="12556" y="3748"/>
                </a:lnTo>
                <a:lnTo>
                  <a:pt x="12629" y="3748"/>
                </a:lnTo>
                <a:lnTo>
                  <a:pt x="12727" y="3699"/>
                </a:lnTo>
                <a:lnTo>
                  <a:pt x="12824" y="3650"/>
                </a:lnTo>
                <a:lnTo>
                  <a:pt x="12994" y="3529"/>
                </a:lnTo>
                <a:lnTo>
                  <a:pt x="13335" y="3310"/>
                </a:lnTo>
                <a:lnTo>
                  <a:pt x="13408" y="3602"/>
                </a:lnTo>
                <a:lnTo>
                  <a:pt x="13457" y="3845"/>
                </a:lnTo>
                <a:lnTo>
                  <a:pt x="13481" y="3991"/>
                </a:lnTo>
                <a:lnTo>
                  <a:pt x="13213" y="4015"/>
                </a:lnTo>
                <a:lnTo>
                  <a:pt x="12970" y="4064"/>
                </a:lnTo>
                <a:lnTo>
                  <a:pt x="12873" y="4137"/>
                </a:lnTo>
                <a:lnTo>
                  <a:pt x="12775" y="4186"/>
                </a:lnTo>
                <a:lnTo>
                  <a:pt x="12702" y="4283"/>
                </a:lnTo>
                <a:lnTo>
                  <a:pt x="12678" y="4380"/>
                </a:lnTo>
                <a:lnTo>
                  <a:pt x="12678" y="4429"/>
                </a:lnTo>
                <a:lnTo>
                  <a:pt x="12702" y="4453"/>
                </a:lnTo>
                <a:lnTo>
                  <a:pt x="12800" y="4502"/>
                </a:lnTo>
                <a:lnTo>
                  <a:pt x="12897" y="4502"/>
                </a:lnTo>
                <a:lnTo>
                  <a:pt x="13116" y="4478"/>
                </a:lnTo>
                <a:lnTo>
                  <a:pt x="13530" y="4429"/>
                </a:lnTo>
                <a:lnTo>
                  <a:pt x="13554" y="4891"/>
                </a:lnTo>
                <a:lnTo>
                  <a:pt x="13554" y="5354"/>
                </a:lnTo>
                <a:lnTo>
                  <a:pt x="13432" y="5354"/>
                </a:lnTo>
                <a:lnTo>
                  <a:pt x="13092" y="5329"/>
                </a:lnTo>
                <a:lnTo>
                  <a:pt x="12897" y="5305"/>
                </a:lnTo>
                <a:lnTo>
                  <a:pt x="12727" y="5329"/>
                </a:lnTo>
                <a:lnTo>
                  <a:pt x="12654" y="5354"/>
                </a:lnTo>
                <a:lnTo>
                  <a:pt x="12629" y="5402"/>
                </a:lnTo>
                <a:lnTo>
                  <a:pt x="12605" y="5451"/>
                </a:lnTo>
                <a:lnTo>
                  <a:pt x="12654" y="5524"/>
                </a:lnTo>
                <a:lnTo>
                  <a:pt x="12800" y="5621"/>
                </a:lnTo>
                <a:lnTo>
                  <a:pt x="12946" y="5670"/>
                </a:lnTo>
                <a:lnTo>
                  <a:pt x="13116" y="5718"/>
                </a:lnTo>
                <a:lnTo>
                  <a:pt x="13286" y="5743"/>
                </a:lnTo>
                <a:lnTo>
                  <a:pt x="13530" y="5767"/>
                </a:lnTo>
                <a:lnTo>
                  <a:pt x="13505" y="6059"/>
                </a:lnTo>
                <a:lnTo>
                  <a:pt x="13457" y="6424"/>
                </a:lnTo>
                <a:lnTo>
                  <a:pt x="13189" y="6302"/>
                </a:lnTo>
                <a:lnTo>
                  <a:pt x="12897" y="6205"/>
                </a:lnTo>
                <a:lnTo>
                  <a:pt x="12727" y="6181"/>
                </a:lnTo>
                <a:lnTo>
                  <a:pt x="12459" y="6181"/>
                </a:lnTo>
                <a:lnTo>
                  <a:pt x="12313" y="6205"/>
                </a:lnTo>
                <a:lnTo>
                  <a:pt x="12264" y="6254"/>
                </a:lnTo>
                <a:lnTo>
                  <a:pt x="12264" y="6302"/>
                </a:lnTo>
                <a:lnTo>
                  <a:pt x="12289" y="6327"/>
                </a:lnTo>
                <a:lnTo>
                  <a:pt x="12435" y="6424"/>
                </a:lnTo>
                <a:lnTo>
                  <a:pt x="12581" y="6497"/>
                </a:lnTo>
                <a:lnTo>
                  <a:pt x="12873" y="6667"/>
                </a:lnTo>
                <a:lnTo>
                  <a:pt x="13116" y="6765"/>
                </a:lnTo>
                <a:lnTo>
                  <a:pt x="13359" y="6862"/>
                </a:lnTo>
                <a:lnTo>
                  <a:pt x="13213" y="7203"/>
                </a:lnTo>
                <a:lnTo>
                  <a:pt x="13067" y="7519"/>
                </a:lnTo>
                <a:lnTo>
                  <a:pt x="12824" y="7397"/>
                </a:lnTo>
                <a:lnTo>
                  <a:pt x="12581" y="7300"/>
                </a:lnTo>
                <a:lnTo>
                  <a:pt x="12264" y="7130"/>
                </a:lnTo>
                <a:lnTo>
                  <a:pt x="11972" y="6984"/>
                </a:lnTo>
                <a:lnTo>
                  <a:pt x="11924" y="6984"/>
                </a:lnTo>
                <a:lnTo>
                  <a:pt x="11899" y="7008"/>
                </a:lnTo>
                <a:lnTo>
                  <a:pt x="11875" y="7057"/>
                </a:lnTo>
                <a:lnTo>
                  <a:pt x="11899" y="7081"/>
                </a:lnTo>
                <a:lnTo>
                  <a:pt x="11972" y="7251"/>
                </a:lnTo>
                <a:lnTo>
                  <a:pt x="12070" y="7373"/>
                </a:lnTo>
                <a:lnTo>
                  <a:pt x="12191" y="7470"/>
                </a:lnTo>
                <a:lnTo>
                  <a:pt x="12337" y="7592"/>
                </a:lnTo>
                <a:lnTo>
                  <a:pt x="12556" y="7738"/>
                </a:lnTo>
                <a:lnTo>
                  <a:pt x="12824" y="7884"/>
                </a:lnTo>
                <a:lnTo>
                  <a:pt x="12605" y="8127"/>
                </a:lnTo>
                <a:lnTo>
                  <a:pt x="12410" y="8322"/>
                </a:lnTo>
                <a:lnTo>
                  <a:pt x="12410" y="8225"/>
                </a:lnTo>
                <a:lnTo>
                  <a:pt x="12386" y="8176"/>
                </a:lnTo>
                <a:lnTo>
                  <a:pt x="12313" y="8103"/>
                </a:lnTo>
                <a:lnTo>
                  <a:pt x="12045" y="7933"/>
                </a:lnTo>
                <a:lnTo>
                  <a:pt x="11899" y="7835"/>
                </a:lnTo>
                <a:lnTo>
                  <a:pt x="11778" y="7738"/>
                </a:lnTo>
                <a:lnTo>
                  <a:pt x="11680" y="7616"/>
                </a:lnTo>
                <a:lnTo>
                  <a:pt x="11583" y="7519"/>
                </a:lnTo>
                <a:lnTo>
                  <a:pt x="11437" y="7446"/>
                </a:lnTo>
                <a:lnTo>
                  <a:pt x="11388" y="7422"/>
                </a:lnTo>
                <a:lnTo>
                  <a:pt x="11291" y="7422"/>
                </a:lnTo>
                <a:lnTo>
                  <a:pt x="11267" y="7446"/>
                </a:lnTo>
                <a:lnTo>
                  <a:pt x="11267" y="7519"/>
                </a:lnTo>
                <a:lnTo>
                  <a:pt x="11267" y="7592"/>
                </a:lnTo>
                <a:lnTo>
                  <a:pt x="11340" y="7738"/>
                </a:lnTo>
                <a:lnTo>
                  <a:pt x="11437" y="7860"/>
                </a:lnTo>
                <a:lnTo>
                  <a:pt x="11534" y="7981"/>
                </a:lnTo>
                <a:lnTo>
                  <a:pt x="11656" y="8127"/>
                </a:lnTo>
                <a:lnTo>
                  <a:pt x="11826" y="8273"/>
                </a:lnTo>
                <a:lnTo>
                  <a:pt x="11972" y="8371"/>
                </a:lnTo>
                <a:lnTo>
                  <a:pt x="12167" y="8444"/>
                </a:lnTo>
                <a:lnTo>
                  <a:pt x="12240" y="8468"/>
                </a:lnTo>
                <a:lnTo>
                  <a:pt x="12289" y="8444"/>
                </a:lnTo>
                <a:lnTo>
                  <a:pt x="12021" y="8663"/>
                </a:lnTo>
                <a:lnTo>
                  <a:pt x="11705" y="8833"/>
                </a:lnTo>
                <a:lnTo>
                  <a:pt x="11388" y="9003"/>
                </a:lnTo>
                <a:lnTo>
                  <a:pt x="11048" y="9125"/>
                </a:lnTo>
                <a:lnTo>
                  <a:pt x="11072" y="9028"/>
                </a:lnTo>
                <a:lnTo>
                  <a:pt x="11072" y="8979"/>
                </a:lnTo>
                <a:lnTo>
                  <a:pt x="11048" y="8906"/>
                </a:lnTo>
                <a:lnTo>
                  <a:pt x="10999" y="8736"/>
                </a:lnTo>
                <a:lnTo>
                  <a:pt x="10926" y="8565"/>
                </a:lnTo>
                <a:lnTo>
                  <a:pt x="10853" y="8225"/>
                </a:lnTo>
                <a:lnTo>
                  <a:pt x="10780" y="7957"/>
                </a:lnTo>
                <a:lnTo>
                  <a:pt x="10731" y="7835"/>
                </a:lnTo>
                <a:lnTo>
                  <a:pt x="10683" y="7811"/>
                </a:lnTo>
                <a:lnTo>
                  <a:pt x="10634" y="7762"/>
                </a:lnTo>
                <a:lnTo>
                  <a:pt x="10585" y="7762"/>
                </a:lnTo>
                <a:lnTo>
                  <a:pt x="10537" y="7787"/>
                </a:lnTo>
                <a:lnTo>
                  <a:pt x="10488" y="7835"/>
                </a:lnTo>
                <a:lnTo>
                  <a:pt x="10464" y="7908"/>
                </a:lnTo>
                <a:lnTo>
                  <a:pt x="10439" y="8030"/>
                </a:lnTo>
                <a:lnTo>
                  <a:pt x="10464" y="8176"/>
                </a:lnTo>
                <a:lnTo>
                  <a:pt x="10464" y="8322"/>
                </a:lnTo>
                <a:lnTo>
                  <a:pt x="10561" y="8736"/>
                </a:lnTo>
                <a:lnTo>
                  <a:pt x="10610" y="8930"/>
                </a:lnTo>
                <a:lnTo>
                  <a:pt x="10707" y="9125"/>
                </a:lnTo>
                <a:lnTo>
                  <a:pt x="10731" y="9174"/>
                </a:lnTo>
                <a:lnTo>
                  <a:pt x="10780" y="9198"/>
                </a:lnTo>
                <a:lnTo>
                  <a:pt x="10391" y="9247"/>
                </a:lnTo>
                <a:lnTo>
                  <a:pt x="10147" y="9271"/>
                </a:lnTo>
                <a:lnTo>
                  <a:pt x="9636" y="9271"/>
                </a:lnTo>
                <a:lnTo>
                  <a:pt x="9393" y="9247"/>
                </a:lnTo>
                <a:lnTo>
                  <a:pt x="9442" y="9198"/>
                </a:lnTo>
                <a:lnTo>
                  <a:pt x="9490" y="9149"/>
                </a:lnTo>
                <a:lnTo>
                  <a:pt x="9588" y="8833"/>
                </a:lnTo>
                <a:lnTo>
                  <a:pt x="9661" y="8517"/>
                </a:lnTo>
                <a:lnTo>
                  <a:pt x="9685" y="8371"/>
                </a:lnTo>
                <a:lnTo>
                  <a:pt x="9661" y="8225"/>
                </a:lnTo>
                <a:lnTo>
                  <a:pt x="9612" y="7957"/>
                </a:lnTo>
                <a:lnTo>
                  <a:pt x="9588" y="7908"/>
                </a:lnTo>
                <a:lnTo>
                  <a:pt x="9515" y="7908"/>
                </a:lnTo>
                <a:lnTo>
                  <a:pt x="9490" y="7957"/>
                </a:lnTo>
                <a:lnTo>
                  <a:pt x="9442" y="8054"/>
                </a:lnTo>
                <a:lnTo>
                  <a:pt x="9393" y="8176"/>
                </a:lnTo>
                <a:lnTo>
                  <a:pt x="9296" y="8419"/>
                </a:lnTo>
                <a:lnTo>
                  <a:pt x="9198" y="8711"/>
                </a:lnTo>
                <a:lnTo>
                  <a:pt x="9125" y="9003"/>
                </a:lnTo>
                <a:lnTo>
                  <a:pt x="9125" y="9052"/>
                </a:lnTo>
                <a:lnTo>
                  <a:pt x="9150" y="9125"/>
                </a:lnTo>
                <a:lnTo>
                  <a:pt x="9174" y="9174"/>
                </a:lnTo>
                <a:lnTo>
                  <a:pt x="9223" y="9222"/>
                </a:lnTo>
                <a:lnTo>
                  <a:pt x="8931" y="9149"/>
                </a:lnTo>
                <a:lnTo>
                  <a:pt x="8614" y="9052"/>
                </a:lnTo>
                <a:lnTo>
                  <a:pt x="8322" y="8930"/>
                </a:lnTo>
                <a:lnTo>
                  <a:pt x="8055" y="8809"/>
                </a:lnTo>
                <a:lnTo>
                  <a:pt x="8103" y="8663"/>
                </a:lnTo>
                <a:lnTo>
                  <a:pt x="8152" y="8492"/>
                </a:lnTo>
                <a:lnTo>
                  <a:pt x="8249" y="8346"/>
                </a:lnTo>
                <a:lnTo>
                  <a:pt x="8347" y="8200"/>
                </a:lnTo>
                <a:lnTo>
                  <a:pt x="8541" y="7884"/>
                </a:lnTo>
                <a:lnTo>
                  <a:pt x="8541" y="7835"/>
                </a:lnTo>
                <a:lnTo>
                  <a:pt x="8517" y="7762"/>
                </a:lnTo>
                <a:lnTo>
                  <a:pt x="8468" y="7738"/>
                </a:lnTo>
                <a:lnTo>
                  <a:pt x="8420" y="7738"/>
                </a:lnTo>
                <a:lnTo>
                  <a:pt x="8249" y="7811"/>
                </a:lnTo>
                <a:lnTo>
                  <a:pt x="8128" y="7933"/>
                </a:lnTo>
                <a:lnTo>
                  <a:pt x="8006" y="8054"/>
                </a:lnTo>
                <a:lnTo>
                  <a:pt x="7909" y="8200"/>
                </a:lnTo>
                <a:lnTo>
                  <a:pt x="7787" y="8371"/>
                </a:lnTo>
                <a:lnTo>
                  <a:pt x="7690" y="8590"/>
                </a:lnTo>
                <a:lnTo>
                  <a:pt x="7446" y="8419"/>
                </a:lnTo>
                <a:lnTo>
                  <a:pt x="7203" y="8200"/>
                </a:lnTo>
                <a:lnTo>
                  <a:pt x="7276" y="8030"/>
                </a:lnTo>
                <a:lnTo>
                  <a:pt x="7398" y="7884"/>
                </a:lnTo>
                <a:lnTo>
                  <a:pt x="7592" y="7592"/>
                </a:lnTo>
                <a:lnTo>
                  <a:pt x="7811" y="7300"/>
                </a:lnTo>
                <a:lnTo>
                  <a:pt x="7811" y="7251"/>
                </a:lnTo>
                <a:lnTo>
                  <a:pt x="7811" y="7203"/>
                </a:lnTo>
                <a:lnTo>
                  <a:pt x="7763" y="7154"/>
                </a:lnTo>
                <a:lnTo>
                  <a:pt x="7714" y="7154"/>
                </a:lnTo>
                <a:lnTo>
                  <a:pt x="7519" y="7251"/>
                </a:lnTo>
                <a:lnTo>
                  <a:pt x="7349" y="7349"/>
                </a:lnTo>
                <a:lnTo>
                  <a:pt x="7203" y="7470"/>
                </a:lnTo>
                <a:lnTo>
                  <a:pt x="7057" y="7616"/>
                </a:lnTo>
                <a:lnTo>
                  <a:pt x="6984" y="7738"/>
                </a:lnTo>
                <a:lnTo>
                  <a:pt x="6887" y="7860"/>
                </a:lnTo>
                <a:lnTo>
                  <a:pt x="6717" y="7616"/>
                </a:lnTo>
                <a:lnTo>
                  <a:pt x="6571" y="7349"/>
                </a:lnTo>
                <a:lnTo>
                  <a:pt x="6790" y="7154"/>
                </a:lnTo>
                <a:lnTo>
                  <a:pt x="7057" y="6935"/>
                </a:lnTo>
                <a:lnTo>
                  <a:pt x="7203" y="6813"/>
                </a:lnTo>
                <a:lnTo>
                  <a:pt x="7301" y="6692"/>
                </a:lnTo>
                <a:lnTo>
                  <a:pt x="7301" y="6643"/>
                </a:lnTo>
                <a:lnTo>
                  <a:pt x="7082" y="6643"/>
                </a:lnTo>
                <a:lnTo>
                  <a:pt x="6863" y="6716"/>
                </a:lnTo>
                <a:lnTo>
                  <a:pt x="6668" y="6789"/>
                </a:lnTo>
                <a:lnTo>
                  <a:pt x="6498" y="6886"/>
                </a:lnTo>
                <a:lnTo>
                  <a:pt x="6425" y="6935"/>
                </a:lnTo>
                <a:lnTo>
                  <a:pt x="6400" y="6862"/>
                </a:lnTo>
                <a:lnTo>
                  <a:pt x="6327" y="6473"/>
                </a:lnTo>
                <a:lnTo>
                  <a:pt x="6644" y="6278"/>
                </a:lnTo>
                <a:lnTo>
                  <a:pt x="6936" y="6083"/>
                </a:lnTo>
                <a:lnTo>
                  <a:pt x="7082" y="5986"/>
                </a:lnTo>
                <a:lnTo>
                  <a:pt x="7179" y="5840"/>
                </a:lnTo>
                <a:lnTo>
                  <a:pt x="7179" y="5791"/>
                </a:lnTo>
                <a:lnTo>
                  <a:pt x="6960" y="5791"/>
                </a:lnTo>
                <a:lnTo>
                  <a:pt x="6790" y="5816"/>
                </a:lnTo>
                <a:lnTo>
                  <a:pt x="6619" y="5864"/>
                </a:lnTo>
                <a:lnTo>
                  <a:pt x="6449" y="5937"/>
                </a:lnTo>
                <a:lnTo>
                  <a:pt x="6279" y="5986"/>
                </a:lnTo>
                <a:lnTo>
                  <a:pt x="6279" y="5718"/>
                </a:lnTo>
                <a:lnTo>
                  <a:pt x="6303" y="5451"/>
                </a:lnTo>
                <a:lnTo>
                  <a:pt x="6498" y="5329"/>
                </a:lnTo>
                <a:lnTo>
                  <a:pt x="6692" y="5232"/>
                </a:lnTo>
                <a:lnTo>
                  <a:pt x="6984" y="5062"/>
                </a:lnTo>
                <a:lnTo>
                  <a:pt x="7106" y="4964"/>
                </a:lnTo>
                <a:lnTo>
                  <a:pt x="7203" y="4818"/>
                </a:lnTo>
                <a:lnTo>
                  <a:pt x="7228" y="4794"/>
                </a:lnTo>
                <a:lnTo>
                  <a:pt x="7203" y="4770"/>
                </a:lnTo>
                <a:lnTo>
                  <a:pt x="7203" y="4721"/>
                </a:lnTo>
                <a:lnTo>
                  <a:pt x="7155" y="4721"/>
                </a:lnTo>
                <a:lnTo>
                  <a:pt x="7009" y="4697"/>
                </a:lnTo>
                <a:lnTo>
                  <a:pt x="6838" y="4721"/>
                </a:lnTo>
                <a:lnTo>
                  <a:pt x="6692" y="4770"/>
                </a:lnTo>
                <a:lnTo>
                  <a:pt x="6546" y="4818"/>
                </a:lnTo>
                <a:lnTo>
                  <a:pt x="6376" y="4891"/>
                </a:lnTo>
                <a:lnTo>
                  <a:pt x="6522" y="4356"/>
                </a:lnTo>
                <a:lnTo>
                  <a:pt x="6522" y="4332"/>
                </a:lnTo>
                <a:lnTo>
                  <a:pt x="6741" y="4283"/>
                </a:lnTo>
                <a:lnTo>
                  <a:pt x="7057" y="4210"/>
                </a:lnTo>
                <a:lnTo>
                  <a:pt x="7203" y="4161"/>
                </a:lnTo>
                <a:lnTo>
                  <a:pt x="7276" y="4113"/>
                </a:lnTo>
                <a:lnTo>
                  <a:pt x="7325" y="4064"/>
                </a:lnTo>
                <a:lnTo>
                  <a:pt x="7349" y="4015"/>
                </a:lnTo>
                <a:lnTo>
                  <a:pt x="7325" y="3942"/>
                </a:lnTo>
                <a:lnTo>
                  <a:pt x="7276" y="3894"/>
                </a:lnTo>
                <a:lnTo>
                  <a:pt x="7203" y="3869"/>
                </a:lnTo>
                <a:lnTo>
                  <a:pt x="7057" y="3845"/>
                </a:lnTo>
                <a:lnTo>
                  <a:pt x="6717" y="3845"/>
                </a:lnTo>
                <a:lnTo>
                  <a:pt x="6887" y="3577"/>
                </a:lnTo>
                <a:lnTo>
                  <a:pt x="7106" y="3310"/>
                </a:lnTo>
                <a:lnTo>
                  <a:pt x="7203" y="3188"/>
                </a:lnTo>
                <a:lnTo>
                  <a:pt x="7228" y="3188"/>
                </a:lnTo>
                <a:lnTo>
                  <a:pt x="7398" y="3237"/>
                </a:lnTo>
                <a:lnTo>
                  <a:pt x="7568" y="3285"/>
                </a:lnTo>
                <a:lnTo>
                  <a:pt x="7738" y="3310"/>
                </a:lnTo>
                <a:lnTo>
                  <a:pt x="7933" y="3334"/>
                </a:lnTo>
                <a:lnTo>
                  <a:pt x="7982" y="3310"/>
                </a:lnTo>
                <a:lnTo>
                  <a:pt x="8006" y="3285"/>
                </a:lnTo>
                <a:lnTo>
                  <a:pt x="8030" y="3237"/>
                </a:lnTo>
                <a:lnTo>
                  <a:pt x="8006" y="3164"/>
                </a:lnTo>
                <a:lnTo>
                  <a:pt x="7933" y="3091"/>
                </a:lnTo>
                <a:lnTo>
                  <a:pt x="7860" y="2993"/>
                </a:lnTo>
                <a:lnTo>
                  <a:pt x="7763" y="2920"/>
                </a:lnTo>
                <a:lnTo>
                  <a:pt x="7641" y="2872"/>
                </a:lnTo>
                <a:lnTo>
                  <a:pt x="7982" y="2653"/>
                </a:lnTo>
                <a:lnTo>
                  <a:pt x="8006" y="2604"/>
                </a:lnTo>
                <a:lnTo>
                  <a:pt x="8006" y="2555"/>
                </a:lnTo>
                <a:lnTo>
                  <a:pt x="8322" y="2458"/>
                </a:lnTo>
                <a:lnTo>
                  <a:pt x="8371" y="2531"/>
                </a:lnTo>
                <a:lnTo>
                  <a:pt x="8468" y="2628"/>
                </a:lnTo>
                <a:lnTo>
                  <a:pt x="8590" y="2701"/>
                </a:lnTo>
                <a:lnTo>
                  <a:pt x="8687" y="2750"/>
                </a:lnTo>
                <a:lnTo>
                  <a:pt x="8809" y="2823"/>
                </a:lnTo>
                <a:lnTo>
                  <a:pt x="8833" y="2823"/>
                </a:lnTo>
                <a:lnTo>
                  <a:pt x="8858" y="2799"/>
                </a:lnTo>
                <a:lnTo>
                  <a:pt x="8882" y="2774"/>
                </a:lnTo>
                <a:lnTo>
                  <a:pt x="8882" y="2750"/>
                </a:lnTo>
                <a:lnTo>
                  <a:pt x="8833" y="2653"/>
                </a:lnTo>
                <a:lnTo>
                  <a:pt x="8809" y="2531"/>
                </a:lnTo>
                <a:lnTo>
                  <a:pt x="8712" y="2361"/>
                </a:lnTo>
                <a:lnTo>
                  <a:pt x="9296" y="2263"/>
                </a:lnTo>
                <a:lnTo>
                  <a:pt x="9296" y="2288"/>
                </a:lnTo>
                <a:lnTo>
                  <a:pt x="9369" y="2482"/>
                </a:lnTo>
                <a:lnTo>
                  <a:pt x="9393" y="2555"/>
                </a:lnTo>
                <a:lnTo>
                  <a:pt x="9466" y="2628"/>
                </a:lnTo>
                <a:lnTo>
                  <a:pt x="9563" y="2677"/>
                </a:lnTo>
                <a:lnTo>
                  <a:pt x="9636" y="2653"/>
                </a:lnTo>
                <a:lnTo>
                  <a:pt x="9709" y="2604"/>
                </a:lnTo>
                <a:lnTo>
                  <a:pt x="9734" y="2531"/>
                </a:lnTo>
                <a:lnTo>
                  <a:pt x="9734" y="2385"/>
                </a:lnTo>
                <a:lnTo>
                  <a:pt x="9709" y="2239"/>
                </a:lnTo>
                <a:lnTo>
                  <a:pt x="10050" y="2215"/>
                </a:lnTo>
                <a:close/>
                <a:moveTo>
                  <a:pt x="6595" y="3139"/>
                </a:moveTo>
                <a:lnTo>
                  <a:pt x="6449" y="3334"/>
                </a:lnTo>
                <a:lnTo>
                  <a:pt x="6327" y="3529"/>
                </a:lnTo>
                <a:lnTo>
                  <a:pt x="6206" y="3772"/>
                </a:lnTo>
                <a:lnTo>
                  <a:pt x="6084" y="4015"/>
                </a:lnTo>
                <a:lnTo>
                  <a:pt x="6035" y="4064"/>
                </a:lnTo>
                <a:lnTo>
                  <a:pt x="6011" y="4113"/>
                </a:lnTo>
                <a:lnTo>
                  <a:pt x="5987" y="4186"/>
                </a:lnTo>
                <a:lnTo>
                  <a:pt x="6011" y="4234"/>
                </a:lnTo>
                <a:lnTo>
                  <a:pt x="5889" y="4648"/>
                </a:lnTo>
                <a:lnTo>
                  <a:pt x="5816" y="5086"/>
                </a:lnTo>
                <a:lnTo>
                  <a:pt x="5768" y="5500"/>
                </a:lnTo>
                <a:lnTo>
                  <a:pt x="5743" y="5937"/>
                </a:lnTo>
                <a:lnTo>
                  <a:pt x="5768" y="6327"/>
                </a:lnTo>
                <a:lnTo>
                  <a:pt x="5816" y="6692"/>
                </a:lnTo>
                <a:lnTo>
                  <a:pt x="5889" y="7081"/>
                </a:lnTo>
                <a:lnTo>
                  <a:pt x="6011" y="7446"/>
                </a:lnTo>
                <a:lnTo>
                  <a:pt x="6011" y="7470"/>
                </a:lnTo>
                <a:lnTo>
                  <a:pt x="6011" y="7543"/>
                </a:lnTo>
                <a:lnTo>
                  <a:pt x="6084" y="7616"/>
                </a:lnTo>
                <a:lnTo>
                  <a:pt x="6206" y="7860"/>
                </a:lnTo>
                <a:lnTo>
                  <a:pt x="6352" y="8103"/>
                </a:lnTo>
                <a:lnTo>
                  <a:pt x="6571" y="8371"/>
                </a:lnTo>
                <a:lnTo>
                  <a:pt x="6790" y="8614"/>
                </a:lnTo>
                <a:lnTo>
                  <a:pt x="7057" y="8809"/>
                </a:lnTo>
                <a:lnTo>
                  <a:pt x="7325" y="9028"/>
                </a:lnTo>
                <a:lnTo>
                  <a:pt x="7617" y="9198"/>
                </a:lnTo>
                <a:lnTo>
                  <a:pt x="7909" y="9344"/>
                </a:lnTo>
                <a:lnTo>
                  <a:pt x="8201" y="9490"/>
                </a:lnTo>
                <a:lnTo>
                  <a:pt x="8517" y="9612"/>
                </a:lnTo>
                <a:lnTo>
                  <a:pt x="8833" y="9709"/>
                </a:lnTo>
                <a:lnTo>
                  <a:pt x="9150" y="9782"/>
                </a:lnTo>
                <a:lnTo>
                  <a:pt x="9466" y="9831"/>
                </a:lnTo>
                <a:lnTo>
                  <a:pt x="10123" y="9831"/>
                </a:lnTo>
                <a:lnTo>
                  <a:pt x="10439" y="9806"/>
                </a:lnTo>
                <a:lnTo>
                  <a:pt x="10756" y="9758"/>
                </a:lnTo>
                <a:lnTo>
                  <a:pt x="11072" y="9685"/>
                </a:lnTo>
                <a:lnTo>
                  <a:pt x="11388" y="9612"/>
                </a:lnTo>
                <a:lnTo>
                  <a:pt x="11680" y="9490"/>
                </a:lnTo>
                <a:lnTo>
                  <a:pt x="11972" y="9344"/>
                </a:lnTo>
                <a:lnTo>
                  <a:pt x="12264" y="9174"/>
                </a:lnTo>
                <a:lnTo>
                  <a:pt x="12532" y="9003"/>
                </a:lnTo>
                <a:lnTo>
                  <a:pt x="12775" y="8784"/>
                </a:lnTo>
                <a:lnTo>
                  <a:pt x="13019" y="8565"/>
                </a:lnTo>
                <a:lnTo>
                  <a:pt x="13213" y="8298"/>
                </a:lnTo>
                <a:lnTo>
                  <a:pt x="13432" y="8006"/>
                </a:lnTo>
                <a:lnTo>
                  <a:pt x="13627" y="7689"/>
                </a:lnTo>
                <a:lnTo>
                  <a:pt x="13773" y="7373"/>
                </a:lnTo>
                <a:lnTo>
                  <a:pt x="13895" y="7032"/>
                </a:lnTo>
                <a:lnTo>
                  <a:pt x="13968" y="6667"/>
                </a:lnTo>
                <a:lnTo>
                  <a:pt x="14041" y="6327"/>
                </a:lnTo>
                <a:lnTo>
                  <a:pt x="14089" y="5962"/>
                </a:lnTo>
                <a:lnTo>
                  <a:pt x="14114" y="5597"/>
                </a:lnTo>
                <a:lnTo>
                  <a:pt x="14114" y="5524"/>
                </a:lnTo>
                <a:lnTo>
                  <a:pt x="14114" y="5159"/>
                </a:lnTo>
                <a:lnTo>
                  <a:pt x="14114" y="4794"/>
                </a:lnTo>
                <a:lnTo>
                  <a:pt x="14041" y="4040"/>
                </a:lnTo>
                <a:lnTo>
                  <a:pt x="13992" y="3699"/>
                </a:lnTo>
                <a:lnTo>
                  <a:pt x="13895" y="3310"/>
                </a:lnTo>
                <a:lnTo>
                  <a:pt x="13968" y="3285"/>
                </a:lnTo>
                <a:lnTo>
                  <a:pt x="14649" y="3650"/>
                </a:lnTo>
                <a:lnTo>
                  <a:pt x="15184" y="3991"/>
                </a:lnTo>
                <a:lnTo>
                  <a:pt x="15671" y="4356"/>
                </a:lnTo>
                <a:lnTo>
                  <a:pt x="16157" y="4770"/>
                </a:lnTo>
                <a:lnTo>
                  <a:pt x="16620" y="5183"/>
                </a:lnTo>
                <a:lnTo>
                  <a:pt x="17058" y="5645"/>
                </a:lnTo>
                <a:lnTo>
                  <a:pt x="17471" y="6108"/>
                </a:lnTo>
                <a:lnTo>
                  <a:pt x="17861" y="6594"/>
                </a:lnTo>
                <a:lnTo>
                  <a:pt x="18226" y="7081"/>
                </a:lnTo>
                <a:lnTo>
                  <a:pt x="17788" y="7519"/>
                </a:lnTo>
                <a:lnTo>
                  <a:pt x="17350" y="7933"/>
                </a:lnTo>
                <a:lnTo>
                  <a:pt x="16887" y="8322"/>
                </a:lnTo>
                <a:lnTo>
                  <a:pt x="16425" y="8687"/>
                </a:lnTo>
                <a:lnTo>
                  <a:pt x="15938" y="9052"/>
                </a:lnTo>
                <a:lnTo>
                  <a:pt x="15427" y="9368"/>
                </a:lnTo>
                <a:lnTo>
                  <a:pt x="14892" y="9660"/>
                </a:lnTo>
                <a:lnTo>
                  <a:pt x="14333" y="9904"/>
                </a:lnTo>
                <a:lnTo>
                  <a:pt x="13773" y="10098"/>
                </a:lnTo>
                <a:lnTo>
                  <a:pt x="13213" y="10244"/>
                </a:lnTo>
                <a:lnTo>
                  <a:pt x="12654" y="10366"/>
                </a:lnTo>
                <a:lnTo>
                  <a:pt x="12070" y="10463"/>
                </a:lnTo>
                <a:lnTo>
                  <a:pt x="11510" y="10536"/>
                </a:lnTo>
                <a:lnTo>
                  <a:pt x="10926" y="10561"/>
                </a:lnTo>
                <a:lnTo>
                  <a:pt x="10342" y="10585"/>
                </a:lnTo>
                <a:lnTo>
                  <a:pt x="9758" y="10561"/>
                </a:lnTo>
                <a:lnTo>
                  <a:pt x="9174" y="10536"/>
                </a:lnTo>
                <a:lnTo>
                  <a:pt x="8614" y="10463"/>
                </a:lnTo>
                <a:lnTo>
                  <a:pt x="8030" y="10366"/>
                </a:lnTo>
                <a:lnTo>
                  <a:pt x="7471" y="10244"/>
                </a:lnTo>
                <a:lnTo>
                  <a:pt x="6911" y="10098"/>
                </a:lnTo>
                <a:lnTo>
                  <a:pt x="6352" y="9952"/>
                </a:lnTo>
                <a:lnTo>
                  <a:pt x="5792" y="9758"/>
                </a:lnTo>
                <a:lnTo>
                  <a:pt x="5257" y="9563"/>
                </a:lnTo>
                <a:lnTo>
                  <a:pt x="4648" y="9320"/>
                </a:lnTo>
                <a:lnTo>
                  <a:pt x="4040" y="9028"/>
                </a:lnTo>
                <a:lnTo>
                  <a:pt x="3748" y="8857"/>
                </a:lnTo>
                <a:lnTo>
                  <a:pt x="3456" y="8687"/>
                </a:lnTo>
                <a:lnTo>
                  <a:pt x="3188" y="8492"/>
                </a:lnTo>
                <a:lnTo>
                  <a:pt x="2921" y="8298"/>
                </a:lnTo>
                <a:lnTo>
                  <a:pt x="2750" y="8152"/>
                </a:lnTo>
                <a:lnTo>
                  <a:pt x="2604" y="8006"/>
                </a:lnTo>
                <a:lnTo>
                  <a:pt x="2337" y="7665"/>
                </a:lnTo>
                <a:lnTo>
                  <a:pt x="2069" y="7324"/>
                </a:lnTo>
                <a:lnTo>
                  <a:pt x="1899" y="7178"/>
                </a:lnTo>
                <a:lnTo>
                  <a:pt x="1753" y="7057"/>
                </a:lnTo>
                <a:lnTo>
                  <a:pt x="1874" y="7008"/>
                </a:lnTo>
                <a:lnTo>
                  <a:pt x="1972" y="6935"/>
                </a:lnTo>
                <a:lnTo>
                  <a:pt x="1996" y="6911"/>
                </a:lnTo>
                <a:lnTo>
                  <a:pt x="1996" y="6862"/>
                </a:lnTo>
                <a:lnTo>
                  <a:pt x="1996" y="6813"/>
                </a:lnTo>
                <a:lnTo>
                  <a:pt x="1972" y="6789"/>
                </a:lnTo>
                <a:lnTo>
                  <a:pt x="1947" y="6765"/>
                </a:lnTo>
                <a:lnTo>
                  <a:pt x="2239" y="6400"/>
                </a:lnTo>
                <a:lnTo>
                  <a:pt x="2531" y="6083"/>
                </a:lnTo>
                <a:lnTo>
                  <a:pt x="2872" y="5743"/>
                </a:lnTo>
                <a:lnTo>
                  <a:pt x="3213" y="5451"/>
                </a:lnTo>
                <a:lnTo>
                  <a:pt x="3943" y="4867"/>
                </a:lnTo>
                <a:lnTo>
                  <a:pt x="4673" y="4332"/>
                </a:lnTo>
                <a:lnTo>
                  <a:pt x="5135" y="4015"/>
                </a:lnTo>
                <a:lnTo>
                  <a:pt x="5622" y="3699"/>
                </a:lnTo>
                <a:lnTo>
                  <a:pt x="6108" y="3407"/>
                </a:lnTo>
                <a:lnTo>
                  <a:pt x="6595" y="3139"/>
                </a:lnTo>
                <a:close/>
                <a:moveTo>
                  <a:pt x="10853" y="0"/>
                </a:moveTo>
                <a:lnTo>
                  <a:pt x="10780" y="49"/>
                </a:lnTo>
                <a:lnTo>
                  <a:pt x="10707" y="171"/>
                </a:lnTo>
                <a:lnTo>
                  <a:pt x="10658" y="317"/>
                </a:lnTo>
                <a:lnTo>
                  <a:pt x="10634" y="487"/>
                </a:lnTo>
                <a:lnTo>
                  <a:pt x="10634" y="657"/>
                </a:lnTo>
                <a:lnTo>
                  <a:pt x="10099" y="633"/>
                </a:lnTo>
                <a:lnTo>
                  <a:pt x="9588" y="633"/>
                </a:lnTo>
                <a:lnTo>
                  <a:pt x="9539" y="390"/>
                </a:lnTo>
                <a:lnTo>
                  <a:pt x="9442" y="195"/>
                </a:lnTo>
                <a:lnTo>
                  <a:pt x="9393" y="146"/>
                </a:lnTo>
                <a:lnTo>
                  <a:pt x="9344" y="146"/>
                </a:lnTo>
                <a:lnTo>
                  <a:pt x="9271" y="171"/>
                </a:lnTo>
                <a:lnTo>
                  <a:pt x="9247" y="219"/>
                </a:lnTo>
                <a:lnTo>
                  <a:pt x="9198" y="414"/>
                </a:lnTo>
                <a:lnTo>
                  <a:pt x="9198" y="633"/>
                </a:lnTo>
                <a:lnTo>
                  <a:pt x="8687" y="657"/>
                </a:lnTo>
                <a:lnTo>
                  <a:pt x="8298" y="706"/>
                </a:lnTo>
                <a:lnTo>
                  <a:pt x="7933" y="779"/>
                </a:lnTo>
                <a:lnTo>
                  <a:pt x="7763" y="171"/>
                </a:lnTo>
                <a:lnTo>
                  <a:pt x="7763" y="146"/>
                </a:lnTo>
                <a:lnTo>
                  <a:pt x="7690" y="146"/>
                </a:lnTo>
                <a:lnTo>
                  <a:pt x="7617" y="317"/>
                </a:lnTo>
                <a:lnTo>
                  <a:pt x="7568" y="487"/>
                </a:lnTo>
                <a:lnTo>
                  <a:pt x="7568" y="657"/>
                </a:lnTo>
                <a:lnTo>
                  <a:pt x="7592" y="852"/>
                </a:lnTo>
                <a:lnTo>
                  <a:pt x="7009" y="998"/>
                </a:lnTo>
                <a:lnTo>
                  <a:pt x="6449" y="1168"/>
                </a:lnTo>
                <a:lnTo>
                  <a:pt x="6376" y="925"/>
                </a:lnTo>
                <a:lnTo>
                  <a:pt x="6327" y="682"/>
                </a:lnTo>
                <a:lnTo>
                  <a:pt x="6303" y="633"/>
                </a:lnTo>
                <a:lnTo>
                  <a:pt x="6230" y="609"/>
                </a:lnTo>
                <a:lnTo>
                  <a:pt x="6181" y="633"/>
                </a:lnTo>
                <a:lnTo>
                  <a:pt x="6157" y="682"/>
                </a:lnTo>
                <a:lnTo>
                  <a:pt x="6108" y="828"/>
                </a:lnTo>
                <a:lnTo>
                  <a:pt x="6084" y="998"/>
                </a:lnTo>
                <a:lnTo>
                  <a:pt x="6084" y="1144"/>
                </a:lnTo>
                <a:lnTo>
                  <a:pt x="6108" y="1290"/>
                </a:lnTo>
                <a:lnTo>
                  <a:pt x="5597" y="1509"/>
                </a:lnTo>
                <a:lnTo>
                  <a:pt x="5111" y="1728"/>
                </a:lnTo>
                <a:lnTo>
                  <a:pt x="4673" y="1947"/>
                </a:lnTo>
                <a:lnTo>
                  <a:pt x="4527" y="1631"/>
                </a:lnTo>
                <a:lnTo>
                  <a:pt x="4502" y="1631"/>
                </a:lnTo>
                <a:lnTo>
                  <a:pt x="4478" y="1606"/>
                </a:lnTo>
                <a:lnTo>
                  <a:pt x="4454" y="1631"/>
                </a:lnTo>
                <a:lnTo>
                  <a:pt x="4429" y="1655"/>
                </a:lnTo>
                <a:lnTo>
                  <a:pt x="4405" y="1874"/>
                </a:lnTo>
                <a:lnTo>
                  <a:pt x="4405" y="2093"/>
                </a:lnTo>
                <a:lnTo>
                  <a:pt x="3918" y="2385"/>
                </a:lnTo>
                <a:lnTo>
                  <a:pt x="3480" y="2701"/>
                </a:lnTo>
                <a:lnTo>
                  <a:pt x="3286" y="2872"/>
                </a:lnTo>
                <a:lnTo>
                  <a:pt x="3188" y="2628"/>
                </a:lnTo>
                <a:lnTo>
                  <a:pt x="3140" y="2531"/>
                </a:lnTo>
                <a:lnTo>
                  <a:pt x="3067" y="2434"/>
                </a:lnTo>
                <a:lnTo>
                  <a:pt x="3042" y="2434"/>
                </a:lnTo>
                <a:lnTo>
                  <a:pt x="2969" y="2482"/>
                </a:lnTo>
                <a:lnTo>
                  <a:pt x="2896" y="2555"/>
                </a:lnTo>
                <a:lnTo>
                  <a:pt x="2872" y="2653"/>
                </a:lnTo>
                <a:lnTo>
                  <a:pt x="2848" y="2726"/>
                </a:lnTo>
                <a:lnTo>
                  <a:pt x="2872" y="2823"/>
                </a:lnTo>
                <a:lnTo>
                  <a:pt x="2896" y="2920"/>
                </a:lnTo>
                <a:lnTo>
                  <a:pt x="2969" y="3139"/>
                </a:lnTo>
                <a:lnTo>
                  <a:pt x="2823" y="3285"/>
                </a:lnTo>
                <a:lnTo>
                  <a:pt x="2702" y="3456"/>
                </a:lnTo>
                <a:lnTo>
                  <a:pt x="2604" y="3650"/>
                </a:lnTo>
                <a:lnTo>
                  <a:pt x="2531" y="3845"/>
                </a:lnTo>
                <a:lnTo>
                  <a:pt x="2531" y="3894"/>
                </a:lnTo>
                <a:lnTo>
                  <a:pt x="2556" y="3942"/>
                </a:lnTo>
                <a:lnTo>
                  <a:pt x="2604" y="3991"/>
                </a:lnTo>
                <a:lnTo>
                  <a:pt x="2677" y="4015"/>
                </a:lnTo>
                <a:lnTo>
                  <a:pt x="2726" y="3991"/>
                </a:lnTo>
                <a:lnTo>
                  <a:pt x="2775" y="3967"/>
                </a:lnTo>
                <a:lnTo>
                  <a:pt x="3213" y="3529"/>
                </a:lnTo>
                <a:lnTo>
                  <a:pt x="3237" y="3577"/>
                </a:lnTo>
                <a:lnTo>
                  <a:pt x="3359" y="3723"/>
                </a:lnTo>
                <a:lnTo>
                  <a:pt x="3529" y="3869"/>
                </a:lnTo>
                <a:lnTo>
                  <a:pt x="3699" y="4040"/>
                </a:lnTo>
                <a:lnTo>
                  <a:pt x="3918" y="4161"/>
                </a:lnTo>
                <a:lnTo>
                  <a:pt x="3261" y="4672"/>
                </a:lnTo>
                <a:lnTo>
                  <a:pt x="3213" y="4648"/>
                </a:lnTo>
                <a:lnTo>
                  <a:pt x="2945" y="4575"/>
                </a:lnTo>
                <a:lnTo>
                  <a:pt x="2702" y="4478"/>
                </a:lnTo>
                <a:lnTo>
                  <a:pt x="2458" y="4356"/>
                </a:lnTo>
                <a:lnTo>
                  <a:pt x="2239" y="4186"/>
                </a:lnTo>
                <a:lnTo>
                  <a:pt x="2020" y="3991"/>
                </a:lnTo>
                <a:lnTo>
                  <a:pt x="1874" y="3772"/>
                </a:lnTo>
                <a:lnTo>
                  <a:pt x="1728" y="3529"/>
                </a:lnTo>
                <a:lnTo>
                  <a:pt x="1631" y="3285"/>
                </a:lnTo>
                <a:lnTo>
                  <a:pt x="1607" y="3237"/>
                </a:lnTo>
                <a:lnTo>
                  <a:pt x="1534" y="3237"/>
                </a:lnTo>
                <a:lnTo>
                  <a:pt x="1509" y="3285"/>
                </a:lnTo>
                <a:lnTo>
                  <a:pt x="1485" y="3407"/>
                </a:lnTo>
                <a:lnTo>
                  <a:pt x="1461" y="3553"/>
                </a:lnTo>
                <a:lnTo>
                  <a:pt x="1485" y="3699"/>
                </a:lnTo>
                <a:lnTo>
                  <a:pt x="1534" y="3845"/>
                </a:lnTo>
                <a:lnTo>
                  <a:pt x="1582" y="3967"/>
                </a:lnTo>
                <a:lnTo>
                  <a:pt x="1655" y="4113"/>
                </a:lnTo>
                <a:lnTo>
                  <a:pt x="1826" y="4380"/>
                </a:lnTo>
                <a:lnTo>
                  <a:pt x="2045" y="4599"/>
                </a:lnTo>
                <a:lnTo>
                  <a:pt x="2288" y="4794"/>
                </a:lnTo>
                <a:lnTo>
                  <a:pt x="2580" y="4940"/>
                </a:lnTo>
                <a:lnTo>
                  <a:pt x="2702" y="4989"/>
                </a:lnTo>
                <a:lnTo>
                  <a:pt x="2848" y="5037"/>
                </a:lnTo>
                <a:lnTo>
                  <a:pt x="2410" y="5427"/>
                </a:lnTo>
                <a:lnTo>
                  <a:pt x="2239" y="5621"/>
                </a:lnTo>
                <a:lnTo>
                  <a:pt x="2142" y="5573"/>
                </a:lnTo>
                <a:lnTo>
                  <a:pt x="2045" y="5524"/>
                </a:lnTo>
                <a:lnTo>
                  <a:pt x="1850" y="5475"/>
                </a:lnTo>
                <a:lnTo>
                  <a:pt x="1631" y="5451"/>
                </a:lnTo>
                <a:lnTo>
                  <a:pt x="1436" y="5402"/>
                </a:lnTo>
                <a:lnTo>
                  <a:pt x="1144" y="5305"/>
                </a:lnTo>
                <a:lnTo>
                  <a:pt x="877" y="5159"/>
                </a:lnTo>
                <a:lnTo>
                  <a:pt x="779" y="5062"/>
                </a:lnTo>
                <a:lnTo>
                  <a:pt x="682" y="4964"/>
                </a:lnTo>
                <a:lnTo>
                  <a:pt x="585" y="4891"/>
                </a:lnTo>
                <a:lnTo>
                  <a:pt x="487" y="4818"/>
                </a:lnTo>
                <a:lnTo>
                  <a:pt x="414" y="4818"/>
                </a:lnTo>
                <a:lnTo>
                  <a:pt x="390" y="4891"/>
                </a:lnTo>
                <a:lnTo>
                  <a:pt x="390" y="4964"/>
                </a:lnTo>
                <a:lnTo>
                  <a:pt x="390" y="5110"/>
                </a:lnTo>
                <a:lnTo>
                  <a:pt x="439" y="5232"/>
                </a:lnTo>
                <a:lnTo>
                  <a:pt x="536" y="5354"/>
                </a:lnTo>
                <a:lnTo>
                  <a:pt x="658" y="5475"/>
                </a:lnTo>
                <a:lnTo>
                  <a:pt x="779" y="5573"/>
                </a:lnTo>
                <a:lnTo>
                  <a:pt x="1023" y="5718"/>
                </a:lnTo>
                <a:lnTo>
                  <a:pt x="1193" y="5791"/>
                </a:lnTo>
                <a:lnTo>
                  <a:pt x="1412" y="5864"/>
                </a:lnTo>
                <a:lnTo>
                  <a:pt x="1655" y="5937"/>
                </a:lnTo>
                <a:lnTo>
                  <a:pt x="1899" y="5962"/>
                </a:lnTo>
                <a:lnTo>
                  <a:pt x="1777" y="6108"/>
                </a:lnTo>
                <a:lnTo>
                  <a:pt x="1655" y="6278"/>
                </a:lnTo>
                <a:lnTo>
                  <a:pt x="1558" y="6473"/>
                </a:lnTo>
                <a:lnTo>
                  <a:pt x="1485" y="6643"/>
                </a:lnTo>
                <a:lnTo>
                  <a:pt x="1144" y="6643"/>
                </a:lnTo>
                <a:lnTo>
                  <a:pt x="877" y="6594"/>
                </a:lnTo>
                <a:lnTo>
                  <a:pt x="609" y="6521"/>
                </a:lnTo>
                <a:lnTo>
                  <a:pt x="366" y="6400"/>
                </a:lnTo>
                <a:lnTo>
                  <a:pt x="122" y="6229"/>
                </a:lnTo>
                <a:lnTo>
                  <a:pt x="49" y="6229"/>
                </a:lnTo>
                <a:lnTo>
                  <a:pt x="1" y="6254"/>
                </a:lnTo>
                <a:lnTo>
                  <a:pt x="1" y="6302"/>
                </a:lnTo>
                <a:lnTo>
                  <a:pt x="74" y="6424"/>
                </a:lnTo>
                <a:lnTo>
                  <a:pt x="147" y="6546"/>
                </a:lnTo>
                <a:lnTo>
                  <a:pt x="220" y="6643"/>
                </a:lnTo>
                <a:lnTo>
                  <a:pt x="317" y="6740"/>
                </a:lnTo>
                <a:lnTo>
                  <a:pt x="439" y="6813"/>
                </a:lnTo>
                <a:lnTo>
                  <a:pt x="560" y="6862"/>
                </a:lnTo>
                <a:lnTo>
                  <a:pt x="804" y="6984"/>
                </a:lnTo>
                <a:lnTo>
                  <a:pt x="1071" y="7032"/>
                </a:lnTo>
                <a:lnTo>
                  <a:pt x="1363" y="7081"/>
                </a:lnTo>
                <a:lnTo>
                  <a:pt x="1680" y="7568"/>
                </a:lnTo>
                <a:lnTo>
                  <a:pt x="2020" y="8006"/>
                </a:lnTo>
                <a:lnTo>
                  <a:pt x="2410" y="8419"/>
                </a:lnTo>
                <a:lnTo>
                  <a:pt x="2848" y="8784"/>
                </a:lnTo>
                <a:lnTo>
                  <a:pt x="3286" y="9125"/>
                </a:lnTo>
                <a:lnTo>
                  <a:pt x="3772" y="9417"/>
                </a:lnTo>
                <a:lnTo>
                  <a:pt x="4283" y="9685"/>
                </a:lnTo>
                <a:lnTo>
                  <a:pt x="4819" y="9928"/>
                </a:lnTo>
                <a:lnTo>
                  <a:pt x="5403" y="10147"/>
                </a:lnTo>
                <a:lnTo>
                  <a:pt x="5987" y="10342"/>
                </a:lnTo>
                <a:lnTo>
                  <a:pt x="6571" y="10536"/>
                </a:lnTo>
                <a:lnTo>
                  <a:pt x="7155" y="10682"/>
                </a:lnTo>
                <a:lnTo>
                  <a:pt x="7763" y="10828"/>
                </a:lnTo>
                <a:lnTo>
                  <a:pt x="8371" y="10926"/>
                </a:lnTo>
                <a:lnTo>
                  <a:pt x="8979" y="11023"/>
                </a:lnTo>
                <a:lnTo>
                  <a:pt x="9612" y="11072"/>
                </a:lnTo>
                <a:lnTo>
                  <a:pt x="10220" y="11096"/>
                </a:lnTo>
                <a:lnTo>
                  <a:pt x="10829" y="11072"/>
                </a:lnTo>
                <a:lnTo>
                  <a:pt x="11461" y="11047"/>
                </a:lnTo>
                <a:lnTo>
                  <a:pt x="12070" y="10974"/>
                </a:lnTo>
                <a:lnTo>
                  <a:pt x="12678" y="10877"/>
                </a:lnTo>
                <a:lnTo>
                  <a:pt x="13286" y="10755"/>
                </a:lnTo>
                <a:lnTo>
                  <a:pt x="13870" y="10585"/>
                </a:lnTo>
                <a:lnTo>
                  <a:pt x="14454" y="10390"/>
                </a:lnTo>
                <a:lnTo>
                  <a:pt x="15063" y="10147"/>
                </a:lnTo>
                <a:lnTo>
                  <a:pt x="15622" y="9831"/>
                </a:lnTo>
                <a:lnTo>
                  <a:pt x="16182" y="9514"/>
                </a:lnTo>
                <a:lnTo>
                  <a:pt x="16693" y="9149"/>
                </a:lnTo>
                <a:lnTo>
                  <a:pt x="17204" y="8736"/>
                </a:lnTo>
                <a:lnTo>
                  <a:pt x="17690" y="8322"/>
                </a:lnTo>
                <a:lnTo>
                  <a:pt x="18153" y="7884"/>
                </a:lnTo>
                <a:lnTo>
                  <a:pt x="18615" y="7446"/>
                </a:lnTo>
                <a:lnTo>
                  <a:pt x="18639" y="7397"/>
                </a:lnTo>
                <a:lnTo>
                  <a:pt x="18761" y="7373"/>
                </a:lnTo>
                <a:lnTo>
                  <a:pt x="18858" y="7300"/>
                </a:lnTo>
                <a:lnTo>
                  <a:pt x="19029" y="7300"/>
                </a:lnTo>
                <a:lnTo>
                  <a:pt x="19175" y="7276"/>
                </a:lnTo>
                <a:lnTo>
                  <a:pt x="19321" y="7227"/>
                </a:lnTo>
                <a:lnTo>
                  <a:pt x="19467" y="7178"/>
                </a:lnTo>
                <a:lnTo>
                  <a:pt x="19613" y="7105"/>
                </a:lnTo>
                <a:lnTo>
                  <a:pt x="19734" y="7008"/>
                </a:lnTo>
                <a:lnTo>
                  <a:pt x="19807" y="6886"/>
                </a:lnTo>
                <a:lnTo>
                  <a:pt x="19880" y="6765"/>
                </a:lnTo>
                <a:lnTo>
                  <a:pt x="19880" y="6716"/>
                </a:lnTo>
                <a:lnTo>
                  <a:pt x="19880" y="6667"/>
                </a:lnTo>
                <a:lnTo>
                  <a:pt x="19832" y="6619"/>
                </a:lnTo>
                <a:lnTo>
                  <a:pt x="19807" y="6570"/>
                </a:lnTo>
                <a:lnTo>
                  <a:pt x="19710" y="6546"/>
                </a:lnTo>
                <a:lnTo>
                  <a:pt x="19661" y="6546"/>
                </a:lnTo>
                <a:lnTo>
                  <a:pt x="19613" y="6570"/>
                </a:lnTo>
                <a:lnTo>
                  <a:pt x="19467" y="6643"/>
                </a:lnTo>
                <a:lnTo>
                  <a:pt x="19369" y="6716"/>
                </a:lnTo>
                <a:lnTo>
                  <a:pt x="19248" y="6789"/>
                </a:lnTo>
                <a:lnTo>
                  <a:pt x="19102" y="6862"/>
                </a:lnTo>
                <a:lnTo>
                  <a:pt x="18858" y="6911"/>
                </a:lnTo>
                <a:lnTo>
                  <a:pt x="18566" y="6521"/>
                </a:lnTo>
                <a:lnTo>
                  <a:pt x="18250" y="6132"/>
                </a:lnTo>
                <a:lnTo>
                  <a:pt x="18420" y="6108"/>
                </a:lnTo>
                <a:lnTo>
                  <a:pt x="18664" y="6059"/>
                </a:lnTo>
                <a:lnTo>
                  <a:pt x="18956" y="5962"/>
                </a:lnTo>
                <a:lnTo>
                  <a:pt x="19077" y="5889"/>
                </a:lnTo>
                <a:lnTo>
                  <a:pt x="19199" y="5816"/>
                </a:lnTo>
                <a:lnTo>
                  <a:pt x="19272" y="5718"/>
                </a:lnTo>
                <a:lnTo>
                  <a:pt x="19321" y="5597"/>
                </a:lnTo>
                <a:lnTo>
                  <a:pt x="19321" y="5548"/>
                </a:lnTo>
                <a:lnTo>
                  <a:pt x="19321" y="5500"/>
                </a:lnTo>
                <a:lnTo>
                  <a:pt x="19296" y="5475"/>
                </a:lnTo>
                <a:lnTo>
                  <a:pt x="19248" y="5451"/>
                </a:lnTo>
                <a:lnTo>
                  <a:pt x="19150" y="5451"/>
                </a:lnTo>
                <a:lnTo>
                  <a:pt x="19053" y="5475"/>
                </a:lnTo>
                <a:lnTo>
                  <a:pt x="18858" y="5548"/>
                </a:lnTo>
                <a:lnTo>
                  <a:pt x="18688" y="5621"/>
                </a:lnTo>
                <a:lnTo>
                  <a:pt x="18493" y="5718"/>
                </a:lnTo>
                <a:lnTo>
                  <a:pt x="18226" y="5767"/>
                </a:lnTo>
                <a:lnTo>
                  <a:pt x="17958" y="5791"/>
                </a:lnTo>
                <a:lnTo>
                  <a:pt x="17496" y="5281"/>
                </a:lnTo>
                <a:lnTo>
                  <a:pt x="17690" y="5281"/>
                </a:lnTo>
                <a:lnTo>
                  <a:pt x="17885" y="5256"/>
                </a:lnTo>
                <a:lnTo>
                  <a:pt x="18080" y="5208"/>
                </a:lnTo>
                <a:lnTo>
                  <a:pt x="18274" y="5135"/>
                </a:lnTo>
                <a:lnTo>
                  <a:pt x="18591" y="4964"/>
                </a:lnTo>
                <a:lnTo>
                  <a:pt x="18761" y="4867"/>
                </a:lnTo>
                <a:lnTo>
                  <a:pt x="18931" y="4745"/>
                </a:lnTo>
                <a:lnTo>
                  <a:pt x="19077" y="4599"/>
                </a:lnTo>
                <a:lnTo>
                  <a:pt x="19199" y="4453"/>
                </a:lnTo>
                <a:lnTo>
                  <a:pt x="19272" y="4307"/>
                </a:lnTo>
                <a:lnTo>
                  <a:pt x="19296" y="4234"/>
                </a:lnTo>
                <a:lnTo>
                  <a:pt x="19296" y="4137"/>
                </a:lnTo>
                <a:lnTo>
                  <a:pt x="19296" y="4088"/>
                </a:lnTo>
                <a:lnTo>
                  <a:pt x="19272" y="4064"/>
                </a:lnTo>
                <a:lnTo>
                  <a:pt x="19199" y="4064"/>
                </a:lnTo>
                <a:lnTo>
                  <a:pt x="19077" y="4088"/>
                </a:lnTo>
                <a:lnTo>
                  <a:pt x="18956" y="4137"/>
                </a:lnTo>
                <a:lnTo>
                  <a:pt x="18737" y="4307"/>
                </a:lnTo>
                <a:lnTo>
                  <a:pt x="18518" y="4478"/>
                </a:lnTo>
                <a:lnTo>
                  <a:pt x="18323" y="4648"/>
                </a:lnTo>
                <a:lnTo>
                  <a:pt x="18031" y="4794"/>
                </a:lnTo>
                <a:lnTo>
                  <a:pt x="17763" y="4867"/>
                </a:lnTo>
                <a:lnTo>
                  <a:pt x="17447" y="4916"/>
                </a:lnTo>
                <a:lnTo>
                  <a:pt x="17155" y="4916"/>
                </a:lnTo>
                <a:lnTo>
                  <a:pt x="16620" y="4429"/>
                </a:lnTo>
                <a:lnTo>
                  <a:pt x="16839" y="4186"/>
                </a:lnTo>
                <a:lnTo>
                  <a:pt x="17058" y="3967"/>
                </a:lnTo>
                <a:lnTo>
                  <a:pt x="17277" y="3748"/>
                </a:lnTo>
                <a:lnTo>
                  <a:pt x="17593" y="3918"/>
                </a:lnTo>
                <a:lnTo>
                  <a:pt x="17909" y="4088"/>
                </a:lnTo>
                <a:lnTo>
                  <a:pt x="18031" y="4113"/>
                </a:lnTo>
                <a:lnTo>
                  <a:pt x="18128" y="4113"/>
                </a:lnTo>
                <a:lnTo>
                  <a:pt x="18201" y="4040"/>
                </a:lnTo>
                <a:lnTo>
                  <a:pt x="18274" y="3967"/>
                </a:lnTo>
                <a:lnTo>
                  <a:pt x="18299" y="3894"/>
                </a:lnTo>
                <a:lnTo>
                  <a:pt x="18299" y="3796"/>
                </a:lnTo>
                <a:lnTo>
                  <a:pt x="18250" y="3723"/>
                </a:lnTo>
                <a:lnTo>
                  <a:pt x="18177" y="3650"/>
                </a:lnTo>
                <a:lnTo>
                  <a:pt x="17885" y="3504"/>
                </a:lnTo>
                <a:lnTo>
                  <a:pt x="17593" y="3358"/>
                </a:lnTo>
                <a:lnTo>
                  <a:pt x="17690" y="3212"/>
                </a:lnTo>
                <a:lnTo>
                  <a:pt x="17763" y="3042"/>
                </a:lnTo>
                <a:lnTo>
                  <a:pt x="17763" y="3018"/>
                </a:lnTo>
                <a:lnTo>
                  <a:pt x="17739" y="2993"/>
                </a:lnTo>
                <a:lnTo>
                  <a:pt x="17690" y="2993"/>
                </a:lnTo>
                <a:lnTo>
                  <a:pt x="17423" y="3237"/>
                </a:lnTo>
                <a:lnTo>
                  <a:pt x="16376" y="2555"/>
                </a:lnTo>
                <a:lnTo>
                  <a:pt x="16693" y="2190"/>
                </a:lnTo>
                <a:lnTo>
                  <a:pt x="16717" y="2142"/>
                </a:lnTo>
                <a:lnTo>
                  <a:pt x="16693" y="2069"/>
                </a:lnTo>
                <a:lnTo>
                  <a:pt x="16668" y="2044"/>
                </a:lnTo>
                <a:lnTo>
                  <a:pt x="16595" y="2020"/>
                </a:lnTo>
                <a:lnTo>
                  <a:pt x="16449" y="2093"/>
                </a:lnTo>
                <a:lnTo>
                  <a:pt x="16303" y="2166"/>
                </a:lnTo>
                <a:lnTo>
                  <a:pt x="16036" y="2361"/>
                </a:lnTo>
                <a:lnTo>
                  <a:pt x="15914" y="2288"/>
                </a:lnTo>
                <a:lnTo>
                  <a:pt x="15354" y="2020"/>
                </a:lnTo>
                <a:lnTo>
                  <a:pt x="14795" y="1752"/>
                </a:lnTo>
                <a:lnTo>
                  <a:pt x="15087" y="1290"/>
                </a:lnTo>
                <a:lnTo>
                  <a:pt x="15087" y="1266"/>
                </a:lnTo>
                <a:lnTo>
                  <a:pt x="15063" y="1266"/>
                </a:lnTo>
                <a:lnTo>
                  <a:pt x="14795" y="1436"/>
                </a:lnTo>
                <a:lnTo>
                  <a:pt x="14552" y="1655"/>
                </a:lnTo>
                <a:lnTo>
                  <a:pt x="14089" y="1460"/>
                </a:lnTo>
                <a:lnTo>
                  <a:pt x="13603" y="1290"/>
                </a:lnTo>
                <a:lnTo>
                  <a:pt x="13140" y="1144"/>
                </a:lnTo>
                <a:lnTo>
                  <a:pt x="12702" y="1022"/>
                </a:lnTo>
                <a:lnTo>
                  <a:pt x="12775" y="706"/>
                </a:lnTo>
                <a:lnTo>
                  <a:pt x="12800" y="536"/>
                </a:lnTo>
                <a:lnTo>
                  <a:pt x="12800" y="365"/>
                </a:lnTo>
                <a:lnTo>
                  <a:pt x="12775" y="317"/>
                </a:lnTo>
                <a:lnTo>
                  <a:pt x="12751" y="292"/>
                </a:lnTo>
                <a:lnTo>
                  <a:pt x="12702" y="292"/>
                </a:lnTo>
                <a:lnTo>
                  <a:pt x="12654" y="341"/>
                </a:lnTo>
                <a:lnTo>
                  <a:pt x="12532" y="560"/>
                </a:lnTo>
                <a:lnTo>
                  <a:pt x="12337" y="925"/>
                </a:lnTo>
                <a:lnTo>
                  <a:pt x="11705" y="803"/>
                </a:lnTo>
                <a:lnTo>
                  <a:pt x="11072" y="706"/>
                </a:lnTo>
                <a:lnTo>
                  <a:pt x="11072" y="511"/>
                </a:lnTo>
                <a:lnTo>
                  <a:pt x="11072" y="317"/>
                </a:lnTo>
                <a:lnTo>
                  <a:pt x="11072" y="244"/>
                </a:lnTo>
                <a:lnTo>
                  <a:pt x="11048" y="146"/>
                </a:lnTo>
                <a:lnTo>
                  <a:pt x="10999" y="73"/>
                </a:lnTo>
                <a:lnTo>
                  <a:pt x="10950" y="25"/>
                </a:lnTo>
                <a:lnTo>
                  <a:pt x="10902" y="0"/>
                </a:lnTo>
                <a:lnTo>
                  <a:pt x="10853" y="0"/>
                </a:lnTo>
                <a:close/>
              </a:path>
            </a:pathLst>
          </a:custGeom>
          <a:solidFill>
            <a:srgbClr val="106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 rot="159000">
            <a:off x="-1433520" y="-1109520"/>
            <a:ext cx="12584160" cy="83898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3"/>
          <p:cNvSpPr/>
          <p:nvPr/>
        </p:nvSpPr>
        <p:spPr>
          <a:xfrm>
            <a:off x="457200" y="557280"/>
            <a:ext cx="94852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Інтерактивні лекції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Проєктна діяльні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Навчання через дослідже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0618e"/>
                </a:solidFill>
                <a:latin typeface="Segoe UI Black"/>
                <a:ea typeface="Segoe UI Black"/>
              </a:rPr>
              <a:t>Комфортне спілкування з викладачем та колег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0618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8000" y="5969160"/>
            <a:ext cx="3456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10618e"/>
              </a:solidFill>
              <a:latin typeface="Segoe UI Semilight"/>
              <a:ea typeface="Segoe UI Semi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9T09:41:05Z</dcterms:created>
  <dc:creator>c400</dc:creator>
  <dc:description/>
  <dc:language>en-US</dc:language>
  <cp:lastModifiedBy>tanya</cp:lastModifiedBy>
  <dcterms:modified xsi:type="dcterms:W3CDTF">2021-11-06T14:24:48Z</dcterms:modified>
  <cp:revision>246</cp:revision>
  <dc:subject/>
  <dc:title>Тема: Ліквідація української автономії  (ХVIII ст.)</dc:title>
</cp:coreProperties>
</file>