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BDA-92A0-4BC3-87FD-65EBCE3A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282-BC70-4331-A16C-BEB710F6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9A8-A06A-4E5D-A2BA-31A6934B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515-C64B-45CE-AED7-B7DF01DC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F38-996F-4B24-AFA0-17EA3271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086-0C86-4420-A77B-8772F11E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43A-EA0E-42B1-B690-59F72200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E68-90F9-4BAA-AC81-BA765546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D13-62C4-4012-A2D0-1F66AA61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F14-1429-4E1D-9F81-696C2DFB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A98-83ED-47EA-8585-77F34DC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5F5-39E2-4777-9E90-6A63F5E1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CEF1-D3B1-4625-889E-32300729B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4520" y="2214720"/>
            <a:ext cx="50720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10</a:t>
            </a:r>
            <a:br>
              <a:rPr sz="4000"/>
            </a:b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План</a:t>
            </a:r>
            <a:br>
              <a:rPr sz="29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1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аботка календарного графика проект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2 Управление ресурсам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1.bp.blogspot.com/-_oVlUNGWW-M/U9wWztYxHCI/AAAAAAAABBk/NOzGdPXEYLA/s1600/Microsoft-Office-Project-Professional-2007-Front-Cover-35389.jpg"/>
          <p:cNvPicPr/>
          <p:nvPr/>
        </p:nvPicPr>
        <p:blipFill>
          <a:blip r:embed="rId1"/>
          <a:stretch/>
        </p:blipFill>
        <p:spPr>
          <a:xfrm>
            <a:off x="0" y="142884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уществует следующие типы взаимосвязей работ (этапов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611280" y="1197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-Начало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не может начаться ранее, чем завершится предыдущ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400720" cy="790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395280" y="2637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 - Окончание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должна завершиться не позднее предшествующ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2735280" cy="13730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0"/>
          <p:cNvSpPr/>
          <p:nvPr/>
        </p:nvSpPr>
        <p:spPr>
          <a:xfrm>
            <a:off x="468360" y="4941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чало - Начало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начинается не раньше начала предшествующ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3995640" y="5381640"/>
            <a:ext cx="30006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уществует следующие типы взаимосвязей работ (этапов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11280" y="1197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чало - Окончание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заканчивается не раньше начала предшествую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3343320" cy="15336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9"/>
          <p:cNvSpPr/>
          <p:nvPr/>
        </p:nvSpPr>
        <p:spPr>
          <a:xfrm>
            <a:off x="250920" y="3716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о используются связи тип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 - Начало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ред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«Начало - Окончани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типа взаимосвязи, информация о связи операций может содержа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азды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паздывание может быть как положительным, так и отрицательным. Положительное запаздывание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пере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отрицательное –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ерж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: последующую работу можно начать не ранее, чем через неделю после начала предшествующей. Это описывается связью «Начало - Начало» с задержкой в одну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ые собы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539640" y="141300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ждом из проектов должны быть задачи, не имеющие длительности, так называемы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Контрольные события» (вехи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они отображают наступление важных событий проекта (например, «Подписан договор отвода земельного участка»), достижение запланированных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258920" y="4508640"/>
            <a:ext cx="6649920" cy="21477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539640" y="2997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, что задачу сделать вехой, необходимо в «Сведениях о задаче», на закладке «Дополнительно» поставить галочку «Пометить задачу как веху». Для того чтобы вставить новую веху в проект, необходимо на закладке «Задача» в области «Вставить» нажать кнопку «Веха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08360" y="259920"/>
            <a:ext cx="51116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становление ограничений и </a:t>
            </a: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крайних сроков задач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24000" y="2060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icrosoft Project 20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устанавливать на 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грани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райние ср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95280" y="350028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ограничений могут выступать контрактные даты начала, окончания зада, даты поставок, информация о доступности того или иного ресурса. Установка ограничений влияет на график расчета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Картинки по запросу крайний срок проекта"/>
          <p:cNvPicPr/>
          <p:nvPr/>
        </p:nvPicPr>
        <p:blipFill>
          <a:blip r:embed="rId1"/>
          <a:stretch/>
        </p:blipFill>
        <p:spPr>
          <a:xfrm>
            <a:off x="4867200" y="0"/>
            <a:ext cx="4276800" cy="3209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95280" y="4508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установить тот или иной тип ограничения, необходимо перейти в свойства задачи на закладку «Дополнительно» и выбрать тип ограничения и дату его на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395280" y="54687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у задачи крайнего срок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влияет на расчет проек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ограничений. В случае установки у задачи крайнего срока, на диаграмме Ганта у такой задачи появится зеленая стрелка, а в случае срыва крайнего срока, в колонке «і», у такой задачи загорится красный индик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08000" y="259920"/>
            <a:ext cx="8928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ЗЕНТАЦИЯ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324000" y="31417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Microsoft Project 2010 появилась новая функциональность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ая шкала (timelin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может быть использована для презентации проекта, защиты проекта и/или отчет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Картинки по запросу временная шкала (timeline),  project"/>
          <p:cNvPicPr/>
          <p:nvPr/>
        </p:nvPicPr>
        <p:blipFill>
          <a:blip r:embed="rId1"/>
          <a:stretch/>
        </p:blipFill>
        <p:spPr>
          <a:xfrm>
            <a:off x="246240" y="907920"/>
            <a:ext cx="88977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icrosoft Office Project 2010 – это комплексное решение корпорац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icrosoft по управлению корпоративными проектами, которое позволяет управлять проектами любой сложности и включает в себя семейство следующих программных продукт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Standart – пакет начального уровня для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ыми проект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Professional – пакет для профессионального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ми любой сложности на любом уровне управ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Server – серверный продукт, который используется дл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я менеджеров проекта при управлении распределенными проект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Office Project Web Access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б-интерфейс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Project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зволяющ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ам проектов получить доступ к проектной информации чере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Explor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MS Projec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яет эффективно управлять всеми задачами и ресурсами проекта, определять дату завершения работ, отслеживать выполнение работ по проекту, создавать различные виды отчетной документации. Данные проекта можно рассматривать в виде таблиц, диаграмм и граф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елирование проектов в Microsoft Project 2010 позволя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составить план производства работ, включающи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сроки исполнения рабо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) потребность в ресурсах (людях, механизмах, материалах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c) необходимые затр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рассчитать бюджет проекта и распределение запланированных затрат во времен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рассчитать распределение во времени потребностей проекта в основных материалах и оборудова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определить оптимальный состав ресурсов (людей и механизмов) проекта и распределение во времени их плановой загрузки и количественного состава; денежных средст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разработать оптимальную схему финансирования работ, поставок материалов и оборуд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проанализировать риски и определить необходимые резервы для надежной реализации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обеспечить информационную и аналитическую поддержку для эффективного взаимодействия подразделений организации и других участников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эффективно контролировать исполнение составленного пла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получать необходимую отчетность по проект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анализировать отклонения фактического хода выполнения работ от запланированного, своевременно и обоснованно корректировать плановые показател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357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моделировать любые решения, например, о замене одних механизмов на другие, изменение схемы финансирования, изменение схемы поставок ключевого оборудования и др., а также анализировать их последствия для проекта на модели и принимать обоснованные управленческие ре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вести архивы проектов и анализировать опыт их реализации, который может быть использован в других проектах, и многое друг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перечня задач с оценкой их продолжи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создания нового проекта можно выполнить команду мен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айл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задать различные характеристики проекта, выполните коман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н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ек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&g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едения о проекте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2928960"/>
            <a:ext cx="5334120" cy="3543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929200" y="3000240"/>
            <a:ext cx="32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можно планировать двум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аты начал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аты окончания. Зада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ирование - от даты начала про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ендарь - Стандар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85128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 планирован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планиров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от даты начала проекта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значает, что все задачи будут начинаться как можно раньше, и на основании их длительностей и зависимостей между ними, мы узнаем дату окончания проекта. Если мы выберем метод планиров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от даты окончания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екта, то все задачи будут начинаться как можно позже, и на основании даты окончания проекта, длительностей и зависимостей между задачами проекта мы узнаем, когда необходимо начать проект, чтобы закончить его к дате окончания проек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Картинки по запросу Метод планирования проекта"/>
          <p:cNvPicPr/>
          <p:nvPr/>
        </p:nvPicPr>
        <p:blipFill>
          <a:blip r:embed="rId1"/>
          <a:stretch/>
        </p:blipFill>
        <p:spPr>
          <a:xfrm>
            <a:off x="3957480" y="0"/>
            <a:ext cx="51865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85128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ие иерархической структуры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0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моделирования этапов в Microsoft Project 2010 используются суммарные задачи. Для того чтобы создать этап (суммарную задачу) «Инициация проекта» необходимо на закладке «Задача», в области «Вставить» нажать на пиктограмме «Суммарная задача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Картинки по запросу Метод планирования проекта"/>
          <p:cNvPicPr/>
          <p:nvPr/>
        </p:nvPicPr>
        <p:blipFill>
          <a:blip r:embed="rId1"/>
          <a:stretch/>
        </p:blipFill>
        <p:spPr>
          <a:xfrm>
            <a:off x="3957480" y="0"/>
            <a:ext cx="518652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61912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0-09-06T21:35:32Z</dcterms:modified>
  <cp:revision>99</cp:revision>
  <dc:subject/>
  <dc:title>Тема: МЕТОДОЛОГИЯ УПРАВЛЕНИЯ ИНФОРМАЦИОННЫМИ ПРОЕКТАМИ  </dc:title>
</cp:coreProperties>
</file>