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AAD458-A185-4CF3-BBC4-DB8E548A1C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8D85E-4A94-43E7-A0A4-E717F7664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972CAE-7177-43CF-89C0-700BEA1A0A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F117B6-8F71-47E5-BBA8-7E28F72D75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DE8089-FAAC-4F62-8C22-5A2BE0F0C9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7EBF5D-1C5D-4862-B16E-4E9BD96511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D69C6B-8242-48CC-A2E8-3B1DFC8535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BA098A-DE3E-48F8-A6BE-497A071313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0ACAA5-1D87-4E28-91E8-822324B271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E8E4E4-BF09-4C9C-8FB5-94CA7F26E1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BEC06-C737-48C9-ABD5-5AF6C0EA57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41768-73C1-47AF-8301-DDDD9ED72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7887BA-2E89-4E39-857F-76A1E844F1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C976B7-DBA9-44BE-AC9B-4225990C5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ABE247-7D52-4C9A-8F3E-BB4B1590CA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A3707E-A779-4315-AC95-A7FE6B8DC5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982199-E11B-4F9E-B2E7-65C76F9E76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29819-FED7-4A73-8899-B9326B7FA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4B78F-BFAC-4BAD-8E30-B76781715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CDA0A-E3CE-4F1A-A6FD-8D479FC94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05172-4406-4505-BB50-10C89A93E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3F998-F6DB-4592-93F0-D6FA449F7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D2F07-6D3E-4B04-BB52-25DA632E2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1738B-69EB-4B10-B0BE-BF2BA6AA7B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8BB80-3669-4F2A-A342-280049729E5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55DE9-DE91-4352-B0E4-C29B6D8335F2}" type="slidenum">
              <a:rPr b="0" lang="uk-U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4360" y="1052640"/>
            <a:ext cx="7772400" cy="2550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400" spc="-1" strike="noStrike">
                <a:solidFill>
                  <a:srgbClr val="dbbd71"/>
                </a:solidFill>
                <a:latin typeface="Arial"/>
              </a:rPr>
              <a:t>АПЦСУ</a:t>
            </a:r>
            <a:br>
              <a:rPr sz="5400"/>
            </a:br>
            <a:br>
              <a:rPr sz="5400"/>
            </a:br>
            <a:r>
              <a:rPr b="1" lang="uk-UA" sz="4400" spc="-1" strike="noStrike">
                <a:solidFill>
                  <a:srgbClr val="dbbd71"/>
                </a:solidFill>
                <a:latin typeface="Arial"/>
              </a:rPr>
              <a:t>(за вимогами кредитно-модульної системи)</a:t>
            </a:r>
            <a:r>
              <a:rPr b="0" lang="ru-RU" sz="5400" spc="-1" strike="noStrike">
                <a:solidFill>
                  <a:srgbClr val="dbbd71"/>
                </a:solidFill>
                <a:latin typeface="Arial"/>
              </a:rPr>
              <a:t> </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резентація курсу</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3. Цивільні процесуальні правовідносини.</a:t>
            </a:r>
            <a:endParaRPr b="0" lang="en-US" sz="4000" spc="-1" strike="noStrike">
              <a:solidFill>
                <a:srgbClr val="dbbd71"/>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цивільних процесуальних правовідносин та їх особливості. Передумови (підстави) виникнення цивільних процесуальних правовідносин: норма права, правоздатність і юридичні факти. Елементи цивільних процесуальних правовідносин: суб'єкт, об'єкт та зміст</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4. Суд як суб'єкт цивільного процесу.</a:t>
            </a:r>
            <a:endParaRPr b="0" lang="en-US" sz="4000" spc="-1" strike="noStrike">
              <a:solidFill>
                <a:srgbClr val="dbbd71"/>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Суд - обов'язковий суб’єкт цивільних процесуальних правовідносин. Склад суду. Правове становище суддів у цивільному процесі. Народні засідателі. Підстави, порядок і наслідки відводу суду (суддів).</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5. Сторони у цивільному процесі.</a:t>
            </a:r>
            <a:endParaRPr b="0" lang="en-US" sz="4000" spc="-1" strike="noStrike">
              <a:solidFill>
                <a:srgbClr val="dbbd71"/>
              </a:solidFill>
              <a:latin typeface="Arial"/>
            </a:endParaRPr>
          </a:p>
        </p:txBody>
      </p:sp>
      <p:sp>
        <p:nvSpPr>
          <p:cNvPr id="174"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сторін в цивільному процесі.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Цивільна процесуальна правоздатність та цивільна  процесуальна дієздатність сторін. Процесуальні права та обов’язки сторін.</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роцесуальна співучасть. Підстави та цілі співучасті. Види співучасті. . Процесуальні права та обов’язки співучасників.</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неналежного позивача та відповідача. Випадки заміни неналежного позивача та відповідача. Наслідки заміни неналежного відповідача.</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роцесуальне правонаступництво (поняття та підстави). Види процесуального правонаступництва.  Порядок вступу у процес правонаступника та його правове становище. </a:t>
            </a:r>
            <a:endParaRPr b="0" lang="en-US" sz="2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000" y="277920"/>
            <a:ext cx="821844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Тема 7. Участь у процесі прокурора, органів влади, органів місцевого самоврядування, та осіб, яким за законом надано право захищати права ї свободи інших осіб.</a:t>
            </a:r>
            <a:endParaRPr b="0" lang="en-US" sz="2800" spc="-1" strike="noStrike">
              <a:solidFill>
                <a:srgbClr val="dbbd71"/>
              </a:solidFill>
              <a:latin typeface="Arial"/>
            </a:endParaRPr>
          </a:p>
        </p:txBody>
      </p:sp>
      <p:sp>
        <p:nvSpPr>
          <p:cNvPr id="176" name="PlaceHolder 2"/>
          <p:cNvSpPr>
            <a:spLocks noGrp="1"/>
          </p:cNvSpPr>
          <p:nvPr>
            <p:ph/>
          </p:nvPr>
        </p:nvSpPr>
        <p:spPr>
          <a:xfrm>
            <a:off x="466560" y="2206800"/>
            <a:ext cx="8220240" cy="3924000"/>
          </a:xfrm>
          <a:prstGeom prst="rect">
            <a:avLst/>
          </a:prstGeom>
          <a:noFill/>
          <a:ln w="0">
            <a:noFill/>
          </a:ln>
        </p:spPr>
        <p:txBody>
          <a:bodyPr anchor="t">
            <a:normAutofit fontScale="97000"/>
          </a:bodyPr>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вдання, підстави, форми і види участі органів прокуратури у цивільному процесі. Процесуальне положення прокурора. Участь прокурора у суді першої інстанції, його права і обов'язки. Участь прокурора у провадженні оскарження судових рішень та їх виконанні. </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вдання і підстави, форми участі органів державної влади, їх процесуальні права та обов'язки.</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8. Представництво у цивільному процесі.</a:t>
            </a:r>
            <a:endParaRPr b="0" lang="en-US" sz="4000" spc="-1" strike="noStrike">
              <a:solidFill>
                <a:srgbClr val="dbbd71"/>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представництва в суді і його значення. Підстави і види представництва в суді. Добровільне (договірне), законне, громадське і офіційне представництво. Повноваження представника в суді (обсяг і оформлення). Особи, що не можуть бути представниками в суді. Участь представників громадських організацій та трудових колективів у цивільному процесі.</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9. Інші учасники в цивільному процесі.</a:t>
            </a:r>
            <a:endParaRPr b="0" lang="en-US" sz="4000" spc="-1" strike="noStrike">
              <a:solidFill>
                <a:srgbClr val="dbbd71"/>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ознаки інших осіб в цивільному процесі.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соби, які здійснюють організаційно-технічне забезпечення цивільного процесу: секретар судового засідання; судовий розпорядник, помічник судді.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соби, які сприяють розгляду і вирішенню цивільної справи по суті: свідок; експерт; перекладач; спеціаліст; особа, яка надає правову допомогу.</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0. Цивільна юрисдикція. Підсудність цивільних справ.</a:t>
            </a:r>
            <a:endParaRPr b="0" lang="en-US" sz="4000" spc="-1" strike="noStrike">
              <a:solidFill>
                <a:srgbClr val="dbbd71"/>
              </a:solidFill>
              <a:latin typeface="Arial"/>
            </a:endParaRPr>
          </a:p>
        </p:txBody>
      </p:sp>
      <p:sp>
        <p:nvSpPr>
          <p:cNvPr id="182" name="PlaceHolder 2"/>
          <p:cNvSpPr>
            <a:spLocks noGrp="1"/>
          </p:cNvSpPr>
          <p:nvPr>
            <p:ph/>
          </p:nvPr>
        </p:nvSpPr>
        <p:spPr>
          <a:xfrm>
            <a:off x="456840" y="1599840"/>
            <a:ext cx="8435880" cy="5257800"/>
          </a:xfrm>
          <a:prstGeom prst="rect">
            <a:avLst/>
          </a:prstGeom>
          <a:noFill/>
          <a:ln w="0">
            <a:noFill/>
          </a:ln>
        </p:spPr>
        <p:txBody>
          <a:bodyPr anchor="t">
            <a:normAutofit fontScale="97000"/>
          </a:bodyPr>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види цивільної юрисдикції: виняткова, множинна, договірна, альтернативна, умовна.</a:t>
            </a:r>
            <a:endParaRPr b="0" lang="en-US" sz="2800" spc="-1" strike="noStrike">
              <a:solidFill>
                <a:srgbClr val="ffffff"/>
              </a:solidFill>
              <a:latin typeface="Tahoma"/>
            </a:endParaRPr>
          </a:p>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Цивільна юрисдикція суду. Наслідки порушення правил підвідомчості цивільних справ.</a:t>
            </a:r>
            <a:endParaRPr b="0" lang="en-US" sz="2800" spc="-1" strike="noStrike">
              <a:solidFill>
                <a:srgbClr val="ffffff"/>
              </a:solidFill>
              <a:latin typeface="Tahoma"/>
            </a:endParaRPr>
          </a:p>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і види підсудності: територіальна; загальна; альтернативна; виключна; підсудність кількох вимог, пов’язаних між собою; підсудність справ, у яких однією із сторін є суд або суддя; підсудність справ про спори між громадянами України, якщо обидві сторони проживають за її межами. Підстави і порядок передачі справи з одного суду до іншого.</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1. Строки у цивільному процесі.</a:t>
            </a:r>
            <a:endParaRPr b="0" lang="en-US" sz="4000" spc="-1" strike="noStrike">
              <a:solidFill>
                <a:srgbClr val="dbbd71"/>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процесуальних строків, їх значення. Види процесуальних строків: встановлені законом та призначені суддею або судом. Обчислення та закінчення процесуальних строків, наслідки їх пропущення. Зупинення, поновлення та продовження процесуальних строків. </a:t>
            </a:r>
            <a:endParaRPr b="0" lang="en-US" sz="32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2. Судові виклики та повідомлення.</a:t>
            </a:r>
            <a:endParaRPr b="0" lang="en-US" sz="4000" spc="-1" strike="noStrike">
              <a:solidFill>
                <a:srgbClr val="dbbd71"/>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види судових повісток у цивільному процесі. Зміст судової повістки і оголошення про виклик у суд. Порядок вручення судових повісток. Обов’язок осіб, які беруть участь у справі, повідомляти суд про зміну свого місця проживання (перебування, знаходження) та про причини неявку в судове засідання. Розшук відповідача. </a:t>
            </a:r>
            <a:endParaRPr b="0" lang="en-US" sz="28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dbbd71"/>
                </a:solidFill>
                <a:latin typeface="Arial"/>
              </a:rPr>
              <a:t>Тема 13. Судові витрати.</a:t>
            </a:r>
            <a:endParaRPr b="0" lang="en-US" sz="44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Поняття, значення і види судових витрат.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Ціна позову. Витрати на інформаційно-технічне забезпечення розгляду справи.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Відстрочення та розстрочення судових витрат, зменшення їх розміру або звільнення від їх оплати. Повернення судового збору та коштів на оплату витрат на інформаційне-технічне забезпечення розгляду судової справи. Витрати на правову допомогу. Витрати сторін та їх представників, що пов’язані з явкою до суду. Витрати, пов’язані із залучення свідків, спеціалістів, перекладачів та проведенням судових експертиз. Витрати, пов’язані з проведенням огляду доказів за їх місцезнаходженням та вчиненням інших дій, необхідних для розгляду справи. Розподіл судових витрат між сторонами і розподіл витрат у разі відмови від позову і укладення мирової угоди</a:t>
            </a:r>
            <a:r>
              <a:rPr b="0" lang="ru-RU" sz="2000" spc="-1" strike="noStrike">
                <a:solidFill>
                  <a:srgbClr val="ffffff"/>
                </a:solidFill>
                <a:latin typeface="Tahoma"/>
              </a:rPr>
              <a:t> </a:t>
            </a:r>
            <a:endParaRPr b="0" lang="en-US" sz="20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274680"/>
            <a:ext cx="829152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МЕТА ТА ЗАВДАННЯ НАВЧАЛЬНОЇ ДИСЦИПЛІНИ:</a:t>
            </a:r>
            <a:endParaRPr b="0" lang="en-US" sz="40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є засвоєння значення норм права, які регулюють різні форми захисту суб'єктивних прав, роль цивільного процесуального права в світлі гарантованого Конституцією права всіх громадян на судовий захист, права на оскарження в суді дій посадових осіб, порядок розгляду та вирішення цивільних справ судами загальної юрисдикції, нерозривний зв'язок норм права з їх практичним застосуванням.</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277560"/>
            <a:ext cx="8218440" cy="18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4. Заходи процесуального примусу у цивільному процесі.</a:t>
            </a:r>
            <a:endParaRPr b="0" lang="en-US" sz="4000" spc="-1" strike="noStrike">
              <a:solidFill>
                <a:srgbClr val="dbbd71"/>
              </a:solidFill>
              <a:latin typeface="Arial"/>
            </a:endParaRPr>
          </a:p>
        </p:txBody>
      </p:sp>
      <p:sp>
        <p:nvSpPr>
          <p:cNvPr id="190" name="PlaceHolder 2"/>
          <p:cNvSpPr>
            <a:spLocks noGrp="1"/>
          </p:cNvSpPr>
          <p:nvPr>
            <p:ph/>
          </p:nvPr>
        </p:nvSpPr>
        <p:spPr>
          <a:xfrm>
            <a:off x="468000" y="2133720"/>
            <a:ext cx="8218440" cy="44640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оняття заходів процесуального примусу. Підстави і порядок застосування заходів процесуального примусу.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иди заходів процесуального примусу. Попередження і видалення із залу судового засідання. Тимчасове вилучення доказів для дослідження судом. Привід свідка. </a:t>
            </a:r>
            <a:endParaRPr b="0" lang="en-US" sz="32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5. Докази і доказування в цивільному процесі.</a:t>
            </a:r>
            <a:endParaRPr b="0" lang="en-US" sz="4000" spc="-1" strike="noStrike">
              <a:solidFill>
                <a:srgbClr val="dbbd71"/>
              </a:solidFill>
              <a:latin typeface="Arial"/>
            </a:endParaRPr>
          </a:p>
        </p:txBody>
      </p:sp>
      <p:sp>
        <p:nvSpPr>
          <p:cNvPr id="192"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і ціль судового доказування. Докази і засоби доказування. Предмет доказування як сукупність обставин, що свідчать про дійсні взаємовідносини сторін у справі. Загальновідомі, преюдиційні і презюмовані факти, що не підлягають доказуванню. Належність доказів і допустимість засобів доказування. Класифікація доказів за джерелом їх отримання, засобу утворення та за іншими підставами. Оцінка доказів як найбільш важлива стадія процесу доказування та її принципи. Види засобів доказування. Забезпечення доказів. Судові доручення.</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6. Наказне провадження.</a:t>
            </a:r>
            <a:endParaRPr b="0" lang="en-US" sz="4000" spc="-1" strike="noStrike">
              <a:solidFill>
                <a:srgbClr val="dbbd71"/>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та особливості наказного провадження і судового наказу. Порушення наказного провадження. Видача судового наказу. Повідомлення боржника про видачу судового наказу. Набрання судовим наказом законної сили та видача його стягувачеві. Скасування судового наказу. </a:t>
            </a:r>
            <a:endParaRPr b="0" lang="en-US" sz="32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dbbd71"/>
                </a:solidFill>
                <a:latin typeface="Arial"/>
              </a:rPr>
              <a:t>Рекомендована література</a:t>
            </a:r>
            <a:endParaRPr b="0" lang="en-US" sz="4400" spc="-1" strike="noStrike">
              <a:solidFill>
                <a:srgbClr val="dbbd71"/>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Васильєв С.В. Цивільний процес: Навчальний посібник.— Х.: ТОВ «Одіссей», 2007.— 48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Гражданский процесс // Под общей ред. Ю.С. Червоного – К: Истина, 2006. – 40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Кравчук В.М.Угриновська О.І. Науково-практичний коментар до Цивільного процесуального кодексу України.— 2-ге вид., перероб. і доп.— Х.: Фактор, 2010. — 800с.</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Цивільне процесуальне право України: Підручник / Бичкова С.С., Бирюков І.А., Бобрик В.І. та ін.; За заг. ред. С.С. Бичкової.— К.: Атіка, 2009.—76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Чорнооченко С.І. Цивільний процес: Вид. 2-ге, перероб. та доп.: Навчальний посібник. – К.: Центр навчальної літератури, 2005. – 472 с.</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dbbd71"/>
                </a:solidFill>
                <a:latin typeface="Arial"/>
              </a:rPr>
              <a:t>Інтернет ресурси</a:t>
            </a:r>
            <a:endParaRPr b="0" lang="en-US" sz="4400" spc="-1" strike="noStrike">
              <a:solidFill>
                <a:srgbClr val="dbbd71"/>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portal.rada.gov.ua – офіційний сайт Верховної Ради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ligazakon.ua/ – правовий портал.</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president.gov.ua – офіційне Інтернет представництво Президента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kmu.gov.ua/control – єдиний веб-портал органів виконавчої влади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scourt.gov.ua – інформаційний сервер Верхов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ccu.gov.ua/pls/wccu/indx – офіційний веб-сайт Конституцій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vasu.gov.ua – офіційний веб-сайт Вищого адміністратив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arbitr.gov.ua – офіційне Інтернет представництво Вищого господарськ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nbuv.gov.ua – Національна бібліотека України імені В.І. Вернадського</a:t>
            </a:r>
            <a:endParaRPr b="0" lang="en-US" sz="20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В результаті вивчення дисципліни “АПЦСУ” студент повинен знати:</a:t>
            </a:r>
            <a:br>
              <a:rPr sz="2800"/>
            </a:br>
            <a:endParaRPr b="0" lang="en-US" sz="2800" spc="-1" strike="noStrike">
              <a:solidFill>
                <a:srgbClr val="dbbd71"/>
              </a:solidFill>
              <a:latin typeface="Arial"/>
            </a:endParaRPr>
          </a:p>
        </p:txBody>
      </p:sp>
      <p:sp>
        <p:nvSpPr>
          <p:cNvPr id="157" name="PlaceHolder 2"/>
          <p:cNvSpPr>
            <a:spLocks noGrp="1"/>
          </p:cNvSpPr>
          <p:nvPr>
            <p:ph/>
          </p:nvPr>
        </p:nvSpPr>
        <p:spPr>
          <a:xfrm>
            <a:off x="456840" y="1341000"/>
            <a:ext cx="8435880" cy="504036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тан основних проблем науки цивільного процесуального права;</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функції судової влади в системі державної влади та форми її здійснення;</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редмет цивільного процесуального права;</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уть та значення цивільної процесуальної форм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джерела цивільного процесуального права та їх структуру;</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оняття та значення процесуальних правовідносин, їх місце в механізмі правового регулювання, передумови їх виникнення;</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равовий статус суду та осіб, які беруть участь у справі, їх процесуальні права та обов'язк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истему процесуальних актів та вимоги, яким вони повинні відповідат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орядок реалізації судових постанов;</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удову практику у цивільних справах.</a:t>
            </a:r>
            <a:endParaRPr b="0" lang="en-US" sz="20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В результаті вивчення дисципліни “АПЦСУ” студент повинен вміти:</a:t>
            </a:r>
            <a:br>
              <a:rPr sz="2800"/>
            </a:br>
            <a:endParaRPr b="0" lang="en-US" sz="2800" spc="-1" strike="noStrike">
              <a:solidFill>
                <a:srgbClr val="dbbd71"/>
              </a:solidFill>
              <a:latin typeface="Arial"/>
            </a:endParaRPr>
          </a:p>
        </p:txBody>
      </p:sp>
      <p:sp>
        <p:nvSpPr>
          <p:cNvPr id="159"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використовувати дані науки цивільного процесуального права для вирішення професійних завдань;</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орієнтуватися в системі цивільного процесуального законодавства та в судовій практиці у цивільних справах;</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тлумачити чинне цивільне процесуальне законодавство;</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правильно застосовувати норми цивільно-процесуального права;</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здійснювати оцінку доказів у цивільній справі;</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складати оцінку доказів у цивільній справі;</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складати цивільно-процесуальні документи та ділову документацію. </a:t>
            </a: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dbbd71"/>
                </a:solidFill>
                <a:latin typeface="Arial"/>
              </a:rPr>
              <a:t>Структура курсу </a:t>
            </a:r>
            <a:br>
              <a:rPr sz="4000"/>
            </a:br>
            <a:r>
              <a:rPr b="0" lang="uk-UA" sz="4000" spc="-1" strike="noStrike">
                <a:solidFill>
                  <a:srgbClr val="dbbd71"/>
                </a:solidFill>
                <a:latin typeface="Arial"/>
              </a:rPr>
              <a:t>“АПЦСУ”</a:t>
            </a:r>
            <a:endParaRPr b="0" lang="en-US" sz="40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урс складається з чотирьох модулів:</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a:t>
            </a:r>
            <a:r>
              <a:rPr b="0" lang="uk-UA" sz="3200" spc="-1" strike="noStrike">
                <a:solidFill>
                  <a:srgbClr val="ffffff"/>
                </a:solidFill>
                <a:latin typeface="Tahoma"/>
              </a:rPr>
              <a:t>1 - </a:t>
            </a:r>
            <a:r>
              <a:rPr b="1" lang="uk-UA" sz="3200" spc="-1" strike="noStrike">
                <a:solidFill>
                  <a:srgbClr val="ffffff"/>
                </a:solidFill>
                <a:latin typeface="Tahoma"/>
              </a:rPr>
              <a:t>Загальні положення.</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2 - </a:t>
            </a:r>
            <a:r>
              <a:rPr b="1" lang="uk-UA" sz="3200" spc="-1" strike="noStrike">
                <a:solidFill>
                  <a:srgbClr val="ffffff"/>
                </a:solidFill>
                <a:latin typeface="Tahoma"/>
              </a:rPr>
              <a:t>Провадження у суді першої інстанції.</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3 - </a:t>
            </a:r>
            <a:r>
              <a:rPr b="1" lang="uk-UA" sz="3200" spc="-1" strike="noStrike">
                <a:solidFill>
                  <a:srgbClr val="ffffff"/>
                </a:solidFill>
                <a:latin typeface="Tahoma"/>
              </a:rPr>
              <a:t>Окреме провадження. Перегляд судових рішень.</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4 - </a:t>
            </a:r>
            <a:r>
              <a:rPr b="1" lang="uk-UA" sz="3200" spc="-1" strike="noStrike">
                <a:solidFill>
                  <a:srgbClr val="ffffff"/>
                </a:solidFill>
                <a:latin typeface="Tahoma"/>
              </a:rPr>
              <a:t>Інші питання цивільного судочинства.</a:t>
            </a:r>
            <a:r>
              <a:rPr b="0" lang="uk-UA"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МІЖДИСЦИПЛІНАРНІ ЗВ’ЯЗКИ</a:t>
            </a:r>
            <a:endParaRPr b="0" lang="en-US" sz="40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Теорія держави та права,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онституцій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Адміністративне право,</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Сімей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Трудов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Земель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Фінансов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римінально-процесуальне право.</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767960"/>
            <a:ext cx="8569440" cy="2597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400" spc="-1" strike="noStrike">
                <a:solidFill>
                  <a:srgbClr val="dbbd71"/>
                </a:solidFill>
                <a:latin typeface="Arial"/>
              </a:rPr>
              <a:t>ЗМІСТ КУРСУ “АПЦСУ”</a:t>
            </a:r>
            <a:br>
              <a:rPr sz="5400"/>
            </a:br>
            <a:r>
              <a:rPr b="0" lang="uk-UA" sz="5400" spc="-1" strike="noStrike">
                <a:solidFill>
                  <a:srgbClr val="dbbd71"/>
                </a:solidFill>
                <a:latin typeface="Arial"/>
              </a:rPr>
              <a:t>І семестр</a:t>
            </a:r>
            <a:endParaRPr b="0" lang="en-US" sz="5400" spc="-1" strike="noStrike">
              <a:solidFill>
                <a:srgbClr val="dbbd71"/>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dbbd71"/>
                </a:solidFill>
                <a:latin typeface="Arial"/>
              </a:rPr>
              <a:t>Тема 1. Цивільне процесуальне право як галузь права. Цивільний процес.</a:t>
            </a:r>
            <a:endParaRPr b="0" lang="en-US" sz="3200" spc="-1" strike="noStrike">
              <a:solidFill>
                <a:srgbClr val="dbbd71"/>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гальні положення цивільного процесуального права. Поняття цивільного процесуального права. Предмет, метод і система цивільного процесуального права. Джерела цивільного процесуального права. Поняття, основні ознаки і значення цивільної процесуальної форми. Цивільний процес: поняття, провадження, стадії. Предмет і система науки цивільного процесуального права.</a:t>
            </a: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2. Принципи цивільного процесуального права.</a:t>
            </a:r>
            <a:endParaRPr b="0" lang="en-US" sz="4000" spc="-1" strike="noStrike">
              <a:solidFill>
                <a:srgbClr val="dbbd71"/>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принципів і їх значення. Система принципів цивільного процесуального права. Проблема класифікації цивільного процесуального права. Взаємозв’язок принципів цивільного процесуального права.</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Організаційно-функціональні принципи цивільного процесуального права: здійснення правосуддя тільки судом, незалежність суддів та їх підкорення тільки законові, рівність громадян і організацій  перед законом та судом, принцип гласності, державна мова судочинства.</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Функціональні принципи: принцип законності, диспозитивності, змагальності, процесуальної рівності сторін, усності, безпосередності та безперервності.</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8:54:06Z</dcterms:created>
  <dc:creator>Admin</dc:creator>
  <dc:description/>
  <dc:language>en-US</dc:language>
  <cp:lastModifiedBy>1</cp:lastModifiedBy>
  <dcterms:modified xsi:type="dcterms:W3CDTF">2021-11-22T11:47:55Z</dcterms:modified>
  <cp:revision>10</cp:revision>
  <dc:subject/>
  <dc:title>ЦИВІЛЬНИЙ ПРОЦЕС (за вимогами кредитно-модульної системи) </dc:title>
</cp:coreProperties>
</file>