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BA5D-7F19-455C-89EE-FD03CB27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ECDF-00F1-460B-BA8F-3C8B4C71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E4D4-AF31-4911-B988-680CF2E0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F608-9B4D-4A84-9958-2335A518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AA63-03D7-44E7-BDB8-F6A083E9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9590-FDB6-4F91-879B-83E7B62C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36D-E501-4F5F-ABE1-7D7B29C0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85B9-1288-4A80-BF69-FA68EF38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66E2-AAE8-40BF-B132-066636CA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9A64-BC63-4FF7-BE4E-2AB17DF6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DB4-55C0-4C05-884B-9AC73E14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563-8D20-4FF9-9709-181E189E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4CFD-969E-4842-81CF-DAD50C343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снови управлінського консульту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пис кур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інське консультування є особливою сферою послуг і складовою частиною інфраструктури ринкової економіки. Це важлива професійна діяльність, що допомагає керівникам аналізувати і вирішувати практичні завдання, пов’язані не тільки зі станом, але і стратегічним розвитком підприємства, а також переймати новітні досягнення вітчизняного і зарубіжного походження. Розвиток і зростання управлінського консультування в Україні свідчить про важливість і необхідність підготовки фахівців вищої кваліфікації для надання професійних послуг у цій сфері.Становлення та розвиток ринку консалтингових послуг в Україні пов’язані із започаткуванням підприємництва та роздержавленням власності. Виникла потреба у створенні методичної бази приватизаційних заходів на підприємствах та обґрунтуванні безлічі бізнес-планів з метою отримання інвестиційних коштів. Спочатку задоволення попиту на ці послуги взяли на себе консультаційні підрозділи банків та організацій, що отримали право консультуватиз питань приватизації. Однак зі збільшенням попитуна консалтингові послуги в Україні виникла потребавідповідної професіоналізації консалтингу. Сьогоднішні вітчизняні менеджери чітко усвідомлюють необхідністьтакого консультування, при якому консультант здійснює не лише локальне виправлення вузьких проблем, а й поглиблено вивчаючи специфіку клієнтської організації, займається комплексними питаннями стратегічного розвитку конкретного підприємства, корпорації, бізн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а кур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є студентам глибоке розуміння про стан, проблеми та перспективи ефективного використання послуг професійних консультантів та практичні рекомендації зпитань організації та здійснення управлінського консультува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езультати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Ціннісно-смислова компетентність(формування у студентів систематизованого комплексу знань протеоретичні основи, завдання та методи управлінського консультування, необхідних дляпрактичного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Загально культурна компетентність (розуміння культурних,історичних та регіональних особливостей,що склалися в Україні та за її межами в області застосування консалтингових послуг на підприємствах різної форми влас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авчально-пізнавальна компетентність(знання можливостей та обмежень консультування як виду професійної діяльності, процедуру пошуку та вибору консультаційної організації, методи оцінки результативності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Інформаційна компетентність(розвиток вмінь студента до самостійного пошуку,аналізу,структурування та відбору потрібної інформації в області застосування консультаційної діяль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омунікативна компетентність (розвиток у студента навичок роботи в команді шляхом реалізації групових проектів в області формування умов консультаційних кейсів, використання на практиці рекомендації консультантів, аналіз шляхів становлення та розвитку національного ринку консультаційних послуг, використання нормативно-правової та технічної документації, науково-методичної літератури та застосування отриманих знань на практи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7T17:02:00Z</dcterms:created>
  <dc:creator>u</dc:creator>
  <dc:description/>
  <dc:language>en-US</dc:language>
  <cp:lastModifiedBy>u</cp:lastModifiedBy>
  <dcterms:modified xsi:type="dcterms:W3CDTF">2021-02-07T17:02:16Z</dcterms:modified>
  <cp:revision>1</cp:revision>
  <dc:subject/>
  <dc:title>Основи управлінського консультування</dc:title>
</cp:coreProperties>
</file>