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B8BB-DA5B-477A-BB45-6C9BEFA6F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100A-D3C6-48B0-9FDB-7C8A44D11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3011-4B67-45C1-8168-27EF82044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4F67-477C-4D21-8E3C-B7D217E32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5AF0-88D0-4894-8D28-AA8B0671A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C09E-C925-47FF-B477-D8A3CBBB5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E852-6FE1-4952-AFE5-D5EF52FCE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24F4-D997-4C42-AD1D-D64B55112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B165-6D6A-4D46-98E2-EC82869EB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9BBD-951F-4E9B-A832-EC86DC10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2C25-4C40-48AD-A22E-A589674A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46D6-FAF0-4FA8-93E7-31CA2FA2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1A6D7-F510-44C6-BAAB-275D7DDD4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Основи управлінського консультув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Опис курс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інське консультування є особливою сферою послуг і складовою частиною інфраструктури ринкової економіки. Це важлива професійна діяльність, що допомагає керівникам аналізувати і вирішувати практичні завдання, пов’язані не тільки зі станом, але і стратегічним розвитком підприємства, а також переймати новітні досягнення вітчизняного і зарубіжного походження. Розвиток і зростання управлінського консультування в Україні свідчить про важливість і необхідність підготовки фахівців вищої кваліфікації для надання професійних послуг у цій сфері.Становлення та розвиток ринку консалтингових послуг в Україні пов’язані із започаткуванням підприємництва та роздержавленням власності. Виникла потреба у створенні методичної бази приватизаційних заходів на підприємствах та обґрунтуванні безлічі бізнес-планів з метою отримання інвестиційних коштів. Спочатку задоволення попиту на ці послуги взяли на себе консультаційні підрозділи банків та організацій, що отримали право консультуватиз питань приватизації. Однак зі збільшенням попитуна консалтингові послуги в Україні виникла потребавідповідної професіоналізації консалтингу. Сьогоднішні вітчизняні менеджери чітко усвідомлюють необхідністьтакого консультування, при якому консультант здійснює не лише локальне виправлення вузьких проблем, а й поглиблено вивчаючи специфіку клієнтської організації, займається комплексними питаннями стратегічного розвитку конкретного підприємства, корпорації, бізнес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Мета курс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є студентам глибоке розуміння про стан, проблеми та перспективи ефективного використання послуг професійних консультантів та практичні рекомендації зпитань організації та здійснення управлінського консультуванн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Результати навча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Ціннісно-смислова компетентність(формування у студентів систематизованого комплексу знань протеоретичні основи, завдання та методи управлінського консультування, необхідних дляпрактичного консультуванн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Загально культурна компетентність (розуміння культурних,історичних та регіональних особливостей,що склалися в Україні та за її межами в області застосування консалтингових послуг на підприємствах різної форми власності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Навчально-пізнавальна компетентність(знання можливостей та обмежень консультування як виду професійної діяльності, процедуру пошуку та вибору консультаційної організації, методи оцінки результативності консультуванн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Інформаційна компетентність(розвиток вмінь студента до самостійного пошуку,аналізу,структурування та відбору потрібної інформації в області застосування консультаційної діяльності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Комунікативна компетентність (розвиток у студента навичок роботи в команді шляхом реалізації групових проектів в області формування умов консультаційних кейсів, використання на практиці рекомендації консультантів, аналіз шляхів становлення та розвитку національного ринку консультаційних послуг, використання нормативно-правової та технічної документації, науково-методичної літератури та застосування отриманих знань на практиц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2-07T17:02:00Z</dcterms:created>
  <dc:creator>u</dc:creator>
  <dc:description/>
  <dc:language>en-US</dc:language>
  <cp:lastModifiedBy>u</cp:lastModifiedBy>
  <dcterms:modified xsi:type="dcterms:W3CDTF">2021-02-07T17:02:16Z</dcterms:modified>
  <cp:revision>1</cp:revision>
  <dc:subject/>
  <dc:title>Основи управлінського консультування</dc:title>
</cp:coreProperties>
</file>