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1B7-95A3-4447-BA35-8409A4C6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EB8-C8DF-4EA8-9FC3-E3A6F0CE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0350-9B12-4DE7-BB8C-94FE3F3A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BB53-9EA5-4DC5-8312-401C6CD7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AD0D-EFC9-48FB-A5F6-3E3F3D0A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FBD-DDA8-40DF-A97A-E3813315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8CF-EBA4-4226-8A54-063B6B14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08B8-F783-4FDB-9B7D-4893A766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22F9-3DD7-4D0B-9B00-ACC8B9BF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AB94-81BE-47CF-A017-18534C40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4F49-79F0-4FBA-B0C7-752F3284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7795-30F0-4E7C-9D32-5DFB3F52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0210-B075-4394-A40B-EC594F01F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нови управлінського консульту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пис кур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інське консультування є особливою сферою послуг і складовою частиною інфраструктури ринкової економіки. Це важлива професійна діяльність, що допомагає керівникам аналізувати і вирішувати практичні завдання, пов’язані не тільки зі станом, але і стратегічним розвитком підприємства, а також переймати новітні досягнення вітчизняного і зарубіжного походження. Розвиток і зростання управлінського консультування в Україні свідчить про важливість і необхідність підготовки фахівців вищої кваліфікації для надання професійних послуг у цій сфері.Становлення та розвиток ринку консалтингових послуг в Україні пов’язані із започаткуванням підприємництва та роздержавленням власності. Виникла потреба у створенні методичної бази приватизаційних заходів на підприємствах та обґрунтуванні безлічі бізнес-планів з метою отримання інвестиційних коштів. Спочатку задоволення попиту на ці послуги взяли на себе консультаційні підрозділи банків та організацій, що отримали право консультуватиз питань приватизації. Однак зі збільшенням попитуна консалтингові послуги в Україні виникла потребавідповідної професіоналізації консалтингу. Сьогоднішні вітчизняні менеджери чітко усвідомлюють необхідністьтакого консультування, при якому консультант здійснює не лише локальне виправлення вузьких проблем, а й поглиблено вивчаючи специфіку клієнтської організації, займається комплексними питаннями стратегічного розвитку конкретного підприємства, корпорації, бізн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а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є студентам глибоке розуміння про стан, проблеми та перспективи ефективного використання послуг професійних консультантів та практичні рекомендації зпитань організації та здійснення управлінського консультува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езультати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Ціннісно-смислова компетентність(формування у студентів систематизованого комплексу знань протеоретичні основи, завдання та методи управлінського консультування, необхідних дляпрактичного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Загально культурна компетентність (розуміння культурних,історичних та регіональних особливостей,що склалися в Україні та за її межами в області застосування консалтингових послуг на підприємствах різної форми влас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вчально-пізнавальна компетентність(знання можливостей та обмежень консультування як виду професійної діяльності, процедуру пошуку та вибору консультаційної організації, методи оцінки результативності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Інформаційна компетентність(розвиток вмінь студента до самостійного пошуку,аналізу,структурування та відбору потрібної інформації в області застосування консультаційної діяль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омунікативна компетентність (розвиток у студента навичок роботи в команді шляхом реалізації групових проектів в області формування умов консультаційних кейсів, використання на практиці рекомендації консультантів, аналіз шляхів становлення та розвитку національного ринку консультаційних послуг, використання нормативно-правової та технічної документації, науково-методичної літератури та застосування отриманих знань на практи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7T17:02:00Z</dcterms:created>
  <dc:creator>u</dc:creator>
  <dc:description/>
  <dc:language>en-US</dc:language>
  <cp:lastModifiedBy>u</cp:lastModifiedBy>
  <dcterms:modified xsi:type="dcterms:W3CDTF">2021-02-07T17:02:16Z</dcterms:modified>
  <cp:revision>1</cp:revision>
  <dc:subject/>
  <dc:title>Основи управлінського консультування</dc:title>
</cp:coreProperties>
</file>