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E672-57D9-492E-A12D-703874438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A4E7-137B-4E69-861B-744B78C47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405A-0FB5-46B8-AE49-69F732F92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FE9E-0231-4D9F-98A5-7CE69C63C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0BE7-50FA-4DBB-8D49-7B0CBA055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E162-D6D4-4579-B9F3-FFEF85E34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3700-BC43-4A3F-A123-EAAAF916E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F3BA-4C83-4E25-A6C3-EE8FC33EF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38B3-CDEF-4A35-8B49-4BFC77E96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850A-20DA-451A-9614-8370E9B9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1756-C592-4083-8BA3-86ABB96D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88B7-34E4-4F20-89FB-668EE83E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6BA9E-988D-453A-90A4-ACF0D7856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Основи управлінського консультув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Опис курс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інське консультування є особливою сферою послуг і складовою частиною інфраструктури ринкової економіки. Це важлива професійна діяльність, що допомагає керівникам аналізувати і вирішувати практичні завдання, пов’язані не тільки зі станом, але і стратегічним розвитком підприємства, а також переймати новітні досягнення вітчизняного і зарубіжного походження. Розвиток і зростання управлінського консультування в Україні свідчить про важливість і необхідність підготовки фахівців вищої кваліфікації для надання професійних послуг у цій сфері.Становлення та розвиток ринку консалтингових послуг в Україні пов’язані із започаткуванням підприємництва та роздержавленням власності. Виникла потреба у створенні методичної бази приватизаційних заходів на підприємствах та обґрунтуванні безлічі бізнес-планів з метою отримання інвестиційних коштів. Спочатку задоволення попиту на ці послуги взяли на себе консультаційні підрозділи банків та організацій, що отримали право консультуватиз питань приватизації. Однак зі збільшенням попитуна консалтингові послуги в Україні виникла потребавідповідної професіоналізації консалтингу. Сьогоднішні вітчизняні менеджери чітко усвідомлюють необхідністьтакого консультування, при якому консультант здійснює не лише локальне виправлення вузьких проблем, а й поглиблено вивчаючи специфіку клієнтської організації, займається комплексними питаннями стратегічного розвитку конкретного підприємства, корпорації, бізнес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Мета курс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є студентам глибоке розуміння про стан, проблеми та перспективи ефективного використання послуг професійних консультантів та практичні рекомендації зпитань організації та здійснення управлінського консультуванн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Результати навча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Ціннісно-смислова компетентність(формування у студентів систематизованого комплексу знань протеоретичні основи, завдання та методи управлінського консультування, необхідних дляпрактичного консультуванн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Загально культурна компетентність (розуміння культурних,історичних та регіональних особливостей,що склалися в Україні та за її межами в області застосування консалтингових послуг на підприємствах різної форми власності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Навчально-пізнавальна компетентність(знання можливостей та обмежень консультування як виду професійної діяльності, процедуру пошуку та вибору консультаційної організації, методи оцінки результативності консультуванн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Інформаційна компетентність(розвиток вмінь студента до самостійного пошуку,аналізу,структурування та відбору потрібної інформації в області застосування консультаційної діяльності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Комунікативна компетентність (розвиток у студента навичок роботи в команді шляхом реалізації групових проектів в області формування умов консультаційних кейсів, використання на практиці рекомендації консультантів, аналіз шляхів становлення та розвитку національного ринку консультаційних послуг, використання нормативно-правової та технічної документації, науково-методичної літератури та застосування отриманих знань на практиц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2-07T17:02:00Z</dcterms:created>
  <dc:creator>u</dc:creator>
  <dc:description/>
  <dc:language>en-US</dc:language>
  <cp:lastModifiedBy>u</cp:lastModifiedBy>
  <dcterms:modified xsi:type="dcterms:W3CDTF">2021-02-07T17:02:16Z</dcterms:modified>
  <cp:revision>1</cp:revision>
  <dc:subject/>
  <dc:title>Основи управлінського консультування</dc:title>
</cp:coreProperties>
</file>