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E318-A650-4E1D-B4EA-F6240550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6C45-B4A0-46CA-B299-988AD0EB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2E03-1AA5-470D-91D3-1B540F7F0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AB5A-17CB-4B6F-A317-0A44EFFFA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3966-6CF9-47E5-B815-11910E33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4B57-436D-405E-A5C2-CC6501D8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5505-C33C-4BCF-B734-F130A4B8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5017-9AA2-4BC2-A364-964AC711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DE93-68AF-450A-96E7-C0F777C1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1C95-EC82-40DC-9C66-38FAC318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5C97-8642-486E-BF53-FA7B0E87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A8C8-6F6B-4155-A002-A70A9CB9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42FB-4C8C-4505-AFBD-09A0284F0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Основи управлінського консультув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пис кур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інське консультування є особливою сферою послуг і складовою частиною інфраструктури ринкової економіки. Це важлива професійна діяльність, що допомагає керівникам аналізувати і вирішувати практичні завдання, пов’язані не тільки зі станом, але і стратегічним розвитком підприємства, а також переймати новітні досягнення вітчизняного і зарубіжного походження. Розвиток і зростання управлінського консультування в Україні свідчить про важливість і необхідність підготовки фахівців вищої кваліфікації для надання професійних послуг у цій сфері.Становлення та розвиток ринку консалтингових послуг в Україні пов’язані із започаткуванням підприємництва та роздержавленням власності. Виникла потреба у створенні методичної бази приватизаційних заходів на підприємствах та обґрунтуванні безлічі бізнес-планів з метою отримання інвестиційних коштів. Спочатку задоволення попиту на ці послуги взяли на себе консультаційні підрозділи банків та організацій, що отримали право консультуватиз питань приватизації. Однак зі збільшенням попитуна консалтингові послуги в Україні виникла потребавідповідної професіоналізації консалтингу. Сьогоднішні вітчизняні менеджери чітко усвідомлюють необхідністьтакого консультування, при якому консультант здійснює не лише локальне виправлення вузьких проблем, а й поглиблено вивчаючи специфіку клієнтської організації, займається комплексними питаннями стратегічного розвитку конкретного підприємства, корпорації, бізнес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ета курс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є студентам глибоке розуміння про стан, проблеми та перспективи ефективного використання послуг професійних консультантів та практичні рекомендації зпитань організації та здійснення управлінського консультуван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Результати навч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Ціннісно-смислова компетентність(формування у студентів систематизованого комплексу знань протеоретичні основи, завдання та методи управлінського консультування, необхідних дляпрактичного консультуванн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Загально культурна компетентність (розуміння культурних,історичних та регіональних особливостей,що склалися в Україні та за її межами в області застосування консалтингових послуг на підприємствах різної форми власності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Навчально-пізнавальна компетентність(знання можливостей та обмежень консультування як виду професійної діяльності, процедуру пошуку та вибору консультаційної організації, методи оцінки результативності консультуванн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Інформаційна компетентність(розвиток вмінь студента до самостійного пошуку,аналізу,структурування та відбору потрібної інформації в області застосування консультаційної діяльності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Комунікативна компетентність (розвиток у студента навичок роботи в команді шляхом реалізації групових проектів в області формування умов консультаційних кейсів, використання на практиці рекомендації консультантів, аналіз шляхів становлення та розвитку національного ринку консультаційних послуг, використання нормативно-правової та технічної документації, науково-методичної літератури та застосування отриманих знань на практиц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07T17:02:00Z</dcterms:created>
  <dc:creator>u</dc:creator>
  <dc:description/>
  <dc:language>en-US</dc:language>
  <cp:lastModifiedBy>u</cp:lastModifiedBy>
  <dcterms:modified xsi:type="dcterms:W3CDTF">2021-02-07T17:02:16Z</dcterms:modified>
  <cp:revision>1</cp:revision>
  <dc:subject/>
  <dc:title>Основи управлінського консультування</dc:title>
</cp:coreProperties>
</file>