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AD4-5B75-4E42-B6D0-BF5E3C4B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F87-EBE0-4542-AA6F-A703098C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3DF-3E43-4A88-A1DC-923039D1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10E-4685-42C0-A4DE-8C189824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155-A43B-47D9-9186-E2C18EA7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B4D-1A08-4604-AF21-23951F6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D0F6-1DF2-46FB-A3E4-FCB7F168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600E-17AE-433A-9CF7-DEFE391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39C-B8E0-4EC3-A133-3BD9866B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7D2-A2C3-402A-908E-59CF8403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8118-997F-4C34-B5B2-965D5B3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95A-C2B3-45B3-AFFC-993EFCB1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CE9-3ECB-4DDC-B114-2A1C517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8124-C01B-446F-B667-005BF8B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674A-99C4-431C-AB74-5BC4D193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60C-3FDD-4D62-BB6B-495EACEE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785-ADD5-462C-B0E6-5DE206A4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241-5459-42E6-971E-1BA2905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BD8-F6AD-4E71-B98A-0BE9851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6BD-FFB4-4D87-A4CE-2E2C2947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99C-625A-4FAA-BCB4-FA1E4FC3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CC7-F05A-45AF-A503-5CF4E42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043-4782-4D60-9FE6-9824CC67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41C-A67F-48B2-8EEC-4EEA8494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352-41E2-423F-88E9-C2C0F3BAC4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7B9-8B79-439F-809E-E0791D1C91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Редагування медіатекстів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а дисциплі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сформувати практичні навички з редакторської оцінки та виправлення оригіналів різних видів медіапродуктів; навчити методиці роботи з композиційною структурою медіатексту, його лексико-стилістичним оформленням; сформувати вміння  працювати із зверстаним текст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вдання  дисциплін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значити специфіку професійної діяльності редактора медіатекст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анувати  нормативну базу редагування медіатекст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вивчити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у редагування медіатекстів (вичитування, доопрацювання, переробки, скорочення, аналіз тематичної, композиційної організації тексту, робота з фактологічним матеріалом, коректура тексту).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ні результати навчанн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6960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інювати свій або чужий інформаційний проду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итично оцінювати, редагувати авторські матеріа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ворювати грамотний  медіапродукт на задану тему, визначеного жанр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0T07:42:44Z</dcterms:created>
  <dc:creator>Microsoft Office</dc:creator>
  <dc:description/>
  <dc:language>en-US</dc:language>
  <cp:lastModifiedBy>Microsoft Office</cp:lastModifiedBy>
  <dcterms:modified xsi:type="dcterms:W3CDTF">2021-12-10T07:56:05Z</dcterms:modified>
  <cp:revision>3</cp:revision>
  <dc:subject/>
  <dc:title>Редагування медіатексті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