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305-3199-4482-97D3-99B7DEF8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B24-9598-4196-8C72-8985426D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BAA-CF1A-4F54-83C6-A8DE27CA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151-6216-49FF-B4B3-FAA8355A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AE24-FAC9-4B4D-B4EB-4788396C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4F53-CB4A-42F0-9B24-EC27C94D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8D91-7F54-4461-8DB5-268D6AF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580B-BD13-49DE-B498-5D3D7F34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9B44-4897-4BB5-A10D-70BFB33E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D703-DAEB-425A-8689-C68315D2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E13E-5BE6-44BE-99A3-C9861E3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CD4-C05F-43A1-8D91-C20075C7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D131-D3FF-43BD-ACA2-DFD0F568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1E93-9902-492B-921C-E222F474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64CE-DBFD-4A45-847A-48534DE5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692B-8BD6-41E2-87FF-CD1408F1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28A4-DC05-47D0-9EDA-D2D27BC3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9A6-C84B-4A9B-9B75-C8DF4AD0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A80-B720-46D5-9563-7CB031B9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ED9-0C3E-449D-9E65-D279D390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9ED-4C02-4D21-91FA-5A179BDE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B9F-DF06-4EF9-985D-20B7BC62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BEC-E89C-4BF7-A1AC-ADC047E5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043-C45F-4250-AA1E-92806934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2543-405D-430B-AB8B-D347FB6D6C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64F-6A03-4835-A4E6-50D64B849BE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42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Редагування медіатекстів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та дисциплі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сформувати практичні навички з редакторської оцінки та виправлення оригіналів різних видів медіапродуктів; навчити методиці роботи з композиційною структурою медіатексту, його лексико-стилістичним оформленням; сформувати вміння  працювати із зверстаним тексто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вдання  дисциплін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значити специфіку професійної діяльності редактора медіатексті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анувати  нормативну базу редагування медіатексті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вивчити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у редагування медіатекстів (вичитування, доопрацювання, переробки, скорочення, аналіз тематичної, композиційної організації тексту, робота з фактологічним матеріалом, коректура тексту).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сновні результати навчанн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6960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інювати свій або чужий інформаційний продукт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итично оцінювати, редагувати авторські матеріал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ворювати грамотний  медіапродукт на задану тему, визначеного жанр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0T07:42:44Z</dcterms:created>
  <dc:creator>Microsoft Office</dc:creator>
  <dc:description/>
  <dc:language>en-US</dc:language>
  <cp:lastModifiedBy>Microsoft Office</cp:lastModifiedBy>
  <dcterms:modified xsi:type="dcterms:W3CDTF">2021-12-10T07:56:05Z</dcterms:modified>
  <cp:revision>3</cp:revision>
  <dc:subject/>
  <dc:title>Редагування медіатексті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