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8B9-1060-47B8-85F8-E05FC2E8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5EC-B81C-4031-A34C-AE8D54E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728-597D-456B-BD36-D90A682A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B98-D81A-47B8-8887-240B0651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3FF6-C9EE-4813-AE18-F18C9549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1A8B-AC3C-4064-8C2E-936CA403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2A2C-D9B7-4D35-AE64-AB09A0E4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EC08-5219-4362-B92D-9B922F73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635E-01E3-4DB9-9423-846EF8E4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4381-EE17-400C-A4A8-A982DC7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88D2-E9A8-463A-A757-B699AC38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BA6-A3A0-424E-9A41-8891167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04F9-B4EF-4A22-9430-8481EEC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1A2F-C307-4AB0-A31D-315D0F06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DD71-440F-4A46-A192-6568D0C8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6338-573A-4B2C-8F65-D9B37854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143D-104C-43BF-BF83-04CD9AD0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530-E605-4845-859A-AA246C27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4B1-0E37-4932-B795-8086E60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E1E-4578-4762-9907-E01EB5D1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0BE-E2C3-4C24-9520-EC2D5CEF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EEB-847F-47E1-988D-6A5814C7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85A-0486-4F1F-BACB-890166E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CC1E-D444-4FD8-882F-4B60A90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7381-673E-4A46-B0E7-A8FC6F0FF3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AB4-7E7D-4E66-943A-DB8F106AEC5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2000" y="242064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Comic Sans MS"/>
              </a:rPr>
              <a:t>Редагування медіатекстів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ета дисциплі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сформувати практичні навички з редакторської оцінки та виправлення оригіналів різних видів медіапродуктів; навчити методиці роботи з композиційною структурою медіатексту, його лексико-стилістичним оформленням; сформувати вміння  працювати із зверстаним текст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авдання  дисципліни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значити специфіку професійної діяльності редактора медіатекст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анувати  нормативну базу редагування медіатексті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вивчити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у редагування медіатекстів (вичитування, доопрацювання, переробки, скорочення, аналіз тематичної, композиційної організації тексту, робота з фактологічним матеріалом, коректура тексту). 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ні результати навчанн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69608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інювати свій або чужий інформаційний продукт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ритично оцінювати, редагувати авторські матеріал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ворювати грамотний  медіапродукт на задану тему, визначеного жанр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0T07:42:44Z</dcterms:created>
  <dc:creator>Microsoft Office</dc:creator>
  <dc:description/>
  <dc:language>en-US</dc:language>
  <cp:lastModifiedBy>Microsoft Office</cp:lastModifiedBy>
  <dcterms:modified xsi:type="dcterms:W3CDTF">2021-12-10T07:56:05Z</dcterms:modified>
  <cp:revision>3</cp:revision>
  <dc:subject/>
  <dc:title>Редагування медіатекстів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