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BD01-6962-419D-9C08-358834CA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15D-0F7A-4232-A1D8-31C93C85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722F7-87E4-4D2E-B187-7FDA73DF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12A2E-4246-40C6-94AA-A26A3DC9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00ACB3-BA77-4739-A986-9C63CCFA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CDB0D-060D-453A-94C9-C72F3F38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B7A91-AD45-4510-A347-8FC9F75C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59F6F-C886-4260-A2F1-FBF47F36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E17709-98D2-41A7-81AC-8198C070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9B95E-7F98-45A1-99F5-3CBA5CF9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9E71D-B49B-436A-8F5E-5A89D8B5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4E4EEB-A951-4431-8D45-84771877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5A54-6CE7-4405-90BE-856270F0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A263D-A8E6-4929-B2F1-9C77399D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1AF772-0D74-44EA-8585-3261264D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D416F-4801-49DF-97C6-980375D1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6A234-53FD-43F1-8B3A-E0DC02D2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303A00-8877-41A4-AD7F-6844FC43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6C5126-E525-446B-90D6-B1163229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FE30F6-BE15-4431-855A-CFC3D04F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E0F7C9-098C-439C-B902-F7678EC7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B4D81-33AF-48F0-8135-1A6B716F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699D0-F543-48C8-B1C5-0772AE3C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7DDC-3D54-4CB3-86C2-364DAE60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65B49-E744-45C4-BCB8-5A81285C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4A250-3AB5-44BD-A0C9-7D4B286E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D9209-FE43-442B-9F78-382EBDA6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A65B2-2090-4379-8828-339C4DA5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12D31-9AFF-45A8-8FB5-39398C0E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C34FB-1E68-453E-B9BA-0C507A8D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B4BFB-A71F-4AE9-BCE9-BEE9F1E5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D99C5-BF5D-4C77-9A88-789A0601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B2489-D304-4929-8C0C-E5C637DE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15084-910A-4313-B3DF-96222B67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45F5-3379-4202-9947-A5CEE4B6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2EC37-84CB-47A6-9203-9471B7E2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69B8C-9059-4780-B54C-A2F2F5C4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F2496-64CB-4571-AA61-8B3BA41B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7E6845-8E98-4CDB-97E7-FE1EFB28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9D20A-77CD-4F48-943A-6E5335F3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F8B37-A10B-49BE-9200-3C7AD0FA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AD678-A5E3-40AC-AFD6-A1D1324F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6FFF7-A3AB-4157-A008-3484FFC6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4B199-866F-465F-9583-A2BCE567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B22C67-A487-44B1-A010-4D16A3A7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CA49-D21F-4173-91A8-65549A5F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13C0A-F5E6-4EB5-A304-58D282EA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099BE-0CEE-4364-A6D5-3CAA3D5A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729A20-B66B-4BF3-A280-6E57961F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2C201-672D-4DC4-A715-90D8F712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FFE2CF-A25C-4FAC-83DD-362185E6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1C94-9085-4049-A8EE-042926EE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EEFB-F75F-4EF5-AF3A-25C8ECC2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C915-FBC2-4C1D-8895-548EE098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577F-D0B2-48D6-9F6C-93CD354C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0244-D664-4F0B-A876-653F75AD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95A-87D1-4E93-857F-D197AB49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856A-7922-4742-99AD-8766565E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8C72-7FBC-46A3-A5F5-CE84FC31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0469-1B40-494D-97FC-FF0CE8D4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2B51-3666-460C-875F-531BF468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CA04-59A7-44E4-B423-8F55C034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99973-97B3-41A4-A9F0-4EE60163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F88B1-6E6C-4A30-BA2B-4DDCAFBF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B79C3-5C67-4345-8355-212FF67E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1C7E1-3C9B-4780-ABEC-9CEF53B5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0C308-CCDE-4C7B-BE86-AEFA4CFE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793-5257-43D4-9440-07C062F3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CB18-A3A8-48BB-93D0-22578AD9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E519A-8633-4069-AB94-41E53636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F53D0-6EA5-4DB9-ACD6-E681CB05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14B2C-89A5-4850-B1FA-789BA06E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A1567-6865-4A01-9394-F7137D08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02A3C-7B2F-4218-A1A4-C0363508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A9E1D-6075-4939-AA90-305391AF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CC2D5-BF37-4F19-AAA6-A96A1B39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AF27F-1830-4A32-B945-CCE48E6A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8ACF1-8F6D-4BEE-BDE7-5AC2633C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F010-9276-4C73-93F8-FE22A593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0F667-3EFB-4C02-96AC-89D499FD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4B5C-C1A1-4314-9B0A-3C4808CF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582E3-A70B-4A96-ADAF-59228447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C70E3-4D6C-46BD-8FB5-2FA4C1E9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90C01-EF11-4F3B-B0CE-BA7AE152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73D04-4993-471F-905C-54B4FEB4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93389-F57A-4A35-8D5C-B48C65D6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876DC-0F19-40D4-A437-31E0DA8F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3966C-1E3F-40A6-B05F-C2817FAF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2166B-B674-4AF6-9105-2B166721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E0D9-863E-4C7A-ADE4-64DA1148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98740-9479-4EDA-BB3A-84C0283C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6DAC4-CB43-48B5-8E9C-82E66CED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75152-A89B-49FE-AD71-EA2750A3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C56A3-3E2C-429D-BABF-63A41F1B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6DCD0-013D-4A79-8945-497AFE99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1F99F-D509-4E76-8792-EBB3C6D1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54BBD-0635-4B84-B64F-32DA22CA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81ED3-8DC7-47B7-B7CB-359A69FD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53471-98F2-44EB-8AFA-BFECA656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2DE4C-A9FB-4244-A159-F5AD3E09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465-1C12-4872-A927-E5884B0A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AB95B-B539-4EBF-A8E8-1A1E3CE4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A50E1-B0C1-4FDD-8F6C-1D919D05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9C641-4D1A-4FDA-9C89-4718E67C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20CE2-FD8F-49BE-B06A-6FCCC9F6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16674-03A2-4981-9F86-74284C77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43157-538A-47AC-8212-19C5D863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68421-ACA6-4D12-A1D3-FB5F4E8F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E6ECC-062B-460C-A7D8-5B56DA2B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BAB96-A3AE-4FF5-8FD0-E8BF0B5C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6BA06-886F-4973-999E-394730D8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E45-F0F9-4CB6-AC11-74E502B5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B2D23-5EE4-4D69-9AD8-4473F9B6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1FF9B-B4A7-4E50-BF82-14E327A2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63A5F-93EF-45D4-BABD-336421CF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FE4A5-5C19-4941-B190-1237185F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5119C-AFAC-4882-A771-D98A32F1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CF721-A237-4BA1-AB94-E5654DCB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7B0DB-C4D7-4287-BBB0-FC47BD44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B3322-DB25-41AA-A5FB-064D28BA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6323A-D621-4D8A-B277-8E9CED60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B38B0-43AA-4E61-B919-07BE10A7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3D0-EF25-463E-958D-DB87BE8F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6DE74-0B12-4F44-9EB8-28D53A1F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513D0-D88B-40BE-93D6-F560214A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E97D8-1E18-4FA8-BD70-CE17FC47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69E30-4021-4C06-A010-5AF4014B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435AE-5ADC-48F4-8FAE-211198DA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2786E-07D8-485A-8A7D-31BE194B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34BD1-1F3D-44D6-924A-0239BF30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B9588-72FB-4E90-8809-9EC25A6C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90355-335B-49C3-B971-411CDEA7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5A45B-9DA5-4311-9FBD-9A06B58C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034-9BD7-4000-9353-CE2D62C6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884D8-99B4-4A61-BDD8-A8D08CEF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5EB34-27A0-4972-8112-B0D7FE57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20FC4-3982-4E0D-A18D-33FD8299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E0DD3-534F-4C95-A291-4AE04E28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CF678-8CAA-42C4-84CA-502F44AF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6F4F9-D786-47A8-A83A-FF83E7D9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3D5FB-0D77-4B14-8062-CB9658F4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5C504-5D45-449F-9452-7BE3CA6B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6D872-4ACE-4A80-91EC-97176214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90DB3-DB0B-4675-B921-0C67619F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D672-26BE-4FDE-9725-B9B6CD55D46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D863-09D1-457D-B64B-A2C97F203C8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D49B-459B-4A68-B1EA-7C535A367F7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12DA-D0D4-49E6-AE5D-DBCF5C10E40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F3DC-FC49-444C-AC1E-620CB63D088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EDC5-B8CA-4CEB-B88A-EFF27518232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6C6A-940E-4E1F-8A1D-729A3E5F3A6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8A5A-2D24-4EBD-B0D3-82DD37DAAD0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1CAD-D3EA-43B2-A41D-9FFD480EA36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B25F-3173-43C1-A3CA-A300ADECA31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EC3B-132C-4CF3-AF34-03BFDA5418EF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A094-EB1B-4CAC-A6E4-C37FB47256F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646b86"/>
                </a:solidFill>
                <a:latin typeface="Georgia"/>
              </a:rPr>
              <a:t>РОСЛИНИ – ОСНОВА ІСНУВАННЯ ЖИТТ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d16349"/>
                </a:solidFill>
                <a:latin typeface="Georgia"/>
              </a:rPr>
              <a:t>ВЕЛИКИЙ ПРАКТИКУМ З ГЕНЕТИКИ РОСЛИН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99_4.jpg"/>
          <p:cNvPicPr/>
          <p:nvPr/>
        </p:nvPicPr>
        <p:blipFill>
          <a:blip r:embed="rId1"/>
          <a:stretch/>
        </p:blipFill>
        <p:spPr>
          <a:xfrm>
            <a:off x="2571840" y="3143160"/>
            <a:ext cx="38415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ВП З ГЕНЕТИКИ РОСЛИ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680" y="1499760"/>
            <a:ext cx="855648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Індукований мутагенез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Рисунок 6" descr="horisontal_genome_transfer_in_tobacco_1_600.jpg"/>
          <p:cNvPicPr/>
          <p:nvPr/>
        </p:nvPicPr>
        <p:blipFill>
          <a:blip r:embed="rId1"/>
          <a:stretch/>
        </p:blipFill>
        <p:spPr>
          <a:xfrm>
            <a:off x="428760" y="2071800"/>
            <a:ext cx="2482560" cy="4357440"/>
          </a:xfrm>
          <a:prstGeom prst="rect">
            <a:avLst/>
          </a:prstGeom>
          <a:ln w="0">
            <a:noFill/>
          </a:ln>
        </p:spPr>
      </p:pic>
      <p:pic>
        <p:nvPicPr>
          <p:cNvPr id="638" name="Рисунок 7" descr="Metody_vydeleniya_DNK_4-360x270.jpg"/>
          <p:cNvPicPr/>
          <p:nvPr/>
        </p:nvPicPr>
        <p:blipFill>
          <a:blip r:embed="rId2"/>
          <a:stretch/>
        </p:blipFill>
        <p:spPr>
          <a:xfrm>
            <a:off x="3786120" y="25002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ВП З ГЕНЕТИКИ РОСЛИ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0" name="Содержимое 9" descr="pictures24.jpg"/>
          <p:cNvPicPr/>
          <p:nvPr/>
        </p:nvPicPr>
        <p:blipFill>
          <a:blip r:embed="rId1"/>
          <a:srcRect l="0" t="0" r="0" b="14345"/>
          <a:stretch/>
        </p:blipFill>
        <p:spPr>
          <a:xfrm>
            <a:off x="285840" y="1714680"/>
            <a:ext cx="4003560" cy="4572000"/>
          </a:xfrm>
          <a:prstGeom prst="rect">
            <a:avLst/>
          </a:prstGeom>
          <a:ln w="0">
            <a:noFill/>
          </a:ln>
        </p:spPr>
      </p:pic>
      <p:pic>
        <p:nvPicPr>
          <p:cNvPr id="641" name="Рисунок 10" descr="000000.jpg"/>
          <p:cNvPicPr/>
          <p:nvPr/>
        </p:nvPicPr>
        <p:blipFill>
          <a:blip r:embed="rId2"/>
          <a:stretch/>
        </p:blipFill>
        <p:spPr>
          <a:xfrm>
            <a:off x="4357800" y="1428840"/>
            <a:ext cx="4546440" cy="2690640"/>
          </a:xfrm>
          <a:prstGeom prst="rect">
            <a:avLst/>
          </a:prstGeom>
          <a:ln w="0">
            <a:noFill/>
          </a:ln>
        </p:spPr>
      </p:pic>
      <p:pic>
        <p:nvPicPr>
          <p:cNvPr id="642" name="Рисунок 11" descr="1481821174.jpg"/>
          <p:cNvPicPr/>
          <p:nvPr/>
        </p:nvPicPr>
        <p:blipFill>
          <a:blip r:embed="rId3"/>
          <a:stretch/>
        </p:blipFill>
        <p:spPr>
          <a:xfrm>
            <a:off x="4643280" y="4286160"/>
            <a:ext cx="400068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ВП З ГЕНЕТИКИ РОСЛИ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Генетика рослин – це окремий розділ загальної генетики який зосереджений на дослідженні геному рослинних організмів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7240" indent="-2372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Предметом вивчення цієї дисципліни є вивчення ролі спадковості та середовища у формуванні рослинних організмів, методи зміни геному та отримання нових форм та вдосконалення існуючих форм росли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7240" indent="-2372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Метою  дисципліни є практичне закріплення та відпрацювання теоретичних знань з генетики рослин, індукованого мутагенезу та генетичної інженерії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7240" indent="-2372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ВП З ГЕНЕТИКИ РОСЛИ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РОЗДІЛ 1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Матеріальні основи спадковост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Мітоз. Мейоз. Мікроспорогенез. Макроспорогенез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Запліднення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Модельні об'єкти у генетиці росли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Геноми росли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Цитоплазматична спадкові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Рисунок 4" descr="post-5389-1206533909.gif"/>
          <p:cNvPicPr/>
          <p:nvPr/>
        </p:nvPicPr>
        <p:blipFill>
          <a:blip r:embed="rId1"/>
          <a:stretch/>
        </p:blipFill>
        <p:spPr>
          <a:xfrm>
            <a:off x="6286680" y="3143160"/>
            <a:ext cx="25304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ВП З ГЕНЕТИКИ РОСЛИ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РОЗДІЛ 2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Виділення та фарбування ДНК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Індукований мутагенез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Полиплоїдизация росли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Гібридизація росли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Генетична інженерія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Ідентифікація ГМО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Рисунок 4" descr="gm_3.jpg"/>
          <p:cNvPicPr/>
          <p:nvPr/>
        </p:nvPicPr>
        <p:blipFill>
          <a:blip r:embed="rId1"/>
          <a:stretch/>
        </p:blipFill>
        <p:spPr>
          <a:xfrm>
            <a:off x="4714920" y="3714840"/>
            <a:ext cx="42148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ВП З ГЕНЕТИКИ РОСЛИ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Вивчення основ спадковості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Рисунок 5" descr="Metody_vydeleniya_DNK_2-360x270.jpg"/>
          <p:cNvPicPr/>
          <p:nvPr/>
        </p:nvPicPr>
        <p:blipFill>
          <a:blip r:embed="rId1"/>
          <a:stretch/>
        </p:blipFill>
        <p:spPr>
          <a:xfrm>
            <a:off x="4572000" y="2071800"/>
            <a:ext cx="4286160" cy="321444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4" descr="ekeku.jpg"/>
          <p:cNvPicPr/>
          <p:nvPr/>
        </p:nvPicPr>
        <p:blipFill>
          <a:blip r:embed="rId2"/>
          <a:stretch/>
        </p:blipFill>
        <p:spPr>
          <a:xfrm>
            <a:off x="214200" y="350028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ВП З ГЕНЕТИКИ РОСЛИ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ПЦР – аналіз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Рисунок 4" descr="LightCycler-96.jpg"/>
          <p:cNvPicPr/>
          <p:nvPr/>
        </p:nvPicPr>
        <p:blipFill>
          <a:blip r:embed="rId1"/>
          <a:stretch/>
        </p:blipFill>
        <p:spPr>
          <a:xfrm>
            <a:off x="285840" y="2143080"/>
            <a:ext cx="4554360" cy="364320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5" descr="Без названия.png"/>
          <p:cNvPicPr/>
          <p:nvPr/>
        </p:nvPicPr>
        <p:blipFill>
          <a:blip r:embed="rId2"/>
          <a:stretch/>
        </p:blipFill>
        <p:spPr>
          <a:xfrm>
            <a:off x="5000760" y="3071880"/>
            <a:ext cx="348912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ВП З ГЕНЕТИКИ РОСЛИ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Ідентифікація ГМ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285840" y="2643120"/>
            <a:ext cx="3990960" cy="3672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6" descr=""/>
          <p:cNvPicPr/>
          <p:nvPr/>
        </p:nvPicPr>
        <p:blipFill>
          <a:blip r:embed="rId2"/>
          <a:stretch/>
        </p:blipFill>
        <p:spPr>
          <a:xfrm>
            <a:off x="4500720" y="2000160"/>
            <a:ext cx="420192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ВП З ГЕНЕТИКИ РОСЛИ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Клонування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Рисунок 5" descr="3_1.jpg"/>
          <p:cNvPicPr/>
          <p:nvPr/>
        </p:nvPicPr>
        <p:blipFill>
          <a:blip r:embed="rId1"/>
          <a:stretch/>
        </p:blipFill>
        <p:spPr>
          <a:xfrm>
            <a:off x="1714680" y="2071800"/>
            <a:ext cx="600048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ВП З ГЕНЕТИКИ РОСЛИ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Генетична інженері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Рисунок 5" descr="slide09.jpg"/>
          <p:cNvPicPr/>
          <p:nvPr/>
        </p:nvPicPr>
        <p:blipFill>
          <a:blip r:embed="rId1"/>
          <a:srcRect l="0" t="0" r="0" b="26089"/>
          <a:stretch/>
        </p:blipFill>
        <p:spPr>
          <a:xfrm>
            <a:off x="785880" y="2071800"/>
            <a:ext cx="7473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4T19:51:47Z</dcterms:created>
  <dc:creator>Admin</dc:creator>
  <dc:description/>
  <dc:language>en-US</dc:language>
  <cp:lastModifiedBy>Admin</cp:lastModifiedBy>
  <dcterms:modified xsi:type="dcterms:W3CDTF">2017-11-26T09:38:17Z</dcterms:modified>
  <cp:revision>13</cp:revision>
  <dc:subject/>
  <dc:title>ПСИХОГЕНЕТИКА</dc:title>
</cp:coreProperties>
</file>