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9063-6819-47F3-9398-2FAFEE11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0E77-46F3-48BA-9A44-7E9861F3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01EC2C-3063-4B70-BCFB-024DCACB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94789F-AB26-4FFA-A24B-98F3ED5E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98EE76-B6EB-41A5-A04D-CCECBA25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79A072-660B-488C-990D-8DA3AE54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CF8539-272C-4111-8FA1-6BF089BF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D05C2-97DD-4D85-8178-7AB2CAD7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5B263E-E1C0-40B8-BE70-70845477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0B9378-4DE3-492C-A9BA-AACDAF6F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4F8E92-EFD6-446B-994D-64B019EB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E09248-E984-4A5B-A3AD-6CE2E8EF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729F-BD51-485A-ABCE-06ABB853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606A11-3986-43DE-9384-8D65D7C4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E19BCB-60CA-47C1-9838-49305C30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1C0A6F-B3F2-48C3-B891-F95F2DDB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EE7673-E76C-4C63-BA35-883403EE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692A21-BD52-4CA5-BE30-D5C39990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A68B20-3447-4E0B-930F-702154F5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CAE1A0-186C-424A-A6E1-12A42B0D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DB3D0E-16FC-42F3-86D3-6400FD54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2C6467-91E3-4A2F-8D6E-6CE1432B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3417DA-6104-4103-B7A1-B1DDAFC7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7B8C-5C63-425B-BE34-D85968E1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AAD3F5-5775-4FB5-BCC8-3058E1B8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8C96F-A5BB-46E9-98F8-055A3319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58725-0121-40F6-84D3-CB4FDDB3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92AE1-6937-4A75-9A1C-654120C3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DCF6A-2A1A-4FD2-BF18-D1DA464B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71540-4FC9-4F12-A4CD-99DA528D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FFF41-F20A-4B4A-9282-B4BB24E3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17014-CD2C-4754-9923-C616A381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14FC9-159C-404E-A35D-6333AEB9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314EF-F97B-428E-8809-5994C492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44AD-5939-45E0-8DA0-1B97EBDB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8453F-BFE7-4875-9B9D-3FBE998A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B9356-024B-4815-837E-57600C22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E90D0-A8ED-45F2-9BB4-96A52145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E2C3E9-F6CF-42A4-B6F0-75A8CFE2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C37208-DB53-4669-8919-AFDC2C61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F418D2-9770-41C5-B3CB-8BAA4351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94B503-50C0-4830-90D9-9DFB60F9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D71A16-0ACD-45FC-BBC2-E28430B0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DFB6D7-5436-4FBB-ABCB-7D11E6F5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BD19F3-D1C6-4688-8740-27B329B6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9E8E-007F-430E-9FBA-007D3A0F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FBFED2-42EA-47AD-95C0-C3FA02BD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19E294-C935-4D53-84C8-273BC177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16F658-5722-4C9A-AE7A-2220C2F8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07433E-0DF0-4E44-85CA-42AF26BC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D193F1-9B12-40D1-BB6B-2D2C88A2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FEF0-3E5F-4F42-B4E4-8D0D6745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D1E5-6D35-4E9E-BBFB-DD010D8A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5338-29C9-42B0-8C38-7B3348B6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3FAE-ED95-49E7-A6D2-3ACF79F9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FBC4-26DE-4090-87BB-B2281B9A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979-B73B-48A6-A054-B0F8C7D4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6FCA-EF6C-4070-8AC7-6A63AA56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5032-D0E7-4AF3-B81B-5599E4FE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0B16-B37D-4F76-906F-B8570EA3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0429-A475-461B-AA3F-7EF211A3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8183-5468-4893-B208-95278D7A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02E9A-CC3B-4DF1-B247-41D2E0A9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D6D3E-4E1D-4A46-8C23-27EA7DD7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94C95-58CB-49C4-B6B2-2AFF707D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9F620-3AA1-4723-8FD3-7ED192F7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E7EF4-8AA6-4A94-BAC7-DAD9CF6E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55F8-3398-4638-BC7D-746FD13E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02E14-20DF-4DA1-93FB-D8A70937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F0BE2-2BD4-4DCF-8036-6C6899B4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D1953-5C12-4F5D-A6F7-7B22C784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E6EDB-DE80-42D0-9D3F-30914166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20556-B8D5-4951-B8A1-A0DBCCFD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9F4FB-59EC-42A0-B274-111365EB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1F152-C669-41EB-A531-CCB743E3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2E95D-85E3-4FD9-829E-E39DA855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056AC-225F-43BB-A5F1-5E59692B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E6835-F5CB-44A2-80E0-1E5E22C9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728B-55AD-4001-8589-51162254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EF7BA-881A-43A5-821B-A028A708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80A70-4B03-470A-A139-3017379F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CF733-1C6A-4854-9FDA-8D9D6696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3304B-2480-45A5-8E90-5BEBFB6D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9406B-B5D3-4E91-A80B-4670B6D6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B2461-F2A7-4136-85B4-0C1C07D5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0B284-7501-4388-A22A-4D042B8F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FCA13-7348-4862-AB2A-C045787D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BE50C-B55E-402B-B364-46E42BE0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5738D-2BF8-4EBC-B58E-ACAD57C5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8FE8-1308-41B8-85FE-8DF9169E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03EE2-832A-467A-A0B7-14A3338B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1CFB8-387E-4819-B3FF-DFF77534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12332-9D87-4D9C-805A-6E04A20F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4F383-EFC6-4997-80DA-F0A4FD18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B4219-C50E-4637-9448-36BB3554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A2BAA-D732-4F19-A6C6-9D042A8B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3685A-11A5-4840-B99A-39521AC3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1399D-B718-4FEF-B0DE-38A5E9C0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7EE2D-5FF8-49B0-82BD-FBE24716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28FC7-68FD-488A-8ED4-C9FE52C7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9242-62B1-4EF7-A370-E8847284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C4F39-EF36-4A92-BBC2-8AA8F966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7A48F-6A53-4E92-9B04-5FB638C6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11602-9BB5-4AAE-9F0C-4917DA5D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86D88-B5D7-47C9-B86D-DAEB530E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6BF84-87FB-4A07-A651-AA7E4C7E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EA1E8-9625-4FEA-B3F9-A0727D1F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D46FC-38D8-4012-9931-321DC2D4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E491B-E299-41D0-A66F-9267BDF1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458BC-C719-463F-A350-C6673FAF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37109-8293-464F-8686-8A7E6F5F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0D6D-AB95-4CB5-B8E3-30C3D87D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92C30-7034-4563-8BFC-0D0CEC96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90657-7C10-4D76-A8B1-0C23ECF9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E57AB-1131-4B6D-B7D4-05B3623A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05EF2-B0D0-459A-B169-DC5AFA40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ABF2E-0FAB-4D2B-BF3F-89037A0F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A483E-E8CC-43CA-AB42-666396FB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9C4B6-119A-446B-9C58-1D714E4B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00666-DBF5-4344-BA5E-ABD4FFBC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6B0B6-AFBF-46C8-8F39-60A5DD63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BCFB0-446C-49B5-B6BB-ABF2958F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5D90-F7E0-4A32-BCF9-6FB68660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09900-342B-4B2D-B170-EF42C7D3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EE7A8-0574-43DB-8725-905A1478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DC206-4B88-4122-920D-59295425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CB89E-AF81-4551-873B-4FD1D047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E1669-F186-4424-95F9-372CC2B3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D2A26-34BE-4181-83FF-E08C31C09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5D64C-C086-4FB1-8EBC-FBCCC4F3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57A18-229C-4B70-94EF-8BBA84FD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19068-826C-4E1E-989F-DB56D288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15E2F-2E7F-434D-8036-679700C6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3F72-B302-4CD1-903C-D1071EAC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F250B-2BBE-4741-84B5-7CD61C2B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D65E0-D8F0-4276-8BE2-57AB310A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D6609-35E6-4CD5-BF99-183D3598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37330-CB8D-48A3-9040-BEDEB885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58024-03E2-4272-A22F-AC6105B9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158A6-A769-42C5-977B-BB37D20E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D0481-F1A0-4F90-A183-E19BD427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A287AD-2213-4DCD-B884-2AEBE6C5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7E4A81-A441-48AB-8B91-5B8A975E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311DAC-EEA5-4C42-A50C-E3AADEA4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43CE-D833-4ABA-B7E6-476C348C1A2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0D50-CD2B-47F6-9BBD-EFC3227E61C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B99A-3842-4281-87CD-9C1CC394EE2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F41D-E4D3-4CF8-B8FF-BEADD2B223E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1BF2-17BB-4D70-9650-E6B2F77D34C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8E8F-9EBA-47FD-A6B2-1D336EE4A06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5970-C3DB-4406-8254-B6391D18EBA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156B-ACE0-4B18-B896-108E939B035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D4E2-8404-4398-AE1F-FE6198E7823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B032-3501-400E-95BB-23FE6924CE7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63E3-9DCC-4B8A-9BF9-4F948A266679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A2D9-A07B-4A12-807F-741E2D562AA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646b86"/>
                </a:solidFill>
                <a:latin typeface="Georgia"/>
              </a:rPr>
              <a:t>РОСЛИНИ – ОСНОВА ІСНУВАННЯ ЖИТТ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d16349"/>
                </a:solidFill>
                <a:latin typeface="Georgia"/>
              </a:rPr>
              <a:t>ВЕЛИКИЙ ПРАКТИКУМ З ГЕНЕТИКИ РОСЛИН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Рисунок 4" descr="99_4.jpg"/>
          <p:cNvPicPr/>
          <p:nvPr/>
        </p:nvPicPr>
        <p:blipFill>
          <a:blip r:embed="rId1"/>
          <a:stretch/>
        </p:blipFill>
        <p:spPr>
          <a:xfrm>
            <a:off x="2571840" y="3143160"/>
            <a:ext cx="38415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ВП З ГЕНЕТИКИ РОСЛИН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680" y="1499760"/>
            <a:ext cx="855648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Індукований мутагенез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Рисунок 6" descr="horisontal_genome_transfer_in_tobacco_1_600.jpg"/>
          <p:cNvPicPr/>
          <p:nvPr/>
        </p:nvPicPr>
        <p:blipFill>
          <a:blip r:embed="rId1"/>
          <a:stretch/>
        </p:blipFill>
        <p:spPr>
          <a:xfrm>
            <a:off x="428760" y="2071800"/>
            <a:ext cx="2482560" cy="4357440"/>
          </a:xfrm>
          <a:prstGeom prst="rect">
            <a:avLst/>
          </a:prstGeom>
          <a:ln w="0">
            <a:noFill/>
          </a:ln>
        </p:spPr>
      </p:pic>
      <p:pic>
        <p:nvPicPr>
          <p:cNvPr id="638" name="Рисунок 7" descr="Metody_vydeleniya_DNK_4-360x270.jpg"/>
          <p:cNvPicPr/>
          <p:nvPr/>
        </p:nvPicPr>
        <p:blipFill>
          <a:blip r:embed="rId2"/>
          <a:stretch/>
        </p:blipFill>
        <p:spPr>
          <a:xfrm>
            <a:off x="3786120" y="25002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ВП З ГЕНЕТИКИ РОСЛИН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0" name="Содержимое 9" descr="pictures24.jpg"/>
          <p:cNvPicPr/>
          <p:nvPr/>
        </p:nvPicPr>
        <p:blipFill>
          <a:blip r:embed="rId1"/>
          <a:srcRect l="0" t="0" r="0" b="14345"/>
          <a:stretch/>
        </p:blipFill>
        <p:spPr>
          <a:xfrm>
            <a:off x="285840" y="1714680"/>
            <a:ext cx="4003560" cy="4572000"/>
          </a:xfrm>
          <a:prstGeom prst="rect">
            <a:avLst/>
          </a:prstGeom>
          <a:ln w="0">
            <a:noFill/>
          </a:ln>
        </p:spPr>
      </p:pic>
      <p:pic>
        <p:nvPicPr>
          <p:cNvPr id="641" name="Рисунок 10" descr="000000.jpg"/>
          <p:cNvPicPr/>
          <p:nvPr/>
        </p:nvPicPr>
        <p:blipFill>
          <a:blip r:embed="rId2"/>
          <a:stretch/>
        </p:blipFill>
        <p:spPr>
          <a:xfrm>
            <a:off x="4357800" y="1428840"/>
            <a:ext cx="4546440" cy="2690640"/>
          </a:xfrm>
          <a:prstGeom prst="rect">
            <a:avLst/>
          </a:prstGeom>
          <a:ln w="0">
            <a:noFill/>
          </a:ln>
        </p:spPr>
      </p:pic>
      <p:pic>
        <p:nvPicPr>
          <p:cNvPr id="642" name="Рисунок 11" descr="1481821174.jpg"/>
          <p:cNvPicPr/>
          <p:nvPr/>
        </p:nvPicPr>
        <p:blipFill>
          <a:blip r:embed="rId3"/>
          <a:stretch/>
        </p:blipFill>
        <p:spPr>
          <a:xfrm>
            <a:off x="4643280" y="4286160"/>
            <a:ext cx="400068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ВП З ГЕНЕТИКИ РОСЛИН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Генетика рослин – це окремий розділ загальної генетики який зосереджений на дослідженні геному рослинних організмів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37240" indent="-2372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Предметом вивчення цієї дисципліни є вивчення ролі спадковості та середовища у формуванні рослинних організмів, методи зміни геному та отримання нових форм та вдосконалення існуючих форм росли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37240" indent="-2372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Метою  дисципліни є практичне закріплення та відпрацювання теоретичних знань з генетики рослин, індукованого мутагенезу та генетичної інженерії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37240" indent="-2372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ВП З ГЕНЕТИКИ РОСЛИН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РОЗДІЛ 1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Матеріальні основи спадковості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Мітоз. Мейоз. Мікроспорогенез. Макроспорогенез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Запліднення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Модельні об'єкти у генетиці росли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Геноми росли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Цитоплазматична спадкові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3" name="Рисунок 4" descr="post-5389-1206533909.gif"/>
          <p:cNvPicPr/>
          <p:nvPr/>
        </p:nvPicPr>
        <p:blipFill>
          <a:blip r:embed="rId1"/>
          <a:stretch/>
        </p:blipFill>
        <p:spPr>
          <a:xfrm>
            <a:off x="6286680" y="3143160"/>
            <a:ext cx="25304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ВП З ГЕНЕТИКИ РОСЛИН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РОЗДІЛ 2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Виділення та фарбування ДНК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Індукований мутагенез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Полиплоїдизация росли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Гібридизація росли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Генетична інженерія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Ідентифікація ГМО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Рисунок 4" descr="gm_3.jpg"/>
          <p:cNvPicPr/>
          <p:nvPr/>
        </p:nvPicPr>
        <p:blipFill>
          <a:blip r:embed="rId1"/>
          <a:stretch/>
        </p:blipFill>
        <p:spPr>
          <a:xfrm>
            <a:off x="4714920" y="3714840"/>
            <a:ext cx="42148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ВП З ГЕНЕТИКИ РОСЛИН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Вивчення основ спадковості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9" name="Рисунок 5" descr="Metody_vydeleniya_DNK_2-360x270.jpg"/>
          <p:cNvPicPr/>
          <p:nvPr/>
        </p:nvPicPr>
        <p:blipFill>
          <a:blip r:embed="rId1"/>
          <a:stretch/>
        </p:blipFill>
        <p:spPr>
          <a:xfrm>
            <a:off x="4572000" y="2071800"/>
            <a:ext cx="4286160" cy="3214440"/>
          </a:xfrm>
          <a:prstGeom prst="rect">
            <a:avLst/>
          </a:prstGeom>
          <a:ln w="0">
            <a:noFill/>
          </a:ln>
        </p:spPr>
      </p:pic>
      <p:pic>
        <p:nvPicPr>
          <p:cNvPr id="620" name="Рисунок 4" descr="ekeku.jpg"/>
          <p:cNvPicPr/>
          <p:nvPr/>
        </p:nvPicPr>
        <p:blipFill>
          <a:blip r:embed="rId2"/>
          <a:stretch/>
        </p:blipFill>
        <p:spPr>
          <a:xfrm>
            <a:off x="214200" y="350028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ВП З ГЕНЕТИКИ РОСЛИН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ПЦР – аналіз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Рисунок 4" descr="LightCycler-96.jpg"/>
          <p:cNvPicPr/>
          <p:nvPr/>
        </p:nvPicPr>
        <p:blipFill>
          <a:blip r:embed="rId1"/>
          <a:stretch/>
        </p:blipFill>
        <p:spPr>
          <a:xfrm>
            <a:off x="285840" y="2143080"/>
            <a:ext cx="4554360" cy="3643200"/>
          </a:xfrm>
          <a:prstGeom prst="rect">
            <a:avLst/>
          </a:prstGeom>
          <a:ln w="0">
            <a:noFill/>
          </a:ln>
        </p:spPr>
      </p:pic>
      <p:pic>
        <p:nvPicPr>
          <p:cNvPr id="624" name="Рисунок 5" descr="Без названия.png"/>
          <p:cNvPicPr/>
          <p:nvPr/>
        </p:nvPicPr>
        <p:blipFill>
          <a:blip r:embed="rId2"/>
          <a:stretch/>
        </p:blipFill>
        <p:spPr>
          <a:xfrm>
            <a:off x="5000760" y="3071880"/>
            <a:ext cx="348912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ВП З ГЕНЕТИКИ РОСЛИН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Ідентифікація ГМ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285840" y="2643120"/>
            <a:ext cx="3990960" cy="36720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6" descr=""/>
          <p:cNvPicPr/>
          <p:nvPr/>
        </p:nvPicPr>
        <p:blipFill>
          <a:blip r:embed="rId2"/>
          <a:stretch/>
        </p:blipFill>
        <p:spPr>
          <a:xfrm>
            <a:off x="4500720" y="2000160"/>
            <a:ext cx="420192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ВП З ГЕНЕТИКИ РОСЛИН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Клонування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1" name="Рисунок 5" descr="3_1.jpg"/>
          <p:cNvPicPr/>
          <p:nvPr/>
        </p:nvPicPr>
        <p:blipFill>
          <a:blip r:embed="rId1"/>
          <a:stretch/>
        </p:blipFill>
        <p:spPr>
          <a:xfrm>
            <a:off x="1714680" y="2071800"/>
            <a:ext cx="600048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7b9899"/>
                </a:solidFill>
                <a:latin typeface="Georgia"/>
              </a:rPr>
              <a:t>ВП З ГЕНЕТИКИ РОСЛИН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Генетична інженері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4" name="Рисунок 5" descr="slide09.jpg"/>
          <p:cNvPicPr/>
          <p:nvPr/>
        </p:nvPicPr>
        <p:blipFill>
          <a:blip r:embed="rId1"/>
          <a:srcRect l="0" t="0" r="0" b="26089"/>
          <a:stretch/>
        </p:blipFill>
        <p:spPr>
          <a:xfrm>
            <a:off x="785880" y="2071800"/>
            <a:ext cx="7473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4T19:51:47Z</dcterms:created>
  <dc:creator>Admin</dc:creator>
  <dc:description/>
  <dc:language>en-US</dc:language>
  <cp:lastModifiedBy>Admin</cp:lastModifiedBy>
  <dcterms:modified xsi:type="dcterms:W3CDTF">2017-11-26T09:38:17Z</dcterms:modified>
  <cp:revision>13</cp:revision>
  <dc:subject/>
  <dc:title>ПСИХОГЕНЕТИКА</dc:title>
</cp:coreProperties>
</file>